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96360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96360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EDFDE3E-FC6E-4303-BDA0-7035AD02F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Interpre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+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ference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pports official OVAL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uns on Windows and Red h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ot intended to be commercial grade t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Does not support varia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Writer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Php/MySql web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ntended for a limited set of content creat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Requires Server installation/set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ynchronization to get current set of OV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bmit new content by 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sed internally at MI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 Web Servic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nages all Official OVAL 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sed by Definition Wri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y be used by other content generation to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Repositor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ySql database stores OVAL definitions in a relational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uite of scripts manages the life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cripts insert and select cont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tion Interpreter 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gust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maintenance re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update to support OVAL 4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ent &amp; Metadata Web Servi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gust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vailable to 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llows for single definitions or sets of definitions to be retrie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ill support dynamic content on the OVAL web 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estio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What sort of documentation should be provid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ample app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uld the OVAL Definition Interpreter utilize the content servic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continue to provide a Definition Interpreter for OVAL as the language evolv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hould the scope of the OVAL Definition Interpreter be reconside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re people willing to contribute data collectors for various platform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How can we encourage code submissi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ly no automated means to submit OV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uld the analysis web service be usefu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ld it replace the OVAL Definition Interpret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08FFE-B8AE-4EA1-9548-325230407E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9E0F5-5814-4BF7-8FD7-C773DCA31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6EB2B-2395-4BFF-8BC1-2D0802358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90290-4E82-4DDA-BB8A-B695C603AC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8EBB9-CDB0-44DB-A60D-EFD2CA44EC0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7EDDBC-7DE8-442F-B6AA-F0529414EB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3B296-09C0-4385-BEBC-6AA5C5E2BC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88372-33FB-47CA-AA7B-BB1EEAC314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0604D-0A66-4E85-AA09-711804412B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107CF-F067-4166-A877-DB79CAB865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6ACD66-9E44-4E11-A840-039990356C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8C9B9-208F-40EF-8BF4-5D3DFBF7B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86BA-9CCE-407C-95E3-983A61A3D3CC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:00 - 2:45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Tools &amp; Application Suppor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ic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rrent too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s under constru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s in the futur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Tool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69608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Interpre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develope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demonstrate OVAL analysis, reference for content consumers, test definition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109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Wri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major content gener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facilitate content reuse, simplify definition creation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Id Web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developers, content creator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manage the pool of official OVAL ids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10960" indent="-2109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Content Reposit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udience: OVAL community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-2109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oal: store official OVAL content, manage content lifecycle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284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943600" y="3657600"/>
            <a:ext cx="2475000" cy="18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under construc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59880" y="1371240"/>
            <a:ext cx="7696440" cy="473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sed Definition Interpreter – July/August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OVAL 4.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g fix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content and metadata web services – August 2005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arch the OVAL Reposit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ieve custom sets of cont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rieve metadata about the OVAL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and an ehanced OVAL website – Fall 2005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in the future : Definition Interpret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al definition interpreter for OVAL version 5.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c++ the best languag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and-alone analysis engine and/or data collec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ug 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able new users to quickly &amp; easily do an OVAL analy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urce forg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there enough interes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ld it be maintained well at a low cos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feature Sugges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in the future : Web servic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 submission web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new/modified content to be submitted onlin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finition analysis web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turn the OVAL Results fil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ther idea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85800" y="4191120"/>
            <a:ext cx="1825560" cy="173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ools in the future : Definition Writ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is the ideal content creation too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ring/Reusing cont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ould a content creator know XML?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mitting content to OVAL repository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 Definition Wri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java gui applicat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b app hosted on oval.mitre.org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ow users to easily write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vide some guidance in the creating/edit new conten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ck up: Modifying the schema to support tools</a:t>
            </a:r>
            <a:br>
              <a:rPr sz="2800"/>
            </a:b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tools to support schema rev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ersion info in the namesp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 schem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the OVAL web services to be useful should we use some sort of compression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8:04:05Z</dcterms:created>
  <dc:creator>Jon Baker</dc:creator>
  <dc:description/>
  <dc:language>en-US</dc:language>
  <cp:lastModifiedBy>Jonathan Baker</cp:lastModifiedBy>
  <dcterms:modified xsi:type="dcterms:W3CDTF">2005-07-14T19:09:31Z</dcterms:modified>
  <cp:revision>44</cp:revision>
  <dc:subject>OVAL Developer Days</dc:subject>
  <dc:title>Session 6 - Oval Tools</dc:title>
</cp:coreProperties>
</file>