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1144F-D394-4074-B74B-0F0224DEED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F7E882-2EDD-45F9-9F95-4B71D200D6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29931-71B8-4870-9A8B-1BF797BB31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196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6404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988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196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6404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D77A5-101D-46A5-822E-74AE448D5E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440" y="380880"/>
            <a:ext cx="7162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1998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05A8C-F8B4-42F4-89BF-C8F8DC3721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6196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404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988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6196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404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2D96F-2D00-4C6E-9372-4E4014832A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FE069-C6E7-4A1C-8E5E-87B56977DB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72668-E4B9-4F31-9BEE-F5A8D5831A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380880"/>
            <a:ext cx="7162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1998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E59D9-7D4D-4ECE-94B0-68CBDA831C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DF926-E36F-4553-B7BD-9A65DCB345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406AC-5FB5-4182-8CC5-D92B8BB723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10866-0187-40FD-AE85-EC4F806AB4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381880" y="6400440"/>
            <a:ext cx="53352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5AE00-A918-4726-A8C7-6A470B2FDCE5}" type="slidenum">
              <a:rPr b="1" lang="en-US" sz="8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11412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11412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114120">
              <a:lnSpc>
                <a:spcPts val="1998"/>
              </a:lnSpc>
              <a:spcAft>
                <a:spcPts val="799"/>
              </a:spcAft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114120">
              <a:lnSpc>
                <a:spcPts val="1998"/>
              </a:lnSpc>
              <a:spcAft>
                <a:spcPts val="799"/>
              </a:spcAft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740720" y="0"/>
            <a:ext cx="1403280" cy="127080"/>
          </a:xfrm>
          <a:prstGeom prst="rect">
            <a:avLst/>
          </a:prstGeom>
          <a:solidFill>
            <a:srgbClr val="fdaa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886880" y="0"/>
            <a:ext cx="1257120" cy="2206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5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6400800"/>
            <a:ext cx="8763120" cy="0"/>
          </a:xfrm>
          <a:prstGeom prst="line">
            <a:avLst/>
          </a:prstGeom>
          <a:ln w="6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85760" y="6489720"/>
            <a:ext cx="804960" cy="2523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085880" y="6553080"/>
            <a:ext cx="191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04 The MITRE Corporation. All rights reserv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085880" y="6553080"/>
            <a:ext cx="191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04 The MITRE Corporation. All rights reserv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1040" y="0"/>
            <a:ext cx="341280" cy="685800"/>
          </a:xfrm>
          <a:prstGeom prst="rect">
            <a:avLst/>
          </a:prstGeom>
          <a:solidFill>
            <a:srgbClr val="fdaa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2320" y="0"/>
            <a:ext cx="6781680" cy="990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33360" y="228564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33720" y="6524640"/>
            <a:ext cx="19810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 Internal MITRE U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85760" y="6489720"/>
            <a:ext cx="804960" cy="25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10:30 - 12:00  v5 working session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ACK 1  -  OVAL variab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opic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eplace existing component typ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llow the output of one test to be used by anothe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nteraction with other languag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710640" y="1219320"/>
            <a:ext cx="6855840" cy="46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ft-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heck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o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var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r-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r-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sourc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xterna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strict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ossi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hi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gnor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ossi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ossi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hi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1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ossi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ossi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hi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lock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2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ossi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strict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r-2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sourc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sta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l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78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l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urrently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343400" y="2438280"/>
            <a:ext cx="1600200" cy="38124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3276720" y="2819520"/>
            <a:ext cx="1676160" cy="76176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11720" y="609480"/>
            <a:ext cx="713016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ft-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heck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o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var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r3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gistry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rt-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heck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h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h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ke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ke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r-3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sourc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xterna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trival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nca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mpone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test_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rt-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_fiel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liter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filename.dll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liter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tri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013360" y="4251240"/>
            <a:ext cx="1752480" cy="304920"/>
          </a:xfrm>
          <a:prstGeom prst="rect">
            <a:avLst/>
          </a:prstGeom>
          <a:solidFill>
            <a:srgbClr val="006600">
              <a:alpha val="2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4572000"/>
            <a:ext cx="1600200" cy="3808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3428640" y="2819520"/>
            <a:ext cx="228600" cy="175248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0000" y="4595760"/>
            <a:ext cx="1752480" cy="304920"/>
          </a:xfrm>
          <a:prstGeom prst="rect">
            <a:avLst/>
          </a:prstGeom>
          <a:solidFill>
            <a:srgbClr val="006600">
              <a:alpha val="2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different opt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7696080" cy="46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r-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sourc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xterna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strict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ossi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hi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gnor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&gt;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ossi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ossi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hi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1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ossi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ossi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hi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block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2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ossi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strict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r-2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sourc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onsta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l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78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l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r-3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sourc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xterna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trival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nca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mpone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test_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rt-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_fiel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liter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filename.dll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liter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tri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Interaction with other languages?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s there anything XCCDF would like to see in a new version of OVAL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s of item that could be useful when interacting with existing proprietary information stor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3520" y="1676520"/>
            <a:ext cx="822960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99"/>
                </a:solidFill>
                <a:latin typeface="Courier New"/>
              </a:rPr>
              <a:t>&lt;?xml version="1.0" encoding="UTF-8"?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rganization_variabl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r-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2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r-2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filename.dll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r-3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ersio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windows:maj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5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windows:maj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windows:min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1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windows:mino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windows:buil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2600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windows:buil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windows: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1340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windows:priva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riab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rganization_variabl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ackup - variable file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6T18:04:05Z</dcterms:created>
  <dc:creator>Andrew Buttner</dc:creator>
  <dc:description/>
  <cp:keywords>oval developer days session 5 track 1</cp:keywords>
  <dc:language>en-US</dc:language>
  <cp:lastModifiedBy>Andrew Buttner</cp:lastModifiedBy>
  <dcterms:modified xsi:type="dcterms:W3CDTF">2005-07-16T17:07:37Z</dcterms:modified>
  <cp:revision>10</cp:revision>
  <dc:subject>OVAL Developer Days 2005</dc:subject>
  <dc:title>Session 5 - Track 1 Presentation</dc:title>
</cp:coreProperties>
</file>