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0E73-31A2-4693-A51A-943B90EA748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19121A-15B8-489E-BC49-4EB3F5CB1F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4F322-ADCB-4C40-B045-612ECF079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DBD1EF-0DB4-4972-A896-396245660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B8C16-6A41-4933-9EC0-CD7042FB72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C5E96-2172-4DBF-B41E-9C7B37CBE1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0660C-5AFB-4239-9CCA-CC9044CC0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B08B8-8950-4009-8815-9B2C6FFCFD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1F838-5AEC-48F2-83FA-836287D714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19D7A-ECBF-4B54-8689-41A8FA7F2C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815B5-8BB5-4705-96A9-6D0F9163BE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67EC1-FD99-4B73-8F24-C43D746E7B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3C73B-B8EA-46F9-99A8-2860611C46DB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8:00 - 9:3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Results Sch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how is the results file being use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s the current format too verbo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ggregated results fla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porting multi-host outpu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0">
              <a:lnSpc>
                <a:spcPts val="1599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4640" indent="-22464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ss/fail logic for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2464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ddition of ONPASS and ONFAIL opera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lation to existing software and configuration se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mproving the results by reporting "NOT TESTED" instead of "FAILED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0360" indent="-1666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troduction of new operators (e.g. COUNT, IN, RANG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066680"/>
            <a:ext cx="8001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l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tring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"AND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or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qual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ar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var-000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_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HKEY_LOCAL_MACHIN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h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SYSTEM\...\Security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key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datatyp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teral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Retention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am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38080" y="36576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600200" y="33526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4290840"/>
            <a:ext cx="228600" cy="381240"/>
          </a:xfrm>
          <a:custGeom>
            <a:avLst/>
            <a:gdLst>
              <a:gd name="textAreaLeft" fmla="*/ 146160 w 228600"/>
              <a:gd name="textAreaRight" fmla="*/ 228960 w 22860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4832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38080" y="4398840"/>
            <a:ext cx="685800" cy="15264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5137200"/>
            <a:ext cx="685800" cy="152280"/>
          </a:xfrm>
          <a:custGeom>
            <a:avLst/>
            <a:gdLst>
              <a:gd name="textAreaLeft" fmla="*/ 85680 w 685800"/>
              <a:gd name="textAreaRight" fmla="*/ 600120 w 685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lim Results Fi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2193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ed_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xist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gistry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Aggregated Results Fla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447920"/>
            <a:ext cx="723888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_info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rot="9228000">
            <a:off x="4647960" y="2590560"/>
            <a:ext cx="1199880" cy="228600"/>
          </a:xfrm>
          <a:custGeom>
            <a:avLst/>
            <a:gdLst>
              <a:gd name="textAreaLeft" fmla="*/ 149760 w 1199880"/>
              <a:gd name="textAreaRight" fmla="*/ 1050120 w 1199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33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0920" y="1981080"/>
            <a:ext cx="419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 we want to add a top level resul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Multi-Host Resul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066680"/>
            <a:ext cx="8001000" cy="46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_resul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enerat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oval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resul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ystem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Andrew Buttner</dc:creator>
  <dc:description/>
  <cp:keywords>oval developer days session 1</cp:keywords>
  <dc:language>en-US</dc:language>
  <cp:lastModifiedBy>Andrew Buttner</cp:lastModifiedBy>
  <dcterms:modified xsi:type="dcterms:W3CDTF">2005-07-16T16:37:56Z</dcterms:modified>
  <cp:revision>23</cp:revision>
  <dc:subject>OVAL Developer Days 2005</dc:subject>
  <dc:title>Session 1 Presentation</dc:title>
</cp:coreProperties>
</file>