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3A453-04A9-46C5-B175-E943AEA896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31DA3-A98C-4C1C-BD91-4ED5579ECF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A6611-956E-4869-BCE7-09DAE2DCAC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5B23A-7AD9-44F2-B7F7-2C30FC3C15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F45EE-4AE7-4AC2-8E72-EE8131C605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CAE06-0174-469E-AAA4-24BB904884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CE251-62EB-4C43-B48B-68CEB07087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046A0-9DDC-475F-8F8A-2BAD486D3D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2C283-7203-48AB-8D50-E428F0555F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105AC-BCC7-4290-B3AD-F69D9E433E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FDD0D-61D8-4085-B43C-58EF88785F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EFE93-F290-4371-BCD3-1D2325EBDB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38188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F4D23-A25C-457C-B8BE-2605AEFA7D47}" type="slidenum">
              <a:rPr b="1" lang="en-US" sz="8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740720" y="0"/>
            <a:ext cx="1403280" cy="12708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886880" y="0"/>
            <a:ext cx="1257120" cy="2206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400800"/>
            <a:ext cx="8763120" cy="0"/>
          </a:xfrm>
          <a:prstGeom prst="line">
            <a:avLst/>
          </a:prstGeom>
          <a:ln w="6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1040" y="0"/>
            <a:ext cx="341280" cy="68580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0"/>
            <a:ext cx="6781680" cy="990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360" y="22856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6524640"/>
            <a:ext cx="19810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Internal MITRE U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:45 – 5:00  v5 working session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tch Defini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pic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hat is the overall meaning of a patch definitio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ategories of tests in a patch defini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uperceding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ecessary new tes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Patch Definition Semantic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a patch definition returns true, the patch is appropriate for the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ropriate” technically, not necessarily according to polic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criptive, not prescriptiv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ies pre-install tes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uld there be a place for post-install test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port local modification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>
              <a:lnSpc>
                <a:spcPts val="1800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ategories of Tes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vance - Is the patch intended for software which exists on the system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e-requisites - Are all pre-conditions met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cursor patch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ftware upgrad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iguration setting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sk space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 pre-requisites not met, the patch may still be a good idea!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flicts – Are there any counter-indications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nown application conflict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hould there be categories of conflict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Superceding Inform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ck “supercedes” or “superceded by” information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ceded by” might be dealt with in relevance section or by reverse mapping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intenance issu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icated how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a test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data / patch identifier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 it possible to test whether a specific patch has been applied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New Tests?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ital to identify any necessary new tes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crosoft Windows: MSI, .NET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platforms?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Other Issu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ch identifi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adata for target platform, appl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ch descriptions / issues address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e the semantics cross-platform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5:56:24Z</dcterms:created>
  <dc:creator>Matthew Wojcik</dc:creator>
  <dc:description/>
  <cp:keywords>oval developer days session 3</cp:keywords>
  <dc:language>en-US</dc:language>
  <cp:lastModifiedBy>Matthew N. Wojcik</cp:lastModifiedBy>
  <dcterms:modified xsi:type="dcterms:W3CDTF">2005-07-15T15:57:49Z</dcterms:modified>
  <cp:revision>25</cp:revision>
  <dc:subject>OVAL Developer Days 2005</dc:subject>
  <dc:title>Session 3 Presentation</dc:title>
</cp:coreProperties>
</file>