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B0053-56A6-42D8-B82F-F25A67A45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start by looking at a high level overview of the current design of an OVAL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 in OVAL Version 4.  There is a criteria section that references individual tests from the test section.  Only the tests can be reused, the criteria can not.  If someon wants to extend a definition then they have to create a new one and copy all the references from this one to the new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an example in OVAL Version 4.  There is a criteria section that references individual tests from the test section.  Only the tests can be reused, the criteria can not.  If someon wants to extend a definition then they have to create a new one and copy all the references from this one to the new 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EBF00-6271-42F7-B88C-9D8B4B59E0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4B7A0-479B-4D97-A989-4B10ECDA6D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95D5-8F76-4DA6-9F3C-4ABA44DCCF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884F1F-0008-4F5E-A9A4-DB967065CC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479E9-5983-420D-B64A-BA66B2E58E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6196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864040" y="129492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5988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6196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864040" y="3806640"/>
            <a:ext cx="247788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CEF7E-551B-4C9F-934D-7FB0BE67B3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930ECD-3382-414E-81C0-B64F252B90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2B003-AF28-40C1-9D8F-AC3A27F4BD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380880"/>
            <a:ext cx="716292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ts val="1998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97199-E9F6-41A6-A312-6704C051E4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AC42C-74FA-47A2-A16E-00EE39982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03680" y="380664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8B864-7B4A-4C2A-938A-FF209C824C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03680" y="1294920"/>
            <a:ext cx="375552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59880" y="3806640"/>
            <a:ext cx="7696440" cy="22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FF5663-43BE-4FEE-85DD-F6580EE10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381880" y="6400440"/>
            <a:ext cx="5335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3399"/>
                </a:solidFill>
                <a:latin typeface="Arial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9E70B-F1E1-4D15-930C-60F8CDEABF69}" type="slidenum">
              <a:rPr b="1" lang="en-US" sz="8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1430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71600" indent="-11412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71600" indent="-114120">
              <a:lnSpc>
                <a:spcPts val="1998"/>
              </a:lnSpc>
              <a:spcAft>
                <a:spcPts val="799"/>
              </a:spcAft>
              <a:buClr>
                <a:srgbClr val="0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740720" y="0"/>
            <a:ext cx="1403280" cy="12708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7886880" y="0"/>
            <a:ext cx="1257120" cy="2206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6400800"/>
            <a:ext cx="8763120" cy="0"/>
          </a:xfrm>
          <a:prstGeom prst="line">
            <a:avLst/>
          </a:prstGeom>
          <a:ln w="64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085880" y="6553080"/>
            <a:ext cx="19195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© 2004 The MITRE Corporation. All rights reserved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1040" y="0"/>
            <a:ext cx="341280" cy="685800"/>
          </a:xfrm>
          <a:prstGeom prst="rect">
            <a:avLst/>
          </a:prstGeom>
          <a:solidFill>
            <a:srgbClr val="fdaa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2320" y="0"/>
            <a:ext cx="6781680" cy="9907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133360" y="2285640"/>
            <a:ext cx="6476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6524640"/>
            <a:ext cx="198108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Internal MITRE U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185760" y="6489720"/>
            <a:ext cx="804960" cy="25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1:00 - 2:45  v5 working session 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9880" y="1294920"/>
            <a:ext cx="7696440" cy="48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ts val="1998"/>
              </a:lnSpc>
              <a:spcAft>
                <a:spcPts val="799"/>
              </a:spcAft>
              <a:buClr>
                <a:srgbClr val="fdaa03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RACK 1  -  Breaking out the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7160" indent="0">
              <a:lnSpc>
                <a:spcPts val="1998"/>
              </a:lnSpc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-227160">
              <a:lnSpc>
                <a:spcPts val="1800"/>
              </a:lnSpc>
              <a:spcAft>
                <a:spcPts val="799"/>
              </a:spcAft>
              <a:buClr>
                <a:srgbClr val="fdaa0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opic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parate the object section from the tes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llow multiple tests to reuse same objec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bility to create complex object description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09720" indent="-168480">
              <a:lnSpc>
                <a:spcPts val="1599"/>
              </a:lnSpc>
              <a:spcAft>
                <a:spcPts val="799"/>
              </a:spcAft>
              <a:buClr>
                <a:srgbClr val="fdaa03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ddition of behavioral identifiers to guide the collec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ts val="29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urrent Desig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38080" y="1295280"/>
            <a:ext cx="7467840" cy="457200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1600200"/>
            <a:ext cx="6629400" cy="1752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657600"/>
            <a:ext cx="6629400" cy="190512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3886200"/>
            <a:ext cx="6172200" cy="60948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4724280"/>
            <a:ext cx="6172200" cy="6098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2209680"/>
            <a:ext cx="662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8080" y="3352680"/>
            <a:ext cx="746784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295280" y="4419720"/>
            <a:ext cx="66294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VAL 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23880" y="3962520"/>
            <a:ext cx="6172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bject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523880" y="4800600"/>
            <a:ext cx="6172200" cy="4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a S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0dec1"/>
                                      </p:to>
                                    </p:animClr>
                                    <p:set>
                                      <p:cBhvr>
                                        <p:cTn id="1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cac5c"/>
                                      </p:to>
                                    </p:animClr>
                                    <p:set>
                                      <p:cBhvr>
                                        <p:cTn id="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5cac5c"/>
                                      </p:to>
                                    </p:animClr>
                                    <p:set>
                                      <p:cBhvr>
                                        <p:cTn id="30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1.11111E-006 L -3.33333E-006 -0.06667 E">
                                      <p:cBhvr>
                                        <p:cTn id="49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1.11022E-016 L -3.33333E-006 -0.06667 E">
                                      <p:cBhvr>
                                        <p:cTn id="51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00000" y="75000"/>
                                    </p:animScale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5" dur="1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07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-3.33333E-006 0.03333 E">
                                      <p:cBhvr>
                                        <p:cTn id="57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355760" y="1677960"/>
            <a:ext cx="69501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6680" y="95400"/>
            <a:ext cx="57585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amil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CCEPT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version 4 exampl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m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355760" y="1677960"/>
            <a:ext cx="695016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25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6680" y="95400"/>
            <a:ext cx="5758560" cy="629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VAL123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lass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family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ffecte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scrip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source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ferenc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CCEPT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tatu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1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vers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version 4 exampl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not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AN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m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tes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oftwar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nfigura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riteri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4760"/>
            <a:ext cx="7010640" cy="6248520"/>
          </a:xfrm>
          <a:prstGeom prst="rect">
            <a:avLst/>
          </a:prstGeom>
          <a:solidFill>
            <a:srgbClr val="008000">
              <a:alpha val="1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504720"/>
            <a:ext cx="6553440" cy="365760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4524480"/>
            <a:ext cx="6553440" cy="144756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4714920"/>
            <a:ext cx="62481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5276880"/>
            <a:ext cx="62481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07760" y="227160"/>
            <a:ext cx="6490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4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p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both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707760" y="227160"/>
            <a:ext cx="6490080" cy="61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0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in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4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max_dep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p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dir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both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curse_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include_bas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...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path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ft-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file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457200"/>
            <a:ext cx="7619760" cy="53352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81160"/>
            <a:ext cx="7619760" cy="255276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114800"/>
            <a:ext cx="7619760" cy="914400"/>
          </a:xfrm>
          <a:prstGeom prst="rect">
            <a:avLst/>
          </a:prstGeom>
          <a:solidFill>
            <a:srgbClr val="c0dec1">
              <a:alpha val="25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12080" y="227160"/>
            <a:ext cx="7678800" cy="59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efinition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Fred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us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Users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_obj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2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id="obj_2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olve_group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true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resolve_group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behavior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administrators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group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collection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sid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bjec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ccountprivileges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id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nt-0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bject_ref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obj_1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heck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comment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 </a:t>
            </a:r>
            <a:r>
              <a:rPr b="1" lang="en-US" sz="1200" spc="-1" strike="noStrike">
                <a:solidFill>
                  <a:srgbClr val="ff3300"/>
                </a:solidFill>
                <a:latin typeface="Courier New"/>
              </a:rPr>
              <a:t>operation</a:t>
            </a:r>
            <a:r>
              <a:rPr b="1" lang="en-US" sz="1200" spc="-1" strike="noStrike">
                <a:solidFill>
                  <a:srgbClr val="0000ff"/>
                </a:solidFill>
                <a:latin typeface="Courier New"/>
              </a:rPr>
              <a:t>=""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data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accountprivileges_tes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tes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lt;/</a:t>
            </a:r>
            <a:r>
              <a:rPr b="1" lang="en-US" sz="1200" spc="-1" strike="noStrike">
                <a:solidFill>
                  <a:srgbClr val="990000"/>
                </a:solidFill>
                <a:latin typeface="Courier New"/>
              </a:rPr>
              <a:t>ova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6T18:04:05Z</dcterms:created>
  <dc:creator>Andrew Buttner</dc:creator>
  <dc:description/>
  <cp:keywords>oval developer days session 2 track 1</cp:keywords>
  <dc:language>en-US</dc:language>
  <cp:lastModifiedBy>Andrew Buttner</cp:lastModifiedBy>
  <dcterms:modified xsi:type="dcterms:W3CDTF">2005-07-25T18:16:22Z</dcterms:modified>
  <cp:revision>17</cp:revision>
  <dc:subject>OVAL Developer Days 2005</dc:subject>
  <dc:title>Session 2 - Track 1 Presentation</dc:title>
</cp:coreProperties>
</file>