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E873B9D-9C29-4E23-9E9A-64F93AC9B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Interpre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+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ference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pports official OVAL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uns on Windows and Red 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t intended to be commercial grade 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oes not support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Wri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hp/MySql web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tended for a limited set of content cre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quires Server installation/set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ynchronization to get current set of OV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bmit new content by 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Used internally at MI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 Web Servi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ages all Official OVAL 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Used by Definition 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y be used by other content generation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Reposito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ySql database stores OVAL definitions in a relational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ite of scripts manages the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cripts insert and select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Interpreter 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gust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intenance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update to support OVAL 4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&amp; Metadata Web Servi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gust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vailable to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ows for single definitions or sets of definitions to be retrie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ill support dynamic content on the OVAL web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sort of documentation should be provid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ample app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hould the OVAL Definition Interpreter utilize the content servi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ontinue to provide a Definition Interpreter for OVAL as the language evol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hould the scope of the OVAL Definition Interpreter be reconside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re people willing to contribute data collectors for various platfor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ow can we encourage code submi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no automated means to submit OV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e analysis web service be usefu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it replace the OVAL Definition Interpre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84DF3-4150-4E7B-BD4A-25AF46D970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0B131-C0CE-468F-863C-652DEC2FE1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31804-34D5-4758-B5F4-ED8CF2B4C4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24506-F715-48F1-84C5-A5B5453647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5D054-6E10-4936-A019-08DA1BB174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F3E05-1FEF-40E1-A494-D0A2DD676B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A21EA-9A9F-4334-A871-407308F3DF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4E1C9-ACE0-480B-A7DA-F183DE7B79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4CF08-920F-40DC-B96A-399153D4EA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EB9A8-B832-400C-8BD1-F7EB944A5A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FC112-4B07-44B6-8951-04EAF5F0E8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F79B7-5ADA-49F7-8A26-1D45D37AD0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38188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58AB-52FC-4945-91F4-5F78DEEAE801}" type="slidenum">
              <a:rPr b="1" lang="en-US" sz="8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740720" y="0"/>
            <a:ext cx="1403280" cy="12708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86880" y="0"/>
            <a:ext cx="1257120" cy="2206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6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1040" y="0"/>
            <a:ext cx="341280" cy="68580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0"/>
            <a:ext cx="6781680" cy="990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360" y="22856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524640"/>
            <a:ext cx="1981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Internal MITRE 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:00 - 2:45  v5 working session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L Tools &amp; Application Sup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rrent too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s under constru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s in the futu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urrent Tool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69608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0960" indent="-2109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 Interpre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dience: develop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al: demonstrate OVAL analysis, reference for content consumers, test defini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09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 Wri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dience: major content genera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al: facilitate content reuse, simplify definition cre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L Id Web Serv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dience: developers, content crea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al: manage the pool of official OVAL ids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L Content Reposi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dience: OVAL communit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al: store official OVAL content, manage content lifecyc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943600" y="3657600"/>
            <a:ext cx="24750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ools under construc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9880" y="1371240"/>
            <a:ext cx="769644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sed Definition Interpreter – July/August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OVAL 4.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g fix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L content and metadata web services – August 2005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rch the OVAL Reposi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rieve custom sets of cont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rieve metadata about the OVAL con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and an ehanced OVAL website – Fall 20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ools in the future : Definition Interpret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l definition interpreter for OVAL version 5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c++ the best languag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-alone analysis engine and/or data collec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ug 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able new users to quickly &amp; easily do an OVAL analys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rce for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ere enough interes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ld it be maintained well at a low cos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feature Suggestion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ools in the future : Web servic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t submission web serv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 new/modified content to be submitted on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 analysis web serv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the OVAL Results f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idea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182556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ools in the future : Definition Writ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ideal content creation too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ring/Reusing cont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ould a content creator know XML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mitting content to OVAL reposito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htweight Definition Wri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java gui applicatio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app hosted on oval.mitre.org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 users to easily write con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some guidance in the creating/edit new con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ack up: Modifying the schema to support tools</a:t>
            </a:r>
            <a:br>
              <a:rPr sz="2800"/>
            </a:b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tools to support schema rev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sion info in the name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htweight schem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OVAL web services to be useful should we use some sort of compressio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8:04:05Z</dcterms:created>
  <dc:creator>Jon Baker</dc:creator>
  <dc:description/>
  <dc:language>en-US</dc:language>
  <cp:lastModifiedBy>Jonathan Baker</cp:lastModifiedBy>
  <dcterms:modified xsi:type="dcterms:W3CDTF">2005-07-14T19:09:31Z</dcterms:modified>
  <cp:revision>44</cp:revision>
  <dc:subject>OVAL Developer Days</dc:subject>
  <dc:title>Session 6 - Oval Tools</dc:title>
</cp:coreProperties>
</file>