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CF0A-42DF-45A7-A175-346848B74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tart by looking at a high level overview of the current design of an OVAL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4867-7F4A-4DE6-BDB9-7E6D59425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0626-0226-4FD2-815C-A64C8DD4F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9185-81DF-424E-98F6-1D6BF6FEC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B68A-1013-40BC-BDA9-6F6A21999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3059-7CFA-4DE7-9A08-9712EFE05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2C40-8851-43B8-8380-31935B7F6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EBE8-5CE4-4929-9CE9-517479E64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FA99-41FF-4BB4-B666-BE6E7DA37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8529-7D83-49F7-8DA7-B0C4625B4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8C4E-2775-4700-98CF-D445E30EA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4F0D-10AD-4972-A6D0-691698DB4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89E1-F1B2-426C-913F-0F023E69D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78C3-21E7-48F1-8718-F5727AF9DC11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Breaking out the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parate the object section from the t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multiple tests to reuse same obje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ility to create complex object descri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ition of behavioral identifiers to guide the coll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Desig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295280"/>
            <a:ext cx="7467840" cy="457200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600200"/>
            <a:ext cx="662940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657600"/>
            <a:ext cx="6629400" cy="19051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886200"/>
            <a:ext cx="6172200" cy="609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4724280"/>
            <a:ext cx="6172200" cy="6098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20968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352680"/>
            <a:ext cx="746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41972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396252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80060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dec1"/>
                                      </p:to>
                                    </p:animClr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06667 E">
                                      <p:cBhvr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-3.33333E-006 -0.06667 E">
                                      <p:cBhvr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0000" y="7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07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3.33333E-006 0.03333 E">
                                      <p:cBhvr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4760"/>
            <a:ext cx="7010640" cy="6248520"/>
          </a:xfrm>
          <a:prstGeom prst="rect">
            <a:avLst/>
          </a:prstGeom>
          <a:solidFill>
            <a:srgbClr val="008000">
              <a:alpha val="1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04720"/>
            <a:ext cx="6553440" cy="36576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524480"/>
            <a:ext cx="6553440" cy="14475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71492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27688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57200"/>
            <a:ext cx="76197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81160"/>
            <a:ext cx="7619760" cy="25527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114800"/>
            <a:ext cx="7619760" cy="9144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12080" y="227160"/>
            <a:ext cx="7678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r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se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d="obj_2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dministrato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n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2 track 1</cp:keywords>
  <dc:language>en-US</dc:language>
  <cp:lastModifiedBy>Andrew Buttner</cp:lastModifiedBy>
  <dcterms:modified xsi:type="dcterms:W3CDTF">2005-07-25T18:16:22Z</dcterms:modified>
  <cp:revision>17</cp:revision>
  <dc:subject>OVAL Developer Days 2005</dc:subject>
  <dc:title>Session 2 - Track 1 Presentation</dc:title>
</cp:coreProperties>
</file>