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35E227-01A9-43EE-8678-FE3365D08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Interpre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ference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s official OVAL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uns on Windows and Red 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 intended to be commercial grade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es not suppor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Wri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p/MySql web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tended for a limited set of content cre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quires Server installation/set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ynchronization to get current set of OV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bmit new content by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d internally at MI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 Web Servi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ages all Official OVAL 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d by Definition 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y be used by other content generation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Reposit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ySql database stores OVAL definitions in a relational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ite of scripts manages the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cripts insert and select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Interpreter 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gust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intenance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date to support OVAL 4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&amp; Metadata Web Serv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gust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vailable to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for single definitions or sets of definitions to be retrie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ill support dynamic content on the OVAL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sort of documentation should be provi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ample ap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uld the OVAL Definition Interpreter utilize the content serv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tinue to provide a Definition Interpreter for OVAL as the language evo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uld the scope of the OVAL Definition Interpreter be reconsid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re people willing to contribute data collectors for various platf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ow can we encourage code submi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no automated means to submit OV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e analysis web service be usefu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it replace the OVAL Definition Interpre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C063-3263-4BB3-889B-CBE220BA5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382A-06A4-44DE-94FA-2418544A6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6884-7958-4205-B1FA-7DE6F90E8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FF66-D971-4B9A-9D64-2808D8932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176A-194F-4961-A9B0-DAAD7F972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08F4-6E51-4691-8225-CAA22782D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2A50-1E25-43CB-8C05-88B0B9D92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8E82-5C42-4DA9-8252-29E5CD269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D825-6160-490E-A3EF-F4C4DB670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4857-84B2-45B2-A74A-6B544FB3B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76C9-F4BE-4A0E-BF2E-DF5DBAB48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4867-AB53-4976-84E6-49C95B813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E95C-DCF5-4823-91DE-7A8F9D7C26A6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:00 - 2:45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Tools &amp; Application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too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s under constru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s in the fu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Tool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Interpr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develop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demonstrate OVAL analysis, reference for content consumers, test 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09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Wri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major content gener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facilitate content reuse, simplify definition cre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Id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developers, content cre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manage the pool of official OVAL id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Content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OVAL commun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store official OVAL content, manage content lifecyc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475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under construc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9880" y="1371240"/>
            <a:ext cx="769644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ed Definition Interpreter – July/August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OVAL 4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content and metadata web services – August 2005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the OVAL Reposi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custom sets of cont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metadata about the OVAL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and an ehanced OVAL website – Fall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Definition Interpret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definition interpreter for OVAL version 5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c++ the best langua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-alone analysis engine and/or data colle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e new users to quickly &amp; easily do an OVAL analy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for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re enough interes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ld it be maintained well at a low cos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feature Sugges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Web servic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 submission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new/modified content to be submitted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analysis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the OVAL Results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idea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8255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Definition Writ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ideal content creation too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ing/Reusing cont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uld a content creator know XML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mitting content to OVAL reposi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 Definition Wri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java gui applica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app hosted on oval.mitre.org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users to easily write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some guidance in the creating/edit new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k up: Modifying the schema to support tools</a:t>
            </a:r>
            <a:br>
              <a:rPr sz="2800"/>
            </a:b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tools to support schema rev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ion info in the name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 schem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OVAL web services to be useful should we use some sort of compress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Jon Baker</dc:creator>
  <dc:description/>
  <dc:language>en-US</dc:language>
  <cp:lastModifiedBy>Jonathan Baker</cp:lastModifiedBy>
  <dcterms:modified xsi:type="dcterms:W3CDTF">2005-07-14T19:09:31Z</dcterms:modified>
  <cp:revision>44</cp:revision>
  <dc:subject>OVAL Developer Days</dc:subject>
  <dc:title>Session 6 - Oval Tools</dc:title>
</cp:coreProperties>
</file>