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471A-49AC-4681-A265-5611F82ED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A191-E505-4A8D-B2A4-B4BD9A51B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AD8F-9572-431A-8AFD-31C8FA163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D1A5-F2E4-4851-8062-BDCF0906E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778B-F801-438C-B8BD-750A2129E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E67B-DCED-4448-B509-EC087BC57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AEDB-AE4B-4BB0-9D67-39A3AD8B4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F1DB-7030-4C8B-A2DD-DFF35CFD5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E0E6-A5F3-4F52-AD5A-CCFB15494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CE12-0423-4253-B6BA-C06E61FA8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417D-C91F-4A3B-ACD1-1D3B8A1F4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6DEB-008C-4D21-9118-CE6434F28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5BD2-AEC1-470E-8699-7614BD4D270A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:45 – 5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ch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is the overall meaning of a patch defini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egories of tests in a patch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erceding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cessary new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atch Definition Semant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atch definition returns true, the patch is appropriate for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priate” technically, not necessarily according to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ve, not prescrip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es pre-install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a place for post-install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local modifica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tegories of Tes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ce - Is the patch intended for software which exists on the syste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requisites - Are all pre-conditions m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pa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upgr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 set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pa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re-requisites not met, the patch may still be a good ide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licts – Are there any counter-indic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pplication confli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categories of conflic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erceding Inform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 “supercedes” or “superceded by” informa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ceded by” might be dealt with in relevance section or by reverse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d h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 / patch identifi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t possible to test whether a specific patch has been appli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Test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to identify any necessary new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Windows: MSI, .NE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platfor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ident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for target platform,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descriptions / issues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semantics cross-platfor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Matthew Wojcik</dc:creator>
  <dc:description/>
  <cp:keywords>oval developer days session 3</cp:keywords>
  <dc:language>en-US</dc:language>
  <cp:lastModifiedBy>Matthew N. Wojcik</cp:lastModifiedBy>
  <dcterms:modified xsi:type="dcterms:W3CDTF">2005-07-15T15:57:49Z</dcterms:modified>
  <cp:revision>25</cp:revision>
  <dc:subject>OVAL Developer Days 2005</dc:subject>
  <dc:title>Session 3 Presentation</dc:title>
</cp:coreProperties>
</file>