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3C7C9-7113-45D5-99CA-54AFC694E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start by looking at a high level overview of the current design of an OVAL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an example in OVAL Version 4.  There is a criteria section that references individual tests from the test section.  Only the tests can be reused, the criteria can not.  If someon wants to extend a definition then they have to create a new one and copy all the references from this one to the new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an example in OVAL Version 4.  There is a criteria section that references individual tests from the test section.  Only the tests can be reused, the criteria can not.  If someon wants to extend a definition then they have to create a new one and copy all the references from this one to the new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4542D-E600-421F-B430-AB8059C0E3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F3986-56B1-4E1A-8255-F826F7A177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7BB78-DA60-40A2-8264-522BBDB354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196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6404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988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196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6404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447A3-13A4-46D3-82AA-C9849DFFB0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440" y="380880"/>
            <a:ext cx="7162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1998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DAC95-A80A-403F-BEF3-0492E92087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6196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404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988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6196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404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8DB1B-7CF5-4CB2-B1D9-D118EF1969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D22A3-0711-4080-97F0-DCCEF8262D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FBF63-4BFF-4979-8C96-1DE14BD73A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380880"/>
            <a:ext cx="7162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1998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68025-9F6A-4E3F-B48C-073C723E5A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F1B41-8E16-4184-AA74-7137367C15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4C760-BE52-4241-BDE6-0B5E719741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83C18-BF46-48ED-BADA-868CD488AF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381880" y="6400440"/>
            <a:ext cx="53352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53428-24A7-4B5E-A1F3-958498CD6DA5}" type="slidenum">
              <a:rPr b="1" lang="en-US" sz="8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11412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11412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114120">
              <a:lnSpc>
                <a:spcPts val="1998"/>
              </a:lnSpc>
              <a:spcAft>
                <a:spcPts val="799"/>
              </a:spcAft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114120">
              <a:lnSpc>
                <a:spcPts val="1998"/>
              </a:lnSpc>
              <a:spcAft>
                <a:spcPts val="799"/>
              </a:spcAft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740720" y="0"/>
            <a:ext cx="1403280" cy="127080"/>
          </a:xfrm>
          <a:prstGeom prst="rect">
            <a:avLst/>
          </a:prstGeom>
          <a:solidFill>
            <a:srgbClr val="fdaa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886880" y="0"/>
            <a:ext cx="1257120" cy="2206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5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6400800"/>
            <a:ext cx="8763120" cy="0"/>
          </a:xfrm>
          <a:prstGeom prst="line">
            <a:avLst/>
          </a:prstGeom>
          <a:ln w="6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85760" y="6489720"/>
            <a:ext cx="804960" cy="2523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085880" y="6553080"/>
            <a:ext cx="191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04 The MITRE Corporation. All rights reserv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085880" y="6553080"/>
            <a:ext cx="191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04 The MITRE Corporation. All rights reserv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1040" y="0"/>
            <a:ext cx="341280" cy="685800"/>
          </a:xfrm>
          <a:prstGeom prst="rect">
            <a:avLst/>
          </a:prstGeom>
          <a:solidFill>
            <a:srgbClr val="fdaa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2320" y="0"/>
            <a:ext cx="6781680" cy="990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33360" y="228564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33720" y="6524640"/>
            <a:ext cx="19810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 Internal MITRE U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85760" y="6489720"/>
            <a:ext cx="804960" cy="25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1:00 - 2:45  v5 working session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ACK 1  -  Breaking out the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opic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eparate the object section from the tes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llow multiple tests to reuse same obje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bility to create complex object description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ddition of behavioral identifiers to guide the collec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urrent Desig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1295280"/>
            <a:ext cx="7467840" cy="457200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1600200"/>
            <a:ext cx="6629400" cy="175248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95280" y="3657600"/>
            <a:ext cx="6629400" cy="190512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3886200"/>
            <a:ext cx="6172200" cy="60948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4724280"/>
            <a:ext cx="6172200" cy="60984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2209680"/>
            <a:ext cx="662940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VAL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3352680"/>
            <a:ext cx="746784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VAL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4419720"/>
            <a:ext cx="662940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VAL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23880" y="3962520"/>
            <a:ext cx="617220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ject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3880" y="4800600"/>
            <a:ext cx="617220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dec1"/>
                                      </p:to>
                                    </p:animClr>
                                    <p:set>
                                      <p:cBhvr>
                                        <p:cTn id="1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cac5c"/>
                                      </p:to>
                                    </p:animClr>
                                    <p:set>
                                      <p:cBhvr>
                                        <p:cTn id="2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cac5c"/>
                                      </p:to>
                                    </p:animClr>
                                    <p:set>
                                      <p:cBhvr>
                                        <p:cTn id="3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11111E-006 L -3.33333E-006 -0.06667 E">
                                      <p:cBhvr>
                                        <p:cTn id="49" dur="1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022E-016 L -3.33333E-006 -0.06667 E">
                                      <p:cBhvr>
                                        <p:cTn id="51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</p:cBhvr>
                                      <p:to x="100000" y="75000"/>
                                    </p:animScale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1000" fill="hold"/>
                                        <p:tgtEl>
                                          <p:spTgt spid="99"/>
                                        </p:tgtEl>
                                      </p:cBhvr>
                                      <p:to x="107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-3.33333E-006 0.03333 E">
                                      <p:cBhvr>
                                        <p:cTn id="57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355760" y="1677960"/>
            <a:ext cx="69501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6680" y="95400"/>
            <a:ext cx="5758560" cy="62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VAL123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las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affect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family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affect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scri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scri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feren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sourc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feren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tatu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ACCEPTED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tatu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ers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1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ers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not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no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version 4 example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no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not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riteri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oftwar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io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riter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test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mt-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riter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test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ft-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oftwar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nfigura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nfigura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riteri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ft-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heck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355760" y="1677960"/>
            <a:ext cx="69501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6680" y="95400"/>
            <a:ext cx="5758560" cy="62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VAL123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las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affect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family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affect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scri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scri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feren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sourc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feren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tatu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ACCEPTED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tatu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ers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1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ers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not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no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version 4 example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no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not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riteri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oftwar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io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riter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test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mt-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riter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test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ft-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oftwar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nfigura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nfigura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riteri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ft-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heck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04760"/>
            <a:ext cx="7010640" cy="6248520"/>
          </a:xfrm>
          <a:prstGeom prst="rect">
            <a:avLst/>
          </a:prstGeom>
          <a:solidFill>
            <a:srgbClr val="008000">
              <a:alpha val="1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504720"/>
            <a:ext cx="6553440" cy="3657600"/>
          </a:xfrm>
          <a:prstGeom prst="rect">
            <a:avLst/>
          </a:prstGeom>
          <a:solidFill>
            <a:srgbClr val="c0dec1">
              <a:alpha val="2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4524480"/>
            <a:ext cx="6553440" cy="1447560"/>
          </a:xfrm>
          <a:prstGeom prst="rect">
            <a:avLst/>
          </a:prstGeom>
          <a:solidFill>
            <a:srgbClr val="c0dec1">
              <a:alpha val="2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4714920"/>
            <a:ext cx="6248160" cy="533520"/>
          </a:xfrm>
          <a:prstGeom prst="rect">
            <a:avLst/>
          </a:prstGeom>
          <a:solidFill>
            <a:srgbClr val="c0dec1">
              <a:alpha val="2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5276880"/>
            <a:ext cx="6248160" cy="533520"/>
          </a:xfrm>
          <a:prstGeom prst="rect">
            <a:avLst/>
          </a:prstGeom>
          <a:solidFill>
            <a:srgbClr val="c0dec1">
              <a:alpha val="2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07760" y="227160"/>
            <a:ext cx="6490080" cy="61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_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behavi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min_dep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0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min_dep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max_dep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4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max_dep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curse_direc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up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curse_direc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curse_objec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both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curse_objec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include_b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true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include_b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behavi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llec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s_obj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bject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llec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ft-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bject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_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heck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a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io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ft-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bject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_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heck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a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io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707760" y="227160"/>
            <a:ext cx="6490080" cy="61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_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behavi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min_dep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0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min_dep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max_dep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4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max_dep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curse_direc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up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curse_direc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curse_objec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both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curse_objec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include_b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true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include_b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behavi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llec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s_obj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bject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llec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ft-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bject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_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heck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a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io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ft-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bject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_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heck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a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io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457200"/>
            <a:ext cx="7619760" cy="533520"/>
          </a:xfrm>
          <a:prstGeom prst="rect">
            <a:avLst/>
          </a:prstGeom>
          <a:solidFill>
            <a:srgbClr val="c0dec1">
              <a:alpha val="2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1181160"/>
            <a:ext cx="7619760" cy="2552760"/>
          </a:xfrm>
          <a:prstGeom prst="rect">
            <a:avLst/>
          </a:prstGeom>
          <a:solidFill>
            <a:srgbClr val="c0dec1">
              <a:alpha val="2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4114800"/>
            <a:ext cx="7619760" cy="914400"/>
          </a:xfrm>
          <a:prstGeom prst="rect">
            <a:avLst/>
          </a:prstGeom>
          <a:solidFill>
            <a:srgbClr val="c0dec1">
              <a:alpha val="2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712080" y="227160"/>
            <a:ext cx="767880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i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_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behavi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behavi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llec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us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Fred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us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group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Users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group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ids_obj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bject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_2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llec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i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i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id="obj_2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behavi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solve_group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true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solve_group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behavi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llec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group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administrators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group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llec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i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accountprivileges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nt-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bject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_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heck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a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io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accountprivileges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6T18:04:05Z</dcterms:created>
  <dc:creator>Andrew Buttner</dc:creator>
  <dc:description/>
  <cp:keywords>oval developer days session 2 track 1</cp:keywords>
  <dc:language>en-US</dc:language>
  <cp:lastModifiedBy>Andrew Buttner</cp:lastModifiedBy>
  <dcterms:modified xsi:type="dcterms:W3CDTF">2005-07-25T18:16:22Z</dcterms:modified>
  <cp:revision>17</cp:revision>
  <dc:subject>OVAL Developer Days 2005</dc:subject>
  <dc:title>Session 2 - Track 1 Presentation</dc:title>
</cp:coreProperties>
</file>