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516E2-5D23-40F3-A581-1FD14FD51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146C2-75E4-470A-AD9B-E35C6AB99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9EEB6-3094-4935-98B5-0C1713B81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63820-0A67-4EDC-96A6-E766C6F6B3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0456-FB07-4076-81E9-1DE71FA54D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C1610-6E26-4BC3-A168-6DF421E5B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42A4B-DFD2-4B73-9B11-5D3126A6C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17A04-EBCB-47C0-88DE-C1E969C82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1E0BB-10C9-4460-88F0-4190F287E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042A-8FCC-4ECE-93F7-71D31EF15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A2F34-FF48-4B48-86A7-0D83C5064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39AAB-3E82-436C-9CD0-232AE9881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F1E1-2DE1-4548-898A-DB1A4861295D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0:30 - 12:00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CK 1  -  OVAL vari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place existing component typ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llow the output of one test to be used by anot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teraction with other langu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10640" y="1219320"/>
            <a:ext cx="685584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ar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tern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tri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gnor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lo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2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tri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a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78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ly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2438280"/>
            <a:ext cx="1600200" cy="381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276720" y="2819520"/>
            <a:ext cx="1676160" cy="76176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11720" y="609480"/>
            <a:ext cx="71301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ar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r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tern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trival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nca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mpone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r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_fiel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filename.dll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tri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13360" y="4251240"/>
            <a:ext cx="1752480" cy="304920"/>
          </a:xfrm>
          <a:prstGeom prst="rect">
            <a:avLst/>
          </a:prstGeom>
          <a:solidFill>
            <a:srgbClr val="00660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4572000"/>
            <a:ext cx="160020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3428640" y="2819520"/>
            <a:ext cx="228600" cy="17524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0000" y="4595760"/>
            <a:ext cx="1752480" cy="304920"/>
          </a:xfrm>
          <a:prstGeom prst="rect">
            <a:avLst/>
          </a:prstGeom>
          <a:solidFill>
            <a:srgbClr val="00660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different opt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69608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tern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tri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gnor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lo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2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tri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a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78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tern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trival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nca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mpone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r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_fiel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filename.dll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tri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nteraction with other languages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re anything XCCDF would like to see in a new version of OVA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item that could be useful when interacting with existing proprietary information stor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1676520"/>
            <a:ext cx="82296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Courier New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rganization_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2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filename.dll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maj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5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maj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min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min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buil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260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buil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34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rganization_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ackup - variable file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8:04:05Z</dcterms:created>
  <dc:creator>Andrew Buttner</dc:creator>
  <dc:description/>
  <cp:keywords>oval developer days session 5 track 1</cp:keywords>
  <dc:language>en-US</dc:language>
  <cp:lastModifiedBy>Andrew Buttner</cp:lastModifiedBy>
  <dcterms:modified xsi:type="dcterms:W3CDTF">2005-07-16T17:07:37Z</dcterms:modified>
  <cp:revision>10</cp:revision>
  <dc:subject>OVAL Developer Days 2005</dc:subject>
  <dc:title>Session 5 - Track 1 Presentation</dc:title>
</cp:coreProperties>
</file>