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B26B-7F53-4643-90E5-C925242AD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BC818-F212-47E8-9265-D2ADAABA1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D2670-8ED3-4AC1-A75A-F78420E0F2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CD8C8-C726-46E7-AB6B-7F21A7F14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8FD6-A0CE-4893-A8B7-5088330CC4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8957-8723-4D49-9D58-7F67D12AF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01AD-69EF-41D2-B8A3-90E266033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EB702-9F5D-481E-9960-86C3E5E74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8A1A-961E-4A48-BF24-5AE23CFE0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3B65-5720-4B66-B8D3-E2F15F87B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300F6-655D-4E67-B97C-8E922ABEE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AA5D2-1427-4BD1-A66E-434C5308AD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FB4E-5807-4B57-963C-1049F255F350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8:00 - 9:30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4640" indent="-22464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ults Sche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2464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w is the results file being us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s the current format too verbo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ggregated results 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upporting multi-host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0">
              <a:lnSpc>
                <a:spcPts val="1599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ss/fail logic for te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2464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ddition of ONPASS and ONFAIL op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lation to existing software and configuration 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mproving the results by reporting "NOT TESTED" instead of "FAIL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troduction of new operators (e.g. COUNT, IN, RAN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 Results Fi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066680"/>
            <a:ext cx="8001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HKEY_LOCAL_MACHIN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SYSTEM\...\Security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Retention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="AND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ar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0007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HKEY_LOCAL_MACHIN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SYSTEM\...\Security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Retention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3657600"/>
            <a:ext cx="685800" cy="152280"/>
          </a:xfrm>
          <a:custGeom>
            <a:avLst/>
            <a:gdLst>
              <a:gd name="textAreaLeft" fmla="*/ 85680 w 685800"/>
              <a:gd name="textAreaRight" fmla="*/ 600120 w 685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3526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4290840"/>
            <a:ext cx="228600" cy="381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4832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4398840"/>
            <a:ext cx="685800" cy="152640"/>
          </a:xfrm>
          <a:custGeom>
            <a:avLst/>
            <a:gdLst>
              <a:gd name="textAreaLeft" fmla="*/ 85680 w 685800"/>
              <a:gd name="textAreaRight" fmla="*/ 600120 w 685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5137200"/>
            <a:ext cx="685800" cy="152280"/>
          </a:xfrm>
          <a:custGeom>
            <a:avLst/>
            <a:gdLst>
              <a:gd name="textAreaLeft" fmla="*/ 85680 w 685800"/>
              <a:gd name="textAreaRight" fmla="*/ 600120 w 685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lim Results Fi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219320"/>
            <a:ext cx="7238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ggregated Results Fla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447920"/>
            <a:ext cx="7238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VAL12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9228000">
            <a:off x="4647960" y="2590560"/>
            <a:ext cx="1199880" cy="228600"/>
          </a:xfrm>
          <a:custGeom>
            <a:avLst/>
            <a:gdLst>
              <a:gd name="textAreaLeft" fmla="*/ 149760 w 1199880"/>
              <a:gd name="textAreaRight" fmla="*/ 1050120 w 1199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0920" y="1981080"/>
            <a:ext cx="4199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we want to add a top level resul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ulti-Host Resul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066680"/>
            <a:ext cx="800100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5:56:24Z</dcterms:created>
  <dc:creator>Andrew Buttner</dc:creator>
  <dc:description/>
  <cp:keywords>oval developer days session 1</cp:keywords>
  <dc:language>en-US</dc:language>
  <cp:lastModifiedBy>Andrew Buttner</cp:lastModifiedBy>
  <dcterms:modified xsi:type="dcterms:W3CDTF">2005-07-16T16:37:56Z</dcterms:modified>
  <cp:revision>23</cp:revision>
  <dc:subject>OVAL Developer Days 2005</dc:subject>
  <dc:title>Session 1 Presentation</dc:title>
</cp:coreProperties>
</file>