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0.png" ContentType="image/png"/>
  <Override PartName="/ppt/media/image19.png" ContentType="image/png"/>
  <Override PartName="/ppt/media/image1.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3.pct" ContentType="image/x-pict"/>
  <Override PartName="/ppt/media/image6.png" ContentType="image/png"/>
  <Override PartName="/ppt/media/image11.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0" y="193680"/>
            <a:ext cx="9144000" cy="822240"/>
          </a:xfrm>
          <a:prstGeom prst="rect">
            <a:avLst/>
          </a:prstGeom>
          <a:noFill/>
          <a:ln w="0">
            <a:noFill/>
          </a:ln>
        </p:spPr>
        <p:txBody>
          <a:bodyPr lIns="90360" rIns="90360" tIns="44280" bIns="442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2"/>
          <p:cNvSpPr>
            <a:spLocks noGrp="1"/>
          </p:cNvSpPr>
          <p:nvPr>
            <p:ph/>
          </p:nvPr>
        </p:nvSpPr>
        <p:spPr>
          <a:xfrm>
            <a:off x="202680" y="1277640"/>
            <a:ext cx="8642520" cy="226692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 name="PlaceHolder 3"/>
          <p:cNvSpPr>
            <a:spLocks noGrp="1"/>
          </p:cNvSpPr>
          <p:nvPr>
            <p:ph/>
          </p:nvPr>
        </p:nvSpPr>
        <p:spPr>
          <a:xfrm>
            <a:off x="202680" y="3760200"/>
            <a:ext cx="8642520" cy="226692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0" y="193680"/>
            <a:ext cx="9144000" cy="822240"/>
          </a:xfrm>
          <a:prstGeom prst="rect">
            <a:avLst/>
          </a:prstGeom>
          <a:noFill/>
          <a:ln w="0">
            <a:noFill/>
          </a:ln>
        </p:spPr>
        <p:txBody>
          <a:bodyPr lIns="90360" rIns="90360" tIns="44280" bIns="442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2"/>
          <p:cNvSpPr>
            <a:spLocks noGrp="1"/>
          </p:cNvSpPr>
          <p:nvPr>
            <p:ph/>
          </p:nvPr>
        </p:nvSpPr>
        <p:spPr>
          <a:xfrm>
            <a:off x="202680" y="1277640"/>
            <a:ext cx="4217400" cy="226692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 name="PlaceHolder 3"/>
          <p:cNvSpPr>
            <a:spLocks noGrp="1"/>
          </p:cNvSpPr>
          <p:nvPr>
            <p:ph/>
          </p:nvPr>
        </p:nvSpPr>
        <p:spPr>
          <a:xfrm>
            <a:off x="4631400" y="1277640"/>
            <a:ext cx="4217400" cy="226692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 name="PlaceHolder 4"/>
          <p:cNvSpPr>
            <a:spLocks noGrp="1"/>
          </p:cNvSpPr>
          <p:nvPr>
            <p:ph/>
          </p:nvPr>
        </p:nvSpPr>
        <p:spPr>
          <a:xfrm>
            <a:off x="202680" y="3760200"/>
            <a:ext cx="4217400" cy="226692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 name="PlaceHolder 5"/>
          <p:cNvSpPr>
            <a:spLocks noGrp="1"/>
          </p:cNvSpPr>
          <p:nvPr>
            <p:ph/>
          </p:nvPr>
        </p:nvSpPr>
        <p:spPr>
          <a:xfrm>
            <a:off x="4631400" y="3760200"/>
            <a:ext cx="4217400" cy="226692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0" y="193680"/>
            <a:ext cx="9144000" cy="822240"/>
          </a:xfrm>
          <a:prstGeom prst="rect">
            <a:avLst/>
          </a:prstGeom>
          <a:noFill/>
          <a:ln w="0">
            <a:noFill/>
          </a:ln>
        </p:spPr>
        <p:txBody>
          <a:bodyPr lIns="90360" rIns="90360" tIns="44280" bIns="442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2"/>
          <p:cNvSpPr>
            <a:spLocks noGrp="1"/>
          </p:cNvSpPr>
          <p:nvPr>
            <p:ph/>
          </p:nvPr>
        </p:nvSpPr>
        <p:spPr>
          <a:xfrm>
            <a:off x="202680" y="1277640"/>
            <a:ext cx="2782800" cy="226692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 name="PlaceHolder 3"/>
          <p:cNvSpPr>
            <a:spLocks noGrp="1"/>
          </p:cNvSpPr>
          <p:nvPr>
            <p:ph/>
          </p:nvPr>
        </p:nvSpPr>
        <p:spPr>
          <a:xfrm>
            <a:off x="3125160" y="1277640"/>
            <a:ext cx="2782800" cy="226692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 name="PlaceHolder 4"/>
          <p:cNvSpPr>
            <a:spLocks noGrp="1"/>
          </p:cNvSpPr>
          <p:nvPr>
            <p:ph/>
          </p:nvPr>
        </p:nvSpPr>
        <p:spPr>
          <a:xfrm>
            <a:off x="6047280" y="1277640"/>
            <a:ext cx="2782800" cy="226692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5"/>
          <p:cNvSpPr>
            <a:spLocks noGrp="1"/>
          </p:cNvSpPr>
          <p:nvPr>
            <p:ph/>
          </p:nvPr>
        </p:nvSpPr>
        <p:spPr>
          <a:xfrm>
            <a:off x="202680" y="3760200"/>
            <a:ext cx="2782800" cy="226692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9" name="PlaceHolder 6"/>
          <p:cNvSpPr>
            <a:spLocks noGrp="1"/>
          </p:cNvSpPr>
          <p:nvPr>
            <p:ph/>
          </p:nvPr>
        </p:nvSpPr>
        <p:spPr>
          <a:xfrm>
            <a:off x="3125160" y="3760200"/>
            <a:ext cx="2782800" cy="226692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 name="PlaceHolder 7"/>
          <p:cNvSpPr>
            <a:spLocks noGrp="1"/>
          </p:cNvSpPr>
          <p:nvPr>
            <p:ph/>
          </p:nvPr>
        </p:nvSpPr>
        <p:spPr>
          <a:xfrm>
            <a:off x="6047280" y="3760200"/>
            <a:ext cx="2782800" cy="226692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0" y="193680"/>
            <a:ext cx="9144000" cy="822240"/>
          </a:xfrm>
          <a:prstGeom prst="rect">
            <a:avLst/>
          </a:prstGeom>
          <a:noFill/>
          <a:ln w="0">
            <a:noFill/>
          </a:ln>
        </p:spPr>
        <p:txBody>
          <a:bodyPr lIns="90360" rIns="90360" tIns="44280" bIns="442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6" name="PlaceHolder 2"/>
          <p:cNvSpPr>
            <a:spLocks noGrp="1"/>
          </p:cNvSpPr>
          <p:nvPr>
            <p:ph type="subTitle"/>
          </p:nvPr>
        </p:nvSpPr>
        <p:spPr>
          <a:xfrm>
            <a:off x="202680" y="1277640"/>
            <a:ext cx="8642520" cy="47530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0" y="193680"/>
            <a:ext cx="9144000" cy="822240"/>
          </a:xfrm>
          <a:prstGeom prst="rect">
            <a:avLst/>
          </a:prstGeom>
          <a:noFill/>
          <a:ln w="0">
            <a:noFill/>
          </a:ln>
        </p:spPr>
        <p:txBody>
          <a:bodyPr lIns="90360" rIns="90360" tIns="44280" bIns="442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8" name="PlaceHolder 2"/>
          <p:cNvSpPr>
            <a:spLocks noGrp="1"/>
          </p:cNvSpPr>
          <p:nvPr>
            <p:ph/>
          </p:nvPr>
        </p:nvSpPr>
        <p:spPr>
          <a:xfrm>
            <a:off x="202680" y="1277640"/>
            <a:ext cx="8642520" cy="475308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0" y="193680"/>
            <a:ext cx="9144000" cy="822240"/>
          </a:xfrm>
          <a:prstGeom prst="rect">
            <a:avLst/>
          </a:prstGeom>
          <a:noFill/>
          <a:ln w="0">
            <a:noFill/>
          </a:ln>
        </p:spPr>
        <p:txBody>
          <a:bodyPr lIns="90360" rIns="90360" tIns="44280" bIns="442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0" name="PlaceHolder 2"/>
          <p:cNvSpPr>
            <a:spLocks noGrp="1"/>
          </p:cNvSpPr>
          <p:nvPr>
            <p:ph/>
          </p:nvPr>
        </p:nvSpPr>
        <p:spPr>
          <a:xfrm>
            <a:off x="202680" y="1277640"/>
            <a:ext cx="4217400" cy="475308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1" name="PlaceHolder 3"/>
          <p:cNvSpPr>
            <a:spLocks noGrp="1"/>
          </p:cNvSpPr>
          <p:nvPr>
            <p:ph/>
          </p:nvPr>
        </p:nvSpPr>
        <p:spPr>
          <a:xfrm>
            <a:off x="4631400" y="1277640"/>
            <a:ext cx="4217400" cy="475308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0" y="193680"/>
            <a:ext cx="9144000" cy="822240"/>
          </a:xfrm>
          <a:prstGeom prst="rect">
            <a:avLst/>
          </a:prstGeom>
          <a:noFill/>
          <a:ln w="0">
            <a:noFill/>
          </a:ln>
        </p:spPr>
        <p:txBody>
          <a:bodyPr lIns="90360" rIns="90360" tIns="44280" bIns="442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0" y="193680"/>
            <a:ext cx="9144000" cy="38127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0" y="193680"/>
            <a:ext cx="9144000" cy="822240"/>
          </a:xfrm>
          <a:prstGeom prst="rect">
            <a:avLst/>
          </a:prstGeom>
          <a:noFill/>
          <a:ln w="0">
            <a:noFill/>
          </a:ln>
        </p:spPr>
        <p:txBody>
          <a:bodyPr lIns="90360" rIns="90360" tIns="44280" bIns="442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2"/>
          <p:cNvSpPr>
            <a:spLocks noGrp="1"/>
          </p:cNvSpPr>
          <p:nvPr>
            <p:ph/>
          </p:nvPr>
        </p:nvSpPr>
        <p:spPr>
          <a:xfrm>
            <a:off x="202680" y="1277640"/>
            <a:ext cx="4217400" cy="226692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6" name="PlaceHolder 3"/>
          <p:cNvSpPr>
            <a:spLocks noGrp="1"/>
          </p:cNvSpPr>
          <p:nvPr>
            <p:ph/>
          </p:nvPr>
        </p:nvSpPr>
        <p:spPr>
          <a:xfrm>
            <a:off x="4631400" y="1277640"/>
            <a:ext cx="4217400" cy="475308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7" name="PlaceHolder 4"/>
          <p:cNvSpPr>
            <a:spLocks noGrp="1"/>
          </p:cNvSpPr>
          <p:nvPr>
            <p:ph/>
          </p:nvPr>
        </p:nvSpPr>
        <p:spPr>
          <a:xfrm>
            <a:off x="202680" y="3760200"/>
            <a:ext cx="4217400" cy="226692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0" y="193680"/>
            <a:ext cx="9144000" cy="822240"/>
          </a:xfrm>
          <a:prstGeom prst="rect">
            <a:avLst/>
          </a:prstGeom>
          <a:noFill/>
          <a:ln w="0">
            <a:noFill/>
          </a:ln>
        </p:spPr>
        <p:txBody>
          <a:bodyPr lIns="90360" rIns="90360" tIns="44280" bIns="442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2"/>
          <p:cNvSpPr>
            <a:spLocks noGrp="1"/>
          </p:cNvSpPr>
          <p:nvPr>
            <p:ph type="subTitle"/>
          </p:nvPr>
        </p:nvSpPr>
        <p:spPr>
          <a:xfrm>
            <a:off x="202680" y="1277640"/>
            <a:ext cx="8642520" cy="47530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0" y="193680"/>
            <a:ext cx="9144000" cy="822240"/>
          </a:xfrm>
          <a:prstGeom prst="rect">
            <a:avLst/>
          </a:prstGeom>
          <a:noFill/>
          <a:ln w="0">
            <a:noFill/>
          </a:ln>
        </p:spPr>
        <p:txBody>
          <a:bodyPr lIns="90360" rIns="90360" tIns="44280" bIns="442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9" name="PlaceHolder 2"/>
          <p:cNvSpPr>
            <a:spLocks noGrp="1"/>
          </p:cNvSpPr>
          <p:nvPr>
            <p:ph/>
          </p:nvPr>
        </p:nvSpPr>
        <p:spPr>
          <a:xfrm>
            <a:off x="202680" y="1277640"/>
            <a:ext cx="4217400" cy="475308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0" name="PlaceHolder 3"/>
          <p:cNvSpPr>
            <a:spLocks noGrp="1"/>
          </p:cNvSpPr>
          <p:nvPr>
            <p:ph/>
          </p:nvPr>
        </p:nvSpPr>
        <p:spPr>
          <a:xfrm>
            <a:off x="4631400" y="1277640"/>
            <a:ext cx="4217400" cy="226692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1" name="PlaceHolder 4"/>
          <p:cNvSpPr>
            <a:spLocks noGrp="1"/>
          </p:cNvSpPr>
          <p:nvPr>
            <p:ph/>
          </p:nvPr>
        </p:nvSpPr>
        <p:spPr>
          <a:xfrm>
            <a:off x="4631400" y="3760200"/>
            <a:ext cx="4217400" cy="226692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0" y="193680"/>
            <a:ext cx="9144000" cy="822240"/>
          </a:xfrm>
          <a:prstGeom prst="rect">
            <a:avLst/>
          </a:prstGeom>
          <a:noFill/>
          <a:ln w="0">
            <a:noFill/>
          </a:ln>
        </p:spPr>
        <p:txBody>
          <a:bodyPr lIns="90360" rIns="90360" tIns="44280" bIns="442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3" name="PlaceHolder 2"/>
          <p:cNvSpPr>
            <a:spLocks noGrp="1"/>
          </p:cNvSpPr>
          <p:nvPr>
            <p:ph/>
          </p:nvPr>
        </p:nvSpPr>
        <p:spPr>
          <a:xfrm>
            <a:off x="202680" y="1277640"/>
            <a:ext cx="4217400" cy="226692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4" name="PlaceHolder 3"/>
          <p:cNvSpPr>
            <a:spLocks noGrp="1"/>
          </p:cNvSpPr>
          <p:nvPr>
            <p:ph/>
          </p:nvPr>
        </p:nvSpPr>
        <p:spPr>
          <a:xfrm>
            <a:off x="4631400" y="1277640"/>
            <a:ext cx="4217400" cy="226692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5" name="PlaceHolder 4"/>
          <p:cNvSpPr>
            <a:spLocks noGrp="1"/>
          </p:cNvSpPr>
          <p:nvPr>
            <p:ph/>
          </p:nvPr>
        </p:nvSpPr>
        <p:spPr>
          <a:xfrm>
            <a:off x="202680" y="3760200"/>
            <a:ext cx="8642520" cy="226692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0" y="193680"/>
            <a:ext cx="9144000" cy="822240"/>
          </a:xfrm>
          <a:prstGeom prst="rect">
            <a:avLst/>
          </a:prstGeom>
          <a:noFill/>
          <a:ln w="0">
            <a:noFill/>
          </a:ln>
        </p:spPr>
        <p:txBody>
          <a:bodyPr lIns="90360" rIns="90360" tIns="44280" bIns="442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7" name="PlaceHolder 2"/>
          <p:cNvSpPr>
            <a:spLocks noGrp="1"/>
          </p:cNvSpPr>
          <p:nvPr>
            <p:ph/>
          </p:nvPr>
        </p:nvSpPr>
        <p:spPr>
          <a:xfrm>
            <a:off x="202680" y="1277640"/>
            <a:ext cx="8642520" cy="226692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8" name="PlaceHolder 3"/>
          <p:cNvSpPr>
            <a:spLocks noGrp="1"/>
          </p:cNvSpPr>
          <p:nvPr>
            <p:ph/>
          </p:nvPr>
        </p:nvSpPr>
        <p:spPr>
          <a:xfrm>
            <a:off x="202680" y="3760200"/>
            <a:ext cx="8642520" cy="226692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0" y="193680"/>
            <a:ext cx="9144000" cy="822240"/>
          </a:xfrm>
          <a:prstGeom prst="rect">
            <a:avLst/>
          </a:prstGeom>
          <a:noFill/>
          <a:ln w="0">
            <a:noFill/>
          </a:ln>
        </p:spPr>
        <p:txBody>
          <a:bodyPr lIns="90360" rIns="90360" tIns="44280" bIns="442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0" name="PlaceHolder 2"/>
          <p:cNvSpPr>
            <a:spLocks noGrp="1"/>
          </p:cNvSpPr>
          <p:nvPr>
            <p:ph/>
          </p:nvPr>
        </p:nvSpPr>
        <p:spPr>
          <a:xfrm>
            <a:off x="202680" y="1277640"/>
            <a:ext cx="4217400" cy="226692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1" name="PlaceHolder 3"/>
          <p:cNvSpPr>
            <a:spLocks noGrp="1"/>
          </p:cNvSpPr>
          <p:nvPr>
            <p:ph/>
          </p:nvPr>
        </p:nvSpPr>
        <p:spPr>
          <a:xfrm>
            <a:off x="4631400" y="1277640"/>
            <a:ext cx="4217400" cy="226692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2" name="PlaceHolder 4"/>
          <p:cNvSpPr>
            <a:spLocks noGrp="1"/>
          </p:cNvSpPr>
          <p:nvPr>
            <p:ph/>
          </p:nvPr>
        </p:nvSpPr>
        <p:spPr>
          <a:xfrm>
            <a:off x="202680" y="3760200"/>
            <a:ext cx="4217400" cy="226692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3" name="PlaceHolder 5"/>
          <p:cNvSpPr>
            <a:spLocks noGrp="1"/>
          </p:cNvSpPr>
          <p:nvPr>
            <p:ph/>
          </p:nvPr>
        </p:nvSpPr>
        <p:spPr>
          <a:xfrm>
            <a:off x="4631400" y="3760200"/>
            <a:ext cx="4217400" cy="226692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0" y="193680"/>
            <a:ext cx="9144000" cy="822240"/>
          </a:xfrm>
          <a:prstGeom prst="rect">
            <a:avLst/>
          </a:prstGeom>
          <a:noFill/>
          <a:ln w="0">
            <a:noFill/>
          </a:ln>
        </p:spPr>
        <p:txBody>
          <a:bodyPr lIns="90360" rIns="90360" tIns="44280" bIns="442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2"/>
          <p:cNvSpPr>
            <a:spLocks noGrp="1"/>
          </p:cNvSpPr>
          <p:nvPr>
            <p:ph/>
          </p:nvPr>
        </p:nvSpPr>
        <p:spPr>
          <a:xfrm>
            <a:off x="202680" y="1277640"/>
            <a:ext cx="2782800" cy="226692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6" name="PlaceHolder 3"/>
          <p:cNvSpPr>
            <a:spLocks noGrp="1"/>
          </p:cNvSpPr>
          <p:nvPr>
            <p:ph/>
          </p:nvPr>
        </p:nvSpPr>
        <p:spPr>
          <a:xfrm>
            <a:off x="3125160" y="1277640"/>
            <a:ext cx="2782800" cy="226692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7" name="PlaceHolder 4"/>
          <p:cNvSpPr>
            <a:spLocks noGrp="1"/>
          </p:cNvSpPr>
          <p:nvPr>
            <p:ph/>
          </p:nvPr>
        </p:nvSpPr>
        <p:spPr>
          <a:xfrm>
            <a:off x="6047280" y="1277640"/>
            <a:ext cx="2782800" cy="226692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8" name="PlaceHolder 5"/>
          <p:cNvSpPr>
            <a:spLocks noGrp="1"/>
          </p:cNvSpPr>
          <p:nvPr>
            <p:ph/>
          </p:nvPr>
        </p:nvSpPr>
        <p:spPr>
          <a:xfrm>
            <a:off x="202680" y="3760200"/>
            <a:ext cx="2782800" cy="226692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9" name="PlaceHolder 6"/>
          <p:cNvSpPr>
            <a:spLocks noGrp="1"/>
          </p:cNvSpPr>
          <p:nvPr>
            <p:ph/>
          </p:nvPr>
        </p:nvSpPr>
        <p:spPr>
          <a:xfrm>
            <a:off x="3125160" y="3760200"/>
            <a:ext cx="2782800" cy="226692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 name="PlaceHolder 7"/>
          <p:cNvSpPr>
            <a:spLocks noGrp="1"/>
          </p:cNvSpPr>
          <p:nvPr>
            <p:ph/>
          </p:nvPr>
        </p:nvSpPr>
        <p:spPr>
          <a:xfrm>
            <a:off x="6047280" y="3760200"/>
            <a:ext cx="2782800" cy="226692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0" y="193680"/>
            <a:ext cx="9144000" cy="822240"/>
          </a:xfrm>
          <a:prstGeom prst="rect">
            <a:avLst/>
          </a:prstGeom>
          <a:noFill/>
          <a:ln w="0">
            <a:noFill/>
          </a:ln>
        </p:spPr>
        <p:txBody>
          <a:bodyPr lIns="90360" rIns="90360" tIns="44280" bIns="442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 name="PlaceHolder 2"/>
          <p:cNvSpPr>
            <a:spLocks noGrp="1"/>
          </p:cNvSpPr>
          <p:nvPr>
            <p:ph/>
          </p:nvPr>
        </p:nvSpPr>
        <p:spPr>
          <a:xfrm>
            <a:off x="202680" y="1277640"/>
            <a:ext cx="8642520" cy="475308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0" y="193680"/>
            <a:ext cx="9144000" cy="822240"/>
          </a:xfrm>
          <a:prstGeom prst="rect">
            <a:avLst/>
          </a:prstGeom>
          <a:noFill/>
          <a:ln w="0">
            <a:noFill/>
          </a:ln>
        </p:spPr>
        <p:txBody>
          <a:bodyPr lIns="90360" rIns="90360" tIns="44280" bIns="442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0" name="PlaceHolder 2"/>
          <p:cNvSpPr>
            <a:spLocks noGrp="1"/>
          </p:cNvSpPr>
          <p:nvPr>
            <p:ph/>
          </p:nvPr>
        </p:nvSpPr>
        <p:spPr>
          <a:xfrm>
            <a:off x="202680" y="1277640"/>
            <a:ext cx="4217400" cy="475308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 name="PlaceHolder 3"/>
          <p:cNvSpPr>
            <a:spLocks noGrp="1"/>
          </p:cNvSpPr>
          <p:nvPr>
            <p:ph/>
          </p:nvPr>
        </p:nvSpPr>
        <p:spPr>
          <a:xfrm>
            <a:off x="4631400" y="1277640"/>
            <a:ext cx="4217400" cy="475308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0" y="193680"/>
            <a:ext cx="9144000" cy="822240"/>
          </a:xfrm>
          <a:prstGeom prst="rect">
            <a:avLst/>
          </a:prstGeom>
          <a:noFill/>
          <a:ln w="0">
            <a:noFill/>
          </a:ln>
        </p:spPr>
        <p:txBody>
          <a:bodyPr lIns="90360" rIns="90360" tIns="44280" bIns="442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0" y="193680"/>
            <a:ext cx="9144000" cy="38127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0" y="193680"/>
            <a:ext cx="9144000" cy="822240"/>
          </a:xfrm>
          <a:prstGeom prst="rect">
            <a:avLst/>
          </a:prstGeom>
          <a:noFill/>
          <a:ln w="0">
            <a:noFill/>
          </a:ln>
        </p:spPr>
        <p:txBody>
          <a:bodyPr lIns="90360" rIns="90360" tIns="44280" bIns="442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5" name="PlaceHolder 2"/>
          <p:cNvSpPr>
            <a:spLocks noGrp="1"/>
          </p:cNvSpPr>
          <p:nvPr>
            <p:ph/>
          </p:nvPr>
        </p:nvSpPr>
        <p:spPr>
          <a:xfrm>
            <a:off x="202680" y="1277640"/>
            <a:ext cx="4217400" cy="226692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 name="PlaceHolder 3"/>
          <p:cNvSpPr>
            <a:spLocks noGrp="1"/>
          </p:cNvSpPr>
          <p:nvPr>
            <p:ph/>
          </p:nvPr>
        </p:nvSpPr>
        <p:spPr>
          <a:xfrm>
            <a:off x="4631400" y="1277640"/>
            <a:ext cx="4217400" cy="475308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 name="PlaceHolder 4"/>
          <p:cNvSpPr>
            <a:spLocks noGrp="1"/>
          </p:cNvSpPr>
          <p:nvPr>
            <p:ph/>
          </p:nvPr>
        </p:nvSpPr>
        <p:spPr>
          <a:xfrm>
            <a:off x="202680" y="3760200"/>
            <a:ext cx="4217400" cy="226692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0" y="193680"/>
            <a:ext cx="9144000" cy="822240"/>
          </a:xfrm>
          <a:prstGeom prst="rect">
            <a:avLst/>
          </a:prstGeom>
          <a:noFill/>
          <a:ln w="0">
            <a:noFill/>
          </a:ln>
        </p:spPr>
        <p:txBody>
          <a:bodyPr lIns="90360" rIns="90360" tIns="44280" bIns="442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2"/>
          <p:cNvSpPr>
            <a:spLocks noGrp="1"/>
          </p:cNvSpPr>
          <p:nvPr>
            <p:ph/>
          </p:nvPr>
        </p:nvSpPr>
        <p:spPr>
          <a:xfrm>
            <a:off x="202680" y="1277640"/>
            <a:ext cx="4217400" cy="475308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 name="PlaceHolder 3"/>
          <p:cNvSpPr>
            <a:spLocks noGrp="1"/>
          </p:cNvSpPr>
          <p:nvPr>
            <p:ph/>
          </p:nvPr>
        </p:nvSpPr>
        <p:spPr>
          <a:xfrm>
            <a:off x="4631400" y="1277640"/>
            <a:ext cx="4217400" cy="226692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 name="PlaceHolder 4"/>
          <p:cNvSpPr>
            <a:spLocks noGrp="1"/>
          </p:cNvSpPr>
          <p:nvPr>
            <p:ph/>
          </p:nvPr>
        </p:nvSpPr>
        <p:spPr>
          <a:xfrm>
            <a:off x="4631400" y="3760200"/>
            <a:ext cx="4217400" cy="226692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0" y="193680"/>
            <a:ext cx="9144000" cy="822240"/>
          </a:xfrm>
          <a:prstGeom prst="rect">
            <a:avLst/>
          </a:prstGeom>
          <a:noFill/>
          <a:ln w="0">
            <a:noFill/>
          </a:ln>
        </p:spPr>
        <p:txBody>
          <a:bodyPr lIns="90360" rIns="90360" tIns="44280" bIns="442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2"/>
          <p:cNvSpPr>
            <a:spLocks noGrp="1"/>
          </p:cNvSpPr>
          <p:nvPr>
            <p:ph/>
          </p:nvPr>
        </p:nvSpPr>
        <p:spPr>
          <a:xfrm>
            <a:off x="202680" y="1277640"/>
            <a:ext cx="4217400" cy="226692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 name="PlaceHolder 3"/>
          <p:cNvSpPr>
            <a:spLocks noGrp="1"/>
          </p:cNvSpPr>
          <p:nvPr>
            <p:ph/>
          </p:nvPr>
        </p:nvSpPr>
        <p:spPr>
          <a:xfrm>
            <a:off x="4631400" y="1277640"/>
            <a:ext cx="4217400" cy="226692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 name="PlaceHolder 4"/>
          <p:cNvSpPr>
            <a:spLocks noGrp="1"/>
          </p:cNvSpPr>
          <p:nvPr>
            <p:ph/>
          </p:nvPr>
        </p:nvSpPr>
        <p:spPr>
          <a:xfrm>
            <a:off x="202680" y="3760200"/>
            <a:ext cx="8642520" cy="226692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193680"/>
            <a:ext cx="9144000" cy="822240"/>
          </a:xfrm>
          <a:prstGeom prst="rect">
            <a:avLst/>
          </a:prstGeom>
          <a:noFill/>
          <a:ln w="0">
            <a:noFill/>
          </a:ln>
        </p:spPr>
        <p:txBody>
          <a:bodyPr lIns="90360" rIns="90360" tIns="44280" bIns="442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title text format</a:t>
            </a:r>
            <a:endParaRPr b="1" lang="en-US" sz="3000" spc="-1" strike="noStrike">
              <a:solidFill>
                <a:srgbClr val="000000"/>
              </a:solidFill>
              <a:latin typeface="Arial"/>
            </a:endParaRPr>
          </a:p>
        </p:txBody>
      </p:sp>
      <p:sp>
        <p:nvSpPr>
          <p:cNvPr id="1" name="PlaceHolder 2"/>
          <p:cNvSpPr>
            <a:spLocks noGrp="1"/>
          </p:cNvSpPr>
          <p:nvPr>
            <p:ph type="body"/>
          </p:nvPr>
        </p:nvSpPr>
        <p:spPr>
          <a:xfrm>
            <a:off x="202680" y="1277640"/>
            <a:ext cx="8642520" cy="4753080"/>
          </a:xfrm>
          <a:prstGeom prst="rect">
            <a:avLst/>
          </a:prstGeom>
          <a:noFill/>
          <a:ln w="0">
            <a:noFill/>
          </a:ln>
        </p:spPr>
        <p:txBody>
          <a:bodyPr lIns="90360" rIns="90360" tIns="44280" bIns="44280" anchor="t">
            <a:normAutofit/>
          </a:bodyPr>
          <a:p>
            <a:pPr marL="230040" indent="-230040">
              <a:buClr>
                <a:srgbClr val="000000"/>
              </a:buClr>
              <a:buSzPct val="88000"/>
              <a:buFont typeface="Monaco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630360" indent="-285840">
              <a:buClr>
                <a:srgbClr val="000000"/>
              </a:buClr>
              <a:buFont typeface="Monaco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973080" indent="-228600">
              <a:buClr>
                <a:srgbClr val="000000"/>
              </a:buClr>
              <a:buSzPct val="68000"/>
              <a:buFont typeface="Monaco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316160" indent="-228600">
              <a:buClr>
                <a:srgbClr val="000000"/>
              </a:buClr>
              <a:buFont typeface="Monaco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1658880" indent="-228600">
              <a:buClr>
                <a:srgbClr val="000000"/>
              </a:buClr>
              <a:buFont typeface="Monaco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1658880" indent="-228600">
              <a:buClr>
                <a:srgbClr val="000000"/>
              </a:buClr>
              <a:buFont typeface="Monaco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1658880" indent="-228600">
              <a:buClr>
                <a:srgbClr val="000000"/>
              </a:buClr>
              <a:buFont typeface="Monaco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2" name=""/>
          <p:cNvSpPr/>
          <p:nvPr/>
        </p:nvSpPr>
        <p:spPr>
          <a:xfrm>
            <a:off x="0" y="1117440"/>
            <a:ext cx="9144000" cy="0"/>
          </a:xfrm>
          <a:prstGeom prst="line">
            <a:avLst/>
          </a:prstGeom>
          <a:ln w="50760">
            <a:solidFill>
              <a:srgbClr val="ff0a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a:off x="8738640" y="-20520"/>
            <a:ext cx="610560" cy="2156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084A90-F9CB-4CEA-ADC4-C6A6DFF8B1B7}" type="slidenum">
              <a:rPr b="0" lang="en-US" sz="800" spc="-1" strike="noStrike">
                <a:solidFill>
                  <a:srgbClr val="6666ff"/>
                </a:solidFill>
                <a:latin typeface="Times New Roman"/>
              </a:rPr>
              <a:t>&lt;number&gt;</a:t>
            </a:fld>
            <a:endParaRPr b="0" lang="en-US" sz="800" spc="-1" strike="noStrike">
              <a:solidFill>
                <a:srgbClr val="000000"/>
              </a:solidFill>
              <a:latin typeface="Times New Roman"/>
            </a:endParaRPr>
          </a:p>
        </p:txBody>
      </p:sp>
      <p:pic>
        <p:nvPicPr>
          <p:cNvPr id="4" name="" descr=""/>
          <p:cNvPicPr/>
          <p:nvPr/>
        </p:nvPicPr>
        <p:blipFill>
          <a:blip r:embed="rId2"/>
          <a:stretch/>
        </p:blipFill>
        <p:spPr>
          <a:xfrm>
            <a:off x="8218440" y="6572160"/>
            <a:ext cx="787320" cy="252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360" rIns="90360" tIns="44280" bIns="442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title text format</a:t>
            </a:r>
            <a:endParaRPr b="1" lang="en-US" sz="3000" spc="-1" strike="noStrike">
              <a:solidFill>
                <a:srgbClr val="000000"/>
              </a:solidFill>
              <a:latin typeface="Arial"/>
            </a:endParaRPr>
          </a:p>
        </p:txBody>
      </p:sp>
      <p:sp>
        <p:nvSpPr>
          <p:cNvPr id="42" name=""/>
          <p:cNvSpPr/>
          <p:nvPr/>
        </p:nvSpPr>
        <p:spPr>
          <a:xfrm>
            <a:off x="8738640" y="-20520"/>
            <a:ext cx="610560" cy="2156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FDC717-37CF-464B-A00F-E8A400EB425E}" type="slidenum">
              <a:rPr b="0" lang="en-US" sz="800" spc="-1" strike="noStrike">
                <a:solidFill>
                  <a:srgbClr val="6666ff"/>
                </a:solidFill>
                <a:latin typeface="Times New Roman"/>
              </a:rPr>
              <a:t>&lt;number&gt;</a:t>
            </a:fld>
            <a:endParaRPr b="0" lang="en-US" sz="800" spc="-1" strike="noStrike">
              <a:solidFill>
                <a:srgbClr val="000000"/>
              </a:solidFill>
              <a:latin typeface="Times New Roman"/>
            </a:endParaRPr>
          </a:p>
        </p:txBody>
      </p:sp>
      <p:pic>
        <p:nvPicPr>
          <p:cNvPr id="43" name="" descr=""/>
          <p:cNvPicPr/>
          <p:nvPr/>
        </p:nvPicPr>
        <p:blipFill>
          <a:blip r:embed="rId2"/>
          <a:stretch/>
        </p:blipFill>
        <p:spPr>
          <a:xfrm>
            <a:off x="173160" y="6572160"/>
            <a:ext cx="787320" cy="252360"/>
          </a:xfrm>
          <a:prstGeom prst="rect">
            <a:avLst/>
          </a:prstGeom>
          <a:ln w="0">
            <a:noFill/>
          </a:ln>
        </p:spPr>
      </p:pic>
      <p:sp>
        <p:nvSpPr>
          <p:cNvPr id="4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344520"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744480" algn="ctr">
              <a:buClr>
                <a:srgbClr val="000000"/>
              </a:buClr>
              <a:buSzPct val="68000"/>
              <a:buFont typeface="Monaco C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rd Outline Level</a:t>
            </a:r>
            <a:endParaRPr b="1" lang="en-US" sz="1800" spc="-1" strike="noStrike">
              <a:solidFill>
                <a:srgbClr val="000000"/>
              </a:solidFill>
              <a:latin typeface="Arial"/>
            </a:endParaRPr>
          </a:p>
          <a:p>
            <a:pPr lvl="3" marL="1087560" algn="ctr">
              <a:buClr>
                <a:srgbClr val="000000"/>
              </a:buClr>
              <a:buFont typeface="Monaco CE"/>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urth Outline Level</a:t>
            </a:r>
            <a:endParaRPr b="1" lang="en-US" sz="1600" spc="-1" strike="noStrike">
              <a:solidFill>
                <a:srgbClr val="000000"/>
              </a:solidFill>
              <a:latin typeface="Arial"/>
            </a:endParaRPr>
          </a:p>
          <a:p>
            <a:pPr lvl="4" marL="1430280" algn="ctr">
              <a:buClr>
                <a:srgbClr val="000000"/>
              </a:buClr>
              <a:buFont typeface="Monaco CE"/>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fth Outline Level</a:t>
            </a:r>
            <a:endParaRPr b="1" lang="en-US" sz="1600" spc="-1" strike="noStrike">
              <a:solidFill>
                <a:srgbClr val="000000"/>
              </a:solidFill>
              <a:latin typeface="Arial"/>
            </a:endParaRPr>
          </a:p>
          <a:p>
            <a:pPr lvl="5" marL="1430280">
              <a:spcBef>
                <a:spcPts val="400"/>
              </a:spcBef>
              <a:buClr>
                <a:srgbClr val="000000"/>
              </a:buClr>
              <a:buFont typeface="Monaco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xth Outline Level</a:t>
            </a:r>
            <a:endParaRPr b="1" lang="en-US" sz="1600" spc="-1" strike="noStrike">
              <a:solidFill>
                <a:srgbClr val="000000"/>
              </a:solidFill>
              <a:latin typeface="Arial"/>
            </a:endParaRPr>
          </a:p>
          <a:p>
            <a:pPr lvl="6" marL="1430280">
              <a:spcBef>
                <a:spcPts val="400"/>
              </a:spcBef>
              <a:buClr>
                <a:srgbClr val="000000"/>
              </a:buClr>
              <a:buFont typeface="Monaco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venth Outline Level</a:t>
            </a:r>
            <a:endParaRPr b="1"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hyperlink" Target="http://oval.mitre.org/compatible/declarations.html"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hyperlink" Target="http://oval.mitre.org/oval/schema/" TargetMode="External"/><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hyperlink" Target="http://oval.mitre.org/oval/schema/" TargetMode="External"/><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hyperlink" Target="http://oval.mitre.org/oval/schema/" TargetMode="External"/><Relationship Id="rId2" Type="http://schemas.openxmlformats.org/officeDocument/2006/relationships/hyperlink" Target="http://oval.mitre.org/oval/schema/" TargetMode="External"/><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3.pct"/><Relationship Id="rId11" Type="http://schemas.openxmlformats.org/officeDocument/2006/relationships/image" Target="../media/image2.png"/><Relationship Id="rId12" Type="http://schemas.openxmlformats.org/officeDocument/2006/relationships/image" Target="../media/image3.pct"/><Relationship Id="rId13" Type="http://schemas.openxmlformats.org/officeDocument/2006/relationships/image" Target="../media/image4.png"/><Relationship Id="rId14" Type="http://schemas.openxmlformats.org/officeDocument/2006/relationships/image" Target="../media/image4.png"/><Relationship Id="rId15" Type="http://schemas.openxmlformats.org/officeDocument/2006/relationships/image" Target="../media/image4.png"/><Relationship Id="rId16" Type="http://schemas.openxmlformats.org/officeDocument/2006/relationships/image" Target="../media/image2.png"/><Relationship Id="rId17" Type="http://schemas.openxmlformats.org/officeDocument/2006/relationships/image" Target="../media/image2.png"/><Relationship Id="rId18" Type="http://schemas.openxmlformats.org/officeDocument/2006/relationships/image" Target="../media/image2.png"/><Relationship Id="rId19" Type="http://schemas.openxmlformats.org/officeDocument/2006/relationships/image" Target="../media/image2.png"/><Relationship Id="rId20" Type="http://schemas.openxmlformats.org/officeDocument/2006/relationships/image" Target="../media/image2.png"/><Relationship Id="rId21" Type="http://schemas.openxmlformats.org/officeDocument/2006/relationships/image" Target="../media/image2.png"/><Relationship Id="rId22" Type="http://schemas.openxmlformats.org/officeDocument/2006/relationships/image" Target="../media/image4.png"/><Relationship Id="rId23"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image" Target="../media/image12.png"/><Relationship Id="rId8" Type="http://schemas.openxmlformats.org/officeDocument/2006/relationships/image" Target="../media/image13.png"/><Relationship Id="rId9" Type="http://schemas.openxmlformats.org/officeDocument/2006/relationships/image" Target="../media/image14.png"/><Relationship Id="rId10" Type="http://schemas.openxmlformats.org/officeDocument/2006/relationships/image" Target="../media/image15.png"/><Relationship Id="rId11" Type="http://schemas.openxmlformats.org/officeDocument/2006/relationships/image" Target="../media/image16.png"/><Relationship Id="rId12" Type="http://schemas.openxmlformats.org/officeDocument/2006/relationships/image" Target="../media/image17.png"/><Relationship Id="rId13" Type="http://schemas.openxmlformats.org/officeDocument/2006/relationships/image" Target="../media/image18.png"/><Relationship Id="rId14" Type="http://schemas.openxmlformats.org/officeDocument/2006/relationships/image" Target="../media/image19.png"/><Relationship Id="rId1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http://www.mitre.org/" TargetMode="External"/><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hyperlink" Target="http://oval.mitre.org/oval/schema/" TargetMode="External"/><Relationship Id="rId2" Type="http://schemas.openxmlformats.org/officeDocument/2006/relationships/hyperlink" Target="http://oval.mitre.org/community/board/" TargetMode="External"/><Relationship Id="rId3" Type="http://schemas.openxmlformats.org/officeDocument/2006/relationships/hyperlink" Target="http://oval.mitre.org/oval/schema/" TargetMode="External"/><Relationship Id="rId4" Type="http://schemas.openxmlformats.org/officeDocument/2006/relationships/hyperlink" Target="http://oval.mitre.org/oval/schema/" TargetMode="External"/><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317160" y="593640"/>
            <a:ext cx="8420040" cy="3006720"/>
          </a:xfrm>
          <a:prstGeom prst="rect">
            <a:avLst/>
          </a:prstGeom>
          <a:noFill/>
          <a:ln w="0">
            <a:noFill/>
          </a:ln>
        </p:spPr>
        <p:txBody>
          <a:bodyPr lIns="90360" rIns="90360" tIns="44280" bIns="44280" anchor="ctr">
            <a:noAutofit/>
          </a:bodyPr>
          <a:p>
            <a:pPr indent="0">
              <a:lnSpc>
                <a:spcPct val="80000"/>
              </a:lnSpc>
              <a:buNone/>
              <a:tabLst>
                <a:tab algn="l" pos="0"/>
                <a:tab algn="l" pos="194328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1:00 - 2:45  v5 working session </a:t>
            </a:r>
            <a:br>
              <a:rPr sz="3000"/>
            </a:br>
            <a:br>
              <a:rPr sz="3000"/>
            </a:br>
            <a:br>
              <a:rPr sz="3000"/>
            </a:br>
            <a:r>
              <a:rPr b="0" i="1" lang="en-US" sz="3000" spc="-1" strike="noStrike">
                <a:solidFill>
                  <a:srgbClr val="000000"/>
                </a:solidFill>
                <a:latin typeface="Times New Roman"/>
              </a:rPr>
              <a:t>TRACK 2  - </a:t>
            </a:r>
            <a:r>
              <a:rPr b="0" i="1" lang="en-US" sz="3000" spc="-1" strike="noStrike">
                <a:solidFill>
                  <a:srgbClr val="000000"/>
                </a:solidFill>
                <a:latin typeface="Times New Roman"/>
              </a:rPr>
              <a:t>	</a:t>
            </a:r>
            <a:r>
              <a:rPr b="0" i="1" lang="en-US" sz="3000" spc="-1" strike="noStrike">
                <a:solidFill>
                  <a:srgbClr val="000000"/>
                </a:solidFill>
                <a:latin typeface="Times New Roman"/>
              </a:rPr>
              <a:t>Discuss  requirements for OVAL </a:t>
            </a:r>
            <a:br>
              <a:rPr sz="3000"/>
            </a:br>
            <a:r>
              <a:rPr b="0" i="1" lang="en-US" sz="3000" spc="-1" strike="noStrike">
                <a:solidFill>
                  <a:srgbClr val="000000"/>
                </a:solidFill>
                <a:latin typeface="Times New Roman"/>
              </a:rPr>
              <a:t>	</a:t>
            </a:r>
            <a:r>
              <a:rPr b="0" i="1" lang="en-US" sz="3000" spc="-1" strike="noStrike">
                <a:solidFill>
                  <a:srgbClr val="000000"/>
                </a:solidFill>
                <a:latin typeface="Times New Roman"/>
              </a:rPr>
              <a:t>Compatibility</a:t>
            </a:r>
            <a:br>
              <a:rPr sz="3000"/>
            </a:br>
            <a:endParaRPr b="1" lang="en-US" sz="3000" spc="-1" strike="noStrike">
              <a:solidFill>
                <a:srgbClr val="000000"/>
              </a:solidFill>
              <a:latin typeface="Arial"/>
            </a:endParaRPr>
          </a:p>
        </p:txBody>
      </p:sp>
      <p:sp>
        <p:nvSpPr>
          <p:cNvPr id="82" name="PlaceHolder 2"/>
          <p:cNvSpPr>
            <a:spLocks noGrp="1"/>
          </p:cNvSpPr>
          <p:nvPr>
            <p:ph type="subTitle"/>
          </p:nvPr>
        </p:nvSpPr>
        <p:spPr>
          <a:xfrm>
            <a:off x="291600" y="3847680"/>
            <a:ext cx="7899480" cy="1752840"/>
          </a:xfrm>
          <a:prstGeom prst="rect">
            <a:avLst/>
          </a:prstGeom>
          <a:noFill/>
          <a:ln w="0">
            <a:noFill/>
          </a:ln>
        </p:spPr>
        <p:txBody>
          <a:bodyPr lIns="90360" rIns="90360" tIns="44280" bIns="44280" anchor="t">
            <a:noAutofit/>
          </a:bodyPr>
          <a:p>
            <a:pPr lvl="2" marL="744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r>
              <a:rPr b="0" lang="en-US" sz="1800" spc="-1" strike="noStrike">
                <a:solidFill>
                  <a:srgbClr val="000000"/>
                </a:solidFill>
                <a:latin typeface="Courier New"/>
              </a:rPr>
              <a:t>	</a:t>
            </a:r>
            <a:r>
              <a:rPr b="0" lang="en-US" sz="1800" spc="-1" strike="noStrike">
                <a:solidFill>
                  <a:srgbClr val="000000"/>
                </a:solidFill>
                <a:latin typeface="Times New Roman"/>
              </a:rPr>
              <a:t>Topics:</a:t>
            </a:r>
            <a:endParaRPr b="1" lang="en-US" sz="1800" spc="-1" strike="noStrike">
              <a:solidFill>
                <a:srgbClr val="000000"/>
              </a:solidFill>
              <a:latin typeface="Arial"/>
            </a:endParaRPr>
          </a:p>
          <a:p>
            <a:pPr lvl="3" marL="1087560">
              <a:lnSpc>
                <a:spcPct val="100000"/>
              </a:lnSpc>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Wingdings"/>
                <a:ea typeface="Wingdings"/>
              </a:rPr>
              <a:t></a:t>
            </a:r>
            <a:r>
              <a:rPr b="0" lang="en-US" sz="1600" spc="-1" strike="noStrike">
                <a:solidFill>
                  <a:srgbClr val="000000"/>
                </a:solidFill>
                <a:latin typeface="Times New Roman"/>
              </a:rPr>
              <a:t>relation to the Definition, System Characteristic, and Results Schemas</a:t>
            </a:r>
            <a:endParaRPr b="1" lang="en-US" sz="1600" spc="-1" strike="noStrike">
              <a:solidFill>
                <a:srgbClr val="000000"/>
              </a:solidFill>
              <a:latin typeface="Arial"/>
            </a:endParaRPr>
          </a:p>
          <a:p>
            <a:pPr lvl="3" marL="1087560">
              <a:lnSpc>
                <a:spcPct val="100000"/>
              </a:lnSpc>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Wingdings"/>
                <a:ea typeface="Wingdings"/>
              </a:rPr>
              <a:t></a:t>
            </a:r>
            <a:r>
              <a:rPr b="0" lang="en-US" sz="1600" spc="-1" strike="noStrike">
                <a:solidFill>
                  <a:srgbClr val="000000"/>
                </a:solidFill>
                <a:latin typeface="Times New Roman"/>
              </a:rPr>
              <a:t>meaning of compatibility to producers and consumers</a:t>
            </a:r>
            <a:endParaRPr b="1" lang="en-US" sz="1600" spc="-1" strike="noStrike">
              <a:solidFill>
                <a:srgbClr val="000000"/>
              </a:solidFill>
              <a:latin typeface="Arial"/>
            </a:endParaRPr>
          </a:p>
          <a:p>
            <a:pPr lvl="3" marL="1087560">
              <a:lnSpc>
                <a:spcPct val="100000"/>
              </a:lnSpc>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Wingdings"/>
                <a:ea typeface="Wingdings"/>
              </a:rPr>
              <a:t></a:t>
            </a:r>
            <a:r>
              <a:rPr b="0" lang="en-US" sz="1600" spc="-1" strike="noStrike">
                <a:solidFill>
                  <a:srgbClr val="000000"/>
                </a:solidFill>
                <a:latin typeface="Times New Roman"/>
              </a:rPr>
              <a:t>verification options to test compatibility</a:t>
            </a:r>
            <a:endParaRPr b="1" lang="en-US" sz="1600" spc="-1" strike="noStrike">
              <a:solidFill>
                <a:srgbClr val="000000"/>
              </a:solidFill>
              <a:latin typeface="Arial"/>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7" name="PlaceHolder 1"/>
          <p:cNvSpPr>
            <a:spLocks noGrp="1"/>
          </p:cNvSpPr>
          <p:nvPr>
            <p:ph type="title"/>
          </p:nvPr>
        </p:nvSpPr>
        <p:spPr>
          <a:xfrm>
            <a:off x="0" y="193680"/>
            <a:ext cx="9144000" cy="822240"/>
          </a:xfrm>
          <a:prstGeom prst="rect">
            <a:avLst/>
          </a:prstGeom>
          <a:noFill/>
          <a:ln w="0">
            <a:noFill/>
          </a:ln>
        </p:spPr>
        <p:txBody>
          <a:bodyPr lIns="90360" rIns="90360" tIns="44280" bIns="442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AL Compatibility </a:t>
            </a:r>
            <a:br>
              <a:rPr sz="3000"/>
            </a:br>
            <a:r>
              <a:rPr b="1" lang="en-US" sz="3000" spc="-1" strike="noStrike">
                <a:solidFill>
                  <a:srgbClr val="000000"/>
                </a:solidFill>
                <a:latin typeface="Arial"/>
              </a:rPr>
              <a:t>Examples</a:t>
            </a:r>
            <a:endParaRPr b="1" lang="en-US" sz="3000" spc="-1" strike="noStrike">
              <a:solidFill>
                <a:srgbClr val="000000"/>
              </a:solidFill>
              <a:latin typeface="Arial"/>
            </a:endParaRPr>
          </a:p>
        </p:txBody>
      </p:sp>
      <p:sp>
        <p:nvSpPr>
          <p:cNvPr id="818" name=""/>
          <p:cNvSpPr/>
          <p:nvPr/>
        </p:nvSpPr>
        <p:spPr>
          <a:xfrm>
            <a:off x="50760" y="1111320"/>
            <a:ext cx="9015480" cy="533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 Examples of OVAL Compatibilit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latest declarations of OVAL compatibility from organizations around the world are available on the </a:t>
            </a:r>
            <a:r>
              <a:rPr b="0" lang="en-US" sz="1000" spc="-1" strike="noStrike" u="sng">
                <a:solidFill>
                  <a:srgbClr val="fc0128"/>
                </a:solidFill>
                <a:uFillTx/>
                <a:latin typeface="Arial"/>
                <a:hlinkClick r:id="rId1"/>
              </a:rPr>
              <a:t>Declarations of OVAL Compatibility</a:t>
            </a:r>
            <a:r>
              <a:rPr b="0" lang="en-US" sz="1000" spc="-1" strike="noStrike">
                <a:solidFill>
                  <a:srgbClr val="000000"/>
                </a:solidFill>
                <a:latin typeface="Arial"/>
              </a:rPr>
              <a:t> page on the OVAL Web site. Below are examples of entities that would meet the requirements of OVAL compatibility listed in </a:t>
            </a:r>
            <a:r>
              <a:rPr b="0" lang="en-US" sz="1000" spc="-1" strike="noStrike" u="sng">
                <a:solidFill>
                  <a:srgbClr val="0000ff"/>
                </a:solidFill>
                <a:uFillTx/>
                <a:latin typeface="Arial"/>
              </a:rPr>
              <a:t>Section 4, "Specific OVAL Compatibility Requirements"</a:t>
            </a:r>
            <a:r>
              <a:rPr b="0" lang="en-US" sz="1000" spc="-1" strike="noStrike">
                <a:solidFill>
                  <a:srgbClr val="000000"/>
                </a:solidFill>
                <a:latin typeface="Arial"/>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349200" indent="-174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tool that relies upon OVAL definitions to conduct an assessment of a system is called an OVAL-compatible assessment tool.  In addition to using OVAL definitions for defining its tests, an OVAL-compatible assessment tool is able to store its test results following the OVAL Results Schema structure.  An OVAL-compatible assessment tool could assess vulnerability, patch, and/or configuration definitions. </a:t>
            </a:r>
            <a:endParaRPr b="0" lang="en-US" sz="1000" spc="-1" strike="noStrike">
              <a:solidFill>
                <a:srgbClr val="000000"/>
              </a:solidFill>
              <a:latin typeface="Times New Roman"/>
            </a:endParaRPr>
          </a:p>
          <a:p>
            <a:pPr lvl="1" marL="349200" indent="-174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349200" indent="-174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other area of OVAL compatibility covers the collection of the information that is used to evaluate the OVAL definition tests. An OVAL-compatible assessment tool might collect or read the various file system information and settings as it assesses systems, or the information can be collected ahead of time and stored in conformance to the OVAL Systems Characteristics Schema. Then the OVAL-compatible assessment tool can read in the data in accordance to the  OVAL systems characteristics schema and evaluate the OVAL definitions against the stored data. Tools that collect and export information in accordance to the OVAL Systems Characteristics schema are another type of OVAL-compatible tools.</a:t>
            </a:r>
            <a:endParaRPr b="0" lang="en-US" sz="1000" spc="-1" strike="noStrike">
              <a:solidFill>
                <a:srgbClr val="000000"/>
              </a:solidFill>
              <a:latin typeface="Times New Roman"/>
            </a:endParaRPr>
          </a:p>
          <a:p>
            <a:pPr lvl="1" marL="349200" indent="-174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349200" indent="-174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ols that can use the OVAL Results information are third type of OVAL-compatible tools. For example, a tool that uses the information stored in OVAL Results to construct an enterprise report on vulnerability status or recommends remediation approaches would be in this third type of OVAL compatibility. Likewise, a certification and accreditation report creation tool that uses the information in OVAL Results would also be in this category.</a:t>
            </a:r>
            <a:endParaRPr b="0" lang="en-US" sz="1000" spc="-1" strike="noStrike">
              <a:solidFill>
                <a:srgbClr val="000000"/>
              </a:solidFill>
              <a:latin typeface="Times New Roman"/>
            </a:endParaRPr>
          </a:p>
          <a:p>
            <a:pPr lvl="1" marL="349200" indent="-174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349200" indent="-174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fourth type of OVAL compatibility is for organizations that create and publish OVAL definitions in advisories, bulletins, or configuration checklist, including the software suppliers, security research organizations, or security vendors that create OVAL definitions of how to test for a specific machine state (e.g. the presence of a vulnerability, the applicability or a patch, or conformance with specific configuration settings) that they are describing in their advisory, bulletin, or checklist.</a:t>
            </a:r>
            <a:endParaRPr b="0" lang="en-US" sz="1000" spc="-1" strike="noStrike">
              <a:solidFill>
                <a:srgbClr val="000000"/>
              </a:solidFill>
              <a:latin typeface="Times New Roman"/>
            </a:endParaRPr>
          </a:p>
          <a:p>
            <a:pPr lvl="1" marL="349200" indent="-174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349200" indent="-174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s implied above, using the same types of file system information and configuration parameters, OVAL definitions can be constructed to test whether a particular patch is appropriate for a system. This is different than asking whether a particular system is exploitable by a particular vulnerability, since any one of several possible fixes, patches, or workarounds can address a vulnerability. Determining whether a particular patch can and should be applied to a system by determining whether the vulnerability is there and the prerequisites for the patch are also there, is a different and important question that OVAL addresses.</a:t>
            </a:r>
            <a:endParaRPr b="0" lang="en-US" sz="1000" spc="-1" strike="noStrike">
              <a:solidFill>
                <a:srgbClr val="000000"/>
              </a:solidFill>
              <a:latin typeface="Times New Roman"/>
            </a:endParaRPr>
          </a:p>
          <a:p>
            <a:pPr lvl="1" marL="349200" indent="-174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349200" indent="-174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imilarly, the same types of information can be used to check the configuration settings of a system. Determining whether a particular service is running, a port is open, or a password is of at least a particular length are examples of configuration checks that can be tested for through OVAL definitions.</a:t>
            </a:r>
            <a:endParaRPr b="0" lang="en-US" sz="10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9" name="PlaceHolder 1"/>
          <p:cNvSpPr>
            <a:spLocks noGrp="1"/>
          </p:cNvSpPr>
          <p:nvPr>
            <p:ph/>
          </p:nvPr>
        </p:nvSpPr>
        <p:spPr>
          <a:xfrm>
            <a:off x="203040" y="1145880"/>
            <a:ext cx="4708800" cy="4964040"/>
          </a:xfrm>
          <a:prstGeom prst="rect">
            <a:avLst/>
          </a:prstGeom>
          <a:noFill/>
          <a:ln w="0">
            <a:noFill/>
          </a:ln>
        </p:spPr>
        <p:txBody>
          <a:bodyPr lIns="90360" rIns="90360" tIns="44280" bIns="44280" anchor="t">
            <a:normAutofit fontScale="92000"/>
          </a:bodyPr>
          <a:p>
            <a:pPr marL="157320" indent="-157320">
              <a:buClr>
                <a:srgbClr val="000000"/>
              </a:buClr>
              <a:buSzPct val="88000"/>
              <a:buFont typeface="Monaco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cSight, Inc. </a:t>
            </a:r>
            <a:r>
              <a:rPr b="0" lang="en-US" sz="1200" spc="-1" strike="noStrike">
                <a:solidFill>
                  <a:srgbClr val="000000"/>
                </a:solidFill>
                <a:latin typeface="Arial"/>
              </a:rPr>
              <a:t>	</a:t>
            </a:r>
            <a:endParaRPr b="1" lang="en-US" sz="1200" spc="-1" strike="noStrike">
              <a:solidFill>
                <a:srgbClr val="000000"/>
              </a:solidFill>
              <a:latin typeface="Arial"/>
            </a:endParaRPr>
          </a:p>
          <a:p>
            <a:pPr lvl="1" marL="411840" indent="-149040">
              <a:buClr>
                <a:srgbClr val="000000"/>
              </a:buClr>
              <a:buFont typeface="Monaco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cSight 3.0</a:t>
            </a:r>
            <a:endParaRPr b="1" lang="en-US" sz="1200" spc="-1" strike="noStrike">
              <a:solidFill>
                <a:srgbClr val="000000"/>
              </a:solidFill>
              <a:latin typeface="Arial"/>
            </a:endParaRPr>
          </a:p>
          <a:p>
            <a:pPr marL="157320" indent="-157320">
              <a:buClr>
                <a:srgbClr val="000000"/>
              </a:buClr>
              <a:buSzPct val="88000"/>
              <a:buFont typeface="Monaco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Eye Digital Security</a:t>
            </a:r>
            <a:endParaRPr b="1" lang="en-US" sz="1200" spc="-1" strike="noStrike">
              <a:solidFill>
                <a:srgbClr val="000000"/>
              </a:solidFill>
              <a:latin typeface="Arial"/>
            </a:endParaRPr>
          </a:p>
          <a:p>
            <a:pPr lvl="1" marL="411840" indent="-149040">
              <a:buClr>
                <a:srgbClr val="000000"/>
              </a:buClr>
              <a:buFont typeface="Monaco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 Security Management Console</a:t>
            </a:r>
            <a:endParaRPr b="1" lang="en-US" sz="1200" spc="-1" strike="noStrike">
              <a:solidFill>
                <a:srgbClr val="000000"/>
              </a:solidFill>
              <a:latin typeface="Arial"/>
            </a:endParaRPr>
          </a:p>
          <a:p>
            <a:pPr lvl="1" marL="411840" indent="-149040">
              <a:buClr>
                <a:srgbClr val="000000"/>
              </a:buClr>
              <a:buFont typeface="Monaco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tina Network Security Scanner</a:t>
            </a:r>
            <a:endParaRPr b="1" lang="en-US" sz="1200" spc="-1" strike="noStrike">
              <a:solidFill>
                <a:srgbClr val="000000"/>
              </a:solidFill>
              <a:latin typeface="Arial"/>
            </a:endParaRPr>
          </a:p>
          <a:p>
            <a:pPr marL="157320" indent="-157320">
              <a:buClr>
                <a:srgbClr val="000000"/>
              </a:buClr>
              <a:buSzPct val="88000"/>
              <a:buFont typeface="Monaco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tadel Security Software Inc.</a:t>
            </a:r>
            <a:endParaRPr b="1" lang="en-US" sz="1200" spc="-1" strike="noStrike">
              <a:solidFill>
                <a:srgbClr val="000000"/>
              </a:solidFill>
              <a:latin typeface="Arial"/>
            </a:endParaRPr>
          </a:p>
          <a:p>
            <a:pPr lvl="1" marL="411840" indent="-149040">
              <a:buClr>
                <a:srgbClr val="000000"/>
              </a:buClr>
              <a:buFont typeface="Monaco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cules  </a:t>
            </a:r>
            <a:endParaRPr b="1" lang="en-US" sz="1200" spc="-1" strike="noStrike">
              <a:solidFill>
                <a:srgbClr val="000000"/>
              </a:solidFill>
              <a:latin typeface="Arial"/>
            </a:endParaRPr>
          </a:p>
          <a:p>
            <a:pPr marL="157320" indent="-157320">
              <a:buClr>
                <a:srgbClr val="000000"/>
              </a:buClr>
              <a:buSzPct val="88000"/>
              <a:buFont typeface="Monaco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alys, Inc.</a:t>
            </a:r>
            <a:endParaRPr b="1" lang="en-US" sz="1200" spc="-1" strike="noStrike">
              <a:solidFill>
                <a:srgbClr val="000000"/>
              </a:solidFill>
              <a:latin typeface="Arial"/>
            </a:endParaRPr>
          </a:p>
          <a:p>
            <a:pPr lvl="1" marL="411840" indent="-149040">
              <a:buClr>
                <a:srgbClr val="000000"/>
              </a:buClr>
              <a:buFont typeface="Monaco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alysGuard Consultant  </a:t>
            </a:r>
            <a:endParaRPr b="1" lang="en-US" sz="1200" spc="-1" strike="noStrike">
              <a:solidFill>
                <a:srgbClr val="000000"/>
              </a:solidFill>
              <a:latin typeface="Arial"/>
            </a:endParaRPr>
          </a:p>
          <a:p>
            <a:pPr lvl="1" marL="411840" indent="-149040">
              <a:buClr>
                <a:srgbClr val="000000"/>
              </a:buClr>
              <a:buFont typeface="Monaco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alysGuard Enterprise  </a:t>
            </a:r>
            <a:endParaRPr b="1" lang="en-US" sz="1200" spc="-1" strike="noStrike">
              <a:solidFill>
                <a:srgbClr val="000000"/>
              </a:solidFill>
              <a:latin typeface="Arial"/>
            </a:endParaRPr>
          </a:p>
          <a:p>
            <a:pPr lvl="1" marL="411840" indent="-149040">
              <a:buClr>
                <a:srgbClr val="000000"/>
              </a:buClr>
              <a:buFont typeface="Monaco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alysGuard Express  </a:t>
            </a:r>
            <a:endParaRPr b="1" lang="en-US" sz="1200" spc="-1" strike="noStrike">
              <a:solidFill>
                <a:srgbClr val="000000"/>
              </a:solidFill>
              <a:latin typeface="Arial"/>
            </a:endParaRPr>
          </a:p>
          <a:p>
            <a:pPr lvl="1" marL="411840" indent="-149040">
              <a:buClr>
                <a:srgbClr val="000000"/>
              </a:buClr>
              <a:buFont typeface="Monaco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alysGuard MSP  </a:t>
            </a:r>
            <a:endParaRPr b="1" lang="en-US" sz="1200" spc="-1" strike="noStrike">
              <a:solidFill>
                <a:srgbClr val="000000"/>
              </a:solidFill>
              <a:latin typeface="Arial"/>
            </a:endParaRPr>
          </a:p>
          <a:p>
            <a:pPr marL="157320" indent="-157320">
              <a:buClr>
                <a:srgbClr val="000000"/>
              </a:buClr>
              <a:buSzPct val="88000"/>
              <a:buFont typeface="Monaco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tClarity (formerly PredatorWatch, Inc.)</a:t>
            </a:r>
            <a:endParaRPr b="1" lang="en-US" sz="1200" spc="-1" strike="noStrike">
              <a:solidFill>
                <a:srgbClr val="000000"/>
              </a:solidFill>
              <a:latin typeface="Arial"/>
            </a:endParaRPr>
          </a:p>
          <a:p>
            <a:pPr lvl="1" marL="411840" indent="-149040">
              <a:buClr>
                <a:srgbClr val="000000"/>
              </a:buClr>
              <a:buFont typeface="Monaco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ditor 128  </a:t>
            </a:r>
            <a:endParaRPr b="1" lang="en-US" sz="1200" spc="-1" strike="noStrike">
              <a:solidFill>
                <a:srgbClr val="000000"/>
              </a:solidFill>
              <a:latin typeface="Arial"/>
            </a:endParaRPr>
          </a:p>
          <a:p>
            <a:pPr lvl="1" marL="411840" indent="-149040">
              <a:buClr>
                <a:srgbClr val="000000"/>
              </a:buClr>
              <a:buFont typeface="Monaco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ditor 16  </a:t>
            </a:r>
            <a:endParaRPr b="1" lang="en-US" sz="1200" spc="-1" strike="noStrike">
              <a:solidFill>
                <a:srgbClr val="000000"/>
              </a:solidFill>
              <a:latin typeface="Arial"/>
            </a:endParaRPr>
          </a:p>
          <a:p>
            <a:pPr lvl="1" marL="411840" indent="-149040">
              <a:buClr>
                <a:srgbClr val="000000"/>
              </a:buClr>
              <a:buFont typeface="Monaco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ditor Enterprise  </a:t>
            </a:r>
            <a:endParaRPr b="1" lang="en-US" sz="1200" spc="-1" strike="noStrike">
              <a:solidFill>
                <a:srgbClr val="000000"/>
              </a:solidFill>
              <a:latin typeface="Arial"/>
            </a:endParaRPr>
          </a:p>
          <a:p>
            <a:pPr marL="157320" indent="-157320">
              <a:buClr>
                <a:srgbClr val="000000"/>
              </a:buClr>
              <a:buSzPct val="88000"/>
              <a:buFont typeface="Monaco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eatGuard, Inc.</a:t>
            </a:r>
            <a:endParaRPr b="1" lang="en-US" sz="1200" spc="-1" strike="noStrike">
              <a:solidFill>
                <a:srgbClr val="000000"/>
              </a:solidFill>
              <a:latin typeface="Arial"/>
            </a:endParaRPr>
          </a:p>
          <a:p>
            <a:pPr lvl="1" marL="411840" indent="-149040">
              <a:buClr>
                <a:srgbClr val="000000"/>
              </a:buClr>
              <a:buFont typeface="Monaco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eatGuard Continuous Security Auditing and</a:t>
            </a:r>
            <a:endParaRPr b="1" lang="en-US" sz="1200" spc="-1" strike="noStrike">
              <a:solidFill>
                <a:srgbClr val="000000"/>
              </a:solidFill>
              <a:latin typeface="Arial"/>
            </a:endParaRPr>
          </a:p>
          <a:p>
            <a:pPr lvl="1" marL="4118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mpliance Management (CSA/CM) System</a:t>
            </a:r>
            <a:endParaRPr b="1" lang="en-US" sz="1200" spc="-1" strike="noStrike">
              <a:solidFill>
                <a:srgbClr val="000000"/>
              </a:solidFill>
              <a:latin typeface="Arial"/>
            </a:endParaRPr>
          </a:p>
          <a:p>
            <a:pPr marL="157320" indent="-157320">
              <a:buClr>
                <a:srgbClr val="000000"/>
              </a:buClr>
              <a:buSzPct val="88000"/>
              <a:buFont typeface="Monaco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ventsys, Inc.</a:t>
            </a:r>
            <a:endParaRPr b="1" lang="en-US" sz="1200" spc="-1" strike="noStrike">
              <a:solidFill>
                <a:srgbClr val="000000"/>
              </a:solidFill>
              <a:latin typeface="Arial"/>
            </a:endParaRPr>
          </a:p>
          <a:p>
            <a:pPr lvl="1" marL="411840" indent="-149040">
              <a:buClr>
                <a:srgbClr val="000000"/>
              </a:buClr>
              <a:buFont typeface="Monaco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ventsys Enterprise Security Management System</a:t>
            </a:r>
            <a:endParaRPr b="1" lang="en-US" sz="1200" spc="-1" strike="noStrike">
              <a:solidFill>
                <a:srgbClr val="000000"/>
              </a:solidFill>
              <a:latin typeface="Arial"/>
            </a:endParaRPr>
          </a:p>
          <a:p>
            <a:pPr marL="157320" indent="-157320">
              <a:buClr>
                <a:srgbClr val="000000"/>
              </a:buClr>
              <a:buSzPct val="88000"/>
              <a:buFont typeface="Monaco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ktopStandard Corporation</a:t>
            </a:r>
            <a:endParaRPr b="1" lang="en-US" sz="1200" spc="-1" strike="noStrike">
              <a:solidFill>
                <a:srgbClr val="000000"/>
              </a:solidFill>
              <a:latin typeface="Arial"/>
            </a:endParaRPr>
          </a:p>
          <a:p>
            <a:pPr lvl="1" marL="411840" indent="-149040">
              <a:buClr>
                <a:srgbClr val="000000"/>
              </a:buClr>
              <a:buFont typeface="Monaco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icyMaker Software Update</a:t>
            </a:r>
            <a:endParaRPr b="1" lang="en-US" sz="1200" spc="-1" strike="noStrike">
              <a:solidFill>
                <a:srgbClr val="000000"/>
              </a:solidFill>
              <a:latin typeface="Arial"/>
            </a:endParaRPr>
          </a:p>
          <a:p>
            <a:pPr lvl="1" marL="411840" indent="-149040">
              <a:buClr>
                <a:srgbClr val="000000"/>
              </a:buClr>
              <a:buFont typeface="Monaco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icyMaker Standard Edition</a:t>
            </a:r>
            <a:endParaRPr b="1" lang="en-US" sz="1200" spc="-1" strike="noStrike">
              <a:solidFill>
                <a:srgbClr val="000000"/>
              </a:solidFill>
              <a:latin typeface="Arial"/>
            </a:endParaRPr>
          </a:p>
          <a:p>
            <a:pPr lvl="1" marL="411840" indent="-149040">
              <a:buClr>
                <a:srgbClr val="000000"/>
              </a:buClr>
              <a:buFont typeface="Monaco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icyMaker Application Security</a:t>
            </a:r>
            <a:endParaRPr b="1" lang="en-US" sz="1200" spc="-1" strike="noStrike">
              <a:solidFill>
                <a:srgbClr val="000000"/>
              </a:solidFill>
              <a:latin typeface="Arial"/>
            </a:endParaRPr>
          </a:p>
          <a:p>
            <a:pPr lvl="1" marL="411840" indent="-149040">
              <a:buClr>
                <a:srgbClr val="000000"/>
              </a:buClr>
              <a:buFont typeface="Monaco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icyMaker Registry Extension</a:t>
            </a:r>
            <a:endParaRPr b="1" lang="en-US" sz="1200" spc="-1" strike="noStrike">
              <a:solidFill>
                <a:srgbClr val="000000"/>
              </a:solidFill>
              <a:latin typeface="Arial"/>
            </a:endParaRPr>
          </a:p>
          <a:p>
            <a:pPr marL="157320" indent="-157320">
              <a:buClr>
                <a:srgbClr val="000000"/>
              </a:buClr>
              <a:buSzPct val="88000"/>
              <a:buFont typeface="Monaco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Circle Network Security, Inc.</a:t>
            </a:r>
            <a:endParaRPr b="1" lang="en-US" sz="1200" spc="-1" strike="noStrike">
              <a:solidFill>
                <a:srgbClr val="000000"/>
              </a:solidFill>
              <a:latin typeface="Arial"/>
            </a:endParaRPr>
          </a:p>
          <a:p>
            <a:pPr lvl="1" marL="411840" indent="-149040">
              <a:buClr>
                <a:srgbClr val="000000"/>
              </a:buClr>
              <a:buFont typeface="Monaco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P360 Vulnerability Management System</a:t>
            </a:r>
            <a:endParaRPr b="1" lang="en-US" sz="1200" spc="-1" strike="noStrike">
              <a:solidFill>
                <a:srgbClr val="000000"/>
              </a:solidFill>
              <a:latin typeface="Arial"/>
            </a:endParaRPr>
          </a:p>
          <a:p>
            <a:pPr lvl="1" marL="411840" indent="-149040">
              <a:buClr>
                <a:srgbClr val="000000"/>
              </a:buClr>
              <a:buFont typeface="Monaco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Tellect for Cisco IDS   </a:t>
            </a:r>
            <a:endParaRPr b="1" lang="en-US" sz="1200" spc="-1" strike="noStrike">
              <a:solidFill>
                <a:srgbClr val="000000"/>
              </a:solidFill>
              <a:latin typeface="Arial"/>
            </a:endParaRPr>
          </a:p>
        </p:txBody>
      </p:sp>
      <p:sp>
        <p:nvSpPr>
          <p:cNvPr id="820" name="PlaceHolder 2"/>
          <p:cNvSpPr>
            <a:spLocks noGrp="1"/>
          </p:cNvSpPr>
          <p:nvPr>
            <p:ph type="title"/>
          </p:nvPr>
        </p:nvSpPr>
        <p:spPr>
          <a:xfrm>
            <a:off x="0" y="290520"/>
            <a:ext cx="9144000" cy="533520"/>
          </a:xfrm>
          <a:prstGeom prst="rect">
            <a:avLst/>
          </a:prstGeom>
          <a:noFill/>
          <a:ln w="0">
            <a:noFill/>
          </a:ln>
        </p:spPr>
        <p:txBody>
          <a:bodyPr lIns="90360" rIns="90360" tIns="44280" bIns="442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ganizations and their Capabilities with </a:t>
            </a:r>
            <a:br>
              <a:rPr sz="3000"/>
            </a:br>
            <a:r>
              <a:rPr b="1" lang="en-US" sz="3000" spc="-1" strike="noStrike">
                <a:solidFill>
                  <a:srgbClr val="000000"/>
                </a:solidFill>
                <a:latin typeface="Arial"/>
              </a:rPr>
              <a:t>OVAL Compatibility Declarations</a:t>
            </a:r>
            <a:endParaRPr b="1" lang="en-US" sz="3000" spc="-1" strike="noStrike">
              <a:solidFill>
                <a:srgbClr val="000000"/>
              </a:solidFill>
              <a:latin typeface="Arial"/>
            </a:endParaRPr>
          </a:p>
        </p:txBody>
      </p:sp>
      <p:sp>
        <p:nvSpPr>
          <p:cNvPr id="821" name=""/>
          <p:cNvSpPr/>
          <p:nvPr/>
        </p:nvSpPr>
        <p:spPr>
          <a:xfrm>
            <a:off x="7561440" y="685800"/>
            <a:ext cx="158436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s of 18 July 2005)</a:t>
            </a:r>
            <a:endParaRPr b="0" lang="en-US" sz="1200" spc="-1" strike="noStrike">
              <a:solidFill>
                <a:srgbClr val="000000"/>
              </a:solidFill>
              <a:latin typeface="Times New Roman"/>
            </a:endParaRPr>
          </a:p>
        </p:txBody>
      </p:sp>
      <p:grpSp>
        <p:nvGrpSpPr>
          <p:cNvPr id="822" name=""/>
          <p:cNvGrpSpPr/>
          <p:nvPr/>
        </p:nvGrpSpPr>
        <p:grpSpPr>
          <a:xfrm>
            <a:off x="1444680" y="1328760"/>
            <a:ext cx="7699320" cy="5059440"/>
            <a:chOff x="1444680" y="1328760"/>
            <a:chExt cx="7699320" cy="5059440"/>
          </a:xfrm>
        </p:grpSpPr>
        <p:sp>
          <p:nvSpPr>
            <p:cNvPr id="823" name=""/>
            <p:cNvSpPr/>
            <p:nvPr/>
          </p:nvSpPr>
          <p:spPr>
            <a:xfrm>
              <a:off x="5283360" y="1328760"/>
              <a:ext cx="3860640" cy="4894200"/>
            </a:xfrm>
            <a:prstGeom prst="rect">
              <a:avLst/>
            </a:prstGeom>
            <a:noFill/>
            <a:ln w="0">
              <a:noFill/>
            </a:ln>
          </p:spPr>
          <p:style>
            <a:lnRef idx="0"/>
            <a:fillRef idx="0"/>
            <a:effectRef idx="0"/>
            <a:fontRef idx="minor"/>
          </p:style>
          <p:txBody>
            <a:bodyPr lIns="90000" rIns="90000" tIns="46800" bIns="46800" anchor="t">
              <a:normAutofit fontScale="9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AL Results Consu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AL Results  Produc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AL Definition Consumer &amp; Results Produc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AL Results Consu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AL Definition Consumer &amp; Results Producer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AL Definition Consumer &amp; Results Producer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AL Definition Consumer &amp; Results Produc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AL Definition Consumer &amp; Results Producer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AL Definition Consumer &amp; Results Producer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AL Definition Consumer &amp; Results Producer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AL Definition Consumer &amp; Results Producer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AL Definition Consumer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AL Results Consu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AL Definition Consumer &amp; Results Produc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AL Definition Consumer &amp; Results Produc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AL Definition Consumer &amp; Results Produc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AL Definition Consumer &amp; Results Produc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AL Definition Consumer &amp; Results Produc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AL Definition Consumer</a:t>
              </a:r>
              <a:endParaRPr b="0" lang="en-US" sz="1200" spc="-1" strike="noStrike">
                <a:solidFill>
                  <a:srgbClr val="000000"/>
                </a:solidFill>
                <a:latin typeface="Times New Roman"/>
              </a:endParaRPr>
            </a:p>
          </p:txBody>
        </p:sp>
        <p:grpSp>
          <p:nvGrpSpPr>
            <p:cNvPr id="824" name=""/>
            <p:cNvGrpSpPr/>
            <p:nvPr/>
          </p:nvGrpSpPr>
          <p:grpSpPr>
            <a:xfrm>
              <a:off x="1444680" y="1467000"/>
              <a:ext cx="3890880" cy="4921200"/>
              <a:chOff x="1444680" y="1467000"/>
              <a:chExt cx="3890880" cy="4921200"/>
            </a:xfrm>
          </p:grpSpPr>
          <p:sp>
            <p:nvSpPr>
              <p:cNvPr id="825" name=""/>
              <p:cNvSpPr/>
              <p:nvPr/>
            </p:nvSpPr>
            <p:spPr>
              <a:xfrm flipH="1">
                <a:off x="1608120" y="1467000"/>
                <a:ext cx="37274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flipH="1">
                <a:off x="3285720" y="1832040"/>
                <a:ext cx="20494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flipH="1">
                <a:off x="3077640" y="2019240"/>
                <a:ext cx="22575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flipH="1">
                <a:off x="1444680" y="2379600"/>
                <a:ext cx="38908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flipH="1">
                <a:off x="2542680" y="2749680"/>
                <a:ext cx="27925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2477880" y="2928960"/>
                <a:ext cx="28573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flipH="1">
                <a:off x="2320920" y="3103560"/>
                <a:ext cx="30146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H="1">
                <a:off x="2082600" y="3289320"/>
                <a:ext cx="32526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flipH="1">
                <a:off x="1582200" y="3656160"/>
                <a:ext cx="3753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1485720" y="3840120"/>
                <a:ext cx="38494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a:off x="2039400" y="4029120"/>
                <a:ext cx="32958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a:off x="4005000" y="4379760"/>
                <a:ext cx="13302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a:off x="4409640" y="4932360"/>
                <a:ext cx="9255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a:off x="2798280" y="5307120"/>
                <a:ext cx="25369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H="1">
                <a:off x="2816280" y="5479920"/>
                <a:ext cx="2519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flipH="1">
                <a:off x="3014280" y="5654520"/>
                <a:ext cx="23209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flipH="1">
                <a:off x="2933640" y="5842080"/>
                <a:ext cx="24019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flipH="1">
                <a:off x="3585960" y="6200640"/>
                <a:ext cx="17492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flipH="1">
                <a:off x="2279160" y="6388200"/>
                <a:ext cx="30560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116" dur="indefinite" restart="never" nodeType="tmRoot">
          <p:childTnLst>
            <p:seq>
              <p:cTn id="117" dur="indefinite" nodeType="mainSeq">
                <p:childTnLst>
                  <p:par>
                    <p:cTn id="118" fill="hold">
                      <p:stCondLst>
                        <p:cond delay="indefinite"/>
                      </p:stCondLst>
                      <p:childTnLst>
                        <p:par>
                          <p:cTn id="119" fill="hold">
                            <p:stCondLst>
                              <p:cond delay="0"/>
                            </p:stCondLst>
                            <p:childTnLst>
                              <p:par>
                                <p:cTn id="120" nodeType="clickEffect" fill="hold" presetClass="entr" presetID="2" presetSubtype="8">
                                  <p:stCondLst>
                                    <p:cond delay="0"/>
                                  </p:stCondLst>
                                  <p:childTnLst>
                                    <p:set>
                                      <p:cBhvr>
                                        <p:cTn id="121" dur="1" fill="hold">
                                          <p:stCondLst>
                                            <p:cond delay="0"/>
                                          </p:stCondLst>
                                        </p:cTn>
                                        <p:tgtEl>
                                          <p:spTgt spid="822"/>
                                        </p:tgtEl>
                                        <p:attrNameLst>
                                          <p:attrName>style.visibility</p:attrName>
                                        </p:attrNameLst>
                                      </p:cBhvr>
                                      <p:to>
                                        <p:strVal val="visible"/>
                                      </p:to>
                                    </p:set>
                                    <p:anim calcmode="lin" valueType="num">
                                      <p:cBhvr additive="base">
                                        <p:cTn id="122" dur="500" fill="hold"/>
                                        <p:tgtEl>
                                          <p:spTgt spid="822"/>
                                        </p:tgtEl>
                                        <p:attrNameLst>
                                          <p:attrName>ppt_x</p:attrName>
                                        </p:attrNameLst>
                                      </p:cBhvr>
                                      <p:tavLst>
                                        <p:tav tm="0">
                                          <p:val>
                                            <p:strVal val="0-#ppt_w/2"/>
                                          </p:val>
                                        </p:tav>
                                        <p:tav tm="100000">
                                          <p:val>
                                            <p:strVal val="#ppt_x"/>
                                          </p:val>
                                        </p:tav>
                                      </p:tavLst>
                                    </p:anim>
                                    <p:anim calcmode="lin" valueType="num">
                                      <p:cBhvr additive="base">
                                        <p:cTn id="123" dur="500" fill="hold"/>
                                        <p:tgtEl>
                                          <p:spTgt spid="82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4" name="PlaceHolder 1"/>
          <p:cNvSpPr>
            <a:spLocks noGrp="1"/>
          </p:cNvSpPr>
          <p:nvPr>
            <p:ph type="title"/>
          </p:nvPr>
        </p:nvSpPr>
        <p:spPr>
          <a:xfrm>
            <a:off x="0" y="193680"/>
            <a:ext cx="9144000" cy="822240"/>
          </a:xfrm>
          <a:prstGeom prst="rect">
            <a:avLst/>
          </a:prstGeom>
          <a:noFill/>
          <a:ln w="0">
            <a:noFill/>
          </a:ln>
        </p:spPr>
        <p:txBody>
          <a:bodyPr lIns="90360" rIns="90360" tIns="44280" bIns="442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AL Compatibility </a:t>
            </a:r>
            <a:br>
              <a:rPr sz="3000"/>
            </a:br>
            <a:r>
              <a:rPr b="1" lang="en-US" sz="3000" spc="-1" strike="noStrike">
                <a:solidFill>
                  <a:srgbClr val="000000"/>
                </a:solidFill>
                <a:latin typeface="Arial"/>
              </a:rPr>
              <a:t>General Requirements</a:t>
            </a:r>
            <a:endParaRPr b="1" lang="en-US" sz="3000" spc="-1" strike="noStrike">
              <a:solidFill>
                <a:srgbClr val="000000"/>
              </a:solidFill>
              <a:latin typeface="Arial"/>
            </a:endParaRPr>
          </a:p>
        </p:txBody>
      </p:sp>
      <p:sp>
        <p:nvSpPr>
          <p:cNvPr id="845" name=""/>
          <p:cNvSpPr/>
          <p:nvPr/>
        </p:nvSpPr>
        <p:spPr>
          <a:xfrm>
            <a:off x="149400" y="1216080"/>
            <a:ext cx="8796240" cy="5007960"/>
          </a:xfrm>
          <a:prstGeom prst="rect">
            <a:avLst/>
          </a:prstGeom>
          <a:noFill/>
          <a:ln w="0">
            <a:noFill/>
          </a:ln>
        </p:spPr>
        <p:style>
          <a:lnRef idx="0"/>
          <a:fillRef idx="0"/>
          <a:effectRef idx="0"/>
          <a:fontRef idx="minor"/>
        </p:style>
        <p:txBody>
          <a:bodyPr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 OVAL Compatibility Requirements</a:t>
            </a:r>
            <a:endParaRPr b="0" lang="en-US" sz="14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 General</a:t>
            </a:r>
            <a:endParaRPr b="0" lang="en-US" sz="12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requirements apply to all tools, services, Web sites, databases, advisories/alerts, checklists, etc. regardless of the category for which they are seeking compatibility.</a:t>
            </a:r>
            <a:endParaRPr b="0" lang="en-US" sz="12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8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1)</a:t>
            </a:r>
            <a:r>
              <a:rPr b="0" lang="en-US" sz="1200" spc="-1" strike="noStrike">
                <a:solidFill>
                  <a:srgbClr val="000000"/>
                </a:solidFill>
                <a:latin typeface="Arial"/>
              </a:rPr>
              <a:t> The Owner MUST be a valid legal entity, i.e., an organization or a specific individual, with a valid phone number, email address, and street mail address.</a:t>
            </a:r>
            <a:endParaRPr b="0" lang="en-US" sz="1200" spc="-1" strike="noStrike">
              <a:solidFill>
                <a:srgbClr val="000000"/>
              </a:solidFill>
              <a:latin typeface="Times New Roman"/>
            </a:endParaRPr>
          </a:p>
          <a:p>
            <a:pPr>
              <a:lnSpc>
                <a:spcPct val="8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2) </a:t>
            </a:r>
            <a:r>
              <a:rPr b="0" lang="en-US" sz="1200" spc="-1" strike="noStrike">
                <a:solidFill>
                  <a:srgbClr val="000000"/>
                </a:solidFill>
                <a:latin typeface="Arial"/>
              </a:rPr>
              <a:t>The capability MUST provide additional value or information beyond that which is provided in OVAL itself (i.e.,  not just forwarding OVAL definitions when they are created by someone else).</a:t>
            </a:r>
            <a:endParaRPr b="0" lang="en-US" sz="1200" spc="-1" strike="noStrike">
              <a:solidFill>
                <a:srgbClr val="000000"/>
              </a:solidFill>
              <a:latin typeface="Times New Roman"/>
            </a:endParaRPr>
          </a:p>
          <a:p>
            <a:pPr>
              <a:lnSpc>
                <a:spcPct val="8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3)</a:t>
            </a:r>
            <a:r>
              <a:rPr b="0" lang="en-US" sz="1200" spc="-1" strike="noStrike">
                <a:solidFill>
                  <a:srgbClr val="000000"/>
                </a:solidFill>
                <a:latin typeface="Arial"/>
              </a:rPr>
              <a:t> The Owner MUST provide the Review Authority with a technical point of contact who is qualified to answer questions related to the accuracy evaluation and any OVAL-related functionality of the capability.</a:t>
            </a:r>
            <a:endParaRPr b="0" lang="en-US" sz="1200" spc="-1" strike="noStrike">
              <a:solidFill>
                <a:srgbClr val="000000"/>
              </a:solidFill>
              <a:latin typeface="Times New Roman"/>
            </a:endParaRPr>
          </a:p>
          <a:p>
            <a:pPr>
              <a:lnSpc>
                <a:spcPct val="8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4)</a:t>
            </a:r>
            <a:r>
              <a:rPr b="0" lang="en-US" sz="1200" spc="-1" strike="noStrike">
                <a:solidFill>
                  <a:srgbClr val="000000"/>
                </a:solidFill>
                <a:latin typeface="Arial"/>
              </a:rPr>
              <a:t> The capability MUST be available to the public, or to a set of consumers, in a production version.</a:t>
            </a:r>
            <a:endParaRPr b="0" lang="en-US" sz="1200" spc="-1" strike="noStrike">
              <a:solidFill>
                <a:srgbClr val="000000"/>
              </a:solidFill>
              <a:latin typeface="Times New Roman"/>
            </a:endParaRPr>
          </a:p>
          <a:p>
            <a:pPr>
              <a:lnSpc>
                <a:spcPct val="8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5)</a:t>
            </a:r>
            <a:r>
              <a:rPr b="0" lang="en-US" sz="1200" spc="-1" strike="noStrike">
                <a:solidFill>
                  <a:srgbClr val="000000"/>
                </a:solidFill>
                <a:latin typeface="Arial"/>
              </a:rPr>
              <a:t> The Owner MUST provide the Review Authority with a completed "OVAL Compatibility Requirements Evaluation Form." This form will be sent to you once initiate the declaration process; see </a:t>
            </a:r>
            <a:r>
              <a:rPr b="0" lang="en-US" sz="1200" spc="-1" strike="noStrike" u="sng">
                <a:solidFill>
                  <a:srgbClr val="0000ff"/>
                </a:solidFill>
                <a:uFillTx/>
                <a:latin typeface="Arial"/>
              </a:rPr>
              <a:t>Section 6. How to Declare Your Product or Service OVAL-Compatible.</a:t>
            </a:r>
            <a:endParaRPr b="0" lang="en-US" sz="1200" spc="-1" strike="noStrike">
              <a:solidFill>
                <a:srgbClr val="000000"/>
              </a:solidFill>
              <a:latin typeface="Times New Roman"/>
            </a:endParaRPr>
          </a:p>
          <a:p>
            <a:pPr>
              <a:lnSpc>
                <a:spcPct val="8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6)</a:t>
            </a:r>
            <a:r>
              <a:rPr b="0" lang="en-US" sz="1200" spc="-1" strike="noStrike">
                <a:solidFill>
                  <a:srgbClr val="000000"/>
                </a:solidFill>
                <a:latin typeface="Arial"/>
              </a:rPr>
              <a:t> The Owner MUST provide the Review Authority with free access to the Repository so that the Review Authority can determine that the Repository satisfies all associated requirements.</a:t>
            </a:r>
            <a:endParaRPr b="0" lang="en-US" sz="1200" spc="-1" strike="noStrike">
              <a:solidFill>
                <a:srgbClr val="000000"/>
              </a:solidFill>
              <a:latin typeface="Times New Roman"/>
            </a:endParaRPr>
          </a:p>
          <a:p>
            <a:pPr>
              <a:lnSpc>
                <a:spcPct val="85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7)</a:t>
            </a:r>
            <a:r>
              <a:rPr b="0" lang="en-US" sz="1200" spc="-1" strike="noStrike">
                <a:solidFill>
                  <a:srgbClr val="000000"/>
                </a:solidFill>
                <a:latin typeface="Arial"/>
              </a:rPr>
              <a:t> The Owner MUST allow the Review Authority to use the Repository to identify any publicly known vulnerabilities, configuration issues, or patches that should be added to OVAL as new or refined OVAL definitions.</a:t>
            </a:r>
            <a:endParaRPr b="0" lang="en-US" sz="1200" spc="-1" strike="noStrike">
              <a:solidFill>
                <a:srgbClr val="000000"/>
              </a:solidFill>
              <a:latin typeface="Times New Roman"/>
            </a:endParaRPr>
          </a:p>
          <a:p>
            <a:pPr>
              <a:lnSpc>
                <a:spcPct val="85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8)</a:t>
            </a:r>
            <a:r>
              <a:rPr b="0" lang="en-US" sz="1200" spc="-1" strike="noStrike">
                <a:solidFill>
                  <a:srgbClr val="000000"/>
                </a:solidFill>
                <a:latin typeface="Arial"/>
              </a:rPr>
              <a:t> The Owner MUST agree to abide by all of the mandatory OVAL Compatibility Requirements, which includes the mandatory requirements for the specific type of capability.</a:t>
            </a:r>
            <a:endParaRPr b="0" lang="en-US" sz="1200" spc="-1" strike="noStrike">
              <a:solidFill>
                <a:srgbClr val="000000"/>
              </a:solidFill>
              <a:latin typeface="Times New Roman"/>
            </a:endParaRPr>
          </a:p>
          <a:p>
            <a:pPr>
              <a:lnSpc>
                <a:spcPct val="85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9)</a:t>
            </a:r>
            <a:r>
              <a:rPr b="0" lang="en-US" sz="1200" spc="-1" strike="noStrike">
                <a:solidFill>
                  <a:srgbClr val="000000"/>
                </a:solidFill>
                <a:latin typeface="Arial"/>
              </a:rPr>
              <a:t> The Owner SHOULD publicize how quickly it will update the capability's repository after a new OVAL schema version is released.</a:t>
            </a:r>
            <a:endParaRPr b="0" lang="en-US" sz="1200" spc="-1" strike="noStrike">
              <a:solidFill>
                <a:srgbClr val="000000"/>
              </a:solidFill>
              <a:latin typeface="Times New Roman"/>
            </a:endParaRPr>
          </a:p>
          <a:p>
            <a:pPr>
              <a:lnSpc>
                <a:spcPct val="85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10)</a:t>
            </a:r>
            <a:r>
              <a:rPr b="0" lang="en-US" sz="1200" spc="-1" strike="noStrike">
                <a:solidFill>
                  <a:srgbClr val="000000"/>
                </a:solidFill>
                <a:latin typeface="Arial"/>
              </a:rPr>
              <a:t> The tool MUST clearly state the schema(s) and version with which it is compatible.</a:t>
            </a:r>
            <a:endParaRPr b="0" lang="en-US" sz="12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6" name="PlaceHolder 1"/>
          <p:cNvSpPr>
            <a:spLocks noGrp="1"/>
          </p:cNvSpPr>
          <p:nvPr>
            <p:ph type="title"/>
          </p:nvPr>
        </p:nvSpPr>
        <p:spPr>
          <a:xfrm>
            <a:off x="0" y="193680"/>
            <a:ext cx="9144000" cy="822240"/>
          </a:xfrm>
          <a:prstGeom prst="rect">
            <a:avLst/>
          </a:prstGeom>
          <a:noFill/>
          <a:ln w="0">
            <a:noFill/>
          </a:ln>
        </p:spPr>
        <p:txBody>
          <a:bodyPr lIns="90360" rIns="90360" tIns="44280" bIns="442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AL Compatibility </a:t>
            </a:r>
            <a:br>
              <a:rPr sz="3000"/>
            </a:br>
            <a:r>
              <a:rPr b="1" lang="en-US" sz="3000" spc="-1" strike="noStrike">
                <a:solidFill>
                  <a:srgbClr val="000000"/>
                </a:solidFill>
                <a:latin typeface="Arial"/>
              </a:rPr>
              <a:t>Documentation Requirements</a:t>
            </a:r>
            <a:endParaRPr b="1" lang="en-US" sz="3000" spc="-1" strike="noStrike">
              <a:solidFill>
                <a:srgbClr val="000000"/>
              </a:solidFill>
              <a:latin typeface="Arial"/>
            </a:endParaRPr>
          </a:p>
        </p:txBody>
      </p:sp>
      <p:sp>
        <p:nvSpPr>
          <p:cNvPr id="847" name=""/>
          <p:cNvSpPr/>
          <p:nvPr/>
        </p:nvSpPr>
        <p:spPr>
          <a:xfrm>
            <a:off x="149400" y="1216080"/>
            <a:ext cx="8796240" cy="2984760"/>
          </a:xfrm>
          <a:prstGeom prst="rect">
            <a:avLst/>
          </a:prstGeom>
          <a:noFill/>
          <a:ln w="0">
            <a:noFill/>
          </a:ln>
        </p:spPr>
        <p:style>
          <a:lnRef idx="0"/>
          <a:fillRef idx="0"/>
          <a:effectRef idx="0"/>
          <a:fontRef idx="minor"/>
        </p:style>
        <p:txBody>
          <a:bodyPr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I. Document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llowing requirements apply to documentation that is provided with the capability. </a:t>
            </a:r>
            <a:endParaRPr b="0" lang="en-US" sz="1200" spc="-1" strike="noStrike">
              <a:solidFill>
                <a:srgbClr val="000000"/>
              </a:solidFill>
              <a:latin typeface="Times New Roman"/>
            </a:endParaRPr>
          </a:p>
          <a:p>
            <a:pPr>
              <a:lnSpc>
                <a:spcPct val="100000"/>
              </a:lnSpc>
              <a:spcBef>
                <a:spcPts val="1400"/>
              </a:spcBef>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11)</a:t>
            </a:r>
            <a:r>
              <a:rPr b="0" lang="en-US" sz="1200" spc="-1" strike="noStrike">
                <a:solidFill>
                  <a:srgbClr val="000000"/>
                </a:solidFill>
                <a:latin typeface="Arial"/>
              </a:rPr>
              <a:t> The documentation MUST include a brief description of OVAL and OVAL compatibility, which can be based on verbatim portions of documents from the OVAL Web site.</a:t>
            </a:r>
            <a:endParaRPr b="0" lang="en-US" sz="1200" spc="-1" strike="noStrike">
              <a:solidFill>
                <a:srgbClr val="000000"/>
              </a:solidFill>
              <a:latin typeface="Times New Roman"/>
            </a:endParaRPr>
          </a:p>
          <a:p>
            <a:pPr>
              <a:lnSpc>
                <a:spcPct val="100000"/>
              </a:lnSpc>
              <a:spcBef>
                <a:spcPts val="1400"/>
              </a:spcBef>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12)</a:t>
            </a:r>
            <a:r>
              <a:rPr b="0" lang="en-US" sz="1200" spc="-1" strike="noStrike">
                <a:solidFill>
                  <a:srgbClr val="000000"/>
                </a:solidFill>
                <a:latin typeface="Arial"/>
              </a:rPr>
              <a:t> The documentation MUST describe how the user can find individual security elements in the capability's repository by using OVAL definitions.</a:t>
            </a:r>
            <a:endParaRPr b="0" lang="en-US" sz="1200" spc="-1" strike="noStrike">
              <a:solidFill>
                <a:srgbClr val="000000"/>
              </a:solidFill>
              <a:latin typeface="Times New Roman"/>
            </a:endParaRPr>
          </a:p>
          <a:p>
            <a:pPr>
              <a:lnSpc>
                <a:spcPct val="100000"/>
              </a:lnSpc>
              <a:spcBef>
                <a:spcPts val="1400"/>
              </a:spcBef>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13)</a:t>
            </a:r>
            <a:r>
              <a:rPr b="0" lang="en-US" sz="1200" spc="-1" strike="noStrike">
                <a:solidFill>
                  <a:srgbClr val="000000"/>
                </a:solidFill>
                <a:latin typeface="Arial"/>
              </a:rPr>
              <a:t> The documentation MUST describe how the user can obtain information in the OVAL Results Schema from individual elements in the capability's repositor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14)</a:t>
            </a:r>
            <a:r>
              <a:rPr b="0" lang="en-US" sz="1200" spc="-1" strike="noStrike">
                <a:solidFill>
                  <a:srgbClr val="000000"/>
                </a:solidFill>
                <a:latin typeface="Arial"/>
              </a:rPr>
              <a:t> If the documentation includes an index, then it SHOULD include references to OVAL-related documentation under the term "OVAL."</a:t>
            </a:r>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PlaceHolder 1"/>
          <p:cNvSpPr>
            <a:spLocks noGrp="1"/>
          </p:cNvSpPr>
          <p:nvPr>
            <p:ph type="title"/>
          </p:nvPr>
        </p:nvSpPr>
        <p:spPr>
          <a:xfrm>
            <a:off x="0" y="193680"/>
            <a:ext cx="9144000" cy="822240"/>
          </a:xfrm>
          <a:prstGeom prst="rect">
            <a:avLst/>
          </a:prstGeom>
          <a:noFill/>
          <a:ln w="0">
            <a:noFill/>
          </a:ln>
        </p:spPr>
        <p:txBody>
          <a:bodyPr lIns="90360" rIns="90360" tIns="44280" bIns="442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AL Definition Schema </a:t>
            </a:r>
            <a:br>
              <a:rPr sz="3000"/>
            </a:br>
            <a:r>
              <a:rPr b="1" lang="en-US" sz="3000" spc="-1" strike="noStrike">
                <a:solidFill>
                  <a:srgbClr val="000000"/>
                </a:solidFill>
                <a:latin typeface="Arial"/>
              </a:rPr>
              <a:t>Producers and Consumers Requirements</a:t>
            </a:r>
            <a:endParaRPr b="1" lang="en-US" sz="3000" spc="-1" strike="noStrike">
              <a:solidFill>
                <a:srgbClr val="000000"/>
              </a:solidFill>
              <a:latin typeface="Arial"/>
            </a:endParaRPr>
          </a:p>
        </p:txBody>
      </p:sp>
      <p:sp>
        <p:nvSpPr>
          <p:cNvPr id="849" name=""/>
          <p:cNvSpPr/>
          <p:nvPr/>
        </p:nvSpPr>
        <p:spPr>
          <a:xfrm>
            <a:off x="0" y="1216080"/>
            <a:ext cx="9144000" cy="5213520"/>
          </a:xfrm>
          <a:prstGeom prst="rect">
            <a:avLst/>
          </a:prstGeom>
          <a:noFill/>
          <a:ln w="0">
            <a:noFill/>
          </a:ln>
        </p:spPr>
        <p:style>
          <a:lnRef idx="0"/>
          <a:fillRef idx="0"/>
          <a:effectRef idx="0"/>
          <a:fontRef idx="minor"/>
        </p:style>
        <p:txBody>
          <a:bodyPr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 Specific OVAL Compatibility Requirements</a:t>
            </a:r>
            <a:endParaRPr b="0" lang="en-US" sz="14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1 OVAL Definition Schema</a:t>
            </a:r>
            <a:endParaRPr b="0" lang="en-US" sz="12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requirements apply to all tools that intend to make use of the </a:t>
            </a:r>
            <a:r>
              <a:rPr b="0" lang="en-US" sz="1200" spc="-1" strike="noStrike" u="sng">
                <a:solidFill>
                  <a:srgbClr val="fc0128"/>
                </a:solidFill>
                <a:uFillTx/>
                <a:latin typeface="Arial"/>
                <a:hlinkClick r:id="rId1"/>
              </a:rPr>
              <a:t>OVAL Definition Schema</a:t>
            </a:r>
            <a:r>
              <a:rPr b="0" lang="en-US" sz="1200" spc="-1" strike="noStrike">
                <a:solidFill>
                  <a:srgbClr val="000000"/>
                </a:solidFill>
                <a:latin typeface="Arial"/>
              </a:rPr>
              <a:t>.</a:t>
            </a:r>
            <a:endParaRPr b="0" lang="en-US" sz="12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8000"/>
                </a:solidFill>
                <a:latin typeface="Arial"/>
              </a:rPr>
              <a:t>Consumer Requirements</a:t>
            </a:r>
            <a:endParaRPr b="0" lang="en-US" sz="12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requirements apply to all tools that intend to consume information in the OVAL Definition Schema format.</a:t>
            </a:r>
            <a:endParaRPr b="0" lang="en-US" sz="1200" spc="-1" strike="noStrike">
              <a:solidFill>
                <a:srgbClr val="000000"/>
              </a:solidFill>
              <a:latin typeface="Times New Roman"/>
            </a:endParaRPr>
          </a:p>
          <a:p>
            <a:pPr>
              <a:lnSpc>
                <a:spcPct val="8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1.1)</a:t>
            </a:r>
            <a:r>
              <a:rPr b="0" lang="en-US" sz="1200" spc="-1" strike="noStrike">
                <a:solidFill>
                  <a:srgbClr val="000000"/>
                </a:solidFill>
                <a:latin typeface="Arial"/>
              </a:rPr>
              <a:t> The tool MUST be capable of validating incoming definition content against the  schema version it is stated to comply with.</a:t>
            </a:r>
            <a:endParaRPr b="0" lang="en-US" sz="1200" spc="-1" strike="noStrike">
              <a:solidFill>
                <a:srgbClr val="000000"/>
              </a:solidFill>
              <a:latin typeface="Times New Roman"/>
            </a:endParaRPr>
          </a:p>
          <a:p>
            <a:pPr>
              <a:lnSpc>
                <a:spcPct val="8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1.2)</a:t>
            </a:r>
            <a:r>
              <a:rPr b="0" lang="en-US" sz="1200" spc="-1" strike="noStrike">
                <a:solidFill>
                  <a:srgbClr val="000000"/>
                </a:solidFill>
                <a:latin typeface="Arial"/>
              </a:rPr>
              <a:t> The tool MUST be able to consume all definition content that properly validates against the schema for which the tool is stating compliance to.</a:t>
            </a:r>
            <a:endParaRPr b="0" lang="en-US" sz="1200" spc="-1" strike="noStrike">
              <a:solidFill>
                <a:srgbClr val="000000"/>
              </a:solidFill>
              <a:latin typeface="Times New Roman"/>
            </a:endParaRPr>
          </a:p>
          <a:p>
            <a:pPr>
              <a:lnSpc>
                <a:spcPct val="8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1.3)</a:t>
            </a:r>
            <a:r>
              <a:rPr b="0" lang="en-US" sz="1200" spc="-1" strike="noStrike">
                <a:solidFill>
                  <a:srgbClr val="000000"/>
                </a:solidFill>
                <a:latin typeface="Arial"/>
              </a:rPr>
              <a:t> The tool need not process both the configuration and software sections of a definition, but MUST clearly state any deviations from the logic of a definition.</a:t>
            </a:r>
            <a:endParaRPr b="0" lang="en-US" sz="1200" spc="-1" strike="noStrike">
              <a:solidFill>
                <a:srgbClr val="000000"/>
              </a:solidFill>
              <a:latin typeface="Times New Roman"/>
            </a:endParaRPr>
          </a:p>
          <a:p>
            <a:pPr>
              <a:lnSpc>
                <a:spcPct val="8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1.4)</a:t>
            </a:r>
            <a:r>
              <a:rPr b="0" lang="en-US" sz="1200" spc="-1" strike="noStrike">
                <a:solidFill>
                  <a:srgbClr val="000000"/>
                </a:solidFill>
                <a:latin typeface="Arial"/>
              </a:rPr>
              <a:t> The tool MUST be capable of interpreting the logic within each test in accordance to the stated logical operations of the test. </a:t>
            </a:r>
            <a:endParaRPr b="0" lang="en-US" sz="1200" spc="-1" strike="noStrike">
              <a:solidFill>
                <a:srgbClr val="000000"/>
              </a:solidFill>
              <a:latin typeface="Times New Roman"/>
            </a:endParaRPr>
          </a:p>
          <a:p>
            <a:pPr>
              <a:lnSpc>
                <a:spcPct val="8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1.5)</a:t>
            </a:r>
            <a:r>
              <a:rPr b="0" lang="en-US" sz="1200" spc="-1" strike="noStrike">
                <a:solidFill>
                  <a:srgbClr val="000000"/>
                </a:solidFill>
                <a:latin typeface="Arial"/>
              </a:rPr>
              <a:t> The tool MUST be capable of consuming OVAL definition content as single definitions or as groups of definitions.</a:t>
            </a:r>
            <a:endParaRPr b="0" lang="en-US" sz="1200" spc="-1" strike="noStrike">
              <a:solidFill>
                <a:srgbClr val="000000"/>
              </a:solidFill>
              <a:latin typeface="Times New Roman"/>
            </a:endParaRPr>
          </a:p>
          <a:p>
            <a:pPr>
              <a:lnSpc>
                <a:spcPct val="8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8000"/>
                </a:solidFill>
                <a:latin typeface="Arial"/>
              </a:rPr>
              <a:t>Producer Requirements</a:t>
            </a:r>
            <a:endParaRPr b="0" lang="en-US" sz="1200" spc="-1" strike="noStrike">
              <a:solidFill>
                <a:srgbClr val="000000"/>
              </a:solidFill>
              <a:latin typeface="Times New Roman"/>
            </a:endParaRPr>
          </a:p>
          <a:p>
            <a:pPr>
              <a:lnSpc>
                <a:spcPct val="8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requirements apply to all tools that intend to generate information in the OVAL Definition Schema format.</a:t>
            </a:r>
            <a:endParaRPr b="0" lang="en-US" sz="1200" spc="-1" strike="noStrike">
              <a:solidFill>
                <a:srgbClr val="000000"/>
              </a:solidFill>
              <a:latin typeface="Times New Roman"/>
            </a:endParaRPr>
          </a:p>
          <a:p>
            <a:pPr>
              <a:lnSpc>
                <a:spcPct val="8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1.6)</a:t>
            </a:r>
            <a:r>
              <a:rPr b="0" lang="en-US" sz="1200" spc="-1" strike="noStrike">
                <a:solidFill>
                  <a:srgbClr val="000000"/>
                </a:solidFill>
                <a:latin typeface="Arial"/>
              </a:rPr>
              <a:t> The definition content MUST validate against the schema version it is stated to comply with.</a:t>
            </a:r>
            <a:endParaRPr b="0" lang="en-US" sz="1200" spc="-1" strike="noStrike">
              <a:solidFill>
                <a:srgbClr val="000000"/>
              </a:solidFill>
              <a:latin typeface="Times New Roman"/>
            </a:endParaRPr>
          </a:p>
          <a:p>
            <a:pPr>
              <a:lnSpc>
                <a:spcPct val="8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1.7)</a:t>
            </a:r>
            <a:r>
              <a:rPr b="0" lang="en-US" sz="1200" spc="-1" strike="noStrike">
                <a:solidFill>
                  <a:srgbClr val="000000"/>
                </a:solidFill>
                <a:latin typeface="Arial"/>
              </a:rPr>
              <a:t> All newly created definitions MUST contain a unique OVAL-ID.</a:t>
            </a:r>
            <a:endParaRPr b="0" lang="en-US" sz="1200" spc="-1" strike="noStrike">
              <a:solidFill>
                <a:srgbClr val="000000"/>
              </a:solidFill>
              <a:latin typeface="Times New Roman"/>
            </a:endParaRPr>
          </a:p>
          <a:p>
            <a:pPr>
              <a:lnSpc>
                <a:spcPct val="8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1.8)</a:t>
            </a:r>
            <a:r>
              <a:rPr b="0" lang="en-US" sz="1200" spc="-1" strike="noStrike">
                <a:solidFill>
                  <a:srgbClr val="000000"/>
                </a:solidFill>
                <a:latin typeface="Arial"/>
              </a:rPr>
              <a:t> Duplicate definitions MUST be resolved through interaction with the Review Authority.</a:t>
            </a:r>
            <a:endParaRPr b="0" lang="en-US" sz="1200" spc="-1" strike="noStrike">
              <a:solidFill>
                <a:srgbClr val="000000"/>
              </a:solidFill>
              <a:latin typeface="Times New Roman"/>
            </a:endParaRPr>
          </a:p>
          <a:p>
            <a:pPr>
              <a:lnSpc>
                <a:spcPct val="8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1.9)</a:t>
            </a:r>
            <a:r>
              <a:rPr b="0" lang="en-US" sz="1200" spc="-1" strike="noStrike">
                <a:solidFill>
                  <a:srgbClr val="000000"/>
                </a:solidFill>
                <a:latin typeface="Arial"/>
              </a:rPr>
              <a:t> All newly created tests MUST contain a unique test id.</a:t>
            </a:r>
            <a:endParaRPr b="0" lang="en-US" sz="1200" spc="-1" strike="noStrike">
              <a:solidFill>
                <a:srgbClr val="000000"/>
              </a:solidFill>
              <a:latin typeface="Times New Roman"/>
            </a:endParaRPr>
          </a:p>
          <a:p>
            <a:pPr>
              <a:lnSpc>
                <a:spcPct val="8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1.10)</a:t>
            </a:r>
            <a:r>
              <a:rPr b="0" lang="en-US" sz="1200" spc="-1" strike="noStrike">
                <a:solidFill>
                  <a:srgbClr val="000000"/>
                </a:solidFill>
                <a:latin typeface="Arial"/>
              </a:rPr>
              <a:t> Duplicate tests MUST be resolved through interaction with the Review Authority.</a:t>
            </a:r>
            <a:endParaRPr b="0" lang="en-US" sz="1200" spc="-1" strike="noStrike">
              <a:solidFill>
                <a:srgbClr val="000000"/>
              </a:solidFill>
              <a:latin typeface="Times New Roman"/>
            </a:endParaRPr>
          </a:p>
          <a:p>
            <a:pPr>
              <a:lnSpc>
                <a:spcPct val="8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1.11)</a:t>
            </a:r>
            <a:r>
              <a:rPr b="0" lang="en-US" sz="1200" spc="-1" strike="noStrike">
                <a:solidFill>
                  <a:srgbClr val="000000"/>
                </a:solidFill>
                <a:latin typeface="Arial"/>
              </a:rPr>
              <a:t> The information within a definition MUST correspond with the definition content –  e.g., the family shouldn't be 'windows' if the tests are examining Red Hat RPM's.</a:t>
            </a:r>
            <a:endParaRPr b="0" lang="en-US" sz="1200" spc="-1" strike="noStrike">
              <a:solidFill>
                <a:srgbClr val="000000"/>
              </a:solidFill>
              <a:latin typeface="Times New Roman"/>
            </a:endParaRPr>
          </a:p>
          <a:p>
            <a:pPr>
              <a:lnSpc>
                <a:spcPct val="8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1.12)</a:t>
            </a:r>
            <a:r>
              <a:rPr b="0" lang="en-US" sz="1200" spc="-1" strike="noStrike">
                <a:solidFill>
                  <a:srgbClr val="000000"/>
                </a:solidFill>
                <a:latin typeface="Arial"/>
              </a:rPr>
              <a:t> If a CVE-ID exists for the issue being addressed by the definition, then it SHOULD be used in the reference section. If no CVE-ID  exists, an appropriate authoritative reference SHOULD be included in the reference section instead of the CVE-ID.</a:t>
            </a:r>
            <a:endParaRPr b="0" lang="en-US" sz="1200" spc="-1" strike="noStrike">
              <a:solidFill>
                <a:srgbClr val="000000"/>
              </a:solidFill>
              <a:latin typeface="Times New Roman"/>
            </a:endParaRPr>
          </a:p>
          <a:p>
            <a:pPr>
              <a:lnSpc>
                <a:spcPct val="8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1.13)</a:t>
            </a:r>
            <a:r>
              <a:rPr b="0" lang="en-US" sz="1200" spc="-1" strike="noStrike">
                <a:solidFill>
                  <a:srgbClr val="000000"/>
                </a:solidFill>
                <a:latin typeface="Arial"/>
              </a:rPr>
              <a:t> A best effort SHOULD be made to ensure that a definition is complete with respect to both software and configuration information.</a:t>
            </a:r>
            <a:endParaRPr b="0" lang="en-US" sz="12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0" name="PlaceHolder 1"/>
          <p:cNvSpPr>
            <a:spLocks noGrp="1"/>
          </p:cNvSpPr>
          <p:nvPr>
            <p:ph type="title"/>
          </p:nvPr>
        </p:nvSpPr>
        <p:spPr>
          <a:xfrm>
            <a:off x="0" y="193680"/>
            <a:ext cx="9144000" cy="822240"/>
          </a:xfrm>
          <a:prstGeom prst="rect">
            <a:avLst/>
          </a:prstGeom>
          <a:noFill/>
          <a:ln w="0">
            <a:noFill/>
          </a:ln>
        </p:spPr>
        <p:txBody>
          <a:bodyPr lIns="90360" rIns="90360" tIns="44280" bIns="442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AL Results Schema </a:t>
            </a:r>
            <a:br>
              <a:rPr sz="3000"/>
            </a:br>
            <a:r>
              <a:rPr b="1" lang="en-US" sz="3000" spc="-1" strike="noStrike">
                <a:solidFill>
                  <a:srgbClr val="000000"/>
                </a:solidFill>
                <a:latin typeface="Arial"/>
              </a:rPr>
              <a:t>Consumers and Producers Requirements</a:t>
            </a:r>
            <a:endParaRPr b="1" lang="en-US" sz="3000" spc="-1" strike="noStrike">
              <a:solidFill>
                <a:srgbClr val="000000"/>
              </a:solidFill>
              <a:latin typeface="Arial"/>
            </a:endParaRPr>
          </a:p>
        </p:txBody>
      </p:sp>
      <p:sp>
        <p:nvSpPr>
          <p:cNvPr id="851" name=""/>
          <p:cNvSpPr/>
          <p:nvPr/>
        </p:nvSpPr>
        <p:spPr>
          <a:xfrm>
            <a:off x="130320" y="1216080"/>
            <a:ext cx="9013680" cy="4299840"/>
          </a:xfrm>
          <a:prstGeom prst="rect">
            <a:avLst/>
          </a:prstGeom>
          <a:noFill/>
          <a:ln w="0">
            <a:noFill/>
          </a:ln>
        </p:spPr>
        <p:style>
          <a:lnRef idx="0"/>
          <a:fillRef idx="0"/>
          <a:effectRef idx="0"/>
          <a:fontRef idx="minor"/>
        </p:style>
        <p:txBody>
          <a:bodyPr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 Specific OVAL Compatibility Requirements</a:t>
            </a:r>
            <a:endParaRPr b="0" lang="en-US" sz="14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2 OVAL Results Schema</a:t>
            </a:r>
            <a:endParaRPr b="0" lang="en-US" sz="12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requirements apply to all tools that intend to make use of the </a:t>
            </a:r>
            <a:r>
              <a:rPr b="0" lang="en-US" sz="1200" spc="-1" strike="noStrike" u="sng">
                <a:solidFill>
                  <a:srgbClr val="fc0128"/>
                </a:solidFill>
                <a:uFillTx/>
                <a:latin typeface="Arial"/>
                <a:hlinkClick r:id="rId1"/>
              </a:rPr>
              <a:t>OVAL Results Schema</a:t>
            </a:r>
            <a:r>
              <a:rPr b="0" lang="en-US" sz="1200" spc="-1" strike="noStrike">
                <a:solidFill>
                  <a:srgbClr val="000000"/>
                </a:solidFill>
                <a:latin typeface="Arial"/>
              </a:rPr>
              <a:t>.</a:t>
            </a:r>
            <a:endParaRPr b="0" lang="en-US" sz="12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8000"/>
                </a:solidFill>
                <a:latin typeface="Arial"/>
              </a:rPr>
              <a:t>Consumer Requirements</a:t>
            </a:r>
            <a:endParaRPr b="0" lang="en-US" sz="12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requirements apply to all tools that intend to consume information in the OVAL Definition Schema format.</a:t>
            </a:r>
            <a:endParaRPr b="0" lang="en-US" sz="12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2.1)</a:t>
            </a:r>
            <a:r>
              <a:rPr b="0" lang="en-US" sz="1200" spc="-1" strike="noStrike">
                <a:solidFill>
                  <a:srgbClr val="000000"/>
                </a:solidFill>
                <a:latin typeface="Arial"/>
              </a:rPr>
              <a:t> The tool MUST be capable of validating the incoming OVAL results content against the schema version it is stated to comply with. </a:t>
            </a:r>
            <a:endParaRPr b="0" lang="en-US" sz="12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2.2)</a:t>
            </a:r>
            <a:r>
              <a:rPr b="0" lang="en-US" sz="1200" spc="-1" strike="noStrike">
                <a:solidFill>
                  <a:srgbClr val="000000"/>
                </a:solidFill>
                <a:latin typeface="Arial"/>
              </a:rPr>
              <a:t> The tool MUST be able to consume all OVAL results content that properly validates against the schema for which the tool is stating compliance to.</a:t>
            </a:r>
            <a:endParaRPr b="0" lang="en-US" sz="12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2.3)</a:t>
            </a:r>
            <a:r>
              <a:rPr b="0" lang="en-US" sz="1200" spc="-1" strike="noStrike">
                <a:solidFill>
                  <a:srgbClr val="000000"/>
                </a:solidFill>
                <a:latin typeface="Arial"/>
              </a:rPr>
              <a:t> The tool MUST be capable of consuming OVAL results content as the results from a single definitions or from groups of definitions.</a:t>
            </a:r>
            <a:endParaRPr b="0" lang="en-US" sz="12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2.4)</a:t>
            </a:r>
            <a:r>
              <a:rPr b="0" lang="en-US" sz="1200" spc="-1" strike="noStrike">
                <a:solidFill>
                  <a:srgbClr val="000000"/>
                </a:solidFill>
                <a:latin typeface="Arial"/>
              </a:rPr>
              <a:t> The tool MUST be capable of handling multiple instances of a definition within the OVAL results content.</a:t>
            </a:r>
            <a:endParaRPr b="0" lang="en-US" sz="12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2.5)</a:t>
            </a:r>
            <a:r>
              <a:rPr b="0" lang="en-US" sz="1200" spc="-1" strike="noStrike">
                <a:solidFill>
                  <a:srgbClr val="000000"/>
                </a:solidFill>
                <a:latin typeface="Arial"/>
              </a:rPr>
              <a:t> The tool MUST be capable of handling multiple instances of a test within the OVAL results content.</a:t>
            </a:r>
            <a:endParaRPr b="0" lang="en-US" sz="12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8000"/>
                </a:solidFill>
                <a:latin typeface="Arial"/>
              </a:rPr>
              <a:t>Producer Requirements</a:t>
            </a:r>
            <a:endParaRPr b="0" lang="en-US" sz="12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requirements apply to all tools that intend to generate information in the OVAL Results Schema format.</a:t>
            </a:r>
            <a:endParaRPr b="0" lang="en-US" sz="12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2.6)</a:t>
            </a:r>
            <a:r>
              <a:rPr b="0" lang="en-US" sz="1200" spc="-1" strike="noStrike">
                <a:solidFill>
                  <a:srgbClr val="000000"/>
                </a:solidFill>
                <a:latin typeface="Arial"/>
              </a:rPr>
              <a:t> The OVAL results content MUST validate against the schema version it is stated to comply with.</a:t>
            </a:r>
            <a:endParaRPr b="0" lang="en-US" sz="12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2.7) </a:t>
            </a:r>
            <a:r>
              <a:rPr b="0" lang="en-US" sz="1200" spc="-1" strike="noStrike">
                <a:solidFill>
                  <a:srgbClr val="000000"/>
                </a:solidFill>
                <a:latin typeface="Arial"/>
              </a:rPr>
              <a:t>The tool MUST generate accurate results a set of definition content and System Characteristic content or system state information.</a:t>
            </a:r>
            <a:endParaRPr b="0" lang="en-US" sz="12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2.8)</a:t>
            </a:r>
            <a:r>
              <a:rPr b="0" lang="en-US" sz="1200" spc="-1" strike="noStrike">
                <a:solidFill>
                  <a:srgbClr val="000000"/>
                </a:solidFill>
                <a:latin typeface="Arial"/>
              </a:rPr>
              <a:t> The tool MUST generate OVAL results content accurately at the definition, criterion, and test levels of a definition.</a:t>
            </a:r>
            <a:endParaRPr b="0" lang="en-US" sz="12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2.9)</a:t>
            </a:r>
            <a:r>
              <a:rPr b="0" lang="en-US" sz="1200" spc="-1" strike="noStrike">
                <a:solidFill>
                  <a:srgbClr val="000000"/>
                </a:solidFill>
                <a:latin typeface="Arial"/>
              </a:rPr>
              <a:t> The tool MUST always generate the same result set, given the same set of definition content and System Characteristics content or system state information as input.</a:t>
            </a:r>
            <a:endParaRPr b="0" lang="en-US" sz="12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2.10)</a:t>
            </a:r>
            <a:r>
              <a:rPr b="0" lang="en-US" sz="1200" spc="-1" strike="noStrike">
                <a:solidFill>
                  <a:srgbClr val="000000"/>
                </a:solidFill>
                <a:latin typeface="Arial"/>
              </a:rPr>
              <a:t> The OVAL results content shall include unique instance values for the case where multiple definition results need to be represented.</a:t>
            </a:r>
            <a:endParaRPr b="0" lang="en-US" sz="12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2.11)</a:t>
            </a:r>
            <a:r>
              <a:rPr b="0" lang="en-US" sz="1200" spc="-1" strike="noStrike">
                <a:solidFill>
                  <a:srgbClr val="000000"/>
                </a:solidFill>
                <a:latin typeface="Arial"/>
              </a:rPr>
              <a:t> The OVAL results content shall include unique version values for the case where multiple test results need to be represented.</a:t>
            </a:r>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2" name="PlaceHolder 1"/>
          <p:cNvSpPr>
            <a:spLocks noGrp="1"/>
          </p:cNvSpPr>
          <p:nvPr>
            <p:ph type="title"/>
          </p:nvPr>
        </p:nvSpPr>
        <p:spPr>
          <a:xfrm>
            <a:off x="0" y="193680"/>
            <a:ext cx="9144000" cy="822240"/>
          </a:xfrm>
          <a:prstGeom prst="rect">
            <a:avLst/>
          </a:prstGeom>
          <a:noFill/>
          <a:ln w="0">
            <a:noFill/>
          </a:ln>
        </p:spPr>
        <p:txBody>
          <a:bodyPr lIns="90360" rIns="90360" tIns="44280" bIns="442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AL System Characteristics Schema </a:t>
            </a:r>
            <a:br>
              <a:rPr sz="3000"/>
            </a:br>
            <a:r>
              <a:rPr b="1" lang="en-US" sz="3000" spc="-1" strike="noStrike">
                <a:solidFill>
                  <a:srgbClr val="000000"/>
                </a:solidFill>
                <a:latin typeface="Arial"/>
              </a:rPr>
              <a:t>Consumers and Producers Requirements</a:t>
            </a:r>
            <a:endParaRPr b="1" lang="en-US" sz="3000" spc="-1" strike="noStrike">
              <a:solidFill>
                <a:srgbClr val="000000"/>
              </a:solidFill>
              <a:latin typeface="Arial"/>
            </a:endParaRPr>
          </a:p>
        </p:txBody>
      </p:sp>
      <p:sp>
        <p:nvSpPr>
          <p:cNvPr id="853" name=""/>
          <p:cNvSpPr/>
          <p:nvPr/>
        </p:nvSpPr>
        <p:spPr>
          <a:xfrm>
            <a:off x="125280" y="1216080"/>
            <a:ext cx="9014040" cy="4118760"/>
          </a:xfrm>
          <a:prstGeom prst="rect">
            <a:avLst/>
          </a:prstGeom>
          <a:noFill/>
          <a:ln w="0">
            <a:noFill/>
          </a:ln>
        </p:spPr>
        <p:style>
          <a:lnRef idx="0"/>
          <a:fillRef idx="0"/>
          <a:effectRef idx="0"/>
          <a:fontRef idx="minor"/>
        </p:style>
        <p:txBody>
          <a:bodyPr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 Specific OVAL Compatibility Requirements</a:t>
            </a:r>
            <a:endParaRPr b="0" lang="en-US" sz="12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3 OVAL System Characteristics Schema</a:t>
            </a:r>
            <a:endParaRPr b="0" lang="en-US" sz="12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requirements apply to all tools that intend to make use of the </a:t>
            </a:r>
            <a:r>
              <a:rPr b="0" lang="en-US" sz="1200" spc="-1" strike="noStrike" u="sng">
                <a:solidFill>
                  <a:srgbClr val="fc0128"/>
                </a:solidFill>
                <a:uFillTx/>
                <a:latin typeface="Arial"/>
                <a:hlinkClick r:id="rId1"/>
              </a:rPr>
              <a:t>OVAL Syst</a:t>
            </a:r>
            <a:r>
              <a:rPr b="0" lang="en-US" sz="1200" spc="-1" strike="noStrike" u="sng">
                <a:solidFill>
                  <a:srgbClr val="fc0128"/>
                </a:solidFill>
                <a:uFillTx/>
                <a:latin typeface="Arial"/>
                <a:hlinkClick r:id="rId2"/>
              </a:rPr>
              <a:t>em Characteristics Schema</a:t>
            </a:r>
            <a:r>
              <a:rPr b="0" lang="en-US" sz="1200" spc="-1" strike="noStrike">
                <a:solidFill>
                  <a:srgbClr val="000000"/>
                </a:solidFill>
                <a:latin typeface="Arial"/>
              </a:rPr>
              <a:t>.</a:t>
            </a:r>
            <a:endParaRPr b="0" lang="en-US" sz="12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8000"/>
                </a:solidFill>
                <a:latin typeface="Arial"/>
              </a:rPr>
              <a:t>Consumer Requirements</a:t>
            </a:r>
            <a:endParaRPr b="0" lang="en-US" sz="12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requirements apply to all tools that intend to consume information in the OVAL Definition Schema format.</a:t>
            </a:r>
            <a:endParaRPr b="0" lang="en-US" sz="12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3.1)</a:t>
            </a:r>
            <a:r>
              <a:rPr b="0" lang="en-US" sz="1200" spc="-1" strike="noStrike">
                <a:solidFill>
                  <a:srgbClr val="000000"/>
                </a:solidFill>
                <a:latin typeface="Arial"/>
              </a:rPr>
              <a:t> The tool MUST be capable of validating the incoming system characteristics content against the schema version it is stated to comply with.</a:t>
            </a:r>
            <a:endParaRPr b="0" lang="en-US" sz="12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3.2)</a:t>
            </a:r>
            <a:r>
              <a:rPr b="0" lang="en-US" sz="1200" spc="-1" strike="noStrike">
                <a:solidFill>
                  <a:srgbClr val="000000"/>
                </a:solidFill>
                <a:latin typeface="Arial"/>
              </a:rPr>
              <a:t> The tool MUST be able to correctly interpret all of the information within the &lt;object&gt; and &lt;data&gt; sections of the system characteristic content for each characteristic item.</a:t>
            </a:r>
            <a:endParaRPr b="0" lang="en-US" sz="12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3.3)</a:t>
            </a:r>
            <a:r>
              <a:rPr b="0" lang="en-US" sz="1200" spc="-1" strike="noStrike">
                <a:solidFill>
                  <a:srgbClr val="000000"/>
                </a:solidFill>
                <a:latin typeface="Arial"/>
              </a:rPr>
              <a:t> The tool MUST use the unique item ID whenever it makes a reference to a specific system characteristic content item.</a:t>
            </a:r>
            <a:endParaRPr b="0" lang="en-US" sz="12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3.4)</a:t>
            </a:r>
            <a:r>
              <a:rPr b="0" lang="en-US" sz="1200" spc="-1" strike="noStrike">
                <a:solidFill>
                  <a:srgbClr val="000000"/>
                </a:solidFill>
                <a:latin typeface="Arial"/>
              </a:rPr>
              <a:t> The tool MUST be capable of correctly handling the complete set of items that match a specific criteria. </a:t>
            </a:r>
            <a:endParaRPr b="0" lang="en-US" sz="12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8000"/>
                </a:solidFill>
                <a:latin typeface="Arial"/>
              </a:rPr>
              <a:t>Producer Requirements</a:t>
            </a:r>
            <a:endParaRPr b="0" lang="en-US" sz="12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requirements apply to all tools that intend to generate information in the OVAL System Characteristics Schema format.</a:t>
            </a:r>
            <a:endParaRPr b="0" lang="en-US" sz="1200" spc="-1" strike="noStrike">
              <a:solidFill>
                <a:srgbClr val="000000"/>
              </a:solidFill>
              <a:latin typeface="Times New Roman"/>
            </a:endParaRPr>
          </a:p>
          <a:p>
            <a:pPr lvl="1" marL="45720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3.5)</a:t>
            </a:r>
            <a:r>
              <a:rPr b="0" lang="en-US" sz="1200" spc="-1" strike="noStrike">
                <a:solidFill>
                  <a:srgbClr val="000000"/>
                </a:solidFill>
                <a:latin typeface="Arial"/>
              </a:rPr>
              <a:t> The system characteristics content MUST validate against the schema version it is stated to comply with.</a:t>
            </a:r>
            <a:endParaRPr b="0" lang="en-US" sz="12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3.6)</a:t>
            </a:r>
            <a:r>
              <a:rPr b="0" lang="en-US" sz="1200" spc="-1" strike="noStrike">
                <a:solidFill>
                  <a:srgbClr val="000000"/>
                </a:solidFill>
                <a:latin typeface="Arial"/>
              </a:rPr>
              <a:t> The tool MUST generate system characteristics content that contains the exact system configuration values gathered at the time the tool executed against the system.  </a:t>
            </a:r>
            <a:endParaRPr b="0" lang="en-US" sz="12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3.7)</a:t>
            </a:r>
            <a:r>
              <a:rPr b="0" lang="en-US" sz="1200" spc="-1" strike="noStrike">
                <a:solidFill>
                  <a:srgbClr val="000000"/>
                </a:solidFill>
                <a:latin typeface="Arial"/>
              </a:rPr>
              <a:t> The system characteristics content MUST be complete for a given object such that the values for all matching objects on a system are represented. </a:t>
            </a:r>
            <a:endParaRPr b="0" lang="en-US" sz="12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3.8)</a:t>
            </a:r>
            <a:r>
              <a:rPr b="0" lang="en-US" sz="1200" spc="-1" strike="noStrike">
                <a:solidFill>
                  <a:srgbClr val="000000"/>
                </a:solidFill>
                <a:latin typeface="Arial"/>
              </a:rPr>
              <a:t> The system characteristics content MUST be complete for a system such that the content represents the true configuration state for a system at the time of collection</a:t>
            </a:r>
            <a:r>
              <a:rPr b="0" i="1" lang="en-US" sz="1200" spc="-1" strike="noStrike">
                <a:solidFill>
                  <a:srgbClr val="000000"/>
                </a:solidFill>
                <a:latin typeface="Arial"/>
              </a:rPr>
              <a:t>.</a:t>
            </a:r>
            <a:r>
              <a:rPr b="0" lang="en-US" sz="1200" spc="-1" strike="noStrike">
                <a:solidFill>
                  <a:srgbClr val="000000"/>
                </a:solidFill>
                <a:latin typeface="Arial"/>
              </a:rPr>
              <a:t> </a:t>
            </a:r>
            <a:endParaRPr b="0" lang="en-US" sz="12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3.9)</a:t>
            </a:r>
            <a:r>
              <a:rPr b="0" lang="en-US" sz="1200" spc="-1" strike="noStrike">
                <a:solidFill>
                  <a:srgbClr val="000000"/>
                </a:solidFill>
                <a:latin typeface="Arial"/>
              </a:rPr>
              <a:t> A unique ID MUST be assigned to each item within the system characteristics content.</a:t>
            </a:r>
            <a:endParaRPr b="0" lang="en-US" sz="12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3.10)</a:t>
            </a:r>
            <a:r>
              <a:rPr b="0" lang="en-US" sz="1200" spc="-1" strike="noStrike">
                <a:solidFill>
                  <a:srgbClr val="000000"/>
                </a:solidFill>
                <a:latin typeface="Arial"/>
              </a:rPr>
              <a:t> All data types applied to an item MUST be appropriate for that item.</a:t>
            </a:r>
            <a:endParaRPr b="0" lang="en-US" sz="12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4" name="PlaceHolder 1"/>
          <p:cNvSpPr>
            <a:spLocks noGrp="1"/>
          </p:cNvSpPr>
          <p:nvPr>
            <p:ph type="title"/>
          </p:nvPr>
        </p:nvSpPr>
        <p:spPr>
          <a:xfrm>
            <a:off x="0" y="193680"/>
            <a:ext cx="9144000" cy="822240"/>
          </a:xfrm>
          <a:prstGeom prst="rect">
            <a:avLst/>
          </a:prstGeom>
          <a:noFill/>
          <a:ln w="0">
            <a:noFill/>
          </a:ln>
        </p:spPr>
        <p:txBody>
          <a:bodyPr lIns="90360" rIns="90360" tIns="44280" bIns="442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AL Compatibility - other areas to address</a:t>
            </a:r>
            <a:endParaRPr b="1" lang="en-US" sz="3000" spc="-1" strike="noStrike">
              <a:solidFill>
                <a:srgbClr val="000000"/>
              </a:solidFill>
              <a:latin typeface="Arial"/>
            </a:endParaRPr>
          </a:p>
        </p:txBody>
      </p:sp>
      <p:sp>
        <p:nvSpPr>
          <p:cNvPr id="855" name="PlaceHolder 2"/>
          <p:cNvSpPr>
            <a:spLocks noGrp="1"/>
          </p:cNvSpPr>
          <p:nvPr>
            <p:ph/>
          </p:nvPr>
        </p:nvSpPr>
        <p:spPr>
          <a:xfrm>
            <a:off x="202680" y="1277640"/>
            <a:ext cx="8642520" cy="4753080"/>
          </a:xfrm>
          <a:prstGeom prst="rect">
            <a:avLst/>
          </a:prstGeom>
          <a:noFill/>
          <a:ln w="0">
            <a:noFill/>
          </a:ln>
        </p:spPr>
        <p:txBody>
          <a:bodyPr lIns="90360" rIns="90360" tIns="44280" bIns="44280" anchor="t">
            <a:normAutofit/>
          </a:bodyPr>
          <a:p>
            <a:pPr marL="230040" indent="-230040">
              <a:buClr>
                <a:srgbClr val="000000"/>
              </a:buClr>
              <a:buSzPct val="88000"/>
              <a:buFont typeface="Monaco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pport of tailoring “directives”</a:t>
            </a:r>
            <a:endParaRPr b="1" lang="en-US" sz="2000" spc="-1" strike="noStrike">
              <a:solidFill>
                <a:srgbClr val="000000"/>
              </a:solidFill>
              <a:latin typeface="Arial"/>
            </a:endParaRPr>
          </a:p>
          <a:p>
            <a:pPr marL="230040" indent="-230040">
              <a:buClr>
                <a:srgbClr val="000000"/>
              </a:buClr>
              <a:buSzPct val="88000"/>
              <a:buFont typeface="Monaco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thers?</a:t>
            </a:r>
            <a:endParaRPr b="1" lang="en-US" sz="2000" spc="-1" strike="noStrike">
              <a:solidFill>
                <a:srgbClr val="000000"/>
              </a:solidFill>
              <a:latin typeface="Arial"/>
            </a:endParaRPr>
          </a:p>
          <a:p>
            <a:pPr lvl="1" marL="6303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30040" indent="-230040">
              <a:buClr>
                <a:srgbClr val="000000"/>
              </a:buClr>
              <a:buSzPct val="88000"/>
              <a:buFont typeface="Monaco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sting/Validation Approaches</a:t>
            </a:r>
            <a:endParaRPr b="1" lang="en-US" sz="2000" spc="-1" strike="noStrike">
              <a:solidFill>
                <a:srgbClr val="000000"/>
              </a:solidFill>
              <a:latin typeface="Arial"/>
            </a:endParaRPr>
          </a:p>
          <a:p>
            <a:pPr lvl="1" marL="630360" indent="-285840">
              <a:buClr>
                <a:srgbClr val="000000"/>
              </a:buClr>
              <a:buFont typeface="Monaco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thin the OVAL Initiative</a:t>
            </a:r>
            <a:endParaRPr b="1" lang="en-US" sz="2000" spc="-1" strike="noStrike">
              <a:solidFill>
                <a:srgbClr val="000000"/>
              </a:solidFill>
              <a:latin typeface="Arial"/>
            </a:endParaRPr>
          </a:p>
          <a:p>
            <a:pPr lvl="2" marL="973080" indent="-228600">
              <a:buClr>
                <a:srgbClr val="000000"/>
              </a:buClr>
              <a:buSzPct val="68000"/>
              <a:buFont typeface="Monaco CE"/>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TRE Evaluation</a:t>
            </a:r>
            <a:endParaRPr b="1" lang="en-US" sz="1800" spc="-1" strike="noStrike">
              <a:solidFill>
                <a:srgbClr val="000000"/>
              </a:solidFill>
              <a:latin typeface="Arial"/>
            </a:endParaRPr>
          </a:p>
          <a:p>
            <a:pPr lvl="3" marL="1316160" indent="-228600">
              <a:buClr>
                <a:srgbClr val="000000"/>
              </a:buClr>
              <a:buFont typeface="Monaco CE"/>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ith/With-out SC support</a:t>
            </a:r>
            <a:endParaRPr b="1" lang="en-US" sz="1600" spc="-1" strike="noStrike">
              <a:solidFill>
                <a:srgbClr val="000000"/>
              </a:solidFill>
              <a:latin typeface="Arial"/>
            </a:endParaRPr>
          </a:p>
          <a:p>
            <a:pPr lvl="2" marL="973080" indent="-228600">
              <a:buClr>
                <a:srgbClr val="000000"/>
              </a:buClr>
              <a:buSzPct val="68000"/>
              <a:buFont typeface="Monaco CE"/>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ndor-to-vendor testing with results evaluated by MITRE</a:t>
            </a:r>
            <a:endParaRPr b="1" lang="en-US" sz="1800" spc="-1" strike="noStrike">
              <a:solidFill>
                <a:srgbClr val="000000"/>
              </a:solidFill>
              <a:latin typeface="Arial"/>
            </a:endParaRPr>
          </a:p>
          <a:p>
            <a:pPr lvl="3" marL="1316160" indent="-228600">
              <a:buClr>
                <a:srgbClr val="000000"/>
              </a:buClr>
              <a:buFont typeface="Monaco CE"/>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roup validation exercises at conference/workshops</a:t>
            </a:r>
            <a:endParaRPr b="1" lang="en-US" sz="1600" spc="-1" strike="noStrike">
              <a:solidFill>
                <a:srgbClr val="000000"/>
              </a:solidFill>
              <a:latin typeface="Arial"/>
            </a:endParaRPr>
          </a:p>
          <a:p>
            <a:pPr lvl="4" marL="1658880" indent="-228600">
              <a:buClr>
                <a:srgbClr val="000000"/>
              </a:buClr>
              <a:buFont typeface="Monaco CE"/>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NS, RSA, others with test networks?</a:t>
            </a:r>
            <a:endParaRPr b="1" lang="en-US" sz="1600" spc="-1" strike="noStrike">
              <a:solidFill>
                <a:srgbClr val="000000"/>
              </a:solidFill>
              <a:latin typeface="Arial"/>
            </a:endParaRPr>
          </a:p>
          <a:p>
            <a:pPr lvl="1" marL="630360" indent="-285840">
              <a:buClr>
                <a:srgbClr val="000000"/>
              </a:buClr>
              <a:buFont typeface="Monaco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utside testing labs with results evaluated by MITRE</a:t>
            </a:r>
            <a:endParaRPr b="1" lang="en-US" sz="2000" spc="-1" strike="noStrike">
              <a:solidFill>
                <a:srgbClr val="000000"/>
              </a:solidFill>
              <a:latin typeface="Arial"/>
            </a:endParaRPr>
          </a:p>
          <a:p>
            <a:pPr lvl="2" marL="973080" indent="-228600">
              <a:buClr>
                <a:srgbClr val="000000"/>
              </a:buClr>
              <a:buSzPct val="68000"/>
              <a:buFont typeface="Monaco CE"/>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CSA Labs</a:t>
            </a:r>
            <a:endParaRPr b="1" lang="en-US" sz="1800" spc="-1" strike="noStrike">
              <a:solidFill>
                <a:srgbClr val="000000"/>
              </a:solidFill>
              <a:latin typeface="Arial"/>
            </a:endParaRPr>
          </a:p>
          <a:p>
            <a:pPr lvl="2" marL="973080" indent="-228600">
              <a:buClr>
                <a:srgbClr val="000000"/>
              </a:buClr>
              <a:buSzPct val="68000"/>
              <a:buFont typeface="Monaco CE"/>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SS Group</a:t>
            </a:r>
            <a:endParaRPr b="1" lang="en-US" sz="1800" spc="-1" strike="noStrike">
              <a:solidFill>
                <a:srgbClr val="000000"/>
              </a:solidFill>
              <a:latin typeface="Arial"/>
            </a:endParaRPr>
          </a:p>
          <a:p>
            <a:pPr lvl="2" marL="973080" indent="-228600">
              <a:buClr>
                <a:srgbClr val="000000"/>
              </a:buClr>
              <a:buSzPct val="68000"/>
              <a:buFont typeface="Monaco CE"/>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IST</a:t>
            </a:r>
            <a:endParaRPr b="1" lang="en-US" sz="1800" spc="-1" strike="noStrike">
              <a:solidFill>
                <a:srgbClr val="000000"/>
              </a:solidFill>
              <a:latin typeface="Arial"/>
            </a:endParaRPr>
          </a:p>
          <a:p>
            <a:pPr lvl="1" marL="6303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300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
          <p:cNvSpPr/>
          <p:nvPr/>
        </p:nvSpPr>
        <p:spPr>
          <a:xfrm>
            <a:off x="8120160" y="6524640"/>
            <a:ext cx="1023840" cy="333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 name=""/>
          <p:cNvGrpSpPr/>
          <p:nvPr/>
        </p:nvGrpSpPr>
        <p:grpSpPr>
          <a:xfrm>
            <a:off x="6829560" y="3508200"/>
            <a:ext cx="2314440" cy="3222360"/>
            <a:chOff x="6829560" y="3508200"/>
            <a:chExt cx="2314440" cy="3222360"/>
          </a:xfrm>
        </p:grpSpPr>
        <p:grpSp>
          <p:nvGrpSpPr>
            <p:cNvPr id="85" name=""/>
            <p:cNvGrpSpPr/>
            <p:nvPr/>
          </p:nvGrpSpPr>
          <p:grpSpPr>
            <a:xfrm>
              <a:off x="7985160" y="5159520"/>
              <a:ext cx="856800" cy="1571040"/>
              <a:chOff x="7985160" y="5159520"/>
              <a:chExt cx="856800" cy="1571040"/>
            </a:xfrm>
          </p:grpSpPr>
          <p:pic>
            <p:nvPicPr>
              <p:cNvPr id="86" name="" descr=""/>
              <p:cNvPicPr/>
              <p:nvPr/>
            </p:nvPicPr>
            <p:blipFill>
              <a:blip r:embed="rId1"/>
              <a:stretch/>
            </p:blipFill>
            <p:spPr>
              <a:xfrm flipH="1">
                <a:off x="7985160" y="5159520"/>
                <a:ext cx="559080" cy="612000"/>
              </a:xfrm>
              <a:prstGeom prst="rect">
                <a:avLst/>
              </a:prstGeom>
              <a:ln w="0">
                <a:noFill/>
              </a:ln>
            </p:spPr>
          </p:pic>
          <p:pic>
            <p:nvPicPr>
              <p:cNvPr id="87" name="" descr=""/>
              <p:cNvPicPr/>
              <p:nvPr/>
            </p:nvPicPr>
            <p:blipFill>
              <a:blip r:embed="rId2"/>
              <a:stretch/>
            </p:blipFill>
            <p:spPr>
              <a:xfrm flipH="1">
                <a:off x="8134200" y="5639040"/>
                <a:ext cx="559080" cy="612000"/>
              </a:xfrm>
              <a:prstGeom prst="rect">
                <a:avLst/>
              </a:prstGeom>
              <a:ln w="0">
                <a:noFill/>
              </a:ln>
            </p:spPr>
          </p:pic>
          <p:pic>
            <p:nvPicPr>
              <p:cNvPr id="88" name="" descr=""/>
              <p:cNvPicPr/>
              <p:nvPr/>
            </p:nvPicPr>
            <p:blipFill>
              <a:blip r:embed="rId3"/>
              <a:stretch/>
            </p:blipFill>
            <p:spPr>
              <a:xfrm flipH="1">
                <a:off x="8282880" y="6118920"/>
                <a:ext cx="559080" cy="611640"/>
              </a:xfrm>
              <a:prstGeom prst="rect">
                <a:avLst/>
              </a:prstGeom>
              <a:ln w="0">
                <a:noFill/>
              </a:ln>
            </p:spPr>
          </p:pic>
        </p:grpSp>
        <p:grpSp>
          <p:nvGrpSpPr>
            <p:cNvPr id="89" name=""/>
            <p:cNvGrpSpPr/>
            <p:nvPr/>
          </p:nvGrpSpPr>
          <p:grpSpPr>
            <a:xfrm>
              <a:off x="8285400" y="3889440"/>
              <a:ext cx="858600" cy="1571040"/>
              <a:chOff x="8285400" y="3889440"/>
              <a:chExt cx="858600" cy="1571040"/>
            </a:xfrm>
          </p:grpSpPr>
          <p:pic>
            <p:nvPicPr>
              <p:cNvPr id="90" name="" descr=""/>
              <p:cNvPicPr/>
              <p:nvPr/>
            </p:nvPicPr>
            <p:blipFill>
              <a:blip r:embed="rId4"/>
              <a:stretch/>
            </p:blipFill>
            <p:spPr>
              <a:xfrm flipH="1">
                <a:off x="8285400" y="3889440"/>
                <a:ext cx="560520" cy="612000"/>
              </a:xfrm>
              <a:prstGeom prst="rect">
                <a:avLst/>
              </a:prstGeom>
              <a:ln w="0">
                <a:noFill/>
              </a:ln>
            </p:spPr>
          </p:pic>
          <p:pic>
            <p:nvPicPr>
              <p:cNvPr id="91" name="" descr=""/>
              <p:cNvPicPr/>
              <p:nvPr/>
            </p:nvPicPr>
            <p:blipFill>
              <a:blip r:embed="rId5"/>
              <a:stretch/>
            </p:blipFill>
            <p:spPr>
              <a:xfrm flipH="1">
                <a:off x="8434800" y="4368960"/>
                <a:ext cx="560520" cy="612000"/>
              </a:xfrm>
              <a:prstGeom prst="rect">
                <a:avLst/>
              </a:prstGeom>
              <a:ln w="0">
                <a:noFill/>
              </a:ln>
            </p:spPr>
          </p:pic>
          <p:pic>
            <p:nvPicPr>
              <p:cNvPr id="92" name="" descr=""/>
              <p:cNvPicPr/>
              <p:nvPr/>
            </p:nvPicPr>
            <p:blipFill>
              <a:blip r:embed="rId6"/>
              <a:stretch/>
            </p:blipFill>
            <p:spPr>
              <a:xfrm flipH="1">
                <a:off x="8583840" y="4848840"/>
                <a:ext cx="560160" cy="611640"/>
              </a:xfrm>
              <a:prstGeom prst="rect">
                <a:avLst/>
              </a:prstGeom>
              <a:ln w="0">
                <a:noFill/>
              </a:ln>
            </p:spPr>
          </p:pic>
        </p:grpSp>
        <p:sp>
          <p:nvSpPr>
            <p:cNvPr id="93" name=""/>
            <p:cNvSpPr/>
            <p:nvPr/>
          </p:nvSpPr>
          <p:spPr>
            <a:xfrm>
              <a:off x="6829560" y="3508200"/>
              <a:ext cx="183024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63300"/>
                  </a:solidFill>
                  <a:latin typeface="Arial"/>
                  <a:ea typeface="ＭＳ Ｐゴシック"/>
                </a:rPr>
                <a:t>Manual </a:t>
              </a:r>
              <a:r>
                <a:rPr b="0" lang="en-US" sz="1200" spc="-1" strike="noStrike">
                  <a:solidFill>
                    <a:srgbClr val="663300"/>
                  </a:solidFill>
                  <a:latin typeface="Arial"/>
                  <a:ea typeface="ＭＳ Ｐゴシック"/>
                </a:rPr>
                <a:t>fixing by patch, configuration, remediation tool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3300"/>
                  </a:solidFill>
                  <a:latin typeface="Arial"/>
                  <a:ea typeface="ＭＳ Ｐゴシック"/>
                </a:rPr>
                <a:t>or by locally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3300"/>
                  </a:solidFill>
                  <a:latin typeface="Arial"/>
                  <a:ea typeface="ＭＳ Ｐゴシック"/>
                </a:rPr>
                <a:t>developed scripts</a:t>
              </a:r>
              <a:endParaRPr b="0" lang="en-US" sz="1200" spc="-1" strike="noStrike">
                <a:solidFill>
                  <a:srgbClr val="000000"/>
                </a:solidFill>
                <a:latin typeface="Times New Roman"/>
              </a:endParaRPr>
            </a:p>
          </p:txBody>
        </p:sp>
      </p:grpSp>
      <p:sp>
        <p:nvSpPr>
          <p:cNvPr id="94" name=""/>
          <p:cNvSpPr/>
          <p:nvPr/>
        </p:nvSpPr>
        <p:spPr>
          <a:xfrm>
            <a:off x="2225520" y="4383000"/>
            <a:ext cx="1562400" cy="1054080"/>
          </a:xfrm>
          <a:prstGeom prst="rect">
            <a:avLst/>
          </a:prstGeom>
          <a:solidFill>
            <a:srgbClr val="ffffcc"/>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Assess  Complian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5" name=""/>
          <p:cNvSpPr/>
          <p:nvPr/>
        </p:nvSpPr>
        <p:spPr>
          <a:xfrm>
            <a:off x="3813120" y="4865760"/>
            <a:ext cx="905040" cy="0"/>
          </a:xfrm>
          <a:prstGeom prst="line">
            <a:avLst/>
          </a:prstGeom>
          <a:ln w="63360">
            <a:solidFill>
              <a:srgbClr val="000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6188040" y="4865760"/>
            <a:ext cx="490680" cy="0"/>
          </a:xfrm>
          <a:prstGeom prst="line">
            <a:avLst/>
          </a:prstGeom>
          <a:ln w="63360">
            <a:solidFill>
              <a:srgbClr val="000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6189840" y="442764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ＭＳ Ｐゴシック"/>
              </a:rPr>
              <a:t>No</a:t>
            </a:r>
            <a:endParaRPr b="0" lang="en-US" sz="1800" spc="-1" strike="noStrike">
              <a:solidFill>
                <a:srgbClr val="000000"/>
              </a:solidFill>
              <a:latin typeface="Times New Roman"/>
            </a:endParaRPr>
          </a:p>
        </p:txBody>
      </p:sp>
      <p:cxnSp>
        <p:nvCxnSpPr>
          <p:cNvPr id="98" name=""/>
          <p:cNvCxnSpPr>
            <a:stCxn id="99" idx="2"/>
          </p:cNvCxnSpPr>
          <p:nvPr/>
        </p:nvCxnSpPr>
        <p:spPr>
          <a:xfrm rot="5400000">
            <a:off x="3479760" y="2532960"/>
            <a:ext cx="1278720" cy="6633360"/>
          </a:xfrm>
          <a:prstGeom prst="bentConnector2">
            <a:avLst/>
          </a:prstGeom>
          <a:ln w="63360">
            <a:solidFill>
              <a:srgbClr val="000080"/>
            </a:solidFill>
            <a:miter/>
          </a:ln>
        </p:spPr>
      </p:cxnSp>
      <p:sp>
        <p:nvSpPr>
          <p:cNvPr id="100" name=""/>
          <p:cNvSpPr/>
          <p:nvPr/>
        </p:nvSpPr>
        <p:spPr>
          <a:xfrm flipV="1">
            <a:off x="790560" y="5313240"/>
            <a:ext cx="0" cy="1206720"/>
          </a:xfrm>
          <a:prstGeom prst="line">
            <a:avLst/>
          </a:prstGeom>
          <a:ln w="63360">
            <a:solidFill>
              <a:srgbClr val="000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flipV="1">
            <a:off x="1131840" y="5330520"/>
            <a:ext cx="15840" cy="847800"/>
          </a:xfrm>
          <a:prstGeom prst="line">
            <a:avLst/>
          </a:prstGeom>
          <a:ln w="63360">
            <a:solidFill>
              <a:srgbClr val="000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518440" y="5538960"/>
            <a:ext cx="535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ＭＳ Ｐゴシック"/>
              </a:rPr>
              <a:t>Yes</a:t>
            </a:r>
            <a:endParaRPr b="0" lang="en-US" sz="1800" spc="-1" strike="noStrike">
              <a:solidFill>
                <a:srgbClr val="000000"/>
              </a:solidFill>
              <a:latin typeface="Times New Roman"/>
            </a:endParaRPr>
          </a:p>
        </p:txBody>
      </p:sp>
      <p:sp>
        <p:nvSpPr>
          <p:cNvPr id="103" name=""/>
          <p:cNvSpPr/>
          <p:nvPr/>
        </p:nvSpPr>
        <p:spPr>
          <a:xfrm>
            <a:off x="6934320" y="2965320"/>
            <a:ext cx="183960" cy="24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 name=""/>
          <p:cNvSpPr/>
          <p:nvPr/>
        </p:nvSpPr>
        <p:spPr>
          <a:xfrm>
            <a:off x="7462800" y="3813120"/>
            <a:ext cx="184320" cy="24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05" name=""/>
          <p:cNvGrpSpPr/>
          <p:nvPr/>
        </p:nvGrpSpPr>
        <p:grpSpPr>
          <a:xfrm>
            <a:off x="2135160" y="2690640"/>
            <a:ext cx="1865160" cy="1649160"/>
            <a:chOff x="2135160" y="2690640"/>
            <a:chExt cx="1865160" cy="1649160"/>
          </a:xfrm>
        </p:grpSpPr>
        <p:grpSp>
          <p:nvGrpSpPr>
            <p:cNvPr id="106" name=""/>
            <p:cNvGrpSpPr/>
            <p:nvPr/>
          </p:nvGrpSpPr>
          <p:grpSpPr>
            <a:xfrm>
              <a:off x="3143160" y="2768760"/>
              <a:ext cx="857160" cy="1571040"/>
              <a:chOff x="3143160" y="2768760"/>
              <a:chExt cx="857160" cy="1571040"/>
            </a:xfrm>
          </p:grpSpPr>
          <p:pic>
            <p:nvPicPr>
              <p:cNvPr id="107" name="" descr=""/>
              <p:cNvPicPr/>
              <p:nvPr/>
            </p:nvPicPr>
            <p:blipFill>
              <a:blip r:embed="rId7"/>
              <a:stretch/>
            </p:blipFill>
            <p:spPr>
              <a:xfrm>
                <a:off x="3440880" y="2768760"/>
                <a:ext cx="559440" cy="612000"/>
              </a:xfrm>
              <a:prstGeom prst="rect">
                <a:avLst/>
              </a:prstGeom>
              <a:ln w="0">
                <a:noFill/>
              </a:ln>
            </p:spPr>
          </p:pic>
          <p:pic>
            <p:nvPicPr>
              <p:cNvPr id="108" name="" descr=""/>
              <p:cNvPicPr/>
              <p:nvPr/>
            </p:nvPicPr>
            <p:blipFill>
              <a:blip r:embed="rId8"/>
              <a:stretch/>
            </p:blipFill>
            <p:spPr>
              <a:xfrm>
                <a:off x="3291840" y="3248280"/>
                <a:ext cx="559440" cy="612000"/>
              </a:xfrm>
              <a:prstGeom prst="rect">
                <a:avLst/>
              </a:prstGeom>
              <a:ln w="0">
                <a:noFill/>
              </a:ln>
            </p:spPr>
          </p:pic>
          <p:pic>
            <p:nvPicPr>
              <p:cNvPr id="109" name="" descr=""/>
              <p:cNvPicPr/>
              <p:nvPr/>
            </p:nvPicPr>
            <p:blipFill>
              <a:blip r:embed="rId9"/>
              <a:stretch/>
            </p:blipFill>
            <p:spPr>
              <a:xfrm>
                <a:off x="3143160" y="3728160"/>
                <a:ext cx="559080" cy="611640"/>
              </a:xfrm>
              <a:prstGeom prst="rect">
                <a:avLst/>
              </a:prstGeom>
              <a:ln w="0">
                <a:noFill/>
              </a:ln>
            </p:spPr>
          </p:pic>
        </p:grpSp>
        <p:sp>
          <p:nvSpPr>
            <p:cNvPr id="110" name=""/>
            <p:cNvSpPr/>
            <p:nvPr/>
          </p:nvSpPr>
          <p:spPr>
            <a:xfrm>
              <a:off x="2135160" y="2690640"/>
              <a:ext cx="1793880" cy="1447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00"/>
                  </a:solidFill>
                  <a:latin typeface="Arial"/>
                  <a:ea typeface="ＭＳ Ｐゴシック"/>
                </a:rPr>
                <a:t>Scanning tools, Enterprise Managemen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00"/>
                  </a:solidFill>
                  <a:latin typeface="Arial"/>
                  <a:ea typeface="ＭＳ Ｐゴシック"/>
                </a:rPr>
                <a:t>Systems, or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00"/>
                  </a:solidFill>
                  <a:latin typeface="Arial"/>
                  <a:ea typeface="ＭＳ Ｐゴシック"/>
                </a:rPr>
                <a:t>manual</a:t>
              </a:r>
              <a:r>
                <a:rPr b="0" lang="en-US" sz="1200" spc="-1" strike="noStrike">
                  <a:solidFill>
                    <a:srgbClr val="006600"/>
                  </a:solidFill>
                  <a:latin typeface="Arial"/>
                  <a:ea typeface="ＭＳ Ｐゴシック"/>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00"/>
                  </a:solidFill>
                  <a:latin typeface="Arial"/>
                  <a:ea typeface="ＭＳ Ｐゴシック"/>
                </a:rPr>
                <a:t>processe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00"/>
                  </a:solidFill>
                  <a:latin typeface="Arial"/>
                  <a:ea typeface="ＭＳ Ｐゴシック"/>
                </a:rPr>
                <a:t>used </a:t>
              </a:r>
              <a:endParaRPr b="0" lang="en-US" sz="1200" spc="-1" strike="noStrike">
                <a:solidFill>
                  <a:srgbClr val="000000"/>
                </a:solidFill>
                <a:latin typeface="Times New Roman"/>
              </a:endParaRPr>
            </a:p>
          </p:txBody>
        </p:sp>
      </p:grpSp>
      <p:grpSp>
        <p:nvGrpSpPr>
          <p:cNvPr id="111" name=""/>
          <p:cNvGrpSpPr/>
          <p:nvPr/>
        </p:nvGrpSpPr>
        <p:grpSpPr>
          <a:xfrm>
            <a:off x="0" y="1598760"/>
            <a:ext cx="1901880" cy="3190680"/>
            <a:chOff x="0" y="1598760"/>
            <a:chExt cx="1901880" cy="3190680"/>
          </a:xfrm>
        </p:grpSpPr>
        <p:sp>
          <p:nvSpPr>
            <p:cNvPr id="112" name=""/>
            <p:cNvSpPr/>
            <p:nvPr/>
          </p:nvSpPr>
          <p:spPr>
            <a:xfrm>
              <a:off x="444600" y="3130560"/>
              <a:ext cx="126036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New</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a:t>
              </a:r>
              <a:r>
                <a:rPr b="1" lang="en-US" sz="1200" spc="-1" strike="noStrike">
                  <a:solidFill>
                    <a:srgbClr val="000000"/>
                  </a:solidFill>
                  <a:latin typeface="Arial"/>
                  <a:ea typeface="ＭＳ Ｐゴシック"/>
                </a:rPr>
                <a:t>Flaw” Requirement</a:t>
              </a:r>
              <a:endParaRPr b="0" lang="en-US" sz="1200" spc="-1" strike="noStrike">
                <a:solidFill>
                  <a:srgbClr val="000000"/>
                </a:solidFill>
                <a:latin typeface="Times New Roman"/>
              </a:endParaRPr>
            </a:p>
          </p:txBody>
        </p:sp>
        <p:sp>
          <p:nvSpPr>
            <p:cNvPr id="113" name=""/>
            <p:cNvSpPr/>
            <p:nvPr/>
          </p:nvSpPr>
          <p:spPr>
            <a:xfrm>
              <a:off x="1430280" y="3801960"/>
              <a:ext cx="471600" cy="987480"/>
            </a:xfrm>
            <a:prstGeom prst="line">
              <a:avLst/>
            </a:prstGeom>
            <a:ln cap="rnd" w="63360">
              <a:solidFill>
                <a:srgbClr val="99ccff"/>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0" y="1598760"/>
              <a:ext cx="157788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ff"/>
                  </a:solidFill>
                  <a:latin typeface="Arial"/>
                  <a:ea typeface="ＭＳ Ｐゴシック"/>
                </a:rPr>
                <a:t>Text-based</a:t>
              </a:r>
              <a:r>
                <a:rPr b="0" lang="en-US" sz="1200" spc="-1" strike="noStrike">
                  <a:solidFill>
                    <a:srgbClr val="3333ff"/>
                  </a:solidFill>
                  <a:latin typeface="Arial"/>
                  <a:ea typeface="ＭＳ Ｐゴシック"/>
                </a:rPr>
                <a:t> vendor Advisory or Bulletin distributed to customers and public</a:t>
              </a:r>
              <a:endParaRPr b="0" lang="en-US" sz="1200" spc="-1" strike="noStrike">
                <a:solidFill>
                  <a:srgbClr val="000000"/>
                </a:solidFill>
                <a:latin typeface="Times New Roman"/>
              </a:endParaRPr>
            </a:p>
          </p:txBody>
        </p:sp>
        <p:pic>
          <p:nvPicPr>
            <p:cNvPr id="115" name="" descr=""/>
            <p:cNvPicPr/>
            <p:nvPr/>
          </p:nvPicPr>
          <p:blipFill>
            <a:blip r:embed="rId10"/>
            <a:stretch/>
          </p:blipFill>
          <p:spPr>
            <a:xfrm>
              <a:off x="930240" y="2687760"/>
              <a:ext cx="811080" cy="895320"/>
            </a:xfrm>
            <a:prstGeom prst="rect">
              <a:avLst/>
            </a:prstGeom>
            <a:ln w="0">
              <a:noFill/>
            </a:ln>
          </p:spPr>
        </p:pic>
        <p:sp>
          <p:nvSpPr>
            <p:cNvPr id="116" name=""/>
            <p:cNvSpPr/>
            <p:nvPr/>
          </p:nvSpPr>
          <p:spPr>
            <a:xfrm>
              <a:off x="757080" y="2475000"/>
              <a:ext cx="244800" cy="515880"/>
            </a:xfrm>
            <a:prstGeom prst="line">
              <a:avLst/>
            </a:prstGeom>
            <a:ln cap="rnd" w="63360">
              <a:solidFill>
                <a:srgbClr val="99ccff"/>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7" name=""/>
          <p:cNvGrpSpPr/>
          <p:nvPr/>
        </p:nvGrpSpPr>
        <p:grpSpPr>
          <a:xfrm>
            <a:off x="4013280" y="1162080"/>
            <a:ext cx="3801600" cy="4257720"/>
            <a:chOff x="4013280" y="1162080"/>
            <a:chExt cx="3801600" cy="4257720"/>
          </a:xfrm>
        </p:grpSpPr>
        <p:grpSp>
          <p:nvGrpSpPr>
            <p:cNvPr id="118" name=""/>
            <p:cNvGrpSpPr/>
            <p:nvPr/>
          </p:nvGrpSpPr>
          <p:grpSpPr>
            <a:xfrm>
              <a:off x="4363920" y="1162080"/>
              <a:ext cx="3450960" cy="3614400"/>
              <a:chOff x="4363920" y="1162080"/>
              <a:chExt cx="3450960" cy="3614400"/>
            </a:xfrm>
          </p:grpSpPr>
          <p:pic>
            <p:nvPicPr>
              <p:cNvPr id="119" name="" descr=""/>
              <p:cNvPicPr/>
              <p:nvPr/>
            </p:nvPicPr>
            <p:blipFill>
              <a:blip r:embed="rId11"/>
              <a:stretch/>
            </p:blipFill>
            <p:spPr>
              <a:xfrm flipH="1">
                <a:off x="5565240" y="3390840"/>
                <a:ext cx="762120" cy="835200"/>
              </a:xfrm>
              <a:prstGeom prst="rect">
                <a:avLst/>
              </a:prstGeom>
              <a:ln w="0">
                <a:noFill/>
              </a:ln>
            </p:spPr>
          </p:pic>
          <p:sp>
            <p:nvSpPr>
              <p:cNvPr id="120" name=""/>
              <p:cNvSpPr/>
              <p:nvPr/>
            </p:nvSpPr>
            <p:spPr>
              <a:xfrm flipV="1">
                <a:off x="4363920" y="3828600"/>
                <a:ext cx="614520" cy="947880"/>
              </a:xfrm>
              <a:prstGeom prst="line">
                <a:avLst/>
              </a:prstGeom>
              <a:ln cap="rnd" w="63360">
                <a:solidFill>
                  <a:srgbClr val="99ccff"/>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5159520" y="1162080"/>
                <a:ext cx="2060280" cy="118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00cc"/>
                    </a:solidFill>
                    <a:latin typeface="Arial"/>
                    <a:ea typeface="ＭＳ Ｐゴシック"/>
                  </a:rPr>
                  <a:t>Organizations report and track vulnerability status </a:t>
                </a:r>
                <a:r>
                  <a:rPr b="1" lang="en-US" sz="1200" spc="-1" strike="noStrike">
                    <a:solidFill>
                      <a:srgbClr val="6600cc"/>
                    </a:solidFill>
                    <a:latin typeface="Arial"/>
                    <a:ea typeface="ＭＳ Ｐゴシック"/>
                  </a:rPr>
                  <a:t>manually</a:t>
                </a:r>
                <a:r>
                  <a:rPr b="0" lang="en-US" sz="1200" spc="-1" strike="noStrike">
                    <a:solidFill>
                      <a:srgbClr val="6600cc"/>
                    </a:solidFill>
                    <a:latin typeface="Arial"/>
                    <a:ea typeface="ＭＳ Ｐゴシック"/>
                  </a:rPr>
                  <a:t> or with a</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00cc"/>
                    </a:solidFill>
                    <a:latin typeface="Arial"/>
                    <a:ea typeface="ＭＳ Ｐゴシック"/>
                  </a:rPr>
                  <a:t>variety of tool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00cc"/>
                    </a:solidFill>
                    <a:latin typeface="Arial"/>
                    <a:ea typeface="ＭＳ Ｐゴシック"/>
                  </a:rPr>
                  <a:t>that don’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00cc"/>
                    </a:solidFill>
                    <a:latin typeface="Arial"/>
                    <a:ea typeface="ＭＳ Ｐゴシック"/>
                  </a:rPr>
                  <a:t>integrate</a:t>
                </a:r>
                <a:endParaRPr b="0" lang="en-US" sz="1200" spc="-1" strike="noStrike">
                  <a:solidFill>
                    <a:srgbClr val="000000"/>
                  </a:solidFill>
                  <a:latin typeface="Times New Roman"/>
                </a:endParaRPr>
              </a:p>
            </p:txBody>
          </p:sp>
          <p:grpSp>
            <p:nvGrpSpPr>
              <p:cNvPr id="122" name=""/>
              <p:cNvGrpSpPr/>
              <p:nvPr/>
            </p:nvGrpSpPr>
            <p:grpSpPr>
              <a:xfrm>
                <a:off x="6215040" y="1469880"/>
                <a:ext cx="1599840" cy="1167120"/>
                <a:chOff x="6215040" y="1469880"/>
                <a:chExt cx="1599840" cy="1167120"/>
              </a:xfrm>
            </p:grpSpPr>
            <p:sp>
              <p:nvSpPr>
                <p:cNvPr id="123" name=""/>
                <p:cNvSpPr/>
                <p:nvPr/>
              </p:nvSpPr>
              <p:spPr>
                <a:xfrm>
                  <a:off x="6755040" y="2180160"/>
                  <a:ext cx="183600" cy="244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 name=""/>
                <p:cNvSpPr/>
                <p:nvPr/>
              </p:nvSpPr>
              <p:spPr>
                <a:xfrm>
                  <a:off x="6412320" y="2091600"/>
                  <a:ext cx="442080" cy="99000"/>
                </a:xfrm>
                <a:custGeom>
                  <a:avLst/>
                  <a:gdLst/>
                  <a:ahLst/>
                  <a:rect l="l" t="t" r="r" b="b"/>
                  <a:pathLst>
                    <a:path w="443" h="127">
                      <a:moveTo>
                        <a:pt x="28" y="0"/>
                      </a:moveTo>
                      <a:lnTo>
                        <a:pt x="386" y="0"/>
                      </a:lnTo>
                      <a:lnTo>
                        <a:pt x="443" y="90"/>
                      </a:lnTo>
                      <a:lnTo>
                        <a:pt x="0" y="127"/>
                      </a:lnTo>
                      <a:lnTo>
                        <a:pt x="28" y="0"/>
                      </a:lnTo>
                      <a:lnTo>
                        <a:pt x="28" y="0"/>
                      </a:lnTo>
                      <a:close/>
                    </a:path>
                  </a:pathLst>
                </a:custGeom>
                <a:solidFill>
                  <a:srgbClr val="bdc9d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6774840" y="1684080"/>
                  <a:ext cx="302400" cy="480960"/>
                </a:xfrm>
                <a:custGeom>
                  <a:avLst/>
                  <a:gdLst/>
                  <a:ahLst/>
                  <a:rect l="l" t="t" r="r" b="b"/>
                  <a:pathLst>
                    <a:path w="303" h="615">
                      <a:moveTo>
                        <a:pt x="4" y="0"/>
                      </a:moveTo>
                      <a:lnTo>
                        <a:pt x="0" y="14"/>
                      </a:lnTo>
                      <a:lnTo>
                        <a:pt x="0" y="15"/>
                      </a:lnTo>
                      <a:lnTo>
                        <a:pt x="1" y="19"/>
                      </a:lnTo>
                      <a:lnTo>
                        <a:pt x="1" y="21"/>
                      </a:lnTo>
                      <a:lnTo>
                        <a:pt x="2" y="25"/>
                      </a:lnTo>
                      <a:lnTo>
                        <a:pt x="3" y="27"/>
                      </a:lnTo>
                      <a:lnTo>
                        <a:pt x="4" y="30"/>
                      </a:lnTo>
                      <a:lnTo>
                        <a:pt x="5" y="33"/>
                      </a:lnTo>
                      <a:lnTo>
                        <a:pt x="6" y="37"/>
                      </a:lnTo>
                      <a:lnTo>
                        <a:pt x="6" y="40"/>
                      </a:lnTo>
                      <a:lnTo>
                        <a:pt x="7" y="43"/>
                      </a:lnTo>
                      <a:lnTo>
                        <a:pt x="8" y="47"/>
                      </a:lnTo>
                      <a:lnTo>
                        <a:pt x="9" y="52"/>
                      </a:lnTo>
                      <a:lnTo>
                        <a:pt x="9" y="56"/>
                      </a:lnTo>
                      <a:lnTo>
                        <a:pt x="10" y="61"/>
                      </a:lnTo>
                      <a:lnTo>
                        <a:pt x="11" y="63"/>
                      </a:lnTo>
                      <a:lnTo>
                        <a:pt x="11" y="66"/>
                      </a:lnTo>
                      <a:lnTo>
                        <a:pt x="12" y="70"/>
                      </a:lnTo>
                      <a:lnTo>
                        <a:pt x="13" y="73"/>
                      </a:lnTo>
                      <a:lnTo>
                        <a:pt x="13" y="76"/>
                      </a:lnTo>
                      <a:lnTo>
                        <a:pt x="14" y="79"/>
                      </a:lnTo>
                      <a:lnTo>
                        <a:pt x="15" y="82"/>
                      </a:lnTo>
                      <a:lnTo>
                        <a:pt x="16" y="85"/>
                      </a:lnTo>
                      <a:lnTo>
                        <a:pt x="17" y="88"/>
                      </a:lnTo>
                      <a:lnTo>
                        <a:pt x="18" y="92"/>
                      </a:lnTo>
                      <a:lnTo>
                        <a:pt x="18" y="96"/>
                      </a:lnTo>
                      <a:lnTo>
                        <a:pt x="19" y="99"/>
                      </a:lnTo>
                      <a:lnTo>
                        <a:pt x="20" y="103"/>
                      </a:lnTo>
                      <a:lnTo>
                        <a:pt x="21" y="107"/>
                      </a:lnTo>
                      <a:lnTo>
                        <a:pt x="22" y="111"/>
                      </a:lnTo>
                      <a:lnTo>
                        <a:pt x="23" y="116"/>
                      </a:lnTo>
                      <a:lnTo>
                        <a:pt x="23" y="119"/>
                      </a:lnTo>
                      <a:lnTo>
                        <a:pt x="25" y="124"/>
                      </a:lnTo>
                      <a:lnTo>
                        <a:pt x="26" y="130"/>
                      </a:lnTo>
                      <a:lnTo>
                        <a:pt x="27" y="135"/>
                      </a:lnTo>
                      <a:lnTo>
                        <a:pt x="28" y="138"/>
                      </a:lnTo>
                      <a:lnTo>
                        <a:pt x="28" y="143"/>
                      </a:lnTo>
                      <a:lnTo>
                        <a:pt x="29" y="148"/>
                      </a:lnTo>
                      <a:lnTo>
                        <a:pt x="30" y="154"/>
                      </a:lnTo>
                      <a:lnTo>
                        <a:pt x="30" y="158"/>
                      </a:lnTo>
                      <a:lnTo>
                        <a:pt x="32" y="163"/>
                      </a:lnTo>
                      <a:lnTo>
                        <a:pt x="33" y="168"/>
                      </a:lnTo>
                      <a:lnTo>
                        <a:pt x="34" y="174"/>
                      </a:lnTo>
                      <a:lnTo>
                        <a:pt x="35" y="178"/>
                      </a:lnTo>
                      <a:lnTo>
                        <a:pt x="37" y="184"/>
                      </a:lnTo>
                      <a:lnTo>
                        <a:pt x="37" y="190"/>
                      </a:lnTo>
                      <a:lnTo>
                        <a:pt x="39" y="195"/>
                      </a:lnTo>
                      <a:lnTo>
                        <a:pt x="40" y="201"/>
                      </a:lnTo>
                      <a:lnTo>
                        <a:pt x="41" y="207"/>
                      </a:lnTo>
                      <a:lnTo>
                        <a:pt x="42" y="213"/>
                      </a:lnTo>
                      <a:lnTo>
                        <a:pt x="44" y="218"/>
                      </a:lnTo>
                      <a:lnTo>
                        <a:pt x="44" y="224"/>
                      </a:lnTo>
                      <a:lnTo>
                        <a:pt x="46" y="230"/>
                      </a:lnTo>
                      <a:lnTo>
                        <a:pt x="47" y="235"/>
                      </a:lnTo>
                      <a:lnTo>
                        <a:pt x="48" y="241"/>
                      </a:lnTo>
                      <a:lnTo>
                        <a:pt x="48" y="247"/>
                      </a:lnTo>
                      <a:lnTo>
                        <a:pt x="49" y="252"/>
                      </a:lnTo>
                      <a:lnTo>
                        <a:pt x="50" y="258"/>
                      </a:lnTo>
                      <a:lnTo>
                        <a:pt x="52" y="265"/>
                      </a:lnTo>
                      <a:lnTo>
                        <a:pt x="53" y="270"/>
                      </a:lnTo>
                      <a:lnTo>
                        <a:pt x="54" y="275"/>
                      </a:lnTo>
                      <a:lnTo>
                        <a:pt x="55" y="281"/>
                      </a:lnTo>
                      <a:lnTo>
                        <a:pt x="57" y="287"/>
                      </a:lnTo>
                      <a:lnTo>
                        <a:pt x="58" y="292"/>
                      </a:lnTo>
                      <a:lnTo>
                        <a:pt x="59" y="298"/>
                      </a:lnTo>
                      <a:lnTo>
                        <a:pt x="60" y="304"/>
                      </a:lnTo>
                      <a:lnTo>
                        <a:pt x="62" y="309"/>
                      </a:lnTo>
                      <a:lnTo>
                        <a:pt x="62" y="314"/>
                      </a:lnTo>
                      <a:lnTo>
                        <a:pt x="63" y="319"/>
                      </a:lnTo>
                      <a:lnTo>
                        <a:pt x="64" y="324"/>
                      </a:lnTo>
                      <a:lnTo>
                        <a:pt x="66" y="329"/>
                      </a:lnTo>
                      <a:lnTo>
                        <a:pt x="66" y="334"/>
                      </a:lnTo>
                      <a:lnTo>
                        <a:pt x="67" y="339"/>
                      </a:lnTo>
                      <a:lnTo>
                        <a:pt x="67" y="344"/>
                      </a:lnTo>
                      <a:lnTo>
                        <a:pt x="69" y="348"/>
                      </a:lnTo>
                      <a:lnTo>
                        <a:pt x="69" y="352"/>
                      </a:lnTo>
                      <a:lnTo>
                        <a:pt x="70" y="357"/>
                      </a:lnTo>
                      <a:lnTo>
                        <a:pt x="70" y="361"/>
                      </a:lnTo>
                      <a:lnTo>
                        <a:pt x="71" y="366"/>
                      </a:lnTo>
                      <a:lnTo>
                        <a:pt x="72" y="369"/>
                      </a:lnTo>
                      <a:lnTo>
                        <a:pt x="73" y="373"/>
                      </a:lnTo>
                      <a:lnTo>
                        <a:pt x="74" y="377"/>
                      </a:lnTo>
                      <a:lnTo>
                        <a:pt x="75" y="381"/>
                      </a:lnTo>
                      <a:lnTo>
                        <a:pt x="75" y="384"/>
                      </a:lnTo>
                      <a:lnTo>
                        <a:pt x="76" y="387"/>
                      </a:lnTo>
                      <a:lnTo>
                        <a:pt x="76" y="389"/>
                      </a:lnTo>
                      <a:lnTo>
                        <a:pt x="77" y="393"/>
                      </a:lnTo>
                      <a:lnTo>
                        <a:pt x="78" y="398"/>
                      </a:lnTo>
                      <a:lnTo>
                        <a:pt x="79" y="403"/>
                      </a:lnTo>
                      <a:lnTo>
                        <a:pt x="80" y="405"/>
                      </a:lnTo>
                      <a:lnTo>
                        <a:pt x="80" y="408"/>
                      </a:lnTo>
                      <a:lnTo>
                        <a:pt x="80" y="409"/>
                      </a:lnTo>
                      <a:lnTo>
                        <a:pt x="81" y="411"/>
                      </a:lnTo>
                      <a:lnTo>
                        <a:pt x="303" y="615"/>
                      </a:lnTo>
                      <a:lnTo>
                        <a:pt x="122" y="66"/>
                      </a:lnTo>
                      <a:lnTo>
                        <a:pt x="4" y="0"/>
                      </a:lnTo>
                      <a:lnTo>
                        <a:pt x="4" y="0"/>
                      </a:lnTo>
                      <a:close/>
                    </a:path>
                  </a:pathLst>
                </a:custGeom>
                <a:solidFill>
                  <a:srgbClr val="4d4d4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6777000" y="1492560"/>
                  <a:ext cx="396360" cy="263520"/>
                </a:xfrm>
                <a:custGeom>
                  <a:avLst/>
                  <a:gdLst/>
                  <a:ahLst/>
                  <a:rect l="l" t="t" r="r" b="b"/>
                  <a:pathLst>
                    <a:path w="397" h="337">
                      <a:moveTo>
                        <a:pt x="335" y="0"/>
                      </a:moveTo>
                      <a:lnTo>
                        <a:pt x="334" y="0"/>
                      </a:lnTo>
                      <a:lnTo>
                        <a:pt x="332" y="1"/>
                      </a:lnTo>
                      <a:lnTo>
                        <a:pt x="328" y="4"/>
                      </a:lnTo>
                      <a:lnTo>
                        <a:pt x="323" y="8"/>
                      </a:lnTo>
                      <a:lnTo>
                        <a:pt x="320" y="10"/>
                      </a:lnTo>
                      <a:lnTo>
                        <a:pt x="316" y="13"/>
                      </a:lnTo>
                      <a:lnTo>
                        <a:pt x="313" y="15"/>
                      </a:lnTo>
                      <a:lnTo>
                        <a:pt x="309" y="17"/>
                      </a:lnTo>
                      <a:lnTo>
                        <a:pt x="305" y="20"/>
                      </a:lnTo>
                      <a:lnTo>
                        <a:pt x="301" y="23"/>
                      </a:lnTo>
                      <a:lnTo>
                        <a:pt x="297" y="27"/>
                      </a:lnTo>
                      <a:lnTo>
                        <a:pt x="292" y="31"/>
                      </a:lnTo>
                      <a:lnTo>
                        <a:pt x="287" y="34"/>
                      </a:lnTo>
                      <a:lnTo>
                        <a:pt x="281" y="37"/>
                      </a:lnTo>
                      <a:lnTo>
                        <a:pt x="276" y="41"/>
                      </a:lnTo>
                      <a:lnTo>
                        <a:pt x="271" y="45"/>
                      </a:lnTo>
                      <a:lnTo>
                        <a:pt x="267" y="46"/>
                      </a:lnTo>
                      <a:lnTo>
                        <a:pt x="264" y="49"/>
                      </a:lnTo>
                      <a:lnTo>
                        <a:pt x="261" y="51"/>
                      </a:lnTo>
                      <a:lnTo>
                        <a:pt x="258" y="53"/>
                      </a:lnTo>
                      <a:lnTo>
                        <a:pt x="256" y="55"/>
                      </a:lnTo>
                      <a:lnTo>
                        <a:pt x="252" y="56"/>
                      </a:lnTo>
                      <a:lnTo>
                        <a:pt x="249" y="58"/>
                      </a:lnTo>
                      <a:lnTo>
                        <a:pt x="246" y="61"/>
                      </a:lnTo>
                      <a:lnTo>
                        <a:pt x="242" y="62"/>
                      </a:lnTo>
                      <a:lnTo>
                        <a:pt x="239" y="65"/>
                      </a:lnTo>
                      <a:lnTo>
                        <a:pt x="236" y="67"/>
                      </a:lnTo>
                      <a:lnTo>
                        <a:pt x="233" y="69"/>
                      </a:lnTo>
                      <a:lnTo>
                        <a:pt x="229" y="71"/>
                      </a:lnTo>
                      <a:lnTo>
                        <a:pt x="226" y="74"/>
                      </a:lnTo>
                      <a:lnTo>
                        <a:pt x="223" y="75"/>
                      </a:lnTo>
                      <a:lnTo>
                        <a:pt x="220" y="77"/>
                      </a:lnTo>
                      <a:lnTo>
                        <a:pt x="216" y="79"/>
                      </a:lnTo>
                      <a:lnTo>
                        <a:pt x="212" y="81"/>
                      </a:lnTo>
                      <a:lnTo>
                        <a:pt x="209" y="83"/>
                      </a:lnTo>
                      <a:lnTo>
                        <a:pt x="206" y="86"/>
                      </a:lnTo>
                      <a:lnTo>
                        <a:pt x="202" y="88"/>
                      </a:lnTo>
                      <a:lnTo>
                        <a:pt x="199" y="90"/>
                      </a:lnTo>
                      <a:lnTo>
                        <a:pt x="195" y="92"/>
                      </a:lnTo>
                      <a:lnTo>
                        <a:pt x="192" y="94"/>
                      </a:lnTo>
                      <a:lnTo>
                        <a:pt x="187" y="96"/>
                      </a:lnTo>
                      <a:lnTo>
                        <a:pt x="183" y="98"/>
                      </a:lnTo>
                      <a:lnTo>
                        <a:pt x="180" y="101"/>
                      </a:lnTo>
                      <a:lnTo>
                        <a:pt x="176" y="103"/>
                      </a:lnTo>
                      <a:lnTo>
                        <a:pt x="172" y="105"/>
                      </a:lnTo>
                      <a:lnTo>
                        <a:pt x="168" y="108"/>
                      </a:lnTo>
                      <a:lnTo>
                        <a:pt x="164" y="110"/>
                      </a:lnTo>
                      <a:lnTo>
                        <a:pt x="161" y="113"/>
                      </a:lnTo>
                      <a:lnTo>
                        <a:pt x="157" y="115"/>
                      </a:lnTo>
                      <a:lnTo>
                        <a:pt x="153" y="118"/>
                      </a:lnTo>
                      <a:lnTo>
                        <a:pt x="148" y="120"/>
                      </a:lnTo>
                      <a:lnTo>
                        <a:pt x="144" y="124"/>
                      </a:lnTo>
                      <a:lnTo>
                        <a:pt x="141" y="127"/>
                      </a:lnTo>
                      <a:lnTo>
                        <a:pt x="137" y="130"/>
                      </a:lnTo>
                      <a:lnTo>
                        <a:pt x="132" y="133"/>
                      </a:lnTo>
                      <a:lnTo>
                        <a:pt x="128" y="136"/>
                      </a:lnTo>
                      <a:lnTo>
                        <a:pt x="124" y="139"/>
                      </a:lnTo>
                      <a:lnTo>
                        <a:pt x="121" y="142"/>
                      </a:lnTo>
                      <a:lnTo>
                        <a:pt x="116" y="145"/>
                      </a:lnTo>
                      <a:lnTo>
                        <a:pt x="112" y="148"/>
                      </a:lnTo>
                      <a:lnTo>
                        <a:pt x="108" y="151"/>
                      </a:lnTo>
                      <a:lnTo>
                        <a:pt x="104" y="154"/>
                      </a:lnTo>
                      <a:lnTo>
                        <a:pt x="100" y="158"/>
                      </a:lnTo>
                      <a:lnTo>
                        <a:pt x="96" y="161"/>
                      </a:lnTo>
                      <a:lnTo>
                        <a:pt x="92" y="164"/>
                      </a:lnTo>
                      <a:lnTo>
                        <a:pt x="88" y="167"/>
                      </a:lnTo>
                      <a:lnTo>
                        <a:pt x="84" y="170"/>
                      </a:lnTo>
                      <a:lnTo>
                        <a:pt x="81" y="173"/>
                      </a:lnTo>
                      <a:lnTo>
                        <a:pt x="77" y="176"/>
                      </a:lnTo>
                      <a:lnTo>
                        <a:pt x="73" y="179"/>
                      </a:lnTo>
                      <a:lnTo>
                        <a:pt x="69" y="183"/>
                      </a:lnTo>
                      <a:lnTo>
                        <a:pt x="66" y="186"/>
                      </a:lnTo>
                      <a:lnTo>
                        <a:pt x="63" y="189"/>
                      </a:lnTo>
                      <a:lnTo>
                        <a:pt x="59" y="191"/>
                      </a:lnTo>
                      <a:lnTo>
                        <a:pt x="55" y="194"/>
                      </a:lnTo>
                      <a:lnTo>
                        <a:pt x="52" y="197"/>
                      </a:lnTo>
                      <a:lnTo>
                        <a:pt x="48" y="200"/>
                      </a:lnTo>
                      <a:lnTo>
                        <a:pt x="46" y="203"/>
                      </a:lnTo>
                      <a:lnTo>
                        <a:pt x="42" y="206"/>
                      </a:lnTo>
                      <a:lnTo>
                        <a:pt x="40" y="209"/>
                      </a:lnTo>
                      <a:lnTo>
                        <a:pt x="36" y="210"/>
                      </a:lnTo>
                      <a:lnTo>
                        <a:pt x="33" y="213"/>
                      </a:lnTo>
                      <a:lnTo>
                        <a:pt x="30" y="215"/>
                      </a:lnTo>
                      <a:lnTo>
                        <a:pt x="28" y="218"/>
                      </a:lnTo>
                      <a:lnTo>
                        <a:pt x="23" y="223"/>
                      </a:lnTo>
                      <a:lnTo>
                        <a:pt x="19" y="228"/>
                      </a:lnTo>
                      <a:lnTo>
                        <a:pt x="13" y="230"/>
                      </a:lnTo>
                      <a:lnTo>
                        <a:pt x="10" y="234"/>
                      </a:lnTo>
                      <a:lnTo>
                        <a:pt x="7" y="237"/>
                      </a:lnTo>
                      <a:lnTo>
                        <a:pt x="5" y="240"/>
                      </a:lnTo>
                      <a:lnTo>
                        <a:pt x="1" y="244"/>
                      </a:lnTo>
                      <a:lnTo>
                        <a:pt x="0" y="245"/>
                      </a:lnTo>
                      <a:lnTo>
                        <a:pt x="91" y="337"/>
                      </a:lnTo>
                      <a:lnTo>
                        <a:pt x="397" y="176"/>
                      </a:lnTo>
                      <a:lnTo>
                        <a:pt x="335" y="0"/>
                      </a:lnTo>
                      <a:lnTo>
                        <a:pt x="335" y="0"/>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6862680" y="1606680"/>
                  <a:ext cx="363240" cy="358920"/>
                </a:xfrm>
                <a:custGeom>
                  <a:avLst/>
                  <a:gdLst/>
                  <a:ahLst/>
                  <a:rect l="l" t="t" r="r" b="b"/>
                  <a:pathLst>
                    <a:path w="364" h="459">
                      <a:moveTo>
                        <a:pt x="216" y="0"/>
                      </a:moveTo>
                      <a:lnTo>
                        <a:pt x="214" y="1"/>
                      </a:lnTo>
                      <a:lnTo>
                        <a:pt x="211" y="5"/>
                      </a:lnTo>
                      <a:lnTo>
                        <a:pt x="207" y="7"/>
                      </a:lnTo>
                      <a:lnTo>
                        <a:pt x="204" y="10"/>
                      </a:lnTo>
                      <a:lnTo>
                        <a:pt x="200" y="13"/>
                      </a:lnTo>
                      <a:lnTo>
                        <a:pt x="196" y="18"/>
                      </a:lnTo>
                      <a:lnTo>
                        <a:pt x="191" y="21"/>
                      </a:lnTo>
                      <a:lnTo>
                        <a:pt x="187" y="25"/>
                      </a:lnTo>
                      <a:lnTo>
                        <a:pt x="182" y="29"/>
                      </a:lnTo>
                      <a:lnTo>
                        <a:pt x="178" y="33"/>
                      </a:lnTo>
                      <a:lnTo>
                        <a:pt x="173" y="37"/>
                      </a:lnTo>
                      <a:lnTo>
                        <a:pt x="170" y="41"/>
                      </a:lnTo>
                      <a:lnTo>
                        <a:pt x="165" y="44"/>
                      </a:lnTo>
                      <a:lnTo>
                        <a:pt x="162" y="47"/>
                      </a:lnTo>
                      <a:lnTo>
                        <a:pt x="157" y="49"/>
                      </a:lnTo>
                      <a:lnTo>
                        <a:pt x="154" y="51"/>
                      </a:lnTo>
                      <a:lnTo>
                        <a:pt x="151" y="53"/>
                      </a:lnTo>
                      <a:lnTo>
                        <a:pt x="149" y="54"/>
                      </a:lnTo>
                      <a:lnTo>
                        <a:pt x="144" y="56"/>
                      </a:lnTo>
                      <a:lnTo>
                        <a:pt x="141" y="57"/>
                      </a:lnTo>
                      <a:lnTo>
                        <a:pt x="136" y="56"/>
                      </a:lnTo>
                      <a:lnTo>
                        <a:pt x="136" y="56"/>
                      </a:lnTo>
                      <a:lnTo>
                        <a:pt x="135" y="56"/>
                      </a:lnTo>
                      <a:lnTo>
                        <a:pt x="134" y="60"/>
                      </a:lnTo>
                      <a:lnTo>
                        <a:pt x="133" y="61"/>
                      </a:lnTo>
                      <a:lnTo>
                        <a:pt x="132" y="64"/>
                      </a:lnTo>
                      <a:lnTo>
                        <a:pt x="130" y="67"/>
                      </a:lnTo>
                      <a:lnTo>
                        <a:pt x="128" y="70"/>
                      </a:lnTo>
                      <a:lnTo>
                        <a:pt x="125" y="74"/>
                      </a:lnTo>
                      <a:lnTo>
                        <a:pt x="122" y="78"/>
                      </a:lnTo>
                      <a:lnTo>
                        <a:pt x="118" y="82"/>
                      </a:lnTo>
                      <a:lnTo>
                        <a:pt x="115" y="88"/>
                      </a:lnTo>
                      <a:lnTo>
                        <a:pt x="111" y="93"/>
                      </a:lnTo>
                      <a:lnTo>
                        <a:pt x="106" y="98"/>
                      </a:lnTo>
                      <a:lnTo>
                        <a:pt x="104" y="101"/>
                      </a:lnTo>
                      <a:lnTo>
                        <a:pt x="101" y="104"/>
                      </a:lnTo>
                      <a:lnTo>
                        <a:pt x="98" y="107"/>
                      </a:lnTo>
                      <a:lnTo>
                        <a:pt x="95" y="110"/>
                      </a:lnTo>
                      <a:lnTo>
                        <a:pt x="92" y="113"/>
                      </a:lnTo>
                      <a:lnTo>
                        <a:pt x="89" y="117"/>
                      </a:lnTo>
                      <a:lnTo>
                        <a:pt x="85" y="120"/>
                      </a:lnTo>
                      <a:lnTo>
                        <a:pt x="81" y="122"/>
                      </a:lnTo>
                      <a:lnTo>
                        <a:pt x="76" y="125"/>
                      </a:lnTo>
                      <a:lnTo>
                        <a:pt x="74" y="129"/>
                      </a:lnTo>
                      <a:lnTo>
                        <a:pt x="69" y="132"/>
                      </a:lnTo>
                      <a:lnTo>
                        <a:pt x="66" y="135"/>
                      </a:lnTo>
                      <a:lnTo>
                        <a:pt x="61" y="138"/>
                      </a:lnTo>
                      <a:lnTo>
                        <a:pt x="57" y="141"/>
                      </a:lnTo>
                      <a:lnTo>
                        <a:pt x="54" y="144"/>
                      </a:lnTo>
                      <a:lnTo>
                        <a:pt x="50" y="148"/>
                      </a:lnTo>
                      <a:lnTo>
                        <a:pt x="45" y="150"/>
                      </a:lnTo>
                      <a:lnTo>
                        <a:pt x="42" y="154"/>
                      </a:lnTo>
                      <a:lnTo>
                        <a:pt x="38" y="157"/>
                      </a:lnTo>
                      <a:lnTo>
                        <a:pt x="35" y="160"/>
                      </a:lnTo>
                      <a:lnTo>
                        <a:pt x="31" y="162"/>
                      </a:lnTo>
                      <a:lnTo>
                        <a:pt x="27" y="165"/>
                      </a:lnTo>
                      <a:lnTo>
                        <a:pt x="24" y="167"/>
                      </a:lnTo>
                      <a:lnTo>
                        <a:pt x="20" y="170"/>
                      </a:lnTo>
                      <a:lnTo>
                        <a:pt x="15" y="174"/>
                      </a:lnTo>
                      <a:lnTo>
                        <a:pt x="10" y="178"/>
                      </a:lnTo>
                      <a:lnTo>
                        <a:pt x="6" y="180"/>
                      </a:lnTo>
                      <a:lnTo>
                        <a:pt x="2" y="183"/>
                      </a:lnTo>
                      <a:lnTo>
                        <a:pt x="0" y="184"/>
                      </a:lnTo>
                      <a:lnTo>
                        <a:pt x="0" y="185"/>
                      </a:lnTo>
                      <a:lnTo>
                        <a:pt x="0" y="186"/>
                      </a:lnTo>
                      <a:lnTo>
                        <a:pt x="2" y="191"/>
                      </a:lnTo>
                      <a:lnTo>
                        <a:pt x="3" y="194"/>
                      </a:lnTo>
                      <a:lnTo>
                        <a:pt x="4" y="197"/>
                      </a:lnTo>
                      <a:lnTo>
                        <a:pt x="6" y="202"/>
                      </a:lnTo>
                      <a:lnTo>
                        <a:pt x="8" y="207"/>
                      </a:lnTo>
                      <a:lnTo>
                        <a:pt x="10" y="212"/>
                      </a:lnTo>
                      <a:lnTo>
                        <a:pt x="11" y="216"/>
                      </a:lnTo>
                      <a:lnTo>
                        <a:pt x="12" y="219"/>
                      </a:lnTo>
                      <a:lnTo>
                        <a:pt x="13" y="222"/>
                      </a:lnTo>
                      <a:lnTo>
                        <a:pt x="13" y="225"/>
                      </a:lnTo>
                      <a:lnTo>
                        <a:pt x="15" y="229"/>
                      </a:lnTo>
                      <a:lnTo>
                        <a:pt x="15" y="231"/>
                      </a:lnTo>
                      <a:lnTo>
                        <a:pt x="16" y="234"/>
                      </a:lnTo>
                      <a:lnTo>
                        <a:pt x="16" y="237"/>
                      </a:lnTo>
                      <a:lnTo>
                        <a:pt x="17" y="240"/>
                      </a:lnTo>
                      <a:lnTo>
                        <a:pt x="17" y="243"/>
                      </a:lnTo>
                      <a:lnTo>
                        <a:pt x="18" y="246"/>
                      </a:lnTo>
                      <a:lnTo>
                        <a:pt x="18" y="250"/>
                      </a:lnTo>
                      <a:lnTo>
                        <a:pt x="19" y="253"/>
                      </a:lnTo>
                      <a:lnTo>
                        <a:pt x="19" y="258"/>
                      </a:lnTo>
                      <a:lnTo>
                        <a:pt x="20" y="263"/>
                      </a:lnTo>
                      <a:lnTo>
                        <a:pt x="20" y="269"/>
                      </a:lnTo>
                      <a:lnTo>
                        <a:pt x="20" y="274"/>
                      </a:lnTo>
                      <a:lnTo>
                        <a:pt x="20" y="279"/>
                      </a:lnTo>
                      <a:lnTo>
                        <a:pt x="20" y="284"/>
                      </a:lnTo>
                      <a:lnTo>
                        <a:pt x="20" y="288"/>
                      </a:lnTo>
                      <a:lnTo>
                        <a:pt x="20" y="293"/>
                      </a:lnTo>
                      <a:lnTo>
                        <a:pt x="20" y="296"/>
                      </a:lnTo>
                      <a:lnTo>
                        <a:pt x="19" y="299"/>
                      </a:lnTo>
                      <a:lnTo>
                        <a:pt x="19" y="302"/>
                      </a:lnTo>
                      <a:lnTo>
                        <a:pt x="19" y="306"/>
                      </a:lnTo>
                      <a:lnTo>
                        <a:pt x="18" y="309"/>
                      </a:lnTo>
                      <a:lnTo>
                        <a:pt x="18" y="311"/>
                      </a:lnTo>
                      <a:lnTo>
                        <a:pt x="18" y="312"/>
                      </a:lnTo>
                      <a:lnTo>
                        <a:pt x="20" y="315"/>
                      </a:lnTo>
                      <a:lnTo>
                        <a:pt x="22" y="318"/>
                      </a:lnTo>
                      <a:lnTo>
                        <a:pt x="23" y="322"/>
                      </a:lnTo>
                      <a:lnTo>
                        <a:pt x="25" y="327"/>
                      </a:lnTo>
                      <a:lnTo>
                        <a:pt x="27" y="331"/>
                      </a:lnTo>
                      <a:lnTo>
                        <a:pt x="29" y="336"/>
                      </a:lnTo>
                      <a:lnTo>
                        <a:pt x="31" y="342"/>
                      </a:lnTo>
                      <a:lnTo>
                        <a:pt x="32" y="344"/>
                      </a:lnTo>
                      <a:lnTo>
                        <a:pt x="33" y="347"/>
                      </a:lnTo>
                      <a:lnTo>
                        <a:pt x="35" y="350"/>
                      </a:lnTo>
                      <a:lnTo>
                        <a:pt x="36" y="353"/>
                      </a:lnTo>
                      <a:lnTo>
                        <a:pt x="37" y="357"/>
                      </a:lnTo>
                      <a:lnTo>
                        <a:pt x="38" y="360"/>
                      </a:lnTo>
                      <a:lnTo>
                        <a:pt x="39" y="363"/>
                      </a:lnTo>
                      <a:lnTo>
                        <a:pt x="40" y="367"/>
                      </a:lnTo>
                      <a:lnTo>
                        <a:pt x="42" y="369"/>
                      </a:lnTo>
                      <a:lnTo>
                        <a:pt x="43" y="373"/>
                      </a:lnTo>
                      <a:lnTo>
                        <a:pt x="44" y="377"/>
                      </a:lnTo>
                      <a:lnTo>
                        <a:pt x="46" y="381"/>
                      </a:lnTo>
                      <a:lnTo>
                        <a:pt x="47" y="384"/>
                      </a:lnTo>
                      <a:lnTo>
                        <a:pt x="48" y="388"/>
                      </a:lnTo>
                      <a:lnTo>
                        <a:pt x="49" y="390"/>
                      </a:lnTo>
                      <a:lnTo>
                        <a:pt x="51" y="394"/>
                      </a:lnTo>
                      <a:lnTo>
                        <a:pt x="52" y="398"/>
                      </a:lnTo>
                      <a:lnTo>
                        <a:pt x="53" y="402"/>
                      </a:lnTo>
                      <a:lnTo>
                        <a:pt x="55" y="405"/>
                      </a:lnTo>
                      <a:lnTo>
                        <a:pt x="56" y="408"/>
                      </a:lnTo>
                      <a:lnTo>
                        <a:pt x="56" y="411"/>
                      </a:lnTo>
                      <a:lnTo>
                        <a:pt x="57" y="415"/>
                      </a:lnTo>
                      <a:lnTo>
                        <a:pt x="58" y="418"/>
                      </a:lnTo>
                      <a:lnTo>
                        <a:pt x="59" y="421"/>
                      </a:lnTo>
                      <a:lnTo>
                        <a:pt x="60" y="424"/>
                      </a:lnTo>
                      <a:lnTo>
                        <a:pt x="61" y="427"/>
                      </a:lnTo>
                      <a:lnTo>
                        <a:pt x="62" y="430"/>
                      </a:lnTo>
                      <a:lnTo>
                        <a:pt x="64" y="434"/>
                      </a:lnTo>
                      <a:lnTo>
                        <a:pt x="65" y="439"/>
                      </a:lnTo>
                      <a:lnTo>
                        <a:pt x="67" y="444"/>
                      </a:lnTo>
                      <a:lnTo>
                        <a:pt x="68" y="447"/>
                      </a:lnTo>
                      <a:lnTo>
                        <a:pt x="69" y="452"/>
                      </a:lnTo>
                      <a:lnTo>
                        <a:pt x="70" y="455"/>
                      </a:lnTo>
                      <a:lnTo>
                        <a:pt x="71" y="457"/>
                      </a:lnTo>
                      <a:lnTo>
                        <a:pt x="71" y="458"/>
                      </a:lnTo>
                      <a:lnTo>
                        <a:pt x="72" y="459"/>
                      </a:lnTo>
                      <a:lnTo>
                        <a:pt x="364" y="141"/>
                      </a:lnTo>
                      <a:lnTo>
                        <a:pt x="216" y="0"/>
                      </a:lnTo>
                      <a:lnTo>
                        <a:pt x="216" y="0"/>
                      </a:lnTo>
                      <a:close/>
                    </a:path>
                  </a:pathLst>
                </a:custGeom>
                <a:solidFill>
                  <a:srgbClr val="3333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6904800" y="1652040"/>
                  <a:ext cx="379080" cy="362160"/>
                </a:xfrm>
                <a:custGeom>
                  <a:avLst/>
                  <a:gdLst/>
                  <a:ahLst/>
                  <a:rect l="l" t="t" r="r" b="b"/>
                  <a:pathLst>
                    <a:path w="380" h="463">
                      <a:moveTo>
                        <a:pt x="168" y="0"/>
                      </a:moveTo>
                      <a:lnTo>
                        <a:pt x="167" y="1"/>
                      </a:lnTo>
                      <a:lnTo>
                        <a:pt x="167" y="5"/>
                      </a:lnTo>
                      <a:lnTo>
                        <a:pt x="166" y="6"/>
                      </a:lnTo>
                      <a:lnTo>
                        <a:pt x="165" y="9"/>
                      </a:lnTo>
                      <a:lnTo>
                        <a:pt x="164" y="12"/>
                      </a:lnTo>
                      <a:lnTo>
                        <a:pt x="163" y="17"/>
                      </a:lnTo>
                      <a:lnTo>
                        <a:pt x="161" y="21"/>
                      </a:lnTo>
                      <a:lnTo>
                        <a:pt x="159" y="26"/>
                      </a:lnTo>
                      <a:lnTo>
                        <a:pt x="155" y="31"/>
                      </a:lnTo>
                      <a:lnTo>
                        <a:pt x="152" y="37"/>
                      </a:lnTo>
                      <a:lnTo>
                        <a:pt x="150" y="40"/>
                      </a:lnTo>
                      <a:lnTo>
                        <a:pt x="149" y="43"/>
                      </a:lnTo>
                      <a:lnTo>
                        <a:pt x="147" y="45"/>
                      </a:lnTo>
                      <a:lnTo>
                        <a:pt x="145" y="48"/>
                      </a:lnTo>
                      <a:lnTo>
                        <a:pt x="142" y="52"/>
                      </a:lnTo>
                      <a:lnTo>
                        <a:pt x="139" y="55"/>
                      </a:lnTo>
                      <a:lnTo>
                        <a:pt x="136" y="59"/>
                      </a:lnTo>
                      <a:lnTo>
                        <a:pt x="133" y="62"/>
                      </a:lnTo>
                      <a:lnTo>
                        <a:pt x="130" y="66"/>
                      </a:lnTo>
                      <a:lnTo>
                        <a:pt x="127" y="69"/>
                      </a:lnTo>
                      <a:lnTo>
                        <a:pt x="123" y="73"/>
                      </a:lnTo>
                      <a:lnTo>
                        <a:pt x="119" y="77"/>
                      </a:lnTo>
                      <a:lnTo>
                        <a:pt x="115" y="80"/>
                      </a:lnTo>
                      <a:lnTo>
                        <a:pt x="111" y="83"/>
                      </a:lnTo>
                      <a:lnTo>
                        <a:pt x="107" y="87"/>
                      </a:lnTo>
                      <a:lnTo>
                        <a:pt x="103" y="92"/>
                      </a:lnTo>
                      <a:lnTo>
                        <a:pt x="98" y="95"/>
                      </a:lnTo>
                      <a:lnTo>
                        <a:pt x="94" y="99"/>
                      </a:lnTo>
                      <a:lnTo>
                        <a:pt x="90" y="102"/>
                      </a:lnTo>
                      <a:lnTo>
                        <a:pt x="86" y="106"/>
                      </a:lnTo>
                      <a:lnTo>
                        <a:pt x="81" y="109"/>
                      </a:lnTo>
                      <a:lnTo>
                        <a:pt x="77" y="113"/>
                      </a:lnTo>
                      <a:lnTo>
                        <a:pt x="72" y="116"/>
                      </a:lnTo>
                      <a:lnTo>
                        <a:pt x="70" y="120"/>
                      </a:lnTo>
                      <a:lnTo>
                        <a:pt x="65" y="122"/>
                      </a:lnTo>
                      <a:lnTo>
                        <a:pt x="61" y="125"/>
                      </a:lnTo>
                      <a:lnTo>
                        <a:pt x="57" y="128"/>
                      </a:lnTo>
                      <a:lnTo>
                        <a:pt x="53" y="132"/>
                      </a:lnTo>
                      <a:lnTo>
                        <a:pt x="51" y="134"/>
                      </a:lnTo>
                      <a:lnTo>
                        <a:pt x="47" y="137"/>
                      </a:lnTo>
                      <a:lnTo>
                        <a:pt x="44" y="139"/>
                      </a:lnTo>
                      <a:lnTo>
                        <a:pt x="42" y="141"/>
                      </a:lnTo>
                      <a:lnTo>
                        <a:pt x="37" y="144"/>
                      </a:lnTo>
                      <a:lnTo>
                        <a:pt x="34" y="147"/>
                      </a:lnTo>
                      <a:lnTo>
                        <a:pt x="32" y="149"/>
                      </a:lnTo>
                      <a:lnTo>
                        <a:pt x="31" y="150"/>
                      </a:lnTo>
                      <a:lnTo>
                        <a:pt x="0" y="215"/>
                      </a:lnTo>
                      <a:lnTo>
                        <a:pt x="2" y="353"/>
                      </a:lnTo>
                      <a:lnTo>
                        <a:pt x="35" y="463"/>
                      </a:lnTo>
                      <a:lnTo>
                        <a:pt x="244" y="297"/>
                      </a:lnTo>
                      <a:lnTo>
                        <a:pt x="380" y="176"/>
                      </a:lnTo>
                      <a:lnTo>
                        <a:pt x="266" y="0"/>
                      </a:lnTo>
                      <a:lnTo>
                        <a:pt x="168" y="0"/>
                      </a:lnTo>
                      <a:lnTo>
                        <a:pt x="168" y="0"/>
                      </a:lnTo>
                      <a:close/>
                    </a:path>
                  </a:pathLst>
                </a:custGeom>
                <a:solidFill>
                  <a:srgbClr val="c299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7001640" y="1645920"/>
                  <a:ext cx="326160" cy="339120"/>
                </a:xfrm>
                <a:custGeom>
                  <a:avLst/>
                  <a:gdLst/>
                  <a:ahLst/>
                  <a:rect l="l" t="t" r="r" b="b"/>
                  <a:pathLst>
                    <a:path w="327" h="434">
                      <a:moveTo>
                        <a:pt x="242" y="0"/>
                      </a:moveTo>
                      <a:lnTo>
                        <a:pt x="288" y="36"/>
                      </a:lnTo>
                      <a:lnTo>
                        <a:pt x="288" y="36"/>
                      </a:lnTo>
                      <a:lnTo>
                        <a:pt x="287" y="38"/>
                      </a:lnTo>
                      <a:lnTo>
                        <a:pt x="287" y="39"/>
                      </a:lnTo>
                      <a:lnTo>
                        <a:pt x="287" y="43"/>
                      </a:lnTo>
                      <a:lnTo>
                        <a:pt x="287" y="45"/>
                      </a:lnTo>
                      <a:lnTo>
                        <a:pt x="287" y="48"/>
                      </a:lnTo>
                      <a:lnTo>
                        <a:pt x="287" y="51"/>
                      </a:lnTo>
                      <a:lnTo>
                        <a:pt x="288" y="54"/>
                      </a:lnTo>
                      <a:lnTo>
                        <a:pt x="288" y="57"/>
                      </a:lnTo>
                      <a:lnTo>
                        <a:pt x="290" y="62"/>
                      </a:lnTo>
                      <a:lnTo>
                        <a:pt x="291" y="66"/>
                      </a:lnTo>
                      <a:lnTo>
                        <a:pt x="294" y="71"/>
                      </a:lnTo>
                      <a:lnTo>
                        <a:pt x="294" y="73"/>
                      </a:lnTo>
                      <a:lnTo>
                        <a:pt x="295" y="76"/>
                      </a:lnTo>
                      <a:lnTo>
                        <a:pt x="296" y="79"/>
                      </a:lnTo>
                      <a:lnTo>
                        <a:pt x="298" y="83"/>
                      </a:lnTo>
                      <a:lnTo>
                        <a:pt x="299" y="86"/>
                      </a:lnTo>
                      <a:lnTo>
                        <a:pt x="300" y="89"/>
                      </a:lnTo>
                      <a:lnTo>
                        <a:pt x="302" y="92"/>
                      </a:lnTo>
                      <a:lnTo>
                        <a:pt x="303" y="96"/>
                      </a:lnTo>
                      <a:lnTo>
                        <a:pt x="304" y="99"/>
                      </a:lnTo>
                      <a:lnTo>
                        <a:pt x="305" y="103"/>
                      </a:lnTo>
                      <a:lnTo>
                        <a:pt x="306" y="106"/>
                      </a:lnTo>
                      <a:lnTo>
                        <a:pt x="308" y="108"/>
                      </a:lnTo>
                      <a:lnTo>
                        <a:pt x="309" y="112"/>
                      </a:lnTo>
                      <a:lnTo>
                        <a:pt x="311" y="115"/>
                      </a:lnTo>
                      <a:lnTo>
                        <a:pt x="312" y="119"/>
                      </a:lnTo>
                      <a:lnTo>
                        <a:pt x="314" y="123"/>
                      </a:lnTo>
                      <a:lnTo>
                        <a:pt x="316" y="128"/>
                      </a:lnTo>
                      <a:lnTo>
                        <a:pt x="319" y="133"/>
                      </a:lnTo>
                      <a:lnTo>
                        <a:pt x="321" y="138"/>
                      </a:lnTo>
                      <a:lnTo>
                        <a:pt x="323" y="143"/>
                      </a:lnTo>
                      <a:lnTo>
                        <a:pt x="324" y="147"/>
                      </a:lnTo>
                      <a:lnTo>
                        <a:pt x="326" y="148"/>
                      </a:lnTo>
                      <a:lnTo>
                        <a:pt x="327" y="150"/>
                      </a:lnTo>
                      <a:lnTo>
                        <a:pt x="327" y="151"/>
                      </a:lnTo>
                      <a:lnTo>
                        <a:pt x="47" y="434"/>
                      </a:lnTo>
                      <a:lnTo>
                        <a:pt x="47" y="433"/>
                      </a:lnTo>
                      <a:lnTo>
                        <a:pt x="47" y="431"/>
                      </a:lnTo>
                      <a:lnTo>
                        <a:pt x="47" y="427"/>
                      </a:lnTo>
                      <a:lnTo>
                        <a:pt x="47" y="424"/>
                      </a:lnTo>
                      <a:lnTo>
                        <a:pt x="46" y="421"/>
                      </a:lnTo>
                      <a:lnTo>
                        <a:pt x="46" y="418"/>
                      </a:lnTo>
                      <a:lnTo>
                        <a:pt x="46" y="416"/>
                      </a:lnTo>
                      <a:lnTo>
                        <a:pt x="46" y="414"/>
                      </a:lnTo>
                      <a:lnTo>
                        <a:pt x="46" y="410"/>
                      </a:lnTo>
                      <a:lnTo>
                        <a:pt x="46" y="407"/>
                      </a:lnTo>
                      <a:lnTo>
                        <a:pt x="46" y="403"/>
                      </a:lnTo>
                      <a:lnTo>
                        <a:pt x="46" y="400"/>
                      </a:lnTo>
                      <a:lnTo>
                        <a:pt x="45" y="396"/>
                      </a:lnTo>
                      <a:lnTo>
                        <a:pt x="44" y="391"/>
                      </a:lnTo>
                      <a:lnTo>
                        <a:pt x="44" y="387"/>
                      </a:lnTo>
                      <a:lnTo>
                        <a:pt x="43" y="382"/>
                      </a:lnTo>
                      <a:lnTo>
                        <a:pt x="43" y="377"/>
                      </a:lnTo>
                      <a:lnTo>
                        <a:pt x="42" y="373"/>
                      </a:lnTo>
                      <a:lnTo>
                        <a:pt x="42" y="368"/>
                      </a:lnTo>
                      <a:lnTo>
                        <a:pt x="42" y="364"/>
                      </a:lnTo>
                      <a:lnTo>
                        <a:pt x="40" y="358"/>
                      </a:lnTo>
                      <a:lnTo>
                        <a:pt x="39" y="353"/>
                      </a:lnTo>
                      <a:lnTo>
                        <a:pt x="38" y="348"/>
                      </a:lnTo>
                      <a:lnTo>
                        <a:pt x="38" y="342"/>
                      </a:lnTo>
                      <a:lnTo>
                        <a:pt x="36" y="337"/>
                      </a:lnTo>
                      <a:lnTo>
                        <a:pt x="36" y="332"/>
                      </a:lnTo>
                      <a:lnTo>
                        <a:pt x="35" y="326"/>
                      </a:lnTo>
                      <a:lnTo>
                        <a:pt x="34" y="320"/>
                      </a:lnTo>
                      <a:lnTo>
                        <a:pt x="33" y="318"/>
                      </a:lnTo>
                      <a:lnTo>
                        <a:pt x="33" y="314"/>
                      </a:lnTo>
                      <a:lnTo>
                        <a:pt x="32" y="311"/>
                      </a:lnTo>
                      <a:lnTo>
                        <a:pt x="32" y="308"/>
                      </a:lnTo>
                      <a:lnTo>
                        <a:pt x="31" y="305"/>
                      </a:lnTo>
                      <a:lnTo>
                        <a:pt x="31" y="302"/>
                      </a:lnTo>
                      <a:lnTo>
                        <a:pt x="30" y="300"/>
                      </a:lnTo>
                      <a:lnTo>
                        <a:pt x="30" y="297"/>
                      </a:lnTo>
                      <a:lnTo>
                        <a:pt x="28" y="293"/>
                      </a:lnTo>
                      <a:lnTo>
                        <a:pt x="28" y="290"/>
                      </a:lnTo>
                      <a:lnTo>
                        <a:pt x="27" y="286"/>
                      </a:lnTo>
                      <a:lnTo>
                        <a:pt x="27" y="284"/>
                      </a:lnTo>
                      <a:lnTo>
                        <a:pt x="25" y="278"/>
                      </a:lnTo>
                      <a:lnTo>
                        <a:pt x="24" y="273"/>
                      </a:lnTo>
                      <a:lnTo>
                        <a:pt x="23" y="269"/>
                      </a:lnTo>
                      <a:lnTo>
                        <a:pt x="22" y="266"/>
                      </a:lnTo>
                      <a:lnTo>
                        <a:pt x="21" y="263"/>
                      </a:lnTo>
                      <a:lnTo>
                        <a:pt x="21" y="261"/>
                      </a:lnTo>
                      <a:lnTo>
                        <a:pt x="19" y="255"/>
                      </a:lnTo>
                      <a:lnTo>
                        <a:pt x="18" y="250"/>
                      </a:lnTo>
                      <a:lnTo>
                        <a:pt x="16" y="244"/>
                      </a:lnTo>
                      <a:lnTo>
                        <a:pt x="15" y="240"/>
                      </a:lnTo>
                      <a:lnTo>
                        <a:pt x="14" y="234"/>
                      </a:lnTo>
                      <a:lnTo>
                        <a:pt x="14" y="229"/>
                      </a:lnTo>
                      <a:lnTo>
                        <a:pt x="12" y="224"/>
                      </a:lnTo>
                      <a:lnTo>
                        <a:pt x="10" y="220"/>
                      </a:lnTo>
                      <a:lnTo>
                        <a:pt x="9" y="215"/>
                      </a:lnTo>
                      <a:lnTo>
                        <a:pt x="8" y="211"/>
                      </a:lnTo>
                      <a:lnTo>
                        <a:pt x="6" y="207"/>
                      </a:lnTo>
                      <a:lnTo>
                        <a:pt x="5" y="204"/>
                      </a:lnTo>
                      <a:lnTo>
                        <a:pt x="4" y="201"/>
                      </a:lnTo>
                      <a:lnTo>
                        <a:pt x="3" y="198"/>
                      </a:lnTo>
                      <a:lnTo>
                        <a:pt x="2" y="195"/>
                      </a:lnTo>
                      <a:lnTo>
                        <a:pt x="2" y="192"/>
                      </a:lnTo>
                      <a:lnTo>
                        <a:pt x="1" y="189"/>
                      </a:lnTo>
                      <a:lnTo>
                        <a:pt x="1" y="188"/>
                      </a:lnTo>
                      <a:lnTo>
                        <a:pt x="0" y="185"/>
                      </a:lnTo>
                      <a:lnTo>
                        <a:pt x="0" y="185"/>
                      </a:lnTo>
                      <a:lnTo>
                        <a:pt x="23" y="200"/>
                      </a:lnTo>
                      <a:lnTo>
                        <a:pt x="73" y="151"/>
                      </a:lnTo>
                      <a:lnTo>
                        <a:pt x="117" y="191"/>
                      </a:lnTo>
                      <a:lnTo>
                        <a:pt x="140" y="166"/>
                      </a:lnTo>
                      <a:lnTo>
                        <a:pt x="145" y="158"/>
                      </a:lnTo>
                      <a:lnTo>
                        <a:pt x="174" y="177"/>
                      </a:lnTo>
                      <a:lnTo>
                        <a:pt x="188" y="135"/>
                      </a:lnTo>
                      <a:lnTo>
                        <a:pt x="160" y="108"/>
                      </a:lnTo>
                      <a:lnTo>
                        <a:pt x="194" y="19"/>
                      </a:lnTo>
                      <a:lnTo>
                        <a:pt x="242" y="0"/>
                      </a:lnTo>
                      <a:lnTo>
                        <a:pt x="242" y="0"/>
                      </a:lnTo>
                      <a:close/>
                    </a:path>
                  </a:pathLst>
                </a:custGeom>
                <a:solidFill>
                  <a:srgbClr val="784a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7031520" y="1606680"/>
                  <a:ext cx="73800" cy="90720"/>
                </a:xfrm>
                <a:custGeom>
                  <a:avLst/>
                  <a:gdLst/>
                  <a:ahLst/>
                  <a:rect l="l" t="t" r="r" b="b"/>
                  <a:pathLst>
                    <a:path w="74" h="116">
                      <a:moveTo>
                        <a:pt x="35" y="0"/>
                      </a:moveTo>
                      <a:lnTo>
                        <a:pt x="35" y="0"/>
                      </a:lnTo>
                      <a:lnTo>
                        <a:pt x="34" y="3"/>
                      </a:lnTo>
                      <a:lnTo>
                        <a:pt x="33" y="5"/>
                      </a:lnTo>
                      <a:lnTo>
                        <a:pt x="32" y="7"/>
                      </a:lnTo>
                      <a:lnTo>
                        <a:pt x="32" y="9"/>
                      </a:lnTo>
                      <a:lnTo>
                        <a:pt x="31" y="13"/>
                      </a:lnTo>
                      <a:lnTo>
                        <a:pt x="29" y="16"/>
                      </a:lnTo>
                      <a:lnTo>
                        <a:pt x="28" y="19"/>
                      </a:lnTo>
                      <a:lnTo>
                        <a:pt x="27" y="22"/>
                      </a:lnTo>
                      <a:lnTo>
                        <a:pt x="26" y="25"/>
                      </a:lnTo>
                      <a:lnTo>
                        <a:pt x="24" y="28"/>
                      </a:lnTo>
                      <a:lnTo>
                        <a:pt x="23" y="32"/>
                      </a:lnTo>
                      <a:lnTo>
                        <a:pt x="22" y="36"/>
                      </a:lnTo>
                      <a:lnTo>
                        <a:pt x="21" y="40"/>
                      </a:lnTo>
                      <a:lnTo>
                        <a:pt x="18" y="42"/>
                      </a:lnTo>
                      <a:lnTo>
                        <a:pt x="17" y="45"/>
                      </a:lnTo>
                      <a:lnTo>
                        <a:pt x="14" y="48"/>
                      </a:lnTo>
                      <a:lnTo>
                        <a:pt x="13" y="50"/>
                      </a:lnTo>
                      <a:lnTo>
                        <a:pt x="9" y="56"/>
                      </a:lnTo>
                      <a:lnTo>
                        <a:pt x="6" y="61"/>
                      </a:lnTo>
                      <a:lnTo>
                        <a:pt x="3" y="63"/>
                      </a:lnTo>
                      <a:lnTo>
                        <a:pt x="2" y="65"/>
                      </a:lnTo>
                      <a:lnTo>
                        <a:pt x="0" y="67"/>
                      </a:lnTo>
                      <a:lnTo>
                        <a:pt x="0" y="68"/>
                      </a:lnTo>
                      <a:lnTo>
                        <a:pt x="1" y="70"/>
                      </a:lnTo>
                      <a:lnTo>
                        <a:pt x="2" y="73"/>
                      </a:lnTo>
                      <a:lnTo>
                        <a:pt x="4" y="77"/>
                      </a:lnTo>
                      <a:lnTo>
                        <a:pt x="6" y="80"/>
                      </a:lnTo>
                      <a:lnTo>
                        <a:pt x="11" y="84"/>
                      </a:lnTo>
                      <a:lnTo>
                        <a:pt x="13" y="86"/>
                      </a:lnTo>
                      <a:lnTo>
                        <a:pt x="16" y="89"/>
                      </a:lnTo>
                      <a:lnTo>
                        <a:pt x="20" y="91"/>
                      </a:lnTo>
                      <a:lnTo>
                        <a:pt x="23" y="94"/>
                      </a:lnTo>
                      <a:lnTo>
                        <a:pt x="26" y="96"/>
                      </a:lnTo>
                      <a:lnTo>
                        <a:pt x="30" y="98"/>
                      </a:lnTo>
                      <a:lnTo>
                        <a:pt x="34" y="99"/>
                      </a:lnTo>
                      <a:lnTo>
                        <a:pt x="38" y="101"/>
                      </a:lnTo>
                      <a:lnTo>
                        <a:pt x="42" y="102"/>
                      </a:lnTo>
                      <a:lnTo>
                        <a:pt x="46" y="104"/>
                      </a:lnTo>
                      <a:lnTo>
                        <a:pt x="51" y="106"/>
                      </a:lnTo>
                      <a:lnTo>
                        <a:pt x="55" y="108"/>
                      </a:lnTo>
                      <a:lnTo>
                        <a:pt x="59" y="109"/>
                      </a:lnTo>
                      <a:lnTo>
                        <a:pt x="62" y="111"/>
                      </a:lnTo>
                      <a:lnTo>
                        <a:pt x="65" y="112"/>
                      </a:lnTo>
                      <a:lnTo>
                        <a:pt x="68" y="113"/>
                      </a:lnTo>
                      <a:lnTo>
                        <a:pt x="73" y="114"/>
                      </a:lnTo>
                      <a:lnTo>
                        <a:pt x="74" y="116"/>
                      </a:lnTo>
                      <a:lnTo>
                        <a:pt x="35" y="0"/>
                      </a:lnTo>
                      <a:lnTo>
                        <a:pt x="35" y="0"/>
                      </a:lnTo>
                      <a:close/>
                    </a:path>
                  </a:pathLst>
                </a:custGeom>
                <a:solidFill>
                  <a:srgbClr val="b84f2e"/>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31" name=""/>
                <p:cNvSpPr/>
                <p:nvPr/>
              </p:nvSpPr>
              <p:spPr>
                <a:xfrm>
                  <a:off x="7063560" y="1497960"/>
                  <a:ext cx="156600" cy="276840"/>
                </a:xfrm>
                <a:custGeom>
                  <a:avLst/>
                  <a:gdLst/>
                  <a:ahLst/>
                  <a:rect l="l" t="t" r="r" b="b"/>
                  <a:pathLst>
                    <a:path w="157" h="354">
                      <a:moveTo>
                        <a:pt x="7" y="80"/>
                      </a:moveTo>
                      <a:lnTo>
                        <a:pt x="9" y="103"/>
                      </a:lnTo>
                      <a:lnTo>
                        <a:pt x="7" y="103"/>
                      </a:lnTo>
                      <a:lnTo>
                        <a:pt x="7" y="105"/>
                      </a:lnTo>
                      <a:lnTo>
                        <a:pt x="5" y="107"/>
                      </a:lnTo>
                      <a:lnTo>
                        <a:pt x="3" y="111"/>
                      </a:lnTo>
                      <a:lnTo>
                        <a:pt x="2" y="113"/>
                      </a:lnTo>
                      <a:lnTo>
                        <a:pt x="2" y="116"/>
                      </a:lnTo>
                      <a:lnTo>
                        <a:pt x="1" y="120"/>
                      </a:lnTo>
                      <a:lnTo>
                        <a:pt x="1" y="124"/>
                      </a:lnTo>
                      <a:lnTo>
                        <a:pt x="0" y="127"/>
                      </a:lnTo>
                      <a:lnTo>
                        <a:pt x="0" y="133"/>
                      </a:lnTo>
                      <a:lnTo>
                        <a:pt x="0" y="135"/>
                      </a:lnTo>
                      <a:lnTo>
                        <a:pt x="0" y="138"/>
                      </a:lnTo>
                      <a:lnTo>
                        <a:pt x="0" y="141"/>
                      </a:lnTo>
                      <a:lnTo>
                        <a:pt x="0" y="144"/>
                      </a:lnTo>
                      <a:lnTo>
                        <a:pt x="0" y="147"/>
                      </a:lnTo>
                      <a:lnTo>
                        <a:pt x="0" y="150"/>
                      </a:lnTo>
                      <a:lnTo>
                        <a:pt x="0" y="154"/>
                      </a:lnTo>
                      <a:lnTo>
                        <a:pt x="0" y="157"/>
                      </a:lnTo>
                      <a:lnTo>
                        <a:pt x="0" y="160"/>
                      </a:lnTo>
                      <a:lnTo>
                        <a:pt x="1" y="163"/>
                      </a:lnTo>
                      <a:lnTo>
                        <a:pt x="1" y="167"/>
                      </a:lnTo>
                      <a:lnTo>
                        <a:pt x="1" y="171"/>
                      </a:lnTo>
                      <a:lnTo>
                        <a:pt x="1" y="175"/>
                      </a:lnTo>
                      <a:lnTo>
                        <a:pt x="2" y="179"/>
                      </a:lnTo>
                      <a:lnTo>
                        <a:pt x="2" y="182"/>
                      </a:lnTo>
                      <a:lnTo>
                        <a:pt x="3" y="185"/>
                      </a:lnTo>
                      <a:lnTo>
                        <a:pt x="3" y="188"/>
                      </a:lnTo>
                      <a:lnTo>
                        <a:pt x="3" y="192"/>
                      </a:lnTo>
                      <a:lnTo>
                        <a:pt x="4" y="196"/>
                      </a:lnTo>
                      <a:lnTo>
                        <a:pt x="5" y="200"/>
                      </a:lnTo>
                      <a:lnTo>
                        <a:pt x="5" y="202"/>
                      </a:lnTo>
                      <a:lnTo>
                        <a:pt x="5" y="206"/>
                      </a:lnTo>
                      <a:lnTo>
                        <a:pt x="6" y="209"/>
                      </a:lnTo>
                      <a:lnTo>
                        <a:pt x="6" y="212"/>
                      </a:lnTo>
                      <a:lnTo>
                        <a:pt x="7" y="218"/>
                      </a:lnTo>
                      <a:lnTo>
                        <a:pt x="8" y="222"/>
                      </a:lnTo>
                      <a:lnTo>
                        <a:pt x="8" y="226"/>
                      </a:lnTo>
                      <a:lnTo>
                        <a:pt x="9" y="229"/>
                      </a:lnTo>
                      <a:lnTo>
                        <a:pt x="9" y="231"/>
                      </a:lnTo>
                      <a:lnTo>
                        <a:pt x="10" y="232"/>
                      </a:lnTo>
                      <a:lnTo>
                        <a:pt x="30" y="246"/>
                      </a:lnTo>
                      <a:lnTo>
                        <a:pt x="26" y="283"/>
                      </a:lnTo>
                      <a:lnTo>
                        <a:pt x="26" y="283"/>
                      </a:lnTo>
                      <a:lnTo>
                        <a:pt x="27" y="286"/>
                      </a:lnTo>
                      <a:lnTo>
                        <a:pt x="29" y="290"/>
                      </a:lnTo>
                      <a:lnTo>
                        <a:pt x="31" y="296"/>
                      </a:lnTo>
                      <a:lnTo>
                        <a:pt x="33" y="298"/>
                      </a:lnTo>
                      <a:lnTo>
                        <a:pt x="34" y="301"/>
                      </a:lnTo>
                      <a:lnTo>
                        <a:pt x="36" y="305"/>
                      </a:lnTo>
                      <a:lnTo>
                        <a:pt x="38" y="308"/>
                      </a:lnTo>
                      <a:lnTo>
                        <a:pt x="40" y="312"/>
                      </a:lnTo>
                      <a:lnTo>
                        <a:pt x="43" y="315"/>
                      </a:lnTo>
                      <a:lnTo>
                        <a:pt x="45" y="317"/>
                      </a:lnTo>
                      <a:lnTo>
                        <a:pt x="48" y="321"/>
                      </a:lnTo>
                      <a:lnTo>
                        <a:pt x="50" y="324"/>
                      </a:lnTo>
                      <a:lnTo>
                        <a:pt x="53" y="328"/>
                      </a:lnTo>
                      <a:lnTo>
                        <a:pt x="55" y="331"/>
                      </a:lnTo>
                      <a:lnTo>
                        <a:pt x="58" y="334"/>
                      </a:lnTo>
                      <a:lnTo>
                        <a:pt x="64" y="339"/>
                      </a:lnTo>
                      <a:lnTo>
                        <a:pt x="69" y="344"/>
                      </a:lnTo>
                      <a:lnTo>
                        <a:pt x="73" y="348"/>
                      </a:lnTo>
                      <a:lnTo>
                        <a:pt x="77" y="352"/>
                      </a:lnTo>
                      <a:lnTo>
                        <a:pt x="79" y="353"/>
                      </a:lnTo>
                      <a:lnTo>
                        <a:pt x="80" y="354"/>
                      </a:lnTo>
                      <a:lnTo>
                        <a:pt x="106" y="277"/>
                      </a:lnTo>
                      <a:lnTo>
                        <a:pt x="157" y="169"/>
                      </a:lnTo>
                      <a:lnTo>
                        <a:pt x="75" y="2"/>
                      </a:lnTo>
                      <a:lnTo>
                        <a:pt x="59" y="0"/>
                      </a:lnTo>
                      <a:lnTo>
                        <a:pt x="23" y="27"/>
                      </a:lnTo>
                      <a:lnTo>
                        <a:pt x="7" y="80"/>
                      </a:lnTo>
                      <a:lnTo>
                        <a:pt x="7" y="80"/>
                      </a:lnTo>
                      <a:close/>
                    </a:path>
                  </a:pathLst>
                </a:custGeom>
                <a:solidFill>
                  <a:srgbClr val="ffe0b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7068600" y="1482120"/>
                  <a:ext cx="72360" cy="78120"/>
                </a:xfrm>
                <a:custGeom>
                  <a:avLst/>
                  <a:gdLst/>
                  <a:ahLst/>
                  <a:rect l="l" t="t" r="r" b="b"/>
                  <a:pathLst>
                    <a:path w="73" h="100">
                      <a:moveTo>
                        <a:pt x="73" y="27"/>
                      </a:moveTo>
                      <a:lnTo>
                        <a:pt x="72" y="27"/>
                      </a:lnTo>
                      <a:lnTo>
                        <a:pt x="69" y="27"/>
                      </a:lnTo>
                      <a:lnTo>
                        <a:pt x="65" y="29"/>
                      </a:lnTo>
                      <a:lnTo>
                        <a:pt x="61" y="31"/>
                      </a:lnTo>
                      <a:lnTo>
                        <a:pt x="57" y="32"/>
                      </a:lnTo>
                      <a:lnTo>
                        <a:pt x="54" y="34"/>
                      </a:lnTo>
                      <a:lnTo>
                        <a:pt x="50" y="36"/>
                      </a:lnTo>
                      <a:lnTo>
                        <a:pt x="47" y="39"/>
                      </a:lnTo>
                      <a:lnTo>
                        <a:pt x="43" y="41"/>
                      </a:lnTo>
                      <a:lnTo>
                        <a:pt x="41" y="44"/>
                      </a:lnTo>
                      <a:lnTo>
                        <a:pt x="37" y="47"/>
                      </a:lnTo>
                      <a:lnTo>
                        <a:pt x="34" y="50"/>
                      </a:lnTo>
                      <a:lnTo>
                        <a:pt x="30" y="54"/>
                      </a:lnTo>
                      <a:lnTo>
                        <a:pt x="26" y="58"/>
                      </a:lnTo>
                      <a:lnTo>
                        <a:pt x="24" y="62"/>
                      </a:lnTo>
                      <a:lnTo>
                        <a:pt x="21" y="66"/>
                      </a:lnTo>
                      <a:lnTo>
                        <a:pt x="17" y="69"/>
                      </a:lnTo>
                      <a:lnTo>
                        <a:pt x="15" y="74"/>
                      </a:lnTo>
                      <a:lnTo>
                        <a:pt x="12" y="78"/>
                      </a:lnTo>
                      <a:lnTo>
                        <a:pt x="9" y="82"/>
                      </a:lnTo>
                      <a:lnTo>
                        <a:pt x="7" y="85"/>
                      </a:lnTo>
                      <a:lnTo>
                        <a:pt x="5" y="88"/>
                      </a:lnTo>
                      <a:lnTo>
                        <a:pt x="4" y="91"/>
                      </a:lnTo>
                      <a:lnTo>
                        <a:pt x="2" y="94"/>
                      </a:lnTo>
                      <a:lnTo>
                        <a:pt x="0" y="98"/>
                      </a:lnTo>
                      <a:lnTo>
                        <a:pt x="0" y="100"/>
                      </a:lnTo>
                      <a:lnTo>
                        <a:pt x="13" y="38"/>
                      </a:lnTo>
                      <a:lnTo>
                        <a:pt x="62" y="0"/>
                      </a:lnTo>
                      <a:lnTo>
                        <a:pt x="73" y="27"/>
                      </a:lnTo>
                      <a:lnTo>
                        <a:pt x="73" y="27"/>
                      </a:lnTo>
                      <a:close/>
                    </a:path>
                  </a:pathLst>
                </a:custGeom>
                <a:solidFill>
                  <a:srgbClr val="eda67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33" name=""/>
                <p:cNvSpPr/>
                <p:nvPr/>
              </p:nvSpPr>
              <p:spPr>
                <a:xfrm>
                  <a:off x="7078680" y="1533240"/>
                  <a:ext cx="173520" cy="199080"/>
                </a:xfrm>
                <a:custGeom>
                  <a:avLst/>
                  <a:gdLst/>
                  <a:ahLst/>
                  <a:rect l="l" t="t" r="r" b="b"/>
                  <a:pathLst>
                    <a:path w="174" h="255">
                      <a:moveTo>
                        <a:pt x="81" y="0"/>
                      </a:moveTo>
                      <a:lnTo>
                        <a:pt x="70" y="23"/>
                      </a:lnTo>
                      <a:lnTo>
                        <a:pt x="91" y="62"/>
                      </a:lnTo>
                      <a:lnTo>
                        <a:pt x="53" y="29"/>
                      </a:lnTo>
                      <a:lnTo>
                        <a:pt x="25" y="54"/>
                      </a:lnTo>
                      <a:lnTo>
                        <a:pt x="0" y="118"/>
                      </a:lnTo>
                      <a:lnTo>
                        <a:pt x="24" y="139"/>
                      </a:lnTo>
                      <a:lnTo>
                        <a:pt x="24" y="141"/>
                      </a:lnTo>
                      <a:lnTo>
                        <a:pt x="24" y="143"/>
                      </a:lnTo>
                      <a:lnTo>
                        <a:pt x="24" y="147"/>
                      </a:lnTo>
                      <a:lnTo>
                        <a:pt x="24" y="151"/>
                      </a:lnTo>
                      <a:lnTo>
                        <a:pt x="24" y="157"/>
                      </a:lnTo>
                      <a:lnTo>
                        <a:pt x="24" y="158"/>
                      </a:lnTo>
                      <a:lnTo>
                        <a:pt x="25" y="161"/>
                      </a:lnTo>
                      <a:lnTo>
                        <a:pt x="26" y="164"/>
                      </a:lnTo>
                      <a:lnTo>
                        <a:pt x="26" y="168"/>
                      </a:lnTo>
                      <a:lnTo>
                        <a:pt x="26" y="173"/>
                      </a:lnTo>
                      <a:lnTo>
                        <a:pt x="27" y="178"/>
                      </a:lnTo>
                      <a:lnTo>
                        <a:pt x="28" y="183"/>
                      </a:lnTo>
                      <a:lnTo>
                        <a:pt x="29" y="188"/>
                      </a:lnTo>
                      <a:lnTo>
                        <a:pt x="30" y="192"/>
                      </a:lnTo>
                      <a:lnTo>
                        <a:pt x="30" y="195"/>
                      </a:lnTo>
                      <a:lnTo>
                        <a:pt x="31" y="196"/>
                      </a:lnTo>
                      <a:lnTo>
                        <a:pt x="31" y="198"/>
                      </a:lnTo>
                      <a:lnTo>
                        <a:pt x="33" y="198"/>
                      </a:lnTo>
                      <a:lnTo>
                        <a:pt x="35" y="198"/>
                      </a:lnTo>
                      <a:lnTo>
                        <a:pt x="39" y="199"/>
                      </a:lnTo>
                      <a:lnTo>
                        <a:pt x="44" y="200"/>
                      </a:lnTo>
                      <a:lnTo>
                        <a:pt x="49" y="200"/>
                      </a:lnTo>
                      <a:lnTo>
                        <a:pt x="52" y="200"/>
                      </a:lnTo>
                      <a:lnTo>
                        <a:pt x="55" y="200"/>
                      </a:lnTo>
                      <a:lnTo>
                        <a:pt x="58" y="200"/>
                      </a:lnTo>
                      <a:lnTo>
                        <a:pt x="62" y="200"/>
                      </a:lnTo>
                      <a:lnTo>
                        <a:pt x="65" y="199"/>
                      </a:lnTo>
                      <a:lnTo>
                        <a:pt x="68" y="198"/>
                      </a:lnTo>
                      <a:lnTo>
                        <a:pt x="72" y="198"/>
                      </a:lnTo>
                      <a:lnTo>
                        <a:pt x="75" y="197"/>
                      </a:lnTo>
                      <a:lnTo>
                        <a:pt x="78" y="196"/>
                      </a:lnTo>
                      <a:lnTo>
                        <a:pt x="81" y="195"/>
                      </a:lnTo>
                      <a:lnTo>
                        <a:pt x="85" y="195"/>
                      </a:lnTo>
                      <a:lnTo>
                        <a:pt x="89" y="195"/>
                      </a:lnTo>
                      <a:lnTo>
                        <a:pt x="93" y="192"/>
                      </a:lnTo>
                      <a:lnTo>
                        <a:pt x="97" y="191"/>
                      </a:lnTo>
                      <a:lnTo>
                        <a:pt x="100" y="190"/>
                      </a:lnTo>
                      <a:lnTo>
                        <a:pt x="102" y="190"/>
                      </a:lnTo>
                      <a:lnTo>
                        <a:pt x="48" y="219"/>
                      </a:lnTo>
                      <a:lnTo>
                        <a:pt x="84" y="255"/>
                      </a:lnTo>
                      <a:lnTo>
                        <a:pt x="83" y="254"/>
                      </a:lnTo>
                      <a:lnTo>
                        <a:pt x="84" y="252"/>
                      </a:lnTo>
                      <a:lnTo>
                        <a:pt x="84" y="251"/>
                      </a:lnTo>
                      <a:lnTo>
                        <a:pt x="85" y="248"/>
                      </a:lnTo>
                      <a:lnTo>
                        <a:pt x="86" y="245"/>
                      </a:lnTo>
                      <a:lnTo>
                        <a:pt x="87" y="242"/>
                      </a:lnTo>
                      <a:lnTo>
                        <a:pt x="89" y="239"/>
                      </a:lnTo>
                      <a:lnTo>
                        <a:pt x="91" y="235"/>
                      </a:lnTo>
                      <a:lnTo>
                        <a:pt x="92" y="232"/>
                      </a:lnTo>
                      <a:lnTo>
                        <a:pt x="95" y="227"/>
                      </a:lnTo>
                      <a:lnTo>
                        <a:pt x="99" y="222"/>
                      </a:lnTo>
                      <a:lnTo>
                        <a:pt x="103" y="217"/>
                      </a:lnTo>
                      <a:lnTo>
                        <a:pt x="105" y="214"/>
                      </a:lnTo>
                      <a:lnTo>
                        <a:pt x="107" y="211"/>
                      </a:lnTo>
                      <a:lnTo>
                        <a:pt x="109" y="208"/>
                      </a:lnTo>
                      <a:lnTo>
                        <a:pt x="112" y="205"/>
                      </a:lnTo>
                      <a:lnTo>
                        <a:pt x="114" y="201"/>
                      </a:lnTo>
                      <a:lnTo>
                        <a:pt x="117" y="198"/>
                      </a:lnTo>
                      <a:lnTo>
                        <a:pt x="120" y="195"/>
                      </a:lnTo>
                      <a:lnTo>
                        <a:pt x="123" y="192"/>
                      </a:lnTo>
                      <a:lnTo>
                        <a:pt x="126" y="188"/>
                      </a:lnTo>
                      <a:lnTo>
                        <a:pt x="129" y="184"/>
                      </a:lnTo>
                      <a:lnTo>
                        <a:pt x="131" y="180"/>
                      </a:lnTo>
                      <a:lnTo>
                        <a:pt x="134" y="176"/>
                      </a:lnTo>
                      <a:lnTo>
                        <a:pt x="137" y="174"/>
                      </a:lnTo>
                      <a:lnTo>
                        <a:pt x="140" y="171"/>
                      </a:lnTo>
                      <a:lnTo>
                        <a:pt x="142" y="167"/>
                      </a:lnTo>
                      <a:lnTo>
                        <a:pt x="146" y="164"/>
                      </a:lnTo>
                      <a:lnTo>
                        <a:pt x="148" y="161"/>
                      </a:lnTo>
                      <a:lnTo>
                        <a:pt x="150" y="157"/>
                      </a:lnTo>
                      <a:lnTo>
                        <a:pt x="152" y="155"/>
                      </a:lnTo>
                      <a:lnTo>
                        <a:pt x="155" y="152"/>
                      </a:lnTo>
                      <a:lnTo>
                        <a:pt x="160" y="146"/>
                      </a:lnTo>
                      <a:lnTo>
                        <a:pt x="164" y="142"/>
                      </a:lnTo>
                      <a:lnTo>
                        <a:pt x="167" y="138"/>
                      </a:lnTo>
                      <a:lnTo>
                        <a:pt x="169" y="136"/>
                      </a:lnTo>
                      <a:lnTo>
                        <a:pt x="170" y="134"/>
                      </a:lnTo>
                      <a:lnTo>
                        <a:pt x="172" y="134"/>
                      </a:lnTo>
                      <a:lnTo>
                        <a:pt x="174" y="44"/>
                      </a:lnTo>
                      <a:lnTo>
                        <a:pt x="81" y="0"/>
                      </a:lnTo>
                      <a:lnTo>
                        <a:pt x="81" y="0"/>
                      </a:lnTo>
                      <a:close/>
                    </a:path>
                  </a:pathLst>
                </a:custGeom>
                <a:solidFill>
                  <a:srgbClr val="eda67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7057440" y="1486080"/>
                  <a:ext cx="42840" cy="96120"/>
                </a:xfrm>
                <a:custGeom>
                  <a:avLst/>
                  <a:gdLst/>
                  <a:ahLst/>
                  <a:rect l="l" t="t" r="r" b="b"/>
                  <a:pathLst>
                    <a:path w="43" h="123">
                      <a:moveTo>
                        <a:pt x="43" y="16"/>
                      </a:moveTo>
                      <a:lnTo>
                        <a:pt x="41" y="17"/>
                      </a:lnTo>
                      <a:lnTo>
                        <a:pt x="37" y="22"/>
                      </a:lnTo>
                      <a:lnTo>
                        <a:pt x="35" y="25"/>
                      </a:lnTo>
                      <a:lnTo>
                        <a:pt x="34" y="29"/>
                      </a:lnTo>
                      <a:lnTo>
                        <a:pt x="32" y="31"/>
                      </a:lnTo>
                      <a:lnTo>
                        <a:pt x="31" y="34"/>
                      </a:lnTo>
                      <a:lnTo>
                        <a:pt x="30" y="37"/>
                      </a:lnTo>
                      <a:lnTo>
                        <a:pt x="29" y="41"/>
                      </a:lnTo>
                      <a:lnTo>
                        <a:pt x="27" y="44"/>
                      </a:lnTo>
                      <a:lnTo>
                        <a:pt x="26" y="47"/>
                      </a:lnTo>
                      <a:lnTo>
                        <a:pt x="24" y="51"/>
                      </a:lnTo>
                      <a:lnTo>
                        <a:pt x="22" y="57"/>
                      </a:lnTo>
                      <a:lnTo>
                        <a:pt x="20" y="61"/>
                      </a:lnTo>
                      <a:lnTo>
                        <a:pt x="19" y="64"/>
                      </a:lnTo>
                      <a:lnTo>
                        <a:pt x="18" y="69"/>
                      </a:lnTo>
                      <a:lnTo>
                        <a:pt x="17" y="73"/>
                      </a:lnTo>
                      <a:lnTo>
                        <a:pt x="16" y="77"/>
                      </a:lnTo>
                      <a:lnTo>
                        <a:pt x="15" y="80"/>
                      </a:lnTo>
                      <a:lnTo>
                        <a:pt x="14" y="83"/>
                      </a:lnTo>
                      <a:lnTo>
                        <a:pt x="14" y="86"/>
                      </a:lnTo>
                      <a:lnTo>
                        <a:pt x="13" y="90"/>
                      </a:lnTo>
                      <a:lnTo>
                        <a:pt x="13" y="91"/>
                      </a:lnTo>
                      <a:lnTo>
                        <a:pt x="15" y="116"/>
                      </a:lnTo>
                      <a:lnTo>
                        <a:pt x="13" y="123"/>
                      </a:lnTo>
                      <a:lnTo>
                        <a:pt x="2" y="93"/>
                      </a:lnTo>
                      <a:lnTo>
                        <a:pt x="0" y="0"/>
                      </a:lnTo>
                      <a:lnTo>
                        <a:pt x="43" y="16"/>
                      </a:lnTo>
                      <a:lnTo>
                        <a:pt x="43" y="16"/>
                      </a:lnTo>
                      <a:close/>
                    </a:path>
                  </a:pathLst>
                </a:custGeom>
                <a:solidFill>
                  <a:srgbClr val="8529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7047360" y="1469880"/>
                  <a:ext cx="227160" cy="228960"/>
                </a:xfrm>
                <a:custGeom>
                  <a:avLst/>
                  <a:gdLst/>
                  <a:ahLst/>
                  <a:rect l="l" t="t" r="r" b="b"/>
                  <a:pathLst>
                    <a:path w="228" h="293">
                      <a:moveTo>
                        <a:pt x="83" y="4"/>
                      </a:moveTo>
                      <a:lnTo>
                        <a:pt x="81" y="3"/>
                      </a:lnTo>
                      <a:lnTo>
                        <a:pt x="78" y="3"/>
                      </a:lnTo>
                      <a:lnTo>
                        <a:pt x="74" y="2"/>
                      </a:lnTo>
                      <a:lnTo>
                        <a:pt x="68" y="2"/>
                      </a:lnTo>
                      <a:lnTo>
                        <a:pt x="64" y="2"/>
                      </a:lnTo>
                      <a:lnTo>
                        <a:pt x="62" y="2"/>
                      </a:lnTo>
                      <a:lnTo>
                        <a:pt x="58" y="2"/>
                      </a:lnTo>
                      <a:lnTo>
                        <a:pt x="55" y="2"/>
                      </a:lnTo>
                      <a:lnTo>
                        <a:pt x="51" y="2"/>
                      </a:lnTo>
                      <a:lnTo>
                        <a:pt x="47" y="2"/>
                      </a:lnTo>
                      <a:lnTo>
                        <a:pt x="44" y="2"/>
                      </a:lnTo>
                      <a:lnTo>
                        <a:pt x="41" y="3"/>
                      </a:lnTo>
                      <a:lnTo>
                        <a:pt x="37" y="3"/>
                      </a:lnTo>
                      <a:lnTo>
                        <a:pt x="33" y="3"/>
                      </a:lnTo>
                      <a:lnTo>
                        <a:pt x="29" y="4"/>
                      </a:lnTo>
                      <a:lnTo>
                        <a:pt x="26" y="5"/>
                      </a:lnTo>
                      <a:lnTo>
                        <a:pt x="21" y="7"/>
                      </a:lnTo>
                      <a:lnTo>
                        <a:pt x="16" y="8"/>
                      </a:lnTo>
                      <a:lnTo>
                        <a:pt x="11" y="9"/>
                      </a:lnTo>
                      <a:lnTo>
                        <a:pt x="8" y="10"/>
                      </a:lnTo>
                      <a:lnTo>
                        <a:pt x="6" y="11"/>
                      </a:lnTo>
                      <a:lnTo>
                        <a:pt x="6" y="11"/>
                      </a:lnTo>
                      <a:lnTo>
                        <a:pt x="6" y="12"/>
                      </a:lnTo>
                      <a:lnTo>
                        <a:pt x="5" y="16"/>
                      </a:lnTo>
                      <a:lnTo>
                        <a:pt x="4" y="18"/>
                      </a:lnTo>
                      <a:lnTo>
                        <a:pt x="4" y="22"/>
                      </a:lnTo>
                      <a:lnTo>
                        <a:pt x="2" y="25"/>
                      </a:lnTo>
                      <a:lnTo>
                        <a:pt x="2" y="29"/>
                      </a:lnTo>
                      <a:lnTo>
                        <a:pt x="1" y="32"/>
                      </a:lnTo>
                      <a:lnTo>
                        <a:pt x="1" y="37"/>
                      </a:lnTo>
                      <a:lnTo>
                        <a:pt x="0" y="42"/>
                      </a:lnTo>
                      <a:lnTo>
                        <a:pt x="0" y="46"/>
                      </a:lnTo>
                      <a:lnTo>
                        <a:pt x="0" y="51"/>
                      </a:lnTo>
                      <a:lnTo>
                        <a:pt x="0" y="56"/>
                      </a:lnTo>
                      <a:lnTo>
                        <a:pt x="0" y="62"/>
                      </a:lnTo>
                      <a:lnTo>
                        <a:pt x="0" y="67"/>
                      </a:lnTo>
                      <a:lnTo>
                        <a:pt x="0" y="72"/>
                      </a:lnTo>
                      <a:lnTo>
                        <a:pt x="1" y="79"/>
                      </a:lnTo>
                      <a:lnTo>
                        <a:pt x="2" y="84"/>
                      </a:lnTo>
                      <a:lnTo>
                        <a:pt x="3" y="89"/>
                      </a:lnTo>
                      <a:lnTo>
                        <a:pt x="4" y="94"/>
                      </a:lnTo>
                      <a:lnTo>
                        <a:pt x="5" y="100"/>
                      </a:lnTo>
                      <a:lnTo>
                        <a:pt x="6" y="104"/>
                      </a:lnTo>
                      <a:lnTo>
                        <a:pt x="7" y="109"/>
                      </a:lnTo>
                      <a:lnTo>
                        <a:pt x="8" y="113"/>
                      </a:lnTo>
                      <a:lnTo>
                        <a:pt x="9" y="117"/>
                      </a:lnTo>
                      <a:lnTo>
                        <a:pt x="10" y="120"/>
                      </a:lnTo>
                      <a:lnTo>
                        <a:pt x="12" y="123"/>
                      </a:lnTo>
                      <a:lnTo>
                        <a:pt x="13" y="127"/>
                      </a:lnTo>
                      <a:lnTo>
                        <a:pt x="14" y="128"/>
                      </a:lnTo>
                      <a:lnTo>
                        <a:pt x="13" y="127"/>
                      </a:lnTo>
                      <a:lnTo>
                        <a:pt x="13" y="125"/>
                      </a:lnTo>
                      <a:lnTo>
                        <a:pt x="12" y="122"/>
                      </a:lnTo>
                      <a:lnTo>
                        <a:pt x="12" y="117"/>
                      </a:lnTo>
                      <a:lnTo>
                        <a:pt x="12" y="114"/>
                      </a:lnTo>
                      <a:lnTo>
                        <a:pt x="12" y="110"/>
                      </a:lnTo>
                      <a:lnTo>
                        <a:pt x="12" y="107"/>
                      </a:lnTo>
                      <a:lnTo>
                        <a:pt x="12" y="104"/>
                      </a:lnTo>
                      <a:lnTo>
                        <a:pt x="12" y="100"/>
                      </a:lnTo>
                      <a:lnTo>
                        <a:pt x="12" y="96"/>
                      </a:lnTo>
                      <a:lnTo>
                        <a:pt x="12" y="92"/>
                      </a:lnTo>
                      <a:lnTo>
                        <a:pt x="12" y="88"/>
                      </a:lnTo>
                      <a:lnTo>
                        <a:pt x="12" y="84"/>
                      </a:lnTo>
                      <a:lnTo>
                        <a:pt x="12" y="79"/>
                      </a:lnTo>
                      <a:lnTo>
                        <a:pt x="13" y="74"/>
                      </a:lnTo>
                      <a:lnTo>
                        <a:pt x="13" y="68"/>
                      </a:lnTo>
                      <a:lnTo>
                        <a:pt x="14" y="64"/>
                      </a:lnTo>
                      <a:lnTo>
                        <a:pt x="14" y="59"/>
                      </a:lnTo>
                      <a:lnTo>
                        <a:pt x="15" y="55"/>
                      </a:lnTo>
                      <a:lnTo>
                        <a:pt x="16" y="51"/>
                      </a:lnTo>
                      <a:lnTo>
                        <a:pt x="16" y="46"/>
                      </a:lnTo>
                      <a:lnTo>
                        <a:pt x="17" y="44"/>
                      </a:lnTo>
                      <a:lnTo>
                        <a:pt x="17" y="40"/>
                      </a:lnTo>
                      <a:lnTo>
                        <a:pt x="18" y="38"/>
                      </a:lnTo>
                      <a:lnTo>
                        <a:pt x="19" y="34"/>
                      </a:lnTo>
                      <a:lnTo>
                        <a:pt x="19" y="33"/>
                      </a:lnTo>
                      <a:lnTo>
                        <a:pt x="43" y="47"/>
                      </a:lnTo>
                      <a:lnTo>
                        <a:pt x="83" y="18"/>
                      </a:lnTo>
                      <a:lnTo>
                        <a:pt x="83" y="19"/>
                      </a:lnTo>
                      <a:lnTo>
                        <a:pt x="83" y="21"/>
                      </a:lnTo>
                      <a:lnTo>
                        <a:pt x="84" y="24"/>
                      </a:lnTo>
                      <a:lnTo>
                        <a:pt x="84" y="27"/>
                      </a:lnTo>
                      <a:lnTo>
                        <a:pt x="84" y="31"/>
                      </a:lnTo>
                      <a:lnTo>
                        <a:pt x="84" y="36"/>
                      </a:lnTo>
                      <a:lnTo>
                        <a:pt x="85" y="42"/>
                      </a:lnTo>
                      <a:lnTo>
                        <a:pt x="85" y="46"/>
                      </a:lnTo>
                      <a:lnTo>
                        <a:pt x="87" y="52"/>
                      </a:lnTo>
                      <a:lnTo>
                        <a:pt x="87" y="55"/>
                      </a:lnTo>
                      <a:lnTo>
                        <a:pt x="89" y="59"/>
                      </a:lnTo>
                      <a:lnTo>
                        <a:pt x="89" y="62"/>
                      </a:lnTo>
                      <a:lnTo>
                        <a:pt x="91" y="65"/>
                      </a:lnTo>
                      <a:lnTo>
                        <a:pt x="91" y="68"/>
                      </a:lnTo>
                      <a:lnTo>
                        <a:pt x="93" y="71"/>
                      </a:lnTo>
                      <a:lnTo>
                        <a:pt x="94" y="75"/>
                      </a:lnTo>
                      <a:lnTo>
                        <a:pt x="96" y="78"/>
                      </a:lnTo>
                      <a:lnTo>
                        <a:pt x="98" y="82"/>
                      </a:lnTo>
                      <a:lnTo>
                        <a:pt x="99" y="84"/>
                      </a:lnTo>
                      <a:lnTo>
                        <a:pt x="102" y="87"/>
                      </a:lnTo>
                      <a:lnTo>
                        <a:pt x="103" y="91"/>
                      </a:lnTo>
                      <a:lnTo>
                        <a:pt x="105" y="94"/>
                      </a:lnTo>
                      <a:lnTo>
                        <a:pt x="107" y="97"/>
                      </a:lnTo>
                      <a:lnTo>
                        <a:pt x="109" y="100"/>
                      </a:lnTo>
                      <a:lnTo>
                        <a:pt x="112" y="103"/>
                      </a:lnTo>
                      <a:lnTo>
                        <a:pt x="114" y="105"/>
                      </a:lnTo>
                      <a:lnTo>
                        <a:pt x="117" y="108"/>
                      </a:lnTo>
                      <a:lnTo>
                        <a:pt x="119" y="111"/>
                      </a:lnTo>
                      <a:lnTo>
                        <a:pt x="122" y="115"/>
                      </a:lnTo>
                      <a:lnTo>
                        <a:pt x="127" y="120"/>
                      </a:lnTo>
                      <a:lnTo>
                        <a:pt x="133" y="124"/>
                      </a:lnTo>
                      <a:lnTo>
                        <a:pt x="139" y="130"/>
                      </a:lnTo>
                      <a:lnTo>
                        <a:pt x="144" y="135"/>
                      </a:lnTo>
                      <a:lnTo>
                        <a:pt x="149" y="138"/>
                      </a:lnTo>
                      <a:lnTo>
                        <a:pt x="154" y="142"/>
                      </a:lnTo>
                      <a:lnTo>
                        <a:pt x="158" y="144"/>
                      </a:lnTo>
                      <a:lnTo>
                        <a:pt x="162" y="147"/>
                      </a:lnTo>
                      <a:lnTo>
                        <a:pt x="164" y="149"/>
                      </a:lnTo>
                      <a:lnTo>
                        <a:pt x="167" y="151"/>
                      </a:lnTo>
                      <a:lnTo>
                        <a:pt x="168" y="152"/>
                      </a:lnTo>
                      <a:lnTo>
                        <a:pt x="170" y="153"/>
                      </a:lnTo>
                      <a:lnTo>
                        <a:pt x="171" y="150"/>
                      </a:lnTo>
                      <a:lnTo>
                        <a:pt x="175" y="146"/>
                      </a:lnTo>
                      <a:lnTo>
                        <a:pt x="180" y="143"/>
                      </a:lnTo>
                      <a:lnTo>
                        <a:pt x="185" y="146"/>
                      </a:lnTo>
                      <a:lnTo>
                        <a:pt x="188" y="148"/>
                      </a:lnTo>
                      <a:lnTo>
                        <a:pt x="190" y="153"/>
                      </a:lnTo>
                      <a:lnTo>
                        <a:pt x="191" y="156"/>
                      </a:lnTo>
                      <a:lnTo>
                        <a:pt x="191" y="159"/>
                      </a:lnTo>
                      <a:lnTo>
                        <a:pt x="192" y="162"/>
                      </a:lnTo>
                      <a:lnTo>
                        <a:pt x="193" y="166"/>
                      </a:lnTo>
                      <a:lnTo>
                        <a:pt x="192" y="169"/>
                      </a:lnTo>
                      <a:lnTo>
                        <a:pt x="192" y="172"/>
                      </a:lnTo>
                      <a:lnTo>
                        <a:pt x="192" y="176"/>
                      </a:lnTo>
                      <a:lnTo>
                        <a:pt x="192" y="180"/>
                      </a:lnTo>
                      <a:lnTo>
                        <a:pt x="192" y="182"/>
                      </a:lnTo>
                      <a:lnTo>
                        <a:pt x="191" y="186"/>
                      </a:lnTo>
                      <a:lnTo>
                        <a:pt x="191" y="188"/>
                      </a:lnTo>
                      <a:lnTo>
                        <a:pt x="190" y="192"/>
                      </a:lnTo>
                      <a:lnTo>
                        <a:pt x="187" y="196"/>
                      </a:lnTo>
                      <a:lnTo>
                        <a:pt x="183" y="199"/>
                      </a:lnTo>
                      <a:lnTo>
                        <a:pt x="180" y="201"/>
                      </a:lnTo>
                      <a:lnTo>
                        <a:pt x="177" y="204"/>
                      </a:lnTo>
                      <a:lnTo>
                        <a:pt x="173" y="205"/>
                      </a:lnTo>
                      <a:lnTo>
                        <a:pt x="171" y="206"/>
                      </a:lnTo>
                      <a:lnTo>
                        <a:pt x="168" y="206"/>
                      </a:lnTo>
                      <a:lnTo>
                        <a:pt x="168" y="207"/>
                      </a:lnTo>
                      <a:lnTo>
                        <a:pt x="168" y="207"/>
                      </a:lnTo>
                      <a:lnTo>
                        <a:pt x="168" y="209"/>
                      </a:lnTo>
                      <a:lnTo>
                        <a:pt x="167" y="212"/>
                      </a:lnTo>
                      <a:lnTo>
                        <a:pt x="166" y="217"/>
                      </a:lnTo>
                      <a:lnTo>
                        <a:pt x="163" y="220"/>
                      </a:lnTo>
                      <a:lnTo>
                        <a:pt x="161" y="226"/>
                      </a:lnTo>
                      <a:lnTo>
                        <a:pt x="156" y="232"/>
                      </a:lnTo>
                      <a:lnTo>
                        <a:pt x="151" y="238"/>
                      </a:lnTo>
                      <a:lnTo>
                        <a:pt x="147" y="239"/>
                      </a:lnTo>
                      <a:lnTo>
                        <a:pt x="144" y="242"/>
                      </a:lnTo>
                      <a:lnTo>
                        <a:pt x="141" y="244"/>
                      </a:lnTo>
                      <a:lnTo>
                        <a:pt x="137" y="247"/>
                      </a:lnTo>
                      <a:lnTo>
                        <a:pt x="132" y="249"/>
                      </a:lnTo>
                      <a:lnTo>
                        <a:pt x="129" y="251"/>
                      </a:lnTo>
                      <a:lnTo>
                        <a:pt x="124" y="253"/>
                      </a:lnTo>
                      <a:lnTo>
                        <a:pt x="122" y="256"/>
                      </a:lnTo>
                      <a:lnTo>
                        <a:pt x="118" y="257"/>
                      </a:lnTo>
                      <a:lnTo>
                        <a:pt x="115" y="257"/>
                      </a:lnTo>
                      <a:lnTo>
                        <a:pt x="111" y="259"/>
                      </a:lnTo>
                      <a:lnTo>
                        <a:pt x="109" y="260"/>
                      </a:lnTo>
                      <a:lnTo>
                        <a:pt x="105" y="261"/>
                      </a:lnTo>
                      <a:lnTo>
                        <a:pt x="104" y="263"/>
                      </a:lnTo>
                      <a:lnTo>
                        <a:pt x="105" y="264"/>
                      </a:lnTo>
                      <a:lnTo>
                        <a:pt x="108" y="267"/>
                      </a:lnTo>
                      <a:lnTo>
                        <a:pt x="110" y="269"/>
                      </a:lnTo>
                      <a:lnTo>
                        <a:pt x="114" y="272"/>
                      </a:lnTo>
                      <a:lnTo>
                        <a:pt x="117" y="274"/>
                      </a:lnTo>
                      <a:lnTo>
                        <a:pt x="122" y="277"/>
                      </a:lnTo>
                      <a:lnTo>
                        <a:pt x="124" y="280"/>
                      </a:lnTo>
                      <a:lnTo>
                        <a:pt x="130" y="283"/>
                      </a:lnTo>
                      <a:lnTo>
                        <a:pt x="134" y="285"/>
                      </a:lnTo>
                      <a:lnTo>
                        <a:pt x="139" y="288"/>
                      </a:lnTo>
                      <a:lnTo>
                        <a:pt x="141" y="289"/>
                      </a:lnTo>
                      <a:lnTo>
                        <a:pt x="144" y="291"/>
                      </a:lnTo>
                      <a:lnTo>
                        <a:pt x="146" y="292"/>
                      </a:lnTo>
                      <a:lnTo>
                        <a:pt x="147" y="293"/>
                      </a:lnTo>
                      <a:lnTo>
                        <a:pt x="148" y="292"/>
                      </a:lnTo>
                      <a:lnTo>
                        <a:pt x="152" y="291"/>
                      </a:lnTo>
                      <a:lnTo>
                        <a:pt x="154" y="289"/>
                      </a:lnTo>
                      <a:lnTo>
                        <a:pt x="157" y="288"/>
                      </a:lnTo>
                      <a:lnTo>
                        <a:pt x="160" y="287"/>
                      </a:lnTo>
                      <a:lnTo>
                        <a:pt x="163" y="287"/>
                      </a:lnTo>
                      <a:lnTo>
                        <a:pt x="167" y="285"/>
                      </a:lnTo>
                      <a:lnTo>
                        <a:pt x="171" y="283"/>
                      </a:lnTo>
                      <a:lnTo>
                        <a:pt x="175" y="281"/>
                      </a:lnTo>
                      <a:lnTo>
                        <a:pt x="179" y="280"/>
                      </a:lnTo>
                      <a:lnTo>
                        <a:pt x="181" y="277"/>
                      </a:lnTo>
                      <a:lnTo>
                        <a:pt x="186" y="276"/>
                      </a:lnTo>
                      <a:lnTo>
                        <a:pt x="189" y="275"/>
                      </a:lnTo>
                      <a:lnTo>
                        <a:pt x="194" y="273"/>
                      </a:lnTo>
                      <a:lnTo>
                        <a:pt x="197" y="271"/>
                      </a:lnTo>
                      <a:lnTo>
                        <a:pt x="200" y="269"/>
                      </a:lnTo>
                      <a:lnTo>
                        <a:pt x="202" y="267"/>
                      </a:lnTo>
                      <a:lnTo>
                        <a:pt x="205" y="265"/>
                      </a:lnTo>
                      <a:lnTo>
                        <a:pt x="210" y="261"/>
                      </a:lnTo>
                      <a:lnTo>
                        <a:pt x="214" y="257"/>
                      </a:lnTo>
                      <a:lnTo>
                        <a:pt x="217" y="255"/>
                      </a:lnTo>
                      <a:lnTo>
                        <a:pt x="219" y="253"/>
                      </a:lnTo>
                      <a:lnTo>
                        <a:pt x="219" y="252"/>
                      </a:lnTo>
                      <a:lnTo>
                        <a:pt x="220" y="252"/>
                      </a:lnTo>
                      <a:lnTo>
                        <a:pt x="220" y="250"/>
                      </a:lnTo>
                      <a:lnTo>
                        <a:pt x="220" y="249"/>
                      </a:lnTo>
                      <a:lnTo>
                        <a:pt x="220" y="245"/>
                      </a:lnTo>
                      <a:lnTo>
                        <a:pt x="221" y="242"/>
                      </a:lnTo>
                      <a:lnTo>
                        <a:pt x="221" y="239"/>
                      </a:lnTo>
                      <a:lnTo>
                        <a:pt x="222" y="237"/>
                      </a:lnTo>
                      <a:lnTo>
                        <a:pt x="223" y="235"/>
                      </a:lnTo>
                      <a:lnTo>
                        <a:pt x="223" y="232"/>
                      </a:lnTo>
                      <a:lnTo>
                        <a:pt x="223" y="228"/>
                      </a:lnTo>
                      <a:lnTo>
                        <a:pt x="224" y="225"/>
                      </a:lnTo>
                      <a:lnTo>
                        <a:pt x="224" y="221"/>
                      </a:lnTo>
                      <a:lnTo>
                        <a:pt x="225" y="219"/>
                      </a:lnTo>
                      <a:lnTo>
                        <a:pt x="225" y="215"/>
                      </a:lnTo>
                      <a:lnTo>
                        <a:pt x="226" y="210"/>
                      </a:lnTo>
                      <a:lnTo>
                        <a:pt x="226" y="205"/>
                      </a:lnTo>
                      <a:lnTo>
                        <a:pt x="227" y="201"/>
                      </a:lnTo>
                      <a:lnTo>
                        <a:pt x="227" y="198"/>
                      </a:lnTo>
                      <a:lnTo>
                        <a:pt x="227" y="193"/>
                      </a:lnTo>
                      <a:lnTo>
                        <a:pt x="228" y="188"/>
                      </a:lnTo>
                      <a:lnTo>
                        <a:pt x="228" y="184"/>
                      </a:lnTo>
                      <a:lnTo>
                        <a:pt x="228" y="180"/>
                      </a:lnTo>
                      <a:lnTo>
                        <a:pt x="228" y="175"/>
                      </a:lnTo>
                      <a:lnTo>
                        <a:pt x="228" y="169"/>
                      </a:lnTo>
                      <a:lnTo>
                        <a:pt x="228" y="164"/>
                      </a:lnTo>
                      <a:lnTo>
                        <a:pt x="228" y="160"/>
                      </a:lnTo>
                      <a:lnTo>
                        <a:pt x="228" y="155"/>
                      </a:lnTo>
                      <a:lnTo>
                        <a:pt x="228" y="149"/>
                      </a:lnTo>
                      <a:lnTo>
                        <a:pt x="228" y="144"/>
                      </a:lnTo>
                      <a:lnTo>
                        <a:pt x="227" y="140"/>
                      </a:lnTo>
                      <a:lnTo>
                        <a:pt x="226" y="134"/>
                      </a:lnTo>
                      <a:lnTo>
                        <a:pt x="225" y="128"/>
                      </a:lnTo>
                      <a:lnTo>
                        <a:pt x="225" y="123"/>
                      </a:lnTo>
                      <a:lnTo>
                        <a:pt x="224" y="119"/>
                      </a:lnTo>
                      <a:lnTo>
                        <a:pt x="223" y="114"/>
                      </a:lnTo>
                      <a:lnTo>
                        <a:pt x="221" y="108"/>
                      </a:lnTo>
                      <a:lnTo>
                        <a:pt x="221" y="104"/>
                      </a:lnTo>
                      <a:lnTo>
                        <a:pt x="219" y="99"/>
                      </a:lnTo>
                      <a:lnTo>
                        <a:pt x="219" y="94"/>
                      </a:lnTo>
                      <a:lnTo>
                        <a:pt x="218" y="88"/>
                      </a:lnTo>
                      <a:lnTo>
                        <a:pt x="217" y="84"/>
                      </a:lnTo>
                      <a:lnTo>
                        <a:pt x="216" y="80"/>
                      </a:lnTo>
                      <a:lnTo>
                        <a:pt x="214" y="75"/>
                      </a:lnTo>
                      <a:lnTo>
                        <a:pt x="213" y="71"/>
                      </a:lnTo>
                      <a:lnTo>
                        <a:pt x="213" y="67"/>
                      </a:lnTo>
                      <a:lnTo>
                        <a:pt x="211" y="64"/>
                      </a:lnTo>
                      <a:lnTo>
                        <a:pt x="210" y="60"/>
                      </a:lnTo>
                      <a:lnTo>
                        <a:pt x="209" y="56"/>
                      </a:lnTo>
                      <a:lnTo>
                        <a:pt x="208" y="52"/>
                      </a:lnTo>
                      <a:lnTo>
                        <a:pt x="207" y="49"/>
                      </a:lnTo>
                      <a:lnTo>
                        <a:pt x="206" y="46"/>
                      </a:lnTo>
                      <a:lnTo>
                        <a:pt x="205" y="44"/>
                      </a:lnTo>
                      <a:lnTo>
                        <a:pt x="204" y="42"/>
                      </a:lnTo>
                      <a:lnTo>
                        <a:pt x="203" y="37"/>
                      </a:lnTo>
                      <a:lnTo>
                        <a:pt x="201" y="34"/>
                      </a:lnTo>
                      <a:lnTo>
                        <a:pt x="201" y="32"/>
                      </a:lnTo>
                      <a:lnTo>
                        <a:pt x="200" y="31"/>
                      </a:lnTo>
                      <a:lnTo>
                        <a:pt x="199" y="28"/>
                      </a:lnTo>
                      <a:lnTo>
                        <a:pt x="196" y="25"/>
                      </a:lnTo>
                      <a:lnTo>
                        <a:pt x="191" y="20"/>
                      </a:lnTo>
                      <a:lnTo>
                        <a:pt x="188" y="18"/>
                      </a:lnTo>
                      <a:lnTo>
                        <a:pt x="185" y="15"/>
                      </a:lnTo>
                      <a:lnTo>
                        <a:pt x="181" y="12"/>
                      </a:lnTo>
                      <a:lnTo>
                        <a:pt x="179" y="10"/>
                      </a:lnTo>
                      <a:lnTo>
                        <a:pt x="173" y="8"/>
                      </a:lnTo>
                      <a:lnTo>
                        <a:pt x="169" y="7"/>
                      </a:lnTo>
                      <a:lnTo>
                        <a:pt x="164" y="5"/>
                      </a:lnTo>
                      <a:lnTo>
                        <a:pt x="160" y="4"/>
                      </a:lnTo>
                      <a:lnTo>
                        <a:pt x="156" y="3"/>
                      </a:lnTo>
                      <a:lnTo>
                        <a:pt x="153" y="2"/>
                      </a:lnTo>
                      <a:lnTo>
                        <a:pt x="150" y="1"/>
                      </a:lnTo>
                      <a:lnTo>
                        <a:pt x="147" y="1"/>
                      </a:lnTo>
                      <a:lnTo>
                        <a:pt x="143" y="0"/>
                      </a:lnTo>
                      <a:lnTo>
                        <a:pt x="141" y="0"/>
                      </a:lnTo>
                      <a:lnTo>
                        <a:pt x="138" y="0"/>
                      </a:lnTo>
                      <a:lnTo>
                        <a:pt x="135" y="0"/>
                      </a:lnTo>
                      <a:lnTo>
                        <a:pt x="131" y="0"/>
                      </a:lnTo>
                      <a:lnTo>
                        <a:pt x="128" y="0"/>
                      </a:lnTo>
                      <a:lnTo>
                        <a:pt x="124" y="0"/>
                      </a:lnTo>
                      <a:lnTo>
                        <a:pt x="122" y="0"/>
                      </a:lnTo>
                      <a:lnTo>
                        <a:pt x="119" y="0"/>
                      </a:lnTo>
                      <a:lnTo>
                        <a:pt x="115" y="0"/>
                      </a:lnTo>
                      <a:lnTo>
                        <a:pt x="112" y="0"/>
                      </a:lnTo>
                      <a:lnTo>
                        <a:pt x="110" y="1"/>
                      </a:lnTo>
                      <a:lnTo>
                        <a:pt x="106" y="1"/>
                      </a:lnTo>
                      <a:lnTo>
                        <a:pt x="103" y="1"/>
                      </a:lnTo>
                      <a:lnTo>
                        <a:pt x="101" y="1"/>
                      </a:lnTo>
                      <a:lnTo>
                        <a:pt x="99" y="1"/>
                      </a:lnTo>
                      <a:lnTo>
                        <a:pt x="94" y="2"/>
                      </a:lnTo>
                      <a:lnTo>
                        <a:pt x="90" y="2"/>
                      </a:lnTo>
                      <a:lnTo>
                        <a:pt x="86" y="3"/>
                      </a:lnTo>
                      <a:lnTo>
                        <a:pt x="84" y="3"/>
                      </a:lnTo>
                      <a:lnTo>
                        <a:pt x="83" y="3"/>
                      </a:lnTo>
                      <a:lnTo>
                        <a:pt x="83" y="4"/>
                      </a:lnTo>
                      <a:lnTo>
                        <a:pt x="83" y="4"/>
                      </a:lnTo>
                      <a:close/>
                    </a:path>
                  </a:pathLst>
                </a:custGeom>
                <a:solidFill>
                  <a:srgbClr val="b84f2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7134480" y="1471320"/>
                  <a:ext cx="73800" cy="90720"/>
                </a:xfrm>
                <a:custGeom>
                  <a:avLst/>
                  <a:gdLst/>
                  <a:ahLst/>
                  <a:rect l="l" t="t" r="r" b="b"/>
                  <a:pathLst>
                    <a:path w="74" h="116">
                      <a:moveTo>
                        <a:pt x="55" y="1"/>
                      </a:moveTo>
                      <a:lnTo>
                        <a:pt x="54" y="0"/>
                      </a:lnTo>
                      <a:lnTo>
                        <a:pt x="53" y="0"/>
                      </a:lnTo>
                      <a:lnTo>
                        <a:pt x="51" y="0"/>
                      </a:lnTo>
                      <a:lnTo>
                        <a:pt x="48" y="0"/>
                      </a:lnTo>
                      <a:lnTo>
                        <a:pt x="44" y="0"/>
                      </a:lnTo>
                      <a:lnTo>
                        <a:pt x="40" y="0"/>
                      </a:lnTo>
                      <a:lnTo>
                        <a:pt x="35" y="0"/>
                      </a:lnTo>
                      <a:lnTo>
                        <a:pt x="31" y="2"/>
                      </a:lnTo>
                      <a:lnTo>
                        <a:pt x="25" y="3"/>
                      </a:lnTo>
                      <a:lnTo>
                        <a:pt x="20" y="5"/>
                      </a:lnTo>
                      <a:lnTo>
                        <a:pt x="16" y="6"/>
                      </a:lnTo>
                      <a:lnTo>
                        <a:pt x="12" y="7"/>
                      </a:lnTo>
                      <a:lnTo>
                        <a:pt x="7" y="8"/>
                      </a:lnTo>
                      <a:lnTo>
                        <a:pt x="4" y="10"/>
                      </a:lnTo>
                      <a:lnTo>
                        <a:pt x="2" y="11"/>
                      </a:lnTo>
                      <a:lnTo>
                        <a:pt x="2" y="12"/>
                      </a:lnTo>
                      <a:lnTo>
                        <a:pt x="2" y="12"/>
                      </a:lnTo>
                      <a:lnTo>
                        <a:pt x="1" y="16"/>
                      </a:lnTo>
                      <a:lnTo>
                        <a:pt x="0" y="17"/>
                      </a:lnTo>
                      <a:lnTo>
                        <a:pt x="0" y="20"/>
                      </a:lnTo>
                      <a:lnTo>
                        <a:pt x="0" y="23"/>
                      </a:lnTo>
                      <a:lnTo>
                        <a:pt x="1" y="25"/>
                      </a:lnTo>
                      <a:lnTo>
                        <a:pt x="1" y="29"/>
                      </a:lnTo>
                      <a:lnTo>
                        <a:pt x="1" y="32"/>
                      </a:lnTo>
                      <a:lnTo>
                        <a:pt x="1" y="36"/>
                      </a:lnTo>
                      <a:lnTo>
                        <a:pt x="2" y="41"/>
                      </a:lnTo>
                      <a:lnTo>
                        <a:pt x="3" y="44"/>
                      </a:lnTo>
                      <a:lnTo>
                        <a:pt x="4" y="49"/>
                      </a:lnTo>
                      <a:lnTo>
                        <a:pt x="6" y="54"/>
                      </a:lnTo>
                      <a:lnTo>
                        <a:pt x="8" y="60"/>
                      </a:lnTo>
                      <a:lnTo>
                        <a:pt x="10" y="64"/>
                      </a:lnTo>
                      <a:lnTo>
                        <a:pt x="13" y="69"/>
                      </a:lnTo>
                      <a:lnTo>
                        <a:pt x="16" y="74"/>
                      </a:lnTo>
                      <a:lnTo>
                        <a:pt x="18" y="80"/>
                      </a:lnTo>
                      <a:lnTo>
                        <a:pt x="21" y="83"/>
                      </a:lnTo>
                      <a:lnTo>
                        <a:pt x="25" y="88"/>
                      </a:lnTo>
                      <a:lnTo>
                        <a:pt x="28" y="93"/>
                      </a:lnTo>
                      <a:lnTo>
                        <a:pt x="32" y="98"/>
                      </a:lnTo>
                      <a:lnTo>
                        <a:pt x="35" y="102"/>
                      </a:lnTo>
                      <a:lnTo>
                        <a:pt x="37" y="105"/>
                      </a:lnTo>
                      <a:lnTo>
                        <a:pt x="39" y="108"/>
                      </a:lnTo>
                      <a:lnTo>
                        <a:pt x="42" y="111"/>
                      </a:lnTo>
                      <a:lnTo>
                        <a:pt x="45" y="115"/>
                      </a:lnTo>
                      <a:lnTo>
                        <a:pt x="47" y="116"/>
                      </a:lnTo>
                      <a:lnTo>
                        <a:pt x="45" y="114"/>
                      </a:lnTo>
                      <a:lnTo>
                        <a:pt x="44" y="112"/>
                      </a:lnTo>
                      <a:lnTo>
                        <a:pt x="43" y="108"/>
                      </a:lnTo>
                      <a:lnTo>
                        <a:pt x="42" y="105"/>
                      </a:lnTo>
                      <a:lnTo>
                        <a:pt x="42" y="103"/>
                      </a:lnTo>
                      <a:lnTo>
                        <a:pt x="41" y="101"/>
                      </a:lnTo>
                      <a:lnTo>
                        <a:pt x="41" y="98"/>
                      </a:lnTo>
                      <a:lnTo>
                        <a:pt x="40" y="94"/>
                      </a:lnTo>
                      <a:lnTo>
                        <a:pt x="39" y="90"/>
                      </a:lnTo>
                      <a:lnTo>
                        <a:pt x="37" y="85"/>
                      </a:lnTo>
                      <a:lnTo>
                        <a:pt x="37" y="82"/>
                      </a:lnTo>
                      <a:lnTo>
                        <a:pt x="36" y="77"/>
                      </a:lnTo>
                      <a:lnTo>
                        <a:pt x="35" y="72"/>
                      </a:lnTo>
                      <a:lnTo>
                        <a:pt x="35" y="67"/>
                      </a:lnTo>
                      <a:lnTo>
                        <a:pt x="35" y="63"/>
                      </a:lnTo>
                      <a:lnTo>
                        <a:pt x="34" y="58"/>
                      </a:lnTo>
                      <a:lnTo>
                        <a:pt x="33" y="54"/>
                      </a:lnTo>
                      <a:lnTo>
                        <a:pt x="33" y="50"/>
                      </a:lnTo>
                      <a:lnTo>
                        <a:pt x="33" y="48"/>
                      </a:lnTo>
                      <a:lnTo>
                        <a:pt x="32" y="44"/>
                      </a:lnTo>
                      <a:lnTo>
                        <a:pt x="32" y="42"/>
                      </a:lnTo>
                      <a:lnTo>
                        <a:pt x="32" y="44"/>
                      </a:lnTo>
                      <a:lnTo>
                        <a:pt x="34" y="47"/>
                      </a:lnTo>
                      <a:lnTo>
                        <a:pt x="35" y="48"/>
                      </a:lnTo>
                      <a:lnTo>
                        <a:pt x="36" y="52"/>
                      </a:lnTo>
                      <a:lnTo>
                        <a:pt x="37" y="55"/>
                      </a:lnTo>
                      <a:lnTo>
                        <a:pt x="40" y="59"/>
                      </a:lnTo>
                      <a:lnTo>
                        <a:pt x="41" y="62"/>
                      </a:lnTo>
                      <a:lnTo>
                        <a:pt x="44" y="65"/>
                      </a:lnTo>
                      <a:lnTo>
                        <a:pt x="47" y="68"/>
                      </a:lnTo>
                      <a:lnTo>
                        <a:pt x="50" y="72"/>
                      </a:lnTo>
                      <a:lnTo>
                        <a:pt x="52" y="75"/>
                      </a:lnTo>
                      <a:lnTo>
                        <a:pt x="53" y="78"/>
                      </a:lnTo>
                      <a:lnTo>
                        <a:pt x="54" y="79"/>
                      </a:lnTo>
                      <a:lnTo>
                        <a:pt x="55" y="80"/>
                      </a:lnTo>
                      <a:lnTo>
                        <a:pt x="55" y="79"/>
                      </a:lnTo>
                      <a:lnTo>
                        <a:pt x="55" y="78"/>
                      </a:lnTo>
                      <a:lnTo>
                        <a:pt x="54" y="75"/>
                      </a:lnTo>
                      <a:lnTo>
                        <a:pt x="54" y="72"/>
                      </a:lnTo>
                      <a:lnTo>
                        <a:pt x="54" y="68"/>
                      </a:lnTo>
                      <a:lnTo>
                        <a:pt x="53" y="63"/>
                      </a:lnTo>
                      <a:lnTo>
                        <a:pt x="53" y="58"/>
                      </a:lnTo>
                      <a:lnTo>
                        <a:pt x="53" y="52"/>
                      </a:lnTo>
                      <a:lnTo>
                        <a:pt x="53" y="49"/>
                      </a:lnTo>
                      <a:lnTo>
                        <a:pt x="53" y="45"/>
                      </a:lnTo>
                      <a:lnTo>
                        <a:pt x="52" y="43"/>
                      </a:lnTo>
                      <a:lnTo>
                        <a:pt x="52" y="40"/>
                      </a:lnTo>
                      <a:lnTo>
                        <a:pt x="52" y="36"/>
                      </a:lnTo>
                      <a:lnTo>
                        <a:pt x="52" y="33"/>
                      </a:lnTo>
                      <a:lnTo>
                        <a:pt x="52" y="29"/>
                      </a:lnTo>
                      <a:lnTo>
                        <a:pt x="52" y="27"/>
                      </a:lnTo>
                      <a:lnTo>
                        <a:pt x="52" y="22"/>
                      </a:lnTo>
                      <a:lnTo>
                        <a:pt x="52" y="18"/>
                      </a:lnTo>
                      <a:lnTo>
                        <a:pt x="52" y="16"/>
                      </a:lnTo>
                      <a:lnTo>
                        <a:pt x="52" y="15"/>
                      </a:lnTo>
                      <a:lnTo>
                        <a:pt x="61" y="21"/>
                      </a:lnTo>
                      <a:lnTo>
                        <a:pt x="61" y="14"/>
                      </a:lnTo>
                      <a:lnTo>
                        <a:pt x="74" y="6"/>
                      </a:lnTo>
                      <a:lnTo>
                        <a:pt x="55" y="1"/>
                      </a:lnTo>
                      <a:lnTo>
                        <a:pt x="55" y="1"/>
                      </a:lnTo>
                      <a:close/>
                    </a:path>
                  </a:pathLst>
                </a:custGeom>
                <a:solidFill>
                  <a:srgbClr val="e87a63"/>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37" name=""/>
                <p:cNvSpPr/>
                <p:nvPr/>
              </p:nvSpPr>
              <p:spPr>
                <a:xfrm>
                  <a:off x="7044480" y="1469880"/>
                  <a:ext cx="74520" cy="81360"/>
                </a:xfrm>
                <a:custGeom>
                  <a:avLst/>
                  <a:gdLst/>
                  <a:ahLst/>
                  <a:rect l="l" t="t" r="r" b="b"/>
                  <a:pathLst>
                    <a:path w="75" h="104">
                      <a:moveTo>
                        <a:pt x="8" y="104"/>
                      </a:moveTo>
                      <a:lnTo>
                        <a:pt x="8" y="103"/>
                      </a:lnTo>
                      <a:lnTo>
                        <a:pt x="8" y="101"/>
                      </a:lnTo>
                      <a:lnTo>
                        <a:pt x="8" y="99"/>
                      </a:lnTo>
                      <a:lnTo>
                        <a:pt x="8" y="96"/>
                      </a:lnTo>
                      <a:lnTo>
                        <a:pt x="8" y="91"/>
                      </a:lnTo>
                      <a:lnTo>
                        <a:pt x="8" y="86"/>
                      </a:lnTo>
                      <a:lnTo>
                        <a:pt x="8" y="84"/>
                      </a:lnTo>
                      <a:lnTo>
                        <a:pt x="8" y="80"/>
                      </a:lnTo>
                      <a:lnTo>
                        <a:pt x="9" y="77"/>
                      </a:lnTo>
                      <a:lnTo>
                        <a:pt x="9" y="74"/>
                      </a:lnTo>
                      <a:lnTo>
                        <a:pt x="9" y="69"/>
                      </a:lnTo>
                      <a:lnTo>
                        <a:pt x="9" y="65"/>
                      </a:lnTo>
                      <a:lnTo>
                        <a:pt x="10" y="61"/>
                      </a:lnTo>
                      <a:lnTo>
                        <a:pt x="11" y="57"/>
                      </a:lnTo>
                      <a:lnTo>
                        <a:pt x="11" y="52"/>
                      </a:lnTo>
                      <a:lnTo>
                        <a:pt x="12" y="47"/>
                      </a:lnTo>
                      <a:lnTo>
                        <a:pt x="13" y="44"/>
                      </a:lnTo>
                      <a:lnTo>
                        <a:pt x="14" y="40"/>
                      </a:lnTo>
                      <a:lnTo>
                        <a:pt x="14" y="36"/>
                      </a:lnTo>
                      <a:lnTo>
                        <a:pt x="15" y="33"/>
                      </a:lnTo>
                      <a:lnTo>
                        <a:pt x="15" y="30"/>
                      </a:lnTo>
                      <a:lnTo>
                        <a:pt x="16" y="27"/>
                      </a:lnTo>
                      <a:lnTo>
                        <a:pt x="17" y="24"/>
                      </a:lnTo>
                      <a:lnTo>
                        <a:pt x="18" y="23"/>
                      </a:lnTo>
                      <a:lnTo>
                        <a:pt x="46" y="27"/>
                      </a:lnTo>
                      <a:lnTo>
                        <a:pt x="39" y="15"/>
                      </a:lnTo>
                      <a:lnTo>
                        <a:pt x="75" y="4"/>
                      </a:lnTo>
                      <a:lnTo>
                        <a:pt x="73" y="3"/>
                      </a:lnTo>
                      <a:lnTo>
                        <a:pt x="70" y="3"/>
                      </a:lnTo>
                      <a:lnTo>
                        <a:pt x="67" y="2"/>
                      </a:lnTo>
                      <a:lnTo>
                        <a:pt x="62" y="2"/>
                      </a:lnTo>
                      <a:lnTo>
                        <a:pt x="58" y="1"/>
                      </a:lnTo>
                      <a:lnTo>
                        <a:pt x="54" y="1"/>
                      </a:lnTo>
                      <a:lnTo>
                        <a:pt x="51" y="0"/>
                      </a:lnTo>
                      <a:lnTo>
                        <a:pt x="48" y="0"/>
                      </a:lnTo>
                      <a:lnTo>
                        <a:pt x="45" y="0"/>
                      </a:lnTo>
                      <a:lnTo>
                        <a:pt x="42" y="0"/>
                      </a:lnTo>
                      <a:lnTo>
                        <a:pt x="39" y="1"/>
                      </a:lnTo>
                      <a:lnTo>
                        <a:pt x="35" y="2"/>
                      </a:lnTo>
                      <a:lnTo>
                        <a:pt x="32" y="2"/>
                      </a:lnTo>
                      <a:lnTo>
                        <a:pt x="29" y="3"/>
                      </a:lnTo>
                      <a:lnTo>
                        <a:pt x="26" y="3"/>
                      </a:lnTo>
                      <a:lnTo>
                        <a:pt x="24" y="4"/>
                      </a:lnTo>
                      <a:lnTo>
                        <a:pt x="19" y="6"/>
                      </a:lnTo>
                      <a:lnTo>
                        <a:pt x="15" y="8"/>
                      </a:lnTo>
                      <a:lnTo>
                        <a:pt x="11" y="9"/>
                      </a:lnTo>
                      <a:lnTo>
                        <a:pt x="9" y="11"/>
                      </a:lnTo>
                      <a:lnTo>
                        <a:pt x="8" y="12"/>
                      </a:lnTo>
                      <a:lnTo>
                        <a:pt x="8" y="12"/>
                      </a:lnTo>
                      <a:lnTo>
                        <a:pt x="7" y="13"/>
                      </a:lnTo>
                      <a:lnTo>
                        <a:pt x="6" y="16"/>
                      </a:lnTo>
                      <a:lnTo>
                        <a:pt x="5" y="18"/>
                      </a:lnTo>
                      <a:lnTo>
                        <a:pt x="5" y="20"/>
                      </a:lnTo>
                      <a:lnTo>
                        <a:pt x="4" y="23"/>
                      </a:lnTo>
                      <a:lnTo>
                        <a:pt x="4" y="26"/>
                      </a:lnTo>
                      <a:lnTo>
                        <a:pt x="3" y="28"/>
                      </a:lnTo>
                      <a:lnTo>
                        <a:pt x="2" y="31"/>
                      </a:lnTo>
                      <a:lnTo>
                        <a:pt x="1" y="35"/>
                      </a:lnTo>
                      <a:lnTo>
                        <a:pt x="1" y="39"/>
                      </a:lnTo>
                      <a:lnTo>
                        <a:pt x="0" y="43"/>
                      </a:lnTo>
                      <a:lnTo>
                        <a:pt x="0" y="46"/>
                      </a:lnTo>
                      <a:lnTo>
                        <a:pt x="0" y="50"/>
                      </a:lnTo>
                      <a:lnTo>
                        <a:pt x="0" y="55"/>
                      </a:lnTo>
                      <a:lnTo>
                        <a:pt x="0" y="59"/>
                      </a:lnTo>
                      <a:lnTo>
                        <a:pt x="0" y="64"/>
                      </a:lnTo>
                      <a:lnTo>
                        <a:pt x="0" y="67"/>
                      </a:lnTo>
                      <a:lnTo>
                        <a:pt x="1" y="72"/>
                      </a:lnTo>
                      <a:lnTo>
                        <a:pt x="1" y="76"/>
                      </a:lnTo>
                      <a:lnTo>
                        <a:pt x="2" y="80"/>
                      </a:lnTo>
                      <a:lnTo>
                        <a:pt x="3" y="84"/>
                      </a:lnTo>
                      <a:lnTo>
                        <a:pt x="4" y="87"/>
                      </a:lnTo>
                      <a:lnTo>
                        <a:pt x="4" y="90"/>
                      </a:lnTo>
                      <a:lnTo>
                        <a:pt x="5" y="94"/>
                      </a:lnTo>
                      <a:lnTo>
                        <a:pt x="5" y="96"/>
                      </a:lnTo>
                      <a:lnTo>
                        <a:pt x="7" y="99"/>
                      </a:lnTo>
                      <a:lnTo>
                        <a:pt x="8" y="102"/>
                      </a:lnTo>
                      <a:lnTo>
                        <a:pt x="8" y="104"/>
                      </a:lnTo>
                      <a:lnTo>
                        <a:pt x="8" y="104"/>
                      </a:lnTo>
                      <a:close/>
                    </a:path>
                  </a:pathLst>
                </a:custGeom>
                <a:solidFill>
                  <a:srgbClr val="e87a63"/>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38" name=""/>
                <p:cNvSpPr/>
                <p:nvPr/>
              </p:nvSpPr>
              <p:spPr>
                <a:xfrm>
                  <a:off x="6775920" y="1540080"/>
                  <a:ext cx="248400" cy="191520"/>
                </a:xfrm>
                <a:custGeom>
                  <a:avLst/>
                  <a:gdLst/>
                  <a:ahLst/>
                  <a:rect l="l" t="t" r="r" b="b"/>
                  <a:pathLst>
                    <a:path w="249" h="245">
                      <a:moveTo>
                        <a:pt x="0" y="186"/>
                      </a:moveTo>
                      <a:lnTo>
                        <a:pt x="61" y="245"/>
                      </a:lnTo>
                      <a:lnTo>
                        <a:pt x="28" y="197"/>
                      </a:lnTo>
                      <a:lnTo>
                        <a:pt x="29" y="193"/>
                      </a:lnTo>
                      <a:lnTo>
                        <a:pt x="31" y="189"/>
                      </a:lnTo>
                      <a:lnTo>
                        <a:pt x="33" y="186"/>
                      </a:lnTo>
                      <a:lnTo>
                        <a:pt x="35" y="183"/>
                      </a:lnTo>
                      <a:lnTo>
                        <a:pt x="37" y="179"/>
                      </a:lnTo>
                      <a:lnTo>
                        <a:pt x="39" y="175"/>
                      </a:lnTo>
                      <a:lnTo>
                        <a:pt x="42" y="172"/>
                      </a:lnTo>
                      <a:lnTo>
                        <a:pt x="45" y="169"/>
                      </a:lnTo>
                      <a:lnTo>
                        <a:pt x="47" y="166"/>
                      </a:lnTo>
                      <a:lnTo>
                        <a:pt x="49" y="162"/>
                      </a:lnTo>
                      <a:lnTo>
                        <a:pt x="53" y="158"/>
                      </a:lnTo>
                      <a:lnTo>
                        <a:pt x="56" y="155"/>
                      </a:lnTo>
                      <a:lnTo>
                        <a:pt x="59" y="151"/>
                      </a:lnTo>
                      <a:lnTo>
                        <a:pt x="62" y="148"/>
                      </a:lnTo>
                      <a:lnTo>
                        <a:pt x="66" y="145"/>
                      </a:lnTo>
                      <a:lnTo>
                        <a:pt x="69" y="141"/>
                      </a:lnTo>
                      <a:lnTo>
                        <a:pt x="72" y="137"/>
                      </a:lnTo>
                      <a:lnTo>
                        <a:pt x="75" y="133"/>
                      </a:lnTo>
                      <a:lnTo>
                        <a:pt x="79" y="129"/>
                      </a:lnTo>
                      <a:lnTo>
                        <a:pt x="83" y="127"/>
                      </a:lnTo>
                      <a:lnTo>
                        <a:pt x="85" y="123"/>
                      </a:lnTo>
                      <a:lnTo>
                        <a:pt x="89" y="119"/>
                      </a:lnTo>
                      <a:lnTo>
                        <a:pt x="93" y="115"/>
                      </a:lnTo>
                      <a:lnTo>
                        <a:pt x="98" y="112"/>
                      </a:lnTo>
                      <a:lnTo>
                        <a:pt x="101" y="109"/>
                      </a:lnTo>
                      <a:lnTo>
                        <a:pt x="105" y="106"/>
                      </a:lnTo>
                      <a:lnTo>
                        <a:pt x="109" y="102"/>
                      </a:lnTo>
                      <a:lnTo>
                        <a:pt x="113" y="98"/>
                      </a:lnTo>
                      <a:lnTo>
                        <a:pt x="117" y="95"/>
                      </a:lnTo>
                      <a:lnTo>
                        <a:pt x="122" y="92"/>
                      </a:lnTo>
                      <a:lnTo>
                        <a:pt x="125" y="89"/>
                      </a:lnTo>
                      <a:lnTo>
                        <a:pt x="130" y="86"/>
                      </a:lnTo>
                      <a:lnTo>
                        <a:pt x="134" y="82"/>
                      </a:lnTo>
                      <a:lnTo>
                        <a:pt x="138" y="78"/>
                      </a:lnTo>
                      <a:lnTo>
                        <a:pt x="142" y="75"/>
                      </a:lnTo>
                      <a:lnTo>
                        <a:pt x="146" y="72"/>
                      </a:lnTo>
                      <a:lnTo>
                        <a:pt x="150" y="69"/>
                      </a:lnTo>
                      <a:lnTo>
                        <a:pt x="154" y="66"/>
                      </a:lnTo>
                      <a:lnTo>
                        <a:pt x="158" y="62"/>
                      </a:lnTo>
                      <a:lnTo>
                        <a:pt x="163" y="59"/>
                      </a:lnTo>
                      <a:lnTo>
                        <a:pt x="166" y="56"/>
                      </a:lnTo>
                      <a:lnTo>
                        <a:pt x="170" y="53"/>
                      </a:lnTo>
                      <a:lnTo>
                        <a:pt x="174" y="50"/>
                      </a:lnTo>
                      <a:lnTo>
                        <a:pt x="179" y="48"/>
                      </a:lnTo>
                      <a:lnTo>
                        <a:pt x="182" y="44"/>
                      </a:lnTo>
                      <a:lnTo>
                        <a:pt x="186" y="41"/>
                      </a:lnTo>
                      <a:lnTo>
                        <a:pt x="190" y="38"/>
                      </a:lnTo>
                      <a:lnTo>
                        <a:pt x="195" y="36"/>
                      </a:lnTo>
                      <a:lnTo>
                        <a:pt x="198" y="33"/>
                      </a:lnTo>
                      <a:lnTo>
                        <a:pt x="201" y="30"/>
                      </a:lnTo>
                      <a:lnTo>
                        <a:pt x="205" y="27"/>
                      </a:lnTo>
                      <a:lnTo>
                        <a:pt x="209" y="25"/>
                      </a:lnTo>
                      <a:lnTo>
                        <a:pt x="213" y="22"/>
                      </a:lnTo>
                      <a:lnTo>
                        <a:pt x="217" y="20"/>
                      </a:lnTo>
                      <a:lnTo>
                        <a:pt x="221" y="17"/>
                      </a:lnTo>
                      <a:lnTo>
                        <a:pt x="224" y="15"/>
                      </a:lnTo>
                      <a:lnTo>
                        <a:pt x="227" y="13"/>
                      </a:lnTo>
                      <a:lnTo>
                        <a:pt x="230" y="11"/>
                      </a:lnTo>
                      <a:lnTo>
                        <a:pt x="234" y="9"/>
                      </a:lnTo>
                      <a:lnTo>
                        <a:pt x="237" y="7"/>
                      </a:lnTo>
                      <a:lnTo>
                        <a:pt x="240" y="5"/>
                      </a:lnTo>
                      <a:lnTo>
                        <a:pt x="243" y="3"/>
                      </a:lnTo>
                      <a:lnTo>
                        <a:pt x="246" y="1"/>
                      </a:lnTo>
                      <a:lnTo>
                        <a:pt x="249" y="0"/>
                      </a:lnTo>
                      <a:lnTo>
                        <a:pt x="248" y="0"/>
                      </a:lnTo>
                      <a:lnTo>
                        <a:pt x="247" y="0"/>
                      </a:lnTo>
                      <a:lnTo>
                        <a:pt x="244" y="1"/>
                      </a:lnTo>
                      <a:lnTo>
                        <a:pt x="240" y="4"/>
                      </a:lnTo>
                      <a:lnTo>
                        <a:pt x="236" y="5"/>
                      </a:lnTo>
                      <a:lnTo>
                        <a:pt x="231" y="8"/>
                      </a:lnTo>
                      <a:lnTo>
                        <a:pt x="228" y="9"/>
                      </a:lnTo>
                      <a:lnTo>
                        <a:pt x="224" y="11"/>
                      </a:lnTo>
                      <a:lnTo>
                        <a:pt x="221" y="13"/>
                      </a:lnTo>
                      <a:lnTo>
                        <a:pt x="219" y="14"/>
                      </a:lnTo>
                      <a:lnTo>
                        <a:pt x="215" y="16"/>
                      </a:lnTo>
                      <a:lnTo>
                        <a:pt x="211" y="17"/>
                      </a:lnTo>
                      <a:lnTo>
                        <a:pt x="207" y="20"/>
                      </a:lnTo>
                      <a:lnTo>
                        <a:pt x="203" y="22"/>
                      </a:lnTo>
                      <a:lnTo>
                        <a:pt x="200" y="24"/>
                      </a:lnTo>
                      <a:lnTo>
                        <a:pt x="195" y="27"/>
                      </a:lnTo>
                      <a:lnTo>
                        <a:pt x="191" y="29"/>
                      </a:lnTo>
                      <a:lnTo>
                        <a:pt x="187" y="32"/>
                      </a:lnTo>
                      <a:lnTo>
                        <a:pt x="182" y="33"/>
                      </a:lnTo>
                      <a:lnTo>
                        <a:pt x="178" y="36"/>
                      </a:lnTo>
                      <a:lnTo>
                        <a:pt x="173" y="39"/>
                      </a:lnTo>
                      <a:lnTo>
                        <a:pt x="168" y="42"/>
                      </a:lnTo>
                      <a:lnTo>
                        <a:pt x="163" y="45"/>
                      </a:lnTo>
                      <a:lnTo>
                        <a:pt x="160" y="49"/>
                      </a:lnTo>
                      <a:lnTo>
                        <a:pt x="155" y="52"/>
                      </a:lnTo>
                      <a:lnTo>
                        <a:pt x="150" y="54"/>
                      </a:lnTo>
                      <a:lnTo>
                        <a:pt x="144" y="57"/>
                      </a:lnTo>
                      <a:lnTo>
                        <a:pt x="140" y="61"/>
                      </a:lnTo>
                      <a:lnTo>
                        <a:pt x="134" y="65"/>
                      </a:lnTo>
                      <a:lnTo>
                        <a:pt x="129" y="70"/>
                      </a:lnTo>
                      <a:lnTo>
                        <a:pt x="125" y="71"/>
                      </a:lnTo>
                      <a:lnTo>
                        <a:pt x="123" y="73"/>
                      </a:lnTo>
                      <a:lnTo>
                        <a:pt x="120" y="76"/>
                      </a:lnTo>
                      <a:lnTo>
                        <a:pt x="117" y="78"/>
                      </a:lnTo>
                      <a:lnTo>
                        <a:pt x="114" y="81"/>
                      </a:lnTo>
                      <a:lnTo>
                        <a:pt x="111" y="83"/>
                      </a:lnTo>
                      <a:lnTo>
                        <a:pt x="107" y="86"/>
                      </a:lnTo>
                      <a:lnTo>
                        <a:pt x="105" y="89"/>
                      </a:lnTo>
                      <a:lnTo>
                        <a:pt x="102" y="90"/>
                      </a:lnTo>
                      <a:lnTo>
                        <a:pt x="99" y="93"/>
                      </a:lnTo>
                      <a:lnTo>
                        <a:pt x="95" y="96"/>
                      </a:lnTo>
                      <a:lnTo>
                        <a:pt x="93" y="99"/>
                      </a:lnTo>
                      <a:lnTo>
                        <a:pt x="89" y="102"/>
                      </a:lnTo>
                      <a:lnTo>
                        <a:pt x="86" y="105"/>
                      </a:lnTo>
                      <a:lnTo>
                        <a:pt x="83" y="107"/>
                      </a:lnTo>
                      <a:lnTo>
                        <a:pt x="81" y="110"/>
                      </a:lnTo>
                      <a:lnTo>
                        <a:pt x="77" y="112"/>
                      </a:lnTo>
                      <a:lnTo>
                        <a:pt x="74" y="115"/>
                      </a:lnTo>
                      <a:lnTo>
                        <a:pt x="70" y="118"/>
                      </a:lnTo>
                      <a:lnTo>
                        <a:pt x="67" y="121"/>
                      </a:lnTo>
                      <a:lnTo>
                        <a:pt x="62" y="127"/>
                      </a:lnTo>
                      <a:lnTo>
                        <a:pt x="56" y="132"/>
                      </a:lnTo>
                      <a:lnTo>
                        <a:pt x="53" y="134"/>
                      </a:lnTo>
                      <a:lnTo>
                        <a:pt x="49" y="137"/>
                      </a:lnTo>
                      <a:lnTo>
                        <a:pt x="47" y="140"/>
                      </a:lnTo>
                      <a:lnTo>
                        <a:pt x="45" y="143"/>
                      </a:lnTo>
                      <a:lnTo>
                        <a:pt x="38" y="148"/>
                      </a:lnTo>
                      <a:lnTo>
                        <a:pt x="33" y="153"/>
                      </a:lnTo>
                      <a:lnTo>
                        <a:pt x="28" y="157"/>
                      </a:lnTo>
                      <a:lnTo>
                        <a:pt x="24" y="162"/>
                      </a:lnTo>
                      <a:lnTo>
                        <a:pt x="19" y="166"/>
                      </a:lnTo>
                      <a:lnTo>
                        <a:pt x="16" y="170"/>
                      </a:lnTo>
                      <a:lnTo>
                        <a:pt x="11" y="173"/>
                      </a:lnTo>
                      <a:lnTo>
                        <a:pt x="8" y="177"/>
                      </a:lnTo>
                      <a:lnTo>
                        <a:pt x="6" y="179"/>
                      </a:lnTo>
                      <a:lnTo>
                        <a:pt x="4" y="182"/>
                      </a:lnTo>
                      <a:lnTo>
                        <a:pt x="0" y="185"/>
                      </a:lnTo>
                      <a:lnTo>
                        <a:pt x="0" y="186"/>
                      </a:lnTo>
                      <a:lnTo>
                        <a:pt x="0" y="186"/>
                      </a:lnTo>
                      <a:close/>
                    </a:path>
                  </a:pathLst>
                </a:custGeom>
                <a:solidFill>
                  <a:srgbClr val="b3b3b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7220160" y="1509480"/>
                  <a:ext cx="55800" cy="71280"/>
                </a:xfrm>
                <a:custGeom>
                  <a:avLst/>
                  <a:gdLst/>
                  <a:ahLst/>
                  <a:rect l="l" t="t" r="r" b="b"/>
                  <a:pathLst>
                    <a:path w="56" h="91">
                      <a:moveTo>
                        <a:pt x="33" y="0"/>
                      </a:moveTo>
                      <a:lnTo>
                        <a:pt x="0" y="33"/>
                      </a:lnTo>
                      <a:lnTo>
                        <a:pt x="56" y="91"/>
                      </a:lnTo>
                      <a:lnTo>
                        <a:pt x="56" y="90"/>
                      </a:lnTo>
                      <a:lnTo>
                        <a:pt x="55" y="85"/>
                      </a:lnTo>
                      <a:lnTo>
                        <a:pt x="54" y="82"/>
                      </a:lnTo>
                      <a:lnTo>
                        <a:pt x="54" y="79"/>
                      </a:lnTo>
                      <a:lnTo>
                        <a:pt x="53" y="75"/>
                      </a:lnTo>
                      <a:lnTo>
                        <a:pt x="53" y="72"/>
                      </a:lnTo>
                      <a:lnTo>
                        <a:pt x="52" y="66"/>
                      </a:lnTo>
                      <a:lnTo>
                        <a:pt x="51" y="61"/>
                      </a:lnTo>
                      <a:lnTo>
                        <a:pt x="50" y="56"/>
                      </a:lnTo>
                      <a:lnTo>
                        <a:pt x="49" y="53"/>
                      </a:lnTo>
                      <a:lnTo>
                        <a:pt x="48" y="48"/>
                      </a:lnTo>
                      <a:lnTo>
                        <a:pt x="47" y="43"/>
                      </a:lnTo>
                      <a:lnTo>
                        <a:pt x="46" y="37"/>
                      </a:lnTo>
                      <a:lnTo>
                        <a:pt x="46" y="34"/>
                      </a:lnTo>
                      <a:lnTo>
                        <a:pt x="44" y="29"/>
                      </a:lnTo>
                      <a:lnTo>
                        <a:pt x="43" y="25"/>
                      </a:lnTo>
                      <a:lnTo>
                        <a:pt x="42" y="22"/>
                      </a:lnTo>
                      <a:lnTo>
                        <a:pt x="41" y="19"/>
                      </a:lnTo>
                      <a:lnTo>
                        <a:pt x="39" y="15"/>
                      </a:lnTo>
                      <a:lnTo>
                        <a:pt x="39" y="13"/>
                      </a:lnTo>
                      <a:lnTo>
                        <a:pt x="37" y="11"/>
                      </a:lnTo>
                      <a:lnTo>
                        <a:pt x="37" y="9"/>
                      </a:lnTo>
                      <a:lnTo>
                        <a:pt x="35" y="5"/>
                      </a:lnTo>
                      <a:lnTo>
                        <a:pt x="34" y="2"/>
                      </a:lnTo>
                      <a:lnTo>
                        <a:pt x="33" y="0"/>
                      </a:lnTo>
                      <a:lnTo>
                        <a:pt x="33" y="0"/>
                      </a:lnTo>
                      <a:close/>
                    </a:path>
                  </a:pathLst>
                </a:custGeom>
                <a:solidFill>
                  <a:srgbClr val="85291c"/>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40" name=""/>
                <p:cNvSpPr/>
                <p:nvPr/>
              </p:nvSpPr>
              <p:spPr>
                <a:xfrm>
                  <a:off x="7157160" y="1635480"/>
                  <a:ext cx="109440" cy="62280"/>
                </a:xfrm>
                <a:custGeom>
                  <a:avLst/>
                  <a:gdLst/>
                  <a:ahLst/>
                  <a:rect l="l" t="t" r="r" b="b"/>
                  <a:pathLst>
                    <a:path w="110" h="80">
                      <a:moveTo>
                        <a:pt x="65" y="0"/>
                      </a:moveTo>
                      <a:lnTo>
                        <a:pt x="110" y="44"/>
                      </a:lnTo>
                      <a:lnTo>
                        <a:pt x="109" y="45"/>
                      </a:lnTo>
                      <a:lnTo>
                        <a:pt x="104" y="49"/>
                      </a:lnTo>
                      <a:lnTo>
                        <a:pt x="100" y="52"/>
                      </a:lnTo>
                      <a:lnTo>
                        <a:pt x="95" y="55"/>
                      </a:lnTo>
                      <a:lnTo>
                        <a:pt x="93" y="57"/>
                      </a:lnTo>
                      <a:lnTo>
                        <a:pt x="90" y="59"/>
                      </a:lnTo>
                      <a:lnTo>
                        <a:pt x="87" y="60"/>
                      </a:lnTo>
                      <a:lnTo>
                        <a:pt x="84" y="62"/>
                      </a:lnTo>
                      <a:lnTo>
                        <a:pt x="79" y="64"/>
                      </a:lnTo>
                      <a:lnTo>
                        <a:pt x="75" y="64"/>
                      </a:lnTo>
                      <a:lnTo>
                        <a:pt x="71" y="66"/>
                      </a:lnTo>
                      <a:lnTo>
                        <a:pt x="69" y="68"/>
                      </a:lnTo>
                      <a:lnTo>
                        <a:pt x="64" y="69"/>
                      </a:lnTo>
                      <a:lnTo>
                        <a:pt x="61" y="71"/>
                      </a:lnTo>
                      <a:lnTo>
                        <a:pt x="56" y="72"/>
                      </a:lnTo>
                      <a:lnTo>
                        <a:pt x="53" y="74"/>
                      </a:lnTo>
                      <a:lnTo>
                        <a:pt x="50" y="75"/>
                      </a:lnTo>
                      <a:lnTo>
                        <a:pt x="46" y="76"/>
                      </a:lnTo>
                      <a:lnTo>
                        <a:pt x="43" y="77"/>
                      </a:lnTo>
                      <a:lnTo>
                        <a:pt x="41" y="78"/>
                      </a:lnTo>
                      <a:lnTo>
                        <a:pt x="37" y="79"/>
                      </a:lnTo>
                      <a:lnTo>
                        <a:pt x="36" y="80"/>
                      </a:lnTo>
                      <a:lnTo>
                        <a:pt x="0" y="53"/>
                      </a:lnTo>
                      <a:lnTo>
                        <a:pt x="0" y="52"/>
                      </a:lnTo>
                      <a:lnTo>
                        <a:pt x="4" y="51"/>
                      </a:lnTo>
                      <a:lnTo>
                        <a:pt x="5" y="50"/>
                      </a:lnTo>
                      <a:lnTo>
                        <a:pt x="8" y="49"/>
                      </a:lnTo>
                      <a:lnTo>
                        <a:pt x="11" y="48"/>
                      </a:lnTo>
                      <a:lnTo>
                        <a:pt x="13" y="47"/>
                      </a:lnTo>
                      <a:lnTo>
                        <a:pt x="16" y="45"/>
                      </a:lnTo>
                      <a:lnTo>
                        <a:pt x="20" y="44"/>
                      </a:lnTo>
                      <a:lnTo>
                        <a:pt x="23" y="42"/>
                      </a:lnTo>
                      <a:lnTo>
                        <a:pt x="26" y="40"/>
                      </a:lnTo>
                      <a:lnTo>
                        <a:pt x="30" y="38"/>
                      </a:lnTo>
                      <a:lnTo>
                        <a:pt x="32" y="36"/>
                      </a:lnTo>
                      <a:lnTo>
                        <a:pt x="36" y="33"/>
                      </a:lnTo>
                      <a:lnTo>
                        <a:pt x="39" y="31"/>
                      </a:lnTo>
                      <a:lnTo>
                        <a:pt x="45" y="26"/>
                      </a:lnTo>
                      <a:lnTo>
                        <a:pt x="50" y="20"/>
                      </a:lnTo>
                      <a:lnTo>
                        <a:pt x="54" y="15"/>
                      </a:lnTo>
                      <a:lnTo>
                        <a:pt x="58" y="10"/>
                      </a:lnTo>
                      <a:lnTo>
                        <a:pt x="61" y="6"/>
                      </a:lnTo>
                      <a:lnTo>
                        <a:pt x="63" y="3"/>
                      </a:lnTo>
                      <a:lnTo>
                        <a:pt x="64" y="1"/>
                      </a:lnTo>
                      <a:lnTo>
                        <a:pt x="65" y="0"/>
                      </a:lnTo>
                      <a:lnTo>
                        <a:pt x="65" y="0"/>
                      </a:lnTo>
                      <a:close/>
                    </a:path>
                  </a:pathLst>
                </a:custGeom>
                <a:solidFill>
                  <a:srgbClr val="85291c"/>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41" name=""/>
                <p:cNvSpPr/>
                <p:nvPr/>
              </p:nvSpPr>
              <p:spPr>
                <a:xfrm>
                  <a:off x="7148160" y="1650600"/>
                  <a:ext cx="59760" cy="33480"/>
                </a:xfrm>
                <a:custGeom>
                  <a:avLst/>
                  <a:gdLst/>
                  <a:ahLst/>
                  <a:rect l="l" t="t" r="r" b="b"/>
                  <a:pathLst>
                    <a:path w="60" h="43">
                      <a:moveTo>
                        <a:pt x="60" y="0"/>
                      </a:moveTo>
                      <a:lnTo>
                        <a:pt x="17" y="43"/>
                      </a:lnTo>
                      <a:lnTo>
                        <a:pt x="0" y="32"/>
                      </a:lnTo>
                      <a:lnTo>
                        <a:pt x="1" y="31"/>
                      </a:lnTo>
                      <a:lnTo>
                        <a:pt x="2" y="30"/>
                      </a:lnTo>
                      <a:lnTo>
                        <a:pt x="6" y="28"/>
                      </a:lnTo>
                      <a:lnTo>
                        <a:pt x="11" y="26"/>
                      </a:lnTo>
                      <a:lnTo>
                        <a:pt x="16" y="25"/>
                      </a:lnTo>
                      <a:lnTo>
                        <a:pt x="21" y="23"/>
                      </a:lnTo>
                      <a:lnTo>
                        <a:pt x="27" y="20"/>
                      </a:lnTo>
                      <a:lnTo>
                        <a:pt x="33" y="18"/>
                      </a:lnTo>
                      <a:lnTo>
                        <a:pt x="38" y="14"/>
                      </a:lnTo>
                      <a:lnTo>
                        <a:pt x="43" y="11"/>
                      </a:lnTo>
                      <a:lnTo>
                        <a:pt x="47" y="8"/>
                      </a:lnTo>
                      <a:lnTo>
                        <a:pt x="52" y="6"/>
                      </a:lnTo>
                      <a:lnTo>
                        <a:pt x="55" y="2"/>
                      </a:lnTo>
                      <a:lnTo>
                        <a:pt x="58" y="1"/>
                      </a:lnTo>
                      <a:lnTo>
                        <a:pt x="60" y="0"/>
                      </a:lnTo>
                      <a:lnTo>
                        <a:pt x="60" y="0"/>
                      </a:lnTo>
                      <a:lnTo>
                        <a:pt x="60" y="0"/>
                      </a:lnTo>
                      <a:close/>
                    </a:path>
                  </a:pathLst>
                </a:custGeom>
                <a:solidFill>
                  <a:srgbClr val="e87a63"/>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42" name=""/>
                <p:cNvSpPr/>
                <p:nvPr/>
              </p:nvSpPr>
              <p:spPr>
                <a:xfrm>
                  <a:off x="6215040" y="1707480"/>
                  <a:ext cx="1597320" cy="929160"/>
                </a:xfrm>
                <a:custGeom>
                  <a:avLst/>
                  <a:gdLst/>
                  <a:ahLst/>
                  <a:rect l="l" t="t" r="r" b="b"/>
                  <a:pathLst>
                    <a:path w="1600" h="1188">
                      <a:moveTo>
                        <a:pt x="0" y="1188"/>
                      </a:moveTo>
                      <a:lnTo>
                        <a:pt x="0" y="1186"/>
                      </a:lnTo>
                      <a:lnTo>
                        <a:pt x="0" y="1183"/>
                      </a:lnTo>
                      <a:lnTo>
                        <a:pt x="0" y="1179"/>
                      </a:lnTo>
                      <a:lnTo>
                        <a:pt x="1" y="1177"/>
                      </a:lnTo>
                      <a:lnTo>
                        <a:pt x="3" y="1173"/>
                      </a:lnTo>
                      <a:lnTo>
                        <a:pt x="7" y="1169"/>
                      </a:lnTo>
                      <a:lnTo>
                        <a:pt x="10" y="1164"/>
                      </a:lnTo>
                      <a:lnTo>
                        <a:pt x="14" y="1160"/>
                      </a:lnTo>
                      <a:lnTo>
                        <a:pt x="18" y="1154"/>
                      </a:lnTo>
                      <a:lnTo>
                        <a:pt x="23" y="1148"/>
                      </a:lnTo>
                      <a:lnTo>
                        <a:pt x="29" y="1141"/>
                      </a:lnTo>
                      <a:lnTo>
                        <a:pt x="33" y="1135"/>
                      </a:lnTo>
                      <a:lnTo>
                        <a:pt x="39" y="1127"/>
                      </a:lnTo>
                      <a:lnTo>
                        <a:pt x="46" y="1121"/>
                      </a:lnTo>
                      <a:lnTo>
                        <a:pt x="51" y="1112"/>
                      </a:lnTo>
                      <a:lnTo>
                        <a:pt x="59" y="1103"/>
                      </a:lnTo>
                      <a:lnTo>
                        <a:pt x="66" y="1095"/>
                      </a:lnTo>
                      <a:lnTo>
                        <a:pt x="73" y="1085"/>
                      </a:lnTo>
                      <a:lnTo>
                        <a:pt x="81" y="1076"/>
                      </a:lnTo>
                      <a:lnTo>
                        <a:pt x="88" y="1066"/>
                      </a:lnTo>
                      <a:lnTo>
                        <a:pt x="97" y="1056"/>
                      </a:lnTo>
                      <a:lnTo>
                        <a:pt x="106" y="1045"/>
                      </a:lnTo>
                      <a:lnTo>
                        <a:pt x="115" y="1034"/>
                      </a:lnTo>
                      <a:lnTo>
                        <a:pt x="125" y="1023"/>
                      </a:lnTo>
                      <a:lnTo>
                        <a:pt x="134" y="1011"/>
                      </a:lnTo>
                      <a:lnTo>
                        <a:pt x="144" y="1000"/>
                      </a:lnTo>
                      <a:lnTo>
                        <a:pt x="153" y="988"/>
                      </a:lnTo>
                      <a:lnTo>
                        <a:pt x="164" y="976"/>
                      </a:lnTo>
                      <a:lnTo>
                        <a:pt x="174" y="964"/>
                      </a:lnTo>
                      <a:lnTo>
                        <a:pt x="185" y="951"/>
                      </a:lnTo>
                      <a:lnTo>
                        <a:pt x="196" y="938"/>
                      </a:lnTo>
                      <a:lnTo>
                        <a:pt x="207" y="925"/>
                      </a:lnTo>
                      <a:lnTo>
                        <a:pt x="219" y="911"/>
                      </a:lnTo>
                      <a:lnTo>
                        <a:pt x="230" y="898"/>
                      </a:lnTo>
                      <a:lnTo>
                        <a:pt x="242" y="884"/>
                      </a:lnTo>
                      <a:lnTo>
                        <a:pt x="254" y="870"/>
                      </a:lnTo>
                      <a:lnTo>
                        <a:pt x="265" y="856"/>
                      </a:lnTo>
                      <a:lnTo>
                        <a:pt x="279" y="842"/>
                      </a:lnTo>
                      <a:lnTo>
                        <a:pt x="291" y="828"/>
                      </a:lnTo>
                      <a:lnTo>
                        <a:pt x="303" y="814"/>
                      </a:lnTo>
                      <a:lnTo>
                        <a:pt x="316" y="798"/>
                      </a:lnTo>
                      <a:lnTo>
                        <a:pt x="329" y="785"/>
                      </a:lnTo>
                      <a:lnTo>
                        <a:pt x="342" y="770"/>
                      </a:lnTo>
                      <a:lnTo>
                        <a:pt x="355" y="755"/>
                      </a:lnTo>
                      <a:lnTo>
                        <a:pt x="368" y="740"/>
                      </a:lnTo>
                      <a:lnTo>
                        <a:pt x="382" y="726"/>
                      </a:lnTo>
                      <a:lnTo>
                        <a:pt x="396" y="711"/>
                      </a:lnTo>
                      <a:lnTo>
                        <a:pt x="409" y="696"/>
                      </a:lnTo>
                      <a:lnTo>
                        <a:pt x="423" y="681"/>
                      </a:lnTo>
                      <a:lnTo>
                        <a:pt x="436" y="667"/>
                      </a:lnTo>
                      <a:lnTo>
                        <a:pt x="450" y="652"/>
                      </a:lnTo>
                      <a:lnTo>
                        <a:pt x="464" y="637"/>
                      </a:lnTo>
                      <a:lnTo>
                        <a:pt x="478" y="622"/>
                      </a:lnTo>
                      <a:lnTo>
                        <a:pt x="493" y="607"/>
                      </a:lnTo>
                      <a:lnTo>
                        <a:pt x="507" y="592"/>
                      </a:lnTo>
                      <a:lnTo>
                        <a:pt x="521" y="578"/>
                      </a:lnTo>
                      <a:lnTo>
                        <a:pt x="534" y="564"/>
                      </a:lnTo>
                      <a:lnTo>
                        <a:pt x="550" y="548"/>
                      </a:lnTo>
                      <a:lnTo>
                        <a:pt x="563" y="534"/>
                      </a:lnTo>
                      <a:lnTo>
                        <a:pt x="577" y="520"/>
                      </a:lnTo>
                      <a:lnTo>
                        <a:pt x="591" y="507"/>
                      </a:lnTo>
                      <a:lnTo>
                        <a:pt x="607" y="492"/>
                      </a:lnTo>
                      <a:lnTo>
                        <a:pt x="620" y="478"/>
                      </a:lnTo>
                      <a:lnTo>
                        <a:pt x="634" y="465"/>
                      </a:lnTo>
                      <a:lnTo>
                        <a:pt x="647" y="451"/>
                      </a:lnTo>
                      <a:lnTo>
                        <a:pt x="662" y="437"/>
                      </a:lnTo>
                      <a:lnTo>
                        <a:pt x="676" y="424"/>
                      </a:lnTo>
                      <a:lnTo>
                        <a:pt x="690" y="411"/>
                      </a:lnTo>
                      <a:lnTo>
                        <a:pt x="704" y="398"/>
                      </a:lnTo>
                      <a:lnTo>
                        <a:pt x="718" y="386"/>
                      </a:lnTo>
                      <a:lnTo>
                        <a:pt x="732" y="373"/>
                      </a:lnTo>
                      <a:lnTo>
                        <a:pt x="745" y="360"/>
                      </a:lnTo>
                      <a:lnTo>
                        <a:pt x="759" y="348"/>
                      </a:lnTo>
                      <a:lnTo>
                        <a:pt x="773" y="336"/>
                      </a:lnTo>
                      <a:lnTo>
                        <a:pt x="786" y="323"/>
                      </a:lnTo>
                      <a:lnTo>
                        <a:pt x="800" y="312"/>
                      </a:lnTo>
                      <a:lnTo>
                        <a:pt x="813" y="301"/>
                      </a:lnTo>
                      <a:lnTo>
                        <a:pt x="826" y="290"/>
                      </a:lnTo>
                      <a:lnTo>
                        <a:pt x="839" y="279"/>
                      </a:lnTo>
                      <a:lnTo>
                        <a:pt x="852" y="267"/>
                      </a:lnTo>
                      <a:lnTo>
                        <a:pt x="864" y="256"/>
                      </a:lnTo>
                      <a:lnTo>
                        <a:pt x="878" y="245"/>
                      </a:lnTo>
                      <a:lnTo>
                        <a:pt x="890" y="235"/>
                      </a:lnTo>
                      <a:lnTo>
                        <a:pt x="902" y="224"/>
                      </a:lnTo>
                      <a:lnTo>
                        <a:pt x="915" y="215"/>
                      </a:lnTo>
                      <a:lnTo>
                        <a:pt x="927" y="205"/>
                      </a:lnTo>
                      <a:lnTo>
                        <a:pt x="938" y="195"/>
                      </a:lnTo>
                      <a:lnTo>
                        <a:pt x="950" y="185"/>
                      </a:lnTo>
                      <a:lnTo>
                        <a:pt x="961" y="177"/>
                      </a:lnTo>
                      <a:lnTo>
                        <a:pt x="974" y="168"/>
                      </a:lnTo>
                      <a:lnTo>
                        <a:pt x="984" y="159"/>
                      </a:lnTo>
                      <a:lnTo>
                        <a:pt x="995" y="150"/>
                      </a:lnTo>
                      <a:lnTo>
                        <a:pt x="1006" y="142"/>
                      </a:lnTo>
                      <a:lnTo>
                        <a:pt x="1017" y="134"/>
                      </a:lnTo>
                      <a:lnTo>
                        <a:pt x="1027" y="126"/>
                      </a:lnTo>
                      <a:lnTo>
                        <a:pt x="1037" y="118"/>
                      </a:lnTo>
                      <a:lnTo>
                        <a:pt x="1047" y="110"/>
                      </a:lnTo>
                      <a:lnTo>
                        <a:pt x="1057" y="104"/>
                      </a:lnTo>
                      <a:lnTo>
                        <a:pt x="1066" y="96"/>
                      </a:lnTo>
                      <a:lnTo>
                        <a:pt x="1075" y="89"/>
                      </a:lnTo>
                      <a:lnTo>
                        <a:pt x="1084" y="83"/>
                      </a:lnTo>
                      <a:lnTo>
                        <a:pt x="1093" y="77"/>
                      </a:lnTo>
                      <a:lnTo>
                        <a:pt x="1101" y="70"/>
                      </a:lnTo>
                      <a:lnTo>
                        <a:pt x="1109" y="65"/>
                      </a:lnTo>
                      <a:lnTo>
                        <a:pt x="1116" y="58"/>
                      </a:lnTo>
                      <a:lnTo>
                        <a:pt x="1125" y="53"/>
                      </a:lnTo>
                      <a:lnTo>
                        <a:pt x="1131" y="49"/>
                      </a:lnTo>
                      <a:lnTo>
                        <a:pt x="1139" y="44"/>
                      </a:lnTo>
                      <a:lnTo>
                        <a:pt x="1145" y="38"/>
                      </a:lnTo>
                      <a:lnTo>
                        <a:pt x="1151" y="35"/>
                      </a:lnTo>
                      <a:lnTo>
                        <a:pt x="1157" y="29"/>
                      </a:lnTo>
                      <a:lnTo>
                        <a:pt x="1163" y="26"/>
                      </a:lnTo>
                      <a:lnTo>
                        <a:pt x="1168" y="22"/>
                      </a:lnTo>
                      <a:lnTo>
                        <a:pt x="1172" y="19"/>
                      </a:lnTo>
                      <a:lnTo>
                        <a:pt x="1177" y="16"/>
                      </a:lnTo>
                      <a:lnTo>
                        <a:pt x="1181" y="12"/>
                      </a:lnTo>
                      <a:lnTo>
                        <a:pt x="1185" y="10"/>
                      </a:lnTo>
                      <a:lnTo>
                        <a:pt x="1189" y="9"/>
                      </a:lnTo>
                      <a:lnTo>
                        <a:pt x="1192" y="6"/>
                      </a:lnTo>
                      <a:lnTo>
                        <a:pt x="1194" y="4"/>
                      </a:lnTo>
                      <a:lnTo>
                        <a:pt x="1197" y="2"/>
                      </a:lnTo>
                      <a:lnTo>
                        <a:pt x="1199" y="1"/>
                      </a:lnTo>
                      <a:lnTo>
                        <a:pt x="1202" y="0"/>
                      </a:lnTo>
                      <a:lnTo>
                        <a:pt x="1203" y="0"/>
                      </a:lnTo>
                      <a:lnTo>
                        <a:pt x="1205" y="1"/>
                      </a:lnTo>
                      <a:lnTo>
                        <a:pt x="1206" y="2"/>
                      </a:lnTo>
                      <a:lnTo>
                        <a:pt x="1209" y="4"/>
                      </a:lnTo>
                      <a:lnTo>
                        <a:pt x="1212" y="6"/>
                      </a:lnTo>
                      <a:lnTo>
                        <a:pt x="1216" y="10"/>
                      </a:lnTo>
                      <a:lnTo>
                        <a:pt x="1221" y="13"/>
                      </a:lnTo>
                      <a:lnTo>
                        <a:pt x="1227" y="18"/>
                      </a:lnTo>
                      <a:lnTo>
                        <a:pt x="1229" y="20"/>
                      </a:lnTo>
                      <a:lnTo>
                        <a:pt x="1232" y="22"/>
                      </a:lnTo>
                      <a:lnTo>
                        <a:pt x="1236" y="25"/>
                      </a:lnTo>
                      <a:lnTo>
                        <a:pt x="1239" y="28"/>
                      </a:lnTo>
                      <a:lnTo>
                        <a:pt x="1243" y="29"/>
                      </a:lnTo>
                      <a:lnTo>
                        <a:pt x="1246" y="32"/>
                      </a:lnTo>
                      <a:lnTo>
                        <a:pt x="1250" y="36"/>
                      </a:lnTo>
                      <a:lnTo>
                        <a:pt x="1254" y="39"/>
                      </a:lnTo>
                      <a:lnTo>
                        <a:pt x="1258" y="42"/>
                      </a:lnTo>
                      <a:lnTo>
                        <a:pt x="1262" y="45"/>
                      </a:lnTo>
                      <a:lnTo>
                        <a:pt x="1266" y="49"/>
                      </a:lnTo>
                      <a:lnTo>
                        <a:pt x="1270" y="52"/>
                      </a:lnTo>
                      <a:lnTo>
                        <a:pt x="1275" y="55"/>
                      </a:lnTo>
                      <a:lnTo>
                        <a:pt x="1280" y="58"/>
                      </a:lnTo>
                      <a:lnTo>
                        <a:pt x="1285" y="62"/>
                      </a:lnTo>
                      <a:lnTo>
                        <a:pt x="1289" y="67"/>
                      </a:lnTo>
                      <a:lnTo>
                        <a:pt x="1294" y="69"/>
                      </a:lnTo>
                      <a:lnTo>
                        <a:pt x="1299" y="73"/>
                      </a:lnTo>
                      <a:lnTo>
                        <a:pt x="1304" y="77"/>
                      </a:lnTo>
                      <a:lnTo>
                        <a:pt x="1308" y="81"/>
                      </a:lnTo>
                      <a:lnTo>
                        <a:pt x="1313" y="85"/>
                      </a:lnTo>
                      <a:lnTo>
                        <a:pt x="1318" y="89"/>
                      </a:lnTo>
                      <a:lnTo>
                        <a:pt x="1324" y="93"/>
                      </a:lnTo>
                      <a:lnTo>
                        <a:pt x="1328" y="97"/>
                      </a:lnTo>
                      <a:lnTo>
                        <a:pt x="1334" y="101"/>
                      </a:lnTo>
                      <a:lnTo>
                        <a:pt x="1339" y="106"/>
                      </a:lnTo>
                      <a:lnTo>
                        <a:pt x="1344" y="109"/>
                      </a:lnTo>
                      <a:lnTo>
                        <a:pt x="1350" y="113"/>
                      </a:lnTo>
                      <a:lnTo>
                        <a:pt x="1355" y="118"/>
                      </a:lnTo>
                      <a:lnTo>
                        <a:pt x="1360" y="122"/>
                      </a:lnTo>
                      <a:lnTo>
                        <a:pt x="1365" y="126"/>
                      </a:lnTo>
                      <a:lnTo>
                        <a:pt x="1371" y="131"/>
                      </a:lnTo>
                      <a:lnTo>
                        <a:pt x="1376" y="135"/>
                      </a:lnTo>
                      <a:lnTo>
                        <a:pt x="1381" y="139"/>
                      </a:lnTo>
                      <a:lnTo>
                        <a:pt x="1387" y="144"/>
                      </a:lnTo>
                      <a:lnTo>
                        <a:pt x="1392" y="148"/>
                      </a:lnTo>
                      <a:lnTo>
                        <a:pt x="1397" y="152"/>
                      </a:lnTo>
                      <a:lnTo>
                        <a:pt x="1403" y="157"/>
                      </a:lnTo>
                      <a:lnTo>
                        <a:pt x="1408" y="161"/>
                      </a:lnTo>
                      <a:lnTo>
                        <a:pt x="1414" y="165"/>
                      </a:lnTo>
                      <a:lnTo>
                        <a:pt x="1419" y="170"/>
                      </a:lnTo>
                      <a:lnTo>
                        <a:pt x="1424" y="174"/>
                      </a:lnTo>
                      <a:lnTo>
                        <a:pt x="1429" y="179"/>
                      </a:lnTo>
                      <a:lnTo>
                        <a:pt x="1434" y="183"/>
                      </a:lnTo>
                      <a:lnTo>
                        <a:pt x="1439" y="187"/>
                      </a:lnTo>
                      <a:lnTo>
                        <a:pt x="1444" y="191"/>
                      </a:lnTo>
                      <a:lnTo>
                        <a:pt x="1449" y="196"/>
                      </a:lnTo>
                      <a:lnTo>
                        <a:pt x="1455" y="201"/>
                      </a:lnTo>
                      <a:lnTo>
                        <a:pt x="1600" y="336"/>
                      </a:lnTo>
                      <a:lnTo>
                        <a:pt x="1600" y="1187"/>
                      </a:lnTo>
                      <a:lnTo>
                        <a:pt x="0" y="1188"/>
                      </a:lnTo>
                      <a:lnTo>
                        <a:pt x="0" y="1188"/>
                      </a:lnTo>
                      <a:close/>
                    </a:path>
                  </a:pathLst>
                </a:custGeom>
                <a:solidFill>
                  <a:srgbClr val="a67a4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7001640" y="1700640"/>
                  <a:ext cx="732600" cy="257760"/>
                </a:xfrm>
                <a:custGeom>
                  <a:avLst/>
                  <a:gdLst/>
                  <a:ahLst/>
                  <a:rect l="l" t="t" r="r" b="b"/>
                  <a:pathLst>
                    <a:path w="734" h="330">
                      <a:moveTo>
                        <a:pt x="0" y="330"/>
                      </a:moveTo>
                      <a:lnTo>
                        <a:pt x="501" y="319"/>
                      </a:lnTo>
                      <a:lnTo>
                        <a:pt x="559" y="249"/>
                      </a:lnTo>
                      <a:lnTo>
                        <a:pt x="734" y="265"/>
                      </a:lnTo>
                      <a:lnTo>
                        <a:pt x="409" y="0"/>
                      </a:lnTo>
                      <a:lnTo>
                        <a:pt x="409" y="0"/>
                      </a:lnTo>
                      <a:lnTo>
                        <a:pt x="408" y="1"/>
                      </a:lnTo>
                      <a:lnTo>
                        <a:pt x="405" y="2"/>
                      </a:lnTo>
                      <a:lnTo>
                        <a:pt x="403" y="4"/>
                      </a:lnTo>
                      <a:lnTo>
                        <a:pt x="400" y="6"/>
                      </a:lnTo>
                      <a:lnTo>
                        <a:pt x="396" y="10"/>
                      </a:lnTo>
                      <a:lnTo>
                        <a:pt x="391" y="13"/>
                      </a:lnTo>
                      <a:lnTo>
                        <a:pt x="387" y="17"/>
                      </a:lnTo>
                      <a:lnTo>
                        <a:pt x="383" y="19"/>
                      </a:lnTo>
                      <a:lnTo>
                        <a:pt x="381" y="20"/>
                      </a:lnTo>
                      <a:lnTo>
                        <a:pt x="378" y="22"/>
                      </a:lnTo>
                      <a:lnTo>
                        <a:pt x="375" y="25"/>
                      </a:lnTo>
                      <a:lnTo>
                        <a:pt x="372" y="27"/>
                      </a:lnTo>
                      <a:lnTo>
                        <a:pt x="368" y="30"/>
                      </a:lnTo>
                      <a:lnTo>
                        <a:pt x="365" y="33"/>
                      </a:lnTo>
                      <a:lnTo>
                        <a:pt x="362" y="36"/>
                      </a:lnTo>
                      <a:lnTo>
                        <a:pt x="358" y="38"/>
                      </a:lnTo>
                      <a:lnTo>
                        <a:pt x="355" y="40"/>
                      </a:lnTo>
                      <a:lnTo>
                        <a:pt x="350" y="44"/>
                      </a:lnTo>
                      <a:lnTo>
                        <a:pt x="347" y="47"/>
                      </a:lnTo>
                      <a:lnTo>
                        <a:pt x="342" y="50"/>
                      </a:lnTo>
                      <a:lnTo>
                        <a:pt x="339" y="53"/>
                      </a:lnTo>
                      <a:lnTo>
                        <a:pt x="335" y="57"/>
                      </a:lnTo>
                      <a:lnTo>
                        <a:pt x="331" y="59"/>
                      </a:lnTo>
                      <a:lnTo>
                        <a:pt x="326" y="63"/>
                      </a:lnTo>
                      <a:lnTo>
                        <a:pt x="322" y="66"/>
                      </a:lnTo>
                      <a:lnTo>
                        <a:pt x="317" y="70"/>
                      </a:lnTo>
                      <a:lnTo>
                        <a:pt x="312" y="73"/>
                      </a:lnTo>
                      <a:lnTo>
                        <a:pt x="307" y="77"/>
                      </a:lnTo>
                      <a:lnTo>
                        <a:pt x="304" y="80"/>
                      </a:lnTo>
                      <a:lnTo>
                        <a:pt x="299" y="83"/>
                      </a:lnTo>
                      <a:lnTo>
                        <a:pt x="294" y="87"/>
                      </a:lnTo>
                      <a:lnTo>
                        <a:pt x="288" y="91"/>
                      </a:lnTo>
                      <a:lnTo>
                        <a:pt x="284" y="95"/>
                      </a:lnTo>
                      <a:lnTo>
                        <a:pt x="279" y="98"/>
                      </a:lnTo>
                      <a:lnTo>
                        <a:pt x="274" y="102"/>
                      </a:lnTo>
                      <a:lnTo>
                        <a:pt x="269" y="106"/>
                      </a:lnTo>
                      <a:lnTo>
                        <a:pt x="265" y="110"/>
                      </a:lnTo>
                      <a:lnTo>
                        <a:pt x="260" y="114"/>
                      </a:lnTo>
                      <a:lnTo>
                        <a:pt x="255" y="117"/>
                      </a:lnTo>
                      <a:lnTo>
                        <a:pt x="249" y="121"/>
                      </a:lnTo>
                      <a:lnTo>
                        <a:pt x="245" y="125"/>
                      </a:lnTo>
                      <a:lnTo>
                        <a:pt x="239" y="129"/>
                      </a:lnTo>
                      <a:lnTo>
                        <a:pt x="234" y="133"/>
                      </a:lnTo>
                      <a:lnTo>
                        <a:pt x="229" y="136"/>
                      </a:lnTo>
                      <a:lnTo>
                        <a:pt x="225" y="141"/>
                      </a:lnTo>
                      <a:lnTo>
                        <a:pt x="220" y="145"/>
                      </a:lnTo>
                      <a:lnTo>
                        <a:pt x="215" y="149"/>
                      </a:lnTo>
                      <a:lnTo>
                        <a:pt x="209" y="152"/>
                      </a:lnTo>
                      <a:lnTo>
                        <a:pt x="205" y="156"/>
                      </a:lnTo>
                      <a:lnTo>
                        <a:pt x="200" y="160"/>
                      </a:lnTo>
                      <a:lnTo>
                        <a:pt x="195" y="164"/>
                      </a:lnTo>
                      <a:lnTo>
                        <a:pt x="190" y="168"/>
                      </a:lnTo>
                      <a:lnTo>
                        <a:pt x="186" y="172"/>
                      </a:lnTo>
                      <a:lnTo>
                        <a:pt x="181" y="175"/>
                      </a:lnTo>
                      <a:lnTo>
                        <a:pt x="176" y="180"/>
                      </a:lnTo>
                      <a:lnTo>
                        <a:pt x="171" y="183"/>
                      </a:lnTo>
                      <a:lnTo>
                        <a:pt x="167" y="187"/>
                      </a:lnTo>
                      <a:lnTo>
                        <a:pt x="162" y="191"/>
                      </a:lnTo>
                      <a:lnTo>
                        <a:pt x="157" y="194"/>
                      </a:lnTo>
                      <a:lnTo>
                        <a:pt x="152" y="198"/>
                      </a:lnTo>
                      <a:lnTo>
                        <a:pt x="148" y="202"/>
                      </a:lnTo>
                      <a:lnTo>
                        <a:pt x="144" y="206"/>
                      </a:lnTo>
                      <a:lnTo>
                        <a:pt x="139" y="210"/>
                      </a:lnTo>
                      <a:lnTo>
                        <a:pt x="134" y="212"/>
                      </a:lnTo>
                      <a:lnTo>
                        <a:pt x="130" y="216"/>
                      </a:lnTo>
                      <a:lnTo>
                        <a:pt x="126" y="219"/>
                      </a:lnTo>
                      <a:lnTo>
                        <a:pt x="122" y="223"/>
                      </a:lnTo>
                      <a:lnTo>
                        <a:pt x="117" y="227"/>
                      </a:lnTo>
                      <a:lnTo>
                        <a:pt x="113" y="230"/>
                      </a:lnTo>
                      <a:lnTo>
                        <a:pt x="110" y="233"/>
                      </a:lnTo>
                      <a:lnTo>
                        <a:pt x="106" y="237"/>
                      </a:lnTo>
                      <a:lnTo>
                        <a:pt x="101" y="240"/>
                      </a:lnTo>
                      <a:lnTo>
                        <a:pt x="97" y="244"/>
                      </a:lnTo>
                      <a:lnTo>
                        <a:pt x="93" y="247"/>
                      </a:lnTo>
                      <a:lnTo>
                        <a:pt x="91" y="250"/>
                      </a:lnTo>
                      <a:lnTo>
                        <a:pt x="87" y="252"/>
                      </a:lnTo>
                      <a:lnTo>
                        <a:pt x="83" y="256"/>
                      </a:lnTo>
                      <a:lnTo>
                        <a:pt x="79" y="259"/>
                      </a:lnTo>
                      <a:lnTo>
                        <a:pt x="75" y="263"/>
                      </a:lnTo>
                      <a:lnTo>
                        <a:pt x="72" y="266"/>
                      </a:lnTo>
                      <a:lnTo>
                        <a:pt x="69" y="268"/>
                      </a:lnTo>
                      <a:lnTo>
                        <a:pt x="65" y="270"/>
                      </a:lnTo>
                      <a:lnTo>
                        <a:pt x="62" y="274"/>
                      </a:lnTo>
                      <a:lnTo>
                        <a:pt x="59" y="276"/>
                      </a:lnTo>
                      <a:lnTo>
                        <a:pt x="55" y="279"/>
                      </a:lnTo>
                      <a:lnTo>
                        <a:pt x="53" y="282"/>
                      </a:lnTo>
                      <a:lnTo>
                        <a:pt x="51" y="286"/>
                      </a:lnTo>
                      <a:lnTo>
                        <a:pt x="47" y="288"/>
                      </a:lnTo>
                      <a:lnTo>
                        <a:pt x="44" y="289"/>
                      </a:lnTo>
                      <a:lnTo>
                        <a:pt x="41" y="291"/>
                      </a:lnTo>
                      <a:lnTo>
                        <a:pt x="38" y="294"/>
                      </a:lnTo>
                      <a:lnTo>
                        <a:pt x="33" y="299"/>
                      </a:lnTo>
                      <a:lnTo>
                        <a:pt x="29" y="304"/>
                      </a:lnTo>
                      <a:lnTo>
                        <a:pt x="24" y="307"/>
                      </a:lnTo>
                      <a:lnTo>
                        <a:pt x="20" y="311"/>
                      </a:lnTo>
                      <a:lnTo>
                        <a:pt x="16" y="314"/>
                      </a:lnTo>
                      <a:lnTo>
                        <a:pt x="14" y="318"/>
                      </a:lnTo>
                      <a:lnTo>
                        <a:pt x="10" y="320"/>
                      </a:lnTo>
                      <a:lnTo>
                        <a:pt x="7" y="323"/>
                      </a:lnTo>
                      <a:lnTo>
                        <a:pt x="5" y="325"/>
                      </a:lnTo>
                      <a:lnTo>
                        <a:pt x="3" y="326"/>
                      </a:lnTo>
                      <a:lnTo>
                        <a:pt x="1" y="328"/>
                      </a:lnTo>
                      <a:lnTo>
                        <a:pt x="0" y="330"/>
                      </a:lnTo>
                      <a:lnTo>
                        <a:pt x="0" y="330"/>
                      </a:lnTo>
                      <a:close/>
                    </a:path>
                  </a:pathLst>
                </a:custGeom>
                <a:solidFill>
                  <a:srgbClr val="54423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7436880" y="2009520"/>
                  <a:ext cx="375120" cy="308880"/>
                </a:xfrm>
                <a:custGeom>
                  <a:avLst/>
                  <a:gdLst/>
                  <a:ahLst/>
                  <a:rect l="l" t="t" r="r" b="b"/>
                  <a:pathLst>
                    <a:path w="376" h="395">
                      <a:moveTo>
                        <a:pt x="0" y="234"/>
                      </a:moveTo>
                      <a:lnTo>
                        <a:pt x="225" y="0"/>
                      </a:lnTo>
                      <a:lnTo>
                        <a:pt x="376" y="150"/>
                      </a:lnTo>
                      <a:lnTo>
                        <a:pt x="376" y="252"/>
                      </a:lnTo>
                      <a:lnTo>
                        <a:pt x="235" y="395"/>
                      </a:lnTo>
                      <a:lnTo>
                        <a:pt x="0" y="234"/>
                      </a:lnTo>
                      <a:lnTo>
                        <a:pt x="0" y="234"/>
                      </a:lnTo>
                      <a:close/>
                    </a:path>
                  </a:pathLst>
                </a:custGeom>
                <a:solidFill>
                  <a:srgbClr val="54423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6215040" y="2063520"/>
                  <a:ext cx="666720" cy="573480"/>
                </a:xfrm>
                <a:custGeom>
                  <a:avLst/>
                  <a:gdLst/>
                  <a:ahLst/>
                  <a:rect l="l" t="t" r="r" b="b"/>
                  <a:pathLst>
                    <a:path w="668" h="733">
                      <a:moveTo>
                        <a:pt x="279" y="49"/>
                      </a:moveTo>
                      <a:lnTo>
                        <a:pt x="302" y="75"/>
                      </a:lnTo>
                      <a:lnTo>
                        <a:pt x="459" y="75"/>
                      </a:lnTo>
                      <a:lnTo>
                        <a:pt x="552" y="0"/>
                      </a:lnTo>
                      <a:lnTo>
                        <a:pt x="611" y="12"/>
                      </a:lnTo>
                      <a:lnTo>
                        <a:pt x="668" y="113"/>
                      </a:lnTo>
                      <a:lnTo>
                        <a:pt x="552" y="169"/>
                      </a:lnTo>
                      <a:lnTo>
                        <a:pt x="549" y="169"/>
                      </a:lnTo>
                      <a:lnTo>
                        <a:pt x="545" y="169"/>
                      </a:lnTo>
                      <a:lnTo>
                        <a:pt x="541" y="169"/>
                      </a:lnTo>
                      <a:lnTo>
                        <a:pt x="537" y="170"/>
                      </a:lnTo>
                      <a:lnTo>
                        <a:pt x="533" y="171"/>
                      </a:lnTo>
                      <a:lnTo>
                        <a:pt x="530" y="172"/>
                      </a:lnTo>
                      <a:lnTo>
                        <a:pt x="526" y="173"/>
                      </a:lnTo>
                      <a:lnTo>
                        <a:pt x="523" y="174"/>
                      </a:lnTo>
                      <a:lnTo>
                        <a:pt x="518" y="174"/>
                      </a:lnTo>
                      <a:lnTo>
                        <a:pt x="514" y="176"/>
                      </a:lnTo>
                      <a:lnTo>
                        <a:pt x="511" y="176"/>
                      </a:lnTo>
                      <a:lnTo>
                        <a:pt x="507" y="177"/>
                      </a:lnTo>
                      <a:lnTo>
                        <a:pt x="503" y="178"/>
                      </a:lnTo>
                      <a:lnTo>
                        <a:pt x="499" y="179"/>
                      </a:lnTo>
                      <a:lnTo>
                        <a:pt x="494" y="179"/>
                      </a:lnTo>
                      <a:lnTo>
                        <a:pt x="492" y="181"/>
                      </a:lnTo>
                      <a:lnTo>
                        <a:pt x="487" y="182"/>
                      </a:lnTo>
                      <a:lnTo>
                        <a:pt x="483" y="183"/>
                      </a:lnTo>
                      <a:lnTo>
                        <a:pt x="480" y="183"/>
                      </a:lnTo>
                      <a:lnTo>
                        <a:pt x="476" y="185"/>
                      </a:lnTo>
                      <a:lnTo>
                        <a:pt x="472" y="185"/>
                      </a:lnTo>
                      <a:lnTo>
                        <a:pt x="469" y="187"/>
                      </a:lnTo>
                      <a:lnTo>
                        <a:pt x="464" y="187"/>
                      </a:lnTo>
                      <a:lnTo>
                        <a:pt x="461" y="188"/>
                      </a:lnTo>
                      <a:lnTo>
                        <a:pt x="457" y="189"/>
                      </a:lnTo>
                      <a:lnTo>
                        <a:pt x="454" y="190"/>
                      </a:lnTo>
                      <a:lnTo>
                        <a:pt x="450" y="190"/>
                      </a:lnTo>
                      <a:lnTo>
                        <a:pt x="446" y="192"/>
                      </a:lnTo>
                      <a:lnTo>
                        <a:pt x="442" y="192"/>
                      </a:lnTo>
                      <a:lnTo>
                        <a:pt x="439" y="194"/>
                      </a:lnTo>
                      <a:lnTo>
                        <a:pt x="436" y="194"/>
                      </a:lnTo>
                      <a:lnTo>
                        <a:pt x="433" y="196"/>
                      </a:lnTo>
                      <a:lnTo>
                        <a:pt x="429" y="197"/>
                      </a:lnTo>
                      <a:lnTo>
                        <a:pt x="426" y="197"/>
                      </a:lnTo>
                      <a:lnTo>
                        <a:pt x="423" y="198"/>
                      </a:lnTo>
                      <a:lnTo>
                        <a:pt x="419" y="199"/>
                      </a:lnTo>
                      <a:lnTo>
                        <a:pt x="416" y="199"/>
                      </a:lnTo>
                      <a:lnTo>
                        <a:pt x="413" y="201"/>
                      </a:lnTo>
                      <a:lnTo>
                        <a:pt x="410" y="201"/>
                      </a:lnTo>
                      <a:lnTo>
                        <a:pt x="408" y="202"/>
                      </a:lnTo>
                      <a:lnTo>
                        <a:pt x="401" y="203"/>
                      </a:lnTo>
                      <a:lnTo>
                        <a:pt x="396" y="205"/>
                      </a:lnTo>
                      <a:lnTo>
                        <a:pt x="392" y="207"/>
                      </a:lnTo>
                      <a:lnTo>
                        <a:pt x="388" y="208"/>
                      </a:lnTo>
                      <a:lnTo>
                        <a:pt x="383" y="208"/>
                      </a:lnTo>
                      <a:lnTo>
                        <a:pt x="379" y="209"/>
                      </a:lnTo>
                      <a:lnTo>
                        <a:pt x="377" y="210"/>
                      </a:lnTo>
                      <a:lnTo>
                        <a:pt x="375" y="212"/>
                      </a:lnTo>
                      <a:lnTo>
                        <a:pt x="371" y="213"/>
                      </a:lnTo>
                      <a:lnTo>
                        <a:pt x="370" y="213"/>
                      </a:lnTo>
                      <a:lnTo>
                        <a:pt x="370" y="214"/>
                      </a:lnTo>
                      <a:lnTo>
                        <a:pt x="370" y="216"/>
                      </a:lnTo>
                      <a:lnTo>
                        <a:pt x="370" y="219"/>
                      </a:lnTo>
                      <a:lnTo>
                        <a:pt x="370" y="221"/>
                      </a:lnTo>
                      <a:lnTo>
                        <a:pt x="370" y="224"/>
                      </a:lnTo>
                      <a:lnTo>
                        <a:pt x="371" y="226"/>
                      </a:lnTo>
                      <a:lnTo>
                        <a:pt x="371" y="230"/>
                      </a:lnTo>
                      <a:lnTo>
                        <a:pt x="371" y="232"/>
                      </a:lnTo>
                      <a:lnTo>
                        <a:pt x="371" y="235"/>
                      </a:lnTo>
                      <a:lnTo>
                        <a:pt x="372" y="238"/>
                      </a:lnTo>
                      <a:lnTo>
                        <a:pt x="372" y="241"/>
                      </a:lnTo>
                      <a:lnTo>
                        <a:pt x="372" y="244"/>
                      </a:lnTo>
                      <a:lnTo>
                        <a:pt x="373" y="246"/>
                      </a:lnTo>
                      <a:lnTo>
                        <a:pt x="373" y="250"/>
                      </a:lnTo>
                      <a:lnTo>
                        <a:pt x="374" y="254"/>
                      </a:lnTo>
                      <a:lnTo>
                        <a:pt x="374" y="257"/>
                      </a:lnTo>
                      <a:lnTo>
                        <a:pt x="374" y="261"/>
                      </a:lnTo>
                      <a:lnTo>
                        <a:pt x="374" y="264"/>
                      </a:lnTo>
                      <a:lnTo>
                        <a:pt x="375" y="266"/>
                      </a:lnTo>
                      <a:lnTo>
                        <a:pt x="375" y="271"/>
                      </a:lnTo>
                      <a:lnTo>
                        <a:pt x="375" y="277"/>
                      </a:lnTo>
                      <a:lnTo>
                        <a:pt x="375" y="281"/>
                      </a:lnTo>
                      <a:lnTo>
                        <a:pt x="375" y="284"/>
                      </a:lnTo>
                      <a:lnTo>
                        <a:pt x="375" y="287"/>
                      </a:lnTo>
                      <a:lnTo>
                        <a:pt x="375" y="291"/>
                      </a:lnTo>
                      <a:lnTo>
                        <a:pt x="373" y="295"/>
                      </a:lnTo>
                      <a:lnTo>
                        <a:pt x="373" y="298"/>
                      </a:lnTo>
                      <a:lnTo>
                        <a:pt x="372" y="299"/>
                      </a:lnTo>
                      <a:lnTo>
                        <a:pt x="372" y="300"/>
                      </a:lnTo>
                      <a:lnTo>
                        <a:pt x="0" y="733"/>
                      </a:lnTo>
                      <a:lnTo>
                        <a:pt x="0" y="662"/>
                      </a:lnTo>
                      <a:lnTo>
                        <a:pt x="10" y="138"/>
                      </a:lnTo>
                      <a:lnTo>
                        <a:pt x="254" y="12"/>
                      </a:lnTo>
                      <a:lnTo>
                        <a:pt x="279" y="49"/>
                      </a:lnTo>
                      <a:lnTo>
                        <a:pt x="279" y="49"/>
                      </a:lnTo>
                      <a:close/>
                    </a:path>
                  </a:pathLst>
                </a:custGeom>
                <a:solidFill>
                  <a:srgbClr val="7a94a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6318720" y="2154240"/>
                  <a:ext cx="1257480" cy="380160"/>
                </a:xfrm>
                <a:custGeom>
                  <a:avLst/>
                  <a:gdLst/>
                  <a:ahLst/>
                  <a:rect l="l" t="t" r="r" b="b"/>
                  <a:pathLst>
                    <a:path w="1260" h="486">
                      <a:moveTo>
                        <a:pt x="1260" y="16"/>
                      </a:moveTo>
                      <a:lnTo>
                        <a:pt x="1236" y="121"/>
                      </a:lnTo>
                      <a:lnTo>
                        <a:pt x="1070" y="72"/>
                      </a:lnTo>
                      <a:lnTo>
                        <a:pt x="797" y="159"/>
                      </a:lnTo>
                      <a:lnTo>
                        <a:pt x="634" y="246"/>
                      </a:lnTo>
                      <a:lnTo>
                        <a:pt x="809" y="223"/>
                      </a:lnTo>
                      <a:lnTo>
                        <a:pt x="952" y="240"/>
                      </a:lnTo>
                      <a:lnTo>
                        <a:pt x="910" y="335"/>
                      </a:lnTo>
                      <a:lnTo>
                        <a:pt x="797" y="395"/>
                      </a:lnTo>
                      <a:lnTo>
                        <a:pt x="571" y="363"/>
                      </a:lnTo>
                      <a:lnTo>
                        <a:pt x="389" y="440"/>
                      </a:lnTo>
                      <a:lnTo>
                        <a:pt x="0" y="486"/>
                      </a:lnTo>
                      <a:lnTo>
                        <a:pt x="297" y="142"/>
                      </a:lnTo>
                      <a:lnTo>
                        <a:pt x="480" y="146"/>
                      </a:lnTo>
                      <a:lnTo>
                        <a:pt x="791" y="72"/>
                      </a:lnTo>
                      <a:lnTo>
                        <a:pt x="1143" y="0"/>
                      </a:lnTo>
                      <a:lnTo>
                        <a:pt x="1260" y="16"/>
                      </a:lnTo>
                      <a:lnTo>
                        <a:pt x="1260" y="16"/>
                      </a:lnTo>
                      <a:close/>
                    </a:path>
                  </a:pathLst>
                </a:custGeom>
                <a:solidFill>
                  <a:srgbClr val="54423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6215040" y="2076120"/>
                  <a:ext cx="249480" cy="522360"/>
                </a:xfrm>
                <a:custGeom>
                  <a:avLst/>
                  <a:gdLst/>
                  <a:ahLst/>
                  <a:rect l="l" t="t" r="r" b="b"/>
                  <a:pathLst>
                    <a:path w="250" h="668">
                      <a:moveTo>
                        <a:pt x="137" y="2"/>
                      </a:moveTo>
                      <a:lnTo>
                        <a:pt x="103" y="0"/>
                      </a:lnTo>
                      <a:lnTo>
                        <a:pt x="76" y="26"/>
                      </a:lnTo>
                      <a:lnTo>
                        <a:pt x="0" y="90"/>
                      </a:lnTo>
                      <a:lnTo>
                        <a:pt x="0" y="668"/>
                      </a:lnTo>
                      <a:lnTo>
                        <a:pt x="26" y="668"/>
                      </a:lnTo>
                      <a:lnTo>
                        <a:pt x="26" y="593"/>
                      </a:lnTo>
                      <a:lnTo>
                        <a:pt x="105" y="591"/>
                      </a:lnTo>
                      <a:lnTo>
                        <a:pt x="38" y="520"/>
                      </a:lnTo>
                      <a:lnTo>
                        <a:pt x="111" y="471"/>
                      </a:lnTo>
                      <a:lnTo>
                        <a:pt x="11" y="247"/>
                      </a:lnTo>
                      <a:lnTo>
                        <a:pt x="62" y="279"/>
                      </a:lnTo>
                      <a:lnTo>
                        <a:pt x="162" y="181"/>
                      </a:lnTo>
                      <a:lnTo>
                        <a:pt x="112" y="110"/>
                      </a:lnTo>
                      <a:lnTo>
                        <a:pt x="188" y="160"/>
                      </a:lnTo>
                      <a:lnTo>
                        <a:pt x="250" y="94"/>
                      </a:lnTo>
                      <a:lnTo>
                        <a:pt x="137" y="2"/>
                      </a:lnTo>
                      <a:lnTo>
                        <a:pt x="137" y="2"/>
                      </a:lnTo>
                      <a:close/>
                    </a:path>
                  </a:pathLst>
                </a:custGeom>
                <a:solidFill>
                  <a:srgbClr val="bdc9d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6317640" y="1914840"/>
                  <a:ext cx="282240" cy="245520"/>
                </a:xfrm>
                <a:custGeom>
                  <a:avLst/>
                  <a:gdLst/>
                  <a:ahLst/>
                  <a:rect l="l" t="t" r="r" b="b"/>
                  <a:pathLst>
                    <a:path w="283" h="314">
                      <a:moveTo>
                        <a:pt x="269" y="0"/>
                      </a:moveTo>
                      <a:lnTo>
                        <a:pt x="283" y="58"/>
                      </a:lnTo>
                      <a:lnTo>
                        <a:pt x="265" y="83"/>
                      </a:lnTo>
                      <a:lnTo>
                        <a:pt x="273" y="140"/>
                      </a:lnTo>
                      <a:lnTo>
                        <a:pt x="242" y="235"/>
                      </a:lnTo>
                      <a:lnTo>
                        <a:pt x="157" y="247"/>
                      </a:lnTo>
                      <a:lnTo>
                        <a:pt x="139" y="314"/>
                      </a:lnTo>
                      <a:lnTo>
                        <a:pt x="138" y="314"/>
                      </a:lnTo>
                      <a:lnTo>
                        <a:pt x="136" y="314"/>
                      </a:lnTo>
                      <a:lnTo>
                        <a:pt x="133" y="313"/>
                      </a:lnTo>
                      <a:lnTo>
                        <a:pt x="129" y="313"/>
                      </a:lnTo>
                      <a:lnTo>
                        <a:pt x="126" y="312"/>
                      </a:lnTo>
                      <a:lnTo>
                        <a:pt x="123" y="312"/>
                      </a:lnTo>
                      <a:lnTo>
                        <a:pt x="121" y="312"/>
                      </a:lnTo>
                      <a:lnTo>
                        <a:pt x="119" y="312"/>
                      </a:lnTo>
                      <a:lnTo>
                        <a:pt x="115" y="311"/>
                      </a:lnTo>
                      <a:lnTo>
                        <a:pt x="112" y="311"/>
                      </a:lnTo>
                      <a:lnTo>
                        <a:pt x="109" y="311"/>
                      </a:lnTo>
                      <a:lnTo>
                        <a:pt x="106" y="311"/>
                      </a:lnTo>
                      <a:lnTo>
                        <a:pt x="102" y="310"/>
                      </a:lnTo>
                      <a:lnTo>
                        <a:pt x="99" y="309"/>
                      </a:lnTo>
                      <a:lnTo>
                        <a:pt x="95" y="308"/>
                      </a:lnTo>
                      <a:lnTo>
                        <a:pt x="91" y="308"/>
                      </a:lnTo>
                      <a:lnTo>
                        <a:pt x="87" y="307"/>
                      </a:lnTo>
                      <a:lnTo>
                        <a:pt x="84" y="306"/>
                      </a:lnTo>
                      <a:lnTo>
                        <a:pt x="80" y="304"/>
                      </a:lnTo>
                      <a:lnTo>
                        <a:pt x="77" y="304"/>
                      </a:lnTo>
                      <a:lnTo>
                        <a:pt x="72" y="302"/>
                      </a:lnTo>
                      <a:lnTo>
                        <a:pt x="68" y="301"/>
                      </a:lnTo>
                      <a:lnTo>
                        <a:pt x="64" y="301"/>
                      </a:lnTo>
                      <a:lnTo>
                        <a:pt x="61" y="300"/>
                      </a:lnTo>
                      <a:lnTo>
                        <a:pt x="58" y="298"/>
                      </a:lnTo>
                      <a:lnTo>
                        <a:pt x="54" y="296"/>
                      </a:lnTo>
                      <a:lnTo>
                        <a:pt x="51" y="295"/>
                      </a:lnTo>
                      <a:lnTo>
                        <a:pt x="48" y="294"/>
                      </a:lnTo>
                      <a:lnTo>
                        <a:pt x="45" y="291"/>
                      </a:lnTo>
                      <a:lnTo>
                        <a:pt x="42" y="289"/>
                      </a:lnTo>
                      <a:lnTo>
                        <a:pt x="39" y="287"/>
                      </a:lnTo>
                      <a:lnTo>
                        <a:pt x="36" y="285"/>
                      </a:lnTo>
                      <a:lnTo>
                        <a:pt x="30" y="281"/>
                      </a:lnTo>
                      <a:lnTo>
                        <a:pt x="25" y="276"/>
                      </a:lnTo>
                      <a:lnTo>
                        <a:pt x="21" y="270"/>
                      </a:lnTo>
                      <a:lnTo>
                        <a:pt x="18" y="265"/>
                      </a:lnTo>
                      <a:lnTo>
                        <a:pt x="14" y="261"/>
                      </a:lnTo>
                      <a:lnTo>
                        <a:pt x="11" y="256"/>
                      </a:lnTo>
                      <a:lnTo>
                        <a:pt x="8" y="251"/>
                      </a:lnTo>
                      <a:lnTo>
                        <a:pt x="5" y="246"/>
                      </a:lnTo>
                      <a:lnTo>
                        <a:pt x="3" y="243"/>
                      </a:lnTo>
                      <a:lnTo>
                        <a:pt x="2" y="239"/>
                      </a:lnTo>
                      <a:lnTo>
                        <a:pt x="1" y="236"/>
                      </a:lnTo>
                      <a:lnTo>
                        <a:pt x="0" y="234"/>
                      </a:lnTo>
                      <a:lnTo>
                        <a:pt x="0" y="232"/>
                      </a:lnTo>
                      <a:lnTo>
                        <a:pt x="0" y="232"/>
                      </a:lnTo>
                      <a:lnTo>
                        <a:pt x="1" y="230"/>
                      </a:lnTo>
                      <a:lnTo>
                        <a:pt x="2" y="228"/>
                      </a:lnTo>
                      <a:lnTo>
                        <a:pt x="3" y="226"/>
                      </a:lnTo>
                      <a:lnTo>
                        <a:pt x="4" y="224"/>
                      </a:lnTo>
                      <a:lnTo>
                        <a:pt x="6" y="222"/>
                      </a:lnTo>
                      <a:lnTo>
                        <a:pt x="8" y="218"/>
                      </a:lnTo>
                      <a:lnTo>
                        <a:pt x="11" y="214"/>
                      </a:lnTo>
                      <a:lnTo>
                        <a:pt x="13" y="209"/>
                      </a:lnTo>
                      <a:lnTo>
                        <a:pt x="17" y="204"/>
                      </a:lnTo>
                      <a:lnTo>
                        <a:pt x="19" y="200"/>
                      </a:lnTo>
                      <a:lnTo>
                        <a:pt x="21" y="197"/>
                      </a:lnTo>
                      <a:lnTo>
                        <a:pt x="22" y="193"/>
                      </a:lnTo>
                      <a:lnTo>
                        <a:pt x="24" y="189"/>
                      </a:lnTo>
                      <a:lnTo>
                        <a:pt x="26" y="186"/>
                      </a:lnTo>
                      <a:lnTo>
                        <a:pt x="29" y="182"/>
                      </a:lnTo>
                      <a:lnTo>
                        <a:pt x="31" y="177"/>
                      </a:lnTo>
                      <a:lnTo>
                        <a:pt x="34" y="173"/>
                      </a:lnTo>
                      <a:lnTo>
                        <a:pt x="37" y="167"/>
                      </a:lnTo>
                      <a:lnTo>
                        <a:pt x="40" y="162"/>
                      </a:lnTo>
                      <a:lnTo>
                        <a:pt x="42" y="156"/>
                      </a:lnTo>
                      <a:lnTo>
                        <a:pt x="44" y="150"/>
                      </a:lnTo>
                      <a:lnTo>
                        <a:pt x="45" y="148"/>
                      </a:lnTo>
                      <a:lnTo>
                        <a:pt x="47" y="145"/>
                      </a:lnTo>
                      <a:lnTo>
                        <a:pt x="48" y="141"/>
                      </a:lnTo>
                      <a:lnTo>
                        <a:pt x="50" y="138"/>
                      </a:lnTo>
                      <a:lnTo>
                        <a:pt x="52" y="135"/>
                      </a:lnTo>
                      <a:lnTo>
                        <a:pt x="53" y="132"/>
                      </a:lnTo>
                      <a:lnTo>
                        <a:pt x="55" y="129"/>
                      </a:lnTo>
                      <a:lnTo>
                        <a:pt x="57" y="127"/>
                      </a:lnTo>
                      <a:lnTo>
                        <a:pt x="58" y="123"/>
                      </a:lnTo>
                      <a:lnTo>
                        <a:pt x="59" y="120"/>
                      </a:lnTo>
                      <a:lnTo>
                        <a:pt x="61" y="117"/>
                      </a:lnTo>
                      <a:lnTo>
                        <a:pt x="62" y="114"/>
                      </a:lnTo>
                      <a:lnTo>
                        <a:pt x="63" y="110"/>
                      </a:lnTo>
                      <a:lnTo>
                        <a:pt x="65" y="108"/>
                      </a:lnTo>
                      <a:lnTo>
                        <a:pt x="66" y="105"/>
                      </a:lnTo>
                      <a:lnTo>
                        <a:pt x="68" y="102"/>
                      </a:lnTo>
                      <a:lnTo>
                        <a:pt x="69" y="98"/>
                      </a:lnTo>
                      <a:lnTo>
                        <a:pt x="71" y="95"/>
                      </a:lnTo>
                      <a:lnTo>
                        <a:pt x="73" y="92"/>
                      </a:lnTo>
                      <a:lnTo>
                        <a:pt x="74" y="89"/>
                      </a:lnTo>
                      <a:lnTo>
                        <a:pt x="78" y="83"/>
                      </a:lnTo>
                      <a:lnTo>
                        <a:pt x="81" y="77"/>
                      </a:lnTo>
                      <a:lnTo>
                        <a:pt x="81" y="74"/>
                      </a:lnTo>
                      <a:lnTo>
                        <a:pt x="82" y="71"/>
                      </a:lnTo>
                      <a:lnTo>
                        <a:pt x="84" y="69"/>
                      </a:lnTo>
                      <a:lnTo>
                        <a:pt x="85" y="66"/>
                      </a:lnTo>
                      <a:lnTo>
                        <a:pt x="88" y="60"/>
                      </a:lnTo>
                      <a:lnTo>
                        <a:pt x="91" y="55"/>
                      </a:lnTo>
                      <a:lnTo>
                        <a:pt x="93" y="51"/>
                      </a:lnTo>
                      <a:lnTo>
                        <a:pt x="95" y="46"/>
                      </a:lnTo>
                      <a:lnTo>
                        <a:pt x="98" y="41"/>
                      </a:lnTo>
                      <a:lnTo>
                        <a:pt x="100" y="38"/>
                      </a:lnTo>
                      <a:lnTo>
                        <a:pt x="100" y="34"/>
                      </a:lnTo>
                      <a:lnTo>
                        <a:pt x="102" y="31"/>
                      </a:lnTo>
                      <a:lnTo>
                        <a:pt x="103" y="28"/>
                      </a:lnTo>
                      <a:lnTo>
                        <a:pt x="105" y="26"/>
                      </a:lnTo>
                      <a:lnTo>
                        <a:pt x="106" y="23"/>
                      </a:lnTo>
                      <a:lnTo>
                        <a:pt x="107" y="22"/>
                      </a:lnTo>
                      <a:lnTo>
                        <a:pt x="269" y="0"/>
                      </a:lnTo>
                      <a:lnTo>
                        <a:pt x="269" y="0"/>
                      </a:lnTo>
                      <a:close/>
                    </a:path>
                  </a:pathLst>
                </a:custGeom>
                <a:solidFill>
                  <a:srgbClr val="eda3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6488640" y="1906920"/>
                  <a:ext cx="117720" cy="193320"/>
                </a:xfrm>
                <a:custGeom>
                  <a:avLst/>
                  <a:gdLst/>
                  <a:ahLst/>
                  <a:rect l="l" t="t" r="r" b="b"/>
                  <a:pathLst>
                    <a:path w="118" h="247">
                      <a:moveTo>
                        <a:pt x="110" y="0"/>
                      </a:moveTo>
                      <a:lnTo>
                        <a:pt x="118" y="73"/>
                      </a:lnTo>
                      <a:lnTo>
                        <a:pt x="104" y="93"/>
                      </a:lnTo>
                      <a:lnTo>
                        <a:pt x="117" y="158"/>
                      </a:lnTo>
                      <a:lnTo>
                        <a:pt x="96" y="171"/>
                      </a:lnTo>
                      <a:lnTo>
                        <a:pt x="96" y="171"/>
                      </a:lnTo>
                      <a:lnTo>
                        <a:pt x="96" y="173"/>
                      </a:lnTo>
                      <a:lnTo>
                        <a:pt x="96" y="177"/>
                      </a:lnTo>
                      <a:lnTo>
                        <a:pt x="96" y="181"/>
                      </a:lnTo>
                      <a:lnTo>
                        <a:pt x="95" y="183"/>
                      </a:lnTo>
                      <a:lnTo>
                        <a:pt x="95" y="187"/>
                      </a:lnTo>
                      <a:lnTo>
                        <a:pt x="95" y="190"/>
                      </a:lnTo>
                      <a:lnTo>
                        <a:pt x="95" y="193"/>
                      </a:lnTo>
                      <a:lnTo>
                        <a:pt x="94" y="196"/>
                      </a:lnTo>
                      <a:lnTo>
                        <a:pt x="93" y="199"/>
                      </a:lnTo>
                      <a:lnTo>
                        <a:pt x="92" y="203"/>
                      </a:lnTo>
                      <a:lnTo>
                        <a:pt x="92" y="207"/>
                      </a:lnTo>
                      <a:lnTo>
                        <a:pt x="90" y="211"/>
                      </a:lnTo>
                      <a:lnTo>
                        <a:pt x="88" y="214"/>
                      </a:lnTo>
                      <a:lnTo>
                        <a:pt x="86" y="216"/>
                      </a:lnTo>
                      <a:lnTo>
                        <a:pt x="85" y="220"/>
                      </a:lnTo>
                      <a:lnTo>
                        <a:pt x="83" y="224"/>
                      </a:lnTo>
                      <a:lnTo>
                        <a:pt x="82" y="227"/>
                      </a:lnTo>
                      <a:lnTo>
                        <a:pt x="81" y="230"/>
                      </a:lnTo>
                      <a:lnTo>
                        <a:pt x="79" y="234"/>
                      </a:lnTo>
                      <a:lnTo>
                        <a:pt x="75" y="238"/>
                      </a:lnTo>
                      <a:lnTo>
                        <a:pt x="73" y="243"/>
                      </a:lnTo>
                      <a:lnTo>
                        <a:pt x="71" y="246"/>
                      </a:lnTo>
                      <a:lnTo>
                        <a:pt x="71" y="247"/>
                      </a:lnTo>
                      <a:lnTo>
                        <a:pt x="62" y="196"/>
                      </a:lnTo>
                      <a:lnTo>
                        <a:pt x="63" y="195"/>
                      </a:lnTo>
                      <a:lnTo>
                        <a:pt x="65" y="190"/>
                      </a:lnTo>
                      <a:lnTo>
                        <a:pt x="68" y="187"/>
                      </a:lnTo>
                      <a:lnTo>
                        <a:pt x="70" y="183"/>
                      </a:lnTo>
                      <a:lnTo>
                        <a:pt x="73" y="179"/>
                      </a:lnTo>
                      <a:lnTo>
                        <a:pt x="77" y="176"/>
                      </a:lnTo>
                      <a:lnTo>
                        <a:pt x="79" y="170"/>
                      </a:lnTo>
                      <a:lnTo>
                        <a:pt x="82" y="165"/>
                      </a:lnTo>
                      <a:lnTo>
                        <a:pt x="84" y="160"/>
                      </a:lnTo>
                      <a:lnTo>
                        <a:pt x="86" y="156"/>
                      </a:lnTo>
                      <a:lnTo>
                        <a:pt x="88" y="150"/>
                      </a:lnTo>
                      <a:lnTo>
                        <a:pt x="90" y="145"/>
                      </a:lnTo>
                      <a:lnTo>
                        <a:pt x="91" y="140"/>
                      </a:lnTo>
                      <a:lnTo>
                        <a:pt x="92" y="136"/>
                      </a:lnTo>
                      <a:lnTo>
                        <a:pt x="91" y="131"/>
                      </a:lnTo>
                      <a:lnTo>
                        <a:pt x="90" y="126"/>
                      </a:lnTo>
                      <a:lnTo>
                        <a:pt x="88" y="122"/>
                      </a:lnTo>
                      <a:lnTo>
                        <a:pt x="87" y="119"/>
                      </a:lnTo>
                      <a:lnTo>
                        <a:pt x="84" y="115"/>
                      </a:lnTo>
                      <a:lnTo>
                        <a:pt x="83" y="112"/>
                      </a:lnTo>
                      <a:lnTo>
                        <a:pt x="80" y="109"/>
                      </a:lnTo>
                      <a:lnTo>
                        <a:pt x="78" y="107"/>
                      </a:lnTo>
                      <a:lnTo>
                        <a:pt x="72" y="102"/>
                      </a:lnTo>
                      <a:lnTo>
                        <a:pt x="67" y="100"/>
                      </a:lnTo>
                      <a:lnTo>
                        <a:pt x="64" y="97"/>
                      </a:lnTo>
                      <a:lnTo>
                        <a:pt x="64" y="97"/>
                      </a:lnTo>
                      <a:lnTo>
                        <a:pt x="102" y="79"/>
                      </a:lnTo>
                      <a:lnTo>
                        <a:pt x="92" y="41"/>
                      </a:lnTo>
                      <a:lnTo>
                        <a:pt x="91" y="41"/>
                      </a:lnTo>
                      <a:lnTo>
                        <a:pt x="90" y="41"/>
                      </a:lnTo>
                      <a:lnTo>
                        <a:pt x="88" y="41"/>
                      </a:lnTo>
                      <a:lnTo>
                        <a:pt x="85" y="41"/>
                      </a:lnTo>
                      <a:lnTo>
                        <a:pt x="81" y="41"/>
                      </a:lnTo>
                      <a:lnTo>
                        <a:pt x="75" y="42"/>
                      </a:lnTo>
                      <a:lnTo>
                        <a:pt x="72" y="42"/>
                      </a:lnTo>
                      <a:lnTo>
                        <a:pt x="69" y="42"/>
                      </a:lnTo>
                      <a:lnTo>
                        <a:pt x="65" y="42"/>
                      </a:lnTo>
                      <a:lnTo>
                        <a:pt x="62" y="43"/>
                      </a:lnTo>
                      <a:lnTo>
                        <a:pt x="57" y="43"/>
                      </a:lnTo>
                      <a:lnTo>
                        <a:pt x="52" y="43"/>
                      </a:lnTo>
                      <a:lnTo>
                        <a:pt x="46" y="43"/>
                      </a:lnTo>
                      <a:lnTo>
                        <a:pt x="42" y="43"/>
                      </a:lnTo>
                      <a:lnTo>
                        <a:pt x="37" y="43"/>
                      </a:lnTo>
                      <a:lnTo>
                        <a:pt x="31" y="43"/>
                      </a:lnTo>
                      <a:lnTo>
                        <a:pt x="26" y="43"/>
                      </a:lnTo>
                      <a:lnTo>
                        <a:pt x="22" y="43"/>
                      </a:lnTo>
                      <a:lnTo>
                        <a:pt x="17" y="43"/>
                      </a:lnTo>
                      <a:lnTo>
                        <a:pt x="13" y="43"/>
                      </a:lnTo>
                      <a:lnTo>
                        <a:pt x="9" y="43"/>
                      </a:lnTo>
                      <a:lnTo>
                        <a:pt x="6" y="43"/>
                      </a:lnTo>
                      <a:lnTo>
                        <a:pt x="1" y="43"/>
                      </a:lnTo>
                      <a:lnTo>
                        <a:pt x="0" y="43"/>
                      </a:lnTo>
                      <a:lnTo>
                        <a:pt x="110" y="0"/>
                      </a:lnTo>
                      <a:lnTo>
                        <a:pt x="110" y="0"/>
                      </a:lnTo>
                      <a:close/>
                    </a:path>
                  </a:pathLst>
                </a:custGeom>
                <a:solidFill>
                  <a:srgbClr val="a84a3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6422400" y="2103480"/>
                  <a:ext cx="70920" cy="56880"/>
                </a:xfrm>
                <a:custGeom>
                  <a:avLst/>
                  <a:gdLst/>
                  <a:ahLst/>
                  <a:rect l="l" t="t" r="r" b="b"/>
                  <a:pathLst>
                    <a:path w="71" h="73">
                      <a:moveTo>
                        <a:pt x="0" y="0"/>
                      </a:moveTo>
                      <a:lnTo>
                        <a:pt x="71" y="0"/>
                      </a:lnTo>
                      <a:lnTo>
                        <a:pt x="38" y="73"/>
                      </a:lnTo>
                      <a:lnTo>
                        <a:pt x="22" y="55"/>
                      </a:lnTo>
                      <a:lnTo>
                        <a:pt x="0" y="0"/>
                      </a:lnTo>
                      <a:lnTo>
                        <a:pt x="0" y="0"/>
                      </a:lnTo>
                      <a:close/>
                    </a:path>
                  </a:pathLst>
                </a:custGeom>
                <a:solidFill>
                  <a:srgbClr val="a84a3d"/>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51" name=""/>
                <p:cNvSpPr/>
                <p:nvPr/>
              </p:nvSpPr>
              <p:spPr>
                <a:xfrm>
                  <a:off x="6355800" y="1866240"/>
                  <a:ext cx="265320" cy="171720"/>
                </a:xfrm>
                <a:custGeom>
                  <a:avLst/>
                  <a:gdLst/>
                  <a:ahLst/>
                  <a:rect l="l" t="t" r="r" b="b"/>
                  <a:pathLst>
                    <a:path w="266" h="220">
                      <a:moveTo>
                        <a:pt x="24" y="37"/>
                      </a:moveTo>
                      <a:lnTo>
                        <a:pt x="24" y="38"/>
                      </a:lnTo>
                      <a:lnTo>
                        <a:pt x="25" y="41"/>
                      </a:lnTo>
                      <a:lnTo>
                        <a:pt x="25" y="43"/>
                      </a:lnTo>
                      <a:lnTo>
                        <a:pt x="26" y="47"/>
                      </a:lnTo>
                      <a:lnTo>
                        <a:pt x="26" y="50"/>
                      </a:lnTo>
                      <a:lnTo>
                        <a:pt x="27" y="55"/>
                      </a:lnTo>
                      <a:lnTo>
                        <a:pt x="27" y="58"/>
                      </a:lnTo>
                      <a:lnTo>
                        <a:pt x="27" y="64"/>
                      </a:lnTo>
                      <a:lnTo>
                        <a:pt x="27" y="66"/>
                      </a:lnTo>
                      <a:lnTo>
                        <a:pt x="27" y="70"/>
                      </a:lnTo>
                      <a:lnTo>
                        <a:pt x="27" y="73"/>
                      </a:lnTo>
                      <a:lnTo>
                        <a:pt x="27" y="76"/>
                      </a:lnTo>
                      <a:lnTo>
                        <a:pt x="26" y="79"/>
                      </a:lnTo>
                      <a:lnTo>
                        <a:pt x="26" y="82"/>
                      </a:lnTo>
                      <a:lnTo>
                        <a:pt x="26" y="85"/>
                      </a:lnTo>
                      <a:lnTo>
                        <a:pt x="26" y="90"/>
                      </a:lnTo>
                      <a:lnTo>
                        <a:pt x="25" y="93"/>
                      </a:lnTo>
                      <a:lnTo>
                        <a:pt x="25" y="97"/>
                      </a:lnTo>
                      <a:lnTo>
                        <a:pt x="24" y="102"/>
                      </a:lnTo>
                      <a:lnTo>
                        <a:pt x="24" y="107"/>
                      </a:lnTo>
                      <a:lnTo>
                        <a:pt x="23" y="111"/>
                      </a:lnTo>
                      <a:lnTo>
                        <a:pt x="23" y="114"/>
                      </a:lnTo>
                      <a:lnTo>
                        <a:pt x="23" y="119"/>
                      </a:lnTo>
                      <a:lnTo>
                        <a:pt x="22" y="124"/>
                      </a:lnTo>
                      <a:lnTo>
                        <a:pt x="21" y="129"/>
                      </a:lnTo>
                      <a:lnTo>
                        <a:pt x="20" y="133"/>
                      </a:lnTo>
                      <a:lnTo>
                        <a:pt x="19" y="138"/>
                      </a:lnTo>
                      <a:lnTo>
                        <a:pt x="18" y="143"/>
                      </a:lnTo>
                      <a:lnTo>
                        <a:pt x="16" y="148"/>
                      </a:lnTo>
                      <a:lnTo>
                        <a:pt x="16" y="152"/>
                      </a:lnTo>
                      <a:lnTo>
                        <a:pt x="14" y="157"/>
                      </a:lnTo>
                      <a:lnTo>
                        <a:pt x="14" y="162"/>
                      </a:lnTo>
                      <a:lnTo>
                        <a:pt x="12" y="167"/>
                      </a:lnTo>
                      <a:lnTo>
                        <a:pt x="11" y="171"/>
                      </a:lnTo>
                      <a:lnTo>
                        <a:pt x="10" y="175"/>
                      </a:lnTo>
                      <a:lnTo>
                        <a:pt x="10" y="180"/>
                      </a:lnTo>
                      <a:lnTo>
                        <a:pt x="8" y="184"/>
                      </a:lnTo>
                      <a:lnTo>
                        <a:pt x="7" y="188"/>
                      </a:lnTo>
                      <a:lnTo>
                        <a:pt x="6" y="191"/>
                      </a:lnTo>
                      <a:lnTo>
                        <a:pt x="5" y="196"/>
                      </a:lnTo>
                      <a:lnTo>
                        <a:pt x="4" y="199"/>
                      </a:lnTo>
                      <a:lnTo>
                        <a:pt x="4" y="202"/>
                      </a:lnTo>
                      <a:lnTo>
                        <a:pt x="3" y="205"/>
                      </a:lnTo>
                      <a:lnTo>
                        <a:pt x="3" y="209"/>
                      </a:lnTo>
                      <a:lnTo>
                        <a:pt x="2" y="213"/>
                      </a:lnTo>
                      <a:lnTo>
                        <a:pt x="1" y="217"/>
                      </a:lnTo>
                      <a:lnTo>
                        <a:pt x="0" y="219"/>
                      </a:lnTo>
                      <a:lnTo>
                        <a:pt x="0" y="220"/>
                      </a:lnTo>
                      <a:lnTo>
                        <a:pt x="0" y="220"/>
                      </a:lnTo>
                      <a:lnTo>
                        <a:pt x="3" y="219"/>
                      </a:lnTo>
                      <a:lnTo>
                        <a:pt x="4" y="218"/>
                      </a:lnTo>
                      <a:lnTo>
                        <a:pt x="8" y="217"/>
                      </a:lnTo>
                      <a:lnTo>
                        <a:pt x="13" y="216"/>
                      </a:lnTo>
                      <a:lnTo>
                        <a:pt x="18" y="214"/>
                      </a:lnTo>
                      <a:lnTo>
                        <a:pt x="23" y="212"/>
                      </a:lnTo>
                      <a:lnTo>
                        <a:pt x="28" y="210"/>
                      </a:lnTo>
                      <a:lnTo>
                        <a:pt x="33" y="208"/>
                      </a:lnTo>
                      <a:lnTo>
                        <a:pt x="38" y="205"/>
                      </a:lnTo>
                      <a:lnTo>
                        <a:pt x="43" y="201"/>
                      </a:lnTo>
                      <a:lnTo>
                        <a:pt x="46" y="199"/>
                      </a:lnTo>
                      <a:lnTo>
                        <a:pt x="49" y="196"/>
                      </a:lnTo>
                      <a:lnTo>
                        <a:pt x="52" y="195"/>
                      </a:lnTo>
                      <a:lnTo>
                        <a:pt x="54" y="193"/>
                      </a:lnTo>
                      <a:lnTo>
                        <a:pt x="55" y="193"/>
                      </a:lnTo>
                      <a:lnTo>
                        <a:pt x="54" y="192"/>
                      </a:lnTo>
                      <a:lnTo>
                        <a:pt x="53" y="189"/>
                      </a:lnTo>
                      <a:lnTo>
                        <a:pt x="52" y="187"/>
                      </a:lnTo>
                      <a:lnTo>
                        <a:pt x="52" y="184"/>
                      </a:lnTo>
                      <a:lnTo>
                        <a:pt x="51" y="181"/>
                      </a:lnTo>
                      <a:lnTo>
                        <a:pt x="51" y="178"/>
                      </a:lnTo>
                      <a:lnTo>
                        <a:pt x="49" y="174"/>
                      </a:lnTo>
                      <a:lnTo>
                        <a:pt x="49" y="171"/>
                      </a:lnTo>
                      <a:lnTo>
                        <a:pt x="48" y="167"/>
                      </a:lnTo>
                      <a:lnTo>
                        <a:pt x="48" y="164"/>
                      </a:lnTo>
                      <a:lnTo>
                        <a:pt x="48" y="160"/>
                      </a:lnTo>
                      <a:lnTo>
                        <a:pt x="49" y="157"/>
                      </a:lnTo>
                      <a:lnTo>
                        <a:pt x="49" y="154"/>
                      </a:lnTo>
                      <a:lnTo>
                        <a:pt x="51" y="152"/>
                      </a:lnTo>
                      <a:lnTo>
                        <a:pt x="52" y="148"/>
                      </a:lnTo>
                      <a:lnTo>
                        <a:pt x="53" y="145"/>
                      </a:lnTo>
                      <a:lnTo>
                        <a:pt x="56" y="143"/>
                      </a:lnTo>
                      <a:lnTo>
                        <a:pt x="58" y="141"/>
                      </a:lnTo>
                      <a:lnTo>
                        <a:pt x="62" y="137"/>
                      </a:lnTo>
                      <a:lnTo>
                        <a:pt x="68" y="135"/>
                      </a:lnTo>
                      <a:lnTo>
                        <a:pt x="73" y="134"/>
                      </a:lnTo>
                      <a:lnTo>
                        <a:pt x="79" y="134"/>
                      </a:lnTo>
                      <a:lnTo>
                        <a:pt x="83" y="135"/>
                      </a:lnTo>
                      <a:lnTo>
                        <a:pt x="88" y="137"/>
                      </a:lnTo>
                      <a:lnTo>
                        <a:pt x="89" y="139"/>
                      </a:lnTo>
                      <a:lnTo>
                        <a:pt x="92" y="143"/>
                      </a:lnTo>
                      <a:lnTo>
                        <a:pt x="92" y="146"/>
                      </a:lnTo>
                      <a:lnTo>
                        <a:pt x="93" y="151"/>
                      </a:lnTo>
                      <a:lnTo>
                        <a:pt x="92" y="152"/>
                      </a:lnTo>
                      <a:lnTo>
                        <a:pt x="92" y="156"/>
                      </a:lnTo>
                      <a:lnTo>
                        <a:pt x="92" y="158"/>
                      </a:lnTo>
                      <a:lnTo>
                        <a:pt x="92" y="159"/>
                      </a:lnTo>
                      <a:lnTo>
                        <a:pt x="92" y="159"/>
                      </a:lnTo>
                      <a:lnTo>
                        <a:pt x="94" y="158"/>
                      </a:lnTo>
                      <a:lnTo>
                        <a:pt x="97" y="155"/>
                      </a:lnTo>
                      <a:lnTo>
                        <a:pt x="101" y="153"/>
                      </a:lnTo>
                      <a:lnTo>
                        <a:pt x="105" y="150"/>
                      </a:lnTo>
                      <a:lnTo>
                        <a:pt x="111" y="146"/>
                      </a:lnTo>
                      <a:lnTo>
                        <a:pt x="114" y="143"/>
                      </a:lnTo>
                      <a:lnTo>
                        <a:pt x="117" y="140"/>
                      </a:lnTo>
                      <a:lnTo>
                        <a:pt x="120" y="137"/>
                      </a:lnTo>
                      <a:lnTo>
                        <a:pt x="123" y="135"/>
                      </a:lnTo>
                      <a:lnTo>
                        <a:pt x="126" y="132"/>
                      </a:lnTo>
                      <a:lnTo>
                        <a:pt x="129" y="128"/>
                      </a:lnTo>
                      <a:lnTo>
                        <a:pt x="133" y="124"/>
                      </a:lnTo>
                      <a:lnTo>
                        <a:pt x="136" y="120"/>
                      </a:lnTo>
                      <a:lnTo>
                        <a:pt x="139" y="116"/>
                      </a:lnTo>
                      <a:lnTo>
                        <a:pt x="141" y="113"/>
                      </a:lnTo>
                      <a:lnTo>
                        <a:pt x="144" y="109"/>
                      </a:lnTo>
                      <a:lnTo>
                        <a:pt x="147" y="106"/>
                      </a:lnTo>
                      <a:lnTo>
                        <a:pt x="149" y="102"/>
                      </a:lnTo>
                      <a:lnTo>
                        <a:pt x="151" y="99"/>
                      </a:lnTo>
                      <a:lnTo>
                        <a:pt x="153" y="96"/>
                      </a:lnTo>
                      <a:lnTo>
                        <a:pt x="155" y="95"/>
                      </a:lnTo>
                      <a:lnTo>
                        <a:pt x="157" y="92"/>
                      </a:lnTo>
                      <a:lnTo>
                        <a:pt x="158" y="91"/>
                      </a:lnTo>
                      <a:lnTo>
                        <a:pt x="158" y="90"/>
                      </a:lnTo>
                      <a:lnTo>
                        <a:pt x="163" y="90"/>
                      </a:lnTo>
                      <a:lnTo>
                        <a:pt x="166" y="89"/>
                      </a:lnTo>
                      <a:lnTo>
                        <a:pt x="170" y="89"/>
                      </a:lnTo>
                      <a:lnTo>
                        <a:pt x="174" y="89"/>
                      </a:lnTo>
                      <a:lnTo>
                        <a:pt x="178" y="89"/>
                      </a:lnTo>
                      <a:lnTo>
                        <a:pt x="182" y="88"/>
                      </a:lnTo>
                      <a:lnTo>
                        <a:pt x="187" y="87"/>
                      </a:lnTo>
                      <a:lnTo>
                        <a:pt x="193" y="85"/>
                      </a:lnTo>
                      <a:lnTo>
                        <a:pt x="197" y="85"/>
                      </a:lnTo>
                      <a:lnTo>
                        <a:pt x="202" y="83"/>
                      </a:lnTo>
                      <a:lnTo>
                        <a:pt x="208" y="81"/>
                      </a:lnTo>
                      <a:lnTo>
                        <a:pt x="214" y="79"/>
                      </a:lnTo>
                      <a:lnTo>
                        <a:pt x="218" y="78"/>
                      </a:lnTo>
                      <a:lnTo>
                        <a:pt x="223" y="76"/>
                      </a:lnTo>
                      <a:lnTo>
                        <a:pt x="228" y="73"/>
                      </a:lnTo>
                      <a:lnTo>
                        <a:pt x="232" y="70"/>
                      </a:lnTo>
                      <a:lnTo>
                        <a:pt x="237" y="67"/>
                      </a:lnTo>
                      <a:lnTo>
                        <a:pt x="240" y="64"/>
                      </a:lnTo>
                      <a:lnTo>
                        <a:pt x="245" y="61"/>
                      </a:lnTo>
                      <a:lnTo>
                        <a:pt x="248" y="58"/>
                      </a:lnTo>
                      <a:lnTo>
                        <a:pt x="252" y="56"/>
                      </a:lnTo>
                      <a:lnTo>
                        <a:pt x="255" y="54"/>
                      </a:lnTo>
                      <a:lnTo>
                        <a:pt x="257" y="51"/>
                      </a:lnTo>
                      <a:lnTo>
                        <a:pt x="259" y="48"/>
                      </a:lnTo>
                      <a:lnTo>
                        <a:pt x="262" y="47"/>
                      </a:lnTo>
                      <a:lnTo>
                        <a:pt x="264" y="44"/>
                      </a:lnTo>
                      <a:lnTo>
                        <a:pt x="266" y="43"/>
                      </a:lnTo>
                      <a:lnTo>
                        <a:pt x="264" y="42"/>
                      </a:lnTo>
                      <a:lnTo>
                        <a:pt x="263" y="41"/>
                      </a:lnTo>
                      <a:lnTo>
                        <a:pt x="259" y="39"/>
                      </a:lnTo>
                      <a:lnTo>
                        <a:pt x="255" y="37"/>
                      </a:lnTo>
                      <a:lnTo>
                        <a:pt x="251" y="34"/>
                      </a:lnTo>
                      <a:lnTo>
                        <a:pt x="245" y="30"/>
                      </a:lnTo>
                      <a:lnTo>
                        <a:pt x="241" y="28"/>
                      </a:lnTo>
                      <a:lnTo>
                        <a:pt x="238" y="26"/>
                      </a:lnTo>
                      <a:lnTo>
                        <a:pt x="235" y="25"/>
                      </a:lnTo>
                      <a:lnTo>
                        <a:pt x="231" y="23"/>
                      </a:lnTo>
                      <a:lnTo>
                        <a:pt x="227" y="21"/>
                      </a:lnTo>
                      <a:lnTo>
                        <a:pt x="222" y="18"/>
                      </a:lnTo>
                      <a:lnTo>
                        <a:pt x="218" y="17"/>
                      </a:lnTo>
                      <a:lnTo>
                        <a:pt x="214" y="15"/>
                      </a:lnTo>
                      <a:lnTo>
                        <a:pt x="209" y="13"/>
                      </a:lnTo>
                      <a:lnTo>
                        <a:pt x="204" y="11"/>
                      </a:lnTo>
                      <a:lnTo>
                        <a:pt x="199" y="10"/>
                      </a:lnTo>
                      <a:lnTo>
                        <a:pt x="195" y="8"/>
                      </a:lnTo>
                      <a:lnTo>
                        <a:pt x="190" y="7"/>
                      </a:lnTo>
                      <a:lnTo>
                        <a:pt x="184" y="5"/>
                      </a:lnTo>
                      <a:lnTo>
                        <a:pt x="178" y="3"/>
                      </a:lnTo>
                      <a:lnTo>
                        <a:pt x="174" y="3"/>
                      </a:lnTo>
                      <a:lnTo>
                        <a:pt x="168" y="2"/>
                      </a:lnTo>
                      <a:lnTo>
                        <a:pt x="162" y="1"/>
                      </a:lnTo>
                      <a:lnTo>
                        <a:pt x="157" y="1"/>
                      </a:lnTo>
                      <a:lnTo>
                        <a:pt x="151" y="1"/>
                      </a:lnTo>
                      <a:lnTo>
                        <a:pt x="148" y="0"/>
                      </a:lnTo>
                      <a:lnTo>
                        <a:pt x="145" y="0"/>
                      </a:lnTo>
                      <a:lnTo>
                        <a:pt x="142" y="0"/>
                      </a:lnTo>
                      <a:lnTo>
                        <a:pt x="139" y="0"/>
                      </a:lnTo>
                      <a:lnTo>
                        <a:pt x="134" y="0"/>
                      </a:lnTo>
                      <a:lnTo>
                        <a:pt x="128" y="1"/>
                      </a:lnTo>
                      <a:lnTo>
                        <a:pt x="122" y="1"/>
                      </a:lnTo>
                      <a:lnTo>
                        <a:pt x="117" y="2"/>
                      </a:lnTo>
                      <a:lnTo>
                        <a:pt x="111" y="3"/>
                      </a:lnTo>
                      <a:lnTo>
                        <a:pt x="105" y="5"/>
                      </a:lnTo>
                      <a:lnTo>
                        <a:pt x="100" y="6"/>
                      </a:lnTo>
                      <a:lnTo>
                        <a:pt x="94" y="7"/>
                      </a:lnTo>
                      <a:lnTo>
                        <a:pt x="89" y="9"/>
                      </a:lnTo>
                      <a:lnTo>
                        <a:pt x="84" y="11"/>
                      </a:lnTo>
                      <a:lnTo>
                        <a:pt x="80" y="12"/>
                      </a:lnTo>
                      <a:lnTo>
                        <a:pt x="75" y="14"/>
                      </a:lnTo>
                      <a:lnTo>
                        <a:pt x="69" y="16"/>
                      </a:lnTo>
                      <a:lnTo>
                        <a:pt x="65" y="18"/>
                      </a:lnTo>
                      <a:lnTo>
                        <a:pt x="61" y="19"/>
                      </a:lnTo>
                      <a:lnTo>
                        <a:pt x="56" y="21"/>
                      </a:lnTo>
                      <a:lnTo>
                        <a:pt x="52" y="22"/>
                      </a:lnTo>
                      <a:lnTo>
                        <a:pt x="48" y="25"/>
                      </a:lnTo>
                      <a:lnTo>
                        <a:pt x="44" y="26"/>
                      </a:lnTo>
                      <a:lnTo>
                        <a:pt x="42" y="28"/>
                      </a:lnTo>
                      <a:lnTo>
                        <a:pt x="39" y="30"/>
                      </a:lnTo>
                      <a:lnTo>
                        <a:pt x="36" y="31"/>
                      </a:lnTo>
                      <a:lnTo>
                        <a:pt x="31" y="34"/>
                      </a:lnTo>
                      <a:lnTo>
                        <a:pt x="27" y="36"/>
                      </a:lnTo>
                      <a:lnTo>
                        <a:pt x="25" y="37"/>
                      </a:lnTo>
                      <a:lnTo>
                        <a:pt x="24" y="37"/>
                      </a:lnTo>
                      <a:lnTo>
                        <a:pt x="24" y="37"/>
                      </a:lnTo>
                      <a:close/>
                    </a:path>
                  </a:pathLst>
                </a:custGeom>
                <a:solidFill>
                  <a:srgbClr val="1a1a1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6392520" y="1874160"/>
                  <a:ext cx="189360" cy="51480"/>
                </a:xfrm>
                <a:custGeom>
                  <a:avLst/>
                  <a:gdLst/>
                  <a:ahLst/>
                  <a:rect l="l" t="t" r="r" b="b"/>
                  <a:pathLst>
                    <a:path w="190" h="66">
                      <a:moveTo>
                        <a:pt x="0" y="27"/>
                      </a:moveTo>
                      <a:lnTo>
                        <a:pt x="0" y="27"/>
                      </a:lnTo>
                      <a:lnTo>
                        <a:pt x="2" y="27"/>
                      </a:lnTo>
                      <a:lnTo>
                        <a:pt x="5" y="25"/>
                      </a:lnTo>
                      <a:lnTo>
                        <a:pt x="8" y="24"/>
                      </a:lnTo>
                      <a:lnTo>
                        <a:pt x="12" y="22"/>
                      </a:lnTo>
                      <a:lnTo>
                        <a:pt x="18" y="20"/>
                      </a:lnTo>
                      <a:lnTo>
                        <a:pt x="21" y="18"/>
                      </a:lnTo>
                      <a:lnTo>
                        <a:pt x="24" y="17"/>
                      </a:lnTo>
                      <a:lnTo>
                        <a:pt x="27" y="16"/>
                      </a:lnTo>
                      <a:lnTo>
                        <a:pt x="31" y="15"/>
                      </a:lnTo>
                      <a:lnTo>
                        <a:pt x="34" y="13"/>
                      </a:lnTo>
                      <a:lnTo>
                        <a:pt x="38" y="12"/>
                      </a:lnTo>
                      <a:lnTo>
                        <a:pt x="42" y="11"/>
                      </a:lnTo>
                      <a:lnTo>
                        <a:pt x="44" y="10"/>
                      </a:lnTo>
                      <a:lnTo>
                        <a:pt x="48" y="8"/>
                      </a:lnTo>
                      <a:lnTo>
                        <a:pt x="52" y="8"/>
                      </a:lnTo>
                      <a:lnTo>
                        <a:pt x="56" y="7"/>
                      </a:lnTo>
                      <a:lnTo>
                        <a:pt x="61" y="6"/>
                      </a:lnTo>
                      <a:lnTo>
                        <a:pt x="64" y="5"/>
                      </a:lnTo>
                      <a:lnTo>
                        <a:pt x="68" y="4"/>
                      </a:lnTo>
                      <a:lnTo>
                        <a:pt x="72" y="3"/>
                      </a:lnTo>
                      <a:lnTo>
                        <a:pt x="76" y="3"/>
                      </a:lnTo>
                      <a:lnTo>
                        <a:pt x="80" y="2"/>
                      </a:lnTo>
                      <a:lnTo>
                        <a:pt x="84" y="1"/>
                      </a:lnTo>
                      <a:lnTo>
                        <a:pt x="88" y="1"/>
                      </a:lnTo>
                      <a:lnTo>
                        <a:pt x="92" y="1"/>
                      </a:lnTo>
                      <a:lnTo>
                        <a:pt x="96" y="1"/>
                      </a:lnTo>
                      <a:lnTo>
                        <a:pt x="100" y="0"/>
                      </a:lnTo>
                      <a:lnTo>
                        <a:pt x="102" y="0"/>
                      </a:lnTo>
                      <a:lnTo>
                        <a:pt x="106" y="1"/>
                      </a:lnTo>
                      <a:lnTo>
                        <a:pt x="109" y="1"/>
                      </a:lnTo>
                      <a:lnTo>
                        <a:pt x="113" y="1"/>
                      </a:lnTo>
                      <a:lnTo>
                        <a:pt x="116" y="1"/>
                      </a:lnTo>
                      <a:lnTo>
                        <a:pt x="120" y="2"/>
                      </a:lnTo>
                      <a:lnTo>
                        <a:pt x="124" y="2"/>
                      </a:lnTo>
                      <a:lnTo>
                        <a:pt x="131" y="4"/>
                      </a:lnTo>
                      <a:lnTo>
                        <a:pt x="136" y="5"/>
                      </a:lnTo>
                      <a:lnTo>
                        <a:pt x="141" y="7"/>
                      </a:lnTo>
                      <a:lnTo>
                        <a:pt x="144" y="8"/>
                      </a:lnTo>
                      <a:lnTo>
                        <a:pt x="148" y="9"/>
                      </a:lnTo>
                      <a:lnTo>
                        <a:pt x="151" y="11"/>
                      </a:lnTo>
                      <a:lnTo>
                        <a:pt x="154" y="12"/>
                      </a:lnTo>
                      <a:lnTo>
                        <a:pt x="158" y="14"/>
                      </a:lnTo>
                      <a:lnTo>
                        <a:pt x="160" y="15"/>
                      </a:lnTo>
                      <a:lnTo>
                        <a:pt x="158" y="16"/>
                      </a:lnTo>
                      <a:lnTo>
                        <a:pt x="153" y="20"/>
                      </a:lnTo>
                      <a:lnTo>
                        <a:pt x="149" y="22"/>
                      </a:lnTo>
                      <a:lnTo>
                        <a:pt x="145" y="25"/>
                      </a:lnTo>
                      <a:lnTo>
                        <a:pt x="142" y="26"/>
                      </a:lnTo>
                      <a:lnTo>
                        <a:pt x="141" y="27"/>
                      </a:lnTo>
                      <a:lnTo>
                        <a:pt x="138" y="28"/>
                      </a:lnTo>
                      <a:lnTo>
                        <a:pt x="135" y="29"/>
                      </a:lnTo>
                      <a:lnTo>
                        <a:pt x="131" y="30"/>
                      </a:lnTo>
                      <a:lnTo>
                        <a:pt x="127" y="31"/>
                      </a:lnTo>
                      <a:lnTo>
                        <a:pt x="123" y="32"/>
                      </a:lnTo>
                      <a:lnTo>
                        <a:pt x="121" y="33"/>
                      </a:lnTo>
                      <a:lnTo>
                        <a:pt x="116" y="34"/>
                      </a:lnTo>
                      <a:lnTo>
                        <a:pt x="113" y="35"/>
                      </a:lnTo>
                      <a:lnTo>
                        <a:pt x="109" y="36"/>
                      </a:lnTo>
                      <a:lnTo>
                        <a:pt x="105" y="37"/>
                      </a:lnTo>
                      <a:lnTo>
                        <a:pt x="102" y="37"/>
                      </a:lnTo>
                      <a:lnTo>
                        <a:pt x="100" y="37"/>
                      </a:lnTo>
                      <a:lnTo>
                        <a:pt x="96" y="38"/>
                      </a:lnTo>
                      <a:lnTo>
                        <a:pt x="95" y="38"/>
                      </a:lnTo>
                      <a:lnTo>
                        <a:pt x="91" y="39"/>
                      </a:lnTo>
                      <a:lnTo>
                        <a:pt x="90" y="40"/>
                      </a:lnTo>
                      <a:lnTo>
                        <a:pt x="91" y="40"/>
                      </a:lnTo>
                      <a:lnTo>
                        <a:pt x="95" y="40"/>
                      </a:lnTo>
                      <a:lnTo>
                        <a:pt x="97" y="41"/>
                      </a:lnTo>
                      <a:lnTo>
                        <a:pt x="100" y="41"/>
                      </a:lnTo>
                      <a:lnTo>
                        <a:pt x="103" y="42"/>
                      </a:lnTo>
                      <a:lnTo>
                        <a:pt x="107" y="43"/>
                      </a:lnTo>
                      <a:lnTo>
                        <a:pt x="110" y="43"/>
                      </a:lnTo>
                      <a:lnTo>
                        <a:pt x="115" y="44"/>
                      </a:lnTo>
                      <a:lnTo>
                        <a:pt x="120" y="44"/>
                      </a:lnTo>
                      <a:lnTo>
                        <a:pt x="124" y="45"/>
                      </a:lnTo>
                      <a:lnTo>
                        <a:pt x="128" y="45"/>
                      </a:lnTo>
                      <a:lnTo>
                        <a:pt x="133" y="46"/>
                      </a:lnTo>
                      <a:lnTo>
                        <a:pt x="138" y="46"/>
                      </a:lnTo>
                      <a:lnTo>
                        <a:pt x="142" y="46"/>
                      </a:lnTo>
                      <a:lnTo>
                        <a:pt x="147" y="46"/>
                      </a:lnTo>
                      <a:lnTo>
                        <a:pt x="152" y="46"/>
                      </a:lnTo>
                      <a:lnTo>
                        <a:pt x="156" y="46"/>
                      </a:lnTo>
                      <a:lnTo>
                        <a:pt x="160" y="46"/>
                      </a:lnTo>
                      <a:lnTo>
                        <a:pt x="164" y="45"/>
                      </a:lnTo>
                      <a:lnTo>
                        <a:pt x="168" y="45"/>
                      </a:lnTo>
                      <a:lnTo>
                        <a:pt x="172" y="44"/>
                      </a:lnTo>
                      <a:lnTo>
                        <a:pt x="176" y="44"/>
                      </a:lnTo>
                      <a:lnTo>
                        <a:pt x="179" y="44"/>
                      </a:lnTo>
                      <a:lnTo>
                        <a:pt x="181" y="43"/>
                      </a:lnTo>
                      <a:lnTo>
                        <a:pt x="183" y="42"/>
                      </a:lnTo>
                      <a:lnTo>
                        <a:pt x="186" y="42"/>
                      </a:lnTo>
                      <a:lnTo>
                        <a:pt x="189" y="42"/>
                      </a:lnTo>
                      <a:lnTo>
                        <a:pt x="190" y="42"/>
                      </a:lnTo>
                      <a:lnTo>
                        <a:pt x="189" y="42"/>
                      </a:lnTo>
                      <a:lnTo>
                        <a:pt x="188" y="42"/>
                      </a:lnTo>
                      <a:lnTo>
                        <a:pt x="185" y="43"/>
                      </a:lnTo>
                      <a:lnTo>
                        <a:pt x="182" y="45"/>
                      </a:lnTo>
                      <a:lnTo>
                        <a:pt x="179" y="46"/>
                      </a:lnTo>
                      <a:lnTo>
                        <a:pt x="174" y="46"/>
                      </a:lnTo>
                      <a:lnTo>
                        <a:pt x="169" y="48"/>
                      </a:lnTo>
                      <a:lnTo>
                        <a:pt x="164" y="50"/>
                      </a:lnTo>
                      <a:lnTo>
                        <a:pt x="161" y="51"/>
                      </a:lnTo>
                      <a:lnTo>
                        <a:pt x="158" y="52"/>
                      </a:lnTo>
                      <a:lnTo>
                        <a:pt x="155" y="53"/>
                      </a:lnTo>
                      <a:lnTo>
                        <a:pt x="152" y="54"/>
                      </a:lnTo>
                      <a:lnTo>
                        <a:pt x="149" y="54"/>
                      </a:lnTo>
                      <a:lnTo>
                        <a:pt x="145" y="56"/>
                      </a:lnTo>
                      <a:lnTo>
                        <a:pt x="142" y="57"/>
                      </a:lnTo>
                      <a:lnTo>
                        <a:pt x="140" y="58"/>
                      </a:lnTo>
                      <a:lnTo>
                        <a:pt x="136" y="59"/>
                      </a:lnTo>
                      <a:lnTo>
                        <a:pt x="132" y="60"/>
                      </a:lnTo>
                      <a:lnTo>
                        <a:pt x="128" y="60"/>
                      </a:lnTo>
                      <a:lnTo>
                        <a:pt x="124" y="61"/>
                      </a:lnTo>
                      <a:lnTo>
                        <a:pt x="121" y="62"/>
                      </a:lnTo>
                      <a:lnTo>
                        <a:pt x="118" y="63"/>
                      </a:lnTo>
                      <a:lnTo>
                        <a:pt x="114" y="64"/>
                      </a:lnTo>
                      <a:lnTo>
                        <a:pt x="110" y="65"/>
                      </a:lnTo>
                      <a:lnTo>
                        <a:pt x="107" y="65"/>
                      </a:lnTo>
                      <a:lnTo>
                        <a:pt x="103" y="65"/>
                      </a:lnTo>
                      <a:lnTo>
                        <a:pt x="100" y="65"/>
                      </a:lnTo>
                      <a:lnTo>
                        <a:pt x="96" y="65"/>
                      </a:lnTo>
                      <a:lnTo>
                        <a:pt x="92" y="65"/>
                      </a:lnTo>
                      <a:lnTo>
                        <a:pt x="88" y="65"/>
                      </a:lnTo>
                      <a:lnTo>
                        <a:pt x="85" y="65"/>
                      </a:lnTo>
                      <a:lnTo>
                        <a:pt x="82" y="66"/>
                      </a:lnTo>
                      <a:lnTo>
                        <a:pt x="79" y="65"/>
                      </a:lnTo>
                      <a:lnTo>
                        <a:pt x="76" y="65"/>
                      </a:lnTo>
                      <a:lnTo>
                        <a:pt x="72" y="65"/>
                      </a:lnTo>
                      <a:lnTo>
                        <a:pt x="70" y="65"/>
                      </a:lnTo>
                      <a:lnTo>
                        <a:pt x="66" y="65"/>
                      </a:lnTo>
                      <a:lnTo>
                        <a:pt x="64" y="65"/>
                      </a:lnTo>
                      <a:lnTo>
                        <a:pt x="61" y="65"/>
                      </a:lnTo>
                      <a:lnTo>
                        <a:pt x="59" y="65"/>
                      </a:lnTo>
                      <a:lnTo>
                        <a:pt x="53" y="64"/>
                      </a:lnTo>
                      <a:lnTo>
                        <a:pt x="49" y="64"/>
                      </a:lnTo>
                      <a:lnTo>
                        <a:pt x="44" y="63"/>
                      </a:lnTo>
                      <a:lnTo>
                        <a:pt x="43" y="63"/>
                      </a:lnTo>
                      <a:lnTo>
                        <a:pt x="38" y="62"/>
                      </a:lnTo>
                      <a:lnTo>
                        <a:pt x="36" y="62"/>
                      </a:lnTo>
                      <a:lnTo>
                        <a:pt x="64" y="52"/>
                      </a:lnTo>
                      <a:lnTo>
                        <a:pt x="0" y="27"/>
                      </a:lnTo>
                      <a:lnTo>
                        <a:pt x="0" y="27"/>
                      </a:lnTo>
                      <a:close/>
                    </a:path>
                  </a:pathLst>
                </a:custGeom>
                <a:solidFill>
                  <a:srgbClr val="4d4d4d"/>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153" name=""/>
                <p:cNvSpPr/>
                <p:nvPr/>
              </p:nvSpPr>
              <p:spPr>
                <a:xfrm>
                  <a:off x="6433560" y="2160360"/>
                  <a:ext cx="48600" cy="64080"/>
                </a:xfrm>
                <a:custGeom>
                  <a:avLst/>
                  <a:gdLst/>
                  <a:ahLst/>
                  <a:rect l="l" t="t" r="r" b="b"/>
                  <a:pathLst>
                    <a:path w="49" h="82">
                      <a:moveTo>
                        <a:pt x="25" y="0"/>
                      </a:moveTo>
                      <a:lnTo>
                        <a:pt x="49" y="25"/>
                      </a:lnTo>
                      <a:lnTo>
                        <a:pt x="25" y="82"/>
                      </a:lnTo>
                      <a:lnTo>
                        <a:pt x="0" y="39"/>
                      </a:lnTo>
                      <a:lnTo>
                        <a:pt x="25" y="0"/>
                      </a:lnTo>
                      <a:lnTo>
                        <a:pt x="25" y="0"/>
                      </a:lnTo>
                      <a:close/>
                    </a:path>
                  </a:pathLst>
                </a:custGeom>
                <a:solidFill>
                  <a:srgbClr val="1a1a1a"/>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154" name=""/>
                <p:cNvSpPr/>
                <p:nvPr/>
              </p:nvSpPr>
              <p:spPr>
                <a:xfrm>
                  <a:off x="6402600" y="2198160"/>
                  <a:ext cx="91800" cy="269640"/>
                </a:xfrm>
                <a:custGeom>
                  <a:avLst/>
                  <a:gdLst/>
                  <a:ahLst/>
                  <a:rect l="l" t="t" r="r" b="b"/>
                  <a:pathLst>
                    <a:path w="92" h="345">
                      <a:moveTo>
                        <a:pt x="56" y="0"/>
                      </a:moveTo>
                      <a:lnTo>
                        <a:pt x="56" y="0"/>
                      </a:lnTo>
                      <a:lnTo>
                        <a:pt x="56" y="2"/>
                      </a:lnTo>
                      <a:lnTo>
                        <a:pt x="56" y="4"/>
                      </a:lnTo>
                      <a:lnTo>
                        <a:pt x="57" y="6"/>
                      </a:lnTo>
                      <a:lnTo>
                        <a:pt x="58" y="9"/>
                      </a:lnTo>
                      <a:lnTo>
                        <a:pt x="59" y="13"/>
                      </a:lnTo>
                      <a:lnTo>
                        <a:pt x="60" y="15"/>
                      </a:lnTo>
                      <a:lnTo>
                        <a:pt x="61" y="18"/>
                      </a:lnTo>
                      <a:lnTo>
                        <a:pt x="61" y="22"/>
                      </a:lnTo>
                      <a:lnTo>
                        <a:pt x="63" y="26"/>
                      </a:lnTo>
                      <a:lnTo>
                        <a:pt x="64" y="31"/>
                      </a:lnTo>
                      <a:lnTo>
                        <a:pt x="65" y="35"/>
                      </a:lnTo>
                      <a:lnTo>
                        <a:pt x="66" y="40"/>
                      </a:lnTo>
                      <a:lnTo>
                        <a:pt x="68" y="46"/>
                      </a:lnTo>
                      <a:lnTo>
                        <a:pt x="69" y="51"/>
                      </a:lnTo>
                      <a:lnTo>
                        <a:pt x="70" y="55"/>
                      </a:lnTo>
                      <a:lnTo>
                        <a:pt x="71" y="61"/>
                      </a:lnTo>
                      <a:lnTo>
                        <a:pt x="73" y="67"/>
                      </a:lnTo>
                      <a:lnTo>
                        <a:pt x="73" y="70"/>
                      </a:lnTo>
                      <a:lnTo>
                        <a:pt x="73" y="73"/>
                      </a:lnTo>
                      <a:lnTo>
                        <a:pt x="73" y="76"/>
                      </a:lnTo>
                      <a:lnTo>
                        <a:pt x="74" y="79"/>
                      </a:lnTo>
                      <a:lnTo>
                        <a:pt x="75" y="83"/>
                      </a:lnTo>
                      <a:lnTo>
                        <a:pt x="75" y="86"/>
                      </a:lnTo>
                      <a:lnTo>
                        <a:pt x="76" y="90"/>
                      </a:lnTo>
                      <a:lnTo>
                        <a:pt x="77" y="92"/>
                      </a:lnTo>
                      <a:lnTo>
                        <a:pt x="77" y="96"/>
                      </a:lnTo>
                      <a:lnTo>
                        <a:pt x="78" y="99"/>
                      </a:lnTo>
                      <a:lnTo>
                        <a:pt x="78" y="102"/>
                      </a:lnTo>
                      <a:lnTo>
                        <a:pt x="79" y="106"/>
                      </a:lnTo>
                      <a:lnTo>
                        <a:pt x="79" y="109"/>
                      </a:lnTo>
                      <a:lnTo>
                        <a:pt x="81" y="112"/>
                      </a:lnTo>
                      <a:lnTo>
                        <a:pt x="81" y="115"/>
                      </a:lnTo>
                      <a:lnTo>
                        <a:pt x="82" y="119"/>
                      </a:lnTo>
                      <a:lnTo>
                        <a:pt x="82" y="123"/>
                      </a:lnTo>
                      <a:lnTo>
                        <a:pt x="83" y="127"/>
                      </a:lnTo>
                      <a:lnTo>
                        <a:pt x="83" y="130"/>
                      </a:lnTo>
                      <a:lnTo>
                        <a:pt x="84" y="133"/>
                      </a:lnTo>
                      <a:lnTo>
                        <a:pt x="84" y="137"/>
                      </a:lnTo>
                      <a:lnTo>
                        <a:pt x="85" y="141"/>
                      </a:lnTo>
                      <a:lnTo>
                        <a:pt x="85" y="145"/>
                      </a:lnTo>
                      <a:lnTo>
                        <a:pt x="86" y="148"/>
                      </a:lnTo>
                      <a:lnTo>
                        <a:pt x="86" y="151"/>
                      </a:lnTo>
                      <a:lnTo>
                        <a:pt x="87" y="154"/>
                      </a:lnTo>
                      <a:lnTo>
                        <a:pt x="87" y="158"/>
                      </a:lnTo>
                      <a:lnTo>
                        <a:pt x="87" y="161"/>
                      </a:lnTo>
                      <a:lnTo>
                        <a:pt x="87" y="164"/>
                      </a:lnTo>
                      <a:lnTo>
                        <a:pt x="88" y="167"/>
                      </a:lnTo>
                      <a:lnTo>
                        <a:pt x="88" y="169"/>
                      </a:lnTo>
                      <a:lnTo>
                        <a:pt x="89" y="173"/>
                      </a:lnTo>
                      <a:lnTo>
                        <a:pt x="89" y="178"/>
                      </a:lnTo>
                      <a:lnTo>
                        <a:pt x="90" y="184"/>
                      </a:lnTo>
                      <a:lnTo>
                        <a:pt x="90" y="188"/>
                      </a:lnTo>
                      <a:lnTo>
                        <a:pt x="91" y="193"/>
                      </a:lnTo>
                      <a:lnTo>
                        <a:pt x="91" y="197"/>
                      </a:lnTo>
                      <a:lnTo>
                        <a:pt x="91" y="202"/>
                      </a:lnTo>
                      <a:lnTo>
                        <a:pt x="91" y="205"/>
                      </a:lnTo>
                      <a:lnTo>
                        <a:pt x="92" y="208"/>
                      </a:lnTo>
                      <a:lnTo>
                        <a:pt x="92" y="211"/>
                      </a:lnTo>
                      <a:lnTo>
                        <a:pt x="92" y="215"/>
                      </a:lnTo>
                      <a:lnTo>
                        <a:pt x="92" y="218"/>
                      </a:lnTo>
                      <a:lnTo>
                        <a:pt x="92" y="220"/>
                      </a:lnTo>
                      <a:lnTo>
                        <a:pt x="92" y="224"/>
                      </a:lnTo>
                      <a:lnTo>
                        <a:pt x="92" y="227"/>
                      </a:lnTo>
                      <a:lnTo>
                        <a:pt x="92" y="230"/>
                      </a:lnTo>
                      <a:lnTo>
                        <a:pt x="92" y="233"/>
                      </a:lnTo>
                      <a:lnTo>
                        <a:pt x="92" y="235"/>
                      </a:lnTo>
                      <a:lnTo>
                        <a:pt x="92" y="236"/>
                      </a:lnTo>
                      <a:lnTo>
                        <a:pt x="0" y="345"/>
                      </a:lnTo>
                      <a:lnTo>
                        <a:pt x="56" y="0"/>
                      </a:lnTo>
                      <a:lnTo>
                        <a:pt x="56" y="0"/>
                      </a:lnTo>
                      <a:close/>
                    </a:path>
                  </a:pathLst>
                </a:custGeom>
                <a:solidFill>
                  <a:srgbClr val="1a1a1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7145280" y="1934640"/>
                  <a:ext cx="256320" cy="277560"/>
                </a:xfrm>
                <a:custGeom>
                  <a:avLst/>
                  <a:gdLst/>
                  <a:ahLst/>
                  <a:rect l="l" t="t" r="r" b="b"/>
                  <a:pathLst>
                    <a:path w="257" h="355">
                      <a:moveTo>
                        <a:pt x="1" y="0"/>
                      </a:moveTo>
                      <a:lnTo>
                        <a:pt x="0" y="355"/>
                      </a:lnTo>
                      <a:lnTo>
                        <a:pt x="257" y="355"/>
                      </a:lnTo>
                      <a:lnTo>
                        <a:pt x="257" y="1"/>
                      </a:lnTo>
                      <a:lnTo>
                        <a:pt x="1" y="0"/>
                      </a:lnTo>
                      <a:lnTo>
                        <a:pt x="1"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7418880" y="2315520"/>
                  <a:ext cx="192600" cy="196920"/>
                </a:xfrm>
                <a:custGeom>
                  <a:avLst/>
                  <a:gdLst/>
                  <a:ahLst/>
                  <a:rect l="l" t="t" r="r" b="b"/>
                  <a:pathLst>
                    <a:path w="193" h="252">
                      <a:moveTo>
                        <a:pt x="0" y="166"/>
                      </a:moveTo>
                      <a:lnTo>
                        <a:pt x="40" y="181"/>
                      </a:lnTo>
                      <a:lnTo>
                        <a:pt x="42" y="252"/>
                      </a:lnTo>
                      <a:lnTo>
                        <a:pt x="193" y="194"/>
                      </a:lnTo>
                      <a:lnTo>
                        <a:pt x="164" y="68"/>
                      </a:lnTo>
                      <a:lnTo>
                        <a:pt x="29" y="0"/>
                      </a:lnTo>
                      <a:lnTo>
                        <a:pt x="0" y="166"/>
                      </a:lnTo>
                      <a:lnTo>
                        <a:pt x="0" y="166"/>
                      </a:lnTo>
                      <a:close/>
                    </a:path>
                  </a:pathLst>
                </a:custGeom>
                <a:solidFill>
                  <a:srgbClr val="8529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7395840" y="2220840"/>
                  <a:ext cx="193320" cy="314280"/>
                </a:xfrm>
                <a:custGeom>
                  <a:avLst/>
                  <a:gdLst/>
                  <a:ahLst/>
                  <a:rect l="l" t="t" r="r" b="b"/>
                  <a:pathLst>
                    <a:path w="194" h="402">
                      <a:moveTo>
                        <a:pt x="29" y="402"/>
                      </a:moveTo>
                      <a:lnTo>
                        <a:pt x="28" y="402"/>
                      </a:lnTo>
                      <a:lnTo>
                        <a:pt x="27" y="400"/>
                      </a:lnTo>
                      <a:lnTo>
                        <a:pt x="26" y="398"/>
                      </a:lnTo>
                      <a:lnTo>
                        <a:pt x="26" y="395"/>
                      </a:lnTo>
                      <a:lnTo>
                        <a:pt x="26" y="391"/>
                      </a:lnTo>
                      <a:lnTo>
                        <a:pt x="26" y="389"/>
                      </a:lnTo>
                      <a:lnTo>
                        <a:pt x="26" y="385"/>
                      </a:lnTo>
                      <a:lnTo>
                        <a:pt x="27" y="381"/>
                      </a:lnTo>
                      <a:lnTo>
                        <a:pt x="27" y="378"/>
                      </a:lnTo>
                      <a:lnTo>
                        <a:pt x="27" y="375"/>
                      </a:lnTo>
                      <a:lnTo>
                        <a:pt x="28" y="372"/>
                      </a:lnTo>
                      <a:lnTo>
                        <a:pt x="29" y="370"/>
                      </a:lnTo>
                      <a:lnTo>
                        <a:pt x="29" y="367"/>
                      </a:lnTo>
                      <a:lnTo>
                        <a:pt x="30" y="363"/>
                      </a:lnTo>
                      <a:lnTo>
                        <a:pt x="31" y="359"/>
                      </a:lnTo>
                      <a:lnTo>
                        <a:pt x="33" y="356"/>
                      </a:lnTo>
                      <a:lnTo>
                        <a:pt x="33" y="351"/>
                      </a:lnTo>
                      <a:lnTo>
                        <a:pt x="34" y="347"/>
                      </a:lnTo>
                      <a:lnTo>
                        <a:pt x="35" y="342"/>
                      </a:lnTo>
                      <a:lnTo>
                        <a:pt x="37" y="337"/>
                      </a:lnTo>
                      <a:lnTo>
                        <a:pt x="38" y="332"/>
                      </a:lnTo>
                      <a:lnTo>
                        <a:pt x="39" y="327"/>
                      </a:lnTo>
                      <a:lnTo>
                        <a:pt x="41" y="322"/>
                      </a:lnTo>
                      <a:lnTo>
                        <a:pt x="43" y="317"/>
                      </a:lnTo>
                      <a:lnTo>
                        <a:pt x="44" y="312"/>
                      </a:lnTo>
                      <a:lnTo>
                        <a:pt x="45" y="307"/>
                      </a:lnTo>
                      <a:lnTo>
                        <a:pt x="46" y="301"/>
                      </a:lnTo>
                      <a:lnTo>
                        <a:pt x="48" y="295"/>
                      </a:lnTo>
                      <a:lnTo>
                        <a:pt x="50" y="291"/>
                      </a:lnTo>
                      <a:lnTo>
                        <a:pt x="51" y="286"/>
                      </a:lnTo>
                      <a:lnTo>
                        <a:pt x="53" y="281"/>
                      </a:lnTo>
                      <a:lnTo>
                        <a:pt x="55" y="275"/>
                      </a:lnTo>
                      <a:lnTo>
                        <a:pt x="56" y="271"/>
                      </a:lnTo>
                      <a:lnTo>
                        <a:pt x="57" y="266"/>
                      </a:lnTo>
                      <a:lnTo>
                        <a:pt x="58" y="261"/>
                      </a:lnTo>
                      <a:lnTo>
                        <a:pt x="60" y="257"/>
                      </a:lnTo>
                      <a:lnTo>
                        <a:pt x="61" y="253"/>
                      </a:lnTo>
                      <a:lnTo>
                        <a:pt x="62" y="249"/>
                      </a:lnTo>
                      <a:lnTo>
                        <a:pt x="63" y="245"/>
                      </a:lnTo>
                      <a:lnTo>
                        <a:pt x="64" y="242"/>
                      </a:lnTo>
                      <a:lnTo>
                        <a:pt x="65" y="239"/>
                      </a:lnTo>
                      <a:lnTo>
                        <a:pt x="66" y="236"/>
                      </a:lnTo>
                      <a:lnTo>
                        <a:pt x="66" y="234"/>
                      </a:lnTo>
                      <a:lnTo>
                        <a:pt x="67" y="232"/>
                      </a:lnTo>
                      <a:lnTo>
                        <a:pt x="69" y="230"/>
                      </a:lnTo>
                      <a:lnTo>
                        <a:pt x="25" y="287"/>
                      </a:lnTo>
                      <a:lnTo>
                        <a:pt x="25" y="286"/>
                      </a:lnTo>
                      <a:lnTo>
                        <a:pt x="24" y="284"/>
                      </a:lnTo>
                      <a:lnTo>
                        <a:pt x="22" y="282"/>
                      </a:lnTo>
                      <a:lnTo>
                        <a:pt x="21" y="279"/>
                      </a:lnTo>
                      <a:lnTo>
                        <a:pt x="19" y="275"/>
                      </a:lnTo>
                      <a:lnTo>
                        <a:pt x="17" y="272"/>
                      </a:lnTo>
                      <a:lnTo>
                        <a:pt x="15" y="266"/>
                      </a:lnTo>
                      <a:lnTo>
                        <a:pt x="13" y="261"/>
                      </a:lnTo>
                      <a:lnTo>
                        <a:pt x="11" y="258"/>
                      </a:lnTo>
                      <a:lnTo>
                        <a:pt x="10" y="255"/>
                      </a:lnTo>
                      <a:lnTo>
                        <a:pt x="9" y="252"/>
                      </a:lnTo>
                      <a:lnTo>
                        <a:pt x="8" y="249"/>
                      </a:lnTo>
                      <a:lnTo>
                        <a:pt x="7" y="245"/>
                      </a:lnTo>
                      <a:lnTo>
                        <a:pt x="6" y="241"/>
                      </a:lnTo>
                      <a:lnTo>
                        <a:pt x="5" y="237"/>
                      </a:lnTo>
                      <a:lnTo>
                        <a:pt x="5" y="234"/>
                      </a:lnTo>
                      <a:lnTo>
                        <a:pt x="4" y="230"/>
                      </a:lnTo>
                      <a:lnTo>
                        <a:pt x="3" y="226"/>
                      </a:lnTo>
                      <a:lnTo>
                        <a:pt x="2" y="221"/>
                      </a:lnTo>
                      <a:lnTo>
                        <a:pt x="2" y="217"/>
                      </a:lnTo>
                      <a:lnTo>
                        <a:pt x="1" y="213"/>
                      </a:lnTo>
                      <a:lnTo>
                        <a:pt x="1" y="209"/>
                      </a:lnTo>
                      <a:lnTo>
                        <a:pt x="1" y="204"/>
                      </a:lnTo>
                      <a:lnTo>
                        <a:pt x="1" y="200"/>
                      </a:lnTo>
                      <a:lnTo>
                        <a:pt x="0" y="196"/>
                      </a:lnTo>
                      <a:lnTo>
                        <a:pt x="0" y="191"/>
                      </a:lnTo>
                      <a:lnTo>
                        <a:pt x="0" y="186"/>
                      </a:lnTo>
                      <a:lnTo>
                        <a:pt x="1" y="182"/>
                      </a:lnTo>
                      <a:lnTo>
                        <a:pt x="1" y="178"/>
                      </a:lnTo>
                      <a:lnTo>
                        <a:pt x="1" y="173"/>
                      </a:lnTo>
                      <a:lnTo>
                        <a:pt x="1" y="169"/>
                      </a:lnTo>
                      <a:lnTo>
                        <a:pt x="2" y="164"/>
                      </a:lnTo>
                      <a:lnTo>
                        <a:pt x="2" y="159"/>
                      </a:lnTo>
                      <a:lnTo>
                        <a:pt x="3" y="155"/>
                      </a:lnTo>
                      <a:lnTo>
                        <a:pt x="4" y="151"/>
                      </a:lnTo>
                      <a:lnTo>
                        <a:pt x="5" y="147"/>
                      </a:lnTo>
                      <a:lnTo>
                        <a:pt x="5" y="142"/>
                      </a:lnTo>
                      <a:lnTo>
                        <a:pt x="6" y="139"/>
                      </a:lnTo>
                      <a:lnTo>
                        <a:pt x="6" y="135"/>
                      </a:lnTo>
                      <a:lnTo>
                        <a:pt x="8" y="131"/>
                      </a:lnTo>
                      <a:lnTo>
                        <a:pt x="8" y="127"/>
                      </a:lnTo>
                      <a:lnTo>
                        <a:pt x="9" y="124"/>
                      </a:lnTo>
                      <a:lnTo>
                        <a:pt x="10" y="121"/>
                      </a:lnTo>
                      <a:lnTo>
                        <a:pt x="11" y="118"/>
                      </a:lnTo>
                      <a:lnTo>
                        <a:pt x="13" y="112"/>
                      </a:lnTo>
                      <a:lnTo>
                        <a:pt x="14" y="107"/>
                      </a:lnTo>
                      <a:lnTo>
                        <a:pt x="15" y="102"/>
                      </a:lnTo>
                      <a:lnTo>
                        <a:pt x="17" y="101"/>
                      </a:lnTo>
                      <a:lnTo>
                        <a:pt x="17" y="98"/>
                      </a:lnTo>
                      <a:lnTo>
                        <a:pt x="18" y="98"/>
                      </a:lnTo>
                      <a:lnTo>
                        <a:pt x="7" y="66"/>
                      </a:lnTo>
                      <a:lnTo>
                        <a:pt x="55" y="0"/>
                      </a:lnTo>
                      <a:lnTo>
                        <a:pt x="194" y="122"/>
                      </a:lnTo>
                      <a:lnTo>
                        <a:pt x="145" y="244"/>
                      </a:lnTo>
                      <a:lnTo>
                        <a:pt x="87" y="336"/>
                      </a:lnTo>
                      <a:lnTo>
                        <a:pt x="29" y="402"/>
                      </a:lnTo>
                      <a:lnTo>
                        <a:pt x="29" y="402"/>
                      </a:lnTo>
                      <a:close/>
                    </a:path>
                  </a:pathLst>
                </a:custGeom>
                <a:solidFill>
                  <a:srgbClr val="a84a3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7478640" y="2293560"/>
                  <a:ext cx="34560" cy="59400"/>
                </a:xfrm>
                <a:custGeom>
                  <a:avLst/>
                  <a:gdLst/>
                  <a:ahLst/>
                  <a:rect l="l" t="t" r="r" b="b"/>
                  <a:pathLst>
                    <a:path w="35" h="76">
                      <a:moveTo>
                        <a:pt x="4" y="9"/>
                      </a:moveTo>
                      <a:lnTo>
                        <a:pt x="5" y="8"/>
                      </a:lnTo>
                      <a:lnTo>
                        <a:pt x="10" y="4"/>
                      </a:lnTo>
                      <a:lnTo>
                        <a:pt x="12" y="2"/>
                      </a:lnTo>
                      <a:lnTo>
                        <a:pt x="16" y="1"/>
                      </a:lnTo>
                      <a:lnTo>
                        <a:pt x="19" y="0"/>
                      </a:lnTo>
                      <a:lnTo>
                        <a:pt x="21" y="1"/>
                      </a:lnTo>
                      <a:lnTo>
                        <a:pt x="24" y="2"/>
                      </a:lnTo>
                      <a:lnTo>
                        <a:pt x="27" y="5"/>
                      </a:lnTo>
                      <a:lnTo>
                        <a:pt x="29" y="9"/>
                      </a:lnTo>
                      <a:lnTo>
                        <a:pt x="32" y="13"/>
                      </a:lnTo>
                      <a:lnTo>
                        <a:pt x="33" y="15"/>
                      </a:lnTo>
                      <a:lnTo>
                        <a:pt x="33" y="19"/>
                      </a:lnTo>
                      <a:lnTo>
                        <a:pt x="34" y="22"/>
                      </a:lnTo>
                      <a:lnTo>
                        <a:pt x="35" y="25"/>
                      </a:lnTo>
                      <a:lnTo>
                        <a:pt x="34" y="28"/>
                      </a:lnTo>
                      <a:lnTo>
                        <a:pt x="34" y="31"/>
                      </a:lnTo>
                      <a:lnTo>
                        <a:pt x="34" y="34"/>
                      </a:lnTo>
                      <a:lnTo>
                        <a:pt x="34" y="38"/>
                      </a:lnTo>
                      <a:lnTo>
                        <a:pt x="33" y="42"/>
                      </a:lnTo>
                      <a:lnTo>
                        <a:pt x="32" y="46"/>
                      </a:lnTo>
                      <a:lnTo>
                        <a:pt x="30" y="48"/>
                      </a:lnTo>
                      <a:lnTo>
                        <a:pt x="29" y="52"/>
                      </a:lnTo>
                      <a:lnTo>
                        <a:pt x="28" y="55"/>
                      </a:lnTo>
                      <a:lnTo>
                        <a:pt x="26" y="58"/>
                      </a:lnTo>
                      <a:lnTo>
                        <a:pt x="24" y="62"/>
                      </a:lnTo>
                      <a:lnTo>
                        <a:pt x="23" y="65"/>
                      </a:lnTo>
                      <a:lnTo>
                        <a:pt x="19" y="69"/>
                      </a:lnTo>
                      <a:lnTo>
                        <a:pt x="17" y="73"/>
                      </a:lnTo>
                      <a:lnTo>
                        <a:pt x="15" y="76"/>
                      </a:lnTo>
                      <a:lnTo>
                        <a:pt x="19" y="33"/>
                      </a:lnTo>
                      <a:lnTo>
                        <a:pt x="0" y="20"/>
                      </a:lnTo>
                      <a:lnTo>
                        <a:pt x="4" y="9"/>
                      </a:lnTo>
                      <a:lnTo>
                        <a:pt x="4" y="9"/>
                      </a:lnTo>
                      <a:close/>
                    </a:path>
                  </a:pathLst>
                </a:custGeom>
                <a:solidFill>
                  <a:srgbClr val="85291c"/>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159" name=""/>
                <p:cNvSpPr/>
                <p:nvPr/>
              </p:nvSpPr>
              <p:spPr>
                <a:xfrm>
                  <a:off x="7426800" y="2409120"/>
                  <a:ext cx="35640" cy="100080"/>
                </a:xfrm>
                <a:custGeom>
                  <a:avLst/>
                  <a:gdLst/>
                  <a:ahLst/>
                  <a:rect l="l" t="t" r="r" b="b"/>
                  <a:pathLst>
                    <a:path w="36" h="128">
                      <a:moveTo>
                        <a:pt x="36" y="0"/>
                      </a:moveTo>
                      <a:lnTo>
                        <a:pt x="32" y="120"/>
                      </a:lnTo>
                      <a:lnTo>
                        <a:pt x="0" y="128"/>
                      </a:lnTo>
                      <a:lnTo>
                        <a:pt x="36" y="0"/>
                      </a:lnTo>
                      <a:lnTo>
                        <a:pt x="36" y="0"/>
                      </a:lnTo>
                      <a:close/>
                    </a:path>
                  </a:pathLst>
                </a:custGeom>
                <a:solidFill>
                  <a:srgbClr val="c7695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7337880" y="2448360"/>
                  <a:ext cx="474120" cy="188280"/>
                </a:xfrm>
                <a:custGeom>
                  <a:avLst/>
                  <a:gdLst/>
                  <a:ahLst/>
                  <a:rect l="l" t="t" r="r" b="b"/>
                  <a:pathLst>
                    <a:path w="475" h="241">
                      <a:moveTo>
                        <a:pt x="198" y="28"/>
                      </a:moveTo>
                      <a:lnTo>
                        <a:pt x="199" y="27"/>
                      </a:lnTo>
                      <a:lnTo>
                        <a:pt x="200" y="25"/>
                      </a:lnTo>
                      <a:lnTo>
                        <a:pt x="203" y="22"/>
                      </a:lnTo>
                      <a:lnTo>
                        <a:pt x="208" y="20"/>
                      </a:lnTo>
                      <a:lnTo>
                        <a:pt x="210" y="17"/>
                      </a:lnTo>
                      <a:lnTo>
                        <a:pt x="213" y="15"/>
                      </a:lnTo>
                      <a:lnTo>
                        <a:pt x="217" y="13"/>
                      </a:lnTo>
                      <a:lnTo>
                        <a:pt x="219" y="11"/>
                      </a:lnTo>
                      <a:lnTo>
                        <a:pt x="222" y="9"/>
                      </a:lnTo>
                      <a:lnTo>
                        <a:pt x="226" y="7"/>
                      </a:lnTo>
                      <a:lnTo>
                        <a:pt x="230" y="6"/>
                      </a:lnTo>
                      <a:lnTo>
                        <a:pt x="234" y="4"/>
                      </a:lnTo>
                      <a:lnTo>
                        <a:pt x="237" y="3"/>
                      </a:lnTo>
                      <a:lnTo>
                        <a:pt x="241" y="2"/>
                      </a:lnTo>
                      <a:lnTo>
                        <a:pt x="245" y="1"/>
                      </a:lnTo>
                      <a:lnTo>
                        <a:pt x="250" y="1"/>
                      </a:lnTo>
                      <a:lnTo>
                        <a:pt x="253" y="0"/>
                      </a:lnTo>
                      <a:lnTo>
                        <a:pt x="256" y="0"/>
                      </a:lnTo>
                      <a:lnTo>
                        <a:pt x="260" y="0"/>
                      </a:lnTo>
                      <a:lnTo>
                        <a:pt x="264" y="0"/>
                      </a:lnTo>
                      <a:lnTo>
                        <a:pt x="267" y="0"/>
                      </a:lnTo>
                      <a:lnTo>
                        <a:pt x="270" y="0"/>
                      </a:lnTo>
                      <a:lnTo>
                        <a:pt x="272" y="0"/>
                      </a:lnTo>
                      <a:lnTo>
                        <a:pt x="275" y="0"/>
                      </a:lnTo>
                      <a:lnTo>
                        <a:pt x="278" y="0"/>
                      </a:lnTo>
                      <a:lnTo>
                        <a:pt x="279" y="0"/>
                      </a:lnTo>
                      <a:lnTo>
                        <a:pt x="308" y="28"/>
                      </a:lnTo>
                      <a:lnTo>
                        <a:pt x="475" y="118"/>
                      </a:lnTo>
                      <a:lnTo>
                        <a:pt x="475" y="241"/>
                      </a:lnTo>
                      <a:lnTo>
                        <a:pt x="0" y="241"/>
                      </a:lnTo>
                      <a:lnTo>
                        <a:pt x="108" y="80"/>
                      </a:lnTo>
                      <a:lnTo>
                        <a:pt x="198" y="28"/>
                      </a:lnTo>
                      <a:lnTo>
                        <a:pt x="198" y="28"/>
                      </a:lnTo>
                      <a:close/>
                    </a:path>
                  </a:pathLst>
                </a:custGeom>
                <a:solidFill>
                  <a:srgbClr val="5963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7394040" y="2455560"/>
                  <a:ext cx="173520" cy="83520"/>
                </a:xfrm>
                <a:custGeom>
                  <a:avLst/>
                  <a:gdLst/>
                  <a:ahLst/>
                  <a:rect l="l" t="t" r="r" b="b"/>
                  <a:pathLst>
                    <a:path w="174" h="107">
                      <a:moveTo>
                        <a:pt x="0" y="107"/>
                      </a:moveTo>
                      <a:lnTo>
                        <a:pt x="27" y="63"/>
                      </a:lnTo>
                      <a:lnTo>
                        <a:pt x="174" y="0"/>
                      </a:lnTo>
                      <a:lnTo>
                        <a:pt x="117" y="66"/>
                      </a:lnTo>
                      <a:lnTo>
                        <a:pt x="0" y="107"/>
                      </a:lnTo>
                      <a:lnTo>
                        <a:pt x="0" y="107"/>
                      </a:lnTo>
                      <a:close/>
                    </a:path>
                  </a:pathLst>
                </a:custGeom>
                <a:solidFill>
                  <a:srgbClr val="9cb8ff"/>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62" name=""/>
                <p:cNvSpPr/>
                <p:nvPr/>
              </p:nvSpPr>
              <p:spPr>
                <a:xfrm>
                  <a:off x="7148160" y="2523600"/>
                  <a:ext cx="559080" cy="113400"/>
                </a:xfrm>
                <a:custGeom>
                  <a:avLst/>
                  <a:gdLst/>
                  <a:ahLst/>
                  <a:rect l="l" t="t" r="r" b="b"/>
                  <a:pathLst>
                    <a:path w="560" h="145">
                      <a:moveTo>
                        <a:pt x="0" y="145"/>
                      </a:moveTo>
                      <a:lnTo>
                        <a:pt x="99" y="49"/>
                      </a:lnTo>
                      <a:lnTo>
                        <a:pt x="283" y="0"/>
                      </a:lnTo>
                      <a:lnTo>
                        <a:pt x="560" y="0"/>
                      </a:lnTo>
                      <a:lnTo>
                        <a:pt x="559" y="0"/>
                      </a:lnTo>
                      <a:lnTo>
                        <a:pt x="557" y="1"/>
                      </a:lnTo>
                      <a:lnTo>
                        <a:pt x="553" y="2"/>
                      </a:lnTo>
                      <a:lnTo>
                        <a:pt x="549" y="4"/>
                      </a:lnTo>
                      <a:lnTo>
                        <a:pt x="545" y="5"/>
                      </a:lnTo>
                      <a:lnTo>
                        <a:pt x="543" y="6"/>
                      </a:lnTo>
                      <a:lnTo>
                        <a:pt x="540" y="8"/>
                      </a:lnTo>
                      <a:lnTo>
                        <a:pt x="537" y="10"/>
                      </a:lnTo>
                      <a:lnTo>
                        <a:pt x="533" y="12"/>
                      </a:lnTo>
                      <a:lnTo>
                        <a:pt x="529" y="13"/>
                      </a:lnTo>
                      <a:lnTo>
                        <a:pt x="525" y="16"/>
                      </a:lnTo>
                      <a:lnTo>
                        <a:pt x="522" y="19"/>
                      </a:lnTo>
                      <a:lnTo>
                        <a:pt x="518" y="20"/>
                      </a:lnTo>
                      <a:lnTo>
                        <a:pt x="513" y="22"/>
                      </a:lnTo>
                      <a:lnTo>
                        <a:pt x="509" y="24"/>
                      </a:lnTo>
                      <a:lnTo>
                        <a:pt x="504" y="27"/>
                      </a:lnTo>
                      <a:lnTo>
                        <a:pt x="500" y="29"/>
                      </a:lnTo>
                      <a:lnTo>
                        <a:pt x="496" y="32"/>
                      </a:lnTo>
                      <a:lnTo>
                        <a:pt x="490" y="36"/>
                      </a:lnTo>
                      <a:lnTo>
                        <a:pt x="486" y="39"/>
                      </a:lnTo>
                      <a:lnTo>
                        <a:pt x="482" y="41"/>
                      </a:lnTo>
                      <a:lnTo>
                        <a:pt x="477" y="44"/>
                      </a:lnTo>
                      <a:lnTo>
                        <a:pt x="472" y="47"/>
                      </a:lnTo>
                      <a:lnTo>
                        <a:pt x="467" y="51"/>
                      </a:lnTo>
                      <a:lnTo>
                        <a:pt x="463" y="54"/>
                      </a:lnTo>
                      <a:lnTo>
                        <a:pt x="458" y="58"/>
                      </a:lnTo>
                      <a:lnTo>
                        <a:pt x="454" y="60"/>
                      </a:lnTo>
                      <a:lnTo>
                        <a:pt x="450" y="64"/>
                      </a:lnTo>
                      <a:lnTo>
                        <a:pt x="446" y="68"/>
                      </a:lnTo>
                      <a:lnTo>
                        <a:pt x="442" y="71"/>
                      </a:lnTo>
                      <a:lnTo>
                        <a:pt x="437" y="75"/>
                      </a:lnTo>
                      <a:lnTo>
                        <a:pt x="434" y="78"/>
                      </a:lnTo>
                      <a:lnTo>
                        <a:pt x="429" y="81"/>
                      </a:lnTo>
                      <a:lnTo>
                        <a:pt x="427" y="85"/>
                      </a:lnTo>
                      <a:lnTo>
                        <a:pt x="424" y="88"/>
                      </a:lnTo>
                      <a:lnTo>
                        <a:pt x="420" y="92"/>
                      </a:lnTo>
                      <a:lnTo>
                        <a:pt x="417" y="96"/>
                      </a:lnTo>
                      <a:lnTo>
                        <a:pt x="413" y="98"/>
                      </a:lnTo>
                      <a:lnTo>
                        <a:pt x="410" y="101"/>
                      </a:lnTo>
                      <a:lnTo>
                        <a:pt x="408" y="105"/>
                      </a:lnTo>
                      <a:lnTo>
                        <a:pt x="405" y="109"/>
                      </a:lnTo>
                      <a:lnTo>
                        <a:pt x="403" y="112"/>
                      </a:lnTo>
                      <a:lnTo>
                        <a:pt x="400" y="116"/>
                      </a:lnTo>
                      <a:lnTo>
                        <a:pt x="398" y="118"/>
                      </a:lnTo>
                      <a:lnTo>
                        <a:pt x="393" y="123"/>
                      </a:lnTo>
                      <a:lnTo>
                        <a:pt x="389" y="129"/>
                      </a:lnTo>
                      <a:lnTo>
                        <a:pt x="387" y="133"/>
                      </a:lnTo>
                      <a:lnTo>
                        <a:pt x="385" y="137"/>
                      </a:lnTo>
                      <a:lnTo>
                        <a:pt x="383" y="140"/>
                      </a:lnTo>
                      <a:lnTo>
                        <a:pt x="381" y="142"/>
                      </a:lnTo>
                      <a:lnTo>
                        <a:pt x="380" y="144"/>
                      </a:lnTo>
                      <a:lnTo>
                        <a:pt x="380" y="145"/>
                      </a:lnTo>
                      <a:lnTo>
                        <a:pt x="0" y="145"/>
                      </a:lnTo>
                      <a:lnTo>
                        <a:pt x="0" y="145"/>
                      </a:lnTo>
                      <a:close/>
                    </a:path>
                  </a:pathLst>
                </a:custGeom>
                <a:solidFill>
                  <a:srgbClr val="9cb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7582680" y="1882800"/>
                  <a:ext cx="229320" cy="151560"/>
                </a:xfrm>
                <a:custGeom>
                  <a:avLst/>
                  <a:gdLst/>
                  <a:ahLst/>
                  <a:rect l="l" t="t" r="r" b="b"/>
                  <a:pathLst>
                    <a:path w="230" h="194">
                      <a:moveTo>
                        <a:pt x="200" y="194"/>
                      </a:moveTo>
                      <a:lnTo>
                        <a:pt x="229" y="180"/>
                      </a:lnTo>
                      <a:lnTo>
                        <a:pt x="230" y="117"/>
                      </a:lnTo>
                      <a:lnTo>
                        <a:pt x="96" y="14"/>
                      </a:lnTo>
                      <a:lnTo>
                        <a:pt x="0" y="0"/>
                      </a:lnTo>
                      <a:lnTo>
                        <a:pt x="200" y="194"/>
                      </a:lnTo>
                      <a:lnTo>
                        <a:pt x="200" y="194"/>
                      </a:lnTo>
                      <a:close/>
                    </a:path>
                  </a:pathLst>
                </a:custGeom>
                <a:solidFill>
                  <a:srgbClr val="54423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7422840" y="1643400"/>
                  <a:ext cx="376200" cy="276120"/>
                </a:xfrm>
                <a:custGeom>
                  <a:avLst/>
                  <a:gdLst/>
                  <a:ahLst/>
                  <a:rect l="l" t="t" r="r" b="b"/>
                  <a:pathLst>
                    <a:path w="377" h="353">
                      <a:moveTo>
                        <a:pt x="53" y="353"/>
                      </a:moveTo>
                      <a:lnTo>
                        <a:pt x="0" y="307"/>
                      </a:lnTo>
                      <a:lnTo>
                        <a:pt x="25" y="256"/>
                      </a:lnTo>
                      <a:lnTo>
                        <a:pt x="17" y="228"/>
                      </a:lnTo>
                      <a:lnTo>
                        <a:pt x="17" y="227"/>
                      </a:lnTo>
                      <a:lnTo>
                        <a:pt x="19" y="225"/>
                      </a:lnTo>
                      <a:lnTo>
                        <a:pt x="20" y="222"/>
                      </a:lnTo>
                      <a:lnTo>
                        <a:pt x="22" y="220"/>
                      </a:lnTo>
                      <a:lnTo>
                        <a:pt x="24" y="216"/>
                      </a:lnTo>
                      <a:lnTo>
                        <a:pt x="27" y="214"/>
                      </a:lnTo>
                      <a:lnTo>
                        <a:pt x="29" y="209"/>
                      </a:lnTo>
                      <a:lnTo>
                        <a:pt x="32" y="206"/>
                      </a:lnTo>
                      <a:lnTo>
                        <a:pt x="35" y="201"/>
                      </a:lnTo>
                      <a:lnTo>
                        <a:pt x="38" y="196"/>
                      </a:lnTo>
                      <a:lnTo>
                        <a:pt x="41" y="191"/>
                      </a:lnTo>
                      <a:lnTo>
                        <a:pt x="45" y="187"/>
                      </a:lnTo>
                      <a:lnTo>
                        <a:pt x="49" y="182"/>
                      </a:lnTo>
                      <a:lnTo>
                        <a:pt x="54" y="176"/>
                      </a:lnTo>
                      <a:lnTo>
                        <a:pt x="56" y="173"/>
                      </a:lnTo>
                      <a:lnTo>
                        <a:pt x="57" y="170"/>
                      </a:lnTo>
                      <a:lnTo>
                        <a:pt x="59" y="168"/>
                      </a:lnTo>
                      <a:lnTo>
                        <a:pt x="61" y="165"/>
                      </a:lnTo>
                      <a:lnTo>
                        <a:pt x="66" y="159"/>
                      </a:lnTo>
                      <a:lnTo>
                        <a:pt x="71" y="153"/>
                      </a:lnTo>
                      <a:lnTo>
                        <a:pt x="73" y="150"/>
                      </a:lnTo>
                      <a:lnTo>
                        <a:pt x="75" y="147"/>
                      </a:lnTo>
                      <a:lnTo>
                        <a:pt x="77" y="144"/>
                      </a:lnTo>
                      <a:lnTo>
                        <a:pt x="80" y="141"/>
                      </a:lnTo>
                      <a:lnTo>
                        <a:pt x="82" y="138"/>
                      </a:lnTo>
                      <a:lnTo>
                        <a:pt x="85" y="135"/>
                      </a:lnTo>
                      <a:lnTo>
                        <a:pt x="87" y="131"/>
                      </a:lnTo>
                      <a:lnTo>
                        <a:pt x="90" y="130"/>
                      </a:lnTo>
                      <a:lnTo>
                        <a:pt x="92" y="126"/>
                      </a:lnTo>
                      <a:lnTo>
                        <a:pt x="94" y="123"/>
                      </a:lnTo>
                      <a:lnTo>
                        <a:pt x="96" y="119"/>
                      </a:lnTo>
                      <a:lnTo>
                        <a:pt x="99" y="116"/>
                      </a:lnTo>
                      <a:lnTo>
                        <a:pt x="101" y="113"/>
                      </a:lnTo>
                      <a:lnTo>
                        <a:pt x="105" y="111"/>
                      </a:lnTo>
                      <a:lnTo>
                        <a:pt x="107" y="107"/>
                      </a:lnTo>
                      <a:lnTo>
                        <a:pt x="110" y="104"/>
                      </a:lnTo>
                      <a:lnTo>
                        <a:pt x="114" y="98"/>
                      </a:lnTo>
                      <a:lnTo>
                        <a:pt x="120" y="93"/>
                      </a:lnTo>
                      <a:lnTo>
                        <a:pt x="125" y="87"/>
                      </a:lnTo>
                      <a:lnTo>
                        <a:pt x="131" y="82"/>
                      </a:lnTo>
                      <a:lnTo>
                        <a:pt x="135" y="76"/>
                      </a:lnTo>
                      <a:lnTo>
                        <a:pt x="140" y="72"/>
                      </a:lnTo>
                      <a:lnTo>
                        <a:pt x="145" y="67"/>
                      </a:lnTo>
                      <a:lnTo>
                        <a:pt x="150" y="62"/>
                      </a:lnTo>
                      <a:lnTo>
                        <a:pt x="154" y="57"/>
                      </a:lnTo>
                      <a:lnTo>
                        <a:pt x="159" y="53"/>
                      </a:lnTo>
                      <a:lnTo>
                        <a:pt x="164" y="49"/>
                      </a:lnTo>
                      <a:lnTo>
                        <a:pt x="169" y="45"/>
                      </a:lnTo>
                      <a:lnTo>
                        <a:pt x="173" y="41"/>
                      </a:lnTo>
                      <a:lnTo>
                        <a:pt x="177" y="37"/>
                      </a:lnTo>
                      <a:lnTo>
                        <a:pt x="182" y="34"/>
                      </a:lnTo>
                      <a:lnTo>
                        <a:pt x="186" y="31"/>
                      </a:lnTo>
                      <a:lnTo>
                        <a:pt x="190" y="27"/>
                      </a:lnTo>
                      <a:lnTo>
                        <a:pt x="194" y="25"/>
                      </a:lnTo>
                      <a:lnTo>
                        <a:pt x="198" y="22"/>
                      </a:lnTo>
                      <a:lnTo>
                        <a:pt x="202" y="20"/>
                      </a:lnTo>
                      <a:lnTo>
                        <a:pt x="205" y="16"/>
                      </a:lnTo>
                      <a:lnTo>
                        <a:pt x="208" y="15"/>
                      </a:lnTo>
                      <a:lnTo>
                        <a:pt x="211" y="13"/>
                      </a:lnTo>
                      <a:lnTo>
                        <a:pt x="214" y="11"/>
                      </a:lnTo>
                      <a:lnTo>
                        <a:pt x="220" y="7"/>
                      </a:lnTo>
                      <a:lnTo>
                        <a:pt x="225" y="5"/>
                      </a:lnTo>
                      <a:lnTo>
                        <a:pt x="228" y="2"/>
                      </a:lnTo>
                      <a:lnTo>
                        <a:pt x="230" y="1"/>
                      </a:lnTo>
                      <a:lnTo>
                        <a:pt x="232" y="0"/>
                      </a:lnTo>
                      <a:lnTo>
                        <a:pt x="233" y="0"/>
                      </a:lnTo>
                      <a:lnTo>
                        <a:pt x="377" y="31"/>
                      </a:lnTo>
                      <a:lnTo>
                        <a:pt x="365" y="270"/>
                      </a:lnTo>
                      <a:lnTo>
                        <a:pt x="188" y="288"/>
                      </a:lnTo>
                      <a:lnTo>
                        <a:pt x="53" y="353"/>
                      </a:lnTo>
                      <a:lnTo>
                        <a:pt x="53" y="353"/>
                      </a:lnTo>
                      <a:close/>
                    </a:path>
                  </a:pathLst>
                </a:custGeom>
                <a:solidFill>
                  <a:srgbClr val="c2d6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7694280" y="1548000"/>
                  <a:ext cx="117720" cy="212760"/>
                </a:xfrm>
                <a:custGeom>
                  <a:avLst/>
                  <a:gdLst/>
                  <a:ahLst/>
                  <a:rect l="l" t="t" r="r" b="b"/>
                  <a:pathLst>
                    <a:path w="118" h="272">
                      <a:moveTo>
                        <a:pt x="39" y="0"/>
                      </a:moveTo>
                      <a:lnTo>
                        <a:pt x="39" y="0"/>
                      </a:lnTo>
                      <a:lnTo>
                        <a:pt x="37" y="2"/>
                      </a:lnTo>
                      <a:lnTo>
                        <a:pt x="35" y="4"/>
                      </a:lnTo>
                      <a:lnTo>
                        <a:pt x="35" y="6"/>
                      </a:lnTo>
                      <a:lnTo>
                        <a:pt x="31" y="10"/>
                      </a:lnTo>
                      <a:lnTo>
                        <a:pt x="28" y="15"/>
                      </a:lnTo>
                      <a:lnTo>
                        <a:pt x="26" y="17"/>
                      </a:lnTo>
                      <a:lnTo>
                        <a:pt x="24" y="20"/>
                      </a:lnTo>
                      <a:lnTo>
                        <a:pt x="23" y="23"/>
                      </a:lnTo>
                      <a:lnTo>
                        <a:pt x="21" y="26"/>
                      </a:lnTo>
                      <a:lnTo>
                        <a:pt x="19" y="30"/>
                      </a:lnTo>
                      <a:lnTo>
                        <a:pt x="16" y="33"/>
                      </a:lnTo>
                      <a:lnTo>
                        <a:pt x="15" y="37"/>
                      </a:lnTo>
                      <a:lnTo>
                        <a:pt x="13" y="41"/>
                      </a:lnTo>
                      <a:lnTo>
                        <a:pt x="11" y="43"/>
                      </a:lnTo>
                      <a:lnTo>
                        <a:pt x="9" y="47"/>
                      </a:lnTo>
                      <a:lnTo>
                        <a:pt x="8" y="51"/>
                      </a:lnTo>
                      <a:lnTo>
                        <a:pt x="7" y="55"/>
                      </a:lnTo>
                      <a:lnTo>
                        <a:pt x="5" y="58"/>
                      </a:lnTo>
                      <a:lnTo>
                        <a:pt x="3" y="61"/>
                      </a:lnTo>
                      <a:lnTo>
                        <a:pt x="2" y="63"/>
                      </a:lnTo>
                      <a:lnTo>
                        <a:pt x="2" y="66"/>
                      </a:lnTo>
                      <a:lnTo>
                        <a:pt x="0" y="69"/>
                      </a:lnTo>
                      <a:lnTo>
                        <a:pt x="0" y="71"/>
                      </a:lnTo>
                      <a:lnTo>
                        <a:pt x="13" y="88"/>
                      </a:lnTo>
                      <a:lnTo>
                        <a:pt x="3" y="128"/>
                      </a:lnTo>
                      <a:lnTo>
                        <a:pt x="3" y="130"/>
                      </a:lnTo>
                      <a:lnTo>
                        <a:pt x="3" y="132"/>
                      </a:lnTo>
                      <a:lnTo>
                        <a:pt x="4" y="135"/>
                      </a:lnTo>
                      <a:lnTo>
                        <a:pt x="4" y="138"/>
                      </a:lnTo>
                      <a:lnTo>
                        <a:pt x="5" y="142"/>
                      </a:lnTo>
                      <a:lnTo>
                        <a:pt x="6" y="147"/>
                      </a:lnTo>
                      <a:lnTo>
                        <a:pt x="7" y="153"/>
                      </a:lnTo>
                      <a:lnTo>
                        <a:pt x="7" y="157"/>
                      </a:lnTo>
                      <a:lnTo>
                        <a:pt x="8" y="163"/>
                      </a:lnTo>
                      <a:lnTo>
                        <a:pt x="9" y="167"/>
                      </a:lnTo>
                      <a:lnTo>
                        <a:pt x="9" y="170"/>
                      </a:lnTo>
                      <a:lnTo>
                        <a:pt x="10" y="173"/>
                      </a:lnTo>
                      <a:lnTo>
                        <a:pt x="11" y="176"/>
                      </a:lnTo>
                      <a:lnTo>
                        <a:pt x="11" y="179"/>
                      </a:lnTo>
                      <a:lnTo>
                        <a:pt x="12" y="182"/>
                      </a:lnTo>
                      <a:lnTo>
                        <a:pt x="12" y="185"/>
                      </a:lnTo>
                      <a:lnTo>
                        <a:pt x="13" y="189"/>
                      </a:lnTo>
                      <a:lnTo>
                        <a:pt x="14" y="192"/>
                      </a:lnTo>
                      <a:lnTo>
                        <a:pt x="15" y="195"/>
                      </a:lnTo>
                      <a:lnTo>
                        <a:pt x="15" y="198"/>
                      </a:lnTo>
                      <a:lnTo>
                        <a:pt x="16" y="201"/>
                      </a:lnTo>
                      <a:lnTo>
                        <a:pt x="17" y="207"/>
                      </a:lnTo>
                      <a:lnTo>
                        <a:pt x="19" y="213"/>
                      </a:lnTo>
                      <a:lnTo>
                        <a:pt x="20" y="217"/>
                      </a:lnTo>
                      <a:lnTo>
                        <a:pt x="22" y="223"/>
                      </a:lnTo>
                      <a:lnTo>
                        <a:pt x="24" y="227"/>
                      </a:lnTo>
                      <a:lnTo>
                        <a:pt x="25" y="232"/>
                      </a:lnTo>
                      <a:lnTo>
                        <a:pt x="27" y="235"/>
                      </a:lnTo>
                      <a:lnTo>
                        <a:pt x="29" y="239"/>
                      </a:lnTo>
                      <a:lnTo>
                        <a:pt x="30" y="241"/>
                      </a:lnTo>
                      <a:lnTo>
                        <a:pt x="31" y="245"/>
                      </a:lnTo>
                      <a:lnTo>
                        <a:pt x="32" y="247"/>
                      </a:lnTo>
                      <a:lnTo>
                        <a:pt x="34" y="249"/>
                      </a:lnTo>
                      <a:lnTo>
                        <a:pt x="35" y="252"/>
                      </a:lnTo>
                      <a:lnTo>
                        <a:pt x="35" y="253"/>
                      </a:lnTo>
                      <a:lnTo>
                        <a:pt x="92" y="272"/>
                      </a:lnTo>
                      <a:lnTo>
                        <a:pt x="117" y="241"/>
                      </a:lnTo>
                      <a:lnTo>
                        <a:pt x="118" y="101"/>
                      </a:lnTo>
                      <a:lnTo>
                        <a:pt x="118" y="10"/>
                      </a:lnTo>
                      <a:lnTo>
                        <a:pt x="39" y="0"/>
                      </a:lnTo>
                      <a:lnTo>
                        <a:pt x="39" y="0"/>
                      </a:lnTo>
                      <a:close/>
                    </a:path>
                  </a:pathLst>
                </a:custGeom>
                <a:solidFill>
                  <a:srgbClr val="f59e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7473960" y="1715400"/>
                  <a:ext cx="338400" cy="258840"/>
                </a:xfrm>
                <a:custGeom>
                  <a:avLst/>
                  <a:gdLst/>
                  <a:ahLst/>
                  <a:rect l="l" t="t" r="r" b="b"/>
                  <a:pathLst>
                    <a:path w="339" h="331">
                      <a:moveTo>
                        <a:pt x="56" y="259"/>
                      </a:moveTo>
                      <a:lnTo>
                        <a:pt x="0" y="259"/>
                      </a:lnTo>
                      <a:lnTo>
                        <a:pt x="0" y="258"/>
                      </a:lnTo>
                      <a:lnTo>
                        <a:pt x="0" y="257"/>
                      </a:lnTo>
                      <a:lnTo>
                        <a:pt x="0" y="254"/>
                      </a:lnTo>
                      <a:lnTo>
                        <a:pt x="1" y="251"/>
                      </a:lnTo>
                      <a:lnTo>
                        <a:pt x="2" y="248"/>
                      </a:lnTo>
                      <a:lnTo>
                        <a:pt x="3" y="244"/>
                      </a:lnTo>
                      <a:lnTo>
                        <a:pt x="5" y="239"/>
                      </a:lnTo>
                      <a:lnTo>
                        <a:pt x="6" y="234"/>
                      </a:lnTo>
                      <a:lnTo>
                        <a:pt x="8" y="229"/>
                      </a:lnTo>
                      <a:lnTo>
                        <a:pt x="12" y="223"/>
                      </a:lnTo>
                      <a:lnTo>
                        <a:pt x="13" y="220"/>
                      </a:lnTo>
                      <a:lnTo>
                        <a:pt x="14" y="217"/>
                      </a:lnTo>
                      <a:lnTo>
                        <a:pt x="17" y="214"/>
                      </a:lnTo>
                      <a:lnTo>
                        <a:pt x="19" y="211"/>
                      </a:lnTo>
                      <a:lnTo>
                        <a:pt x="21" y="208"/>
                      </a:lnTo>
                      <a:lnTo>
                        <a:pt x="22" y="205"/>
                      </a:lnTo>
                      <a:lnTo>
                        <a:pt x="24" y="202"/>
                      </a:lnTo>
                      <a:lnTo>
                        <a:pt x="26" y="199"/>
                      </a:lnTo>
                      <a:lnTo>
                        <a:pt x="29" y="196"/>
                      </a:lnTo>
                      <a:lnTo>
                        <a:pt x="32" y="193"/>
                      </a:lnTo>
                      <a:lnTo>
                        <a:pt x="35" y="191"/>
                      </a:lnTo>
                      <a:lnTo>
                        <a:pt x="38" y="189"/>
                      </a:lnTo>
                      <a:lnTo>
                        <a:pt x="41" y="185"/>
                      </a:lnTo>
                      <a:lnTo>
                        <a:pt x="44" y="183"/>
                      </a:lnTo>
                      <a:lnTo>
                        <a:pt x="47" y="180"/>
                      </a:lnTo>
                      <a:lnTo>
                        <a:pt x="50" y="178"/>
                      </a:lnTo>
                      <a:lnTo>
                        <a:pt x="54" y="175"/>
                      </a:lnTo>
                      <a:lnTo>
                        <a:pt x="58" y="173"/>
                      </a:lnTo>
                      <a:lnTo>
                        <a:pt x="62" y="172"/>
                      </a:lnTo>
                      <a:lnTo>
                        <a:pt x="65" y="170"/>
                      </a:lnTo>
                      <a:lnTo>
                        <a:pt x="68" y="167"/>
                      </a:lnTo>
                      <a:lnTo>
                        <a:pt x="72" y="165"/>
                      </a:lnTo>
                      <a:lnTo>
                        <a:pt x="75" y="163"/>
                      </a:lnTo>
                      <a:lnTo>
                        <a:pt x="79" y="162"/>
                      </a:lnTo>
                      <a:lnTo>
                        <a:pt x="82" y="160"/>
                      </a:lnTo>
                      <a:lnTo>
                        <a:pt x="86" y="158"/>
                      </a:lnTo>
                      <a:lnTo>
                        <a:pt x="90" y="156"/>
                      </a:lnTo>
                      <a:lnTo>
                        <a:pt x="94" y="155"/>
                      </a:lnTo>
                      <a:lnTo>
                        <a:pt x="96" y="154"/>
                      </a:lnTo>
                      <a:lnTo>
                        <a:pt x="100" y="153"/>
                      </a:lnTo>
                      <a:lnTo>
                        <a:pt x="102" y="151"/>
                      </a:lnTo>
                      <a:lnTo>
                        <a:pt x="105" y="151"/>
                      </a:lnTo>
                      <a:lnTo>
                        <a:pt x="111" y="148"/>
                      </a:lnTo>
                      <a:lnTo>
                        <a:pt x="116" y="147"/>
                      </a:lnTo>
                      <a:lnTo>
                        <a:pt x="120" y="145"/>
                      </a:lnTo>
                      <a:lnTo>
                        <a:pt x="122" y="144"/>
                      </a:lnTo>
                      <a:lnTo>
                        <a:pt x="124" y="144"/>
                      </a:lnTo>
                      <a:lnTo>
                        <a:pt x="125" y="144"/>
                      </a:lnTo>
                      <a:lnTo>
                        <a:pt x="147" y="183"/>
                      </a:lnTo>
                      <a:lnTo>
                        <a:pt x="150" y="132"/>
                      </a:lnTo>
                      <a:lnTo>
                        <a:pt x="121" y="108"/>
                      </a:lnTo>
                      <a:lnTo>
                        <a:pt x="122" y="108"/>
                      </a:lnTo>
                      <a:lnTo>
                        <a:pt x="124" y="107"/>
                      </a:lnTo>
                      <a:lnTo>
                        <a:pt x="126" y="106"/>
                      </a:lnTo>
                      <a:lnTo>
                        <a:pt x="129" y="105"/>
                      </a:lnTo>
                      <a:lnTo>
                        <a:pt x="132" y="104"/>
                      </a:lnTo>
                      <a:lnTo>
                        <a:pt x="135" y="103"/>
                      </a:lnTo>
                      <a:lnTo>
                        <a:pt x="138" y="101"/>
                      </a:lnTo>
                      <a:lnTo>
                        <a:pt x="141" y="99"/>
                      </a:lnTo>
                      <a:lnTo>
                        <a:pt x="144" y="96"/>
                      </a:lnTo>
                      <a:lnTo>
                        <a:pt x="148" y="94"/>
                      </a:lnTo>
                      <a:lnTo>
                        <a:pt x="151" y="90"/>
                      </a:lnTo>
                      <a:lnTo>
                        <a:pt x="155" y="87"/>
                      </a:lnTo>
                      <a:lnTo>
                        <a:pt x="159" y="82"/>
                      </a:lnTo>
                      <a:lnTo>
                        <a:pt x="162" y="78"/>
                      </a:lnTo>
                      <a:lnTo>
                        <a:pt x="163" y="75"/>
                      </a:lnTo>
                      <a:lnTo>
                        <a:pt x="164" y="72"/>
                      </a:lnTo>
                      <a:lnTo>
                        <a:pt x="166" y="69"/>
                      </a:lnTo>
                      <a:lnTo>
                        <a:pt x="168" y="66"/>
                      </a:lnTo>
                      <a:lnTo>
                        <a:pt x="170" y="63"/>
                      </a:lnTo>
                      <a:lnTo>
                        <a:pt x="171" y="59"/>
                      </a:lnTo>
                      <a:lnTo>
                        <a:pt x="173" y="57"/>
                      </a:lnTo>
                      <a:lnTo>
                        <a:pt x="175" y="54"/>
                      </a:lnTo>
                      <a:lnTo>
                        <a:pt x="176" y="50"/>
                      </a:lnTo>
                      <a:lnTo>
                        <a:pt x="177" y="47"/>
                      </a:lnTo>
                      <a:lnTo>
                        <a:pt x="178" y="43"/>
                      </a:lnTo>
                      <a:lnTo>
                        <a:pt x="179" y="40"/>
                      </a:lnTo>
                      <a:lnTo>
                        <a:pt x="180" y="38"/>
                      </a:lnTo>
                      <a:lnTo>
                        <a:pt x="182" y="34"/>
                      </a:lnTo>
                      <a:lnTo>
                        <a:pt x="183" y="31"/>
                      </a:lnTo>
                      <a:lnTo>
                        <a:pt x="184" y="28"/>
                      </a:lnTo>
                      <a:lnTo>
                        <a:pt x="185" y="25"/>
                      </a:lnTo>
                      <a:lnTo>
                        <a:pt x="186" y="21"/>
                      </a:lnTo>
                      <a:lnTo>
                        <a:pt x="187" y="19"/>
                      </a:lnTo>
                      <a:lnTo>
                        <a:pt x="188" y="16"/>
                      </a:lnTo>
                      <a:lnTo>
                        <a:pt x="189" y="11"/>
                      </a:lnTo>
                      <a:lnTo>
                        <a:pt x="191" y="7"/>
                      </a:lnTo>
                      <a:lnTo>
                        <a:pt x="192" y="3"/>
                      </a:lnTo>
                      <a:lnTo>
                        <a:pt x="193" y="1"/>
                      </a:lnTo>
                      <a:lnTo>
                        <a:pt x="193" y="0"/>
                      </a:lnTo>
                      <a:lnTo>
                        <a:pt x="194" y="0"/>
                      </a:lnTo>
                      <a:lnTo>
                        <a:pt x="254" y="144"/>
                      </a:lnTo>
                      <a:lnTo>
                        <a:pt x="294" y="90"/>
                      </a:lnTo>
                      <a:lnTo>
                        <a:pt x="339" y="59"/>
                      </a:lnTo>
                      <a:lnTo>
                        <a:pt x="339" y="331"/>
                      </a:lnTo>
                      <a:lnTo>
                        <a:pt x="160" y="199"/>
                      </a:lnTo>
                      <a:lnTo>
                        <a:pt x="119" y="247"/>
                      </a:lnTo>
                      <a:lnTo>
                        <a:pt x="56" y="259"/>
                      </a:lnTo>
                      <a:lnTo>
                        <a:pt x="56" y="259"/>
                      </a:lnTo>
                      <a:close/>
                    </a:path>
                  </a:pathLst>
                </a:custGeom>
                <a:solidFill>
                  <a:srgbClr val="8a998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7728120" y="1606680"/>
                  <a:ext cx="83880" cy="183600"/>
                </a:xfrm>
                <a:custGeom>
                  <a:avLst/>
                  <a:gdLst/>
                  <a:ahLst/>
                  <a:rect l="l" t="t" r="r" b="b"/>
                  <a:pathLst>
                    <a:path w="84" h="235">
                      <a:moveTo>
                        <a:pt x="39" y="235"/>
                      </a:moveTo>
                      <a:lnTo>
                        <a:pt x="9" y="171"/>
                      </a:lnTo>
                      <a:lnTo>
                        <a:pt x="33" y="183"/>
                      </a:lnTo>
                      <a:lnTo>
                        <a:pt x="59" y="175"/>
                      </a:lnTo>
                      <a:lnTo>
                        <a:pt x="29" y="169"/>
                      </a:lnTo>
                      <a:lnTo>
                        <a:pt x="17" y="125"/>
                      </a:lnTo>
                      <a:lnTo>
                        <a:pt x="17" y="94"/>
                      </a:lnTo>
                      <a:lnTo>
                        <a:pt x="0" y="78"/>
                      </a:lnTo>
                      <a:lnTo>
                        <a:pt x="23" y="13"/>
                      </a:lnTo>
                      <a:lnTo>
                        <a:pt x="62" y="0"/>
                      </a:lnTo>
                      <a:lnTo>
                        <a:pt x="84" y="20"/>
                      </a:lnTo>
                      <a:lnTo>
                        <a:pt x="84" y="205"/>
                      </a:lnTo>
                      <a:lnTo>
                        <a:pt x="39" y="235"/>
                      </a:lnTo>
                      <a:lnTo>
                        <a:pt x="39" y="235"/>
                      </a:lnTo>
                      <a:close/>
                    </a:path>
                  </a:pathLst>
                </a:custGeom>
                <a:solidFill>
                  <a:srgbClr val="a84a3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7748280" y="1792800"/>
                  <a:ext cx="38880" cy="63000"/>
                </a:xfrm>
                <a:custGeom>
                  <a:avLst/>
                  <a:gdLst/>
                  <a:ahLst/>
                  <a:rect l="l" t="t" r="r" b="b"/>
                  <a:pathLst>
                    <a:path w="39" h="81">
                      <a:moveTo>
                        <a:pt x="19" y="0"/>
                      </a:moveTo>
                      <a:lnTo>
                        <a:pt x="39" y="37"/>
                      </a:lnTo>
                      <a:lnTo>
                        <a:pt x="12" y="81"/>
                      </a:lnTo>
                      <a:lnTo>
                        <a:pt x="0" y="27"/>
                      </a:lnTo>
                      <a:lnTo>
                        <a:pt x="19" y="0"/>
                      </a:lnTo>
                      <a:lnTo>
                        <a:pt x="19" y="0"/>
                      </a:lnTo>
                      <a:close/>
                    </a:path>
                  </a:pathLst>
                </a:custGeom>
                <a:solidFill>
                  <a:srgbClr val="1a1a1a"/>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69" name=""/>
                <p:cNvSpPr/>
                <p:nvPr/>
              </p:nvSpPr>
              <p:spPr>
                <a:xfrm>
                  <a:off x="7729560" y="1847520"/>
                  <a:ext cx="58680" cy="114120"/>
                </a:xfrm>
                <a:custGeom>
                  <a:avLst/>
                  <a:gdLst/>
                  <a:ahLst/>
                  <a:rect l="l" t="t" r="r" b="b"/>
                  <a:pathLst>
                    <a:path w="59" h="146">
                      <a:moveTo>
                        <a:pt x="32" y="0"/>
                      </a:moveTo>
                      <a:lnTo>
                        <a:pt x="32" y="1"/>
                      </a:lnTo>
                      <a:lnTo>
                        <a:pt x="33" y="4"/>
                      </a:lnTo>
                      <a:lnTo>
                        <a:pt x="33" y="6"/>
                      </a:lnTo>
                      <a:lnTo>
                        <a:pt x="34" y="10"/>
                      </a:lnTo>
                      <a:lnTo>
                        <a:pt x="35" y="13"/>
                      </a:lnTo>
                      <a:lnTo>
                        <a:pt x="36" y="18"/>
                      </a:lnTo>
                      <a:lnTo>
                        <a:pt x="37" y="23"/>
                      </a:lnTo>
                      <a:lnTo>
                        <a:pt x="38" y="27"/>
                      </a:lnTo>
                      <a:lnTo>
                        <a:pt x="38" y="32"/>
                      </a:lnTo>
                      <a:lnTo>
                        <a:pt x="39" y="39"/>
                      </a:lnTo>
                      <a:lnTo>
                        <a:pt x="39" y="42"/>
                      </a:lnTo>
                      <a:lnTo>
                        <a:pt x="40" y="44"/>
                      </a:lnTo>
                      <a:lnTo>
                        <a:pt x="40" y="47"/>
                      </a:lnTo>
                      <a:lnTo>
                        <a:pt x="41" y="51"/>
                      </a:lnTo>
                      <a:lnTo>
                        <a:pt x="42" y="54"/>
                      </a:lnTo>
                      <a:lnTo>
                        <a:pt x="42" y="58"/>
                      </a:lnTo>
                      <a:lnTo>
                        <a:pt x="43" y="61"/>
                      </a:lnTo>
                      <a:lnTo>
                        <a:pt x="44" y="64"/>
                      </a:lnTo>
                      <a:lnTo>
                        <a:pt x="44" y="67"/>
                      </a:lnTo>
                      <a:lnTo>
                        <a:pt x="45" y="71"/>
                      </a:lnTo>
                      <a:lnTo>
                        <a:pt x="45" y="74"/>
                      </a:lnTo>
                      <a:lnTo>
                        <a:pt x="46" y="78"/>
                      </a:lnTo>
                      <a:lnTo>
                        <a:pt x="47" y="80"/>
                      </a:lnTo>
                      <a:lnTo>
                        <a:pt x="48" y="84"/>
                      </a:lnTo>
                      <a:lnTo>
                        <a:pt x="48" y="88"/>
                      </a:lnTo>
                      <a:lnTo>
                        <a:pt x="49" y="92"/>
                      </a:lnTo>
                      <a:lnTo>
                        <a:pt x="49" y="96"/>
                      </a:lnTo>
                      <a:lnTo>
                        <a:pt x="50" y="99"/>
                      </a:lnTo>
                      <a:lnTo>
                        <a:pt x="50" y="102"/>
                      </a:lnTo>
                      <a:lnTo>
                        <a:pt x="51" y="106"/>
                      </a:lnTo>
                      <a:lnTo>
                        <a:pt x="52" y="109"/>
                      </a:lnTo>
                      <a:lnTo>
                        <a:pt x="53" y="112"/>
                      </a:lnTo>
                      <a:lnTo>
                        <a:pt x="53" y="116"/>
                      </a:lnTo>
                      <a:lnTo>
                        <a:pt x="54" y="119"/>
                      </a:lnTo>
                      <a:lnTo>
                        <a:pt x="55" y="123"/>
                      </a:lnTo>
                      <a:lnTo>
                        <a:pt x="56" y="129"/>
                      </a:lnTo>
                      <a:lnTo>
                        <a:pt x="57" y="133"/>
                      </a:lnTo>
                      <a:lnTo>
                        <a:pt x="58" y="138"/>
                      </a:lnTo>
                      <a:lnTo>
                        <a:pt x="58" y="140"/>
                      </a:lnTo>
                      <a:lnTo>
                        <a:pt x="58" y="143"/>
                      </a:lnTo>
                      <a:lnTo>
                        <a:pt x="58" y="144"/>
                      </a:lnTo>
                      <a:lnTo>
                        <a:pt x="59" y="146"/>
                      </a:lnTo>
                      <a:lnTo>
                        <a:pt x="0" y="101"/>
                      </a:lnTo>
                      <a:lnTo>
                        <a:pt x="32" y="0"/>
                      </a:lnTo>
                      <a:lnTo>
                        <a:pt x="32" y="0"/>
                      </a:lnTo>
                      <a:close/>
                    </a:path>
                  </a:pathLst>
                </a:custGeom>
                <a:solidFill>
                  <a:srgbClr val="1a1a1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7495920" y="1850040"/>
                  <a:ext cx="304200" cy="193320"/>
                </a:xfrm>
                <a:custGeom>
                  <a:avLst/>
                  <a:gdLst/>
                  <a:ahLst/>
                  <a:rect l="l" t="t" r="r" b="b"/>
                  <a:pathLst>
                    <a:path w="305" h="247">
                      <a:moveTo>
                        <a:pt x="0" y="77"/>
                      </a:moveTo>
                      <a:lnTo>
                        <a:pt x="0" y="76"/>
                      </a:lnTo>
                      <a:lnTo>
                        <a:pt x="2" y="72"/>
                      </a:lnTo>
                      <a:lnTo>
                        <a:pt x="2" y="69"/>
                      </a:lnTo>
                      <a:lnTo>
                        <a:pt x="2" y="67"/>
                      </a:lnTo>
                      <a:lnTo>
                        <a:pt x="4" y="63"/>
                      </a:lnTo>
                      <a:lnTo>
                        <a:pt x="6" y="60"/>
                      </a:lnTo>
                      <a:lnTo>
                        <a:pt x="8" y="57"/>
                      </a:lnTo>
                      <a:lnTo>
                        <a:pt x="11" y="53"/>
                      </a:lnTo>
                      <a:lnTo>
                        <a:pt x="13" y="49"/>
                      </a:lnTo>
                      <a:lnTo>
                        <a:pt x="17" y="46"/>
                      </a:lnTo>
                      <a:lnTo>
                        <a:pt x="21" y="41"/>
                      </a:lnTo>
                      <a:lnTo>
                        <a:pt x="24" y="39"/>
                      </a:lnTo>
                      <a:lnTo>
                        <a:pt x="29" y="35"/>
                      </a:lnTo>
                      <a:lnTo>
                        <a:pt x="35" y="31"/>
                      </a:lnTo>
                      <a:lnTo>
                        <a:pt x="37" y="29"/>
                      </a:lnTo>
                      <a:lnTo>
                        <a:pt x="40" y="27"/>
                      </a:lnTo>
                      <a:lnTo>
                        <a:pt x="41" y="25"/>
                      </a:lnTo>
                      <a:lnTo>
                        <a:pt x="45" y="23"/>
                      </a:lnTo>
                      <a:lnTo>
                        <a:pt x="48" y="22"/>
                      </a:lnTo>
                      <a:lnTo>
                        <a:pt x="51" y="20"/>
                      </a:lnTo>
                      <a:lnTo>
                        <a:pt x="55" y="19"/>
                      </a:lnTo>
                      <a:lnTo>
                        <a:pt x="58" y="18"/>
                      </a:lnTo>
                      <a:lnTo>
                        <a:pt x="60" y="16"/>
                      </a:lnTo>
                      <a:lnTo>
                        <a:pt x="63" y="15"/>
                      </a:lnTo>
                      <a:lnTo>
                        <a:pt x="67" y="13"/>
                      </a:lnTo>
                      <a:lnTo>
                        <a:pt x="70" y="12"/>
                      </a:lnTo>
                      <a:lnTo>
                        <a:pt x="73" y="11"/>
                      </a:lnTo>
                      <a:lnTo>
                        <a:pt x="76" y="9"/>
                      </a:lnTo>
                      <a:lnTo>
                        <a:pt x="79" y="8"/>
                      </a:lnTo>
                      <a:lnTo>
                        <a:pt x="82" y="8"/>
                      </a:lnTo>
                      <a:lnTo>
                        <a:pt x="87" y="5"/>
                      </a:lnTo>
                      <a:lnTo>
                        <a:pt x="93" y="3"/>
                      </a:lnTo>
                      <a:lnTo>
                        <a:pt x="97" y="2"/>
                      </a:lnTo>
                      <a:lnTo>
                        <a:pt x="101" y="1"/>
                      </a:lnTo>
                      <a:lnTo>
                        <a:pt x="104" y="0"/>
                      </a:lnTo>
                      <a:lnTo>
                        <a:pt x="107" y="0"/>
                      </a:lnTo>
                      <a:lnTo>
                        <a:pt x="109" y="0"/>
                      </a:lnTo>
                      <a:lnTo>
                        <a:pt x="110" y="0"/>
                      </a:lnTo>
                      <a:lnTo>
                        <a:pt x="205" y="135"/>
                      </a:lnTo>
                      <a:lnTo>
                        <a:pt x="259" y="128"/>
                      </a:lnTo>
                      <a:lnTo>
                        <a:pt x="280" y="159"/>
                      </a:lnTo>
                      <a:lnTo>
                        <a:pt x="300" y="179"/>
                      </a:lnTo>
                      <a:lnTo>
                        <a:pt x="288" y="193"/>
                      </a:lnTo>
                      <a:lnTo>
                        <a:pt x="305" y="244"/>
                      </a:lnTo>
                      <a:lnTo>
                        <a:pt x="293" y="247"/>
                      </a:lnTo>
                      <a:lnTo>
                        <a:pt x="283" y="237"/>
                      </a:lnTo>
                      <a:lnTo>
                        <a:pt x="250" y="240"/>
                      </a:lnTo>
                      <a:lnTo>
                        <a:pt x="175" y="189"/>
                      </a:lnTo>
                      <a:lnTo>
                        <a:pt x="175" y="172"/>
                      </a:lnTo>
                      <a:lnTo>
                        <a:pt x="0" y="77"/>
                      </a:lnTo>
                      <a:lnTo>
                        <a:pt x="0" y="77"/>
                      </a:lnTo>
                      <a:close/>
                    </a:path>
                  </a:pathLst>
                </a:custGeom>
                <a:solidFill>
                  <a:srgbClr val="c7695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7523640" y="1880280"/>
                  <a:ext cx="262440" cy="128880"/>
                </a:xfrm>
                <a:custGeom>
                  <a:avLst/>
                  <a:gdLst/>
                  <a:ahLst/>
                  <a:rect l="l" t="t" r="r" b="b"/>
                  <a:pathLst>
                    <a:path w="263" h="165">
                      <a:moveTo>
                        <a:pt x="0" y="54"/>
                      </a:moveTo>
                      <a:lnTo>
                        <a:pt x="0" y="53"/>
                      </a:lnTo>
                      <a:lnTo>
                        <a:pt x="0" y="52"/>
                      </a:lnTo>
                      <a:lnTo>
                        <a:pt x="0" y="49"/>
                      </a:lnTo>
                      <a:lnTo>
                        <a:pt x="2" y="46"/>
                      </a:lnTo>
                      <a:lnTo>
                        <a:pt x="3" y="41"/>
                      </a:lnTo>
                      <a:lnTo>
                        <a:pt x="6" y="38"/>
                      </a:lnTo>
                      <a:lnTo>
                        <a:pt x="9" y="33"/>
                      </a:lnTo>
                      <a:lnTo>
                        <a:pt x="14" y="29"/>
                      </a:lnTo>
                      <a:lnTo>
                        <a:pt x="17" y="25"/>
                      </a:lnTo>
                      <a:lnTo>
                        <a:pt x="20" y="22"/>
                      </a:lnTo>
                      <a:lnTo>
                        <a:pt x="24" y="20"/>
                      </a:lnTo>
                      <a:lnTo>
                        <a:pt x="28" y="18"/>
                      </a:lnTo>
                      <a:lnTo>
                        <a:pt x="32" y="15"/>
                      </a:lnTo>
                      <a:lnTo>
                        <a:pt x="36" y="13"/>
                      </a:lnTo>
                      <a:lnTo>
                        <a:pt x="40" y="10"/>
                      </a:lnTo>
                      <a:lnTo>
                        <a:pt x="44" y="8"/>
                      </a:lnTo>
                      <a:lnTo>
                        <a:pt x="48" y="6"/>
                      </a:lnTo>
                      <a:lnTo>
                        <a:pt x="51" y="4"/>
                      </a:lnTo>
                      <a:lnTo>
                        <a:pt x="53" y="2"/>
                      </a:lnTo>
                      <a:lnTo>
                        <a:pt x="56" y="1"/>
                      </a:lnTo>
                      <a:lnTo>
                        <a:pt x="61" y="0"/>
                      </a:lnTo>
                      <a:lnTo>
                        <a:pt x="63" y="0"/>
                      </a:lnTo>
                      <a:lnTo>
                        <a:pt x="172" y="101"/>
                      </a:lnTo>
                      <a:lnTo>
                        <a:pt x="226" y="92"/>
                      </a:lnTo>
                      <a:lnTo>
                        <a:pt x="263" y="157"/>
                      </a:lnTo>
                      <a:lnTo>
                        <a:pt x="246" y="162"/>
                      </a:lnTo>
                      <a:lnTo>
                        <a:pt x="209" y="123"/>
                      </a:lnTo>
                      <a:lnTo>
                        <a:pt x="199" y="135"/>
                      </a:lnTo>
                      <a:lnTo>
                        <a:pt x="187" y="133"/>
                      </a:lnTo>
                      <a:lnTo>
                        <a:pt x="174" y="165"/>
                      </a:lnTo>
                      <a:lnTo>
                        <a:pt x="145" y="153"/>
                      </a:lnTo>
                      <a:lnTo>
                        <a:pt x="145" y="135"/>
                      </a:lnTo>
                      <a:lnTo>
                        <a:pt x="143" y="134"/>
                      </a:lnTo>
                      <a:lnTo>
                        <a:pt x="138" y="132"/>
                      </a:lnTo>
                      <a:lnTo>
                        <a:pt x="134" y="129"/>
                      </a:lnTo>
                      <a:lnTo>
                        <a:pt x="130" y="127"/>
                      </a:lnTo>
                      <a:lnTo>
                        <a:pt x="127" y="124"/>
                      </a:lnTo>
                      <a:lnTo>
                        <a:pt x="122" y="122"/>
                      </a:lnTo>
                      <a:lnTo>
                        <a:pt x="116" y="118"/>
                      </a:lnTo>
                      <a:lnTo>
                        <a:pt x="110" y="115"/>
                      </a:lnTo>
                      <a:lnTo>
                        <a:pt x="108" y="114"/>
                      </a:lnTo>
                      <a:lnTo>
                        <a:pt x="105" y="112"/>
                      </a:lnTo>
                      <a:lnTo>
                        <a:pt x="102" y="110"/>
                      </a:lnTo>
                      <a:lnTo>
                        <a:pt x="99" y="109"/>
                      </a:lnTo>
                      <a:lnTo>
                        <a:pt x="95" y="106"/>
                      </a:lnTo>
                      <a:lnTo>
                        <a:pt x="92" y="105"/>
                      </a:lnTo>
                      <a:lnTo>
                        <a:pt x="89" y="102"/>
                      </a:lnTo>
                      <a:lnTo>
                        <a:pt x="86" y="101"/>
                      </a:lnTo>
                      <a:lnTo>
                        <a:pt x="82" y="98"/>
                      </a:lnTo>
                      <a:lnTo>
                        <a:pt x="79" y="97"/>
                      </a:lnTo>
                      <a:lnTo>
                        <a:pt x="76" y="96"/>
                      </a:lnTo>
                      <a:lnTo>
                        <a:pt x="72" y="94"/>
                      </a:lnTo>
                      <a:lnTo>
                        <a:pt x="69" y="92"/>
                      </a:lnTo>
                      <a:lnTo>
                        <a:pt x="66" y="90"/>
                      </a:lnTo>
                      <a:lnTo>
                        <a:pt x="62" y="88"/>
                      </a:lnTo>
                      <a:lnTo>
                        <a:pt x="59" y="86"/>
                      </a:lnTo>
                      <a:lnTo>
                        <a:pt x="55" y="84"/>
                      </a:lnTo>
                      <a:lnTo>
                        <a:pt x="52" y="82"/>
                      </a:lnTo>
                      <a:lnTo>
                        <a:pt x="49" y="80"/>
                      </a:lnTo>
                      <a:lnTo>
                        <a:pt x="46" y="78"/>
                      </a:lnTo>
                      <a:lnTo>
                        <a:pt x="42" y="77"/>
                      </a:lnTo>
                      <a:lnTo>
                        <a:pt x="39" y="75"/>
                      </a:lnTo>
                      <a:lnTo>
                        <a:pt x="36" y="74"/>
                      </a:lnTo>
                      <a:lnTo>
                        <a:pt x="33" y="72"/>
                      </a:lnTo>
                      <a:lnTo>
                        <a:pt x="28" y="69"/>
                      </a:lnTo>
                      <a:lnTo>
                        <a:pt x="23" y="66"/>
                      </a:lnTo>
                      <a:lnTo>
                        <a:pt x="17" y="62"/>
                      </a:lnTo>
                      <a:lnTo>
                        <a:pt x="13" y="60"/>
                      </a:lnTo>
                      <a:lnTo>
                        <a:pt x="9" y="58"/>
                      </a:lnTo>
                      <a:lnTo>
                        <a:pt x="7" y="57"/>
                      </a:lnTo>
                      <a:lnTo>
                        <a:pt x="2" y="54"/>
                      </a:lnTo>
                      <a:lnTo>
                        <a:pt x="0" y="54"/>
                      </a:lnTo>
                      <a:lnTo>
                        <a:pt x="0" y="54"/>
                      </a:lnTo>
                      <a:close/>
                    </a:path>
                  </a:pathLst>
                </a:custGeom>
                <a:solidFill>
                  <a:srgbClr val="f59e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7685640" y="1515240"/>
                  <a:ext cx="126720" cy="88920"/>
                </a:xfrm>
                <a:custGeom>
                  <a:avLst/>
                  <a:gdLst/>
                  <a:ahLst/>
                  <a:rect l="l" t="t" r="r" b="b"/>
                  <a:pathLst>
                    <a:path w="127" h="114">
                      <a:moveTo>
                        <a:pt x="12" y="114"/>
                      </a:moveTo>
                      <a:lnTo>
                        <a:pt x="11" y="113"/>
                      </a:lnTo>
                      <a:lnTo>
                        <a:pt x="10" y="109"/>
                      </a:lnTo>
                      <a:lnTo>
                        <a:pt x="9" y="106"/>
                      </a:lnTo>
                      <a:lnTo>
                        <a:pt x="8" y="104"/>
                      </a:lnTo>
                      <a:lnTo>
                        <a:pt x="7" y="102"/>
                      </a:lnTo>
                      <a:lnTo>
                        <a:pt x="7" y="99"/>
                      </a:lnTo>
                      <a:lnTo>
                        <a:pt x="5" y="94"/>
                      </a:lnTo>
                      <a:lnTo>
                        <a:pt x="5" y="90"/>
                      </a:lnTo>
                      <a:lnTo>
                        <a:pt x="4" y="86"/>
                      </a:lnTo>
                      <a:lnTo>
                        <a:pt x="4" y="83"/>
                      </a:lnTo>
                      <a:lnTo>
                        <a:pt x="3" y="78"/>
                      </a:lnTo>
                      <a:lnTo>
                        <a:pt x="2" y="73"/>
                      </a:lnTo>
                      <a:lnTo>
                        <a:pt x="1" y="69"/>
                      </a:lnTo>
                      <a:lnTo>
                        <a:pt x="1" y="65"/>
                      </a:lnTo>
                      <a:lnTo>
                        <a:pt x="1" y="59"/>
                      </a:lnTo>
                      <a:lnTo>
                        <a:pt x="0" y="54"/>
                      </a:lnTo>
                      <a:lnTo>
                        <a:pt x="0" y="49"/>
                      </a:lnTo>
                      <a:lnTo>
                        <a:pt x="1" y="45"/>
                      </a:lnTo>
                      <a:lnTo>
                        <a:pt x="1" y="40"/>
                      </a:lnTo>
                      <a:lnTo>
                        <a:pt x="2" y="35"/>
                      </a:lnTo>
                      <a:lnTo>
                        <a:pt x="3" y="30"/>
                      </a:lnTo>
                      <a:lnTo>
                        <a:pt x="5" y="26"/>
                      </a:lnTo>
                      <a:lnTo>
                        <a:pt x="6" y="22"/>
                      </a:lnTo>
                      <a:lnTo>
                        <a:pt x="9" y="18"/>
                      </a:lnTo>
                      <a:lnTo>
                        <a:pt x="12" y="14"/>
                      </a:lnTo>
                      <a:lnTo>
                        <a:pt x="16" y="11"/>
                      </a:lnTo>
                      <a:lnTo>
                        <a:pt x="20" y="8"/>
                      </a:lnTo>
                      <a:lnTo>
                        <a:pt x="24" y="6"/>
                      </a:lnTo>
                      <a:lnTo>
                        <a:pt x="27" y="5"/>
                      </a:lnTo>
                      <a:lnTo>
                        <a:pt x="30" y="4"/>
                      </a:lnTo>
                      <a:lnTo>
                        <a:pt x="33" y="3"/>
                      </a:lnTo>
                      <a:lnTo>
                        <a:pt x="37" y="3"/>
                      </a:lnTo>
                      <a:lnTo>
                        <a:pt x="40" y="2"/>
                      </a:lnTo>
                      <a:lnTo>
                        <a:pt x="43" y="1"/>
                      </a:lnTo>
                      <a:lnTo>
                        <a:pt x="45" y="1"/>
                      </a:lnTo>
                      <a:lnTo>
                        <a:pt x="49" y="1"/>
                      </a:lnTo>
                      <a:lnTo>
                        <a:pt x="53" y="0"/>
                      </a:lnTo>
                      <a:lnTo>
                        <a:pt x="57" y="0"/>
                      </a:lnTo>
                      <a:lnTo>
                        <a:pt x="61" y="0"/>
                      </a:lnTo>
                      <a:lnTo>
                        <a:pt x="64" y="1"/>
                      </a:lnTo>
                      <a:lnTo>
                        <a:pt x="68" y="1"/>
                      </a:lnTo>
                      <a:lnTo>
                        <a:pt x="72" y="1"/>
                      </a:lnTo>
                      <a:lnTo>
                        <a:pt x="75" y="1"/>
                      </a:lnTo>
                      <a:lnTo>
                        <a:pt x="80" y="2"/>
                      </a:lnTo>
                      <a:lnTo>
                        <a:pt x="82" y="2"/>
                      </a:lnTo>
                      <a:lnTo>
                        <a:pt x="86" y="3"/>
                      </a:lnTo>
                      <a:lnTo>
                        <a:pt x="90" y="4"/>
                      </a:lnTo>
                      <a:lnTo>
                        <a:pt x="94" y="5"/>
                      </a:lnTo>
                      <a:lnTo>
                        <a:pt x="97" y="5"/>
                      </a:lnTo>
                      <a:lnTo>
                        <a:pt x="101" y="6"/>
                      </a:lnTo>
                      <a:lnTo>
                        <a:pt x="103" y="6"/>
                      </a:lnTo>
                      <a:lnTo>
                        <a:pt x="106" y="7"/>
                      </a:lnTo>
                      <a:lnTo>
                        <a:pt x="109" y="7"/>
                      </a:lnTo>
                      <a:lnTo>
                        <a:pt x="112" y="7"/>
                      </a:lnTo>
                      <a:lnTo>
                        <a:pt x="115" y="8"/>
                      </a:lnTo>
                      <a:lnTo>
                        <a:pt x="118" y="9"/>
                      </a:lnTo>
                      <a:lnTo>
                        <a:pt x="121" y="9"/>
                      </a:lnTo>
                      <a:lnTo>
                        <a:pt x="124" y="10"/>
                      </a:lnTo>
                      <a:lnTo>
                        <a:pt x="126" y="11"/>
                      </a:lnTo>
                      <a:lnTo>
                        <a:pt x="127" y="12"/>
                      </a:lnTo>
                      <a:lnTo>
                        <a:pt x="127" y="89"/>
                      </a:lnTo>
                      <a:lnTo>
                        <a:pt x="125" y="88"/>
                      </a:lnTo>
                      <a:lnTo>
                        <a:pt x="122" y="87"/>
                      </a:lnTo>
                      <a:lnTo>
                        <a:pt x="121" y="86"/>
                      </a:lnTo>
                      <a:lnTo>
                        <a:pt x="118" y="85"/>
                      </a:lnTo>
                      <a:lnTo>
                        <a:pt x="115" y="84"/>
                      </a:lnTo>
                      <a:lnTo>
                        <a:pt x="113" y="84"/>
                      </a:lnTo>
                      <a:lnTo>
                        <a:pt x="109" y="83"/>
                      </a:lnTo>
                      <a:lnTo>
                        <a:pt x="105" y="82"/>
                      </a:lnTo>
                      <a:lnTo>
                        <a:pt x="102" y="80"/>
                      </a:lnTo>
                      <a:lnTo>
                        <a:pt x="99" y="79"/>
                      </a:lnTo>
                      <a:lnTo>
                        <a:pt x="95" y="77"/>
                      </a:lnTo>
                      <a:lnTo>
                        <a:pt x="91" y="75"/>
                      </a:lnTo>
                      <a:lnTo>
                        <a:pt x="87" y="73"/>
                      </a:lnTo>
                      <a:lnTo>
                        <a:pt x="84" y="72"/>
                      </a:lnTo>
                      <a:lnTo>
                        <a:pt x="80" y="69"/>
                      </a:lnTo>
                      <a:lnTo>
                        <a:pt x="77" y="66"/>
                      </a:lnTo>
                      <a:lnTo>
                        <a:pt x="73" y="65"/>
                      </a:lnTo>
                      <a:lnTo>
                        <a:pt x="70" y="62"/>
                      </a:lnTo>
                      <a:lnTo>
                        <a:pt x="64" y="57"/>
                      </a:lnTo>
                      <a:lnTo>
                        <a:pt x="61" y="53"/>
                      </a:lnTo>
                      <a:lnTo>
                        <a:pt x="56" y="49"/>
                      </a:lnTo>
                      <a:lnTo>
                        <a:pt x="53" y="46"/>
                      </a:lnTo>
                      <a:lnTo>
                        <a:pt x="52" y="45"/>
                      </a:lnTo>
                      <a:lnTo>
                        <a:pt x="50" y="45"/>
                      </a:lnTo>
                      <a:lnTo>
                        <a:pt x="48" y="49"/>
                      </a:lnTo>
                      <a:lnTo>
                        <a:pt x="45" y="52"/>
                      </a:lnTo>
                      <a:lnTo>
                        <a:pt x="44" y="56"/>
                      </a:lnTo>
                      <a:lnTo>
                        <a:pt x="42" y="58"/>
                      </a:lnTo>
                      <a:lnTo>
                        <a:pt x="40" y="61"/>
                      </a:lnTo>
                      <a:lnTo>
                        <a:pt x="38" y="65"/>
                      </a:lnTo>
                      <a:lnTo>
                        <a:pt x="37" y="67"/>
                      </a:lnTo>
                      <a:lnTo>
                        <a:pt x="34" y="70"/>
                      </a:lnTo>
                      <a:lnTo>
                        <a:pt x="32" y="73"/>
                      </a:lnTo>
                      <a:lnTo>
                        <a:pt x="29" y="77"/>
                      </a:lnTo>
                      <a:lnTo>
                        <a:pt x="28" y="82"/>
                      </a:lnTo>
                      <a:lnTo>
                        <a:pt x="25" y="85"/>
                      </a:lnTo>
                      <a:lnTo>
                        <a:pt x="24" y="89"/>
                      </a:lnTo>
                      <a:lnTo>
                        <a:pt x="22" y="93"/>
                      </a:lnTo>
                      <a:lnTo>
                        <a:pt x="20" y="97"/>
                      </a:lnTo>
                      <a:lnTo>
                        <a:pt x="18" y="101"/>
                      </a:lnTo>
                      <a:lnTo>
                        <a:pt x="16" y="103"/>
                      </a:lnTo>
                      <a:lnTo>
                        <a:pt x="15" y="106"/>
                      </a:lnTo>
                      <a:lnTo>
                        <a:pt x="14" y="109"/>
                      </a:lnTo>
                      <a:lnTo>
                        <a:pt x="12" y="113"/>
                      </a:lnTo>
                      <a:lnTo>
                        <a:pt x="12" y="114"/>
                      </a:lnTo>
                      <a:lnTo>
                        <a:pt x="12" y="114"/>
                      </a:lnTo>
                      <a:close/>
                    </a:path>
                  </a:pathLst>
                </a:custGeom>
                <a:solidFill>
                  <a:srgbClr val="8c5e2b"/>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73" name=""/>
                <p:cNvSpPr/>
                <p:nvPr/>
              </p:nvSpPr>
              <p:spPr>
                <a:xfrm>
                  <a:off x="7738200" y="1522800"/>
                  <a:ext cx="61920" cy="45360"/>
                </a:xfrm>
                <a:custGeom>
                  <a:avLst/>
                  <a:gdLst/>
                  <a:ahLst/>
                  <a:rect l="l" t="t" r="r" b="b"/>
                  <a:pathLst>
                    <a:path w="62" h="58">
                      <a:moveTo>
                        <a:pt x="1" y="0"/>
                      </a:moveTo>
                      <a:lnTo>
                        <a:pt x="62" y="22"/>
                      </a:lnTo>
                      <a:lnTo>
                        <a:pt x="23" y="23"/>
                      </a:lnTo>
                      <a:lnTo>
                        <a:pt x="62" y="58"/>
                      </a:lnTo>
                      <a:lnTo>
                        <a:pt x="60" y="58"/>
                      </a:lnTo>
                      <a:lnTo>
                        <a:pt x="56" y="56"/>
                      </a:lnTo>
                      <a:lnTo>
                        <a:pt x="53" y="55"/>
                      </a:lnTo>
                      <a:lnTo>
                        <a:pt x="50" y="55"/>
                      </a:lnTo>
                      <a:lnTo>
                        <a:pt x="48" y="55"/>
                      </a:lnTo>
                      <a:lnTo>
                        <a:pt x="45" y="55"/>
                      </a:lnTo>
                      <a:lnTo>
                        <a:pt x="40" y="53"/>
                      </a:lnTo>
                      <a:lnTo>
                        <a:pt x="37" y="51"/>
                      </a:lnTo>
                      <a:lnTo>
                        <a:pt x="32" y="49"/>
                      </a:lnTo>
                      <a:lnTo>
                        <a:pt x="29" y="48"/>
                      </a:lnTo>
                      <a:lnTo>
                        <a:pt x="25" y="46"/>
                      </a:lnTo>
                      <a:lnTo>
                        <a:pt x="22" y="43"/>
                      </a:lnTo>
                      <a:lnTo>
                        <a:pt x="19" y="40"/>
                      </a:lnTo>
                      <a:lnTo>
                        <a:pt x="16" y="38"/>
                      </a:lnTo>
                      <a:lnTo>
                        <a:pt x="12" y="36"/>
                      </a:lnTo>
                      <a:lnTo>
                        <a:pt x="10" y="32"/>
                      </a:lnTo>
                      <a:lnTo>
                        <a:pt x="8" y="29"/>
                      </a:lnTo>
                      <a:lnTo>
                        <a:pt x="7" y="26"/>
                      </a:lnTo>
                      <a:lnTo>
                        <a:pt x="5" y="23"/>
                      </a:lnTo>
                      <a:lnTo>
                        <a:pt x="4" y="19"/>
                      </a:lnTo>
                      <a:lnTo>
                        <a:pt x="3" y="16"/>
                      </a:lnTo>
                      <a:lnTo>
                        <a:pt x="2" y="14"/>
                      </a:lnTo>
                      <a:lnTo>
                        <a:pt x="1" y="8"/>
                      </a:lnTo>
                      <a:lnTo>
                        <a:pt x="0" y="4"/>
                      </a:lnTo>
                      <a:lnTo>
                        <a:pt x="0" y="1"/>
                      </a:lnTo>
                      <a:lnTo>
                        <a:pt x="1" y="0"/>
                      </a:lnTo>
                      <a:lnTo>
                        <a:pt x="1" y="0"/>
                      </a:lnTo>
                      <a:close/>
                    </a:path>
                  </a:pathLst>
                </a:custGeom>
                <a:solidFill>
                  <a:srgbClr val="e68033"/>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174" name=""/>
                <p:cNvSpPr/>
                <p:nvPr/>
              </p:nvSpPr>
              <p:spPr>
                <a:xfrm>
                  <a:off x="7150320" y="2017440"/>
                  <a:ext cx="247320" cy="190080"/>
                </a:xfrm>
                <a:custGeom>
                  <a:avLst/>
                  <a:gdLst/>
                  <a:ahLst/>
                  <a:rect l="l" t="t" r="r" b="b"/>
                  <a:pathLst>
                    <a:path w="248" h="243">
                      <a:moveTo>
                        <a:pt x="5" y="68"/>
                      </a:moveTo>
                      <a:lnTo>
                        <a:pt x="110" y="136"/>
                      </a:lnTo>
                      <a:lnTo>
                        <a:pt x="248" y="0"/>
                      </a:lnTo>
                      <a:lnTo>
                        <a:pt x="242" y="243"/>
                      </a:lnTo>
                      <a:lnTo>
                        <a:pt x="0" y="238"/>
                      </a:lnTo>
                      <a:lnTo>
                        <a:pt x="5" y="68"/>
                      </a:lnTo>
                      <a:lnTo>
                        <a:pt x="5" y="68"/>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7159320" y="1947960"/>
                  <a:ext cx="230400" cy="48960"/>
                </a:xfrm>
                <a:custGeom>
                  <a:avLst/>
                  <a:gdLst/>
                  <a:ahLst/>
                  <a:rect l="l" t="t" r="r" b="b"/>
                  <a:pathLst>
                    <a:path w="231" h="63">
                      <a:moveTo>
                        <a:pt x="0" y="0"/>
                      </a:moveTo>
                      <a:lnTo>
                        <a:pt x="231" y="0"/>
                      </a:lnTo>
                      <a:lnTo>
                        <a:pt x="231" y="63"/>
                      </a:lnTo>
                      <a:lnTo>
                        <a:pt x="2" y="63"/>
                      </a:lnTo>
                      <a:lnTo>
                        <a:pt x="0" y="0"/>
                      </a:lnTo>
                      <a:lnTo>
                        <a:pt x="0" y="0"/>
                      </a:lnTo>
                      <a:close/>
                    </a:path>
                  </a:pathLst>
                </a:custGeom>
                <a:solidFill>
                  <a:srgbClr val="e6e6e6"/>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76" name=""/>
                <p:cNvSpPr/>
                <p:nvPr/>
              </p:nvSpPr>
              <p:spPr>
                <a:xfrm>
                  <a:off x="6868800" y="2060280"/>
                  <a:ext cx="346320" cy="133560"/>
                </a:xfrm>
                <a:custGeom>
                  <a:avLst/>
                  <a:gdLst/>
                  <a:ahLst/>
                  <a:rect l="l" t="t" r="r" b="b"/>
                  <a:pathLst>
                    <a:path w="347" h="171">
                      <a:moveTo>
                        <a:pt x="281" y="0"/>
                      </a:moveTo>
                      <a:lnTo>
                        <a:pt x="238" y="18"/>
                      </a:lnTo>
                      <a:lnTo>
                        <a:pt x="237" y="19"/>
                      </a:lnTo>
                      <a:lnTo>
                        <a:pt x="235" y="24"/>
                      </a:lnTo>
                      <a:lnTo>
                        <a:pt x="233" y="27"/>
                      </a:lnTo>
                      <a:lnTo>
                        <a:pt x="231" y="30"/>
                      </a:lnTo>
                      <a:lnTo>
                        <a:pt x="228" y="34"/>
                      </a:lnTo>
                      <a:lnTo>
                        <a:pt x="225" y="39"/>
                      </a:lnTo>
                      <a:lnTo>
                        <a:pt x="222" y="43"/>
                      </a:lnTo>
                      <a:lnTo>
                        <a:pt x="218" y="48"/>
                      </a:lnTo>
                      <a:lnTo>
                        <a:pt x="213" y="52"/>
                      </a:lnTo>
                      <a:lnTo>
                        <a:pt x="208" y="57"/>
                      </a:lnTo>
                      <a:lnTo>
                        <a:pt x="205" y="58"/>
                      </a:lnTo>
                      <a:lnTo>
                        <a:pt x="202" y="60"/>
                      </a:lnTo>
                      <a:lnTo>
                        <a:pt x="199" y="63"/>
                      </a:lnTo>
                      <a:lnTo>
                        <a:pt x="196" y="65"/>
                      </a:lnTo>
                      <a:lnTo>
                        <a:pt x="192" y="66"/>
                      </a:lnTo>
                      <a:lnTo>
                        <a:pt x="188" y="68"/>
                      </a:lnTo>
                      <a:lnTo>
                        <a:pt x="185" y="70"/>
                      </a:lnTo>
                      <a:lnTo>
                        <a:pt x="181" y="72"/>
                      </a:lnTo>
                      <a:lnTo>
                        <a:pt x="176" y="73"/>
                      </a:lnTo>
                      <a:lnTo>
                        <a:pt x="171" y="74"/>
                      </a:lnTo>
                      <a:lnTo>
                        <a:pt x="166" y="76"/>
                      </a:lnTo>
                      <a:lnTo>
                        <a:pt x="161" y="77"/>
                      </a:lnTo>
                      <a:lnTo>
                        <a:pt x="158" y="77"/>
                      </a:lnTo>
                      <a:lnTo>
                        <a:pt x="155" y="77"/>
                      </a:lnTo>
                      <a:lnTo>
                        <a:pt x="152" y="77"/>
                      </a:lnTo>
                      <a:lnTo>
                        <a:pt x="149" y="78"/>
                      </a:lnTo>
                      <a:lnTo>
                        <a:pt x="144" y="79"/>
                      </a:lnTo>
                      <a:lnTo>
                        <a:pt x="138" y="80"/>
                      </a:lnTo>
                      <a:lnTo>
                        <a:pt x="135" y="80"/>
                      </a:lnTo>
                      <a:lnTo>
                        <a:pt x="131" y="80"/>
                      </a:lnTo>
                      <a:lnTo>
                        <a:pt x="128" y="80"/>
                      </a:lnTo>
                      <a:lnTo>
                        <a:pt x="126" y="80"/>
                      </a:lnTo>
                      <a:lnTo>
                        <a:pt x="122" y="80"/>
                      </a:lnTo>
                      <a:lnTo>
                        <a:pt x="119" y="81"/>
                      </a:lnTo>
                      <a:lnTo>
                        <a:pt x="115" y="81"/>
                      </a:lnTo>
                      <a:lnTo>
                        <a:pt x="112" y="81"/>
                      </a:lnTo>
                      <a:lnTo>
                        <a:pt x="108" y="81"/>
                      </a:lnTo>
                      <a:lnTo>
                        <a:pt x="106" y="81"/>
                      </a:lnTo>
                      <a:lnTo>
                        <a:pt x="103" y="81"/>
                      </a:lnTo>
                      <a:lnTo>
                        <a:pt x="99" y="81"/>
                      </a:lnTo>
                      <a:lnTo>
                        <a:pt x="96" y="81"/>
                      </a:lnTo>
                      <a:lnTo>
                        <a:pt x="93" y="81"/>
                      </a:lnTo>
                      <a:lnTo>
                        <a:pt x="90" y="81"/>
                      </a:lnTo>
                      <a:lnTo>
                        <a:pt x="88" y="82"/>
                      </a:lnTo>
                      <a:lnTo>
                        <a:pt x="84" y="81"/>
                      </a:lnTo>
                      <a:lnTo>
                        <a:pt x="81" y="81"/>
                      </a:lnTo>
                      <a:lnTo>
                        <a:pt x="78" y="81"/>
                      </a:lnTo>
                      <a:lnTo>
                        <a:pt x="74" y="81"/>
                      </a:lnTo>
                      <a:lnTo>
                        <a:pt x="69" y="81"/>
                      </a:lnTo>
                      <a:lnTo>
                        <a:pt x="64" y="81"/>
                      </a:lnTo>
                      <a:lnTo>
                        <a:pt x="58" y="81"/>
                      </a:lnTo>
                      <a:lnTo>
                        <a:pt x="53" y="81"/>
                      </a:lnTo>
                      <a:lnTo>
                        <a:pt x="49" y="81"/>
                      </a:lnTo>
                      <a:lnTo>
                        <a:pt x="45" y="81"/>
                      </a:lnTo>
                      <a:lnTo>
                        <a:pt x="41" y="81"/>
                      </a:lnTo>
                      <a:lnTo>
                        <a:pt x="37" y="81"/>
                      </a:lnTo>
                      <a:lnTo>
                        <a:pt x="34" y="81"/>
                      </a:lnTo>
                      <a:lnTo>
                        <a:pt x="32" y="81"/>
                      </a:lnTo>
                      <a:lnTo>
                        <a:pt x="29" y="81"/>
                      </a:lnTo>
                      <a:lnTo>
                        <a:pt x="28" y="81"/>
                      </a:lnTo>
                      <a:lnTo>
                        <a:pt x="0" y="171"/>
                      </a:lnTo>
                      <a:lnTo>
                        <a:pt x="208" y="125"/>
                      </a:lnTo>
                      <a:lnTo>
                        <a:pt x="249" y="136"/>
                      </a:lnTo>
                      <a:lnTo>
                        <a:pt x="249" y="136"/>
                      </a:lnTo>
                      <a:lnTo>
                        <a:pt x="253" y="136"/>
                      </a:lnTo>
                      <a:lnTo>
                        <a:pt x="254" y="136"/>
                      </a:lnTo>
                      <a:lnTo>
                        <a:pt x="258" y="136"/>
                      </a:lnTo>
                      <a:lnTo>
                        <a:pt x="261" y="136"/>
                      </a:lnTo>
                      <a:lnTo>
                        <a:pt x="264" y="137"/>
                      </a:lnTo>
                      <a:lnTo>
                        <a:pt x="267" y="136"/>
                      </a:lnTo>
                      <a:lnTo>
                        <a:pt x="271" y="135"/>
                      </a:lnTo>
                      <a:lnTo>
                        <a:pt x="275" y="134"/>
                      </a:lnTo>
                      <a:lnTo>
                        <a:pt x="280" y="134"/>
                      </a:lnTo>
                      <a:lnTo>
                        <a:pt x="284" y="131"/>
                      </a:lnTo>
                      <a:lnTo>
                        <a:pt x="288" y="129"/>
                      </a:lnTo>
                      <a:lnTo>
                        <a:pt x="293" y="126"/>
                      </a:lnTo>
                      <a:lnTo>
                        <a:pt x="298" y="123"/>
                      </a:lnTo>
                      <a:lnTo>
                        <a:pt x="302" y="119"/>
                      </a:lnTo>
                      <a:lnTo>
                        <a:pt x="306" y="116"/>
                      </a:lnTo>
                      <a:lnTo>
                        <a:pt x="311" y="114"/>
                      </a:lnTo>
                      <a:lnTo>
                        <a:pt x="315" y="112"/>
                      </a:lnTo>
                      <a:lnTo>
                        <a:pt x="319" y="110"/>
                      </a:lnTo>
                      <a:lnTo>
                        <a:pt x="323" y="109"/>
                      </a:lnTo>
                      <a:lnTo>
                        <a:pt x="327" y="109"/>
                      </a:lnTo>
                      <a:lnTo>
                        <a:pt x="331" y="109"/>
                      </a:lnTo>
                      <a:lnTo>
                        <a:pt x="335" y="108"/>
                      </a:lnTo>
                      <a:lnTo>
                        <a:pt x="338" y="108"/>
                      </a:lnTo>
                      <a:lnTo>
                        <a:pt x="340" y="108"/>
                      </a:lnTo>
                      <a:lnTo>
                        <a:pt x="342" y="109"/>
                      </a:lnTo>
                      <a:lnTo>
                        <a:pt x="346" y="109"/>
                      </a:lnTo>
                      <a:lnTo>
                        <a:pt x="347" y="110"/>
                      </a:lnTo>
                      <a:lnTo>
                        <a:pt x="339" y="90"/>
                      </a:lnTo>
                      <a:lnTo>
                        <a:pt x="282" y="85"/>
                      </a:lnTo>
                      <a:lnTo>
                        <a:pt x="281" y="0"/>
                      </a:lnTo>
                      <a:lnTo>
                        <a:pt x="281" y="0"/>
                      </a:lnTo>
                      <a:close/>
                    </a:path>
                  </a:pathLst>
                </a:custGeom>
                <a:solidFill>
                  <a:srgbClr val="eda3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6820920" y="2114280"/>
                  <a:ext cx="244440" cy="81360"/>
                </a:xfrm>
                <a:custGeom>
                  <a:avLst/>
                  <a:gdLst/>
                  <a:ahLst/>
                  <a:rect l="l" t="t" r="r" b="b"/>
                  <a:pathLst>
                    <a:path w="245" h="104">
                      <a:moveTo>
                        <a:pt x="93" y="11"/>
                      </a:moveTo>
                      <a:lnTo>
                        <a:pt x="151" y="67"/>
                      </a:lnTo>
                      <a:lnTo>
                        <a:pt x="153" y="66"/>
                      </a:lnTo>
                      <a:lnTo>
                        <a:pt x="156" y="66"/>
                      </a:lnTo>
                      <a:lnTo>
                        <a:pt x="158" y="65"/>
                      </a:lnTo>
                      <a:lnTo>
                        <a:pt x="161" y="65"/>
                      </a:lnTo>
                      <a:lnTo>
                        <a:pt x="164" y="65"/>
                      </a:lnTo>
                      <a:lnTo>
                        <a:pt x="168" y="65"/>
                      </a:lnTo>
                      <a:lnTo>
                        <a:pt x="172" y="65"/>
                      </a:lnTo>
                      <a:lnTo>
                        <a:pt x="176" y="65"/>
                      </a:lnTo>
                      <a:lnTo>
                        <a:pt x="179" y="65"/>
                      </a:lnTo>
                      <a:lnTo>
                        <a:pt x="183" y="65"/>
                      </a:lnTo>
                      <a:lnTo>
                        <a:pt x="187" y="64"/>
                      </a:lnTo>
                      <a:lnTo>
                        <a:pt x="192" y="64"/>
                      </a:lnTo>
                      <a:lnTo>
                        <a:pt x="195" y="64"/>
                      </a:lnTo>
                      <a:lnTo>
                        <a:pt x="200" y="64"/>
                      </a:lnTo>
                      <a:lnTo>
                        <a:pt x="204" y="63"/>
                      </a:lnTo>
                      <a:lnTo>
                        <a:pt x="209" y="62"/>
                      </a:lnTo>
                      <a:lnTo>
                        <a:pt x="213" y="62"/>
                      </a:lnTo>
                      <a:lnTo>
                        <a:pt x="216" y="62"/>
                      </a:lnTo>
                      <a:lnTo>
                        <a:pt x="220" y="61"/>
                      </a:lnTo>
                      <a:lnTo>
                        <a:pt x="224" y="61"/>
                      </a:lnTo>
                      <a:lnTo>
                        <a:pt x="228" y="61"/>
                      </a:lnTo>
                      <a:lnTo>
                        <a:pt x="232" y="61"/>
                      </a:lnTo>
                      <a:lnTo>
                        <a:pt x="236" y="60"/>
                      </a:lnTo>
                      <a:lnTo>
                        <a:pt x="241" y="60"/>
                      </a:lnTo>
                      <a:lnTo>
                        <a:pt x="244" y="60"/>
                      </a:lnTo>
                      <a:lnTo>
                        <a:pt x="245" y="60"/>
                      </a:lnTo>
                      <a:lnTo>
                        <a:pt x="244" y="60"/>
                      </a:lnTo>
                      <a:lnTo>
                        <a:pt x="243" y="60"/>
                      </a:lnTo>
                      <a:lnTo>
                        <a:pt x="241" y="61"/>
                      </a:lnTo>
                      <a:lnTo>
                        <a:pt x="238" y="62"/>
                      </a:lnTo>
                      <a:lnTo>
                        <a:pt x="234" y="64"/>
                      </a:lnTo>
                      <a:lnTo>
                        <a:pt x="231" y="65"/>
                      </a:lnTo>
                      <a:lnTo>
                        <a:pt x="225" y="66"/>
                      </a:lnTo>
                      <a:lnTo>
                        <a:pt x="220" y="68"/>
                      </a:lnTo>
                      <a:lnTo>
                        <a:pt x="216" y="69"/>
                      </a:lnTo>
                      <a:lnTo>
                        <a:pt x="213" y="70"/>
                      </a:lnTo>
                      <a:lnTo>
                        <a:pt x="210" y="71"/>
                      </a:lnTo>
                      <a:lnTo>
                        <a:pt x="207" y="72"/>
                      </a:lnTo>
                      <a:lnTo>
                        <a:pt x="203" y="73"/>
                      </a:lnTo>
                      <a:lnTo>
                        <a:pt x="199" y="74"/>
                      </a:lnTo>
                      <a:lnTo>
                        <a:pt x="195" y="75"/>
                      </a:lnTo>
                      <a:lnTo>
                        <a:pt x="192" y="77"/>
                      </a:lnTo>
                      <a:lnTo>
                        <a:pt x="188" y="77"/>
                      </a:lnTo>
                      <a:lnTo>
                        <a:pt x="184" y="78"/>
                      </a:lnTo>
                      <a:lnTo>
                        <a:pt x="179" y="80"/>
                      </a:lnTo>
                      <a:lnTo>
                        <a:pt x="176" y="81"/>
                      </a:lnTo>
                      <a:lnTo>
                        <a:pt x="171" y="82"/>
                      </a:lnTo>
                      <a:lnTo>
                        <a:pt x="167" y="83"/>
                      </a:lnTo>
                      <a:lnTo>
                        <a:pt x="162" y="84"/>
                      </a:lnTo>
                      <a:lnTo>
                        <a:pt x="158" y="85"/>
                      </a:lnTo>
                      <a:lnTo>
                        <a:pt x="153" y="85"/>
                      </a:lnTo>
                      <a:lnTo>
                        <a:pt x="148" y="87"/>
                      </a:lnTo>
                      <a:lnTo>
                        <a:pt x="142" y="87"/>
                      </a:lnTo>
                      <a:lnTo>
                        <a:pt x="137" y="88"/>
                      </a:lnTo>
                      <a:lnTo>
                        <a:pt x="131" y="89"/>
                      </a:lnTo>
                      <a:lnTo>
                        <a:pt x="126" y="90"/>
                      </a:lnTo>
                      <a:lnTo>
                        <a:pt x="120" y="91"/>
                      </a:lnTo>
                      <a:lnTo>
                        <a:pt x="115" y="92"/>
                      </a:lnTo>
                      <a:lnTo>
                        <a:pt x="112" y="92"/>
                      </a:lnTo>
                      <a:lnTo>
                        <a:pt x="109" y="93"/>
                      </a:lnTo>
                      <a:lnTo>
                        <a:pt x="106" y="93"/>
                      </a:lnTo>
                      <a:lnTo>
                        <a:pt x="103" y="93"/>
                      </a:lnTo>
                      <a:lnTo>
                        <a:pt x="98" y="94"/>
                      </a:lnTo>
                      <a:lnTo>
                        <a:pt x="92" y="95"/>
                      </a:lnTo>
                      <a:lnTo>
                        <a:pt x="86" y="96"/>
                      </a:lnTo>
                      <a:lnTo>
                        <a:pt x="80" y="97"/>
                      </a:lnTo>
                      <a:lnTo>
                        <a:pt x="75" y="97"/>
                      </a:lnTo>
                      <a:lnTo>
                        <a:pt x="70" y="99"/>
                      </a:lnTo>
                      <a:lnTo>
                        <a:pt x="65" y="99"/>
                      </a:lnTo>
                      <a:lnTo>
                        <a:pt x="60" y="99"/>
                      </a:lnTo>
                      <a:lnTo>
                        <a:pt x="55" y="100"/>
                      </a:lnTo>
                      <a:lnTo>
                        <a:pt x="51" y="100"/>
                      </a:lnTo>
                      <a:lnTo>
                        <a:pt x="46" y="101"/>
                      </a:lnTo>
                      <a:lnTo>
                        <a:pt x="42" y="101"/>
                      </a:lnTo>
                      <a:lnTo>
                        <a:pt x="39" y="102"/>
                      </a:lnTo>
                      <a:lnTo>
                        <a:pt x="36" y="102"/>
                      </a:lnTo>
                      <a:lnTo>
                        <a:pt x="32" y="102"/>
                      </a:lnTo>
                      <a:lnTo>
                        <a:pt x="29" y="103"/>
                      </a:lnTo>
                      <a:lnTo>
                        <a:pt x="26" y="103"/>
                      </a:lnTo>
                      <a:lnTo>
                        <a:pt x="25" y="104"/>
                      </a:lnTo>
                      <a:lnTo>
                        <a:pt x="22" y="104"/>
                      </a:lnTo>
                      <a:lnTo>
                        <a:pt x="21" y="104"/>
                      </a:lnTo>
                      <a:lnTo>
                        <a:pt x="0" y="0"/>
                      </a:lnTo>
                      <a:lnTo>
                        <a:pt x="93" y="11"/>
                      </a:lnTo>
                      <a:lnTo>
                        <a:pt x="93" y="11"/>
                      </a:lnTo>
                      <a:close/>
                    </a:path>
                  </a:pathLst>
                </a:custGeom>
                <a:solidFill>
                  <a:srgbClr val="a84a3d"/>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78" name=""/>
                <p:cNvSpPr/>
                <p:nvPr/>
              </p:nvSpPr>
              <p:spPr>
                <a:xfrm>
                  <a:off x="6738840" y="2072880"/>
                  <a:ext cx="165600" cy="134640"/>
                </a:xfrm>
                <a:custGeom>
                  <a:avLst/>
                  <a:gdLst/>
                  <a:ahLst/>
                  <a:rect l="l" t="t" r="r" b="b"/>
                  <a:pathLst>
                    <a:path w="166" h="172">
                      <a:moveTo>
                        <a:pt x="102" y="170"/>
                      </a:moveTo>
                      <a:lnTo>
                        <a:pt x="166" y="115"/>
                      </a:lnTo>
                      <a:lnTo>
                        <a:pt x="82" y="0"/>
                      </a:lnTo>
                      <a:lnTo>
                        <a:pt x="25" y="0"/>
                      </a:lnTo>
                      <a:lnTo>
                        <a:pt x="0" y="18"/>
                      </a:lnTo>
                      <a:lnTo>
                        <a:pt x="30" y="86"/>
                      </a:lnTo>
                      <a:lnTo>
                        <a:pt x="98" y="102"/>
                      </a:lnTo>
                      <a:lnTo>
                        <a:pt x="30" y="134"/>
                      </a:lnTo>
                      <a:lnTo>
                        <a:pt x="14" y="172"/>
                      </a:lnTo>
                      <a:lnTo>
                        <a:pt x="102" y="170"/>
                      </a:lnTo>
                      <a:lnTo>
                        <a:pt x="102" y="170"/>
                      </a:lnTo>
                      <a:close/>
                    </a:path>
                  </a:pathLst>
                </a:custGeom>
                <a:solidFill>
                  <a:srgbClr val="bdc9d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7112520" y="2084040"/>
                  <a:ext cx="34560" cy="42840"/>
                </a:xfrm>
                <a:custGeom>
                  <a:avLst/>
                  <a:gdLst/>
                  <a:ahLst/>
                  <a:rect l="l" t="t" r="r" b="b"/>
                  <a:pathLst>
                    <a:path w="35" h="55">
                      <a:moveTo>
                        <a:pt x="35" y="0"/>
                      </a:moveTo>
                      <a:lnTo>
                        <a:pt x="0" y="44"/>
                      </a:lnTo>
                      <a:lnTo>
                        <a:pt x="35" y="55"/>
                      </a:lnTo>
                      <a:lnTo>
                        <a:pt x="35" y="0"/>
                      </a:lnTo>
                      <a:lnTo>
                        <a:pt x="35" y="0"/>
                      </a:lnTo>
                      <a:close/>
                    </a:path>
                  </a:pathLst>
                </a:custGeom>
                <a:solidFill>
                  <a:srgbClr val="a84a3d"/>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80" name=""/>
                <p:cNvSpPr/>
                <p:nvPr/>
              </p:nvSpPr>
              <p:spPr>
                <a:xfrm>
                  <a:off x="6741000" y="2540520"/>
                  <a:ext cx="248400" cy="59400"/>
                </a:xfrm>
                <a:custGeom>
                  <a:avLst/>
                  <a:gdLst/>
                  <a:ahLst/>
                  <a:rect l="l" t="t" r="r" b="b"/>
                  <a:pathLst>
                    <a:path w="249" h="76">
                      <a:moveTo>
                        <a:pt x="0" y="3"/>
                      </a:moveTo>
                      <a:lnTo>
                        <a:pt x="174" y="0"/>
                      </a:lnTo>
                      <a:lnTo>
                        <a:pt x="249" y="62"/>
                      </a:lnTo>
                      <a:lnTo>
                        <a:pt x="203" y="76"/>
                      </a:lnTo>
                      <a:lnTo>
                        <a:pt x="48" y="68"/>
                      </a:lnTo>
                      <a:lnTo>
                        <a:pt x="0" y="3"/>
                      </a:lnTo>
                      <a:lnTo>
                        <a:pt x="0" y="3"/>
                      </a:lnTo>
                      <a:close/>
                    </a:path>
                  </a:pathLst>
                </a:custGeom>
                <a:solidFill>
                  <a:srgbClr val="54423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181" name=""/>
                <p:cNvSpPr/>
                <p:nvPr/>
              </p:nvSpPr>
              <p:spPr>
                <a:xfrm>
                  <a:off x="6337800" y="2503080"/>
                  <a:ext cx="526680" cy="95400"/>
                </a:xfrm>
                <a:custGeom>
                  <a:avLst/>
                  <a:gdLst/>
                  <a:ahLst/>
                  <a:rect l="l" t="t" r="r" b="b"/>
                  <a:pathLst>
                    <a:path w="528" h="122">
                      <a:moveTo>
                        <a:pt x="55" y="0"/>
                      </a:moveTo>
                      <a:lnTo>
                        <a:pt x="295" y="59"/>
                      </a:lnTo>
                      <a:lnTo>
                        <a:pt x="395" y="5"/>
                      </a:lnTo>
                      <a:lnTo>
                        <a:pt x="473" y="16"/>
                      </a:lnTo>
                      <a:lnTo>
                        <a:pt x="475" y="17"/>
                      </a:lnTo>
                      <a:lnTo>
                        <a:pt x="478" y="22"/>
                      </a:lnTo>
                      <a:lnTo>
                        <a:pt x="481" y="25"/>
                      </a:lnTo>
                      <a:lnTo>
                        <a:pt x="485" y="28"/>
                      </a:lnTo>
                      <a:lnTo>
                        <a:pt x="488" y="30"/>
                      </a:lnTo>
                      <a:lnTo>
                        <a:pt x="493" y="34"/>
                      </a:lnTo>
                      <a:lnTo>
                        <a:pt x="496" y="36"/>
                      </a:lnTo>
                      <a:lnTo>
                        <a:pt x="498" y="38"/>
                      </a:lnTo>
                      <a:lnTo>
                        <a:pt x="502" y="39"/>
                      </a:lnTo>
                      <a:lnTo>
                        <a:pt x="505" y="41"/>
                      </a:lnTo>
                      <a:lnTo>
                        <a:pt x="510" y="44"/>
                      </a:lnTo>
                      <a:lnTo>
                        <a:pt x="516" y="47"/>
                      </a:lnTo>
                      <a:lnTo>
                        <a:pt x="521" y="48"/>
                      </a:lnTo>
                      <a:lnTo>
                        <a:pt x="524" y="50"/>
                      </a:lnTo>
                      <a:lnTo>
                        <a:pt x="526" y="51"/>
                      </a:lnTo>
                      <a:lnTo>
                        <a:pt x="528" y="53"/>
                      </a:lnTo>
                      <a:lnTo>
                        <a:pt x="459" y="122"/>
                      </a:lnTo>
                      <a:lnTo>
                        <a:pt x="0" y="122"/>
                      </a:lnTo>
                      <a:lnTo>
                        <a:pt x="55" y="0"/>
                      </a:lnTo>
                      <a:lnTo>
                        <a:pt x="55" y="0"/>
                      </a:lnTo>
                      <a:close/>
                    </a:path>
                  </a:pathLst>
                </a:custGeom>
                <a:solidFill>
                  <a:srgbClr val="eda3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6346440" y="2504520"/>
                  <a:ext cx="567000" cy="103320"/>
                </a:xfrm>
                <a:custGeom>
                  <a:avLst/>
                  <a:gdLst/>
                  <a:ahLst/>
                  <a:rect l="l" t="t" r="r" b="b"/>
                  <a:pathLst>
                    <a:path w="568" h="132">
                      <a:moveTo>
                        <a:pt x="101" y="8"/>
                      </a:moveTo>
                      <a:lnTo>
                        <a:pt x="101" y="9"/>
                      </a:lnTo>
                      <a:lnTo>
                        <a:pt x="103" y="13"/>
                      </a:lnTo>
                      <a:lnTo>
                        <a:pt x="104" y="15"/>
                      </a:lnTo>
                      <a:lnTo>
                        <a:pt x="106" y="19"/>
                      </a:lnTo>
                      <a:lnTo>
                        <a:pt x="109" y="23"/>
                      </a:lnTo>
                      <a:lnTo>
                        <a:pt x="111" y="27"/>
                      </a:lnTo>
                      <a:lnTo>
                        <a:pt x="114" y="31"/>
                      </a:lnTo>
                      <a:lnTo>
                        <a:pt x="118" y="36"/>
                      </a:lnTo>
                      <a:lnTo>
                        <a:pt x="123" y="41"/>
                      </a:lnTo>
                      <a:lnTo>
                        <a:pt x="128" y="45"/>
                      </a:lnTo>
                      <a:lnTo>
                        <a:pt x="130" y="47"/>
                      </a:lnTo>
                      <a:lnTo>
                        <a:pt x="133" y="50"/>
                      </a:lnTo>
                      <a:lnTo>
                        <a:pt x="137" y="52"/>
                      </a:lnTo>
                      <a:lnTo>
                        <a:pt x="141" y="55"/>
                      </a:lnTo>
                      <a:lnTo>
                        <a:pt x="144" y="57"/>
                      </a:lnTo>
                      <a:lnTo>
                        <a:pt x="148" y="60"/>
                      </a:lnTo>
                      <a:lnTo>
                        <a:pt x="151" y="63"/>
                      </a:lnTo>
                      <a:lnTo>
                        <a:pt x="156" y="65"/>
                      </a:lnTo>
                      <a:lnTo>
                        <a:pt x="160" y="67"/>
                      </a:lnTo>
                      <a:lnTo>
                        <a:pt x="166" y="69"/>
                      </a:lnTo>
                      <a:lnTo>
                        <a:pt x="170" y="71"/>
                      </a:lnTo>
                      <a:lnTo>
                        <a:pt x="175" y="74"/>
                      </a:lnTo>
                      <a:lnTo>
                        <a:pt x="180" y="76"/>
                      </a:lnTo>
                      <a:lnTo>
                        <a:pt x="185" y="78"/>
                      </a:lnTo>
                      <a:lnTo>
                        <a:pt x="190" y="80"/>
                      </a:lnTo>
                      <a:lnTo>
                        <a:pt x="195" y="83"/>
                      </a:lnTo>
                      <a:lnTo>
                        <a:pt x="200" y="84"/>
                      </a:lnTo>
                      <a:lnTo>
                        <a:pt x="206" y="85"/>
                      </a:lnTo>
                      <a:lnTo>
                        <a:pt x="210" y="87"/>
                      </a:lnTo>
                      <a:lnTo>
                        <a:pt x="216" y="89"/>
                      </a:lnTo>
                      <a:lnTo>
                        <a:pt x="221" y="91"/>
                      </a:lnTo>
                      <a:lnTo>
                        <a:pt x="226" y="93"/>
                      </a:lnTo>
                      <a:lnTo>
                        <a:pt x="231" y="95"/>
                      </a:lnTo>
                      <a:lnTo>
                        <a:pt x="236" y="97"/>
                      </a:lnTo>
                      <a:lnTo>
                        <a:pt x="241" y="98"/>
                      </a:lnTo>
                      <a:lnTo>
                        <a:pt x="245" y="99"/>
                      </a:lnTo>
                      <a:lnTo>
                        <a:pt x="249" y="100"/>
                      </a:lnTo>
                      <a:lnTo>
                        <a:pt x="254" y="102"/>
                      </a:lnTo>
                      <a:lnTo>
                        <a:pt x="258" y="102"/>
                      </a:lnTo>
                      <a:lnTo>
                        <a:pt x="262" y="103"/>
                      </a:lnTo>
                      <a:lnTo>
                        <a:pt x="265" y="104"/>
                      </a:lnTo>
                      <a:lnTo>
                        <a:pt x="269" y="105"/>
                      </a:lnTo>
                      <a:lnTo>
                        <a:pt x="274" y="106"/>
                      </a:lnTo>
                      <a:lnTo>
                        <a:pt x="279" y="108"/>
                      </a:lnTo>
                      <a:lnTo>
                        <a:pt x="282" y="108"/>
                      </a:lnTo>
                      <a:lnTo>
                        <a:pt x="283" y="109"/>
                      </a:lnTo>
                      <a:lnTo>
                        <a:pt x="303" y="99"/>
                      </a:lnTo>
                      <a:lnTo>
                        <a:pt x="341" y="106"/>
                      </a:lnTo>
                      <a:lnTo>
                        <a:pt x="422" y="89"/>
                      </a:lnTo>
                      <a:lnTo>
                        <a:pt x="411" y="37"/>
                      </a:lnTo>
                      <a:lnTo>
                        <a:pt x="399" y="32"/>
                      </a:lnTo>
                      <a:lnTo>
                        <a:pt x="417" y="10"/>
                      </a:lnTo>
                      <a:lnTo>
                        <a:pt x="566" y="99"/>
                      </a:lnTo>
                      <a:lnTo>
                        <a:pt x="568" y="120"/>
                      </a:lnTo>
                      <a:lnTo>
                        <a:pt x="408" y="132"/>
                      </a:lnTo>
                      <a:lnTo>
                        <a:pt x="308" y="124"/>
                      </a:lnTo>
                      <a:lnTo>
                        <a:pt x="225" y="128"/>
                      </a:lnTo>
                      <a:lnTo>
                        <a:pt x="0" y="116"/>
                      </a:lnTo>
                      <a:lnTo>
                        <a:pt x="42" y="0"/>
                      </a:lnTo>
                      <a:lnTo>
                        <a:pt x="101" y="8"/>
                      </a:lnTo>
                      <a:lnTo>
                        <a:pt x="101" y="8"/>
                      </a:lnTo>
                      <a:close/>
                    </a:path>
                  </a:pathLst>
                </a:custGeom>
                <a:solidFill>
                  <a:srgbClr val="a84a3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6258600" y="2442960"/>
                  <a:ext cx="195480" cy="155520"/>
                </a:xfrm>
                <a:custGeom>
                  <a:avLst/>
                  <a:gdLst/>
                  <a:ahLst/>
                  <a:rect l="l" t="t" r="r" b="b"/>
                  <a:pathLst>
                    <a:path w="196" h="199">
                      <a:moveTo>
                        <a:pt x="196" y="73"/>
                      </a:moveTo>
                      <a:lnTo>
                        <a:pt x="91" y="0"/>
                      </a:lnTo>
                      <a:lnTo>
                        <a:pt x="26" y="75"/>
                      </a:lnTo>
                      <a:lnTo>
                        <a:pt x="60" y="120"/>
                      </a:lnTo>
                      <a:lnTo>
                        <a:pt x="9" y="139"/>
                      </a:lnTo>
                      <a:lnTo>
                        <a:pt x="0" y="199"/>
                      </a:lnTo>
                      <a:lnTo>
                        <a:pt x="136" y="199"/>
                      </a:lnTo>
                      <a:lnTo>
                        <a:pt x="137" y="197"/>
                      </a:lnTo>
                      <a:lnTo>
                        <a:pt x="140" y="195"/>
                      </a:lnTo>
                      <a:lnTo>
                        <a:pt x="140" y="192"/>
                      </a:lnTo>
                      <a:lnTo>
                        <a:pt x="143" y="189"/>
                      </a:lnTo>
                      <a:lnTo>
                        <a:pt x="146" y="187"/>
                      </a:lnTo>
                      <a:lnTo>
                        <a:pt x="149" y="184"/>
                      </a:lnTo>
                      <a:lnTo>
                        <a:pt x="152" y="180"/>
                      </a:lnTo>
                      <a:lnTo>
                        <a:pt x="156" y="176"/>
                      </a:lnTo>
                      <a:lnTo>
                        <a:pt x="159" y="172"/>
                      </a:lnTo>
                      <a:lnTo>
                        <a:pt x="161" y="168"/>
                      </a:lnTo>
                      <a:lnTo>
                        <a:pt x="165" y="163"/>
                      </a:lnTo>
                      <a:lnTo>
                        <a:pt x="168" y="159"/>
                      </a:lnTo>
                      <a:lnTo>
                        <a:pt x="172" y="153"/>
                      </a:lnTo>
                      <a:lnTo>
                        <a:pt x="175" y="148"/>
                      </a:lnTo>
                      <a:lnTo>
                        <a:pt x="176" y="144"/>
                      </a:lnTo>
                      <a:lnTo>
                        <a:pt x="177" y="142"/>
                      </a:lnTo>
                      <a:lnTo>
                        <a:pt x="178" y="139"/>
                      </a:lnTo>
                      <a:lnTo>
                        <a:pt x="178" y="136"/>
                      </a:lnTo>
                      <a:lnTo>
                        <a:pt x="180" y="132"/>
                      </a:lnTo>
                      <a:lnTo>
                        <a:pt x="181" y="129"/>
                      </a:lnTo>
                      <a:lnTo>
                        <a:pt x="182" y="126"/>
                      </a:lnTo>
                      <a:lnTo>
                        <a:pt x="183" y="124"/>
                      </a:lnTo>
                      <a:lnTo>
                        <a:pt x="184" y="120"/>
                      </a:lnTo>
                      <a:lnTo>
                        <a:pt x="185" y="117"/>
                      </a:lnTo>
                      <a:lnTo>
                        <a:pt x="185" y="114"/>
                      </a:lnTo>
                      <a:lnTo>
                        <a:pt x="186" y="110"/>
                      </a:lnTo>
                      <a:lnTo>
                        <a:pt x="188" y="105"/>
                      </a:lnTo>
                      <a:lnTo>
                        <a:pt x="190" y="99"/>
                      </a:lnTo>
                      <a:lnTo>
                        <a:pt x="191" y="93"/>
                      </a:lnTo>
                      <a:lnTo>
                        <a:pt x="192" y="88"/>
                      </a:lnTo>
                      <a:lnTo>
                        <a:pt x="193" y="84"/>
                      </a:lnTo>
                      <a:lnTo>
                        <a:pt x="194" y="80"/>
                      </a:lnTo>
                      <a:lnTo>
                        <a:pt x="195" y="77"/>
                      </a:lnTo>
                      <a:lnTo>
                        <a:pt x="195" y="75"/>
                      </a:lnTo>
                      <a:lnTo>
                        <a:pt x="195" y="73"/>
                      </a:lnTo>
                      <a:lnTo>
                        <a:pt x="196" y="73"/>
                      </a:lnTo>
                      <a:lnTo>
                        <a:pt x="196" y="73"/>
                      </a:lnTo>
                      <a:close/>
                    </a:path>
                  </a:pathLst>
                </a:custGeom>
                <a:solidFill>
                  <a:srgbClr val="bdc9d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6301800" y="2447640"/>
                  <a:ext cx="136440" cy="150840"/>
                </a:xfrm>
                <a:custGeom>
                  <a:avLst/>
                  <a:gdLst/>
                  <a:ahLst/>
                  <a:rect l="l" t="t" r="r" b="b"/>
                  <a:pathLst>
                    <a:path w="137" h="193">
                      <a:moveTo>
                        <a:pt x="54" y="0"/>
                      </a:moveTo>
                      <a:lnTo>
                        <a:pt x="54" y="138"/>
                      </a:lnTo>
                      <a:lnTo>
                        <a:pt x="0" y="193"/>
                      </a:lnTo>
                      <a:lnTo>
                        <a:pt x="97" y="193"/>
                      </a:lnTo>
                      <a:lnTo>
                        <a:pt x="97" y="191"/>
                      </a:lnTo>
                      <a:lnTo>
                        <a:pt x="101" y="186"/>
                      </a:lnTo>
                      <a:lnTo>
                        <a:pt x="102" y="183"/>
                      </a:lnTo>
                      <a:lnTo>
                        <a:pt x="105" y="179"/>
                      </a:lnTo>
                      <a:lnTo>
                        <a:pt x="107" y="176"/>
                      </a:lnTo>
                      <a:lnTo>
                        <a:pt x="111" y="173"/>
                      </a:lnTo>
                      <a:lnTo>
                        <a:pt x="114" y="168"/>
                      </a:lnTo>
                      <a:lnTo>
                        <a:pt x="116" y="162"/>
                      </a:lnTo>
                      <a:lnTo>
                        <a:pt x="118" y="157"/>
                      </a:lnTo>
                      <a:lnTo>
                        <a:pt x="122" y="153"/>
                      </a:lnTo>
                      <a:lnTo>
                        <a:pt x="124" y="147"/>
                      </a:lnTo>
                      <a:lnTo>
                        <a:pt x="127" y="141"/>
                      </a:lnTo>
                      <a:lnTo>
                        <a:pt x="129" y="137"/>
                      </a:lnTo>
                      <a:lnTo>
                        <a:pt x="132" y="132"/>
                      </a:lnTo>
                      <a:lnTo>
                        <a:pt x="133" y="126"/>
                      </a:lnTo>
                      <a:lnTo>
                        <a:pt x="134" y="120"/>
                      </a:lnTo>
                      <a:lnTo>
                        <a:pt x="135" y="116"/>
                      </a:lnTo>
                      <a:lnTo>
                        <a:pt x="135" y="110"/>
                      </a:lnTo>
                      <a:lnTo>
                        <a:pt x="136" y="104"/>
                      </a:lnTo>
                      <a:lnTo>
                        <a:pt x="137" y="99"/>
                      </a:lnTo>
                      <a:lnTo>
                        <a:pt x="137" y="94"/>
                      </a:lnTo>
                      <a:lnTo>
                        <a:pt x="137" y="89"/>
                      </a:lnTo>
                      <a:lnTo>
                        <a:pt x="137" y="84"/>
                      </a:lnTo>
                      <a:lnTo>
                        <a:pt x="137" y="80"/>
                      </a:lnTo>
                      <a:lnTo>
                        <a:pt x="137" y="76"/>
                      </a:lnTo>
                      <a:lnTo>
                        <a:pt x="137" y="73"/>
                      </a:lnTo>
                      <a:lnTo>
                        <a:pt x="137" y="68"/>
                      </a:lnTo>
                      <a:lnTo>
                        <a:pt x="137" y="67"/>
                      </a:lnTo>
                      <a:lnTo>
                        <a:pt x="54" y="0"/>
                      </a:lnTo>
                      <a:lnTo>
                        <a:pt x="54" y="0"/>
                      </a:lnTo>
                      <a:close/>
                    </a:path>
                  </a:pathLst>
                </a:custGeom>
                <a:solidFill>
                  <a:srgbClr val="7a94a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7392960" y="2504520"/>
                  <a:ext cx="64440" cy="24120"/>
                </a:xfrm>
                <a:custGeom>
                  <a:avLst/>
                  <a:gdLst/>
                  <a:ahLst/>
                  <a:rect l="l" t="t" r="r" b="b"/>
                  <a:pathLst>
                    <a:path w="65" h="31">
                      <a:moveTo>
                        <a:pt x="28" y="0"/>
                      </a:moveTo>
                      <a:lnTo>
                        <a:pt x="65" y="23"/>
                      </a:lnTo>
                      <a:lnTo>
                        <a:pt x="0" y="31"/>
                      </a:lnTo>
                      <a:lnTo>
                        <a:pt x="28" y="0"/>
                      </a:lnTo>
                      <a:lnTo>
                        <a:pt x="28" y="0"/>
                      </a:lnTo>
                      <a:close/>
                    </a:path>
                  </a:pathLst>
                </a:custGeom>
                <a:solidFill>
                  <a:srgbClr val="bdd6ff"/>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86" name=""/>
                <p:cNvSpPr/>
                <p:nvPr/>
              </p:nvSpPr>
              <p:spPr>
                <a:xfrm>
                  <a:off x="7134480" y="2561040"/>
                  <a:ext cx="178560" cy="75600"/>
                </a:xfrm>
                <a:custGeom>
                  <a:avLst/>
                  <a:gdLst/>
                  <a:ahLst/>
                  <a:rect l="l" t="t" r="r" b="b"/>
                  <a:pathLst>
                    <a:path w="179" h="97">
                      <a:moveTo>
                        <a:pt x="0" y="97"/>
                      </a:moveTo>
                      <a:lnTo>
                        <a:pt x="113" y="0"/>
                      </a:lnTo>
                      <a:lnTo>
                        <a:pt x="179" y="78"/>
                      </a:lnTo>
                      <a:lnTo>
                        <a:pt x="177" y="77"/>
                      </a:lnTo>
                      <a:lnTo>
                        <a:pt x="172" y="73"/>
                      </a:lnTo>
                      <a:lnTo>
                        <a:pt x="169" y="70"/>
                      </a:lnTo>
                      <a:lnTo>
                        <a:pt x="166" y="68"/>
                      </a:lnTo>
                      <a:lnTo>
                        <a:pt x="161" y="65"/>
                      </a:lnTo>
                      <a:lnTo>
                        <a:pt x="157" y="62"/>
                      </a:lnTo>
                      <a:lnTo>
                        <a:pt x="151" y="59"/>
                      </a:lnTo>
                      <a:lnTo>
                        <a:pt x="146" y="56"/>
                      </a:lnTo>
                      <a:lnTo>
                        <a:pt x="141" y="53"/>
                      </a:lnTo>
                      <a:lnTo>
                        <a:pt x="135" y="52"/>
                      </a:lnTo>
                      <a:lnTo>
                        <a:pt x="132" y="51"/>
                      </a:lnTo>
                      <a:lnTo>
                        <a:pt x="129" y="50"/>
                      </a:lnTo>
                      <a:lnTo>
                        <a:pt x="126" y="50"/>
                      </a:lnTo>
                      <a:lnTo>
                        <a:pt x="123" y="50"/>
                      </a:lnTo>
                      <a:lnTo>
                        <a:pt x="117" y="50"/>
                      </a:lnTo>
                      <a:lnTo>
                        <a:pt x="113" y="50"/>
                      </a:lnTo>
                      <a:lnTo>
                        <a:pt x="109" y="50"/>
                      </a:lnTo>
                      <a:lnTo>
                        <a:pt x="106" y="51"/>
                      </a:lnTo>
                      <a:lnTo>
                        <a:pt x="103" y="51"/>
                      </a:lnTo>
                      <a:lnTo>
                        <a:pt x="100" y="53"/>
                      </a:lnTo>
                      <a:lnTo>
                        <a:pt x="94" y="56"/>
                      </a:lnTo>
                      <a:lnTo>
                        <a:pt x="90" y="59"/>
                      </a:lnTo>
                      <a:lnTo>
                        <a:pt x="85" y="62"/>
                      </a:lnTo>
                      <a:lnTo>
                        <a:pt x="80" y="67"/>
                      </a:lnTo>
                      <a:lnTo>
                        <a:pt x="76" y="70"/>
                      </a:lnTo>
                      <a:lnTo>
                        <a:pt x="73" y="75"/>
                      </a:lnTo>
                      <a:lnTo>
                        <a:pt x="69" y="79"/>
                      </a:lnTo>
                      <a:lnTo>
                        <a:pt x="66" y="83"/>
                      </a:lnTo>
                      <a:lnTo>
                        <a:pt x="63" y="86"/>
                      </a:lnTo>
                      <a:lnTo>
                        <a:pt x="61" y="89"/>
                      </a:lnTo>
                      <a:lnTo>
                        <a:pt x="59" y="92"/>
                      </a:lnTo>
                      <a:lnTo>
                        <a:pt x="57" y="94"/>
                      </a:lnTo>
                      <a:lnTo>
                        <a:pt x="57" y="96"/>
                      </a:lnTo>
                      <a:lnTo>
                        <a:pt x="57" y="97"/>
                      </a:lnTo>
                      <a:lnTo>
                        <a:pt x="0" y="97"/>
                      </a:lnTo>
                      <a:lnTo>
                        <a:pt x="0" y="97"/>
                      </a:lnTo>
                      <a:close/>
                    </a:path>
                  </a:pathLst>
                </a:custGeom>
                <a:solidFill>
                  <a:srgbClr val="bdd6ff"/>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87" name=""/>
                <p:cNvSpPr/>
                <p:nvPr/>
              </p:nvSpPr>
              <p:spPr>
                <a:xfrm>
                  <a:off x="7389720" y="2243520"/>
                  <a:ext cx="50760" cy="199080"/>
                </a:xfrm>
                <a:custGeom>
                  <a:avLst/>
                  <a:gdLst/>
                  <a:ahLst/>
                  <a:rect l="l" t="t" r="r" b="b"/>
                  <a:pathLst>
                    <a:path w="51" h="255">
                      <a:moveTo>
                        <a:pt x="44" y="0"/>
                      </a:moveTo>
                      <a:lnTo>
                        <a:pt x="9" y="35"/>
                      </a:lnTo>
                      <a:lnTo>
                        <a:pt x="20" y="73"/>
                      </a:lnTo>
                      <a:lnTo>
                        <a:pt x="19" y="73"/>
                      </a:lnTo>
                      <a:lnTo>
                        <a:pt x="16" y="75"/>
                      </a:lnTo>
                      <a:lnTo>
                        <a:pt x="15" y="76"/>
                      </a:lnTo>
                      <a:lnTo>
                        <a:pt x="13" y="79"/>
                      </a:lnTo>
                      <a:lnTo>
                        <a:pt x="11" y="81"/>
                      </a:lnTo>
                      <a:lnTo>
                        <a:pt x="10" y="85"/>
                      </a:lnTo>
                      <a:lnTo>
                        <a:pt x="8" y="88"/>
                      </a:lnTo>
                      <a:lnTo>
                        <a:pt x="6" y="92"/>
                      </a:lnTo>
                      <a:lnTo>
                        <a:pt x="4" y="96"/>
                      </a:lnTo>
                      <a:lnTo>
                        <a:pt x="3" y="102"/>
                      </a:lnTo>
                      <a:lnTo>
                        <a:pt x="2" y="105"/>
                      </a:lnTo>
                      <a:lnTo>
                        <a:pt x="1" y="108"/>
                      </a:lnTo>
                      <a:lnTo>
                        <a:pt x="0" y="111"/>
                      </a:lnTo>
                      <a:lnTo>
                        <a:pt x="0" y="115"/>
                      </a:lnTo>
                      <a:lnTo>
                        <a:pt x="0" y="118"/>
                      </a:lnTo>
                      <a:lnTo>
                        <a:pt x="0" y="122"/>
                      </a:lnTo>
                      <a:lnTo>
                        <a:pt x="0" y="126"/>
                      </a:lnTo>
                      <a:lnTo>
                        <a:pt x="0" y="131"/>
                      </a:lnTo>
                      <a:lnTo>
                        <a:pt x="0" y="135"/>
                      </a:lnTo>
                      <a:lnTo>
                        <a:pt x="0" y="140"/>
                      </a:lnTo>
                      <a:lnTo>
                        <a:pt x="0" y="145"/>
                      </a:lnTo>
                      <a:lnTo>
                        <a:pt x="2" y="149"/>
                      </a:lnTo>
                      <a:lnTo>
                        <a:pt x="2" y="154"/>
                      </a:lnTo>
                      <a:lnTo>
                        <a:pt x="3" y="159"/>
                      </a:lnTo>
                      <a:lnTo>
                        <a:pt x="3" y="164"/>
                      </a:lnTo>
                      <a:lnTo>
                        <a:pt x="5" y="169"/>
                      </a:lnTo>
                      <a:lnTo>
                        <a:pt x="5" y="174"/>
                      </a:lnTo>
                      <a:lnTo>
                        <a:pt x="7" y="180"/>
                      </a:lnTo>
                      <a:lnTo>
                        <a:pt x="8" y="185"/>
                      </a:lnTo>
                      <a:lnTo>
                        <a:pt x="9" y="189"/>
                      </a:lnTo>
                      <a:lnTo>
                        <a:pt x="11" y="194"/>
                      </a:lnTo>
                      <a:lnTo>
                        <a:pt x="11" y="200"/>
                      </a:lnTo>
                      <a:lnTo>
                        <a:pt x="12" y="205"/>
                      </a:lnTo>
                      <a:lnTo>
                        <a:pt x="14" y="209"/>
                      </a:lnTo>
                      <a:lnTo>
                        <a:pt x="15" y="214"/>
                      </a:lnTo>
                      <a:lnTo>
                        <a:pt x="16" y="218"/>
                      </a:lnTo>
                      <a:lnTo>
                        <a:pt x="17" y="223"/>
                      </a:lnTo>
                      <a:lnTo>
                        <a:pt x="18" y="226"/>
                      </a:lnTo>
                      <a:lnTo>
                        <a:pt x="19" y="230"/>
                      </a:lnTo>
                      <a:lnTo>
                        <a:pt x="20" y="234"/>
                      </a:lnTo>
                      <a:lnTo>
                        <a:pt x="21" y="238"/>
                      </a:lnTo>
                      <a:lnTo>
                        <a:pt x="23" y="242"/>
                      </a:lnTo>
                      <a:lnTo>
                        <a:pt x="24" y="246"/>
                      </a:lnTo>
                      <a:lnTo>
                        <a:pt x="25" y="251"/>
                      </a:lnTo>
                      <a:lnTo>
                        <a:pt x="27" y="254"/>
                      </a:lnTo>
                      <a:lnTo>
                        <a:pt x="27" y="255"/>
                      </a:lnTo>
                      <a:lnTo>
                        <a:pt x="51" y="116"/>
                      </a:lnTo>
                      <a:lnTo>
                        <a:pt x="26" y="40"/>
                      </a:lnTo>
                      <a:lnTo>
                        <a:pt x="44" y="0"/>
                      </a:lnTo>
                      <a:lnTo>
                        <a:pt x="44" y="0"/>
                      </a:lnTo>
                      <a:close/>
                    </a:path>
                  </a:pathLst>
                </a:custGeom>
                <a:solidFill>
                  <a:srgbClr val="c7695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7395120" y="2298240"/>
                  <a:ext cx="42480" cy="74160"/>
                </a:xfrm>
                <a:custGeom>
                  <a:avLst/>
                  <a:gdLst/>
                  <a:ahLst/>
                  <a:rect l="l" t="t" r="r" b="b"/>
                  <a:pathLst>
                    <a:path w="43" h="95">
                      <a:moveTo>
                        <a:pt x="19" y="0"/>
                      </a:moveTo>
                      <a:lnTo>
                        <a:pt x="43" y="36"/>
                      </a:lnTo>
                      <a:lnTo>
                        <a:pt x="2" y="95"/>
                      </a:lnTo>
                      <a:lnTo>
                        <a:pt x="1" y="93"/>
                      </a:lnTo>
                      <a:lnTo>
                        <a:pt x="1" y="89"/>
                      </a:lnTo>
                      <a:lnTo>
                        <a:pt x="0" y="86"/>
                      </a:lnTo>
                      <a:lnTo>
                        <a:pt x="0" y="83"/>
                      </a:lnTo>
                      <a:lnTo>
                        <a:pt x="0" y="80"/>
                      </a:lnTo>
                      <a:lnTo>
                        <a:pt x="0" y="78"/>
                      </a:lnTo>
                      <a:lnTo>
                        <a:pt x="0" y="73"/>
                      </a:lnTo>
                      <a:lnTo>
                        <a:pt x="0" y="69"/>
                      </a:lnTo>
                      <a:lnTo>
                        <a:pt x="0" y="64"/>
                      </a:lnTo>
                      <a:lnTo>
                        <a:pt x="1" y="60"/>
                      </a:lnTo>
                      <a:lnTo>
                        <a:pt x="1" y="55"/>
                      </a:lnTo>
                      <a:lnTo>
                        <a:pt x="2" y="51"/>
                      </a:lnTo>
                      <a:lnTo>
                        <a:pt x="2" y="46"/>
                      </a:lnTo>
                      <a:lnTo>
                        <a:pt x="4" y="42"/>
                      </a:lnTo>
                      <a:lnTo>
                        <a:pt x="4" y="38"/>
                      </a:lnTo>
                      <a:lnTo>
                        <a:pt x="5" y="34"/>
                      </a:lnTo>
                      <a:lnTo>
                        <a:pt x="6" y="29"/>
                      </a:lnTo>
                      <a:lnTo>
                        <a:pt x="6" y="25"/>
                      </a:lnTo>
                      <a:lnTo>
                        <a:pt x="7" y="22"/>
                      </a:lnTo>
                      <a:lnTo>
                        <a:pt x="9" y="18"/>
                      </a:lnTo>
                      <a:lnTo>
                        <a:pt x="10" y="15"/>
                      </a:lnTo>
                      <a:lnTo>
                        <a:pt x="12" y="12"/>
                      </a:lnTo>
                      <a:lnTo>
                        <a:pt x="14" y="6"/>
                      </a:lnTo>
                      <a:lnTo>
                        <a:pt x="16" y="3"/>
                      </a:lnTo>
                      <a:lnTo>
                        <a:pt x="18" y="0"/>
                      </a:lnTo>
                      <a:lnTo>
                        <a:pt x="19" y="0"/>
                      </a:lnTo>
                      <a:lnTo>
                        <a:pt x="19" y="0"/>
                      </a:lnTo>
                      <a:close/>
                    </a:path>
                  </a:pathLst>
                </a:custGeom>
                <a:solidFill>
                  <a:srgbClr val="e08578"/>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189" name=""/>
                <p:cNvSpPr/>
                <p:nvPr/>
              </p:nvSpPr>
              <p:spPr>
                <a:xfrm>
                  <a:off x="7422120" y="2180160"/>
                  <a:ext cx="254160" cy="240840"/>
                </a:xfrm>
                <a:custGeom>
                  <a:avLst/>
                  <a:gdLst/>
                  <a:ahLst/>
                  <a:rect l="l" t="t" r="r" b="b"/>
                  <a:pathLst>
                    <a:path w="255" h="308">
                      <a:moveTo>
                        <a:pt x="18" y="29"/>
                      </a:moveTo>
                      <a:lnTo>
                        <a:pt x="17" y="30"/>
                      </a:lnTo>
                      <a:lnTo>
                        <a:pt x="14" y="34"/>
                      </a:lnTo>
                      <a:lnTo>
                        <a:pt x="12" y="36"/>
                      </a:lnTo>
                      <a:lnTo>
                        <a:pt x="10" y="39"/>
                      </a:lnTo>
                      <a:lnTo>
                        <a:pt x="8" y="43"/>
                      </a:lnTo>
                      <a:lnTo>
                        <a:pt x="7" y="48"/>
                      </a:lnTo>
                      <a:lnTo>
                        <a:pt x="4" y="52"/>
                      </a:lnTo>
                      <a:lnTo>
                        <a:pt x="3" y="57"/>
                      </a:lnTo>
                      <a:lnTo>
                        <a:pt x="1" y="61"/>
                      </a:lnTo>
                      <a:lnTo>
                        <a:pt x="0" y="67"/>
                      </a:lnTo>
                      <a:lnTo>
                        <a:pt x="0" y="72"/>
                      </a:lnTo>
                      <a:lnTo>
                        <a:pt x="0" y="77"/>
                      </a:lnTo>
                      <a:lnTo>
                        <a:pt x="0" y="82"/>
                      </a:lnTo>
                      <a:lnTo>
                        <a:pt x="3" y="88"/>
                      </a:lnTo>
                      <a:lnTo>
                        <a:pt x="4" y="93"/>
                      </a:lnTo>
                      <a:lnTo>
                        <a:pt x="7" y="97"/>
                      </a:lnTo>
                      <a:lnTo>
                        <a:pt x="11" y="102"/>
                      </a:lnTo>
                      <a:lnTo>
                        <a:pt x="15" y="108"/>
                      </a:lnTo>
                      <a:lnTo>
                        <a:pt x="18" y="112"/>
                      </a:lnTo>
                      <a:lnTo>
                        <a:pt x="23" y="116"/>
                      </a:lnTo>
                      <a:lnTo>
                        <a:pt x="27" y="120"/>
                      </a:lnTo>
                      <a:lnTo>
                        <a:pt x="32" y="125"/>
                      </a:lnTo>
                      <a:lnTo>
                        <a:pt x="36" y="128"/>
                      </a:lnTo>
                      <a:lnTo>
                        <a:pt x="40" y="131"/>
                      </a:lnTo>
                      <a:lnTo>
                        <a:pt x="44" y="134"/>
                      </a:lnTo>
                      <a:lnTo>
                        <a:pt x="48" y="136"/>
                      </a:lnTo>
                      <a:lnTo>
                        <a:pt x="50" y="138"/>
                      </a:lnTo>
                      <a:lnTo>
                        <a:pt x="53" y="140"/>
                      </a:lnTo>
                      <a:lnTo>
                        <a:pt x="54" y="141"/>
                      </a:lnTo>
                      <a:lnTo>
                        <a:pt x="55" y="141"/>
                      </a:lnTo>
                      <a:lnTo>
                        <a:pt x="56" y="140"/>
                      </a:lnTo>
                      <a:lnTo>
                        <a:pt x="57" y="138"/>
                      </a:lnTo>
                      <a:lnTo>
                        <a:pt x="61" y="136"/>
                      </a:lnTo>
                      <a:lnTo>
                        <a:pt x="67" y="134"/>
                      </a:lnTo>
                      <a:lnTo>
                        <a:pt x="72" y="131"/>
                      </a:lnTo>
                      <a:lnTo>
                        <a:pt x="77" y="130"/>
                      </a:lnTo>
                      <a:lnTo>
                        <a:pt x="80" y="130"/>
                      </a:lnTo>
                      <a:lnTo>
                        <a:pt x="84" y="130"/>
                      </a:lnTo>
                      <a:lnTo>
                        <a:pt x="86" y="131"/>
                      </a:lnTo>
                      <a:lnTo>
                        <a:pt x="89" y="133"/>
                      </a:lnTo>
                      <a:lnTo>
                        <a:pt x="91" y="134"/>
                      </a:lnTo>
                      <a:lnTo>
                        <a:pt x="93" y="135"/>
                      </a:lnTo>
                      <a:lnTo>
                        <a:pt x="95" y="138"/>
                      </a:lnTo>
                      <a:lnTo>
                        <a:pt x="96" y="141"/>
                      </a:lnTo>
                      <a:lnTo>
                        <a:pt x="97" y="145"/>
                      </a:lnTo>
                      <a:lnTo>
                        <a:pt x="98" y="148"/>
                      </a:lnTo>
                      <a:lnTo>
                        <a:pt x="100" y="152"/>
                      </a:lnTo>
                      <a:lnTo>
                        <a:pt x="101" y="156"/>
                      </a:lnTo>
                      <a:lnTo>
                        <a:pt x="101" y="160"/>
                      </a:lnTo>
                      <a:lnTo>
                        <a:pt x="101" y="165"/>
                      </a:lnTo>
                      <a:lnTo>
                        <a:pt x="101" y="170"/>
                      </a:lnTo>
                      <a:lnTo>
                        <a:pt x="102" y="174"/>
                      </a:lnTo>
                      <a:lnTo>
                        <a:pt x="101" y="179"/>
                      </a:lnTo>
                      <a:lnTo>
                        <a:pt x="101" y="184"/>
                      </a:lnTo>
                      <a:lnTo>
                        <a:pt x="101" y="189"/>
                      </a:lnTo>
                      <a:lnTo>
                        <a:pt x="100" y="193"/>
                      </a:lnTo>
                      <a:lnTo>
                        <a:pt x="98" y="197"/>
                      </a:lnTo>
                      <a:lnTo>
                        <a:pt x="97" y="201"/>
                      </a:lnTo>
                      <a:lnTo>
                        <a:pt x="96" y="205"/>
                      </a:lnTo>
                      <a:lnTo>
                        <a:pt x="95" y="210"/>
                      </a:lnTo>
                      <a:lnTo>
                        <a:pt x="94" y="212"/>
                      </a:lnTo>
                      <a:lnTo>
                        <a:pt x="92" y="215"/>
                      </a:lnTo>
                      <a:lnTo>
                        <a:pt x="90" y="218"/>
                      </a:lnTo>
                      <a:lnTo>
                        <a:pt x="89" y="222"/>
                      </a:lnTo>
                      <a:lnTo>
                        <a:pt x="85" y="226"/>
                      </a:lnTo>
                      <a:lnTo>
                        <a:pt x="83" y="230"/>
                      </a:lnTo>
                      <a:lnTo>
                        <a:pt x="81" y="231"/>
                      </a:lnTo>
                      <a:lnTo>
                        <a:pt x="81" y="233"/>
                      </a:lnTo>
                      <a:lnTo>
                        <a:pt x="81" y="233"/>
                      </a:lnTo>
                      <a:lnTo>
                        <a:pt x="81" y="235"/>
                      </a:lnTo>
                      <a:lnTo>
                        <a:pt x="82" y="239"/>
                      </a:lnTo>
                      <a:lnTo>
                        <a:pt x="84" y="245"/>
                      </a:lnTo>
                      <a:lnTo>
                        <a:pt x="84" y="247"/>
                      </a:lnTo>
                      <a:lnTo>
                        <a:pt x="85" y="249"/>
                      </a:lnTo>
                      <a:lnTo>
                        <a:pt x="85" y="253"/>
                      </a:lnTo>
                      <a:lnTo>
                        <a:pt x="86" y="256"/>
                      </a:lnTo>
                      <a:lnTo>
                        <a:pt x="87" y="259"/>
                      </a:lnTo>
                      <a:lnTo>
                        <a:pt x="89" y="263"/>
                      </a:lnTo>
                      <a:lnTo>
                        <a:pt x="90" y="266"/>
                      </a:lnTo>
                      <a:lnTo>
                        <a:pt x="91" y="269"/>
                      </a:lnTo>
                      <a:lnTo>
                        <a:pt x="92" y="273"/>
                      </a:lnTo>
                      <a:lnTo>
                        <a:pt x="93" y="276"/>
                      </a:lnTo>
                      <a:lnTo>
                        <a:pt x="94" y="279"/>
                      </a:lnTo>
                      <a:lnTo>
                        <a:pt x="95" y="283"/>
                      </a:lnTo>
                      <a:lnTo>
                        <a:pt x="95" y="286"/>
                      </a:lnTo>
                      <a:lnTo>
                        <a:pt x="96" y="289"/>
                      </a:lnTo>
                      <a:lnTo>
                        <a:pt x="97" y="292"/>
                      </a:lnTo>
                      <a:lnTo>
                        <a:pt x="98" y="295"/>
                      </a:lnTo>
                      <a:lnTo>
                        <a:pt x="99" y="301"/>
                      </a:lnTo>
                      <a:lnTo>
                        <a:pt x="101" y="305"/>
                      </a:lnTo>
                      <a:lnTo>
                        <a:pt x="102" y="307"/>
                      </a:lnTo>
                      <a:lnTo>
                        <a:pt x="102" y="308"/>
                      </a:lnTo>
                      <a:lnTo>
                        <a:pt x="178" y="308"/>
                      </a:lnTo>
                      <a:lnTo>
                        <a:pt x="179" y="307"/>
                      </a:lnTo>
                      <a:lnTo>
                        <a:pt x="181" y="304"/>
                      </a:lnTo>
                      <a:lnTo>
                        <a:pt x="183" y="301"/>
                      </a:lnTo>
                      <a:lnTo>
                        <a:pt x="184" y="298"/>
                      </a:lnTo>
                      <a:lnTo>
                        <a:pt x="187" y="295"/>
                      </a:lnTo>
                      <a:lnTo>
                        <a:pt x="190" y="291"/>
                      </a:lnTo>
                      <a:lnTo>
                        <a:pt x="192" y="288"/>
                      </a:lnTo>
                      <a:lnTo>
                        <a:pt x="195" y="283"/>
                      </a:lnTo>
                      <a:lnTo>
                        <a:pt x="198" y="278"/>
                      </a:lnTo>
                      <a:lnTo>
                        <a:pt x="202" y="273"/>
                      </a:lnTo>
                      <a:lnTo>
                        <a:pt x="205" y="268"/>
                      </a:lnTo>
                      <a:lnTo>
                        <a:pt x="208" y="262"/>
                      </a:lnTo>
                      <a:lnTo>
                        <a:pt x="210" y="259"/>
                      </a:lnTo>
                      <a:lnTo>
                        <a:pt x="211" y="256"/>
                      </a:lnTo>
                      <a:lnTo>
                        <a:pt x="213" y="253"/>
                      </a:lnTo>
                      <a:lnTo>
                        <a:pt x="215" y="250"/>
                      </a:lnTo>
                      <a:lnTo>
                        <a:pt x="217" y="247"/>
                      </a:lnTo>
                      <a:lnTo>
                        <a:pt x="219" y="243"/>
                      </a:lnTo>
                      <a:lnTo>
                        <a:pt x="220" y="240"/>
                      </a:lnTo>
                      <a:lnTo>
                        <a:pt x="222" y="237"/>
                      </a:lnTo>
                      <a:lnTo>
                        <a:pt x="224" y="233"/>
                      </a:lnTo>
                      <a:lnTo>
                        <a:pt x="225" y="230"/>
                      </a:lnTo>
                      <a:lnTo>
                        <a:pt x="227" y="226"/>
                      </a:lnTo>
                      <a:lnTo>
                        <a:pt x="229" y="223"/>
                      </a:lnTo>
                      <a:lnTo>
                        <a:pt x="230" y="219"/>
                      </a:lnTo>
                      <a:lnTo>
                        <a:pt x="231" y="215"/>
                      </a:lnTo>
                      <a:lnTo>
                        <a:pt x="233" y="211"/>
                      </a:lnTo>
                      <a:lnTo>
                        <a:pt x="235" y="209"/>
                      </a:lnTo>
                      <a:lnTo>
                        <a:pt x="236" y="205"/>
                      </a:lnTo>
                      <a:lnTo>
                        <a:pt x="238" y="201"/>
                      </a:lnTo>
                      <a:lnTo>
                        <a:pt x="240" y="197"/>
                      </a:lnTo>
                      <a:lnTo>
                        <a:pt x="241" y="194"/>
                      </a:lnTo>
                      <a:lnTo>
                        <a:pt x="243" y="190"/>
                      </a:lnTo>
                      <a:lnTo>
                        <a:pt x="244" y="186"/>
                      </a:lnTo>
                      <a:lnTo>
                        <a:pt x="245" y="182"/>
                      </a:lnTo>
                      <a:lnTo>
                        <a:pt x="247" y="179"/>
                      </a:lnTo>
                      <a:lnTo>
                        <a:pt x="248" y="174"/>
                      </a:lnTo>
                      <a:lnTo>
                        <a:pt x="249" y="171"/>
                      </a:lnTo>
                      <a:lnTo>
                        <a:pt x="250" y="168"/>
                      </a:lnTo>
                      <a:lnTo>
                        <a:pt x="250" y="164"/>
                      </a:lnTo>
                      <a:lnTo>
                        <a:pt x="251" y="160"/>
                      </a:lnTo>
                      <a:lnTo>
                        <a:pt x="251" y="156"/>
                      </a:lnTo>
                      <a:lnTo>
                        <a:pt x="252" y="153"/>
                      </a:lnTo>
                      <a:lnTo>
                        <a:pt x="253" y="150"/>
                      </a:lnTo>
                      <a:lnTo>
                        <a:pt x="253" y="146"/>
                      </a:lnTo>
                      <a:lnTo>
                        <a:pt x="253" y="142"/>
                      </a:lnTo>
                      <a:lnTo>
                        <a:pt x="254" y="138"/>
                      </a:lnTo>
                      <a:lnTo>
                        <a:pt x="255" y="135"/>
                      </a:lnTo>
                      <a:lnTo>
                        <a:pt x="254" y="132"/>
                      </a:lnTo>
                      <a:lnTo>
                        <a:pt x="254" y="128"/>
                      </a:lnTo>
                      <a:lnTo>
                        <a:pt x="254" y="124"/>
                      </a:lnTo>
                      <a:lnTo>
                        <a:pt x="254" y="121"/>
                      </a:lnTo>
                      <a:lnTo>
                        <a:pt x="253" y="117"/>
                      </a:lnTo>
                      <a:lnTo>
                        <a:pt x="253" y="115"/>
                      </a:lnTo>
                      <a:lnTo>
                        <a:pt x="252" y="112"/>
                      </a:lnTo>
                      <a:lnTo>
                        <a:pt x="252" y="108"/>
                      </a:lnTo>
                      <a:lnTo>
                        <a:pt x="251" y="105"/>
                      </a:lnTo>
                      <a:lnTo>
                        <a:pt x="250" y="101"/>
                      </a:lnTo>
                      <a:lnTo>
                        <a:pt x="250" y="98"/>
                      </a:lnTo>
                      <a:lnTo>
                        <a:pt x="249" y="96"/>
                      </a:lnTo>
                      <a:lnTo>
                        <a:pt x="247" y="90"/>
                      </a:lnTo>
                      <a:lnTo>
                        <a:pt x="245" y="84"/>
                      </a:lnTo>
                      <a:lnTo>
                        <a:pt x="241" y="78"/>
                      </a:lnTo>
                      <a:lnTo>
                        <a:pt x="238" y="73"/>
                      </a:lnTo>
                      <a:lnTo>
                        <a:pt x="235" y="68"/>
                      </a:lnTo>
                      <a:lnTo>
                        <a:pt x="231" y="63"/>
                      </a:lnTo>
                      <a:lnTo>
                        <a:pt x="228" y="58"/>
                      </a:lnTo>
                      <a:lnTo>
                        <a:pt x="224" y="53"/>
                      </a:lnTo>
                      <a:lnTo>
                        <a:pt x="219" y="48"/>
                      </a:lnTo>
                      <a:lnTo>
                        <a:pt x="215" y="44"/>
                      </a:lnTo>
                      <a:lnTo>
                        <a:pt x="211" y="39"/>
                      </a:lnTo>
                      <a:lnTo>
                        <a:pt x="205" y="36"/>
                      </a:lnTo>
                      <a:lnTo>
                        <a:pt x="200" y="32"/>
                      </a:lnTo>
                      <a:lnTo>
                        <a:pt x="195" y="28"/>
                      </a:lnTo>
                      <a:lnTo>
                        <a:pt x="191" y="24"/>
                      </a:lnTo>
                      <a:lnTo>
                        <a:pt x="185" y="21"/>
                      </a:lnTo>
                      <a:lnTo>
                        <a:pt x="179" y="19"/>
                      </a:lnTo>
                      <a:lnTo>
                        <a:pt x="174" y="16"/>
                      </a:lnTo>
                      <a:lnTo>
                        <a:pt x="168" y="13"/>
                      </a:lnTo>
                      <a:lnTo>
                        <a:pt x="163" y="11"/>
                      </a:lnTo>
                      <a:lnTo>
                        <a:pt x="157" y="9"/>
                      </a:lnTo>
                      <a:lnTo>
                        <a:pt x="152" y="7"/>
                      </a:lnTo>
                      <a:lnTo>
                        <a:pt x="146" y="5"/>
                      </a:lnTo>
                      <a:lnTo>
                        <a:pt x="140" y="4"/>
                      </a:lnTo>
                      <a:lnTo>
                        <a:pt x="134" y="3"/>
                      </a:lnTo>
                      <a:lnTo>
                        <a:pt x="129" y="2"/>
                      </a:lnTo>
                      <a:lnTo>
                        <a:pt x="123" y="0"/>
                      </a:lnTo>
                      <a:lnTo>
                        <a:pt x="117" y="0"/>
                      </a:lnTo>
                      <a:lnTo>
                        <a:pt x="112" y="0"/>
                      </a:lnTo>
                      <a:lnTo>
                        <a:pt x="106" y="0"/>
                      </a:lnTo>
                      <a:lnTo>
                        <a:pt x="101" y="0"/>
                      </a:lnTo>
                      <a:lnTo>
                        <a:pt x="95" y="0"/>
                      </a:lnTo>
                      <a:lnTo>
                        <a:pt x="91" y="0"/>
                      </a:lnTo>
                      <a:lnTo>
                        <a:pt x="86" y="1"/>
                      </a:lnTo>
                      <a:lnTo>
                        <a:pt x="81" y="1"/>
                      </a:lnTo>
                      <a:lnTo>
                        <a:pt x="76" y="3"/>
                      </a:lnTo>
                      <a:lnTo>
                        <a:pt x="72" y="4"/>
                      </a:lnTo>
                      <a:lnTo>
                        <a:pt x="67" y="5"/>
                      </a:lnTo>
                      <a:lnTo>
                        <a:pt x="62" y="7"/>
                      </a:lnTo>
                      <a:lnTo>
                        <a:pt x="58" y="8"/>
                      </a:lnTo>
                      <a:lnTo>
                        <a:pt x="54" y="10"/>
                      </a:lnTo>
                      <a:lnTo>
                        <a:pt x="51" y="12"/>
                      </a:lnTo>
                      <a:lnTo>
                        <a:pt x="46" y="13"/>
                      </a:lnTo>
                      <a:lnTo>
                        <a:pt x="43" y="15"/>
                      </a:lnTo>
                      <a:lnTo>
                        <a:pt x="39" y="16"/>
                      </a:lnTo>
                      <a:lnTo>
                        <a:pt x="37" y="17"/>
                      </a:lnTo>
                      <a:lnTo>
                        <a:pt x="34" y="18"/>
                      </a:lnTo>
                      <a:lnTo>
                        <a:pt x="31" y="20"/>
                      </a:lnTo>
                      <a:lnTo>
                        <a:pt x="28" y="21"/>
                      </a:lnTo>
                      <a:lnTo>
                        <a:pt x="27" y="23"/>
                      </a:lnTo>
                      <a:lnTo>
                        <a:pt x="22" y="24"/>
                      </a:lnTo>
                      <a:lnTo>
                        <a:pt x="19" y="27"/>
                      </a:lnTo>
                      <a:lnTo>
                        <a:pt x="18" y="28"/>
                      </a:lnTo>
                      <a:lnTo>
                        <a:pt x="18" y="29"/>
                      </a:lnTo>
                      <a:lnTo>
                        <a:pt x="18" y="29"/>
                      </a:lnTo>
                      <a:close/>
                    </a:path>
                  </a:pathLst>
                </a:custGeom>
                <a:solidFill>
                  <a:srgbClr val="1a1a1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7436880" y="2198160"/>
                  <a:ext cx="79560" cy="60840"/>
                </a:xfrm>
                <a:custGeom>
                  <a:avLst/>
                  <a:gdLst/>
                  <a:ahLst/>
                  <a:rect l="l" t="t" r="r" b="b"/>
                  <a:pathLst>
                    <a:path w="80" h="78">
                      <a:moveTo>
                        <a:pt x="9" y="0"/>
                      </a:moveTo>
                      <a:lnTo>
                        <a:pt x="80" y="71"/>
                      </a:lnTo>
                      <a:lnTo>
                        <a:pt x="78" y="73"/>
                      </a:lnTo>
                      <a:lnTo>
                        <a:pt x="75" y="75"/>
                      </a:lnTo>
                      <a:lnTo>
                        <a:pt x="72" y="76"/>
                      </a:lnTo>
                      <a:lnTo>
                        <a:pt x="70" y="78"/>
                      </a:lnTo>
                      <a:lnTo>
                        <a:pt x="66" y="78"/>
                      </a:lnTo>
                      <a:lnTo>
                        <a:pt x="63" y="78"/>
                      </a:lnTo>
                      <a:lnTo>
                        <a:pt x="61" y="76"/>
                      </a:lnTo>
                      <a:lnTo>
                        <a:pt x="57" y="73"/>
                      </a:lnTo>
                      <a:lnTo>
                        <a:pt x="53" y="71"/>
                      </a:lnTo>
                      <a:lnTo>
                        <a:pt x="50" y="68"/>
                      </a:lnTo>
                      <a:lnTo>
                        <a:pt x="47" y="65"/>
                      </a:lnTo>
                      <a:lnTo>
                        <a:pt x="45" y="62"/>
                      </a:lnTo>
                      <a:lnTo>
                        <a:pt x="43" y="59"/>
                      </a:lnTo>
                      <a:lnTo>
                        <a:pt x="42" y="61"/>
                      </a:lnTo>
                      <a:lnTo>
                        <a:pt x="38" y="65"/>
                      </a:lnTo>
                      <a:lnTo>
                        <a:pt x="34" y="66"/>
                      </a:lnTo>
                      <a:lnTo>
                        <a:pt x="31" y="67"/>
                      </a:lnTo>
                      <a:lnTo>
                        <a:pt x="28" y="67"/>
                      </a:lnTo>
                      <a:lnTo>
                        <a:pt x="26" y="67"/>
                      </a:lnTo>
                      <a:lnTo>
                        <a:pt x="24" y="63"/>
                      </a:lnTo>
                      <a:lnTo>
                        <a:pt x="22" y="59"/>
                      </a:lnTo>
                      <a:lnTo>
                        <a:pt x="21" y="54"/>
                      </a:lnTo>
                      <a:lnTo>
                        <a:pt x="20" y="51"/>
                      </a:lnTo>
                      <a:lnTo>
                        <a:pt x="19" y="46"/>
                      </a:lnTo>
                      <a:lnTo>
                        <a:pt x="18" y="42"/>
                      </a:lnTo>
                      <a:lnTo>
                        <a:pt x="18" y="38"/>
                      </a:lnTo>
                      <a:lnTo>
                        <a:pt x="18" y="38"/>
                      </a:lnTo>
                      <a:lnTo>
                        <a:pt x="15" y="38"/>
                      </a:lnTo>
                      <a:lnTo>
                        <a:pt x="10" y="38"/>
                      </a:lnTo>
                      <a:lnTo>
                        <a:pt x="7" y="38"/>
                      </a:lnTo>
                      <a:lnTo>
                        <a:pt x="4" y="37"/>
                      </a:lnTo>
                      <a:lnTo>
                        <a:pt x="2" y="35"/>
                      </a:lnTo>
                      <a:lnTo>
                        <a:pt x="1" y="33"/>
                      </a:lnTo>
                      <a:lnTo>
                        <a:pt x="0" y="27"/>
                      </a:lnTo>
                      <a:lnTo>
                        <a:pt x="1" y="22"/>
                      </a:lnTo>
                      <a:lnTo>
                        <a:pt x="2" y="16"/>
                      </a:lnTo>
                      <a:lnTo>
                        <a:pt x="3" y="12"/>
                      </a:lnTo>
                      <a:lnTo>
                        <a:pt x="5" y="7"/>
                      </a:lnTo>
                      <a:lnTo>
                        <a:pt x="6" y="3"/>
                      </a:lnTo>
                      <a:lnTo>
                        <a:pt x="8" y="0"/>
                      </a:lnTo>
                      <a:lnTo>
                        <a:pt x="9" y="0"/>
                      </a:lnTo>
                      <a:lnTo>
                        <a:pt x="9" y="0"/>
                      </a:lnTo>
                      <a:close/>
                    </a:path>
                  </a:pathLst>
                </a:custGeom>
                <a:solidFill>
                  <a:srgbClr val="4d4d4d"/>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91" name=""/>
                <p:cNvSpPr/>
                <p:nvPr/>
              </p:nvSpPr>
              <p:spPr>
                <a:xfrm>
                  <a:off x="7437960" y="1644840"/>
                  <a:ext cx="222480" cy="200880"/>
                </a:xfrm>
                <a:custGeom>
                  <a:avLst/>
                  <a:gdLst/>
                  <a:ahLst/>
                  <a:rect l="l" t="t" r="r" b="b"/>
                  <a:pathLst>
                    <a:path w="223" h="257">
                      <a:moveTo>
                        <a:pt x="223" y="0"/>
                      </a:moveTo>
                      <a:lnTo>
                        <a:pt x="90" y="152"/>
                      </a:lnTo>
                      <a:lnTo>
                        <a:pt x="146" y="196"/>
                      </a:lnTo>
                      <a:lnTo>
                        <a:pt x="145" y="194"/>
                      </a:lnTo>
                      <a:lnTo>
                        <a:pt x="142" y="193"/>
                      </a:lnTo>
                      <a:lnTo>
                        <a:pt x="139" y="192"/>
                      </a:lnTo>
                      <a:lnTo>
                        <a:pt x="137" y="191"/>
                      </a:lnTo>
                      <a:lnTo>
                        <a:pt x="134" y="190"/>
                      </a:lnTo>
                      <a:lnTo>
                        <a:pt x="131" y="190"/>
                      </a:lnTo>
                      <a:lnTo>
                        <a:pt x="126" y="189"/>
                      </a:lnTo>
                      <a:lnTo>
                        <a:pt x="122" y="189"/>
                      </a:lnTo>
                      <a:lnTo>
                        <a:pt x="118" y="188"/>
                      </a:lnTo>
                      <a:lnTo>
                        <a:pt x="113" y="189"/>
                      </a:lnTo>
                      <a:lnTo>
                        <a:pt x="106" y="189"/>
                      </a:lnTo>
                      <a:lnTo>
                        <a:pt x="101" y="191"/>
                      </a:lnTo>
                      <a:lnTo>
                        <a:pt x="98" y="192"/>
                      </a:lnTo>
                      <a:lnTo>
                        <a:pt x="95" y="193"/>
                      </a:lnTo>
                      <a:lnTo>
                        <a:pt x="92" y="195"/>
                      </a:lnTo>
                      <a:lnTo>
                        <a:pt x="89" y="197"/>
                      </a:lnTo>
                      <a:lnTo>
                        <a:pt x="85" y="198"/>
                      </a:lnTo>
                      <a:lnTo>
                        <a:pt x="82" y="200"/>
                      </a:lnTo>
                      <a:lnTo>
                        <a:pt x="79" y="201"/>
                      </a:lnTo>
                      <a:lnTo>
                        <a:pt x="75" y="204"/>
                      </a:lnTo>
                      <a:lnTo>
                        <a:pt x="71" y="205"/>
                      </a:lnTo>
                      <a:lnTo>
                        <a:pt x="68" y="206"/>
                      </a:lnTo>
                      <a:lnTo>
                        <a:pt x="65" y="209"/>
                      </a:lnTo>
                      <a:lnTo>
                        <a:pt x="61" y="212"/>
                      </a:lnTo>
                      <a:lnTo>
                        <a:pt x="58" y="214"/>
                      </a:lnTo>
                      <a:lnTo>
                        <a:pt x="55" y="217"/>
                      </a:lnTo>
                      <a:lnTo>
                        <a:pt x="51" y="219"/>
                      </a:lnTo>
                      <a:lnTo>
                        <a:pt x="48" y="222"/>
                      </a:lnTo>
                      <a:lnTo>
                        <a:pt x="44" y="224"/>
                      </a:lnTo>
                      <a:lnTo>
                        <a:pt x="41" y="226"/>
                      </a:lnTo>
                      <a:lnTo>
                        <a:pt x="39" y="229"/>
                      </a:lnTo>
                      <a:lnTo>
                        <a:pt x="36" y="232"/>
                      </a:lnTo>
                      <a:lnTo>
                        <a:pt x="33" y="234"/>
                      </a:lnTo>
                      <a:lnTo>
                        <a:pt x="29" y="237"/>
                      </a:lnTo>
                      <a:lnTo>
                        <a:pt x="27" y="239"/>
                      </a:lnTo>
                      <a:lnTo>
                        <a:pt x="24" y="242"/>
                      </a:lnTo>
                      <a:lnTo>
                        <a:pt x="20" y="245"/>
                      </a:lnTo>
                      <a:lnTo>
                        <a:pt x="17" y="249"/>
                      </a:lnTo>
                      <a:lnTo>
                        <a:pt x="13" y="252"/>
                      </a:lnTo>
                      <a:lnTo>
                        <a:pt x="11" y="254"/>
                      </a:lnTo>
                      <a:lnTo>
                        <a:pt x="9" y="256"/>
                      </a:lnTo>
                      <a:lnTo>
                        <a:pt x="9" y="257"/>
                      </a:lnTo>
                      <a:lnTo>
                        <a:pt x="0" y="226"/>
                      </a:lnTo>
                      <a:lnTo>
                        <a:pt x="0" y="225"/>
                      </a:lnTo>
                      <a:lnTo>
                        <a:pt x="2" y="223"/>
                      </a:lnTo>
                      <a:lnTo>
                        <a:pt x="3" y="220"/>
                      </a:lnTo>
                      <a:lnTo>
                        <a:pt x="4" y="218"/>
                      </a:lnTo>
                      <a:lnTo>
                        <a:pt x="7" y="214"/>
                      </a:lnTo>
                      <a:lnTo>
                        <a:pt x="9" y="211"/>
                      </a:lnTo>
                      <a:lnTo>
                        <a:pt x="12" y="206"/>
                      </a:lnTo>
                      <a:lnTo>
                        <a:pt x="14" y="204"/>
                      </a:lnTo>
                      <a:lnTo>
                        <a:pt x="18" y="198"/>
                      </a:lnTo>
                      <a:lnTo>
                        <a:pt x="21" y="194"/>
                      </a:lnTo>
                      <a:lnTo>
                        <a:pt x="24" y="188"/>
                      </a:lnTo>
                      <a:lnTo>
                        <a:pt x="28" y="184"/>
                      </a:lnTo>
                      <a:lnTo>
                        <a:pt x="32" y="178"/>
                      </a:lnTo>
                      <a:lnTo>
                        <a:pt x="37" y="173"/>
                      </a:lnTo>
                      <a:lnTo>
                        <a:pt x="39" y="169"/>
                      </a:lnTo>
                      <a:lnTo>
                        <a:pt x="41" y="167"/>
                      </a:lnTo>
                      <a:lnTo>
                        <a:pt x="42" y="164"/>
                      </a:lnTo>
                      <a:lnTo>
                        <a:pt x="45" y="161"/>
                      </a:lnTo>
                      <a:lnTo>
                        <a:pt x="47" y="157"/>
                      </a:lnTo>
                      <a:lnTo>
                        <a:pt x="50" y="154"/>
                      </a:lnTo>
                      <a:lnTo>
                        <a:pt x="52" y="151"/>
                      </a:lnTo>
                      <a:lnTo>
                        <a:pt x="55" y="148"/>
                      </a:lnTo>
                      <a:lnTo>
                        <a:pt x="57" y="146"/>
                      </a:lnTo>
                      <a:lnTo>
                        <a:pt x="60" y="142"/>
                      </a:lnTo>
                      <a:lnTo>
                        <a:pt x="61" y="139"/>
                      </a:lnTo>
                      <a:lnTo>
                        <a:pt x="64" y="136"/>
                      </a:lnTo>
                      <a:lnTo>
                        <a:pt x="66" y="133"/>
                      </a:lnTo>
                      <a:lnTo>
                        <a:pt x="69" y="129"/>
                      </a:lnTo>
                      <a:lnTo>
                        <a:pt x="71" y="127"/>
                      </a:lnTo>
                      <a:lnTo>
                        <a:pt x="75" y="124"/>
                      </a:lnTo>
                      <a:lnTo>
                        <a:pt x="77" y="121"/>
                      </a:lnTo>
                      <a:lnTo>
                        <a:pt x="79" y="117"/>
                      </a:lnTo>
                      <a:lnTo>
                        <a:pt x="82" y="114"/>
                      </a:lnTo>
                      <a:lnTo>
                        <a:pt x="85" y="111"/>
                      </a:lnTo>
                      <a:lnTo>
                        <a:pt x="87" y="108"/>
                      </a:lnTo>
                      <a:lnTo>
                        <a:pt x="90" y="105"/>
                      </a:lnTo>
                      <a:lnTo>
                        <a:pt x="93" y="102"/>
                      </a:lnTo>
                      <a:lnTo>
                        <a:pt x="96" y="99"/>
                      </a:lnTo>
                      <a:lnTo>
                        <a:pt x="98" y="96"/>
                      </a:lnTo>
                      <a:lnTo>
                        <a:pt x="101" y="92"/>
                      </a:lnTo>
                      <a:lnTo>
                        <a:pt x="103" y="90"/>
                      </a:lnTo>
                      <a:lnTo>
                        <a:pt x="106" y="88"/>
                      </a:lnTo>
                      <a:lnTo>
                        <a:pt x="112" y="81"/>
                      </a:lnTo>
                      <a:lnTo>
                        <a:pt x="118" y="76"/>
                      </a:lnTo>
                      <a:lnTo>
                        <a:pt x="122" y="71"/>
                      </a:lnTo>
                      <a:lnTo>
                        <a:pt x="128" y="67"/>
                      </a:lnTo>
                      <a:lnTo>
                        <a:pt x="133" y="61"/>
                      </a:lnTo>
                      <a:lnTo>
                        <a:pt x="138" y="56"/>
                      </a:lnTo>
                      <a:lnTo>
                        <a:pt x="143" y="52"/>
                      </a:lnTo>
                      <a:lnTo>
                        <a:pt x="148" y="48"/>
                      </a:lnTo>
                      <a:lnTo>
                        <a:pt x="153" y="44"/>
                      </a:lnTo>
                      <a:lnTo>
                        <a:pt x="157" y="40"/>
                      </a:lnTo>
                      <a:lnTo>
                        <a:pt x="162" y="36"/>
                      </a:lnTo>
                      <a:lnTo>
                        <a:pt x="166" y="33"/>
                      </a:lnTo>
                      <a:lnTo>
                        <a:pt x="171" y="30"/>
                      </a:lnTo>
                      <a:lnTo>
                        <a:pt x="175" y="27"/>
                      </a:lnTo>
                      <a:lnTo>
                        <a:pt x="178" y="24"/>
                      </a:lnTo>
                      <a:lnTo>
                        <a:pt x="183" y="21"/>
                      </a:lnTo>
                      <a:lnTo>
                        <a:pt x="187" y="19"/>
                      </a:lnTo>
                      <a:lnTo>
                        <a:pt x="191" y="17"/>
                      </a:lnTo>
                      <a:lnTo>
                        <a:pt x="195" y="14"/>
                      </a:lnTo>
                      <a:lnTo>
                        <a:pt x="197" y="13"/>
                      </a:lnTo>
                      <a:lnTo>
                        <a:pt x="200" y="11"/>
                      </a:lnTo>
                      <a:lnTo>
                        <a:pt x="204" y="9"/>
                      </a:lnTo>
                      <a:lnTo>
                        <a:pt x="209" y="5"/>
                      </a:lnTo>
                      <a:lnTo>
                        <a:pt x="214" y="4"/>
                      </a:lnTo>
                      <a:lnTo>
                        <a:pt x="217" y="1"/>
                      </a:lnTo>
                      <a:lnTo>
                        <a:pt x="220" y="0"/>
                      </a:lnTo>
                      <a:lnTo>
                        <a:pt x="221" y="0"/>
                      </a:lnTo>
                      <a:lnTo>
                        <a:pt x="223" y="0"/>
                      </a:lnTo>
                      <a:lnTo>
                        <a:pt x="223" y="0"/>
                      </a:lnTo>
                      <a:close/>
                    </a:path>
                  </a:pathLst>
                </a:custGeom>
                <a:solidFill>
                  <a:srgbClr val="e6ff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7769160" y="1790280"/>
                  <a:ext cx="45720" cy="43560"/>
                </a:xfrm>
                <a:custGeom>
                  <a:avLst/>
                  <a:gdLst/>
                  <a:ahLst/>
                  <a:rect l="l" t="t" r="r" b="b"/>
                  <a:pathLst>
                    <a:path w="46" h="56">
                      <a:moveTo>
                        <a:pt x="0" y="0"/>
                      </a:moveTo>
                      <a:lnTo>
                        <a:pt x="46" y="1"/>
                      </a:lnTo>
                      <a:lnTo>
                        <a:pt x="27" y="56"/>
                      </a:lnTo>
                      <a:lnTo>
                        <a:pt x="0" y="0"/>
                      </a:lnTo>
                      <a:lnTo>
                        <a:pt x="0" y="0"/>
                      </a:lnTo>
                      <a:close/>
                    </a:path>
                  </a:pathLst>
                </a:custGeom>
                <a:solidFill>
                  <a:srgbClr val="b0c2b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93" name=""/>
                <p:cNvSpPr/>
                <p:nvPr/>
              </p:nvSpPr>
              <p:spPr>
                <a:xfrm>
                  <a:off x="7419960" y="1846080"/>
                  <a:ext cx="54720" cy="74880"/>
                </a:xfrm>
                <a:custGeom>
                  <a:avLst/>
                  <a:gdLst/>
                  <a:ahLst/>
                  <a:rect l="l" t="t" r="r" b="b"/>
                  <a:pathLst>
                    <a:path w="55" h="96">
                      <a:moveTo>
                        <a:pt x="30" y="0"/>
                      </a:moveTo>
                      <a:lnTo>
                        <a:pt x="55" y="96"/>
                      </a:lnTo>
                      <a:lnTo>
                        <a:pt x="0" y="47"/>
                      </a:lnTo>
                      <a:lnTo>
                        <a:pt x="30" y="0"/>
                      </a:lnTo>
                      <a:lnTo>
                        <a:pt x="30" y="0"/>
                      </a:lnTo>
                      <a:close/>
                    </a:path>
                  </a:pathLst>
                </a:custGeom>
                <a:solidFill>
                  <a:srgbClr val="d4ebd4"/>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94" name=""/>
                <p:cNvSpPr/>
                <p:nvPr/>
              </p:nvSpPr>
              <p:spPr>
                <a:xfrm>
                  <a:off x="7691400" y="1527840"/>
                  <a:ext cx="42840" cy="74160"/>
                </a:xfrm>
                <a:custGeom>
                  <a:avLst/>
                  <a:gdLst/>
                  <a:ahLst/>
                  <a:rect l="l" t="t" r="r" b="b"/>
                  <a:pathLst>
                    <a:path w="43" h="95">
                      <a:moveTo>
                        <a:pt x="43" y="25"/>
                      </a:moveTo>
                      <a:lnTo>
                        <a:pt x="35" y="0"/>
                      </a:lnTo>
                      <a:lnTo>
                        <a:pt x="33" y="0"/>
                      </a:lnTo>
                      <a:lnTo>
                        <a:pt x="30" y="2"/>
                      </a:lnTo>
                      <a:lnTo>
                        <a:pt x="25" y="5"/>
                      </a:lnTo>
                      <a:lnTo>
                        <a:pt x="21" y="9"/>
                      </a:lnTo>
                      <a:lnTo>
                        <a:pt x="18" y="10"/>
                      </a:lnTo>
                      <a:lnTo>
                        <a:pt x="15" y="13"/>
                      </a:lnTo>
                      <a:lnTo>
                        <a:pt x="12" y="16"/>
                      </a:lnTo>
                      <a:lnTo>
                        <a:pt x="10" y="20"/>
                      </a:lnTo>
                      <a:lnTo>
                        <a:pt x="7" y="24"/>
                      </a:lnTo>
                      <a:lnTo>
                        <a:pt x="6" y="27"/>
                      </a:lnTo>
                      <a:lnTo>
                        <a:pt x="3" y="31"/>
                      </a:lnTo>
                      <a:lnTo>
                        <a:pt x="3" y="36"/>
                      </a:lnTo>
                      <a:lnTo>
                        <a:pt x="1" y="41"/>
                      </a:lnTo>
                      <a:lnTo>
                        <a:pt x="1" y="46"/>
                      </a:lnTo>
                      <a:lnTo>
                        <a:pt x="0" y="50"/>
                      </a:lnTo>
                      <a:lnTo>
                        <a:pt x="0" y="56"/>
                      </a:lnTo>
                      <a:lnTo>
                        <a:pt x="0" y="61"/>
                      </a:lnTo>
                      <a:lnTo>
                        <a:pt x="0" y="66"/>
                      </a:lnTo>
                      <a:lnTo>
                        <a:pt x="1" y="70"/>
                      </a:lnTo>
                      <a:lnTo>
                        <a:pt x="2" y="75"/>
                      </a:lnTo>
                      <a:lnTo>
                        <a:pt x="2" y="79"/>
                      </a:lnTo>
                      <a:lnTo>
                        <a:pt x="3" y="83"/>
                      </a:lnTo>
                      <a:lnTo>
                        <a:pt x="4" y="87"/>
                      </a:lnTo>
                      <a:lnTo>
                        <a:pt x="5" y="89"/>
                      </a:lnTo>
                      <a:lnTo>
                        <a:pt x="6" y="94"/>
                      </a:lnTo>
                      <a:lnTo>
                        <a:pt x="7" y="95"/>
                      </a:lnTo>
                      <a:lnTo>
                        <a:pt x="43" y="25"/>
                      </a:lnTo>
                      <a:lnTo>
                        <a:pt x="43" y="25"/>
                      </a:lnTo>
                      <a:close/>
                    </a:path>
                  </a:pathLst>
                </a:custGeom>
                <a:solidFill>
                  <a:srgbClr val="693600"/>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195" name=""/>
                <p:cNvSpPr/>
                <p:nvPr/>
              </p:nvSpPr>
              <p:spPr>
                <a:xfrm>
                  <a:off x="6923520" y="1774080"/>
                  <a:ext cx="91800" cy="151560"/>
                </a:xfrm>
                <a:custGeom>
                  <a:avLst/>
                  <a:gdLst/>
                  <a:ahLst/>
                  <a:rect l="l" t="t" r="r" b="b"/>
                  <a:pathLst>
                    <a:path w="92" h="194">
                      <a:moveTo>
                        <a:pt x="22" y="0"/>
                      </a:moveTo>
                      <a:lnTo>
                        <a:pt x="92" y="88"/>
                      </a:lnTo>
                      <a:lnTo>
                        <a:pt x="0" y="194"/>
                      </a:lnTo>
                      <a:lnTo>
                        <a:pt x="1" y="21"/>
                      </a:lnTo>
                      <a:lnTo>
                        <a:pt x="22" y="0"/>
                      </a:lnTo>
                      <a:lnTo>
                        <a:pt x="22" y="0"/>
                      </a:lnTo>
                      <a:close/>
                    </a:path>
                  </a:pathLst>
                </a:custGeom>
                <a:solidFill>
                  <a:srgbClr val="debfe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6440400" y="2167560"/>
                  <a:ext cx="17640" cy="43560"/>
                </a:xfrm>
                <a:custGeom>
                  <a:avLst/>
                  <a:gdLst/>
                  <a:ahLst/>
                  <a:rect l="l" t="t" r="r" b="b"/>
                  <a:pathLst>
                    <a:path w="18" h="56">
                      <a:moveTo>
                        <a:pt x="18" y="0"/>
                      </a:moveTo>
                      <a:lnTo>
                        <a:pt x="18" y="56"/>
                      </a:lnTo>
                      <a:lnTo>
                        <a:pt x="0" y="31"/>
                      </a:lnTo>
                      <a:lnTo>
                        <a:pt x="18" y="0"/>
                      </a:lnTo>
                      <a:lnTo>
                        <a:pt x="18" y="0"/>
                      </a:lnTo>
                      <a:close/>
                    </a:path>
                  </a:pathLst>
                </a:custGeom>
                <a:solidFill>
                  <a:srgbClr val="8aa1ff"/>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97" name=""/>
                <p:cNvSpPr/>
                <p:nvPr/>
              </p:nvSpPr>
              <p:spPr>
                <a:xfrm>
                  <a:off x="6430680" y="2221560"/>
                  <a:ext cx="28800" cy="153000"/>
                </a:xfrm>
                <a:custGeom>
                  <a:avLst/>
                  <a:gdLst/>
                  <a:ahLst/>
                  <a:rect l="l" t="t" r="r" b="b"/>
                  <a:pathLst>
                    <a:path w="29" h="196">
                      <a:moveTo>
                        <a:pt x="29" y="0"/>
                      </a:moveTo>
                      <a:lnTo>
                        <a:pt x="26" y="196"/>
                      </a:lnTo>
                      <a:lnTo>
                        <a:pt x="0" y="176"/>
                      </a:lnTo>
                      <a:lnTo>
                        <a:pt x="29" y="0"/>
                      </a:lnTo>
                      <a:lnTo>
                        <a:pt x="29" y="0"/>
                      </a:lnTo>
                      <a:close/>
                    </a:path>
                  </a:pathLst>
                </a:custGeom>
                <a:solidFill>
                  <a:srgbClr val="8aa1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6716880" y="2424960"/>
                  <a:ext cx="101520" cy="117000"/>
                </a:xfrm>
                <a:custGeom>
                  <a:avLst/>
                  <a:gdLst/>
                  <a:ahLst/>
                  <a:rect l="l" t="t" r="r" b="b"/>
                  <a:pathLst>
                    <a:path w="102" h="150">
                      <a:moveTo>
                        <a:pt x="102" y="150"/>
                      </a:moveTo>
                      <a:lnTo>
                        <a:pt x="101" y="148"/>
                      </a:lnTo>
                      <a:lnTo>
                        <a:pt x="101" y="145"/>
                      </a:lnTo>
                      <a:lnTo>
                        <a:pt x="100" y="141"/>
                      </a:lnTo>
                      <a:lnTo>
                        <a:pt x="98" y="138"/>
                      </a:lnTo>
                      <a:lnTo>
                        <a:pt x="97" y="133"/>
                      </a:lnTo>
                      <a:lnTo>
                        <a:pt x="96" y="129"/>
                      </a:lnTo>
                      <a:lnTo>
                        <a:pt x="94" y="125"/>
                      </a:lnTo>
                      <a:lnTo>
                        <a:pt x="92" y="119"/>
                      </a:lnTo>
                      <a:lnTo>
                        <a:pt x="89" y="113"/>
                      </a:lnTo>
                      <a:lnTo>
                        <a:pt x="87" y="108"/>
                      </a:lnTo>
                      <a:lnTo>
                        <a:pt x="85" y="105"/>
                      </a:lnTo>
                      <a:lnTo>
                        <a:pt x="84" y="101"/>
                      </a:lnTo>
                      <a:lnTo>
                        <a:pt x="82" y="98"/>
                      </a:lnTo>
                      <a:lnTo>
                        <a:pt x="80" y="94"/>
                      </a:lnTo>
                      <a:lnTo>
                        <a:pt x="78" y="91"/>
                      </a:lnTo>
                      <a:lnTo>
                        <a:pt x="76" y="89"/>
                      </a:lnTo>
                      <a:lnTo>
                        <a:pt x="73" y="85"/>
                      </a:lnTo>
                      <a:lnTo>
                        <a:pt x="72" y="82"/>
                      </a:lnTo>
                      <a:lnTo>
                        <a:pt x="69" y="78"/>
                      </a:lnTo>
                      <a:lnTo>
                        <a:pt x="67" y="74"/>
                      </a:lnTo>
                      <a:lnTo>
                        <a:pt x="64" y="71"/>
                      </a:lnTo>
                      <a:lnTo>
                        <a:pt x="61" y="67"/>
                      </a:lnTo>
                      <a:lnTo>
                        <a:pt x="58" y="63"/>
                      </a:lnTo>
                      <a:lnTo>
                        <a:pt x="55" y="59"/>
                      </a:lnTo>
                      <a:lnTo>
                        <a:pt x="52" y="56"/>
                      </a:lnTo>
                      <a:lnTo>
                        <a:pt x="50" y="52"/>
                      </a:lnTo>
                      <a:lnTo>
                        <a:pt x="47" y="49"/>
                      </a:lnTo>
                      <a:lnTo>
                        <a:pt x="44" y="46"/>
                      </a:lnTo>
                      <a:lnTo>
                        <a:pt x="40" y="42"/>
                      </a:lnTo>
                      <a:lnTo>
                        <a:pt x="37" y="38"/>
                      </a:lnTo>
                      <a:lnTo>
                        <a:pt x="34" y="35"/>
                      </a:lnTo>
                      <a:lnTo>
                        <a:pt x="31" y="32"/>
                      </a:lnTo>
                      <a:lnTo>
                        <a:pt x="29" y="30"/>
                      </a:lnTo>
                      <a:lnTo>
                        <a:pt x="27" y="27"/>
                      </a:lnTo>
                      <a:lnTo>
                        <a:pt x="23" y="23"/>
                      </a:lnTo>
                      <a:lnTo>
                        <a:pt x="20" y="20"/>
                      </a:lnTo>
                      <a:lnTo>
                        <a:pt x="18" y="17"/>
                      </a:lnTo>
                      <a:lnTo>
                        <a:pt x="15" y="15"/>
                      </a:lnTo>
                      <a:lnTo>
                        <a:pt x="10" y="11"/>
                      </a:lnTo>
                      <a:lnTo>
                        <a:pt x="8" y="8"/>
                      </a:lnTo>
                      <a:lnTo>
                        <a:pt x="4" y="4"/>
                      </a:lnTo>
                      <a:lnTo>
                        <a:pt x="2" y="2"/>
                      </a:lnTo>
                      <a:lnTo>
                        <a:pt x="0" y="0"/>
                      </a:lnTo>
                      <a:lnTo>
                        <a:pt x="0" y="1"/>
                      </a:lnTo>
                      <a:lnTo>
                        <a:pt x="0" y="4"/>
                      </a:lnTo>
                      <a:lnTo>
                        <a:pt x="0" y="6"/>
                      </a:lnTo>
                      <a:lnTo>
                        <a:pt x="2" y="9"/>
                      </a:lnTo>
                      <a:lnTo>
                        <a:pt x="2" y="12"/>
                      </a:lnTo>
                      <a:lnTo>
                        <a:pt x="4" y="15"/>
                      </a:lnTo>
                      <a:lnTo>
                        <a:pt x="5" y="18"/>
                      </a:lnTo>
                      <a:lnTo>
                        <a:pt x="7" y="23"/>
                      </a:lnTo>
                      <a:lnTo>
                        <a:pt x="8" y="28"/>
                      </a:lnTo>
                      <a:lnTo>
                        <a:pt x="10" y="32"/>
                      </a:lnTo>
                      <a:lnTo>
                        <a:pt x="11" y="37"/>
                      </a:lnTo>
                      <a:lnTo>
                        <a:pt x="15" y="44"/>
                      </a:lnTo>
                      <a:lnTo>
                        <a:pt x="16" y="46"/>
                      </a:lnTo>
                      <a:lnTo>
                        <a:pt x="18" y="49"/>
                      </a:lnTo>
                      <a:lnTo>
                        <a:pt x="19" y="52"/>
                      </a:lnTo>
                      <a:lnTo>
                        <a:pt x="22" y="55"/>
                      </a:lnTo>
                      <a:lnTo>
                        <a:pt x="23" y="58"/>
                      </a:lnTo>
                      <a:lnTo>
                        <a:pt x="25" y="61"/>
                      </a:lnTo>
                      <a:lnTo>
                        <a:pt x="27" y="65"/>
                      </a:lnTo>
                      <a:lnTo>
                        <a:pt x="28" y="68"/>
                      </a:lnTo>
                      <a:lnTo>
                        <a:pt x="29" y="71"/>
                      </a:lnTo>
                      <a:lnTo>
                        <a:pt x="31" y="74"/>
                      </a:lnTo>
                      <a:lnTo>
                        <a:pt x="33" y="77"/>
                      </a:lnTo>
                      <a:lnTo>
                        <a:pt x="35" y="81"/>
                      </a:lnTo>
                      <a:lnTo>
                        <a:pt x="37" y="83"/>
                      </a:lnTo>
                      <a:lnTo>
                        <a:pt x="39" y="87"/>
                      </a:lnTo>
                      <a:lnTo>
                        <a:pt x="41" y="90"/>
                      </a:lnTo>
                      <a:lnTo>
                        <a:pt x="43" y="93"/>
                      </a:lnTo>
                      <a:lnTo>
                        <a:pt x="45" y="96"/>
                      </a:lnTo>
                      <a:lnTo>
                        <a:pt x="47" y="99"/>
                      </a:lnTo>
                      <a:lnTo>
                        <a:pt x="48" y="102"/>
                      </a:lnTo>
                      <a:lnTo>
                        <a:pt x="51" y="105"/>
                      </a:lnTo>
                      <a:lnTo>
                        <a:pt x="54" y="109"/>
                      </a:lnTo>
                      <a:lnTo>
                        <a:pt x="57" y="115"/>
                      </a:lnTo>
                      <a:lnTo>
                        <a:pt x="60" y="119"/>
                      </a:lnTo>
                      <a:lnTo>
                        <a:pt x="63" y="123"/>
                      </a:lnTo>
                      <a:lnTo>
                        <a:pt x="64" y="126"/>
                      </a:lnTo>
                      <a:lnTo>
                        <a:pt x="66" y="128"/>
                      </a:lnTo>
                      <a:lnTo>
                        <a:pt x="67" y="129"/>
                      </a:lnTo>
                      <a:lnTo>
                        <a:pt x="67" y="130"/>
                      </a:lnTo>
                      <a:lnTo>
                        <a:pt x="102" y="150"/>
                      </a:lnTo>
                      <a:lnTo>
                        <a:pt x="102" y="150"/>
                      </a:lnTo>
                      <a:close/>
                    </a:path>
                  </a:pathLst>
                </a:custGeom>
                <a:solidFill>
                  <a:srgbClr val="63632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6716160" y="2421000"/>
                  <a:ext cx="52920" cy="64800"/>
                </a:xfrm>
                <a:custGeom>
                  <a:avLst/>
                  <a:gdLst/>
                  <a:ahLst/>
                  <a:rect l="l" t="t" r="r" b="b"/>
                  <a:pathLst>
                    <a:path w="53" h="83">
                      <a:moveTo>
                        <a:pt x="0" y="0"/>
                      </a:moveTo>
                      <a:lnTo>
                        <a:pt x="53" y="67"/>
                      </a:lnTo>
                      <a:lnTo>
                        <a:pt x="40" y="83"/>
                      </a:lnTo>
                      <a:lnTo>
                        <a:pt x="0" y="0"/>
                      </a:lnTo>
                      <a:lnTo>
                        <a:pt x="0" y="0"/>
                      </a:lnTo>
                      <a:close/>
                    </a:path>
                  </a:pathLst>
                </a:custGeom>
                <a:solidFill>
                  <a:srgbClr val="bdab2b"/>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00" name=""/>
                <p:cNvSpPr/>
                <p:nvPr/>
              </p:nvSpPr>
              <p:spPr>
                <a:xfrm>
                  <a:off x="6762960" y="2485080"/>
                  <a:ext cx="42840" cy="48960"/>
                </a:xfrm>
                <a:custGeom>
                  <a:avLst/>
                  <a:gdLst/>
                  <a:ahLst/>
                  <a:rect l="l" t="t" r="r" b="b"/>
                  <a:pathLst>
                    <a:path w="43" h="63">
                      <a:moveTo>
                        <a:pt x="12" y="0"/>
                      </a:moveTo>
                      <a:lnTo>
                        <a:pt x="0" y="13"/>
                      </a:lnTo>
                      <a:lnTo>
                        <a:pt x="16" y="41"/>
                      </a:lnTo>
                      <a:lnTo>
                        <a:pt x="43" y="63"/>
                      </a:lnTo>
                      <a:lnTo>
                        <a:pt x="12" y="0"/>
                      </a:lnTo>
                      <a:lnTo>
                        <a:pt x="12" y="0"/>
                      </a:lnTo>
                      <a:close/>
                    </a:path>
                  </a:pathLst>
                </a:custGeom>
                <a:solidFill>
                  <a:srgbClr val="bdab2b"/>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01" name=""/>
                <p:cNvSpPr/>
                <p:nvPr/>
              </p:nvSpPr>
              <p:spPr>
                <a:xfrm>
                  <a:off x="7538760" y="2318400"/>
                  <a:ext cx="123480" cy="100800"/>
                </a:xfrm>
                <a:custGeom>
                  <a:avLst/>
                  <a:gdLst/>
                  <a:ahLst/>
                  <a:rect l="l" t="t" r="r" b="b"/>
                  <a:pathLst>
                    <a:path w="124" h="129">
                      <a:moveTo>
                        <a:pt x="124" y="0"/>
                      </a:moveTo>
                      <a:lnTo>
                        <a:pt x="0" y="125"/>
                      </a:lnTo>
                      <a:lnTo>
                        <a:pt x="66" y="129"/>
                      </a:lnTo>
                      <a:lnTo>
                        <a:pt x="66" y="128"/>
                      </a:lnTo>
                      <a:lnTo>
                        <a:pt x="67" y="126"/>
                      </a:lnTo>
                      <a:lnTo>
                        <a:pt x="68" y="124"/>
                      </a:lnTo>
                      <a:lnTo>
                        <a:pt x="70" y="121"/>
                      </a:lnTo>
                      <a:lnTo>
                        <a:pt x="73" y="117"/>
                      </a:lnTo>
                      <a:lnTo>
                        <a:pt x="75" y="113"/>
                      </a:lnTo>
                      <a:lnTo>
                        <a:pt x="78" y="110"/>
                      </a:lnTo>
                      <a:lnTo>
                        <a:pt x="82" y="105"/>
                      </a:lnTo>
                      <a:lnTo>
                        <a:pt x="85" y="99"/>
                      </a:lnTo>
                      <a:lnTo>
                        <a:pt x="89" y="93"/>
                      </a:lnTo>
                      <a:lnTo>
                        <a:pt x="92" y="88"/>
                      </a:lnTo>
                      <a:lnTo>
                        <a:pt x="96" y="82"/>
                      </a:lnTo>
                      <a:lnTo>
                        <a:pt x="98" y="79"/>
                      </a:lnTo>
                      <a:lnTo>
                        <a:pt x="99" y="76"/>
                      </a:lnTo>
                      <a:lnTo>
                        <a:pt x="101" y="72"/>
                      </a:lnTo>
                      <a:lnTo>
                        <a:pt x="103" y="70"/>
                      </a:lnTo>
                      <a:lnTo>
                        <a:pt x="105" y="67"/>
                      </a:lnTo>
                      <a:lnTo>
                        <a:pt x="106" y="64"/>
                      </a:lnTo>
                      <a:lnTo>
                        <a:pt x="108" y="61"/>
                      </a:lnTo>
                      <a:lnTo>
                        <a:pt x="110" y="58"/>
                      </a:lnTo>
                      <a:lnTo>
                        <a:pt x="110" y="54"/>
                      </a:lnTo>
                      <a:lnTo>
                        <a:pt x="112" y="52"/>
                      </a:lnTo>
                      <a:lnTo>
                        <a:pt x="112" y="49"/>
                      </a:lnTo>
                      <a:lnTo>
                        <a:pt x="113" y="46"/>
                      </a:lnTo>
                      <a:lnTo>
                        <a:pt x="115" y="40"/>
                      </a:lnTo>
                      <a:lnTo>
                        <a:pt x="117" y="35"/>
                      </a:lnTo>
                      <a:lnTo>
                        <a:pt x="118" y="30"/>
                      </a:lnTo>
                      <a:lnTo>
                        <a:pt x="119" y="25"/>
                      </a:lnTo>
                      <a:lnTo>
                        <a:pt x="120" y="21"/>
                      </a:lnTo>
                      <a:lnTo>
                        <a:pt x="122" y="17"/>
                      </a:lnTo>
                      <a:lnTo>
                        <a:pt x="122" y="13"/>
                      </a:lnTo>
                      <a:lnTo>
                        <a:pt x="123" y="10"/>
                      </a:lnTo>
                      <a:lnTo>
                        <a:pt x="123" y="6"/>
                      </a:lnTo>
                      <a:lnTo>
                        <a:pt x="124" y="4"/>
                      </a:lnTo>
                      <a:lnTo>
                        <a:pt x="124" y="1"/>
                      </a:lnTo>
                      <a:lnTo>
                        <a:pt x="124" y="0"/>
                      </a:lnTo>
                      <a:lnTo>
                        <a:pt x="1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02" name=""/>
              <p:cNvSpPr/>
              <p:nvPr/>
            </p:nvSpPr>
            <p:spPr>
              <a:xfrm flipV="1">
                <a:off x="5275440" y="2547720"/>
                <a:ext cx="522000" cy="795240"/>
              </a:xfrm>
              <a:prstGeom prst="line">
                <a:avLst/>
              </a:prstGeom>
              <a:ln cap="rnd" w="63360">
                <a:solidFill>
                  <a:srgbClr val="99ccff"/>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4718160" y="3147840"/>
                <a:ext cx="128592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a:t>
                </a:r>
                <a:r>
                  <a:rPr b="1" lang="en-US" sz="1200" spc="-1" strike="noStrike">
                    <a:solidFill>
                      <a:srgbClr val="000000"/>
                    </a:solidFill>
                    <a:latin typeface="Arial"/>
                    <a:ea typeface="ＭＳ Ｐゴシック"/>
                  </a:rPr>
                  <a:t>Flaw” Compliance Report</a:t>
                </a:r>
                <a:endParaRPr b="0" lang="en-US" sz="1200" spc="-1" strike="noStrike">
                  <a:solidFill>
                    <a:srgbClr val="000000"/>
                  </a:solidFill>
                  <a:latin typeface="Times New Roman"/>
                </a:endParaRPr>
              </a:p>
            </p:txBody>
          </p:sp>
        </p:grpSp>
        <p:pic>
          <p:nvPicPr>
            <p:cNvPr id="204" name="" descr=""/>
            <p:cNvPicPr/>
            <p:nvPr/>
          </p:nvPicPr>
          <p:blipFill>
            <a:blip r:embed="rId12"/>
            <a:stretch/>
          </p:blipFill>
          <p:spPr>
            <a:xfrm>
              <a:off x="4013280" y="4608360"/>
              <a:ext cx="731880" cy="811440"/>
            </a:xfrm>
            <a:prstGeom prst="rect">
              <a:avLst/>
            </a:prstGeom>
            <a:ln w="0">
              <a:noFill/>
            </a:ln>
          </p:spPr>
        </p:pic>
      </p:grpSp>
      <p:grpSp>
        <p:nvGrpSpPr>
          <p:cNvPr id="205" name=""/>
          <p:cNvGrpSpPr/>
          <p:nvPr/>
        </p:nvGrpSpPr>
        <p:grpSpPr>
          <a:xfrm>
            <a:off x="3798720" y="1177920"/>
            <a:ext cx="4143600" cy="4935600"/>
            <a:chOff x="3798720" y="1177920"/>
            <a:chExt cx="4143600" cy="4935600"/>
          </a:xfrm>
        </p:grpSpPr>
        <p:sp>
          <p:nvSpPr>
            <p:cNvPr id="206" name=""/>
            <p:cNvSpPr/>
            <p:nvPr/>
          </p:nvSpPr>
          <p:spPr>
            <a:xfrm>
              <a:off x="3798720" y="1193760"/>
              <a:ext cx="4143600" cy="4919760"/>
            </a:xfrm>
            <a:custGeom>
              <a:avLst/>
              <a:gdLst/>
              <a:ahLst/>
              <a:rect l="l" t="t" r="r" b="b"/>
              <a:pathLst>
                <a:path w="2610" h="3099">
                  <a:moveTo>
                    <a:pt x="7" y="2495"/>
                  </a:moveTo>
                  <a:lnTo>
                    <a:pt x="0" y="2251"/>
                  </a:lnTo>
                  <a:lnTo>
                    <a:pt x="536" y="1688"/>
                  </a:lnTo>
                  <a:cubicBezTo>
                    <a:pt x="1032" y="1070"/>
                    <a:pt x="1031" y="1335"/>
                    <a:pt x="1031" y="1065"/>
                  </a:cubicBezTo>
                  <a:lnTo>
                    <a:pt x="1092" y="861"/>
                  </a:lnTo>
                  <a:cubicBezTo>
                    <a:pt x="588" y="677"/>
                    <a:pt x="590" y="856"/>
                    <a:pt x="590" y="672"/>
                  </a:cubicBezTo>
                  <a:lnTo>
                    <a:pt x="637" y="0"/>
                  </a:lnTo>
                  <a:lnTo>
                    <a:pt x="2610" y="0"/>
                  </a:lnTo>
                  <a:cubicBezTo>
                    <a:pt x="2575" y="1087"/>
                    <a:pt x="2576" y="723"/>
                    <a:pt x="2576" y="1092"/>
                  </a:cubicBezTo>
                  <a:lnTo>
                    <a:pt x="1736" y="1370"/>
                  </a:lnTo>
                  <a:lnTo>
                    <a:pt x="1654" y="2068"/>
                  </a:lnTo>
                  <a:lnTo>
                    <a:pt x="1417" y="3099"/>
                  </a:lnTo>
                  <a:cubicBezTo>
                    <a:pt x="377" y="2928"/>
                    <a:pt x="730" y="2929"/>
                    <a:pt x="373" y="2929"/>
                  </a:cubicBezTo>
                  <a:lnTo>
                    <a:pt x="41" y="2854"/>
                  </a:lnTo>
                  <a:lnTo>
                    <a:pt x="7" y="2495"/>
                  </a:lnTo>
                  <a:close/>
                </a:path>
              </a:pathLst>
            </a:custGeom>
            <a:solidFill>
              <a:srgbClr val="ffffff"/>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207" name=""/>
            <p:cNvGrpSpPr/>
            <p:nvPr/>
          </p:nvGrpSpPr>
          <p:grpSpPr>
            <a:xfrm>
              <a:off x="3848040" y="1177920"/>
              <a:ext cx="3968640" cy="4535640"/>
              <a:chOff x="3848040" y="1177920"/>
              <a:chExt cx="3968640" cy="4535640"/>
            </a:xfrm>
          </p:grpSpPr>
          <p:grpSp>
            <p:nvGrpSpPr>
              <p:cNvPr id="208" name=""/>
              <p:cNvGrpSpPr/>
              <p:nvPr/>
            </p:nvGrpSpPr>
            <p:grpSpPr>
              <a:xfrm>
                <a:off x="3848040" y="1177920"/>
                <a:ext cx="3968640" cy="4105440"/>
                <a:chOff x="3848040" y="1177920"/>
                <a:chExt cx="3968640" cy="4105440"/>
              </a:xfrm>
            </p:grpSpPr>
            <p:sp>
              <p:nvSpPr>
                <p:cNvPr id="209" name=""/>
                <p:cNvSpPr/>
                <p:nvPr/>
              </p:nvSpPr>
              <p:spPr>
                <a:xfrm>
                  <a:off x="3848040" y="4419720"/>
                  <a:ext cx="1104840" cy="863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10" name=""/>
                <p:cNvGrpSpPr/>
                <p:nvPr/>
              </p:nvGrpSpPr>
              <p:grpSpPr>
                <a:xfrm>
                  <a:off x="4332240" y="1177920"/>
                  <a:ext cx="3484440" cy="3648600"/>
                  <a:chOff x="4332240" y="1177920"/>
                  <a:chExt cx="3484440" cy="3648600"/>
                </a:xfrm>
              </p:grpSpPr>
              <p:sp>
                <p:nvSpPr>
                  <p:cNvPr id="211" name=""/>
                  <p:cNvSpPr/>
                  <p:nvPr/>
                </p:nvSpPr>
                <p:spPr>
                  <a:xfrm>
                    <a:off x="4722840" y="3141720"/>
                    <a:ext cx="134316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a:t>
                    </a:r>
                    <a:r>
                      <a:rPr b="1" lang="en-US" sz="1200" spc="-1" strike="noStrike">
                        <a:solidFill>
                          <a:srgbClr val="000000"/>
                        </a:solidFill>
                        <a:latin typeface="Arial"/>
                        <a:ea typeface="ＭＳ Ｐゴシック"/>
                      </a:rPr>
                      <a:t>Flaw”  Compliance Report</a:t>
                    </a:r>
                    <a:endParaRPr b="0" lang="en-US" sz="1200" spc="-1" strike="noStrike">
                      <a:solidFill>
                        <a:srgbClr val="000000"/>
                      </a:solidFill>
                      <a:latin typeface="Times New Roman"/>
                    </a:endParaRPr>
                  </a:p>
                </p:txBody>
              </p:sp>
              <p:grpSp>
                <p:nvGrpSpPr>
                  <p:cNvPr id="212" name=""/>
                  <p:cNvGrpSpPr/>
                  <p:nvPr/>
                </p:nvGrpSpPr>
                <p:grpSpPr>
                  <a:xfrm>
                    <a:off x="6259680" y="1695600"/>
                    <a:ext cx="1557000" cy="1163520"/>
                    <a:chOff x="6259680" y="1695600"/>
                    <a:chExt cx="1557000" cy="1163520"/>
                  </a:xfrm>
                </p:grpSpPr>
                <p:sp>
                  <p:nvSpPr>
                    <p:cNvPr id="213" name=""/>
                    <p:cNvSpPr/>
                    <p:nvPr/>
                  </p:nvSpPr>
                  <p:spPr>
                    <a:xfrm>
                      <a:off x="6782040" y="2408400"/>
                      <a:ext cx="183240" cy="243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4" name=""/>
                    <p:cNvSpPr/>
                    <p:nvPr/>
                  </p:nvSpPr>
                  <p:spPr>
                    <a:xfrm>
                      <a:off x="6451920" y="2315520"/>
                      <a:ext cx="430200" cy="99000"/>
                    </a:xfrm>
                    <a:custGeom>
                      <a:avLst/>
                      <a:gdLst/>
                      <a:ahLst/>
                      <a:rect l="l" t="t" r="r" b="b"/>
                      <a:pathLst>
                        <a:path w="443" h="127">
                          <a:moveTo>
                            <a:pt x="28" y="0"/>
                          </a:moveTo>
                          <a:lnTo>
                            <a:pt x="386" y="0"/>
                          </a:lnTo>
                          <a:lnTo>
                            <a:pt x="443" y="90"/>
                          </a:lnTo>
                          <a:lnTo>
                            <a:pt x="0" y="127"/>
                          </a:lnTo>
                          <a:lnTo>
                            <a:pt x="28" y="0"/>
                          </a:lnTo>
                          <a:lnTo>
                            <a:pt x="28" y="0"/>
                          </a:lnTo>
                          <a:close/>
                        </a:path>
                      </a:pathLst>
                    </a:custGeom>
                    <a:solidFill>
                      <a:srgbClr val="bdc9d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6804360" y="1909080"/>
                      <a:ext cx="294120" cy="479520"/>
                    </a:xfrm>
                    <a:custGeom>
                      <a:avLst/>
                      <a:gdLst/>
                      <a:ahLst/>
                      <a:rect l="l" t="t" r="r" b="b"/>
                      <a:pathLst>
                        <a:path w="303" h="615">
                          <a:moveTo>
                            <a:pt x="4" y="0"/>
                          </a:moveTo>
                          <a:lnTo>
                            <a:pt x="0" y="14"/>
                          </a:lnTo>
                          <a:lnTo>
                            <a:pt x="0" y="15"/>
                          </a:lnTo>
                          <a:lnTo>
                            <a:pt x="1" y="19"/>
                          </a:lnTo>
                          <a:lnTo>
                            <a:pt x="1" y="21"/>
                          </a:lnTo>
                          <a:lnTo>
                            <a:pt x="2" y="25"/>
                          </a:lnTo>
                          <a:lnTo>
                            <a:pt x="3" y="27"/>
                          </a:lnTo>
                          <a:lnTo>
                            <a:pt x="4" y="30"/>
                          </a:lnTo>
                          <a:lnTo>
                            <a:pt x="5" y="33"/>
                          </a:lnTo>
                          <a:lnTo>
                            <a:pt x="6" y="37"/>
                          </a:lnTo>
                          <a:lnTo>
                            <a:pt x="6" y="40"/>
                          </a:lnTo>
                          <a:lnTo>
                            <a:pt x="7" y="43"/>
                          </a:lnTo>
                          <a:lnTo>
                            <a:pt x="8" y="47"/>
                          </a:lnTo>
                          <a:lnTo>
                            <a:pt x="9" y="52"/>
                          </a:lnTo>
                          <a:lnTo>
                            <a:pt x="9" y="56"/>
                          </a:lnTo>
                          <a:lnTo>
                            <a:pt x="10" y="61"/>
                          </a:lnTo>
                          <a:lnTo>
                            <a:pt x="11" y="63"/>
                          </a:lnTo>
                          <a:lnTo>
                            <a:pt x="11" y="66"/>
                          </a:lnTo>
                          <a:lnTo>
                            <a:pt x="12" y="70"/>
                          </a:lnTo>
                          <a:lnTo>
                            <a:pt x="13" y="73"/>
                          </a:lnTo>
                          <a:lnTo>
                            <a:pt x="13" y="76"/>
                          </a:lnTo>
                          <a:lnTo>
                            <a:pt x="14" y="79"/>
                          </a:lnTo>
                          <a:lnTo>
                            <a:pt x="15" y="82"/>
                          </a:lnTo>
                          <a:lnTo>
                            <a:pt x="16" y="85"/>
                          </a:lnTo>
                          <a:lnTo>
                            <a:pt x="17" y="88"/>
                          </a:lnTo>
                          <a:lnTo>
                            <a:pt x="18" y="92"/>
                          </a:lnTo>
                          <a:lnTo>
                            <a:pt x="18" y="96"/>
                          </a:lnTo>
                          <a:lnTo>
                            <a:pt x="19" y="99"/>
                          </a:lnTo>
                          <a:lnTo>
                            <a:pt x="20" y="103"/>
                          </a:lnTo>
                          <a:lnTo>
                            <a:pt x="21" y="107"/>
                          </a:lnTo>
                          <a:lnTo>
                            <a:pt x="22" y="111"/>
                          </a:lnTo>
                          <a:lnTo>
                            <a:pt x="23" y="116"/>
                          </a:lnTo>
                          <a:lnTo>
                            <a:pt x="23" y="119"/>
                          </a:lnTo>
                          <a:lnTo>
                            <a:pt x="25" y="124"/>
                          </a:lnTo>
                          <a:lnTo>
                            <a:pt x="26" y="130"/>
                          </a:lnTo>
                          <a:lnTo>
                            <a:pt x="27" y="135"/>
                          </a:lnTo>
                          <a:lnTo>
                            <a:pt x="28" y="138"/>
                          </a:lnTo>
                          <a:lnTo>
                            <a:pt x="28" y="143"/>
                          </a:lnTo>
                          <a:lnTo>
                            <a:pt x="29" y="148"/>
                          </a:lnTo>
                          <a:lnTo>
                            <a:pt x="30" y="154"/>
                          </a:lnTo>
                          <a:lnTo>
                            <a:pt x="30" y="158"/>
                          </a:lnTo>
                          <a:lnTo>
                            <a:pt x="32" y="163"/>
                          </a:lnTo>
                          <a:lnTo>
                            <a:pt x="33" y="168"/>
                          </a:lnTo>
                          <a:lnTo>
                            <a:pt x="34" y="174"/>
                          </a:lnTo>
                          <a:lnTo>
                            <a:pt x="35" y="178"/>
                          </a:lnTo>
                          <a:lnTo>
                            <a:pt x="37" y="184"/>
                          </a:lnTo>
                          <a:lnTo>
                            <a:pt x="37" y="190"/>
                          </a:lnTo>
                          <a:lnTo>
                            <a:pt x="39" y="195"/>
                          </a:lnTo>
                          <a:lnTo>
                            <a:pt x="40" y="201"/>
                          </a:lnTo>
                          <a:lnTo>
                            <a:pt x="41" y="207"/>
                          </a:lnTo>
                          <a:lnTo>
                            <a:pt x="42" y="213"/>
                          </a:lnTo>
                          <a:lnTo>
                            <a:pt x="44" y="218"/>
                          </a:lnTo>
                          <a:lnTo>
                            <a:pt x="44" y="224"/>
                          </a:lnTo>
                          <a:lnTo>
                            <a:pt x="46" y="230"/>
                          </a:lnTo>
                          <a:lnTo>
                            <a:pt x="47" y="235"/>
                          </a:lnTo>
                          <a:lnTo>
                            <a:pt x="48" y="241"/>
                          </a:lnTo>
                          <a:lnTo>
                            <a:pt x="48" y="247"/>
                          </a:lnTo>
                          <a:lnTo>
                            <a:pt x="49" y="252"/>
                          </a:lnTo>
                          <a:lnTo>
                            <a:pt x="50" y="258"/>
                          </a:lnTo>
                          <a:lnTo>
                            <a:pt x="52" y="265"/>
                          </a:lnTo>
                          <a:lnTo>
                            <a:pt x="53" y="270"/>
                          </a:lnTo>
                          <a:lnTo>
                            <a:pt x="54" y="275"/>
                          </a:lnTo>
                          <a:lnTo>
                            <a:pt x="55" y="281"/>
                          </a:lnTo>
                          <a:lnTo>
                            <a:pt x="57" y="287"/>
                          </a:lnTo>
                          <a:lnTo>
                            <a:pt x="58" y="292"/>
                          </a:lnTo>
                          <a:lnTo>
                            <a:pt x="59" y="298"/>
                          </a:lnTo>
                          <a:lnTo>
                            <a:pt x="60" y="304"/>
                          </a:lnTo>
                          <a:lnTo>
                            <a:pt x="62" y="309"/>
                          </a:lnTo>
                          <a:lnTo>
                            <a:pt x="62" y="314"/>
                          </a:lnTo>
                          <a:lnTo>
                            <a:pt x="63" y="319"/>
                          </a:lnTo>
                          <a:lnTo>
                            <a:pt x="64" y="324"/>
                          </a:lnTo>
                          <a:lnTo>
                            <a:pt x="66" y="329"/>
                          </a:lnTo>
                          <a:lnTo>
                            <a:pt x="66" y="334"/>
                          </a:lnTo>
                          <a:lnTo>
                            <a:pt x="67" y="339"/>
                          </a:lnTo>
                          <a:lnTo>
                            <a:pt x="67" y="344"/>
                          </a:lnTo>
                          <a:lnTo>
                            <a:pt x="69" y="348"/>
                          </a:lnTo>
                          <a:lnTo>
                            <a:pt x="69" y="352"/>
                          </a:lnTo>
                          <a:lnTo>
                            <a:pt x="70" y="357"/>
                          </a:lnTo>
                          <a:lnTo>
                            <a:pt x="70" y="361"/>
                          </a:lnTo>
                          <a:lnTo>
                            <a:pt x="71" y="366"/>
                          </a:lnTo>
                          <a:lnTo>
                            <a:pt x="72" y="369"/>
                          </a:lnTo>
                          <a:lnTo>
                            <a:pt x="73" y="373"/>
                          </a:lnTo>
                          <a:lnTo>
                            <a:pt x="74" y="377"/>
                          </a:lnTo>
                          <a:lnTo>
                            <a:pt x="75" y="381"/>
                          </a:lnTo>
                          <a:lnTo>
                            <a:pt x="75" y="384"/>
                          </a:lnTo>
                          <a:lnTo>
                            <a:pt x="76" y="387"/>
                          </a:lnTo>
                          <a:lnTo>
                            <a:pt x="76" y="389"/>
                          </a:lnTo>
                          <a:lnTo>
                            <a:pt x="77" y="393"/>
                          </a:lnTo>
                          <a:lnTo>
                            <a:pt x="78" y="398"/>
                          </a:lnTo>
                          <a:lnTo>
                            <a:pt x="79" y="403"/>
                          </a:lnTo>
                          <a:lnTo>
                            <a:pt x="80" y="405"/>
                          </a:lnTo>
                          <a:lnTo>
                            <a:pt x="80" y="408"/>
                          </a:lnTo>
                          <a:lnTo>
                            <a:pt x="80" y="409"/>
                          </a:lnTo>
                          <a:lnTo>
                            <a:pt x="81" y="411"/>
                          </a:lnTo>
                          <a:lnTo>
                            <a:pt x="303" y="615"/>
                          </a:lnTo>
                          <a:lnTo>
                            <a:pt x="122" y="66"/>
                          </a:lnTo>
                          <a:lnTo>
                            <a:pt x="4" y="0"/>
                          </a:lnTo>
                          <a:lnTo>
                            <a:pt x="4" y="0"/>
                          </a:lnTo>
                          <a:close/>
                        </a:path>
                      </a:pathLst>
                    </a:custGeom>
                    <a:solidFill>
                      <a:srgbClr val="4d4d4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6806520" y="1717920"/>
                      <a:ext cx="385560" cy="262800"/>
                    </a:xfrm>
                    <a:custGeom>
                      <a:avLst/>
                      <a:gdLst/>
                      <a:ahLst/>
                      <a:rect l="l" t="t" r="r" b="b"/>
                      <a:pathLst>
                        <a:path w="397" h="337">
                          <a:moveTo>
                            <a:pt x="335" y="0"/>
                          </a:moveTo>
                          <a:lnTo>
                            <a:pt x="334" y="0"/>
                          </a:lnTo>
                          <a:lnTo>
                            <a:pt x="332" y="1"/>
                          </a:lnTo>
                          <a:lnTo>
                            <a:pt x="328" y="4"/>
                          </a:lnTo>
                          <a:lnTo>
                            <a:pt x="323" y="8"/>
                          </a:lnTo>
                          <a:lnTo>
                            <a:pt x="320" y="10"/>
                          </a:lnTo>
                          <a:lnTo>
                            <a:pt x="316" y="13"/>
                          </a:lnTo>
                          <a:lnTo>
                            <a:pt x="313" y="15"/>
                          </a:lnTo>
                          <a:lnTo>
                            <a:pt x="309" y="17"/>
                          </a:lnTo>
                          <a:lnTo>
                            <a:pt x="305" y="20"/>
                          </a:lnTo>
                          <a:lnTo>
                            <a:pt x="301" y="23"/>
                          </a:lnTo>
                          <a:lnTo>
                            <a:pt x="297" y="27"/>
                          </a:lnTo>
                          <a:lnTo>
                            <a:pt x="292" y="31"/>
                          </a:lnTo>
                          <a:lnTo>
                            <a:pt x="287" y="34"/>
                          </a:lnTo>
                          <a:lnTo>
                            <a:pt x="281" y="37"/>
                          </a:lnTo>
                          <a:lnTo>
                            <a:pt x="276" y="41"/>
                          </a:lnTo>
                          <a:lnTo>
                            <a:pt x="271" y="45"/>
                          </a:lnTo>
                          <a:lnTo>
                            <a:pt x="267" y="46"/>
                          </a:lnTo>
                          <a:lnTo>
                            <a:pt x="264" y="49"/>
                          </a:lnTo>
                          <a:lnTo>
                            <a:pt x="261" y="51"/>
                          </a:lnTo>
                          <a:lnTo>
                            <a:pt x="258" y="53"/>
                          </a:lnTo>
                          <a:lnTo>
                            <a:pt x="256" y="55"/>
                          </a:lnTo>
                          <a:lnTo>
                            <a:pt x="252" y="56"/>
                          </a:lnTo>
                          <a:lnTo>
                            <a:pt x="249" y="58"/>
                          </a:lnTo>
                          <a:lnTo>
                            <a:pt x="246" y="61"/>
                          </a:lnTo>
                          <a:lnTo>
                            <a:pt x="242" y="62"/>
                          </a:lnTo>
                          <a:lnTo>
                            <a:pt x="239" y="65"/>
                          </a:lnTo>
                          <a:lnTo>
                            <a:pt x="236" y="67"/>
                          </a:lnTo>
                          <a:lnTo>
                            <a:pt x="233" y="69"/>
                          </a:lnTo>
                          <a:lnTo>
                            <a:pt x="229" y="71"/>
                          </a:lnTo>
                          <a:lnTo>
                            <a:pt x="226" y="74"/>
                          </a:lnTo>
                          <a:lnTo>
                            <a:pt x="223" y="75"/>
                          </a:lnTo>
                          <a:lnTo>
                            <a:pt x="220" y="77"/>
                          </a:lnTo>
                          <a:lnTo>
                            <a:pt x="216" y="79"/>
                          </a:lnTo>
                          <a:lnTo>
                            <a:pt x="212" y="81"/>
                          </a:lnTo>
                          <a:lnTo>
                            <a:pt x="209" y="83"/>
                          </a:lnTo>
                          <a:lnTo>
                            <a:pt x="206" y="86"/>
                          </a:lnTo>
                          <a:lnTo>
                            <a:pt x="202" y="88"/>
                          </a:lnTo>
                          <a:lnTo>
                            <a:pt x="199" y="90"/>
                          </a:lnTo>
                          <a:lnTo>
                            <a:pt x="195" y="92"/>
                          </a:lnTo>
                          <a:lnTo>
                            <a:pt x="192" y="94"/>
                          </a:lnTo>
                          <a:lnTo>
                            <a:pt x="187" y="96"/>
                          </a:lnTo>
                          <a:lnTo>
                            <a:pt x="183" y="98"/>
                          </a:lnTo>
                          <a:lnTo>
                            <a:pt x="180" y="101"/>
                          </a:lnTo>
                          <a:lnTo>
                            <a:pt x="176" y="103"/>
                          </a:lnTo>
                          <a:lnTo>
                            <a:pt x="172" y="105"/>
                          </a:lnTo>
                          <a:lnTo>
                            <a:pt x="168" y="108"/>
                          </a:lnTo>
                          <a:lnTo>
                            <a:pt x="164" y="110"/>
                          </a:lnTo>
                          <a:lnTo>
                            <a:pt x="161" y="113"/>
                          </a:lnTo>
                          <a:lnTo>
                            <a:pt x="157" y="115"/>
                          </a:lnTo>
                          <a:lnTo>
                            <a:pt x="153" y="118"/>
                          </a:lnTo>
                          <a:lnTo>
                            <a:pt x="148" y="120"/>
                          </a:lnTo>
                          <a:lnTo>
                            <a:pt x="144" y="124"/>
                          </a:lnTo>
                          <a:lnTo>
                            <a:pt x="141" y="127"/>
                          </a:lnTo>
                          <a:lnTo>
                            <a:pt x="137" y="130"/>
                          </a:lnTo>
                          <a:lnTo>
                            <a:pt x="132" y="133"/>
                          </a:lnTo>
                          <a:lnTo>
                            <a:pt x="128" y="136"/>
                          </a:lnTo>
                          <a:lnTo>
                            <a:pt x="124" y="139"/>
                          </a:lnTo>
                          <a:lnTo>
                            <a:pt x="121" y="142"/>
                          </a:lnTo>
                          <a:lnTo>
                            <a:pt x="116" y="145"/>
                          </a:lnTo>
                          <a:lnTo>
                            <a:pt x="112" y="148"/>
                          </a:lnTo>
                          <a:lnTo>
                            <a:pt x="108" y="151"/>
                          </a:lnTo>
                          <a:lnTo>
                            <a:pt x="104" y="154"/>
                          </a:lnTo>
                          <a:lnTo>
                            <a:pt x="100" y="158"/>
                          </a:lnTo>
                          <a:lnTo>
                            <a:pt x="96" y="161"/>
                          </a:lnTo>
                          <a:lnTo>
                            <a:pt x="92" y="164"/>
                          </a:lnTo>
                          <a:lnTo>
                            <a:pt x="88" y="167"/>
                          </a:lnTo>
                          <a:lnTo>
                            <a:pt x="84" y="170"/>
                          </a:lnTo>
                          <a:lnTo>
                            <a:pt x="81" y="173"/>
                          </a:lnTo>
                          <a:lnTo>
                            <a:pt x="77" y="176"/>
                          </a:lnTo>
                          <a:lnTo>
                            <a:pt x="73" y="179"/>
                          </a:lnTo>
                          <a:lnTo>
                            <a:pt x="69" y="183"/>
                          </a:lnTo>
                          <a:lnTo>
                            <a:pt x="66" y="186"/>
                          </a:lnTo>
                          <a:lnTo>
                            <a:pt x="63" y="189"/>
                          </a:lnTo>
                          <a:lnTo>
                            <a:pt x="59" y="191"/>
                          </a:lnTo>
                          <a:lnTo>
                            <a:pt x="55" y="194"/>
                          </a:lnTo>
                          <a:lnTo>
                            <a:pt x="52" y="197"/>
                          </a:lnTo>
                          <a:lnTo>
                            <a:pt x="48" y="200"/>
                          </a:lnTo>
                          <a:lnTo>
                            <a:pt x="46" y="203"/>
                          </a:lnTo>
                          <a:lnTo>
                            <a:pt x="42" y="206"/>
                          </a:lnTo>
                          <a:lnTo>
                            <a:pt x="40" y="209"/>
                          </a:lnTo>
                          <a:lnTo>
                            <a:pt x="36" y="210"/>
                          </a:lnTo>
                          <a:lnTo>
                            <a:pt x="33" y="213"/>
                          </a:lnTo>
                          <a:lnTo>
                            <a:pt x="30" y="215"/>
                          </a:lnTo>
                          <a:lnTo>
                            <a:pt x="28" y="218"/>
                          </a:lnTo>
                          <a:lnTo>
                            <a:pt x="23" y="223"/>
                          </a:lnTo>
                          <a:lnTo>
                            <a:pt x="19" y="228"/>
                          </a:lnTo>
                          <a:lnTo>
                            <a:pt x="13" y="230"/>
                          </a:lnTo>
                          <a:lnTo>
                            <a:pt x="10" y="234"/>
                          </a:lnTo>
                          <a:lnTo>
                            <a:pt x="7" y="237"/>
                          </a:lnTo>
                          <a:lnTo>
                            <a:pt x="5" y="240"/>
                          </a:lnTo>
                          <a:lnTo>
                            <a:pt x="1" y="244"/>
                          </a:lnTo>
                          <a:lnTo>
                            <a:pt x="0" y="245"/>
                          </a:lnTo>
                          <a:lnTo>
                            <a:pt x="91" y="337"/>
                          </a:lnTo>
                          <a:lnTo>
                            <a:pt x="397" y="176"/>
                          </a:lnTo>
                          <a:lnTo>
                            <a:pt x="335" y="0"/>
                          </a:lnTo>
                          <a:lnTo>
                            <a:pt x="335" y="0"/>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6890040" y="1832040"/>
                      <a:ext cx="353520" cy="357840"/>
                    </a:xfrm>
                    <a:custGeom>
                      <a:avLst/>
                      <a:gdLst/>
                      <a:ahLst/>
                      <a:rect l="l" t="t" r="r" b="b"/>
                      <a:pathLst>
                        <a:path w="364" h="459">
                          <a:moveTo>
                            <a:pt x="216" y="0"/>
                          </a:moveTo>
                          <a:lnTo>
                            <a:pt x="214" y="1"/>
                          </a:lnTo>
                          <a:lnTo>
                            <a:pt x="211" y="5"/>
                          </a:lnTo>
                          <a:lnTo>
                            <a:pt x="207" y="7"/>
                          </a:lnTo>
                          <a:lnTo>
                            <a:pt x="204" y="10"/>
                          </a:lnTo>
                          <a:lnTo>
                            <a:pt x="200" y="13"/>
                          </a:lnTo>
                          <a:lnTo>
                            <a:pt x="196" y="18"/>
                          </a:lnTo>
                          <a:lnTo>
                            <a:pt x="191" y="21"/>
                          </a:lnTo>
                          <a:lnTo>
                            <a:pt x="187" y="25"/>
                          </a:lnTo>
                          <a:lnTo>
                            <a:pt x="182" y="29"/>
                          </a:lnTo>
                          <a:lnTo>
                            <a:pt x="178" y="33"/>
                          </a:lnTo>
                          <a:lnTo>
                            <a:pt x="173" y="37"/>
                          </a:lnTo>
                          <a:lnTo>
                            <a:pt x="170" y="41"/>
                          </a:lnTo>
                          <a:lnTo>
                            <a:pt x="165" y="44"/>
                          </a:lnTo>
                          <a:lnTo>
                            <a:pt x="162" y="47"/>
                          </a:lnTo>
                          <a:lnTo>
                            <a:pt x="157" y="49"/>
                          </a:lnTo>
                          <a:lnTo>
                            <a:pt x="154" y="51"/>
                          </a:lnTo>
                          <a:lnTo>
                            <a:pt x="151" y="53"/>
                          </a:lnTo>
                          <a:lnTo>
                            <a:pt x="149" y="54"/>
                          </a:lnTo>
                          <a:lnTo>
                            <a:pt x="144" y="56"/>
                          </a:lnTo>
                          <a:lnTo>
                            <a:pt x="141" y="57"/>
                          </a:lnTo>
                          <a:lnTo>
                            <a:pt x="136" y="56"/>
                          </a:lnTo>
                          <a:lnTo>
                            <a:pt x="136" y="56"/>
                          </a:lnTo>
                          <a:lnTo>
                            <a:pt x="135" y="56"/>
                          </a:lnTo>
                          <a:lnTo>
                            <a:pt x="134" y="60"/>
                          </a:lnTo>
                          <a:lnTo>
                            <a:pt x="133" y="61"/>
                          </a:lnTo>
                          <a:lnTo>
                            <a:pt x="132" y="64"/>
                          </a:lnTo>
                          <a:lnTo>
                            <a:pt x="130" y="67"/>
                          </a:lnTo>
                          <a:lnTo>
                            <a:pt x="128" y="70"/>
                          </a:lnTo>
                          <a:lnTo>
                            <a:pt x="125" y="74"/>
                          </a:lnTo>
                          <a:lnTo>
                            <a:pt x="122" y="78"/>
                          </a:lnTo>
                          <a:lnTo>
                            <a:pt x="118" y="82"/>
                          </a:lnTo>
                          <a:lnTo>
                            <a:pt x="115" y="88"/>
                          </a:lnTo>
                          <a:lnTo>
                            <a:pt x="111" y="93"/>
                          </a:lnTo>
                          <a:lnTo>
                            <a:pt x="106" y="98"/>
                          </a:lnTo>
                          <a:lnTo>
                            <a:pt x="104" y="101"/>
                          </a:lnTo>
                          <a:lnTo>
                            <a:pt x="101" y="104"/>
                          </a:lnTo>
                          <a:lnTo>
                            <a:pt x="98" y="107"/>
                          </a:lnTo>
                          <a:lnTo>
                            <a:pt x="95" y="110"/>
                          </a:lnTo>
                          <a:lnTo>
                            <a:pt x="92" y="113"/>
                          </a:lnTo>
                          <a:lnTo>
                            <a:pt x="89" y="117"/>
                          </a:lnTo>
                          <a:lnTo>
                            <a:pt x="85" y="120"/>
                          </a:lnTo>
                          <a:lnTo>
                            <a:pt x="81" y="122"/>
                          </a:lnTo>
                          <a:lnTo>
                            <a:pt x="76" y="125"/>
                          </a:lnTo>
                          <a:lnTo>
                            <a:pt x="74" y="129"/>
                          </a:lnTo>
                          <a:lnTo>
                            <a:pt x="69" y="132"/>
                          </a:lnTo>
                          <a:lnTo>
                            <a:pt x="66" y="135"/>
                          </a:lnTo>
                          <a:lnTo>
                            <a:pt x="61" y="138"/>
                          </a:lnTo>
                          <a:lnTo>
                            <a:pt x="57" y="141"/>
                          </a:lnTo>
                          <a:lnTo>
                            <a:pt x="54" y="144"/>
                          </a:lnTo>
                          <a:lnTo>
                            <a:pt x="50" y="148"/>
                          </a:lnTo>
                          <a:lnTo>
                            <a:pt x="45" y="150"/>
                          </a:lnTo>
                          <a:lnTo>
                            <a:pt x="42" y="154"/>
                          </a:lnTo>
                          <a:lnTo>
                            <a:pt x="38" y="157"/>
                          </a:lnTo>
                          <a:lnTo>
                            <a:pt x="35" y="160"/>
                          </a:lnTo>
                          <a:lnTo>
                            <a:pt x="31" y="162"/>
                          </a:lnTo>
                          <a:lnTo>
                            <a:pt x="27" y="165"/>
                          </a:lnTo>
                          <a:lnTo>
                            <a:pt x="24" y="167"/>
                          </a:lnTo>
                          <a:lnTo>
                            <a:pt x="20" y="170"/>
                          </a:lnTo>
                          <a:lnTo>
                            <a:pt x="15" y="174"/>
                          </a:lnTo>
                          <a:lnTo>
                            <a:pt x="10" y="178"/>
                          </a:lnTo>
                          <a:lnTo>
                            <a:pt x="6" y="180"/>
                          </a:lnTo>
                          <a:lnTo>
                            <a:pt x="2" y="183"/>
                          </a:lnTo>
                          <a:lnTo>
                            <a:pt x="0" y="184"/>
                          </a:lnTo>
                          <a:lnTo>
                            <a:pt x="0" y="185"/>
                          </a:lnTo>
                          <a:lnTo>
                            <a:pt x="0" y="186"/>
                          </a:lnTo>
                          <a:lnTo>
                            <a:pt x="2" y="191"/>
                          </a:lnTo>
                          <a:lnTo>
                            <a:pt x="3" y="194"/>
                          </a:lnTo>
                          <a:lnTo>
                            <a:pt x="4" y="197"/>
                          </a:lnTo>
                          <a:lnTo>
                            <a:pt x="6" y="202"/>
                          </a:lnTo>
                          <a:lnTo>
                            <a:pt x="8" y="207"/>
                          </a:lnTo>
                          <a:lnTo>
                            <a:pt x="10" y="212"/>
                          </a:lnTo>
                          <a:lnTo>
                            <a:pt x="11" y="216"/>
                          </a:lnTo>
                          <a:lnTo>
                            <a:pt x="12" y="219"/>
                          </a:lnTo>
                          <a:lnTo>
                            <a:pt x="13" y="222"/>
                          </a:lnTo>
                          <a:lnTo>
                            <a:pt x="13" y="225"/>
                          </a:lnTo>
                          <a:lnTo>
                            <a:pt x="15" y="229"/>
                          </a:lnTo>
                          <a:lnTo>
                            <a:pt x="15" y="231"/>
                          </a:lnTo>
                          <a:lnTo>
                            <a:pt x="16" y="234"/>
                          </a:lnTo>
                          <a:lnTo>
                            <a:pt x="16" y="237"/>
                          </a:lnTo>
                          <a:lnTo>
                            <a:pt x="17" y="240"/>
                          </a:lnTo>
                          <a:lnTo>
                            <a:pt x="17" y="243"/>
                          </a:lnTo>
                          <a:lnTo>
                            <a:pt x="18" y="246"/>
                          </a:lnTo>
                          <a:lnTo>
                            <a:pt x="18" y="250"/>
                          </a:lnTo>
                          <a:lnTo>
                            <a:pt x="19" y="253"/>
                          </a:lnTo>
                          <a:lnTo>
                            <a:pt x="19" y="258"/>
                          </a:lnTo>
                          <a:lnTo>
                            <a:pt x="20" y="263"/>
                          </a:lnTo>
                          <a:lnTo>
                            <a:pt x="20" y="269"/>
                          </a:lnTo>
                          <a:lnTo>
                            <a:pt x="20" y="274"/>
                          </a:lnTo>
                          <a:lnTo>
                            <a:pt x="20" y="279"/>
                          </a:lnTo>
                          <a:lnTo>
                            <a:pt x="20" y="284"/>
                          </a:lnTo>
                          <a:lnTo>
                            <a:pt x="20" y="288"/>
                          </a:lnTo>
                          <a:lnTo>
                            <a:pt x="20" y="293"/>
                          </a:lnTo>
                          <a:lnTo>
                            <a:pt x="20" y="296"/>
                          </a:lnTo>
                          <a:lnTo>
                            <a:pt x="19" y="299"/>
                          </a:lnTo>
                          <a:lnTo>
                            <a:pt x="19" y="302"/>
                          </a:lnTo>
                          <a:lnTo>
                            <a:pt x="19" y="306"/>
                          </a:lnTo>
                          <a:lnTo>
                            <a:pt x="18" y="309"/>
                          </a:lnTo>
                          <a:lnTo>
                            <a:pt x="18" y="311"/>
                          </a:lnTo>
                          <a:lnTo>
                            <a:pt x="18" y="312"/>
                          </a:lnTo>
                          <a:lnTo>
                            <a:pt x="20" y="315"/>
                          </a:lnTo>
                          <a:lnTo>
                            <a:pt x="22" y="318"/>
                          </a:lnTo>
                          <a:lnTo>
                            <a:pt x="23" y="322"/>
                          </a:lnTo>
                          <a:lnTo>
                            <a:pt x="25" y="327"/>
                          </a:lnTo>
                          <a:lnTo>
                            <a:pt x="27" y="331"/>
                          </a:lnTo>
                          <a:lnTo>
                            <a:pt x="29" y="336"/>
                          </a:lnTo>
                          <a:lnTo>
                            <a:pt x="31" y="342"/>
                          </a:lnTo>
                          <a:lnTo>
                            <a:pt x="32" y="344"/>
                          </a:lnTo>
                          <a:lnTo>
                            <a:pt x="33" y="347"/>
                          </a:lnTo>
                          <a:lnTo>
                            <a:pt x="35" y="350"/>
                          </a:lnTo>
                          <a:lnTo>
                            <a:pt x="36" y="353"/>
                          </a:lnTo>
                          <a:lnTo>
                            <a:pt x="37" y="357"/>
                          </a:lnTo>
                          <a:lnTo>
                            <a:pt x="38" y="360"/>
                          </a:lnTo>
                          <a:lnTo>
                            <a:pt x="39" y="363"/>
                          </a:lnTo>
                          <a:lnTo>
                            <a:pt x="40" y="367"/>
                          </a:lnTo>
                          <a:lnTo>
                            <a:pt x="42" y="369"/>
                          </a:lnTo>
                          <a:lnTo>
                            <a:pt x="43" y="373"/>
                          </a:lnTo>
                          <a:lnTo>
                            <a:pt x="44" y="377"/>
                          </a:lnTo>
                          <a:lnTo>
                            <a:pt x="46" y="381"/>
                          </a:lnTo>
                          <a:lnTo>
                            <a:pt x="47" y="384"/>
                          </a:lnTo>
                          <a:lnTo>
                            <a:pt x="48" y="388"/>
                          </a:lnTo>
                          <a:lnTo>
                            <a:pt x="49" y="390"/>
                          </a:lnTo>
                          <a:lnTo>
                            <a:pt x="51" y="394"/>
                          </a:lnTo>
                          <a:lnTo>
                            <a:pt x="52" y="398"/>
                          </a:lnTo>
                          <a:lnTo>
                            <a:pt x="53" y="402"/>
                          </a:lnTo>
                          <a:lnTo>
                            <a:pt x="55" y="405"/>
                          </a:lnTo>
                          <a:lnTo>
                            <a:pt x="56" y="408"/>
                          </a:lnTo>
                          <a:lnTo>
                            <a:pt x="56" y="411"/>
                          </a:lnTo>
                          <a:lnTo>
                            <a:pt x="57" y="415"/>
                          </a:lnTo>
                          <a:lnTo>
                            <a:pt x="58" y="418"/>
                          </a:lnTo>
                          <a:lnTo>
                            <a:pt x="59" y="421"/>
                          </a:lnTo>
                          <a:lnTo>
                            <a:pt x="60" y="424"/>
                          </a:lnTo>
                          <a:lnTo>
                            <a:pt x="61" y="427"/>
                          </a:lnTo>
                          <a:lnTo>
                            <a:pt x="62" y="430"/>
                          </a:lnTo>
                          <a:lnTo>
                            <a:pt x="64" y="434"/>
                          </a:lnTo>
                          <a:lnTo>
                            <a:pt x="65" y="439"/>
                          </a:lnTo>
                          <a:lnTo>
                            <a:pt x="67" y="444"/>
                          </a:lnTo>
                          <a:lnTo>
                            <a:pt x="68" y="447"/>
                          </a:lnTo>
                          <a:lnTo>
                            <a:pt x="69" y="452"/>
                          </a:lnTo>
                          <a:lnTo>
                            <a:pt x="70" y="455"/>
                          </a:lnTo>
                          <a:lnTo>
                            <a:pt x="71" y="457"/>
                          </a:lnTo>
                          <a:lnTo>
                            <a:pt x="71" y="458"/>
                          </a:lnTo>
                          <a:lnTo>
                            <a:pt x="72" y="459"/>
                          </a:lnTo>
                          <a:lnTo>
                            <a:pt x="364" y="141"/>
                          </a:lnTo>
                          <a:lnTo>
                            <a:pt x="216" y="0"/>
                          </a:lnTo>
                          <a:lnTo>
                            <a:pt x="216" y="0"/>
                          </a:lnTo>
                          <a:close/>
                        </a:path>
                      </a:pathLst>
                    </a:custGeom>
                    <a:solidFill>
                      <a:srgbClr val="3333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6930720" y="1877400"/>
                      <a:ext cx="369000" cy="361080"/>
                    </a:xfrm>
                    <a:custGeom>
                      <a:avLst/>
                      <a:gdLst/>
                      <a:ahLst/>
                      <a:rect l="l" t="t" r="r" b="b"/>
                      <a:pathLst>
                        <a:path w="380" h="463">
                          <a:moveTo>
                            <a:pt x="168" y="0"/>
                          </a:moveTo>
                          <a:lnTo>
                            <a:pt x="167" y="1"/>
                          </a:lnTo>
                          <a:lnTo>
                            <a:pt x="167" y="5"/>
                          </a:lnTo>
                          <a:lnTo>
                            <a:pt x="166" y="6"/>
                          </a:lnTo>
                          <a:lnTo>
                            <a:pt x="165" y="9"/>
                          </a:lnTo>
                          <a:lnTo>
                            <a:pt x="164" y="12"/>
                          </a:lnTo>
                          <a:lnTo>
                            <a:pt x="163" y="17"/>
                          </a:lnTo>
                          <a:lnTo>
                            <a:pt x="161" y="21"/>
                          </a:lnTo>
                          <a:lnTo>
                            <a:pt x="159" y="26"/>
                          </a:lnTo>
                          <a:lnTo>
                            <a:pt x="155" y="31"/>
                          </a:lnTo>
                          <a:lnTo>
                            <a:pt x="152" y="37"/>
                          </a:lnTo>
                          <a:lnTo>
                            <a:pt x="150" y="40"/>
                          </a:lnTo>
                          <a:lnTo>
                            <a:pt x="149" y="43"/>
                          </a:lnTo>
                          <a:lnTo>
                            <a:pt x="147" y="45"/>
                          </a:lnTo>
                          <a:lnTo>
                            <a:pt x="145" y="48"/>
                          </a:lnTo>
                          <a:lnTo>
                            <a:pt x="142" y="52"/>
                          </a:lnTo>
                          <a:lnTo>
                            <a:pt x="139" y="55"/>
                          </a:lnTo>
                          <a:lnTo>
                            <a:pt x="136" y="59"/>
                          </a:lnTo>
                          <a:lnTo>
                            <a:pt x="133" y="62"/>
                          </a:lnTo>
                          <a:lnTo>
                            <a:pt x="130" y="66"/>
                          </a:lnTo>
                          <a:lnTo>
                            <a:pt x="127" y="69"/>
                          </a:lnTo>
                          <a:lnTo>
                            <a:pt x="123" y="73"/>
                          </a:lnTo>
                          <a:lnTo>
                            <a:pt x="119" y="77"/>
                          </a:lnTo>
                          <a:lnTo>
                            <a:pt x="115" y="80"/>
                          </a:lnTo>
                          <a:lnTo>
                            <a:pt x="111" y="83"/>
                          </a:lnTo>
                          <a:lnTo>
                            <a:pt x="107" y="87"/>
                          </a:lnTo>
                          <a:lnTo>
                            <a:pt x="103" y="92"/>
                          </a:lnTo>
                          <a:lnTo>
                            <a:pt x="98" y="95"/>
                          </a:lnTo>
                          <a:lnTo>
                            <a:pt x="94" y="99"/>
                          </a:lnTo>
                          <a:lnTo>
                            <a:pt x="90" y="102"/>
                          </a:lnTo>
                          <a:lnTo>
                            <a:pt x="86" y="106"/>
                          </a:lnTo>
                          <a:lnTo>
                            <a:pt x="81" y="109"/>
                          </a:lnTo>
                          <a:lnTo>
                            <a:pt x="77" y="113"/>
                          </a:lnTo>
                          <a:lnTo>
                            <a:pt x="72" y="116"/>
                          </a:lnTo>
                          <a:lnTo>
                            <a:pt x="70" y="120"/>
                          </a:lnTo>
                          <a:lnTo>
                            <a:pt x="65" y="122"/>
                          </a:lnTo>
                          <a:lnTo>
                            <a:pt x="61" y="125"/>
                          </a:lnTo>
                          <a:lnTo>
                            <a:pt x="57" y="128"/>
                          </a:lnTo>
                          <a:lnTo>
                            <a:pt x="53" y="132"/>
                          </a:lnTo>
                          <a:lnTo>
                            <a:pt x="51" y="134"/>
                          </a:lnTo>
                          <a:lnTo>
                            <a:pt x="47" y="137"/>
                          </a:lnTo>
                          <a:lnTo>
                            <a:pt x="44" y="139"/>
                          </a:lnTo>
                          <a:lnTo>
                            <a:pt x="42" y="141"/>
                          </a:lnTo>
                          <a:lnTo>
                            <a:pt x="37" y="144"/>
                          </a:lnTo>
                          <a:lnTo>
                            <a:pt x="34" y="147"/>
                          </a:lnTo>
                          <a:lnTo>
                            <a:pt x="32" y="149"/>
                          </a:lnTo>
                          <a:lnTo>
                            <a:pt x="31" y="150"/>
                          </a:lnTo>
                          <a:lnTo>
                            <a:pt x="0" y="215"/>
                          </a:lnTo>
                          <a:lnTo>
                            <a:pt x="2" y="353"/>
                          </a:lnTo>
                          <a:lnTo>
                            <a:pt x="35" y="463"/>
                          </a:lnTo>
                          <a:lnTo>
                            <a:pt x="244" y="297"/>
                          </a:lnTo>
                          <a:lnTo>
                            <a:pt x="380" y="176"/>
                          </a:lnTo>
                          <a:lnTo>
                            <a:pt x="266" y="0"/>
                          </a:lnTo>
                          <a:lnTo>
                            <a:pt x="168" y="0"/>
                          </a:lnTo>
                          <a:lnTo>
                            <a:pt x="168" y="0"/>
                          </a:lnTo>
                          <a:close/>
                        </a:path>
                      </a:pathLst>
                    </a:custGeom>
                    <a:solidFill>
                      <a:srgbClr val="c299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7025040" y="1870920"/>
                      <a:ext cx="317520" cy="338040"/>
                    </a:xfrm>
                    <a:custGeom>
                      <a:avLst/>
                      <a:gdLst/>
                      <a:ahLst/>
                      <a:rect l="l" t="t" r="r" b="b"/>
                      <a:pathLst>
                        <a:path w="327" h="434">
                          <a:moveTo>
                            <a:pt x="242" y="0"/>
                          </a:moveTo>
                          <a:lnTo>
                            <a:pt x="288" y="36"/>
                          </a:lnTo>
                          <a:lnTo>
                            <a:pt x="288" y="36"/>
                          </a:lnTo>
                          <a:lnTo>
                            <a:pt x="287" y="38"/>
                          </a:lnTo>
                          <a:lnTo>
                            <a:pt x="287" y="39"/>
                          </a:lnTo>
                          <a:lnTo>
                            <a:pt x="287" y="43"/>
                          </a:lnTo>
                          <a:lnTo>
                            <a:pt x="287" y="45"/>
                          </a:lnTo>
                          <a:lnTo>
                            <a:pt x="287" y="48"/>
                          </a:lnTo>
                          <a:lnTo>
                            <a:pt x="287" y="51"/>
                          </a:lnTo>
                          <a:lnTo>
                            <a:pt x="288" y="54"/>
                          </a:lnTo>
                          <a:lnTo>
                            <a:pt x="288" y="57"/>
                          </a:lnTo>
                          <a:lnTo>
                            <a:pt x="290" y="62"/>
                          </a:lnTo>
                          <a:lnTo>
                            <a:pt x="291" y="66"/>
                          </a:lnTo>
                          <a:lnTo>
                            <a:pt x="294" y="71"/>
                          </a:lnTo>
                          <a:lnTo>
                            <a:pt x="294" y="73"/>
                          </a:lnTo>
                          <a:lnTo>
                            <a:pt x="295" y="76"/>
                          </a:lnTo>
                          <a:lnTo>
                            <a:pt x="296" y="79"/>
                          </a:lnTo>
                          <a:lnTo>
                            <a:pt x="298" y="83"/>
                          </a:lnTo>
                          <a:lnTo>
                            <a:pt x="299" y="86"/>
                          </a:lnTo>
                          <a:lnTo>
                            <a:pt x="300" y="89"/>
                          </a:lnTo>
                          <a:lnTo>
                            <a:pt x="302" y="92"/>
                          </a:lnTo>
                          <a:lnTo>
                            <a:pt x="303" y="96"/>
                          </a:lnTo>
                          <a:lnTo>
                            <a:pt x="304" y="99"/>
                          </a:lnTo>
                          <a:lnTo>
                            <a:pt x="305" y="103"/>
                          </a:lnTo>
                          <a:lnTo>
                            <a:pt x="306" y="106"/>
                          </a:lnTo>
                          <a:lnTo>
                            <a:pt x="308" y="108"/>
                          </a:lnTo>
                          <a:lnTo>
                            <a:pt x="309" y="112"/>
                          </a:lnTo>
                          <a:lnTo>
                            <a:pt x="311" y="115"/>
                          </a:lnTo>
                          <a:lnTo>
                            <a:pt x="312" y="119"/>
                          </a:lnTo>
                          <a:lnTo>
                            <a:pt x="314" y="123"/>
                          </a:lnTo>
                          <a:lnTo>
                            <a:pt x="316" y="128"/>
                          </a:lnTo>
                          <a:lnTo>
                            <a:pt x="319" y="133"/>
                          </a:lnTo>
                          <a:lnTo>
                            <a:pt x="321" y="138"/>
                          </a:lnTo>
                          <a:lnTo>
                            <a:pt x="323" y="143"/>
                          </a:lnTo>
                          <a:lnTo>
                            <a:pt x="324" y="147"/>
                          </a:lnTo>
                          <a:lnTo>
                            <a:pt x="326" y="148"/>
                          </a:lnTo>
                          <a:lnTo>
                            <a:pt x="327" y="150"/>
                          </a:lnTo>
                          <a:lnTo>
                            <a:pt x="327" y="151"/>
                          </a:lnTo>
                          <a:lnTo>
                            <a:pt x="47" y="434"/>
                          </a:lnTo>
                          <a:lnTo>
                            <a:pt x="47" y="433"/>
                          </a:lnTo>
                          <a:lnTo>
                            <a:pt x="47" y="431"/>
                          </a:lnTo>
                          <a:lnTo>
                            <a:pt x="47" y="427"/>
                          </a:lnTo>
                          <a:lnTo>
                            <a:pt x="47" y="424"/>
                          </a:lnTo>
                          <a:lnTo>
                            <a:pt x="46" y="421"/>
                          </a:lnTo>
                          <a:lnTo>
                            <a:pt x="46" y="418"/>
                          </a:lnTo>
                          <a:lnTo>
                            <a:pt x="46" y="416"/>
                          </a:lnTo>
                          <a:lnTo>
                            <a:pt x="46" y="414"/>
                          </a:lnTo>
                          <a:lnTo>
                            <a:pt x="46" y="410"/>
                          </a:lnTo>
                          <a:lnTo>
                            <a:pt x="46" y="407"/>
                          </a:lnTo>
                          <a:lnTo>
                            <a:pt x="46" y="403"/>
                          </a:lnTo>
                          <a:lnTo>
                            <a:pt x="46" y="400"/>
                          </a:lnTo>
                          <a:lnTo>
                            <a:pt x="45" y="396"/>
                          </a:lnTo>
                          <a:lnTo>
                            <a:pt x="44" y="391"/>
                          </a:lnTo>
                          <a:lnTo>
                            <a:pt x="44" y="387"/>
                          </a:lnTo>
                          <a:lnTo>
                            <a:pt x="43" y="382"/>
                          </a:lnTo>
                          <a:lnTo>
                            <a:pt x="43" y="377"/>
                          </a:lnTo>
                          <a:lnTo>
                            <a:pt x="42" y="373"/>
                          </a:lnTo>
                          <a:lnTo>
                            <a:pt x="42" y="368"/>
                          </a:lnTo>
                          <a:lnTo>
                            <a:pt x="42" y="364"/>
                          </a:lnTo>
                          <a:lnTo>
                            <a:pt x="40" y="358"/>
                          </a:lnTo>
                          <a:lnTo>
                            <a:pt x="39" y="353"/>
                          </a:lnTo>
                          <a:lnTo>
                            <a:pt x="38" y="348"/>
                          </a:lnTo>
                          <a:lnTo>
                            <a:pt x="38" y="342"/>
                          </a:lnTo>
                          <a:lnTo>
                            <a:pt x="36" y="337"/>
                          </a:lnTo>
                          <a:lnTo>
                            <a:pt x="36" y="332"/>
                          </a:lnTo>
                          <a:lnTo>
                            <a:pt x="35" y="326"/>
                          </a:lnTo>
                          <a:lnTo>
                            <a:pt x="34" y="320"/>
                          </a:lnTo>
                          <a:lnTo>
                            <a:pt x="33" y="318"/>
                          </a:lnTo>
                          <a:lnTo>
                            <a:pt x="33" y="314"/>
                          </a:lnTo>
                          <a:lnTo>
                            <a:pt x="32" y="311"/>
                          </a:lnTo>
                          <a:lnTo>
                            <a:pt x="32" y="308"/>
                          </a:lnTo>
                          <a:lnTo>
                            <a:pt x="31" y="305"/>
                          </a:lnTo>
                          <a:lnTo>
                            <a:pt x="31" y="302"/>
                          </a:lnTo>
                          <a:lnTo>
                            <a:pt x="30" y="300"/>
                          </a:lnTo>
                          <a:lnTo>
                            <a:pt x="30" y="297"/>
                          </a:lnTo>
                          <a:lnTo>
                            <a:pt x="28" y="293"/>
                          </a:lnTo>
                          <a:lnTo>
                            <a:pt x="28" y="290"/>
                          </a:lnTo>
                          <a:lnTo>
                            <a:pt x="27" y="286"/>
                          </a:lnTo>
                          <a:lnTo>
                            <a:pt x="27" y="284"/>
                          </a:lnTo>
                          <a:lnTo>
                            <a:pt x="25" y="278"/>
                          </a:lnTo>
                          <a:lnTo>
                            <a:pt x="24" y="273"/>
                          </a:lnTo>
                          <a:lnTo>
                            <a:pt x="23" y="269"/>
                          </a:lnTo>
                          <a:lnTo>
                            <a:pt x="22" y="266"/>
                          </a:lnTo>
                          <a:lnTo>
                            <a:pt x="21" y="263"/>
                          </a:lnTo>
                          <a:lnTo>
                            <a:pt x="21" y="261"/>
                          </a:lnTo>
                          <a:lnTo>
                            <a:pt x="19" y="255"/>
                          </a:lnTo>
                          <a:lnTo>
                            <a:pt x="18" y="250"/>
                          </a:lnTo>
                          <a:lnTo>
                            <a:pt x="16" y="244"/>
                          </a:lnTo>
                          <a:lnTo>
                            <a:pt x="15" y="240"/>
                          </a:lnTo>
                          <a:lnTo>
                            <a:pt x="14" y="234"/>
                          </a:lnTo>
                          <a:lnTo>
                            <a:pt x="14" y="229"/>
                          </a:lnTo>
                          <a:lnTo>
                            <a:pt x="12" y="224"/>
                          </a:lnTo>
                          <a:lnTo>
                            <a:pt x="10" y="220"/>
                          </a:lnTo>
                          <a:lnTo>
                            <a:pt x="9" y="215"/>
                          </a:lnTo>
                          <a:lnTo>
                            <a:pt x="8" y="211"/>
                          </a:lnTo>
                          <a:lnTo>
                            <a:pt x="6" y="207"/>
                          </a:lnTo>
                          <a:lnTo>
                            <a:pt x="5" y="204"/>
                          </a:lnTo>
                          <a:lnTo>
                            <a:pt x="4" y="201"/>
                          </a:lnTo>
                          <a:lnTo>
                            <a:pt x="3" y="198"/>
                          </a:lnTo>
                          <a:lnTo>
                            <a:pt x="2" y="195"/>
                          </a:lnTo>
                          <a:lnTo>
                            <a:pt x="2" y="192"/>
                          </a:lnTo>
                          <a:lnTo>
                            <a:pt x="1" y="189"/>
                          </a:lnTo>
                          <a:lnTo>
                            <a:pt x="1" y="188"/>
                          </a:lnTo>
                          <a:lnTo>
                            <a:pt x="0" y="185"/>
                          </a:lnTo>
                          <a:lnTo>
                            <a:pt x="0" y="185"/>
                          </a:lnTo>
                          <a:lnTo>
                            <a:pt x="23" y="200"/>
                          </a:lnTo>
                          <a:lnTo>
                            <a:pt x="73" y="151"/>
                          </a:lnTo>
                          <a:lnTo>
                            <a:pt x="117" y="191"/>
                          </a:lnTo>
                          <a:lnTo>
                            <a:pt x="140" y="166"/>
                          </a:lnTo>
                          <a:lnTo>
                            <a:pt x="145" y="158"/>
                          </a:lnTo>
                          <a:lnTo>
                            <a:pt x="174" y="177"/>
                          </a:lnTo>
                          <a:lnTo>
                            <a:pt x="188" y="135"/>
                          </a:lnTo>
                          <a:lnTo>
                            <a:pt x="160" y="108"/>
                          </a:lnTo>
                          <a:lnTo>
                            <a:pt x="194" y="19"/>
                          </a:lnTo>
                          <a:lnTo>
                            <a:pt x="242" y="0"/>
                          </a:lnTo>
                          <a:lnTo>
                            <a:pt x="242" y="0"/>
                          </a:lnTo>
                          <a:close/>
                        </a:path>
                      </a:pathLst>
                    </a:custGeom>
                    <a:solidFill>
                      <a:srgbClr val="784a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7054200" y="1832040"/>
                      <a:ext cx="72000" cy="90360"/>
                    </a:xfrm>
                    <a:custGeom>
                      <a:avLst/>
                      <a:gdLst/>
                      <a:ahLst/>
                      <a:rect l="l" t="t" r="r" b="b"/>
                      <a:pathLst>
                        <a:path w="74" h="116">
                          <a:moveTo>
                            <a:pt x="35" y="0"/>
                          </a:moveTo>
                          <a:lnTo>
                            <a:pt x="35" y="0"/>
                          </a:lnTo>
                          <a:lnTo>
                            <a:pt x="34" y="3"/>
                          </a:lnTo>
                          <a:lnTo>
                            <a:pt x="33" y="5"/>
                          </a:lnTo>
                          <a:lnTo>
                            <a:pt x="32" y="7"/>
                          </a:lnTo>
                          <a:lnTo>
                            <a:pt x="32" y="9"/>
                          </a:lnTo>
                          <a:lnTo>
                            <a:pt x="31" y="13"/>
                          </a:lnTo>
                          <a:lnTo>
                            <a:pt x="29" y="16"/>
                          </a:lnTo>
                          <a:lnTo>
                            <a:pt x="28" y="19"/>
                          </a:lnTo>
                          <a:lnTo>
                            <a:pt x="27" y="22"/>
                          </a:lnTo>
                          <a:lnTo>
                            <a:pt x="26" y="25"/>
                          </a:lnTo>
                          <a:lnTo>
                            <a:pt x="24" y="28"/>
                          </a:lnTo>
                          <a:lnTo>
                            <a:pt x="23" y="32"/>
                          </a:lnTo>
                          <a:lnTo>
                            <a:pt x="22" y="36"/>
                          </a:lnTo>
                          <a:lnTo>
                            <a:pt x="21" y="40"/>
                          </a:lnTo>
                          <a:lnTo>
                            <a:pt x="18" y="42"/>
                          </a:lnTo>
                          <a:lnTo>
                            <a:pt x="17" y="45"/>
                          </a:lnTo>
                          <a:lnTo>
                            <a:pt x="14" y="48"/>
                          </a:lnTo>
                          <a:lnTo>
                            <a:pt x="13" y="50"/>
                          </a:lnTo>
                          <a:lnTo>
                            <a:pt x="9" y="56"/>
                          </a:lnTo>
                          <a:lnTo>
                            <a:pt x="6" y="61"/>
                          </a:lnTo>
                          <a:lnTo>
                            <a:pt x="3" y="63"/>
                          </a:lnTo>
                          <a:lnTo>
                            <a:pt x="2" y="65"/>
                          </a:lnTo>
                          <a:lnTo>
                            <a:pt x="0" y="67"/>
                          </a:lnTo>
                          <a:lnTo>
                            <a:pt x="0" y="68"/>
                          </a:lnTo>
                          <a:lnTo>
                            <a:pt x="1" y="70"/>
                          </a:lnTo>
                          <a:lnTo>
                            <a:pt x="2" y="73"/>
                          </a:lnTo>
                          <a:lnTo>
                            <a:pt x="4" y="77"/>
                          </a:lnTo>
                          <a:lnTo>
                            <a:pt x="6" y="80"/>
                          </a:lnTo>
                          <a:lnTo>
                            <a:pt x="11" y="84"/>
                          </a:lnTo>
                          <a:lnTo>
                            <a:pt x="13" y="86"/>
                          </a:lnTo>
                          <a:lnTo>
                            <a:pt x="16" y="89"/>
                          </a:lnTo>
                          <a:lnTo>
                            <a:pt x="20" y="91"/>
                          </a:lnTo>
                          <a:lnTo>
                            <a:pt x="23" y="94"/>
                          </a:lnTo>
                          <a:lnTo>
                            <a:pt x="26" y="96"/>
                          </a:lnTo>
                          <a:lnTo>
                            <a:pt x="30" y="98"/>
                          </a:lnTo>
                          <a:lnTo>
                            <a:pt x="34" y="99"/>
                          </a:lnTo>
                          <a:lnTo>
                            <a:pt x="38" y="101"/>
                          </a:lnTo>
                          <a:lnTo>
                            <a:pt x="42" y="102"/>
                          </a:lnTo>
                          <a:lnTo>
                            <a:pt x="46" y="104"/>
                          </a:lnTo>
                          <a:lnTo>
                            <a:pt x="51" y="106"/>
                          </a:lnTo>
                          <a:lnTo>
                            <a:pt x="55" y="108"/>
                          </a:lnTo>
                          <a:lnTo>
                            <a:pt x="59" y="109"/>
                          </a:lnTo>
                          <a:lnTo>
                            <a:pt x="62" y="111"/>
                          </a:lnTo>
                          <a:lnTo>
                            <a:pt x="65" y="112"/>
                          </a:lnTo>
                          <a:lnTo>
                            <a:pt x="68" y="113"/>
                          </a:lnTo>
                          <a:lnTo>
                            <a:pt x="73" y="114"/>
                          </a:lnTo>
                          <a:lnTo>
                            <a:pt x="74" y="116"/>
                          </a:lnTo>
                          <a:lnTo>
                            <a:pt x="35" y="0"/>
                          </a:lnTo>
                          <a:lnTo>
                            <a:pt x="35" y="0"/>
                          </a:lnTo>
                          <a:close/>
                        </a:path>
                      </a:pathLst>
                    </a:custGeom>
                    <a:solidFill>
                      <a:srgbClr val="b84f2e"/>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21" name=""/>
                    <p:cNvSpPr/>
                    <p:nvPr/>
                  </p:nvSpPr>
                  <p:spPr>
                    <a:xfrm>
                      <a:off x="7085160" y="1723680"/>
                      <a:ext cx="152280" cy="275760"/>
                    </a:xfrm>
                    <a:custGeom>
                      <a:avLst/>
                      <a:gdLst/>
                      <a:ahLst/>
                      <a:rect l="l" t="t" r="r" b="b"/>
                      <a:pathLst>
                        <a:path w="157" h="354">
                          <a:moveTo>
                            <a:pt x="7" y="80"/>
                          </a:moveTo>
                          <a:lnTo>
                            <a:pt x="9" y="103"/>
                          </a:lnTo>
                          <a:lnTo>
                            <a:pt x="7" y="103"/>
                          </a:lnTo>
                          <a:lnTo>
                            <a:pt x="7" y="105"/>
                          </a:lnTo>
                          <a:lnTo>
                            <a:pt x="5" y="107"/>
                          </a:lnTo>
                          <a:lnTo>
                            <a:pt x="3" y="111"/>
                          </a:lnTo>
                          <a:lnTo>
                            <a:pt x="2" y="113"/>
                          </a:lnTo>
                          <a:lnTo>
                            <a:pt x="2" y="116"/>
                          </a:lnTo>
                          <a:lnTo>
                            <a:pt x="1" y="120"/>
                          </a:lnTo>
                          <a:lnTo>
                            <a:pt x="1" y="124"/>
                          </a:lnTo>
                          <a:lnTo>
                            <a:pt x="0" y="127"/>
                          </a:lnTo>
                          <a:lnTo>
                            <a:pt x="0" y="133"/>
                          </a:lnTo>
                          <a:lnTo>
                            <a:pt x="0" y="135"/>
                          </a:lnTo>
                          <a:lnTo>
                            <a:pt x="0" y="138"/>
                          </a:lnTo>
                          <a:lnTo>
                            <a:pt x="0" y="141"/>
                          </a:lnTo>
                          <a:lnTo>
                            <a:pt x="0" y="144"/>
                          </a:lnTo>
                          <a:lnTo>
                            <a:pt x="0" y="147"/>
                          </a:lnTo>
                          <a:lnTo>
                            <a:pt x="0" y="150"/>
                          </a:lnTo>
                          <a:lnTo>
                            <a:pt x="0" y="154"/>
                          </a:lnTo>
                          <a:lnTo>
                            <a:pt x="0" y="157"/>
                          </a:lnTo>
                          <a:lnTo>
                            <a:pt x="0" y="160"/>
                          </a:lnTo>
                          <a:lnTo>
                            <a:pt x="1" y="163"/>
                          </a:lnTo>
                          <a:lnTo>
                            <a:pt x="1" y="167"/>
                          </a:lnTo>
                          <a:lnTo>
                            <a:pt x="1" y="171"/>
                          </a:lnTo>
                          <a:lnTo>
                            <a:pt x="1" y="175"/>
                          </a:lnTo>
                          <a:lnTo>
                            <a:pt x="2" y="179"/>
                          </a:lnTo>
                          <a:lnTo>
                            <a:pt x="2" y="182"/>
                          </a:lnTo>
                          <a:lnTo>
                            <a:pt x="3" y="185"/>
                          </a:lnTo>
                          <a:lnTo>
                            <a:pt x="3" y="188"/>
                          </a:lnTo>
                          <a:lnTo>
                            <a:pt x="3" y="192"/>
                          </a:lnTo>
                          <a:lnTo>
                            <a:pt x="4" y="196"/>
                          </a:lnTo>
                          <a:lnTo>
                            <a:pt x="5" y="200"/>
                          </a:lnTo>
                          <a:lnTo>
                            <a:pt x="5" y="202"/>
                          </a:lnTo>
                          <a:lnTo>
                            <a:pt x="5" y="206"/>
                          </a:lnTo>
                          <a:lnTo>
                            <a:pt x="6" y="209"/>
                          </a:lnTo>
                          <a:lnTo>
                            <a:pt x="6" y="212"/>
                          </a:lnTo>
                          <a:lnTo>
                            <a:pt x="7" y="218"/>
                          </a:lnTo>
                          <a:lnTo>
                            <a:pt x="8" y="222"/>
                          </a:lnTo>
                          <a:lnTo>
                            <a:pt x="8" y="226"/>
                          </a:lnTo>
                          <a:lnTo>
                            <a:pt x="9" y="229"/>
                          </a:lnTo>
                          <a:lnTo>
                            <a:pt x="9" y="231"/>
                          </a:lnTo>
                          <a:lnTo>
                            <a:pt x="10" y="232"/>
                          </a:lnTo>
                          <a:lnTo>
                            <a:pt x="30" y="246"/>
                          </a:lnTo>
                          <a:lnTo>
                            <a:pt x="26" y="283"/>
                          </a:lnTo>
                          <a:lnTo>
                            <a:pt x="26" y="283"/>
                          </a:lnTo>
                          <a:lnTo>
                            <a:pt x="27" y="286"/>
                          </a:lnTo>
                          <a:lnTo>
                            <a:pt x="29" y="290"/>
                          </a:lnTo>
                          <a:lnTo>
                            <a:pt x="31" y="296"/>
                          </a:lnTo>
                          <a:lnTo>
                            <a:pt x="33" y="298"/>
                          </a:lnTo>
                          <a:lnTo>
                            <a:pt x="34" y="301"/>
                          </a:lnTo>
                          <a:lnTo>
                            <a:pt x="36" y="305"/>
                          </a:lnTo>
                          <a:lnTo>
                            <a:pt x="38" y="308"/>
                          </a:lnTo>
                          <a:lnTo>
                            <a:pt x="40" y="312"/>
                          </a:lnTo>
                          <a:lnTo>
                            <a:pt x="43" y="315"/>
                          </a:lnTo>
                          <a:lnTo>
                            <a:pt x="45" y="317"/>
                          </a:lnTo>
                          <a:lnTo>
                            <a:pt x="48" y="321"/>
                          </a:lnTo>
                          <a:lnTo>
                            <a:pt x="50" y="324"/>
                          </a:lnTo>
                          <a:lnTo>
                            <a:pt x="53" y="328"/>
                          </a:lnTo>
                          <a:lnTo>
                            <a:pt x="55" y="331"/>
                          </a:lnTo>
                          <a:lnTo>
                            <a:pt x="58" y="334"/>
                          </a:lnTo>
                          <a:lnTo>
                            <a:pt x="64" y="339"/>
                          </a:lnTo>
                          <a:lnTo>
                            <a:pt x="69" y="344"/>
                          </a:lnTo>
                          <a:lnTo>
                            <a:pt x="73" y="348"/>
                          </a:lnTo>
                          <a:lnTo>
                            <a:pt x="77" y="352"/>
                          </a:lnTo>
                          <a:lnTo>
                            <a:pt x="79" y="353"/>
                          </a:lnTo>
                          <a:lnTo>
                            <a:pt x="80" y="354"/>
                          </a:lnTo>
                          <a:lnTo>
                            <a:pt x="106" y="277"/>
                          </a:lnTo>
                          <a:lnTo>
                            <a:pt x="157" y="169"/>
                          </a:lnTo>
                          <a:lnTo>
                            <a:pt x="75" y="2"/>
                          </a:lnTo>
                          <a:lnTo>
                            <a:pt x="59" y="0"/>
                          </a:lnTo>
                          <a:lnTo>
                            <a:pt x="23" y="27"/>
                          </a:lnTo>
                          <a:lnTo>
                            <a:pt x="7" y="80"/>
                          </a:lnTo>
                          <a:lnTo>
                            <a:pt x="7" y="80"/>
                          </a:lnTo>
                          <a:close/>
                        </a:path>
                      </a:pathLst>
                    </a:custGeom>
                    <a:solidFill>
                      <a:srgbClr val="ffe0b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7090200" y="1707840"/>
                      <a:ext cx="70560" cy="77760"/>
                    </a:xfrm>
                    <a:custGeom>
                      <a:avLst/>
                      <a:gdLst/>
                      <a:ahLst/>
                      <a:rect l="l" t="t" r="r" b="b"/>
                      <a:pathLst>
                        <a:path w="73" h="100">
                          <a:moveTo>
                            <a:pt x="73" y="27"/>
                          </a:moveTo>
                          <a:lnTo>
                            <a:pt x="72" y="27"/>
                          </a:lnTo>
                          <a:lnTo>
                            <a:pt x="69" y="27"/>
                          </a:lnTo>
                          <a:lnTo>
                            <a:pt x="65" y="29"/>
                          </a:lnTo>
                          <a:lnTo>
                            <a:pt x="61" y="31"/>
                          </a:lnTo>
                          <a:lnTo>
                            <a:pt x="57" y="32"/>
                          </a:lnTo>
                          <a:lnTo>
                            <a:pt x="54" y="34"/>
                          </a:lnTo>
                          <a:lnTo>
                            <a:pt x="50" y="36"/>
                          </a:lnTo>
                          <a:lnTo>
                            <a:pt x="47" y="39"/>
                          </a:lnTo>
                          <a:lnTo>
                            <a:pt x="43" y="41"/>
                          </a:lnTo>
                          <a:lnTo>
                            <a:pt x="41" y="44"/>
                          </a:lnTo>
                          <a:lnTo>
                            <a:pt x="37" y="47"/>
                          </a:lnTo>
                          <a:lnTo>
                            <a:pt x="34" y="50"/>
                          </a:lnTo>
                          <a:lnTo>
                            <a:pt x="30" y="54"/>
                          </a:lnTo>
                          <a:lnTo>
                            <a:pt x="26" y="58"/>
                          </a:lnTo>
                          <a:lnTo>
                            <a:pt x="24" y="62"/>
                          </a:lnTo>
                          <a:lnTo>
                            <a:pt x="21" y="66"/>
                          </a:lnTo>
                          <a:lnTo>
                            <a:pt x="17" y="69"/>
                          </a:lnTo>
                          <a:lnTo>
                            <a:pt x="15" y="74"/>
                          </a:lnTo>
                          <a:lnTo>
                            <a:pt x="12" y="78"/>
                          </a:lnTo>
                          <a:lnTo>
                            <a:pt x="9" y="82"/>
                          </a:lnTo>
                          <a:lnTo>
                            <a:pt x="7" y="85"/>
                          </a:lnTo>
                          <a:lnTo>
                            <a:pt x="5" y="88"/>
                          </a:lnTo>
                          <a:lnTo>
                            <a:pt x="4" y="91"/>
                          </a:lnTo>
                          <a:lnTo>
                            <a:pt x="2" y="94"/>
                          </a:lnTo>
                          <a:lnTo>
                            <a:pt x="0" y="98"/>
                          </a:lnTo>
                          <a:lnTo>
                            <a:pt x="0" y="100"/>
                          </a:lnTo>
                          <a:lnTo>
                            <a:pt x="13" y="38"/>
                          </a:lnTo>
                          <a:lnTo>
                            <a:pt x="62" y="0"/>
                          </a:lnTo>
                          <a:lnTo>
                            <a:pt x="73" y="27"/>
                          </a:lnTo>
                          <a:lnTo>
                            <a:pt x="73" y="27"/>
                          </a:lnTo>
                          <a:close/>
                        </a:path>
                      </a:pathLst>
                    </a:custGeom>
                    <a:solidFill>
                      <a:srgbClr val="eda67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23" name=""/>
                    <p:cNvSpPr/>
                    <p:nvPr/>
                  </p:nvSpPr>
                  <p:spPr>
                    <a:xfrm>
                      <a:off x="7099920" y="1758600"/>
                      <a:ext cx="168840" cy="198720"/>
                    </a:xfrm>
                    <a:custGeom>
                      <a:avLst/>
                      <a:gdLst/>
                      <a:ahLst/>
                      <a:rect l="l" t="t" r="r" b="b"/>
                      <a:pathLst>
                        <a:path w="174" h="255">
                          <a:moveTo>
                            <a:pt x="81" y="0"/>
                          </a:moveTo>
                          <a:lnTo>
                            <a:pt x="70" y="23"/>
                          </a:lnTo>
                          <a:lnTo>
                            <a:pt x="91" y="62"/>
                          </a:lnTo>
                          <a:lnTo>
                            <a:pt x="53" y="29"/>
                          </a:lnTo>
                          <a:lnTo>
                            <a:pt x="25" y="54"/>
                          </a:lnTo>
                          <a:lnTo>
                            <a:pt x="0" y="118"/>
                          </a:lnTo>
                          <a:lnTo>
                            <a:pt x="24" y="139"/>
                          </a:lnTo>
                          <a:lnTo>
                            <a:pt x="24" y="141"/>
                          </a:lnTo>
                          <a:lnTo>
                            <a:pt x="24" y="143"/>
                          </a:lnTo>
                          <a:lnTo>
                            <a:pt x="24" y="147"/>
                          </a:lnTo>
                          <a:lnTo>
                            <a:pt x="24" y="151"/>
                          </a:lnTo>
                          <a:lnTo>
                            <a:pt x="24" y="157"/>
                          </a:lnTo>
                          <a:lnTo>
                            <a:pt x="24" y="158"/>
                          </a:lnTo>
                          <a:lnTo>
                            <a:pt x="25" y="161"/>
                          </a:lnTo>
                          <a:lnTo>
                            <a:pt x="26" y="164"/>
                          </a:lnTo>
                          <a:lnTo>
                            <a:pt x="26" y="168"/>
                          </a:lnTo>
                          <a:lnTo>
                            <a:pt x="26" y="173"/>
                          </a:lnTo>
                          <a:lnTo>
                            <a:pt x="27" y="178"/>
                          </a:lnTo>
                          <a:lnTo>
                            <a:pt x="28" y="183"/>
                          </a:lnTo>
                          <a:lnTo>
                            <a:pt x="29" y="188"/>
                          </a:lnTo>
                          <a:lnTo>
                            <a:pt x="30" y="192"/>
                          </a:lnTo>
                          <a:lnTo>
                            <a:pt x="30" y="195"/>
                          </a:lnTo>
                          <a:lnTo>
                            <a:pt x="31" y="196"/>
                          </a:lnTo>
                          <a:lnTo>
                            <a:pt x="31" y="198"/>
                          </a:lnTo>
                          <a:lnTo>
                            <a:pt x="33" y="198"/>
                          </a:lnTo>
                          <a:lnTo>
                            <a:pt x="35" y="198"/>
                          </a:lnTo>
                          <a:lnTo>
                            <a:pt x="39" y="199"/>
                          </a:lnTo>
                          <a:lnTo>
                            <a:pt x="44" y="200"/>
                          </a:lnTo>
                          <a:lnTo>
                            <a:pt x="49" y="200"/>
                          </a:lnTo>
                          <a:lnTo>
                            <a:pt x="52" y="200"/>
                          </a:lnTo>
                          <a:lnTo>
                            <a:pt x="55" y="200"/>
                          </a:lnTo>
                          <a:lnTo>
                            <a:pt x="58" y="200"/>
                          </a:lnTo>
                          <a:lnTo>
                            <a:pt x="62" y="200"/>
                          </a:lnTo>
                          <a:lnTo>
                            <a:pt x="65" y="199"/>
                          </a:lnTo>
                          <a:lnTo>
                            <a:pt x="68" y="198"/>
                          </a:lnTo>
                          <a:lnTo>
                            <a:pt x="72" y="198"/>
                          </a:lnTo>
                          <a:lnTo>
                            <a:pt x="75" y="197"/>
                          </a:lnTo>
                          <a:lnTo>
                            <a:pt x="78" y="196"/>
                          </a:lnTo>
                          <a:lnTo>
                            <a:pt x="81" y="195"/>
                          </a:lnTo>
                          <a:lnTo>
                            <a:pt x="85" y="195"/>
                          </a:lnTo>
                          <a:lnTo>
                            <a:pt x="89" y="195"/>
                          </a:lnTo>
                          <a:lnTo>
                            <a:pt x="93" y="192"/>
                          </a:lnTo>
                          <a:lnTo>
                            <a:pt x="97" y="191"/>
                          </a:lnTo>
                          <a:lnTo>
                            <a:pt x="100" y="190"/>
                          </a:lnTo>
                          <a:lnTo>
                            <a:pt x="102" y="190"/>
                          </a:lnTo>
                          <a:lnTo>
                            <a:pt x="48" y="219"/>
                          </a:lnTo>
                          <a:lnTo>
                            <a:pt x="84" y="255"/>
                          </a:lnTo>
                          <a:lnTo>
                            <a:pt x="83" y="254"/>
                          </a:lnTo>
                          <a:lnTo>
                            <a:pt x="84" y="252"/>
                          </a:lnTo>
                          <a:lnTo>
                            <a:pt x="84" y="251"/>
                          </a:lnTo>
                          <a:lnTo>
                            <a:pt x="85" y="248"/>
                          </a:lnTo>
                          <a:lnTo>
                            <a:pt x="86" y="245"/>
                          </a:lnTo>
                          <a:lnTo>
                            <a:pt x="87" y="242"/>
                          </a:lnTo>
                          <a:lnTo>
                            <a:pt x="89" y="239"/>
                          </a:lnTo>
                          <a:lnTo>
                            <a:pt x="91" y="235"/>
                          </a:lnTo>
                          <a:lnTo>
                            <a:pt x="92" y="232"/>
                          </a:lnTo>
                          <a:lnTo>
                            <a:pt x="95" y="227"/>
                          </a:lnTo>
                          <a:lnTo>
                            <a:pt x="99" y="222"/>
                          </a:lnTo>
                          <a:lnTo>
                            <a:pt x="103" y="217"/>
                          </a:lnTo>
                          <a:lnTo>
                            <a:pt x="105" y="214"/>
                          </a:lnTo>
                          <a:lnTo>
                            <a:pt x="107" y="211"/>
                          </a:lnTo>
                          <a:lnTo>
                            <a:pt x="109" y="208"/>
                          </a:lnTo>
                          <a:lnTo>
                            <a:pt x="112" y="205"/>
                          </a:lnTo>
                          <a:lnTo>
                            <a:pt x="114" y="201"/>
                          </a:lnTo>
                          <a:lnTo>
                            <a:pt x="117" y="198"/>
                          </a:lnTo>
                          <a:lnTo>
                            <a:pt x="120" y="195"/>
                          </a:lnTo>
                          <a:lnTo>
                            <a:pt x="123" y="192"/>
                          </a:lnTo>
                          <a:lnTo>
                            <a:pt x="126" y="188"/>
                          </a:lnTo>
                          <a:lnTo>
                            <a:pt x="129" y="184"/>
                          </a:lnTo>
                          <a:lnTo>
                            <a:pt x="131" y="180"/>
                          </a:lnTo>
                          <a:lnTo>
                            <a:pt x="134" y="176"/>
                          </a:lnTo>
                          <a:lnTo>
                            <a:pt x="137" y="174"/>
                          </a:lnTo>
                          <a:lnTo>
                            <a:pt x="140" y="171"/>
                          </a:lnTo>
                          <a:lnTo>
                            <a:pt x="142" y="167"/>
                          </a:lnTo>
                          <a:lnTo>
                            <a:pt x="146" y="164"/>
                          </a:lnTo>
                          <a:lnTo>
                            <a:pt x="148" y="161"/>
                          </a:lnTo>
                          <a:lnTo>
                            <a:pt x="150" y="157"/>
                          </a:lnTo>
                          <a:lnTo>
                            <a:pt x="152" y="155"/>
                          </a:lnTo>
                          <a:lnTo>
                            <a:pt x="155" y="152"/>
                          </a:lnTo>
                          <a:lnTo>
                            <a:pt x="160" y="146"/>
                          </a:lnTo>
                          <a:lnTo>
                            <a:pt x="164" y="142"/>
                          </a:lnTo>
                          <a:lnTo>
                            <a:pt x="167" y="138"/>
                          </a:lnTo>
                          <a:lnTo>
                            <a:pt x="169" y="136"/>
                          </a:lnTo>
                          <a:lnTo>
                            <a:pt x="170" y="134"/>
                          </a:lnTo>
                          <a:lnTo>
                            <a:pt x="172" y="134"/>
                          </a:lnTo>
                          <a:lnTo>
                            <a:pt x="174" y="44"/>
                          </a:lnTo>
                          <a:lnTo>
                            <a:pt x="81" y="0"/>
                          </a:lnTo>
                          <a:lnTo>
                            <a:pt x="81" y="0"/>
                          </a:lnTo>
                          <a:close/>
                        </a:path>
                      </a:pathLst>
                    </a:custGeom>
                    <a:solidFill>
                      <a:srgbClr val="eda67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7079400" y="1711800"/>
                      <a:ext cx="41760" cy="95760"/>
                    </a:xfrm>
                    <a:custGeom>
                      <a:avLst/>
                      <a:gdLst/>
                      <a:ahLst/>
                      <a:rect l="l" t="t" r="r" b="b"/>
                      <a:pathLst>
                        <a:path w="43" h="123">
                          <a:moveTo>
                            <a:pt x="43" y="16"/>
                          </a:moveTo>
                          <a:lnTo>
                            <a:pt x="41" y="17"/>
                          </a:lnTo>
                          <a:lnTo>
                            <a:pt x="37" y="22"/>
                          </a:lnTo>
                          <a:lnTo>
                            <a:pt x="35" y="25"/>
                          </a:lnTo>
                          <a:lnTo>
                            <a:pt x="34" y="29"/>
                          </a:lnTo>
                          <a:lnTo>
                            <a:pt x="32" y="31"/>
                          </a:lnTo>
                          <a:lnTo>
                            <a:pt x="31" y="34"/>
                          </a:lnTo>
                          <a:lnTo>
                            <a:pt x="30" y="37"/>
                          </a:lnTo>
                          <a:lnTo>
                            <a:pt x="29" y="41"/>
                          </a:lnTo>
                          <a:lnTo>
                            <a:pt x="27" y="44"/>
                          </a:lnTo>
                          <a:lnTo>
                            <a:pt x="26" y="47"/>
                          </a:lnTo>
                          <a:lnTo>
                            <a:pt x="24" y="51"/>
                          </a:lnTo>
                          <a:lnTo>
                            <a:pt x="22" y="57"/>
                          </a:lnTo>
                          <a:lnTo>
                            <a:pt x="20" y="61"/>
                          </a:lnTo>
                          <a:lnTo>
                            <a:pt x="19" y="64"/>
                          </a:lnTo>
                          <a:lnTo>
                            <a:pt x="18" y="69"/>
                          </a:lnTo>
                          <a:lnTo>
                            <a:pt x="17" y="73"/>
                          </a:lnTo>
                          <a:lnTo>
                            <a:pt x="16" y="77"/>
                          </a:lnTo>
                          <a:lnTo>
                            <a:pt x="15" y="80"/>
                          </a:lnTo>
                          <a:lnTo>
                            <a:pt x="14" y="83"/>
                          </a:lnTo>
                          <a:lnTo>
                            <a:pt x="14" y="86"/>
                          </a:lnTo>
                          <a:lnTo>
                            <a:pt x="13" y="90"/>
                          </a:lnTo>
                          <a:lnTo>
                            <a:pt x="13" y="91"/>
                          </a:lnTo>
                          <a:lnTo>
                            <a:pt x="15" y="116"/>
                          </a:lnTo>
                          <a:lnTo>
                            <a:pt x="13" y="123"/>
                          </a:lnTo>
                          <a:lnTo>
                            <a:pt x="2" y="93"/>
                          </a:lnTo>
                          <a:lnTo>
                            <a:pt x="0" y="0"/>
                          </a:lnTo>
                          <a:lnTo>
                            <a:pt x="43" y="16"/>
                          </a:lnTo>
                          <a:lnTo>
                            <a:pt x="43" y="16"/>
                          </a:lnTo>
                          <a:close/>
                        </a:path>
                      </a:pathLst>
                    </a:custGeom>
                    <a:solidFill>
                      <a:srgbClr val="8529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7069680" y="1695600"/>
                      <a:ext cx="221040" cy="228240"/>
                    </a:xfrm>
                    <a:custGeom>
                      <a:avLst/>
                      <a:gdLst/>
                      <a:ahLst/>
                      <a:rect l="l" t="t" r="r" b="b"/>
                      <a:pathLst>
                        <a:path w="228" h="293">
                          <a:moveTo>
                            <a:pt x="83" y="4"/>
                          </a:moveTo>
                          <a:lnTo>
                            <a:pt x="81" y="3"/>
                          </a:lnTo>
                          <a:lnTo>
                            <a:pt x="78" y="3"/>
                          </a:lnTo>
                          <a:lnTo>
                            <a:pt x="74" y="2"/>
                          </a:lnTo>
                          <a:lnTo>
                            <a:pt x="68" y="2"/>
                          </a:lnTo>
                          <a:lnTo>
                            <a:pt x="64" y="2"/>
                          </a:lnTo>
                          <a:lnTo>
                            <a:pt x="62" y="2"/>
                          </a:lnTo>
                          <a:lnTo>
                            <a:pt x="58" y="2"/>
                          </a:lnTo>
                          <a:lnTo>
                            <a:pt x="55" y="2"/>
                          </a:lnTo>
                          <a:lnTo>
                            <a:pt x="51" y="2"/>
                          </a:lnTo>
                          <a:lnTo>
                            <a:pt x="47" y="2"/>
                          </a:lnTo>
                          <a:lnTo>
                            <a:pt x="44" y="2"/>
                          </a:lnTo>
                          <a:lnTo>
                            <a:pt x="41" y="3"/>
                          </a:lnTo>
                          <a:lnTo>
                            <a:pt x="37" y="3"/>
                          </a:lnTo>
                          <a:lnTo>
                            <a:pt x="33" y="3"/>
                          </a:lnTo>
                          <a:lnTo>
                            <a:pt x="29" y="4"/>
                          </a:lnTo>
                          <a:lnTo>
                            <a:pt x="26" y="5"/>
                          </a:lnTo>
                          <a:lnTo>
                            <a:pt x="21" y="7"/>
                          </a:lnTo>
                          <a:lnTo>
                            <a:pt x="16" y="8"/>
                          </a:lnTo>
                          <a:lnTo>
                            <a:pt x="11" y="9"/>
                          </a:lnTo>
                          <a:lnTo>
                            <a:pt x="8" y="10"/>
                          </a:lnTo>
                          <a:lnTo>
                            <a:pt x="6" y="11"/>
                          </a:lnTo>
                          <a:lnTo>
                            <a:pt x="6" y="11"/>
                          </a:lnTo>
                          <a:lnTo>
                            <a:pt x="6" y="12"/>
                          </a:lnTo>
                          <a:lnTo>
                            <a:pt x="5" y="16"/>
                          </a:lnTo>
                          <a:lnTo>
                            <a:pt x="4" y="18"/>
                          </a:lnTo>
                          <a:lnTo>
                            <a:pt x="4" y="22"/>
                          </a:lnTo>
                          <a:lnTo>
                            <a:pt x="2" y="25"/>
                          </a:lnTo>
                          <a:lnTo>
                            <a:pt x="2" y="29"/>
                          </a:lnTo>
                          <a:lnTo>
                            <a:pt x="1" y="32"/>
                          </a:lnTo>
                          <a:lnTo>
                            <a:pt x="1" y="37"/>
                          </a:lnTo>
                          <a:lnTo>
                            <a:pt x="0" y="42"/>
                          </a:lnTo>
                          <a:lnTo>
                            <a:pt x="0" y="46"/>
                          </a:lnTo>
                          <a:lnTo>
                            <a:pt x="0" y="51"/>
                          </a:lnTo>
                          <a:lnTo>
                            <a:pt x="0" y="56"/>
                          </a:lnTo>
                          <a:lnTo>
                            <a:pt x="0" y="62"/>
                          </a:lnTo>
                          <a:lnTo>
                            <a:pt x="0" y="67"/>
                          </a:lnTo>
                          <a:lnTo>
                            <a:pt x="0" y="72"/>
                          </a:lnTo>
                          <a:lnTo>
                            <a:pt x="1" y="79"/>
                          </a:lnTo>
                          <a:lnTo>
                            <a:pt x="2" y="84"/>
                          </a:lnTo>
                          <a:lnTo>
                            <a:pt x="3" y="89"/>
                          </a:lnTo>
                          <a:lnTo>
                            <a:pt x="4" y="94"/>
                          </a:lnTo>
                          <a:lnTo>
                            <a:pt x="5" y="100"/>
                          </a:lnTo>
                          <a:lnTo>
                            <a:pt x="6" y="104"/>
                          </a:lnTo>
                          <a:lnTo>
                            <a:pt x="7" y="109"/>
                          </a:lnTo>
                          <a:lnTo>
                            <a:pt x="8" y="113"/>
                          </a:lnTo>
                          <a:lnTo>
                            <a:pt x="9" y="117"/>
                          </a:lnTo>
                          <a:lnTo>
                            <a:pt x="10" y="120"/>
                          </a:lnTo>
                          <a:lnTo>
                            <a:pt x="12" y="123"/>
                          </a:lnTo>
                          <a:lnTo>
                            <a:pt x="13" y="127"/>
                          </a:lnTo>
                          <a:lnTo>
                            <a:pt x="14" y="128"/>
                          </a:lnTo>
                          <a:lnTo>
                            <a:pt x="13" y="127"/>
                          </a:lnTo>
                          <a:lnTo>
                            <a:pt x="13" y="125"/>
                          </a:lnTo>
                          <a:lnTo>
                            <a:pt x="12" y="122"/>
                          </a:lnTo>
                          <a:lnTo>
                            <a:pt x="12" y="117"/>
                          </a:lnTo>
                          <a:lnTo>
                            <a:pt x="12" y="114"/>
                          </a:lnTo>
                          <a:lnTo>
                            <a:pt x="12" y="110"/>
                          </a:lnTo>
                          <a:lnTo>
                            <a:pt x="12" y="107"/>
                          </a:lnTo>
                          <a:lnTo>
                            <a:pt x="12" y="104"/>
                          </a:lnTo>
                          <a:lnTo>
                            <a:pt x="12" y="100"/>
                          </a:lnTo>
                          <a:lnTo>
                            <a:pt x="12" y="96"/>
                          </a:lnTo>
                          <a:lnTo>
                            <a:pt x="12" y="92"/>
                          </a:lnTo>
                          <a:lnTo>
                            <a:pt x="12" y="88"/>
                          </a:lnTo>
                          <a:lnTo>
                            <a:pt x="12" y="84"/>
                          </a:lnTo>
                          <a:lnTo>
                            <a:pt x="12" y="79"/>
                          </a:lnTo>
                          <a:lnTo>
                            <a:pt x="13" y="74"/>
                          </a:lnTo>
                          <a:lnTo>
                            <a:pt x="13" y="68"/>
                          </a:lnTo>
                          <a:lnTo>
                            <a:pt x="14" y="64"/>
                          </a:lnTo>
                          <a:lnTo>
                            <a:pt x="14" y="59"/>
                          </a:lnTo>
                          <a:lnTo>
                            <a:pt x="15" y="55"/>
                          </a:lnTo>
                          <a:lnTo>
                            <a:pt x="16" y="51"/>
                          </a:lnTo>
                          <a:lnTo>
                            <a:pt x="16" y="46"/>
                          </a:lnTo>
                          <a:lnTo>
                            <a:pt x="17" y="44"/>
                          </a:lnTo>
                          <a:lnTo>
                            <a:pt x="17" y="40"/>
                          </a:lnTo>
                          <a:lnTo>
                            <a:pt x="18" y="38"/>
                          </a:lnTo>
                          <a:lnTo>
                            <a:pt x="19" y="34"/>
                          </a:lnTo>
                          <a:lnTo>
                            <a:pt x="19" y="33"/>
                          </a:lnTo>
                          <a:lnTo>
                            <a:pt x="43" y="47"/>
                          </a:lnTo>
                          <a:lnTo>
                            <a:pt x="83" y="18"/>
                          </a:lnTo>
                          <a:lnTo>
                            <a:pt x="83" y="19"/>
                          </a:lnTo>
                          <a:lnTo>
                            <a:pt x="83" y="21"/>
                          </a:lnTo>
                          <a:lnTo>
                            <a:pt x="84" y="24"/>
                          </a:lnTo>
                          <a:lnTo>
                            <a:pt x="84" y="27"/>
                          </a:lnTo>
                          <a:lnTo>
                            <a:pt x="84" y="31"/>
                          </a:lnTo>
                          <a:lnTo>
                            <a:pt x="84" y="36"/>
                          </a:lnTo>
                          <a:lnTo>
                            <a:pt x="85" y="42"/>
                          </a:lnTo>
                          <a:lnTo>
                            <a:pt x="85" y="46"/>
                          </a:lnTo>
                          <a:lnTo>
                            <a:pt x="87" y="52"/>
                          </a:lnTo>
                          <a:lnTo>
                            <a:pt x="87" y="55"/>
                          </a:lnTo>
                          <a:lnTo>
                            <a:pt x="89" y="59"/>
                          </a:lnTo>
                          <a:lnTo>
                            <a:pt x="89" y="62"/>
                          </a:lnTo>
                          <a:lnTo>
                            <a:pt x="91" y="65"/>
                          </a:lnTo>
                          <a:lnTo>
                            <a:pt x="91" y="68"/>
                          </a:lnTo>
                          <a:lnTo>
                            <a:pt x="93" y="71"/>
                          </a:lnTo>
                          <a:lnTo>
                            <a:pt x="94" y="75"/>
                          </a:lnTo>
                          <a:lnTo>
                            <a:pt x="96" y="78"/>
                          </a:lnTo>
                          <a:lnTo>
                            <a:pt x="98" y="82"/>
                          </a:lnTo>
                          <a:lnTo>
                            <a:pt x="99" y="84"/>
                          </a:lnTo>
                          <a:lnTo>
                            <a:pt x="102" y="87"/>
                          </a:lnTo>
                          <a:lnTo>
                            <a:pt x="103" y="91"/>
                          </a:lnTo>
                          <a:lnTo>
                            <a:pt x="105" y="94"/>
                          </a:lnTo>
                          <a:lnTo>
                            <a:pt x="107" y="97"/>
                          </a:lnTo>
                          <a:lnTo>
                            <a:pt x="109" y="100"/>
                          </a:lnTo>
                          <a:lnTo>
                            <a:pt x="112" y="103"/>
                          </a:lnTo>
                          <a:lnTo>
                            <a:pt x="114" y="105"/>
                          </a:lnTo>
                          <a:lnTo>
                            <a:pt x="117" y="108"/>
                          </a:lnTo>
                          <a:lnTo>
                            <a:pt x="119" y="111"/>
                          </a:lnTo>
                          <a:lnTo>
                            <a:pt x="122" y="115"/>
                          </a:lnTo>
                          <a:lnTo>
                            <a:pt x="127" y="120"/>
                          </a:lnTo>
                          <a:lnTo>
                            <a:pt x="133" y="124"/>
                          </a:lnTo>
                          <a:lnTo>
                            <a:pt x="139" y="130"/>
                          </a:lnTo>
                          <a:lnTo>
                            <a:pt x="144" y="135"/>
                          </a:lnTo>
                          <a:lnTo>
                            <a:pt x="149" y="138"/>
                          </a:lnTo>
                          <a:lnTo>
                            <a:pt x="154" y="142"/>
                          </a:lnTo>
                          <a:lnTo>
                            <a:pt x="158" y="144"/>
                          </a:lnTo>
                          <a:lnTo>
                            <a:pt x="162" y="147"/>
                          </a:lnTo>
                          <a:lnTo>
                            <a:pt x="164" y="149"/>
                          </a:lnTo>
                          <a:lnTo>
                            <a:pt x="167" y="151"/>
                          </a:lnTo>
                          <a:lnTo>
                            <a:pt x="168" y="152"/>
                          </a:lnTo>
                          <a:lnTo>
                            <a:pt x="170" y="153"/>
                          </a:lnTo>
                          <a:lnTo>
                            <a:pt x="171" y="150"/>
                          </a:lnTo>
                          <a:lnTo>
                            <a:pt x="175" y="146"/>
                          </a:lnTo>
                          <a:lnTo>
                            <a:pt x="180" y="143"/>
                          </a:lnTo>
                          <a:lnTo>
                            <a:pt x="185" y="146"/>
                          </a:lnTo>
                          <a:lnTo>
                            <a:pt x="188" y="148"/>
                          </a:lnTo>
                          <a:lnTo>
                            <a:pt x="190" y="153"/>
                          </a:lnTo>
                          <a:lnTo>
                            <a:pt x="191" y="156"/>
                          </a:lnTo>
                          <a:lnTo>
                            <a:pt x="191" y="159"/>
                          </a:lnTo>
                          <a:lnTo>
                            <a:pt x="192" y="162"/>
                          </a:lnTo>
                          <a:lnTo>
                            <a:pt x="193" y="166"/>
                          </a:lnTo>
                          <a:lnTo>
                            <a:pt x="192" y="169"/>
                          </a:lnTo>
                          <a:lnTo>
                            <a:pt x="192" y="172"/>
                          </a:lnTo>
                          <a:lnTo>
                            <a:pt x="192" y="176"/>
                          </a:lnTo>
                          <a:lnTo>
                            <a:pt x="192" y="180"/>
                          </a:lnTo>
                          <a:lnTo>
                            <a:pt x="192" y="182"/>
                          </a:lnTo>
                          <a:lnTo>
                            <a:pt x="191" y="186"/>
                          </a:lnTo>
                          <a:lnTo>
                            <a:pt x="191" y="188"/>
                          </a:lnTo>
                          <a:lnTo>
                            <a:pt x="190" y="192"/>
                          </a:lnTo>
                          <a:lnTo>
                            <a:pt x="187" y="196"/>
                          </a:lnTo>
                          <a:lnTo>
                            <a:pt x="183" y="199"/>
                          </a:lnTo>
                          <a:lnTo>
                            <a:pt x="180" y="201"/>
                          </a:lnTo>
                          <a:lnTo>
                            <a:pt x="177" y="204"/>
                          </a:lnTo>
                          <a:lnTo>
                            <a:pt x="173" y="205"/>
                          </a:lnTo>
                          <a:lnTo>
                            <a:pt x="171" y="206"/>
                          </a:lnTo>
                          <a:lnTo>
                            <a:pt x="168" y="206"/>
                          </a:lnTo>
                          <a:lnTo>
                            <a:pt x="168" y="207"/>
                          </a:lnTo>
                          <a:lnTo>
                            <a:pt x="168" y="207"/>
                          </a:lnTo>
                          <a:lnTo>
                            <a:pt x="168" y="209"/>
                          </a:lnTo>
                          <a:lnTo>
                            <a:pt x="167" y="212"/>
                          </a:lnTo>
                          <a:lnTo>
                            <a:pt x="166" y="217"/>
                          </a:lnTo>
                          <a:lnTo>
                            <a:pt x="163" y="220"/>
                          </a:lnTo>
                          <a:lnTo>
                            <a:pt x="161" y="226"/>
                          </a:lnTo>
                          <a:lnTo>
                            <a:pt x="156" y="232"/>
                          </a:lnTo>
                          <a:lnTo>
                            <a:pt x="151" y="238"/>
                          </a:lnTo>
                          <a:lnTo>
                            <a:pt x="147" y="239"/>
                          </a:lnTo>
                          <a:lnTo>
                            <a:pt x="144" y="242"/>
                          </a:lnTo>
                          <a:lnTo>
                            <a:pt x="141" y="244"/>
                          </a:lnTo>
                          <a:lnTo>
                            <a:pt x="137" y="247"/>
                          </a:lnTo>
                          <a:lnTo>
                            <a:pt x="132" y="249"/>
                          </a:lnTo>
                          <a:lnTo>
                            <a:pt x="129" y="251"/>
                          </a:lnTo>
                          <a:lnTo>
                            <a:pt x="124" y="253"/>
                          </a:lnTo>
                          <a:lnTo>
                            <a:pt x="122" y="256"/>
                          </a:lnTo>
                          <a:lnTo>
                            <a:pt x="118" y="257"/>
                          </a:lnTo>
                          <a:lnTo>
                            <a:pt x="115" y="257"/>
                          </a:lnTo>
                          <a:lnTo>
                            <a:pt x="111" y="259"/>
                          </a:lnTo>
                          <a:lnTo>
                            <a:pt x="109" y="260"/>
                          </a:lnTo>
                          <a:lnTo>
                            <a:pt x="105" y="261"/>
                          </a:lnTo>
                          <a:lnTo>
                            <a:pt x="104" y="263"/>
                          </a:lnTo>
                          <a:lnTo>
                            <a:pt x="105" y="264"/>
                          </a:lnTo>
                          <a:lnTo>
                            <a:pt x="108" y="267"/>
                          </a:lnTo>
                          <a:lnTo>
                            <a:pt x="110" y="269"/>
                          </a:lnTo>
                          <a:lnTo>
                            <a:pt x="114" y="272"/>
                          </a:lnTo>
                          <a:lnTo>
                            <a:pt x="117" y="274"/>
                          </a:lnTo>
                          <a:lnTo>
                            <a:pt x="122" y="277"/>
                          </a:lnTo>
                          <a:lnTo>
                            <a:pt x="124" y="280"/>
                          </a:lnTo>
                          <a:lnTo>
                            <a:pt x="130" y="283"/>
                          </a:lnTo>
                          <a:lnTo>
                            <a:pt x="134" y="285"/>
                          </a:lnTo>
                          <a:lnTo>
                            <a:pt x="139" y="288"/>
                          </a:lnTo>
                          <a:lnTo>
                            <a:pt x="141" y="289"/>
                          </a:lnTo>
                          <a:lnTo>
                            <a:pt x="144" y="291"/>
                          </a:lnTo>
                          <a:lnTo>
                            <a:pt x="146" y="292"/>
                          </a:lnTo>
                          <a:lnTo>
                            <a:pt x="147" y="293"/>
                          </a:lnTo>
                          <a:lnTo>
                            <a:pt x="148" y="292"/>
                          </a:lnTo>
                          <a:lnTo>
                            <a:pt x="152" y="291"/>
                          </a:lnTo>
                          <a:lnTo>
                            <a:pt x="154" y="289"/>
                          </a:lnTo>
                          <a:lnTo>
                            <a:pt x="157" y="288"/>
                          </a:lnTo>
                          <a:lnTo>
                            <a:pt x="160" y="287"/>
                          </a:lnTo>
                          <a:lnTo>
                            <a:pt x="163" y="287"/>
                          </a:lnTo>
                          <a:lnTo>
                            <a:pt x="167" y="285"/>
                          </a:lnTo>
                          <a:lnTo>
                            <a:pt x="171" y="283"/>
                          </a:lnTo>
                          <a:lnTo>
                            <a:pt x="175" y="281"/>
                          </a:lnTo>
                          <a:lnTo>
                            <a:pt x="179" y="280"/>
                          </a:lnTo>
                          <a:lnTo>
                            <a:pt x="181" y="277"/>
                          </a:lnTo>
                          <a:lnTo>
                            <a:pt x="186" y="276"/>
                          </a:lnTo>
                          <a:lnTo>
                            <a:pt x="189" y="275"/>
                          </a:lnTo>
                          <a:lnTo>
                            <a:pt x="194" y="273"/>
                          </a:lnTo>
                          <a:lnTo>
                            <a:pt x="197" y="271"/>
                          </a:lnTo>
                          <a:lnTo>
                            <a:pt x="200" y="269"/>
                          </a:lnTo>
                          <a:lnTo>
                            <a:pt x="202" y="267"/>
                          </a:lnTo>
                          <a:lnTo>
                            <a:pt x="205" y="265"/>
                          </a:lnTo>
                          <a:lnTo>
                            <a:pt x="210" y="261"/>
                          </a:lnTo>
                          <a:lnTo>
                            <a:pt x="214" y="257"/>
                          </a:lnTo>
                          <a:lnTo>
                            <a:pt x="217" y="255"/>
                          </a:lnTo>
                          <a:lnTo>
                            <a:pt x="219" y="253"/>
                          </a:lnTo>
                          <a:lnTo>
                            <a:pt x="219" y="252"/>
                          </a:lnTo>
                          <a:lnTo>
                            <a:pt x="220" y="252"/>
                          </a:lnTo>
                          <a:lnTo>
                            <a:pt x="220" y="250"/>
                          </a:lnTo>
                          <a:lnTo>
                            <a:pt x="220" y="249"/>
                          </a:lnTo>
                          <a:lnTo>
                            <a:pt x="220" y="245"/>
                          </a:lnTo>
                          <a:lnTo>
                            <a:pt x="221" y="242"/>
                          </a:lnTo>
                          <a:lnTo>
                            <a:pt x="221" y="239"/>
                          </a:lnTo>
                          <a:lnTo>
                            <a:pt x="222" y="237"/>
                          </a:lnTo>
                          <a:lnTo>
                            <a:pt x="223" y="235"/>
                          </a:lnTo>
                          <a:lnTo>
                            <a:pt x="223" y="232"/>
                          </a:lnTo>
                          <a:lnTo>
                            <a:pt x="223" y="228"/>
                          </a:lnTo>
                          <a:lnTo>
                            <a:pt x="224" y="225"/>
                          </a:lnTo>
                          <a:lnTo>
                            <a:pt x="224" y="221"/>
                          </a:lnTo>
                          <a:lnTo>
                            <a:pt x="225" y="219"/>
                          </a:lnTo>
                          <a:lnTo>
                            <a:pt x="225" y="215"/>
                          </a:lnTo>
                          <a:lnTo>
                            <a:pt x="226" y="210"/>
                          </a:lnTo>
                          <a:lnTo>
                            <a:pt x="226" y="205"/>
                          </a:lnTo>
                          <a:lnTo>
                            <a:pt x="227" y="201"/>
                          </a:lnTo>
                          <a:lnTo>
                            <a:pt x="227" y="198"/>
                          </a:lnTo>
                          <a:lnTo>
                            <a:pt x="227" y="193"/>
                          </a:lnTo>
                          <a:lnTo>
                            <a:pt x="228" y="188"/>
                          </a:lnTo>
                          <a:lnTo>
                            <a:pt x="228" y="184"/>
                          </a:lnTo>
                          <a:lnTo>
                            <a:pt x="228" y="180"/>
                          </a:lnTo>
                          <a:lnTo>
                            <a:pt x="228" y="175"/>
                          </a:lnTo>
                          <a:lnTo>
                            <a:pt x="228" y="169"/>
                          </a:lnTo>
                          <a:lnTo>
                            <a:pt x="228" y="164"/>
                          </a:lnTo>
                          <a:lnTo>
                            <a:pt x="228" y="160"/>
                          </a:lnTo>
                          <a:lnTo>
                            <a:pt x="228" y="155"/>
                          </a:lnTo>
                          <a:lnTo>
                            <a:pt x="228" y="149"/>
                          </a:lnTo>
                          <a:lnTo>
                            <a:pt x="228" y="144"/>
                          </a:lnTo>
                          <a:lnTo>
                            <a:pt x="227" y="140"/>
                          </a:lnTo>
                          <a:lnTo>
                            <a:pt x="226" y="134"/>
                          </a:lnTo>
                          <a:lnTo>
                            <a:pt x="225" y="128"/>
                          </a:lnTo>
                          <a:lnTo>
                            <a:pt x="225" y="123"/>
                          </a:lnTo>
                          <a:lnTo>
                            <a:pt x="224" y="119"/>
                          </a:lnTo>
                          <a:lnTo>
                            <a:pt x="223" y="114"/>
                          </a:lnTo>
                          <a:lnTo>
                            <a:pt x="221" y="108"/>
                          </a:lnTo>
                          <a:lnTo>
                            <a:pt x="221" y="104"/>
                          </a:lnTo>
                          <a:lnTo>
                            <a:pt x="219" y="99"/>
                          </a:lnTo>
                          <a:lnTo>
                            <a:pt x="219" y="94"/>
                          </a:lnTo>
                          <a:lnTo>
                            <a:pt x="218" y="88"/>
                          </a:lnTo>
                          <a:lnTo>
                            <a:pt x="217" y="84"/>
                          </a:lnTo>
                          <a:lnTo>
                            <a:pt x="216" y="80"/>
                          </a:lnTo>
                          <a:lnTo>
                            <a:pt x="214" y="75"/>
                          </a:lnTo>
                          <a:lnTo>
                            <a:pt x="213" y="71"/>
                          </a:lnTo>
                          <a:lnTo>
                            <a:pt x="213" y="67"/>
                          </a:lnTo>
                          <a:lnTo>
                            <a:pt x="211" y="64"/>
                          </a:lnTo>
                          <a:lnTo>
                            <a:pt x="210" y="60"/>
                          </a:lnTo>
                          <a:lnTo>
                            <a:pt x="209" y="56"/>
                          </a:lnTo>
                          <a:lnTo>
                            <a:pt x="208" y="52"/>
                          </a:lnTo>
                          <a:lnTo>
                            <a:pt x="207" y="49"/>
                          </a:lnTo>
                          <a:lnTo>
                            <a:pt x="206" y="46"/>
                          </a:lnTo>
                          <a:lnTo>
                            <a:pt x="205" y="44"/>
                          </a:lnTo>
                          <a:lnTo>
                            <a:pt x="204" y="42"/>
                          </a:lnTo>
                          <a:lnTo>
                            <a:pt x="203" y="37"/>
                          </a:lnTo>
                          <a:lnTo>
                            <a:pt x="201" y="34"/>
                          </a:lnTo>
                          <a:lnTo>
                            <a:pt x="201" y="32"/>
                          </a:lnTo>
                          <a:lnTo>
                            <a:pt x="200" y="31"/>
                          </a:lnTo>
                          <a:lnTo>
                            <a:pt x="199" y="28"/>
                          </a:lnTo>
                          <a:lnTo>
                            <a:pt x="196" y="25"/>
                          </a:lnTo>
                          <a:lnTo>
                            <a:pt x="191" y="20"/>
                          </a:lnTo>
                          <a:lnTo>
                            <a:pt x="188" y="18"/>
                          </a:lnTo>
                          <a:lnTo>
                            <a:pt x="185" y="15"/>
                          </a:lnTo>
                          <a:lnTo>
                            <a:pt x="181" y="12"/>
                          </a:lnTo>
                          <a:lnTo>
                            <a:pt x="179" y="10"/>
                          </a:lnTo>
                          <a:lnTo>
                            <a:pt x="173" y="8"/>
                          </a:lnTo>
                          <a:lnTo>
                            <a:pt x="169" y="7"/>
                          </a:lnTo>
                          <a:lnTo>
                            <a:pt x="164" y="5"/>
                          </a:lnTo>
                          <a:lnTo>
                            <a:pt x="160" y="4"/>
                          </a:lnTo>
                          <a:lnTo>
                            <a:pt x="156" y="3"/>
                          </a:lnTo>
                          <a:lnTo>
                            <a:pt x="153" y="2"/>
                          </a:lnTo>
                          <a:lnTo>
                            <a:pt x="150" y="1"/>
                          </a:lnTo>
                          <a:lnTo>
                            <a:pt x="147" y="1"/>
                          </a:lnTo>
                          <a:lnTo>
                            <a:pt x="143" y="0"/>
                          </a:lnTo>
                          <a:lnTo>
                            <a:pt x="141" y="0"/>
                          </a:lnTo>
                          <a:lnTo>
                            <a:pt x="138" y="0"/>
                          </a:lnTo>
                          <a:lnTo>
                            <a:pt x="135" y="0"/>
                          </a:lnTo>
                          <a:lnTo>
                            <a:pt x="131" y="0"/>
                          </a:lnTo>
                          <a:lnTo>
                            <a:pt x="128" y="0"/>
                          </a:lnTo>
                          <a:lnTo>
                            <a:pt x="124" y="0"/>
                          </a:lnTo>
                          <a:lnTo>
                            <a:pt x="122" y="0"/>
                          </a:lnTo>
                          <a:lnTo>
                            <a:pt x="119" y="0"/>
                          </a:lnTo>
                          <a:lnTo>
                            <a:pt x="115" y="0"/>
                          </a:lnTo>
                          <a:lnTo>
                            <a:pt x="112" y="0"/>
                          </a:lnTo>
                          <a:lnTo>
                            <a:pt x="110" y="1"/>
                          </a:lnTo>
                          <a:lnTo>
                            <a:pt x="106" y="1"/>
                          </a:lnTo>
                          <a:lnTo>
                            <a:pt x="103" y="1"/>
                          </a:lnTo>
                          <a:lnTo>
                            <a:pt x="101" y="1"/>
                          </a:lnTo>
                          <a:lnTo>
                            <a:pt x="99" y="1"/>
                          </a:lnTo>
                          <a:lnTo>
                            <a:pt x="94" y="2"/>
                          </a:lnTo>
                          <a:lnTo>
                            <a:pt x="90" y="2"/>
                          </a:lnTo>
                          <a:lnTo>
                            <a:pt x="86" y="3"/>
                          </a:lnTo>
                          <a:lnTo>
                            <a:pt x="84" y="3"/>
                          </a:lnTo>
                          <a:lnTo>
                            <a:pt x="83" y="3"/>
                          </a:lnTo>
                          <a:lnTo>
                            <a:pt x="83" y="4"/>
                          </a:lnTo>
                          <a:lnTo>
                            <a:pt x="83" y="4"/>
                          </a:lnTo>
                          <a:close/>
                        </a:path>
                      </a:pathLst>
                    </a:custGeom>
                    <a:solidFill>
                      <a:srgbClr val="b84f2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7154280" y="1697040"/>
                      <a:ext cx="71640" cy="90360"/>
                    </a:xfrm>
                    <a:custGeom>
                      <a:avLst/>
                      <a:gdLst/>
                      <a:ahLst/>
                      <a:rect l="l" t="t" r="r" b="b"/>
                      <a:pathLst>
                        <a:path w="74" h="116">
                          <a:moveTo>
                            <a:pt x="55" y="1"/>
                          </a:moveTo>
                          <a:lnTo>
                            <a:pt x="54" y="0"/>
                          </a:lnTo>
                          <a:lnTo>
                            <a:pt x="53" y="0"/>
                          </a:lnTo>
                          <a:lnTo>
                            <a:pt x="51" y="0"/>
                          </a:lnTo>
                          <a:lnTo>
                            <a:pt x="48" y="0"/>
                          </a:lnTo>
                          <a:lnTo>
                            <a:pt x="44" y="0"/>
                          </a:lnTo>
                          <a:lnTo>
                            <a:pt x="40" y="0"/>
                          </a:lnTo>
                          <a:lnTo>
                            <a:pt x="35" y="0"/>
                          </a:lnTo>
                          <a:lnTo>
                            <a:pt x="31" y="2"/>
                          </a:lnTo>
                          <a:lnTo>
                            <a:pt x="25" y="3"/>
                          </a:lnTo>
                          <a:lnTo>
                            <a:pt x="20" y="5"/>
                          </a:lnTo>
                          <a:lnTo>
                            <a:pt x="16" y="6"/>
                          </a:lnTo>
                          <a:lnTo>
                            <a:pt x="12" y="7"/>
                          </a:lnTo>
                          <a:lnTo>
                            <a:pt x="7" y="8"/>
                          </a:lnTo>
                          <a:lnTo>
                            <a:pt x="4" y="10"/>
                          </a:lnTo>
                          <a:lnTo>
                            <a:pt x="2" y="11"/>
                          </a:lnTo>
                          <a:lnTo>
                            <a:pt x="2" y="12"/>
                          </a:lnTo>
                          <a:lnTo>
                            <a:pt x="2" y="12"/>
                          </a:lnTo>
                          <a:lnTo>
                            <a:pt x="1" y="16"/>
                          </a:lnTo>
                          <a:lnTo>
                            <a:pt x="0" y="17"/>
                          </a:lnTo>
                          <a:lnTo>
                            <a:pt x="0" y="20"/>
                          </a:lnTo>
                          <a:lnTo>
                            <a:pt x="0" y="23"/>
                          </a:lnTo>
                          <a:lnTo>
                            <a:pt x="1" y="25"/>
                          </a:lnTo>
                          <a:lnTo>
                            <a:pt x="1" y="29"/>
                          </a:lnTo>
                          <a:lnTo>
                            <a:pt x="1" y="32"/>
                          </a:lnTo>
                          <a:lnTo>
                            <a:pt x="1" y="36"/>
                          </a:lnTo>
                          <a:lnTo>
                            <a:pt x="2" y="41"/>
                          </a:lnTo>
                          <a:lnTo>
                            <a:pt x="3" y="44"/>
                          </a:lnTo>
                          <a:lnTo>
                            <a:pt x="4" y="49"/>
                          </a:lnTo>
                          <a:lnTo>
                            <a:pt x="6" y="54"/>
                          </a:lnTo>
                          <a:lnTo>
                            <a:pt x="8" y="60"/>
                          </a:lnTo>
                          <a:lnTo>
                            <a:pt x="10" y="64"/>
                          </a:lnTo>
                          <a:lnTo>
                            <a:pt x="13" y="69"/>
                          </a:lnTo>
                          <a:lnTo>
                            <a:pt x="16" y="74"/>
                          </a:lnTo>
                          <a:lnTo>
                            <a:pt x="18" y="80"/>
                          </a:lnTo>
                          <a:lnTo>
                            <a:pt x="21" y="83"/>
                          </a:lnTo>
                          <a:lnTo>
                            <a:pt x="25" y="88"/>
                          </a:lnTo>
                          <a:lnTo>
                            <a:pt x="28" y="93"/>
                          </a:lnTo>
                          <a:lnTo>
                            <a:pt x="32" y="98"/>
                          </a:lnTo>
                          <a:lnTo>
                            <a:pt x="35" y="102"/>
                          </a:lnTo>
                          <a:lnTo>
                            <a:pt x="37" y="105"/>
                          </a:lnTo>
                          <a:lnTo>
                            <a:pt x="39" y="108"/>
                          </a:lnTo>
                          <a:lnTo>
                            <a:pt x="42" y="111"/>
                          </a:lnTo>
                          <a:lnTo>
                            <a:pt x="45" y="115"/>
                          </a:lnTo>
                          <a:lnTo>
                            <a:pt x="47" y="116"/>
                          </a:lnTo>
                          <a:lnTo>
                            <a:pt x="45" y="114"/>
                          </a:lnTo>
                          <a:lnTo>
                            <a:pt x="44" y="112"/>
                          </a:lnTo>
                          <a:lnTo>
                            <a:pt x="43" y="108"/>
                          </a:lnTo>
                          <a:lnTo>
                            <a:pt x="42" y="105"/>
                          </a:lnTo>
                          <a:lnTo>
                            <a:pt x="42" y="103"/>
                          </a:lnTo>
                          <a:lnTo>
                            <a:pt x="41" y="101"/>
                          </a:lnTo>
                          <a:lnTo>
                            <a:pt x="41" y="98"/>
                          </a:lnTo>
                          <a:lnTo>
                            <a:pt x="40" y="94"/>
                          </a:lnTo>
                          <a:lnTo>
                            <a:pt x="39" y="90"/>
                          </a:lnTo>
                          <a:lnTo>
                            <a:pt x="37" y="85"/>
                          </a:lnTo>
                          <a:lnTo>
                            <a:pt x="37" y="82"/>
                          </a:lnTo>
                          <a:lnTo>
                            <a:pt x="36" y="77"/>
                          </a:lnTo>
                          <a:lnTo>
                            <a:pt x="35" y="72"/>
                          </a:lnTo>
                          <a:lnTo>
                            <a:pt x="35" y="67"/>
                          </a:lnTo>
                          <a:lnTo>
                            <a:pt x="35" y="63"/>
                          </a:lnTo>
                          <a:lnTo>
                            <a:pt x="34" y="58"/>
                          </a:lnTo>
                          <a:lnTo>
                            <a:pt x="33" y="54"/>
                          </a:lnTo>
                          <a:lnTo>
                            <a:pt x="33" y="50"/>
                          </a:lnTo>
                          <a:lnTo>
                            <a:pt x="33" y="48"/>
                          </a:lnTo>
                          <a:lnTo>
                            <a:pt x="32" y="44"/>
                          </a:lnTo>
                          <a:lnTo>
                            <a:pt x="32" y="42"/>
                          </a:lnTo>
                          <a:lnTo>
                            <a:pt x="32" y="44"/>
                          </a:lnTo>
                          <a:lnTo>
                            <a:pt x="34" y="47"/>
                          </a:lnTo>
                          <a:lnTo>
                            <a:pt x="35" y="48"/>
                          </a:lnTo>
                          <a:lnTo>
                            <a:pt x="36" y="52"/>
                          </a:lnTo>
                          <a:lnTo>
                            <a:pt x="37" y="55"/>
                          </a:lnTo>
                          <a:lnTo>
                            <a:pt x="40" y="59"/>
                          </a:lnTo>
                          <a:lnTo>
                            <a:pt x="41" y="62"/>
                          </a:lnTo>
                          <a:lnTo>
                            <a:pt x="44" y="65"/>
                          </a:lnTo>
                          <a:lnTo>
                            <a:pt x="47" y="68"/>
                          </a:lnTo>
                          <a:lnTo>
                            <a:pt x="50" y="72"/>
                          </a:lnTo>
                          <a:lnTo>
                            <a:pt x="52" y="75"/>
                          </a:lnTo>
                          <a:lnTo>
                            <a:pt x="53" y="78"/>
                          </a:lnTo>
                          <a:lnTo>
                            <a:pt x="54" y="79"/>
                          </a:lnTo>
                          <a:lnTo>
                            <a:pt x="55" y="80"/>
                          </a:lnTo>
                          <a:lnTo>
                            <a:pt x="55" y="79"/>
                          </a:lnTo>
                          <a:lnTo>
                            <a:pt x="55" y="78"/>
                          </a:lnTo>
                          <a:lnTo>
                            <a:pt x="54" y="75"/>
                          </a:lnTo>
                          <a:lnTo>
                            <a:pt x="54" y="72"/>
                          </a:lnTo>
                          <a:lnTo>
                            <a:pt x="54" y="68"/>
                          </a:lnTo>
                          <a:lnTo>
                            <a:pt x="53" y="63"/>
                          </a:lnTo>
                          <a:lnTo>
                            <a:pt x="53" y="58"/>
                          </a:lnTo>
                          <a:lnTo>
                            <a:pt x="53" y="52"/>
                          </a:lnTo>
                          <a:lnTo>
                            <a:pt x="53" y="49"/>
                          </a:lnTo>
                          <a:lnTo>
                            <a:pt x="53" y="45"/>
                          </a:lnTo>
                          <a:lnTo>
                            <a:pt x="52" y="43"/>
                          </a:lnTo>
                          <a:lnTo>
                            <a:pt x="52" y="40"/>
                          </a:lnTo>
                          <a:lnTo>
                            <a:pt x="52" y="36"/>
                          </a:lnTo>
                          <a:lnTo>
                            <a:pt x="52" y="33"/>
                          </a:lnTo>
                          <a:lnTo>
                            <a:pt x="52" y="29"/>
                          </a:lnTo>
                          <a:lnTo>
                            <a:pt x="52" y="27"/>
                          </a:lnTo>
                          <a:lnTo>
                            <a:pt x="52" y="22"/>
                          </a:lnTo>
                          <a:lnTo>
                            <a:pt x="52" y="18"/>
                          </a:lnTo>
                          <a:lnTo>
                            <a:pt x="52" y="16"/>
                          </a:lnTo>
                          <a:lnTo>
                            <a:pt x="52" y="15"/>
                          </a:lnTo>
                          <a:lnTo>
                            <a:pt x="61" y="21"/>
                          </a:lnTo>
                          <a:lnTo>
                            <a:pt x="61" y="14"/>
                          </a:lnTo>
                          <a:lnTo>
                            <a:pt x="74" y="6"/>
                          </a:lnTo>
                          <a:lnTo>
                            <a:pt x="55" y="1"/>
                          </a:lnTo>
                          <a:lnTo>
                            <a:pt x="55" y="1"/>
                          </a:lnTo>
                          <a:close/>
                        </a:path>
                      </a:pathLst>
                    </a:custGeom>
                    <a:solidFill>
                      <a:srgbClr val="e87a63"/>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27" name=""/>
                    <p:cNvSpPr/>
                    <p:nvPr/>
                  </p:nvSpPr>
                  <p:spPr>
                    <a:xfrm>
                      <a:off x="7066800" y="1695600"/>
                      <a:ext cx="72360" cy="81000"/>
                    </a:xfrm>
                    <a:custGeom>
                      <a:avLst/>
                      <a:gdLst/>
                      <a:ahLst/>
                      <a:rect l="l" t="t" r="r" b="b"/>
                      <a:pathLst>
                        <a:path w="75" h="104">
                          <a:moveTo>
                            <a:pt x="8" y="104"/>
                          </a:moveTo>
                          <a:lnTo>
                            <a:pt x="8" y="103"/>
                          </a:lnTo>
                          <a:lnTo>
                            <a:pt x="8" y="101"/>
                          </a:lnTo>
                          <a:lnTo>
                            <a:pt x="8" y="99"/>
                          </a:lnTo>
                          <a:lnTo>
                            <a:pt x="8" y="96"/>
                          </a:lnTo>
                          <a:lnTo>
                            <a:pt x="8" y="91"/>
                          </a:lnTo>
                          <a:lnTo>
                            <a:pt x="8" y="86"/>
                          </a:lnTo>
                          <a:lnTo>
                            <a:pt x="8" y="84"/>
                          </a:lnTo>
                          <a:lnTo>
                            <a:pt x="8" y="80"/>
                          </a:lnTo>
                          <a:lnTo>
                            <a:pt x="9" y="77"/>
                          </a:lnTo>
                          <a:lnTo>
                            <a:pt x="9" y="74"/>
                          </a:lnTo>
                          <a:lnTo>
                            <a:pt x="9" y="69"/>
                          </a:lnTo>
                          <a:lnTo>
                            <a:pt x="9" y="65"/>
                          </a:lnTo>
                          <a:lnTo>
                            <a:pt x="10" y="61"/>
                          </a:lnTo>
                          <a:lnTo>
                            <a:pt x="11" y="57"/>
                          </a:lnTo>
                          <a:lnTo>
                            <a:pt x="11" y="52"/>
                          </a:lnTo>
                          <a:lnTo>
                            <a:pt x="12" y="47"/>
                          </a:lnTo>
                          <a:lnTo>
                            <a:pt x="13" y="44"/>
                          </a:lnTo>
                          <a:lnTo>
                            <a:pt x="14" y="40"/>
                          </a:lnTo>
                          <a:lnTo>
                            <a:pt x="14" y="36"/>
                          </a:lnTo>
                          <a:lnTo>
                            <a:pt x="15" y="33"/>
                          </a:lnTo>
                          <a:lnTo>
                            <a:pt x="15" y="30"/>
                          </a:lnTo>
                          <a:lnTo>
                            <a:pt x="16" y="27"/>
                          </a:lnTo>
                          <a:lnTo>
                            <a:pt x="17" y="24"/>
                          </a:lnTo>
                          <a:lnTo>
                            <a:pt x="18" y="23"/>
                          </a:lnTo>
                          <a:lnTo>
                            <a:pt x="46" y="27"/>
                          </a:lnTo>
                          <a:lnTo>
                            <a:pt x="39" y="15"/>
                          </a:lnTo>
                          <a:lnTo>
                            <a:pt x="75" y="4"/>
                          </a:lnTo>
                          <a:lnTo>
                            <a:pt x="73" y="3"/>
                          </a:lnTo>
                          <a:lnTo>
                            <a:pt x="70" y="3"/>
                          </a:lnTo>
                          <a:lnTo>
                            <a:pt x="67" y="2"/>
                          </a:lnTo>
                          <a:lnTo>
                            <a:pt x="62" y="2"/>
                          </a:lnTo>
                          <a:lnTo>
                            <a:pt x="58" y="1"/>
                          </a:lnTo>
                          <a:lnTo>
                            <a:pt x="54" y="1"/>
                          </a:lnTo>
                          <a:lnTo>
                            <a:pt x="51" y="0"/>
                          </a:lnTo>
                          <a:lnTo>
                            <a:pt x="48" y="0"/>
                          </a:lnTo>
                          <a:lnTo>
                            <a:pt x="45" y="0"/>
                          </a:lnTo>
                          <a:lnTo>
                            <a:pt x="42" y="0"/>
                          </a:lnTo>
                          <a:lnTo>
                            <a:pt x="39" y="1"/>
                          </a:lnTo>
                          <a:lnTo>
                            <a:pt x="35" y="2"/>
                          </a:lnTo>
                          <a:lnTo>
                            <a:pt x="32" y="2"/>
                          </a:lnTo>
                          <a:lnTo>
                            <a:pt x="29" y="3"/>
                          </a:lnTo>
                          <a:lnTo>
                            <a:pt x="26" y="3"/>
                          </a:lnTo>
                          <a:lnTo>
                            <a:pt x="24" y="4"/>
                          </a:lnTo>
                          <a:lnTo>
                            <a:pt x="19" y="6"/>
                          </a:lnTo>
                          <a:lnTo>
                            <a:pt x="15" y="8"/>
                          </a:lnTo>
                          <a:lnTo>
                            <a:pt x="11" y="9"/>
                          </a:lnTo>
                          <a:lnTo>
                            <a:pt x="9" y="11"/>
                          </a:lnTo>
                          <a:lnTo>
                            <a:pt x="8" y="12"/>
                          </a:lnTo>
                          <a:lnTo>
                            <a:pt x="8" y="12"/>
                          </a:lnTo>
                          <a:lnTo>
                            <a:pt x="7" y="13"/>
                          </a:lnTo>
                          <a:lnTo>
                            <a:pt x="6" y="16"/>
                          </a:lnTo>
                          <a:lnTo>
                            <a:pt x="5" y="18"/>
                          </a:lnTo>
                          <a:lnTo>
                            <a:pt x="5" y="20"/>
                          </a:lnTo>
                          <a:lnTo>
                            <a:pt x="4" y="23"/>
                          </a:lnTo>
                          <a:lnTo>
                            <a:pt x="4" y="26"/>
                          </a:lnTo>
                          <a:lnTo>
                            <a:pt x="3" y="28"/>
                          </a:lnTo>
                          <a:lnTo>
                            <a:pt x="2" y="31"/>
                          </a:lnTo>
                          <a:lnTo>
                            <a:pt x="1" y="35"/>
                          </a:lnTo>
                          <a:lnTo>
                            <a:pt x="1" y="39"/>
                          </a:lnTo>
                          <a:lnTo>
                            <a:pt x="0" y="43"/>
                          </a:lnTo>
                          <a:lnTo>
                            <a:pt x="0" y="46"/>
                          </a:lnTo>
                          <a:lnTo>
                            <a:pt x="0" y="50"/>
                          </a:lnTo>
                          <a:lnTo>
                            <a:pt x="0" y="55"/>
                          </a:lnTo>
                          <a:lnTo>
                            <a:pt x="0" y="59"/>
                          </a:lnTo>
                          <a:lnTo>
                            <a:pt x="0" y="64"/>
                          </a:lnTo>
                          <a:lnTo>
                            <a:pt x="0" y="67"/>
                          </a:lnTo>
                          <a:lnTo>
                            <a:pt x="1" y="72"/>
                          </a:lnTo>
                          <a:lnTo>
                            <a:pt x="1" y="76"/>
                          </a:lnTo>
                          <a:lnTo>
                            <a:pt x="2" y="80"/>
                          </a:lnTo>
                          <a:lnTo>
                            <a:pt x="3" y="84"/>
                          </a:lnTo>
                          <a:lnTo>
                            <a:pt x="4" y="87"/>
                          </a:lnTo>
                          <a:lnTo>
                            <a:pt x="4" y="90"/>
                          </a:lnTo>
                          <a:lnTo>
                            <a:pt x="5" y="94"/>
                          </a:lnTo>
                          <a:lnTo>
                            <a:pt x="5" y="96"/>
                          </a:lnTo>
                          <a:lnTo>
                            <a:pt x="7" y="99"/>
                          </a:lnTo>
                          <a:lnTo>
                            <a:pt x="8" y="102"/>
                          </a:lnTo>
                          <a:lnTo>
                            <a:pt x="8" y="104"/>
                          </a:lnTo>
                          <a:lnTo>
                            <a:pt x="8" y="104"/>
                          </a:lnTo>
                          <a:close/>
                        </a:path>
                      </a:pathLst>
                    </a:custGeom>
                    <a:solidFill>
                      <a:srgbClr val="e87a63"/>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28" name=""/>
                    <p:cNvSpPr/>
                    <p:nvPr/>
                  </p:nvSpPr>
                  <p:spPr>
                    <a:xfrm>
                      <a:off x="6805440" y="1765800"/>
                      <a:ext cx="241560" cy="191160"/>
                    </a:xfrm>
                    <a:custGeom>
                      <a:avLst/>
                      <a:gdLst/>
                      <a:ahLst/>
                      <a:rect l="l" t="t" r="r" b="b"/>
                      <a:pathLst>
                        <a:path w="249" h="245">
                          <a:moveTo>
                            <a:pt x="0" y="186"/>
                          </a:moveTo>
                          <a:lnTo>
                            <a:pt x="61" y="245"/>
                          </a:lnTo>
                          <a:lnTo>
                            <a:pt x="28" y="197"/>
                          </a:lnTo>
                          <a:lnTo>
                            <a:pt x="29" y="193"/>
                          </a:lnTo>
                          <a:lnTo>
                            <a:pt x="31" y="189"/>
                          </a:lnTo>
                          <a:lnTo>
                            <a:pt x="33" y="186"/>
                          </a:lnTo>
                          <a:lnTo>
                            <a:pt x="35" y="183"/>
                          </a:lnTo>
                          <a:lnTo>
                            <a:pt x="37" y="179"/>
                          </a:lnTo>
                          <a:lnTo>
                            <a:pt x="39" y="175"/>
                          </a:lnTo>
                          <a:lnTo>
                            <a:pt x="42" y="172"/>
                          </a:lnTo>
                          <a:lnTo>
                            <a:pt x="45" y="169"/>
                          </a:lnTo>
                          <a:lnTo>
                            <a:pt x="47" y="166"/>
                          </a:lnTo>
                          <a:lnTo>
                            <a:pt x="49" y="162"/>
                          </a:lnTo>
                          <a:lnTo>
                            <a:pt x="53" y="158"/>
                          </a:lnTo>
                          <a:lnTo>
                            <a:pt x="56" y="155"/>
                          </a:lnTo>
                          <a:lnTo>
                            <a:pt x="59" y="151"/>
                          </a:lnTo>
                          <a:lnTo>
                            <a:pt x="62" y="148"/>
                          </a:lnTo>
                          <a:lnTo>
                            <a:pt x="66" y="145"/>
                          </a:lnTo>
                          <a:lnTo>
                            <a:pt x="69" y="141"/>
                          </a:lnTo>
                          <a:lnTo>
                            <a:pt x="72" y="137"/>
                          </a:lnTo>
                          <a:lnTo>
                            <a:pt x="75" y="133"/>
                          </a:lnTo>
                          <a:lnTo>
                            <a:pt x="79" y="129"/>
                          </a:lnTo>
                          <a:lnTo>
                            <a:pt x="83" y="127"/>
                          </a:lnTo>
                          <a:lnTo>
                            <a:pt x="85" y="123"/>
                          </a:lnTo>
                          <a:lnTo>
                            <a:pt x="89" y="119"/>
                          </a:lnTo>
                          <a:lnTo>
                            <a:pt x="93" y="115"/>
                          </a:lnTo>
                          <a:lnTo>
                            <a:pt x="98" y="112"/>
                          </a:lnTo>
                          <a:lnTo>
                            <a:pt x="101" y="109"/>
                          </a:lnTo>
                          <a:lnTo>
                            <a:pt x="105" y="106"/>
                          </a:lnTo>
                          <a:lnTo>
                            <a:pt x="109" y="102"/>
                          </a:lnTo>
                          <a:lnTo>
                            <a:pt x="113" y="98"/>
                          </a:lnTo>
                          <a:lnTo>
                            <a:pt x="117" y="95"/>
                          </a:lnTo>
                          <a:lnTo>
                            <a:pt x="122" y="92"/>
                          </a:lnTo>
                          <a:lnTo>
                            <a:pt x="125" y="89"/>
                          </a:lnTo>
                          <a:lnTo>
                            <a:pt x="130" y="86"/>
                          </a:lnTo>
                          <a:lnTo>
                            <a:pt x="134" y="82"/>
                          </a:lnTo>
                          <a:lnTo>
                            <a:pt x="138" y="78"/>
                          </a:lnTo>
                          <a:lnTo>
                            <a:pt x="142" y="75"/>
                          </a:lnTo>
                          <a:lnTo>
                            <a:pt x="146" y="72"/>
                          </a:lnTo>
                          <a:lnTo>
                            <a:pt x="150" y="69"/>
                          </a:lnTo>
                          <a:lnTo>
                            <a:pt x="154" y="66"/>
                          </a:lnTo>
                          <a:lnTo>
                            <a:pt x="158" y="62"/>
                          </a:lnTo>
                          <a:lnTo>
                            <a:pt x="163" y="59"/>
                          </a:lnTo>
                          <a:lnTo>
                            <a:pt x="166" y="56"/>
                          </a:lnTo>
                          <a:lnTo>
                            <a:pt x="170" y="53"/>
                          </a:lnTo>
                          <a:lnTo>
                            <a:pt x="174" y="50"/>
                          </a:lnTo>
                          <a:lnTo>
                            <a:pt x="179" y="48"/>
                          </a:lnTo>
                          <a:lnTo>
                            <a:pt x="182" y="44"/>
                          </a:lnTo>
                          <a:lnTo>
                            <a:pt x="186" y="41"/>
                          </a:lnTo>
                          <a:lnTo>
                            <a:pt x="190" y="38"/>
                          </a:lnTo>
                          <a:lnTo>
                            <a:pt x="195" y="36"/>
                          </a:lnTo>
                          <a:lnTo>
                            <a:pt x="198" y="33"/>
                          </a:lnTo>
                          <a:lnTo>
                            <a:pt x="201" y="30"/>
                          </a:lnTo>
                          <a:lnTo>
                            <a:pt x="205" y="27"/>
                          </a:lnTo>
                          <a:lnTo>
                            <a:pt x="209" y="25"/>
                          </a:lnTo>
                          <a:lnTo>
                            <a:pt x="213" y="22"/>
                          </a:lnTo>
                          <a:lnTo>
                            <a:pt x="217" y="20"/>
                          </a:lnTo>
                          <a:lnTo>
                            <a:pt x="221" y="17"/>
                          </a:lnTo>
                          <a:lnTo>
                            <a:pt x="224" y="15"/>
                          </a:lnTo>
                          <a:lnTo>
                            <a:pt x="227" y="13"/>
                          </a:lnTo>
                          <a:lnTo>
                            <a:pt x="230" y="11"/>
                          </a:lnTo>
                          <a:lnTo>
                            <a:pt x="234" y="9"/>
                          </a:lnTo>
                          <a:lnTo>
                            <a:pt x="237" y="7"/>
                          </a:lnTo>
                          <a:lnTo>
                            <a:pt x="240" y="5"/>
                          </a:lnTo>
                          <a:lnTo>
                            <a:pt x="243" y="3"/>
                          </a:lnTo>
                          <a:lnTo>
                            <a:pt x="246" y="1"/>
                          </a:lnTo>
                          <a:lnTo>
                            <a:pt x="249" y="0"/>
                          </a:lnTo>
                          <a:lnTo>
                            <a:pt x="248" y="0"/>
                          </a:lnTo>
                          <a:lnTo>
                            <a:pt x="247" y="0"/>
                          </a:lnTo>
                          <a:lnTo>
                            <a:pt x="244" y="1"/>
                          </a:lnTo>
                          <a:lnTo>
                            <a:pt x="240" y="4"/>
                          </a:lnTo>
                          <a:lnTo>
                            <a:pt x="236" y="5"/>
                          </a:lnTo>
                          <a:lnTo>
                            <a:pt x="231" y="8"/>
                          </a:lnTo>
                          <a:lnTo>
                            <a:pt x="228" y="9"/>
                          </a:lnTo>
                          <a:lnTo>
                            <a:pt x="224" y="11"/>
                          </a:lnTo>
                          <a:lnTo>
                            <a:pt x="221" y="13"/>
                          </a:lnTo>
                          <a:lnTo>
                            <a:pt x="219" y="14"/>
                          </a:lnTo>
                          <a:lnTo>
                            <a:pt x="215" y="16"/>
                          </a:lnTo>
                          <a:lnTo>
                            <a:pt x="211" y="17"/>
                          </a:lnTo>
                          <a:lnTo>
                            <a:pt x="207" y="20"/>
                          </a:lnTo>
                          <a:lnTo>
                            <a:pt x="203" y="22"/>
                          </a:lnTo>
                          <a:lnTo>
                            <a:pt x="200" y="24"/>
                          </a:lnTo>
                          <a:lnTo>
                            <a:pt x="195" y="27"/>
                          </a:lnTo>
                          <a:lnTo>
                            <a:pt x="191" y="29"/>
                          </a:lnTo>
                          <a:lnTo>
                            <a:pt x="187" y="32"/>
                          </a:lnTo>
                          <a:lnTo>
                            <a:pt x="182" y="33"/>
                          </a:lnTo>
                          <a:lnTo>
                            <a:pt x="178" y="36"/>
                          </a:lnTo>
                          <a:lnTo>
                            <a:pt x="173" y="39"/>
                          </a:lnTo>
                          <a:lnTo>
                            <a:pt x="168" y="42"/>
                          </a:lnTo>
                          <a:lnTo>
                            <a:pt x="163" y="45"/>
                          </a:lnTo>
                          <a:lnTo>
                            <a:pt x="160" y="49"/>
                          </a:lnTo>
                          <a:lnTo>
                            <a:pt x="155" y="52"/>
                          </a:lnTo>
                          <a:lnTo>
                            <a:pt x="150" y="54"/>
                          </a:lnTo>
                          <a:lnTo>
                            <a:pt x="144" y="57"/>
                          </a:lnTo>
                          <a:lnTo>
                            <a:pt x="140" y="61"/>
                          </a:lnTo>
                          <a:lnTo>
                            <a:pt x="134" y="65"/>
                          </a:lnTo>
                          <a:lnTo>
                            <a:pt x="129" y="70"/>
                          </a:lnTo>
                          <a:lnTo>
                            <a:pt x="125" y="71"/>
                          </a:lnTo>
                          <a:lnTo>
                            <a:pt x="123" y="73"/>
                          </a:lnTo>
                          <a:lnTo>
                            <a:pt x="120" y="76"/>
                          </a:lnTo>
                          <a:lnTo>
                            <a:pt x="117" y="78"/>
                          </a:lnTo>
                          <a:lnTo>
                            <a:pt x="114" y="81"/>
                          </a:lnTo>
                          <a:lnTo>
                            <a:pt x="111" y="83"/>
                          </a:lnTo>
                          <a:lnTo>
                            <a:pt x="107" y="86"/>
                          </a:lnTo>
                          <a:lnTo>
                            <a:pt x="105" y="89"/>
                          </a:lnTo>
                          <a:lnTo>
                            <a:pt x="102" y="90"/>
                          </a:lnTo>
                          <a:lnTo>
                            <a:pt x="99" y="93"/>
                          </a:lnTo>
                          <a:lnTo>
                            <a:pt x="95" y="96"/>
                          </a:lnTo>
                          <a:lnTo>
                            <a:pt x="93" y="99"/>
                          </a:lnTo>
                          <a:lnTo>
                            <a:pt x="89" y="102"/>
                          </a:lnTo>
                          <a:lnTo>
                            <a:pt x="86" y="105"/>
                          </a:lnTo>
                          <a:lnTo>
                            <a:pt x="83" y="107"/>
                          </a:lnTo>
                          <a:lnTo>
                            <a:pt x="81" y="110"/>
                          </a:lnTo>
                          <a:lnTo>
                            <a:pt x="77" y="112"/>
                          </a:lnTo>
                          <a:lnTo>
                            <a:pt x="74" y="115"/>
                          </a:lnTo>
                          <a:lnTo>
                            <a:pt x="70" y="118"/>
                          </a:lnTo>
                          <a:lnTo>
                            <a:pt x="67" y="121"/>
                          </a:lnTo>
                          <a:lnTo>
                            <a:pt x="62" y="127"/>
                          </a:lnTo>
                          <a:lnTo>
                            <a:pt x="56" y="132"/>
                          </a:lnTo>
                          <a:lnTo>
                            <a:pt x="53" y="134"/>
                          </a:lnTo>
                          <a:lnTo>
                            <a:pt x="49" y="137"/>
                          </a:lnTo>
                          <a:lnTo>
                            <a:pt x="47" y="140"/>
                          </a:lnTo>
                          <a:lnTo>
                            <a:pt x="45" y="143"/>
                          </a:lnTo>
                          <a:lnTo>
                            <a:pt x="38" y="148"/>
                          </a:lnTo>
                          <a:lnTo>
                            <a:pt x="33" y="153"/>
                          </a:lnTo>
                          <a:lnTo>
                            <a:pt x="28" y="157"/>
                          </a:lnTo>
                          <a:lnTo>
                            <a:pt x="24" y="162"/>
                          </a:lnTo>
                          <a:lnTo>
                            <a:pt x="19" y="166"/>
                          </a:lnTo>
                          <a:lnTo>
                            <a:pt x="16" y="170"/>
                          </a:lnTo>
                          <a:lnTo>
                            <a:pt x="11" y="173"/>
                          </a:lnTo>
                          <a:lnTo>
                            <a:pt x="8" y="177"/>
                          </a:lnTo>
                          <a:lnTo>
                            <a:pt x="6" y="179"/>
                          </a:lnTo>
                          <a:lnTo>
                            <a:pt x="4" y="182"/>
                          </a:lnTo>
                          <a:lnTo>
                            <a:pt x="0" y="185"/>
                          </a:lnTo>
                          <a:lnTo>
                            <a:pt x="0" y="186"/>
                          </a:lnTo>
                          <a:lnTo>
                            <a:pt x="0" y="186"/>
                          </a:lnTo>
                          <a:close/>
                        </a:path>
                      </a:pathLst>
                    </a:custGeom>
                    <a:solidFill>
                      <a:srgbClr val="b3b3b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7237800" y="1735200"/>
                      <a:ext cx="54360" cy="70920"/>
                    </a:xfrm>
                    <a:custGeom>
                      <a:avLst/>
                      <a:gdLst/>
                      <a:ahLst/>
                      <a:rect l="l" t="t" r="r" b="b"/>
                      <a:pathLst>
                        <a:path w="56" h="91">
                          <a:moveTo>
                            <a:pt x="33" y="0"/>
                          </a:moveTo>
                          <a:lnTo>
                            <a:pt x="0" y="33"/>
                          </a:lnTo>
                          <a:lnTo>
                            <a:pt x="56" y="91"/>
                          </a:lnTo>
                          <a:lnTo>
                            <a:pt x="56" y="90"/>
                          </a:lnTo>
                          <a:lnTo>
                            <a:pt x="55" y="85"/>
                          </a:lnTo>
                          <a:lnTo>
                            <a:pt x="54" y="82"/>
                          </a:lnTo>
                          <a:lnTo>
                            <a:pt x="54" y="79"/>
                          </a:lnTo>
                          <a:lnTo>
                            <a:pt x="53" y="75"/>
                          </a:lnTo>
                          <a:lnTo>
                            <a:pt x="53" y="72"/>
                          </a:lnTo>
                          <a:lnTo>
                            <a:pt x="52" y="66"/>
                          </a:lnTo>
                          <a:lnTo>
                            <a:pt x="51" y="61"/>
                          </a:lnTo>
                          <a:lnTo>
                            <a:pt x="50" y="56"/>
                          </a:lnTo>
                          <a:lnTo>
                            <a:pt x="49" y="53"/>
                          </a:lnTo>
                          <a:lnTo>
                            <a:pt x="48" y="48"/>
                          </a:lnTo>
                          <a:lnTo>
                            <a:pt x="47" y="43"/>
                          </a:lnTo>
                          <a:lnTo>
                            <a:pt x="46" y="37"/>
                          </a:lnTo>
                          <a:lnTo>
                            <a:pt x="46" y="34"/>
                          </a:lnTo>
                          <a:lnTo>
                            <a:pt x="44" y="29"/>
                          </a:lnTo>
                          <a:lnTo>
                            <a:pt x="43" y="25"/>
                          </a:lnTo>
                          <a:lnTo>
                            <a:pt x="42" y="22"/>
                          </a:lnTo>
                          <a:lnTo>
                            <a:pt x="41" y="19"/>
                          </a:lnTo>
                          <a:lnTo>
                            <a:pt x="39" y="15"/>
                          </a:lnTo>
                          <a:lnTo>
                            <a:pt x="39" y="13"/>
                          </a:lnTo>
                          <a:lnTo>
                            <a:pt x="37" y="11"/>
                          </a:lnTo>
                          <a:lnTo>
                            <a:pt x="37" y="9"/>
                          </a:lnTo>
                          <a:lnTo>
                            <a:pt x="35" y="5"/>
                          </a:lnTo>
                          <a:lnTo>
                            <a:pt x="34" y="2"/>
                          </a:lnTo>
                          <a:lnTo>
                            <a:pt x="33" y="0"/>
                          </a:lnTo>
                          <a:lnTo>
                            <a:pt x="33" y="0"/>
                          </a:lnTo>
                          <a:close/>
                        </a:path>
                      </a:pathLst>
                    </a:custGeom>
                    <a:solidFill>
                      <a:srgbClr val="85291c"/>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230" name=""/>
                    <p:cNvSpPr/>
                    <p:nvPr/>
                  </p:nvSpPr>
                  <p:spPr>
                    <a:xfrm>
                      <a:off x="7176600" y="1860840"/>
                      <a:ext cx="106560" cy="62280"/>
                    </a:xfrm>
                    <a:custGeom>
                      <a:avLst/>
                      <a:gdLst/>
                      <a:ahLst/>
                      <a:rect l="l" t="t" r="r" b="b"/>
                      <a:pathLst>
                        <a:path w="110" h="80">
                          <a:moveTo>
                            <a:pt x="65" y="0"/>
                          </a:moveTo>
                          <a:lnTo>
                            <a:pt x="110" y="44"/>
                          </a:lnTo>
                          <a:lnTo>
                            <a:pt x="109" y="45"/>
                          </a:lnTo>
                          <a:lnTo>
                            <a:pt x="104" y="49"/>
                          </a:lnTo>
                          <a:lnTo>
                            <a:pt x="100" y="52"/>
                          </a:lnTo>
                          <a:lnTo>
                            <a:pt x="95" y="55"/>
                          </a:lnTo>
                          <a:lnTo>
                            <a:pt x="93" y="57"/>
                          </a:lnTo>
                          <a:lnTo>
                            <a:pt x="90" y="59"/>
                          </a:lnTo>
                          <a:lnTo>
                            <a:pt x="87" y="60"/>
                          </a:lnTo>
                          <a:lnTo>
                            <a:pt x="84" y="62"/>
                          </a:lnTo>
                          <a:lnTo>
                            <a:pt x="79" y="64"/>
                          </a:lnTo>
                          <a:lnTo>
                            <a:pt x="75" y="64"/>
                          </a:lnTo>
                          <a:lnTo>
                            <a:pt x="71" y="66"/>
                          </a:lnTo>
                          <a:lnTo>
                            <a:pt x="69" y="68"/>
                          </a:lnTo>
                          <a:lnTo>
                            <a:pt x="64" y="69"/>
                          </a:lnTo>
                          <a:lnTo>
                            <a:pt x="61" y="71"/>
                          </a:lnTo>
                          <a:lnTo>
                            <a:pt x="56" y="72"/>
                          </a:lnTo>
                          <a:lnTo>
                            <a:pt x="53" y="74"/>
                          </a:lnTo>
                          <a:lnTo>
                            <a:pt x="50" y="75"/>
                          </a:lnTo>
                          <a:lnTo>
                            <a:pt x="46" y="76"/>
                          </a:lnTo>
                          <a:lnTo>
                            <a:pt x="43" y="77"/>
                          </a:lnTo>
                          <a:lnTo>
                            <a:pt x="41" y="78"/>
                          </a:lnTo>
                          <a:lnTo>
                            <a:pt x="37" y="79"/>
                          </a:lnTo>
                          <a:lnTo>
                            <a:pt x="36" y="80"/>
                          </a:lnTo>
                          <a:lnTo>
                            <a:pt x="0" y="53"/>
                          </a:lnTo>
                          <a:lnTo>
                            <a:pt x="0" y="52"/>
                          </a:lnTo>
                          <a:lnTo>
                            <a:pt x="4" y="51"/>
                          </a:lnTo>
                          <a:lnTo>
                            <a:pt x="5" y="50"/>
                          </a:lnTo>
                          <a:lnTo>
                            <a:pt x="8" y="49"/>
                          </a:lnTo>
                          <a:lnTo>
                            <a:pt x="11" y="48"/>
                          </a:lnTo>
                          <a:lnTo>
                            <a:pt x="13" y="47"/>
                          </a:lnTo>
                          <a:lnTo>
                            <a:pt x="16" y="45"/>
                          </a:lnTo>
                          <a:lnTo>
                            <a:pt x="20" y="44"/>
                          </a:lnTo>
                          <a:lnTo>
                            <a:pt x="23" y="42"/>
                          </a:lnTo>
                          <a:lnTo>
                            <a:pt x="26" y="40"/>
                          </a:lnTo>
                          <a:lnTo>
                            <a:pt x="30" y="38"/>
                          </a:lnTo>
                          <a:lnTo>
                            <a:pt x="32" y="36"/>
                          </a:lnTo>
                          <a:lnTo>
                            <a:pt x="36" y="33"/>
                          </a:lnTo>
                          <a:lnTo>
                            <a:pt x="39" y="31"/>
                          </a:lnTo>
                          <a:lnTo>
                            <a:pt x="45" y="26"/>
                          </a:lnTo>
                          <a:lnTo>
                            <a:pt x="50" y="20"/>
                          </a:lnTo>
                          <a:lnTo>
                            <a:pt x="54" y="15"/>
                          </a:lnTo>
                          <a:lnTo>
                            <a:pt x="58" y="10"/>
                          </a:lnTo>
                          <a:lnTo>
                            <a:pt x="61" y="6"/>
                          </a:lnTo>
                          <a:lnTo>
                            <a:pt x="63" y="3"/>
                          </a:lnTo>
                          <a:lnTo>
                            <a:pt x="64" y="1"/>
                          </a:lnTo>
                          <a:lnTo>
                            <a:pt x="65" y="0"/>
                          </a:lnTo>
                          <a:lnTo>
                            <a:pt x="65" y="0"/>
                          </a:lnTo>
                          <a:close/>
                        </a:path>
                      </a:pathLst>
                    </a:custGeom>
                    <a:solidFill>
                      <a:srgbClr val="85291c"/>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231" name=""/>
                    <p:cNvSpPr/>
                    <p:nvPr/>
                  </p:nvSpPr>
                  <p:spPr>
                    <a:xfrm>
                      <a:off x="7167600" y="1875600"/>
                      <a:ext cx="58320" cy="33480"/>
                    </a:xfrm>
                    <a:custGeom>
                      <a:avLst/>
                      <a:gdLst/>
                      <a:ahLst/>
                      <a:rect l="l" t="t" r="r" b="b"/>
                      <a:pathLst>
                        <a:path w="60" h="43">
                          <a:moveTo>
                            <a:pt x="60" y="0"/>
                          </a:moveTo>
                          <a:lnTo>
                            <a:pt x="17" y="43"/>
                          </a:lnTo>
                          <a:lnTo>
                            <a:pt x="0" y="32"/>
                          </a:lnTo>
                          <a:lnTo>
                            <a:pt x="1" y="31"/>
                          </a:lnTo>
                          <a:lnTo>
                            <a:pt x="2" y="30"/>
                          </a:lnTo>
                          <a:lnTo>
                            <a:pt x="6" y="28"/>
                          </a:lnTo>
                          <a:lnTo>
                            <a:pt x="11" y="26"/>
                          </a:lnTo>
                          <a:lnTo>
                            <a:pt x="16" y="25"/>
                          </a:lnTo>
                          <a:lnTo>
                            <a:pt x="21" y="23"/>
                          </a:lnTo>
                          <a:lnTo>
                            <a:pt x="27" y="20"/>
                          </a:lnTo>
                          <a:lnTo>
                            <a:pt x="33" y="18"/>
                          </a:lnTo>
                          <a:lnTo>
                            <a:pt x="38" y="14"/>
                          </a:lnTo>
                          <a:lnTo>
                            <a:pt x="43" y="11"/>
                          </a:lnTo>
                          <a:lnTo>
                            <a:pt x="47" y="8"/>
                          </a:lnTo>
                          <a:lnTo>
                            <a:pt x="52" y="6"/>
                          </a:lnTo>
                          <a:lnTo>
                            <a:pt x="55" y="2"/>
                          </a:lnTo>
                          <a:lnTo>
                            <a:pt x="58" y="1"/>
                          </a:lnTo>
                          <a:lnTo>
                            <a:pt x="60" y="0"/>
                          </a:lnTo>
                          <a:lnTo>
                            <a:pt x="60" y="0"/>
                          </a:lnTo>
                          <a:lnTo>
                            <a:pt x="60" y="0"/>
                          </a:lnTo>
                          <a:close/>
                        </a:path>
                      </a:pathLst>
                    </a:custGeom>
                    <a:solidFill>
                      <a:srgbClr val="e87a63"/>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32" name=""/>
                    <p:cNvSpPr/>
                    <p:nvPr/>
                  </p:nvSpPr>
                  <p:spPr>
                    <a:xfrm>
                      <a:off x="6259680" y="1932480"/>
                      <a:ext cx="1554120" cy="926280"/>
                    </a:xfrm>
                    <a:custGeom>
                      <a:avLst/>
                      <a:gdLst/>
                      <a:ahLst/>
                      <a:rect l="l" t="t" r="r" b="b"/>
                      <a:pathLst>
                        <a:path w="1600" h="1188">
                          <a:moveTo>
                            <a:pt x="0" y="1188"/>
                          </a:moveTo>
                          <a:lnTo>
                            <a:pt x="0" y="1186"/>
                          </a:lnTo>
                          <a:lnTo>
                            <a:pt x="0" y="1183"/>
                          </a:lnTo>
                          <a:lnTo>
                            <a:pt x="0" y="1179"/>
                          </a:lnTo>
                          <a:lnTo>
                            <a:pt x="1" y="1177"/>
                          </a:lnTo>
                          <a:lnTo>
                            <a:pt x="3" y="1173"/>
                          </a:lnTo>
                          <a:lnTo>
                            <a:pt x="7" y="1169"/>
                          </a:lnTo>
                          <a:lnTo>
                            <a:pt x="10" y="1164"/>
                          </a:lnTo>
                          <a:lnTo>
                            <a:pt x="14" y="1160"/>
                          </a:lnTo>
                          <a:lnTo>
                            <a:pt x="18" y="1154"/>
                          </a:lnTo>
                          <a:lnTo>
                            <a:pt x="23" y="1148"/>
                          </a:lnTo>
                          <a:lnTo>
                            <a:pt x="29" y="1141"/>
                          </a:lnTo>
                          <a:lnTo>
                            <a:pt x="33" y="1135"/>
                          </a:lnTo>
                          <a:lnTo>
                            <a:pt x="39" y="1127"/>
                          </a:lnTo>
                          <a:lnTo>
                            <a:pt x="46" y="1121"/>
                          </a:lnTo>
                          <a:lnTo>
                            <a:pt x="51" y="1112"/>
                          </a:lnTo>
                          <a:lnTo>
                            <a:pt x="59" y="1103"/>
                          </a:lnTo>
                          <a:lnTo>
                            <a:pt x="66" y="1095"/>
                          </a:lnTo>
                          <a:lnTo>
                            <a:pt x="73" y="1085"/>
                          </a:lnTo>
                          <a:lnTo>
                            <a:pt x="81" y="1076"/>
                          </a:lnTo>
                          <a:lnTo>
                            <a:pt x="88" y="1066"/>
                          </a:lnTo>
                          <a:lnTo>
                            <a:pt x="97" y="1056"/>
                          </a:lnTo>
                          <a:lnTo>
                            <a:pt x="106" y="1045"/>
                          </a:lnTo>
                          <a:lnTo>
                            <a:pt x="115" y="1034"/>
                          </a:lnTo>
                          <a:lnTo>
                            <a:pt x="125" y="1023"/>
                          </a:lnTo>
                          <a:lnTo>
                            <a:pt x="134" y="1011"/>
                          </a:lnTo>
                          <a:lnTo>
                            <a:pt x="144" y="1000"/>
                          </a:lnTo>
                          <a:lnTo>
                            <a:pt x="153" y="988"/>
                          </a:lnTo>
                          <a:lnTo>
                            <a:pt x="164" y="976"/>
                          </a:lnTo>
                          <a:lnTo>
                            <a:pt x="174" y="964"/>
                          </a:lnTo>
                          <a:lnTo>
                            <a:pt x="185" y="951"/>
                          </a:lnTo>
                          <a:lnTo>
                            <a:pt x="196" y="938"/>
                          </a:lnTo>
                          <a:lnTo>
                            <a:pt x="207" y="925"/>
                          </a:lnTo>
                          <a:lnTo>
                            <a:pt x="219" y="911"/>
                          </a:lnTo>
                          <a:lnTo>
                            <a:pt x="230" y="898"/>
                          </a:lnTo>
                          <a:lnTo>
                            <a:pt x="242" y="884"/>
                          </a:lnTo>
                          <a:lnTo>
                            <a:pt x="254" y="870"/>
                          </a:lnTo>
                          <a:lnTo>
                            <a:pt x="265" y="856"/>
                          </a:lnTo>
                          <a:lnTo>
                            <a:pt x="279" y="842"/>
                          </a:lnTo>
                          <a:lnTo>
                            <a:pt x="291" y="828"/>
                          </a:lnTo>
                          <a:lnTo>
                            <a:pt x="303" y="814"/>
                          </a:lnTo>
                          <a:lnTo>
                            <a:pt x="316" y="798"/>
                          </a:lnTo>
                          <a:lnTo>
                            <a:pt x="329" y="785"/>
                          </a:lnTo>
                          <a:lnTo>
                            <a:pt x="342" y="770"/>
                          </a:lnTo>
                          <a:lnTo>
                            <a:pt x="355" y="755"/>
                          </a:lnTo>
                          <a:lnTo>
                            <a:pt x="368" y="740"/>
                          </a:lnTo>
                          <a:lnTo>
                            <a:pt x="382" y="726"/>
                          </a:lnTo>
                          <a:lnTo>
                            <a:pt x="396" y="711"/>
                          </a:lnTo>
                          <a:lnTo>
                            <a:pt x="409" y="696"/>
                          </a:lnTo>
                          <a:lnTo>
                            <a:pt x="423" y="681"/>
                          </a:lnTo>
                          <a:lnTo>
                            <a:pt x="436" y="667"/>
                          </a:lnTo>
                          <a:lnTo>
                            <a:pt x="450" y="652"/>
                          </a:lnTo>
                          <a:lnTo>
                            <a:pt x="464" y="637"/>
                          </a:lnTo>
                          <a:lnTo>
                            <a:pt x="478" y="622"/>
                          </a:lnTo>
                          <a:lnTo>
                            <a:pt x="493" y="607"/>
                          </a:lnTo>
                          <a:lnTo>
                            <a:pt x="507" y="592"/>
                          </a:lnTo>
                          <a:lnTo>
                            <a:pt x="521" y="578"/>
                          </a:lnTo>
                          <a:lnTo>
                            <a:pt x="534" y="564"/>
                          </a:lnTo>
                          <a:lnTo>
                            <a:pt x="550" y="548"/>
                          </a:lnTo>
                          <a:lnTo>
                            <a:pt x="563" y="534"/>
                          </a:lnTo>
                          <a:lnTo>
                            <a:pt x="577" y="520"/>
                          </a:lnTo>
                          <a:lnTo>
                            <a:pt x="591" y="507"/>
                          </a:lnTo>
                          <a:lnTo>
                            <a:pt x="607" y="492"/>
                          </a:lnTo>
                          <a:lnTo>
                            <a:pt x="620" y="478"/>
                          </a:lnTo>
                          <a:lnTo>
                            <a:pt x="634" y="465"/>
                          </a:lnTo>
                          <a:lnTo>
                            <a:pt x="647" y="451"/>
                          </a:lnTo>
                          <a:lnTo>
                            <a:pt x="662" y="437"/>
                          </a:lnTo>
                          <a:lnTo>
                            <a:pt x="676" y="424"/>
                          </a:lnTo>
                          <a:lnTo>
                            <a:pt x="690" y="411"/>
                          </a:lnTo>
                          <a:lnTo>
                            <a:pt x="704" y="398"/>
                          </a:lnTo>
                          <a:lnTo>
                            <a:pt x="718" y="386"/>
                          </a:lnTo>
                          <a:lnTo>
                            <a:pt x="732" y="373"/>
                          </a:lnTo>
                          <a:lnTo>
                            <a:pt x="745" y="360"/>
                          </a:lnTo>
                          <a:lnTo>
                            <a:pt x="759" y="348"/>
                          </a:lnTo>
                          <a:lnTo>
                            <a:pt x="773" y="336"/>
                          </a:lnTo>
                          <a:lnTo>
                            <a:pt x="786" y="323"/>
                          </a:lnTo>
                          <a:lnTo>
                            <a:pt x="800" y="312"/>
                          </a:lnTo>
                          <a:lnTo>
                            <a:pt x="813" y="301"/>
                          </a:lnTo>
                          <a:lnTo>
                            <a:pt x="826" y="290"/>
                          </a:lnTo>
                          <a:lnTo>
                            <a:pt x="839" y="279"/>
                          </a:lnTo>
                          <a:lnTo>
                            <a:pt x="852" y="267"/>
                          </a:lnTo>
                          <a:lnTo>
                            <a:pt x="864" y="256"/>
                          </a:lnTo>
                          <a:lnTo>
                            <a:pt x="878" y="245"/>
                          </a:lnTo>
                          <a:lnTo>
                            <a:pt x="890" y="235"/>
                          </a:lnTo>
                          <a:lnTo>
                            <a:pt x="902" y="224"/>
                          </a:lnTo>
                          <a:lnTo>
                            <a:pt x="915" y="215"/>
                          </a:lnTo>
                          <a:lnTo>
                            <a:pt x="927" y="205"/>
                          </a:lnTo>
                          <a:lnTo>
                            <a:pt x="938" y="195"/>
                          </a:lnTo>
                          <a:lnTo>
                            <a:pt x="950" y="185"/>
                          </a:lnTo>
                          <a:lnTo>
                            <a:pt x="961" y="177"/>
                          </a:lnTo>
                          <a:lnTo>
                            <a:pt x="974" y="168"/>
                          </a:lnTo>
                          <a:lnTo>
                            <a:pt x="984" y="159"/>
                          </a:lnTo>
                          <a:lnTo>
                            <a:pt x="995" y="150"/>
                          </a:lnTo>
                          <a:lnTo>
                            <a:pt x="1006" y="142"/>
                          </a:lnTo>
                          <a:lnTo>
                            <a:pt x="1017" y="134"/>
                          </a:lnTo>
                          <a:lnTo>
                            <a:pt x="1027" y="126"/>
                          </a:lnTo>
                          <a:lnTo>
                            <a:pt x="1037" y="118"/>
                          </a:lnTo>
                          <a:lnTo>
                            <a:pt x="1047" y="110"/>
                          </a:lnTo>
                          <a:lnTo>
                            <a:pt x="1057" y="104"/>
                          </a:lnTo>
                          <a:lnTo>
                            <a:pt x="1066" y="96"/>
                          </a:lnTo>
                          <a:lnTo>
                            <a:pt x="1075" y="89"/>
                          </a:lnTo>
                          <a:lnTo>
                            <a:pt x="1084" y="83"/>
                          </a:lnTo>
                          <a:lnTo>
                            <a:pt x="1093" y="77"/>
                          </a:lnTo>
                          <a:lnTo>
                            <a:pt x="1101" y="70"/>
                          </a:lnTo>
                          <a:lnTo>
                            <a:pt x="1109" y="65"/>
                          </a:lnTo>
                          <a:lnTo>
                            <a:pt x="1116" y="58"/>
                          </a:lnTo>
                          <a:lnTo>
                            <a:pt x="1125" y="53"/>
                          </a:lnTo>
                          <a:lnTo>
                            <a:pt x="1131" y="49"/>
                          </a:lnTo>
                          <a:lnTo>
                            <a:pt x="1139" y="44"/>
                          </a:lnTo>
                          <a:lnTo>
                            <a:pt x="1145" y="38"/>
                          </a:lnTo>
                          <a:lnTo>
                            <a:pt x="1151" y="35"/>
                          </a:lnTo>
                          <a:lnTo>
                            <a:pt x="1157" y="29"/>
                          </a:lnTo>
                          <a:lnTo>
                            <a:pt x="1163" y="26"/>
                          </a:lnTo>
                          <a:lnTo>
                            <a:pt x="1168" y="22"/>
                          </a:lnTo>
                          <a:lnTo>
                            <a:pt x="1172" y="19"/>
                          </a:lnTo>
                          <a:lnTo>
                            <a:pt x="1177" y="16"/>
                          </a:lnTo>
                          <a:lnTo>
                            <a:pt x="1181" y="12"/>
                          </a:lnTo>
                          <a:lnTo>
                            <a:pt x="1185" y="10"/>
                          </a:lnTo>
                          <a:lnTo>
                            <a:pt x="1189" y="9"/>
                          </a:lnTo>
                          <a:lnTo>
                            <a:pt x="1192" y="6"/>
                          </a:lnTo>
                          <a:lnTo>
                            <a:pt x="1194" y="4"/>
                          </a:lnTo>
                          <a:lnTo>
                            <a:pt x="1197" y="2"/>
                          </a:lnTo>
                          <a:lnTo>
                            <a:pt x="1199" y="1"/>
                          </a:lnTo>
                          <a:lnTo>
                            <a:pt x="1202" y="0"/>
                          </a:lnTo>
                          <a:lnTo>
                            <a:pt x="1203" y="0"/>
                          </a:lnTo>
                          <a:lnTo>
                            <a:pt x="1205" y="1"/>
                          </a:lnTo>
                          <a:lnTo>
                            <a:pt x="1206" y="2"/>
                          </a:lnTo>
                          <a:lnTo>
                            <a:pt x="1209" y="4"/>
                          </a:lnTo>
                          <a:lnTo>
                            <a:pt x="1212" y="6"/>
                          </a:lnTo>
                          <a:lnTo>
                            <a:pt x="1216" y="10"/>
                          </a:lnTo>
                          <a:lnTo>
                            <a:pt x="1221" y="13"/>
                          </a:lnTo>
                          <a:lnTo>
                            <a:pt x="1227" y="18"/>
                          </a:lnTo>
                          <a:lnTo>
                            <a:pt x="1229" y="20"/>
                          </a:lnTo>
                          <a:lnTo>
                            <a:pt x="1232" y="22"/>
                          </a:lnTo>
                          <a:lnTo>
                            <a:pt x="1236" y="25"/>
                          </a:lnTo>
                          <a:lnTo>
                            <a:pt x="1239" y="28"/>
                          </a:lnTo>
                          <a:lnTo>
                            <a:pt x="1243" y="29"/>
                          </a:lnTo>
                          <a:lnTo>
                            <a:pt x="1246" y="32"/>
                          </a:lnTo>
                          <a:lnTo>
                            <a:pt x="1250" y="36"/>
                          </a:lnTo>
                          <a:lnTo>
                            <a:pt x="1254" y="39"/>
                          </a:lnTo>
                          <a:lnTo>
                            <a:pt x="1258" y="42"/>
                          </a:lnTo>
                          <a:lnTo>
                            <a:pt x="1262" y="45"/>
                          </a:lnTo>
                          <a:lnTo>
                            <a:pt x="1266" y="49"/>
                          </a:lnTo>
                          <a:lnTo>
                            <a:pt x="1270" y="52"/>
                          </a:lnTo>
                          <a:lnTo>
                            <a:pt x="1275" y="55"/>
                          </a:lnTo>
                          <a:lnTo>
                            <a:pt x="1280" y="58"/>
                          </a:lnTo>
                          <a:lnTo>
                            <a:pt x="1285" y="62"/>
                          </a:lnTo>
                          <a:lnTo>
                            <a:pt x="1289" y="67"/>
                          </a:lnTo>
                          <a:lnTo>
                            <a:pt x="1294" y="69"/>
                          </a:lnTo>
                          <a:lnTo>
                            <a:pt x="1299" y="73"/>
                          </a:lnTo>
                          <a:lnTo>
                            <a:pt x="1304" y="77"/>
                          </a:lnTo>
                          <a:lnTo>
                            <a:pt x="1308" y="81"/>
                          </a:lnTo>
                          <a:lnTo>
                            <a:pt x="1313" y="85"/>
                          </a:lnTo>
                          <a:lnTo>
                            <a:pt x="1318" y="89"/>
                          </a:lnTo>
                          <a:lnTo>
                            <a:pt x="1324" y="93"/>
                          </a:lnTo>
                          <a:lnTo>
                            <a:pt x="1328" y="97"/>
                          </a:lnTo>
                          <a:lnTo>
                            <a:pt x="1334" y="101"/>
                          </a:lnTo>
                          <a:lnTo>
                            <a:pt x="1339" y="106"/>
                          </a:lnTo>
                          <a:lnTo>
                            <a:pt x="1344" y="109"/>
                          </a:lnTo>
                          <a:lnTo>
                            <a:pt x="1350" y="113"/>
                          </a:lnTo>
                          <a:lnTo>
                            <a:pt x="1355" y="118"/>
                          </a:lnTo>
                          <a:lnTo>
                            <a:pt x="1360" y="122"/>
                          </a:lnTo>
                          <a:lnTo>
                            <a:pt x="1365" y="126"/>
                          </a:lnTo>
                          <a:lnTo>
                            <a:pt x="1371" y="131"/>
                          </a:lnTo>
                          <a:lnTo>
                            <a:pt x="1376" y="135"/>
                          </a:lnTo>
                          <a:lnTo>
                            <a:pt x="1381" y="139"/>
                          </a:lnTo>
                          <a:lnTo>
                            <a:pt x="1387" y="144"/>
                          </a:lnTo>
                          <a:lnTo>
                            <a:pt x="1392" y="148"/>
                          </a:lnTo>
                          <a:lnTo>
                            <a:pt x="1397" y="152"/>
                          </a:lnTo>
                          <a:lnTo>
                            <a:pt x="1403" y="157"/>
                          </a:lnTo>
                          <a:lnTo>
                            <a:pt x="1408" y="161"/>
                          </a:lnTo>
                          <a:lnTo>
                            <a:pt x="1414" y="165"/>
                          </a:lnTo>
                          <a:lnTo>
                            <a:pt x="1419" y="170"/>
                          </a:lnTo>
                          <a:lnTo>
                            <a:pt x="1424" y="174"/>
                          </a:lnTo>
                          <a:lnTo>
                            <a:pt x="1429" y="179"/>
                          </a:lnTo>
                          <a:lnTo>
                            <a:pt x="1434" y="183"/>
                          </a:lnTo>
                          <a:lnTo>
                            <a:pt x="1439" y="187"/>
                          </a:lnTo>
                          <a:lnTo>
                            <a:pt x="1444" y="191"/>
                          </a:lnTo>
                          <a:lnTo>
                            <a:pt x="1449" y="196"/>
                          </a:lnTo>
                          <a:lnTo>
                            <a:pt x="1455" y="201"/>
                          </a:lnTo>
                          <a:lnTo>
                            <a:pt x="1600" y="336"/>
                          </a:lnTo>
                          <a:lnTo>
                            <a:pt x="1600" y="1187"/>
                          </a:lnTo>
                          <a:lnTo>
                            <a:pt x="0" y="1188"/>
                          </a:lnTo>
                          <a:lnTo>
                            <a:pt x="0" y="1188"/>
                          </a:lnTo>
                          <a:close/>
                        </a:path>
                      </a:pathLst>
                    </a:custGeom>
                    <a:solidFill>
                      <a:srgbClr val="a67a4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7025040" y="1925640"/>
                      <a:ext cx="712800" cy="257040"/>
                    </a:xfrm>
                    <a:custGeom>
                      <a:avLst/>
                      <a:gdLst/>
                      <a:ahLst/>
                      <a:rect l="l" t="t" r="r" b="b"/>
                      <a:pathLst>
                        <a:path w="734" h="330">
                          <a:moveTo>
                            <a:pt x="0" y="330"/>
                          </a:moveTo>
                          <a:lnTo>
                            <a:pt x="501" y="319"/>
                          </a:lnTo>
                          <a:lnTo>
                            <a:pt x="559" y="249"/>
                          </a:lnTo>
                          <a:lnTo>
                            <a:pt x="734" y="265"/>
                          </a:lnTo>
                          <a:lnTo>
                            <a:pt x="409" y="0"/>
                          </a:lnTo>
                          <a:lnTo>
                            <a:pt x="409" y="0"/>
                          </a:lnTo>
                          <a:lnTo>
                            <a:pt x="408" y="1"/>
                          </a:lnTo>
                          <a:lnTo>
                            <a:pt x="405" y="2"/>
                          </a:lnTo>
                          <a:lnTo>
                            <a:pt x="403" y="4"/>
                          </a:lnTo>
                          <a:lnTo>
                            <a:pt x="400" y="6"/>
                          </a:lnTo>
                          <a:lnTo>
                            <a:pt x="396" y="10"/>
                          </a:lnTo>
                          <a:lnTo>
                            <a:pt x="391" y="13"/>
                          </a:lnTo>
                          <a:lnTo>
                            <a:pt x="387" y="17"/>
                          </a:lnTo>
                          <a:lnTo>
                            <a:pt x="383" y="19"/>
                          </a:lnTo>
                          <a:lnTo>
                            <a:pt x="381" y="20"/>
                          </a:lnTo>
                          <a:lnTo>
                            <a:pt x="378" y="22"/>
                          </a:lnTo>
                          <a:lnTo>
                            <a:pt x="375" y="25"/>
                          </a:lnTo>
                          <a:lnTo>
                            <a:pt x="372" y="27"/>
                          </a:lnTo>
                          <a:lnTo>
                            <a:pt x="368" y="30"/>
                          </a:lnTo>
                          <a:lnTo>
                            <a:pt x="365" y="33"/>
                          </a:lnTo>
                          <a:lnTo>
                            <a:pt x="362" y="36"/>
                          </a:lnTo>
                          <a:lnTo>
                            <a:pt x="358" y="38"/>
                          </a:lnTo>
                          <a:lnTo>
                            <a:pt x="355" y="40"/>
                          </a:lnTo>
                          <a:lnTo>
                            <a:pt x="350" y="44"/>
                          </a:lnTo>
                          <a:lnTo>
                            <a:pt x="347" y="47"/>
                          </a:lnTo>
                          <a:lnTo>
                            <a:pt x="342" y="50"/>
                          </a:lnTo>
                          <a:lnTo>
                            <a:pt x="339" y="53"/>
                          </a:lnTo>
                          <a:lnTo>
                            <a:pt x="335" y="57"/>
                          </a:lnTo>
                          <a:lnTo>
                            <a:pt x="331" y="59"/>
                          </a:lnTo>
                          <a:lnTo>
                            <a:pt x="326" y="63"/>
                          </a:lnTo>
                          <a:lnTo>
                            <a:pt x="322" y="66"/>
                          </a:lnTo>
                          <a:lnTo>
                            <a:pt x="317" y="70"/>
                          </a:lnTo>
                          <a:lnTo>
                            <a:pt x="312" y="73"/>
                          </a:lnTo>
                          <a:lnTo>
                            <a:pt x="307" y="77"/>
                          </a:lnTo>
                          <a:lnTo>
                            <a:pt x="304" y="80"/>
                          </a:lnTo>
                          <a:lnTo>
                            <a:pt x="299" y="83"/>
                          </a:lnTo>
                          <a:lnTo>
                            <a:pt x="294" y="87"/>
                          </a:lnTo>
                          <a:lnTo>
                            <a:pt x="288" y="91"/>
                          </a:lnTo>
                          <a:lnTo>
                            <a:pt x="284" y="95"/>
                          </a:lnTo>
                          <a:lnTo>
                            <a:pt x="279" y="98"/>
                          </a:lnTo>
                          <a:lnTo>
                            <a:pt x="274" y="102"/>
                          </a:lnTo>
                          <a:lnTo>
                            <a:pt x="269" y="106"/>
                          </a:lnTo>
                          <a:lnTo>
                            <a:pt x="265" y="110"/>
                          </a:lnTo>
                          <a:lnTo>
                            <a:pt x="260" y="114"/>
                          </a:lnTo>
                          <a:lnTo>
                            <a:pt x="255" y="117"/>
                          </a:lnTo>
                          <a:lnTo>
                            <a:pt x="249" y="121"/>
                          </a:lnTo>
                          <a:lnTo>
                            <a:pt x="245" y="125"/>
                          </a:lnTo>
                          <a:lnTo>
                            <a:pt x="239" y="129"/>
                          </a:lnTo>
                          <a:lnTo>
                            <a:pt x="234" y="133"/>
                          </a:lnTo>
                          <a:lnTo>
                            <a:pt x="229" y="136"/>
                          </a:lnTo>
                          <a:lnTo>
                            <a:pt x="225" y="141"/>
                          </a:lnTo>
                          <a:lnTo>
                            <a:pt x="220" y="145"/>
                          </a:lnTo>
                          <a:lnTo>
                            <a:pt x="215" y="149"/>
                          </a:lnTo>
                          <a:lnTo>
                            <a:pt x="209" y="152"/>
                          </a:lnTo>
                          <a:lnTo>
                            <a:pt x="205" y="156"/>
                          </a:lnTo>
                          <a:lnTo>
                            <a:pt x="200" y="160"/>
                          </a:lnTo>
                          <a:lnTo>
                            <a:pt x="195" y="164"/>
                          </a:lnTo>
                          <a:lnTo>
                            <a:pt x="190" y="168"/>
                          </a:lnTo>
                          <a:lnTo>
                            <a:pt x="186" y="172"/>
                          </a:lnTo>
                          <a:lnTo>
                            <a:pt x="181" y="175"/>
                          </a:lnTo>
                          <a:lnTo>
                            <a:pt x="176" y="180"/>
                          </a:lnTo>
                          <a:lnTo>
                            <a:pt x="171" y="183"/>
                          </a:lnTo>
                          <a:lnTo>
                            <a:pt x="167" y="187"/>
                          </a:lnTo>
                          <a:lnTo>
                            <a:pt x="162" y="191"/>
                          </a:lnTo>
                          <a:lnTo>
                            <a:pt x="157" y="194"/>
                          </a:lnTo>
                          <a:lnTo>
                            <a:pt x="152" y="198"/>
                          </a:lnTo>
                          <a:lnTo>
                            <a:pt x="148" y="202"/>
                          </a:lnTo>
                          <a:lnTo>
                            <a:pt x="144" y="206"/>
                          </a:lnTo>
                          <a:lnTo>
                            <a:pt x="139" y="210"/>
                          </a:lnTo>
                          <a:lnTo>
                            <a:pt x="134" y="212"/>
                          </a:lnTo>
                          <a:lnTo>
                            <a:pt x="130" y="216"/>
                          </a:lnTo>
                          <a:lnTo>
                            <a:pt x="126" y="219"/>
                          </a:lnTo>
                          <a:lnTo>
                            <a:pt x="122" y="223"/>
                          </a:lnTo>
                          <a:lnTo>
                            <a:pt x="117" y="227"/>
                          </a:lnTo>
                          <a:lnTo>
                            <a:pt x="113" y="230"/>
                          </a:lnTo>
                          <a:lnTo>
                            <a:pt x="110" y="233"/>
                          </a:lnTo>
                          <a:lnTo>
                            <a:pt x="106" y="237"/>
                          </a:lnTo>
                          <a:lnTo>
                            <a:pt x="101" y="240"/>
                          </a:lnTo>
                          <a:lnTo>
                            <a:pt x="97" y="244"/>
                          </a:lnTo>
                          <a:lnTo>
                            <a:pt x="93" y="247"/>
                          </a:lnTo>
                          <a:lnTo>
                            <a:pt x="91" y="250"/>
                          </a:lnTo>
                          <a:lnTo>
                            <a:pt x="87" y="252"/>
                          </a:lnTo>
                          <a:lnTo>
                            <a:pt x="83" y="256"/>
                          </a:lnTo>
                          <a:lnTo>
                            <a:pt x="79" y="259"/>
                          </a:lnTo>
                          <a:lnTo>
                            <a:pt x="75" y="263"/>
                          </a:lnTo>
                          <a:lnTo>
                            <a:pt x="72" y="266"/>
                          </a:lnTo>
                          <a:lnTo>
                            <a:pt x="69" y="268"/>
                          </a:lnTo>
                          <a:lnTo>
                            <a:pt x="65" y="270"/>
                          </a:lnTo>
                          <a:lnTo>
                            <a:pt x="62" y="274"/>
                          </a:lnTo>
                          <a:lnTo>
                            <a:pt x="59" y="276"/>
                          </a:lnTo>
                          <a:lnTo>
                            <a:pt x="55" y="279"/>
                          </a:lnTo>
                          <a:lnTo>
                            <a:pt x="53" y="282"/>
                          </a:lnTo>
                          <a:lnTo>
                            <a:pt x="51" y="286"/>
                          </a:lnTo>
                          <a:lnTo>
                            <a:pt x="47" y="288"/>
                          </a:lnTo>
                          <a:lnTo>
                            <a:pt x="44" y="289"/>
                          </a:lnTo>
                          <a:lnTo>
                            <a:pt x="41" y="291"/>
                          </a:lnTo>
                          <a:lnTo>
                            <a:pt x="38" y="294"/>
                          </a:lnTo>
                          <a:lnTo>
                            <a:pt x="33" y="299"/>
                          </a:lnTo>
                          <a:lnTo>
                            <a:pt x="29" y="304"/>
                          </a:lnTo>
                          <a:lnTo>
                            <a:pt x="24" y="307"/>
                          </a:lnTo>
                          <a:lnTo>
                            <a:pt x="20" y="311"/>
                          </a:lnTo>
                          <a:lnTo>
                            <a:pt x="16" y="314"/>
                          </a:lnTo>
                          <a:lnTo>
                            <a:pt x="14" y="318"/>
                          </a:lnTo>
                          <a:lnTo>
                            <a:pt x="10" y="320"/>
                          </a:lnTo>
                          <a:lnTo>
                            <a:pt x="7" y="323"/>
                          </a:lnTo>
                          <a:lnTo>
                            <a:pt x="5" y="325"/>
                          </a:lnTo>
                          <a:lnTo>
                            <a:pt x="3" y="326"/>
                          </a:lnTo>
                          <a:lnTo>
                            <a:pt x="1" y="328"/>
                          </a:lnTo>
                          <a:lnTo>
                            <a:pt x="0" y="330"/>
                          </a:lnTo>
                          <a:lnTo>
                            <a:pt x="0" y="330"/>
                          </a:lnTo>
                          <a:close/>
                        </a:path>
                      </a:pathLst>
                    </a:custGeom>
                    <a:solidFill>
                      <a:srgbClr val="54423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7448400" y="2233440"/>
                      <a:ext cx="365040" cy="307800"/>
                    </a:xfrm>
                    <a:custGeom>
                      <a:avLst/>
                      <a:gdLst/>
                      <a:ahLst/>
                      <a:rect l="l" t="t" r="r" b="b"/>
                      <a:pathLst>
                        <a:path w="376" h="395">
                          <a:moveTo>
                            <a:pt x="0" y="234"/>
                          </a:moveTo>
                          <a:lnTo>
                            <a:pt x="225" y="0"/>
                          </a:lnTo>
                          <a:lnTo>
                            <a:pt x="376" y="150"/>
                          </a:lnTo>
                          <a:lnTo>
                            <a:pt x="376" y="252"/>
                          </a:lnTo>
                          <a:lnTo>
                            <a:pt x="235" y="395"/>
                          </a:lnTo>
                          <a:lnTo>
                            <a:pt x="0" y="234"/>
                          </a:lnTo>
                          <a:lnTo>
                            <a:pt x="0" y="234"/>
                          </a:lnTo>
                          <a:close/>
                        </a:path>
                      </a:pathLst>
                    </a:custGeom>
                    <a:solidFill>
                      <a:srgbClr val="54423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6259680" y="2287440"/>
                      <a:ext cx="648720" cy="571680"/>
                    </a:xfrm>
                    <a:custGeom>
                      <a:avLst/>
                      <a:gdLst/>
                      <a:ahLst/>
                      <a:rect l="l" t="t" r="r" b="b"/>
                      <a:pathLst>
                        <a:path w="668" h="733">
                          <a:moveTo>
                            <a:pt x="279" y="49"/>
                          </a:moveTo>
                          <a:lnTo>
                            <a:pt x="302" y="75"/>
                          </a:lnTo>
                          <a:lnTo>
                            <a:pt x="459" y="75"/>
                          </a:lnTo>
                          <a:lnTo>
                            <a:pt x="552" y="0"/>
                          </a:lnTo>
                          <a:lnTo>
                            <a:pt x="611" y="12"/>
                          </a:lnTo>
                          <a:lnTo>
                            <a:pt x="668" y="113"/>
                          </a:lnTo>
                          <a:lnTo>
                            <a:pt x="552" y="169"/>
                          </a:lnTo>
                          <a:lnTo>
                            <a:pt x="549" y="169"/>
                          </a:lnTo>
                          <a:lnTo>
                            <a:pt x="545" y="169"/>
                          </a:lnTo>
                          <a:lnTo>
                            <a:pt x="541" y="169"/>
                          </a:lnTo>
                          <a:lnTo>
                            <a:pt x="537" y="170"/>
                          </a:lnTo>
                          <a:lnTo>
                            <a:pt x="533" y="171"/>
                          </a:lnTo>
                          <a:lnTo>
                            <a:pt x="530" y="172"/>
                          </a:lnTo>
                          <a:lnTo>
                            <a:pt x="526" y="173"/>
                          </a:lnTo>
                          <a:lnTo>
                            <a:pt x="523" y="174"/>
                          </a:lnTo>
                          <a:lnTo>
                            <a:pt x="518" y="174"/>
                          </a:lnTo>
                          <a:lnTo>
                            <a:pt x="514" y="176"/>
                          </a:lnTo>
                          <a:lnTo>
                            <a:pt x="511" y="176"/>
                          </a:lnTo>
                          <a:lnTo>
                            <a:pt x="507" y="177"/>
                          </a:lnTo>
                          <a:lnTo>
                            <a:pt x="503" y="178"/>
                          </a:lnTo>
                          <a:lnTo>
                            <a:pt x="499" y="179"/>
                          </a:lnTo>
                          <a:lnTo>
                            <a:pt x="494" y="179"/>
                          </a:lnTo>
                          <a:lnTo>
                            <a:pt x="492" y="181"/>
                          </a:lnTo>
                          <a:lnTo>
                            <a:pt x="487" y="182"/>
                          </a:lnTo>
                          <a:lnTo>
                            <a:pt x="483" y="183"/>
                          </a:lnTo>
                          <a:lnTo>
                            <a:pt x="480" y="183"/>
                          </a:lnTo>
                          <a:lnTo>
                            <a:pt x="476" y="185"/>
                          </a:lnTo>
                          <a:lnTo>
                            <a:pt x="472" y="185"/>
                          </a:lnTo>
                          <a:lnTo>
                            <a:pt x="469" y="187"/>
                          </a:lnTo>
                          <a:lnTo>
                            <a:pt x="464" y="187"/>
                          </a:lnTo>
                          <a:lnTo>
                            <a:pt x="461" y="188"/>
                          </a:lnTo>
                          <a:lnTo>
                            <a:pt x="457" y="189"/>
                          </a:lnTo>
                          <a:lnTo>
                            <a:pt x="454" y="190"/>
                          </a:lnTo>
                          <a:lnTo>
                            <a:pt x="450" y="190"/>
                          </a:lnTo>
                          <a:lnTo>
                            <a:pt x="446" y="192"/>
                          </a:lnTo>
                          <a:lnTo>
                            <a:pt x="442" y="192"/>
                          </a:lnTo>
                          <a:lnTo>
                            <a:pt x="439" y="194"/>
                          </a:lnTo>
                          <a:lnTo>
                            <a:pt x="436" y="194"/>
                          </a:lnTo>
                          <a:lnTo>
                            <a:pt x="433" y="196"/>
                          </a:lnTo>
                          <a:lnTo>
                            <a:pt x="429" y="197"/>
                          </a:lnTo>
                          <a:lnTo>
                            <a:pt x="426" y="197"/>
                          </a:lnTo>
                          <a:lnTo>
                            <a:pt x="423" y="198"/>
                          </a:lnTo>
                          <a:lnTo>
                            <a:pt x="419" y="199"/>
                          </a:lnTo>
                          <a:lnTo>
                            <a:pt x="416" y="199"/>
                          </a:lnTo>
                          <a:lnTo>
                            <a:pt x="413" y="201"/>
                          </a:lnTo>
                          <a:lnTo>
                            <a:pt x="410" y="201"/>
                          </a:lnTo>
                          <a:lnTo>
                            <a:pt x="408" y="202"/>
                          </a:lnTo>
                          <a:lnTo>
                            <a:pt x="401" y="203"/>
                          </a:lnTo>
                          <a:lnTo>
                            <a:pt x="396" y="205"/>
                          </a:lnTo>
                          <a:lnTo>
                            <a:pt x="392" y="207"/>
                          </a:lnTo>
                          <a:lnTo>
                            <a:pt x="388" y="208"/>
                          </a:lnTo>
                          <a:lnTo>
                            <a:pt x="383" y="208"/>
                          </a:lnTo>
                          <a:lnTo>
                            <a:pt x="379" y="209"/>
                          </a:lnTo>
                          <a:lnTo>
                            <a:pt x="377" y="210"/>
                          </a:lnTo>
                          <a:lnTo>
                            <a:pt x="375" y="212"/>
                          </a:lnTo>
                          <a:lnTo>
                            <a:pt x="371" y="213"/>
                          </a:lnTo>
                          <a:lnTo>
                            <a:pt x="370" y="213"/>
                          </a:lnTo>
                          <a:lnTo>
                            <a:pt x="370" y="214"/>
                          </a:lnTo>
                          <a:lnTo>
                            <a:pt x="370" y="216"/>
                          </a:lnTo>
                          <a:lnTo>
                            <a:pt x="370" y="219"/>
                          </a:lnTo>
                          <a:lnTo>
                            <a:pt x="370" y="221"/>
                          </a:lnTo>
                          <a:lnTo>
                            <a:pt x="370" y="224"/>
                          </a:lnTo>
                          <a:lnTo>
                            <a:pt x="371" y="226"/>
                          </a:lnTo>
                          <a:lnTo>
                            <a:pt x="371" y="230"/>
                          </a:lnTo>
                          <a:lnTo>
                            <a:pt x="371" y="232"/>
                          </a:lnTo>
                          <a:lnTo>
                            <a:pt x="371" y="235"/>
                          </a:lnTo>
                          <a:lnTo>
                            <a:pt x="372" y="238"/>
                          </a:lnTo>
                          <a:lnTo>
                            <a:pt x="372" y="241"/>
                          </a:lnTo>
                          <a:lnTo>
                            <a:pt x="372" y="244"/>
                          </a:lnTo>
                          <a:lnTo>
                            <a:pt x="373" y="246"/>
                          </a:lnTo>
                          <a:lnTo>
                            <a:pt x="373" y="250"/>
                          </a:lnTo>
                          <a:lnTo>
                            <a:pt x="374" y="254"/>
                          </a:lnTo>
                          <a:lnTo>
                            <a:pt x="374" y="257"/>
                          </a:lnTo>
                          <a:lnTo>
                            <a:pt x="374" y="261"/>
                          </a:lnTo>
                          <a:lnTo>
                            <a:pt x="374" y="264"/>
                          </a:lnTo>
                          <a:lnTo>
                            <a:pt x="375" y="266"/>
                          </a:lnTo>
                          <a:lnTo>
                            <a:pt x="375" y="271"/>
                          </a:lnTo>
                          <a:lnTo>
                            <a:pt x="375" y="277"/>
                          </a:lnTo>
                          <a:lnTo>
                            <a:pt x="375" y="281"/>
                          </a:lnTo>
                          <a:lnTo>
                            <a:pt x="375" y="284"/>
                          </a:lnTo>
                          <a:lnTo>
                            <a:pt x="375" y="287"/>
                          </a:lnTo>
                          <a:lnTo>
                            <a:pt x="375" y="291"/>
                          </a:lnTo>
                          <a:lnTo>
                            <a:pt x="373" y="295"/>
                          </a:lnTo>
                          <a:lnTo>
                            <a:pt x="373" y="298"/>
                          </a:lnTo>
                          <a:lnTo>
                            <a:pt x="372" y="299"/>
                          </a:lnTo>
                          <a:lnTo>
                            <a:pt x="372" y="300"/>
                          </a:lnTo>
                          <a:lnTo>
                            <a:pt x="0" y="733"/>
                          </a:lnTo>
                          <a:lnTo>
                            <a:pt x="0" y="662"/>
                          </a:lnTo>
                          <a:lnTo>
                            <a:pt x="10" y="138"/>
                          </a:lnTo>
                          <a:lnTo>
                            <a:pt x="254" y="12"/>
                          </a:lnTo>
                          <a:lnTo>
                            <a:pt x="279" y="49"/>
                          </a:lnTo>
                          <a:lnTo>
                            <a:pt x="279" y="49"/>
                          </a:lnTo>
                          <a:close/>
                        </a:path>
                      </a:pathLst>
                    </a:custGeom>
                    <a:solidFill>
                      <a:srgbClr val="7a94a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6360480" y="2377800"/>
                      <a:ext cx="1223640" cy="378720"/>
                    </a:xfrm>
                    <a:custGeom>
                      <a:avLst/>
                      <a:gdLst/>
                      <a:ahLst/>
                      <a:rect l="l" t="t" r="r" b="b"/>
                      <a:pathLst>
                        <a:path w="1260" h="486">
                          <a:moveTo>
                            <a:pt x="1260" y="16"/>
                          </a:moveTo>
                          <a:lnTo>
                            <a:pt x="1236" y="121"/>
                          </a:lnTo>
                          <a:lnTo>
                            <a:pt x="1070" y="72"/>
                          </a:lnTo>
                          <a:lnTo>
                            <a:pt x="797" y="159"/>
                          </a:lnTo>
                          <a:lnTo>
                            <a:pt x="634" y="246"/>
                          </a:lnTo>
                          <a:lnTo>
                            <a:pt x="809" y="223"/>
                          </a:lnTo>
                          <a:lnTo>
                            <a:pt x="952" y="240"/>
                          </a:lnTo>
                          <a:lnTo>
                            <a:pt x="910" y="335"/>
                          </a:lnTo>
                          <a:lnTo>
                            <a:pt x="797" y="395"/>
                          </a:lnTo>
                          <a:lnTo>
                            <a:pt x="571" y="363"/>
                          </a:lnTo>
                          <a:lnTo>
                            <a:pt x="389" y="440"/>
                          </a:lnTo>
                          <a:lnTo>
                            <a:pt x="0" y="486"/>
                          </a:lnTo>
                          <a:lnTo>
                            <a:pt x="297" y="142"/>
                          </a:lnTo>
                          <a:lnTo>
                            <a:pt x="480" y="146"/>
                          </a:lnTo>
                          <a:lnTo>
                            <a:pt x="791" y="72"/>
                          </a:lnTo>
                          <a:lnTo>
                            <a:pt x="1143" y="0"/>
                          </a:lnTo>
                          <a:lnTo>
                            <a:pt x="1260" y="16"/>
                          </a:lnTo>
                          <a:lnTo>
                            <a:pt x="1260" y="16"/>
                          </a:lnTo>
                          <a:close/>
                        </a:path>
                      </a:pathLst>
                    </a:custGeom>
                    <a:solidFill>
                      <a:srgbClr val="54423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6259680" y="2300040"/>
                      <a:ext cx="242640" cy="520920"/>
                    </a:xfrm>
                    <a:custGeom>
                      <a:avLst/>
                      <a:gdLst/>
                      <a:ahLst/>
                      <a:rect l="l" t="t" r="r" b="b"/>
                      <a:pathLst>
                        <a:path w="250" h="668">
                          <a:moveTo>
                            <a:pt x="137" y="2"/>
                          </a:moveTo>
                          <a:lnTo>
                            <a:pt x="103" y="0"/>
                          </a:lnTo>
                          <a:lnTo>
                            <a:pt x="76" y="26"/>
                          </a:lnTo>
                          <a:lnTo>
                            <a:pt x="0" y="90"/>
                          </a:lnTo>
                          <a:lnTo>
                            <a:pt x="0" y="668"/>
                          </a:lnTo>
                          <a:lnTo>
                            <a:pt x="26" y="668"/>
                          </a:lnTo>
                          <a:lnTo>
                            <a:pt x="26" y="593"/>
                          </a:lnTo>
                          <a:lnTo>
                            <a:pt x="105" y="591"/>
                          </a:lnTo>
                          <a:lnTo>
                            <a:pt x="38" y="520"/>
                          </a:lnTo>
                          <a:lnTo>
                            <a:pt x="111" y="471"/>
                          </a:lnTo>
                          <a:lnTo>
                            <a:pt x="11" y="247"/>
                          </a:lnTo>
                          <a:lnTo>
                            <a:pt x="62" y="279"/>
                          </a:lnTo>
                          <a:lnTo>
                            <a:pt x="162" y="181"/>
                          </a:lnTo>
                          <a:lnTo>
                            <a:pt x="112" y="110"/>
                          </a:lnTo>
                          <a:lnTo>
                            <a:pt x="188" y="160"/>
                          </a:lnTo>
                          <a:lnTo>
                            <a:pt x="250" y="94"/>
                          </a:lnTo>
                          <a:lnTo>
                            <a:pt x="137" y="2"/>
                          </a:lnTo>
                          <a:lnTo>
                            <a:pt x="137" y="2"/>
                          </a:lnTo>
                          <a:close/>
                        </a:path>
                      </a:pathLst>
                    </a:custGeom>
                    <a:solidFill>
                      <a:srgbClr val="bdc9d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6359400" y="2139120"/>
                      <a:ext cx="274680" cy="244800"/>
                    </a:xfrm>
                    <a:custGeom>
                      <a:avLst/>
                      <a:gdLst/>
                      <a:ahLst/>
                      <a:rect l="l" t="t" r="r" b="b"/>
                      <a:pathLst>
                        <a:path w="283" h="314">
                          <a:moveTo>
                            <a:pt x="269" y="0"/>
                          </a:moveTo>
                          <a:lnTo>
                            <a:pt x="283" y="58"/>
                          </a:lnTo>
                          <a:lnTo>
                            <a:pt x="265" y="83"/>
                          </a:lnTo>
                          <a:lnTo>
                            <a:pt x="273" y="140"/>
                          </a:lnTo>
                          <a:lnTo>
                            <a:pt x="242" y="235"/>
                          </a:lnTo>
                          <a:lnTo>
                            <a:pt x="157" y="247"/>
                          </a:lnTo>
                          <a:lnTo>
                            <a:pt x="139" y="314"/>
                          </a:lnTo>
                          <a:lnTo>
                            <a:pt x="138" y="314"/>
                          </a:lnTo>
                          <a:lnTo>
                            <a:pt x="136" y="314"/>
                          </a:lnTo>
                          <a:lnTo>
                            <a:pt x="133" y="313"/>
                          </a:lnTo>
                          <a:lnTo>
                            <a:pt x="129" y="313"/>
                          </a:lnTo>
                          <a:lnTo>
                            <a:pt x="126" y="312"/>
                          </a:lnTo>
                          <a:lnTo>
                            <a:pt x="123" y="312"/>
                          </a:lnTo>
                          <a:lnTo>
                            <a:pt x="121" y="312"/>
                          </a:lnTo>
                          <a:lnTo>
                            <a:pt x="119" y="312"/>
                          </a:lnTo>
                          <a:lnTo>
                            <a:pt x="115" y="311"/>
                          </a:lnTo>
                          <a:lnTo>
                            <a:pt x="112" y="311"/>
                          </a:lnTo>
                          <a:lnTo>
                            <a:pt x="109" y="311"/>
                          </a:lnTo>
                          <a:lnTo>
                            <a:pt x="106" y="311"/>
                          </a:lnTo>
                          <a:lnTo>
                            <a:pt x="102" y="310"/>
                          </a:lnTo>
                          <a:lnTo>
                            <a:pt x="99" y="309"/>
                          </a:lnTo>
                          <a:lnTo>
                            <a:pt x="95" y="308"/>
                          </a:lnTo>
                          <a:lnTo>
                            <a:pt x="91" y="308"/>
                          </a:lnTo>
                          <a:lnTo>
                            <a:pt x="87" y="307"/>
                          </a:lnTo>
                          <a:lnTo>
                            <a:pt x="84" y="306"/>
                          </a:lnTo>
                          <a:lnTo>
                            <a:pt x="80" y="304"/>
                          </a:lnTo>
                          <a:lnTo>
                            <a:pt x="77" y="304"/>
                          </a:lnTo>
                          <a:lnTo>
                            <a:pt x="72" y="302"/>
                          </a:lnTo>
                          <a:lnTo>
                            <a:pt x="68" y="301"/>
                          </a:lnTo>
                          <a:lnTo>
                            <a:pt x="64" y="301"/>
                          </a:lnTo>
                          <a:lnTo>
                            <a:pt x="61" y="300"/>
                          </a:lnTo>
                          <a:lnTo>
                            <a:pt x="58" y="298"/>
                          </a:lnTo>
                          <a:lnTo>
                            <a:pt x="54" y="296"/>
                          </a:lnTo>
                          <a:lnTo>
                            <a:pt x="51" y="295"/>
                          </a:lnTo>
                          <a:lnTo>
                            <a:pt x="48" y="294"/>
                          </a:lnTo>
                          <a:lnTo>
                            <a:pt x="45" y="291"/>
                          </a:lnTo>
                          <a:lnTo>
                            <a:pt x="42" y="289"/>
                          </a:lnTo>
                          <a:lnTo>
                            <a:pt x="39" y="287"/>
                          </a:lnTo>
                          <a:lnTo>
                            <a:pt x="36" y="285"/>
                          </a:lnTo>
                          <a:lnTo>
                            <a:pt x="30" y="281"/>
                          </a:lnTo>
                          <a:lnTo>
                            <a:pt x="25" y="276"/>
                          </a:lnTo>
                          <a:lnTo>
                            <a:pt x="21" y="270"/>
                          </a:lnTo>
                          <a:lnTo>
                            <a:pt x="18" y="265"/>
                          </a:lnTo>
                          <a:lnTo>
                            <a:pt x="14" y="261"/>
                          </a:lnTo>
                          <a:lnTo>
                            <a:pt x="11" y="256"/>
                          </a:lnTo>
                          <a:lnTo>
                            <a:pt x="8" y="251"/>
                          </a:lnTo>
                          <a:lnTo>
                            <a:pt x="5" y="246"/>
                          </a:lnTo>
                          <a:lnTo>
                            <a:pt x="3" y="243"/>
                          </a:lnTo>
                          <a:lnTo>
                            <a:pt x="2" y="239"/>
                          </a:lnTo>
                          <a:lnTo>
                            <a:pt x="1" y="236"/>
                          </a:lnTo>
                          <a:lnTo>
                            <a:pt x="0" y="234"/>
                          </a:lnTo>
                          <a:lnTo>
                            <a:pt x="0" y="232"/>
                          </a:lnTo>
                          <a:lnTo>
                            <a:pt x="0" y="232"/>
                          </a:lnTo>
                          <a:lnTo>
                            <a:pt x="1" y="230"/>
                          </a:lnTo>
                          <a:lnTo>
                            <a:pt x="2" y="228"/>
                          </a:lnTo>
                          <a:lnTo>
                            <a:pt x="3" y="226"/>
                          </a:lnTo>
                          <a:lnTo>
                            <a:pt x="4" y="224"/>
                          </a:lnTo>
                          <a:lnTo>
                            <a:pt x="6" y="222"/>
                          </a:lnTo>
                          <a:lnTo>
                            <a:pt x="8" y="218"/>
                          </a:lnTo>
                          <a:lnTo>
                            <a:pt x="11" y="214"/>
                          </a:lnTo>
                          <a:lnTo>
                            <a:pt x="13" y="209"/>
                          </a:lnTo>
                          <a:lnTo>
                            <a:pt x="17" y="204"/>
                          </a:lnTo>
                          <a:lnTo>
                            <a:pt x="19" y="200"/>
                          </a:lnTo>
                          <a:lnTo>
                            <a:pt x="21" y="197"/>
                          </a:lnTo>
                          <a:lnTo>
                            <a:pt x="22" y="193"/>
                          </a:lnTo>
                          <a:lnTo>
                            <a:pt x="24" y="189"/>
                          </a:lnTo>
                          <a:lnTo>
                            <a:pt x="26" y="186"/>
                          </a:lnTo>
                          <a:lnTo>
                            <a:pt x="29" y="182"/>
                          </a:lnTo>
                          <a:lnTo>
                            <a:pt x="31" y="177"/>
                          </a:lnTo>
                          <a:lnTo>
                            <a:pt x="34" y="173"/>
                          </a:lnTo>
                          <a:lnTo>
                            <a:pt x="37" y="167"/>
                          </a:lnTo>
                          <a:lnTo>
                            <a:pt x="40" y="162"/>
                          </a:lnTo>
                          <a:lnTo>
                            <a:pt x="42" y="156"/>
                          </a:lnTo>
                          <a:lnTo>
                            <a:pt x="44" y="150"/>
                          </a:lnTo>
                          <a:lnTo>
                            <a:pt x="45" y="148"/>
                          </a:lnTo>
                          <a:lnTo>
                            <a:pt x="47" y="145"/>
                          </a:lnTo>
                          <a:lnTo>
                            <a:pt x="48" y="141"/>
                          </a:lnTo>
                          <a:lnTo>
                            <a:pt x="50" y="138"/>
                          </a:lnTo>
                          <a:lnTo>
                            <a:pt x="52" y="135"/>
                          </a:lnTo>
                          <a:lnTo>
                            <a:pt x="53" y="132"/>
                          </a:lnTo>
                          <a:lnTo>
                            <a:pt x="55" y="129"/>
                          </a:lnTo>
                          <a:lnTo>
                            <a:pt x="57" y="127"/>
                          </a:lnTo>
                          <a:lnTo>
                            <a:pt x="58" y="123"/>
                          </a:lnTo>
                          <a:lnTo>
                            <a:pt x="59" y="120"/>
                          </a:lnTo>
                          <a:lnTo>
                            <a:pt x="61" y="117"/>
                          </a:lnTo>
                          <a:lnTo>
                            <a:pt x="62" y="114"/>
                          </a:lnTo>
                          <a:lnTo>
                            <a:pt x="63" y="110"/>
                          </a:lnTo>
                          <a:lnTo>
                            <a:pt x="65" y="108"/>
                          </a:lnTo>
                          <a:lnTo>
                            <a:pt x="66" y="105"/>
                          </a:lnTo>
                          <a:lnTo>
                            <a:pt x="68" y="102"/>
                          </a:lnTo>
                          <a:lnTo>
                            <a:pt x="69" y="98"/>
                          </a:lnTo>
                          <a:lnTo>
                            <a:pt x="71" y="95"/>
                          </a:lnTo>
                          <a:lnTo>
                            <a:pt x="73" y="92"/>
                          </a:lnTo>
                          <a:lnTo>
                            <a:pt x="74" y="89"/>
                          </a:lnTo>
                          <a:lnTo>
                            <a:pt x="78" y="83"/>
                          </a:lnTo>
                          <a:lnTo>
                            <a:pt x="81" y="77"/>
                          </a:lnTo>
                          <a:lnTo>
                            <a:pt x="81" y="74"/>
                          </a:lnTo>
                          <a:lnTo>
                            <a:pt x="82" y="71"/>
                          </a:lnTo>
                          <a:lnTo>
                            <a:pt x="84" y="69"/>
                          </a:lnTo>
                          <a:lnTo>
                            <a:pt x="85" y="66"/>
                          </a:lnTo>
                          <a:lnTo>
                            <a:pt x="88" y="60"/>
                          </a:lnTo>
                          <a:lnTo>
                            <a:pt x="91" y="55"/>
                          </a:lnTo>
                          <a:lnTo>
                            <a:pt x="93" y="51"/>
                          </a:lnTo>
                          <a:lnTo>
                            <a:pt x="95" y="46"/>
                          </a:lnTo>
                          <a:lnTo>
                            <a:pt x="98" y="41"/>
                          </a:lnTo>
                          <a:lnTo>
                            <a:pt x="100" y="38"/>
                          </a:lnTo>
                          <a:lnTo>
                            <a:pt x="100" y="34"/>
                          </a:lnTo>
                          <a:lnTo>
                            <a:pt x="102" y="31"/>
                          </a:lnTo>
                          <a:lnTo>
                            <a:pt x="103" y="28"/>
                          </a:lnTo>
                          <a:lnTo>
                            <a:pt x="105" y="26"/>
                          </a:lnTo>
                          <a:lnTo>
                            <a:pt x="106" y="23"/>
                          </a:lnTo>
                          <a:lnTo>
                            <a:pt x="107" y="22"/>
                          </a:lnTo>
                          <a:lnTo>
                            <a:pt x="269" y="0"/>
                          </a:lnTo>
                          <a:lnTo>
                            <a:pt x="269" y="0"/>
                          </a:lnTo>
                          <a:close/>
                        </a:path>
                      </a:pathLst>
                    </a:custGeom>
                    <a:solidFill>
                      <a:srgbClr val="eda3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6525720" y="2131200"/>
                      <a:ext cx="114480" cy="192600"/>
                    </a:xfrm>
                    <a:custGeom>
                      <a:avLst/>
                      <a:gdLst/>
                      <a:ahLst/>
                      <a:rect l="l" t="t" r="r" b="b"/>
                      <a:pathLst>
                        <a:path w="118" h="247">
                          <a:moveTo>
                            <a:pt x="110" y="0"/>
                          </a:moveTo>
                          <a:lnTo>
                            <a:pt x="118" y="73"/>
                          </a:lnTo>
                          <a:lnTo>
                            <a:pt x="104" y="93"/>
                          </a:lnTo>
                          <a:lnTo>
                            <a:pt x="117" y="158"/>
                          </a:lnTo>
                          <a:lnTo>
                            <a:pt x="96" y="171"/>
                          </a:lnTo>
                          <a:lnTo>
                            <a:pt x="96" y="171"/>
                          </a:lnTo>
                          <a:lnTo>
                            <a:pt x="96" y="173"/>
                          </a:lnTo>
                          <a:lnTo>
                            <a:pt x="96" y="177"/>
                          </a:lnTo>
                          <a:lnTo>
                            <a:pt x="96" y="181"/>
                          </a:lnTo>
                          <a:lnTo>
                            <a:pt x="95" y="183"/>
                          </a:lnTo>
                          <a:lnTo>
                            <a:pt x="95" y="187"/>
                          </a:lnTo>
                          <a:lnTo>
                            <a:pt x="95" y="190"/>
                          </a:lnTo>
                          <a:lnTo>
                            <a:pt x="95" y="193"/>
                          </a:lnTo>
                          <a:lnTo>
                            <a:pt x="94" y="196"/>
                          </a:lnTo>
                          <a:lnTo>
                            <a:pt x="93" y="199"/>
                          </a:lnTo>
                          <a:lnTo>
                            <a:pt x="92" y="203"/>
                          </a:lnTo>
                          <a:lnTo>
                            <a:pt x="92" y="207"/>
                          </a:lnTo>
                          <a:lnTo>
                            <a:pt x="90" y="211"/>
                          </a:lnTo>
                          <a:lnTo>
                            <a:pt x="88" y="214"/>
                          </a:lnTo>
                          <a:lnTo>
                            <a:pt x="86" y="216"/>
                          </a:lnTo>
                          <a:lnTo>
                            <a:pt x="85" y="220"/>
                          </a:lnTo>
                          <a:lnTo>
                            <a:pt x="83" y="224"/>
                          </a:lnTo>
                          <a:lnTo>
                            <a:pt x="82" y="227"/>
                          </a:lnTo>
                          <a:lnTo>
                            <a:pt x="81" y="230"/>
                          </a:lnTo>
                          <a:lnTo>
                            <a:pt x="79" y="234"/>
                          </a:lnTo>
                          <a:lnTo>
                            <a:pt x="75" y="238"/>
                          </a:lnTo>
                          <a:lnTo>
                            <a:pt x="73" y="243"/>
                          </a:lnTo>
                          <a:lnTo>
                            <a:pt x="71" y="246"/>
                          </a:lnTo>
                          <a:lnTo>
                            <a:pt x="71" y="247"/>
                          </a:lnTo>
                          <a:lnTo>
                            <a:pt x="62" y="196"/>
                          </a:lnTo>
                          <a:lnTo>
                            <a:pt x="63" y="195"/>
                          </a:lnTo>
                          <a:lnTo>
                            <a:pt x="65" y="190"/>
                          </a:lnTo>
                          <a:lnTo>
                            <a:pt x="68" y="187"/>
                          </a:lnTo>
                          <a:lnTo>
                            <a:pt x="70" y="183"/>
                          </a:lnTo>
                          <a:lnTo>
                            <a:pt x="73" y="179"/>
                          </a:lnTo>
                          <a:lnTo>
                            <a:pt x="77" y="176"/>
                          </a:lnTo>
                          <a:lnTo>
                            <a:pt x="79" y="170"/>
                          </a:lnTo>
                          <a:lnTo>
                            <a:pt x="82" y="165"/>
                          </a:lnTo>
                          <a:lnTo>
                            <a:pt x="84" y="160"/>
                          </a:lnTo>
                          <a:lnTo>
                            <a:pt x="86" y="156"/>
                          </a:lnTo>
                          <a:lnTo>
                            <a:pt x="88" y="150"/>
                          </a:lnTo>
                          <a:lnTo>
                            <a:pt x="90" y="145"/>
                          </a:lnTo>
                          <a:lnTo>
                            <a:pt x="91" y="140"/>
                          </a:lnTo>
                          <a:lnTo>
                            <a:pt x="92" y="136"/>
                          </a:lnTo>
                          <a:lnTo>
                            <a:pt x="91" y="131"/>
                          </a:lnTo>
                          <a:lnTo>
                            <a:pt x="90" y="126"/>
                          </a:lnTo>
                          <a:lnTo>
                            <a:pt x="88" y="122"/>
                          </a:lnTo>
                          <a:lnTo>
                            <a:pt x="87" y="119"/>
                          </a:lnTo>
                          <a:lnTo>
                            <a:pt x="84" y="115"/>
                          </a:lnTo>
                          <a:lnTo>
                            <a:pt x="83" y="112"/>
                          </a:lnTo>
                          <a:lnTo>
                            <a:pt x="80" y="109"/>
                          </a:lnTo>
                          <a:lnTo>
                            <a:pt x="78" y="107"/>
                          </a:lnTo>
                          <a:lnTo>
                            <a:pt x="72" y="102"/>
                          </a:lnTo>
                          <a:lnTo>
                            <a:pt x="67" y="100"/>
                          </a:lnTo>
                          <a:lnTo>
                            <a:pt x="64" y="97"/>
                          </a:lnTo>
                          <a:lnTo>
                            <a:pt x="64" y="97"/>
                          </a:lnTo>
                          <a:lnTo>
                            <a:pt x="102" y="79"/>
                          </a:lnTo>
                          <a:lnTo>
                            <a:pt x="92" y="41"/>
                          </a:lnTo>
                          <a:lnTo>
                            <a:pt x="91" y="41"/>
                          </a:lnTo>
                          <a:lnTo>
                            <a:pt x="90" y="41"/>
                          </a:lnTo>
                          <a:lnTo>
                            <a:pt x="88" y="41"/>
                          </a:lnTo>
                          <a:lnTo>
                            <a:pt x="85" y="41"/>
                          </a:lnTo>
                          <a:lnTo>
                            <a:pt x="81" y="41"/>
                          </a:lnTo>
                          <a:lnTo>
                            <a:pt x="75" y="42"/>
                          </a:lnTo>
                          <a:lnTo>
                            <a:pt x="72" y="42"/>
                          </a:lnTo>
                          <a:lnTo>
                            <a:pt x="69" y="42"/>
                          </a:lnTo>
                          <a:lnTo>
                            <a:pt x="65" y="42"/>
                          </a:lnTo>
                          <a:lnTo>
                            <a:pt x="62" y="43"/>
                          </a:lnTo>
                          <a:lnTo>
                            <a:pt x="57" y="43"/>
                          </a:lnTo>
                          <a:lnTo>
                            <a:pt x="52" y="43"/>
                          </a:lnTo>
                          <a:lnTo>
                            <a:pt x="46" y="43"/>
                          </a:lnTo>
                          <a:lnTo>
                            <a:pt x="42" y="43"/>
                          </a:lnTo>
                          <a:lnTo>
                            <a:pt x="37" y="43"/>
                          </a:lnTo>
                          <a:lnTo>
                            <a:pt x="31" y="43"/>
                          </a:lnTo>
                          <a:lnTo>
                            <a:pt x="26" y="43"/>
                          </a:lnTo>
                          <a:lnTo>
                            <a:pt x="22" y="43"/>
                          </a:lnTo>
                          <a:lnTo>
                            <a:pt x="17" y="43"/>
                          </a:lnTo>
                          <a:lnTo>
                            <a:pt x="13" y="43"/>
                          </a:lnTo>
                          <a:lnTo>
                            <a:pt x="9" y="43"/>
                          </a:lnTo>
                          <a:lnTo>
                            <a:pt x="6" y="43"/>
                          </a:lnTo>
                          <a:lnTo>
                            <a:pt x="1" y="43"/>
                          </a:lnTo>
                          <a:lnTo>
                            <a:pt x="0" y="43"/>
                          </a:lnTo>
                          <a:lnTo>
                            <a:pt x="110" y="0"/>
                          </a:lnTo>
                          <a:lnTo>
                            <a:pt x="110" y="0"/>
                          </a:lnTo>
                          <a:close/>
                        </a:path>
                      </a:pathLst>
                    </a:custGeom>
                    <a:solidFill>
                      <a:srgbClr val="a84a3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6461640" y="2327040"/>
                      <a:ext cx="69120" cy="56880"/>
                    </a:xfrm>
                    <a:custGeom>
                      <a:avLst/>
                      <a:gdLst/>
                      <a:ahLst/>
                      <a:rect l="l" t="t" r="r" b="b"/>
                      <a:pathLst>
                        <a:path w="71" h="73">
                          <a:moveTo>
                            <a:pt x="0" y="0"/>
                          </a:moveTo>
                          <a:lnTo>
                            <a:pt x="71" y="0"/>
                          </a:lnTo>
                          <a:lnTo>
                            <a:pt x="38" y="73"/>
                          </a:lnTo>
                          <a:lnTo>
                            <a:pt x="22" y="55"/>
                          </a:lnTo>
                          <a:lnTo>
                            <a:pt x="0" y="0"/>
                          </a:lnTo>
                          <a:lnTo>
                            <a:pt x="0" y="0"/>
                          </a:lnTo>
                          <a:close/>
                        </a:path>
                      </a:pathLst>
                    </a:custGeom>
                    <a:solidFill>
                      <a:srgbClr val="a84a3d"/>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41" name=""/>
                    <p:cNvSpPr/>
                    <p:nvPr/>
                  </p:nvSpPr>
                  <p:spPr>
                    <a:xfrm>
                      <a:off x="6396480" y="2090880"/>
                      <a:ext cx="258120" cy="171360"/>
                    </a:xfrm>
                    <a:custGeom>
                      <a:avLst/>
                      <a:gdLst/>
                      <a:ahLst/>
                      <a:rect l="l" t="t" r="r" b="b"/>
                      <a:pathLst>
                        <a:path w="266" h="220">
                          <a:moveTo>
                            <a:pt x="24" y="37"/>
                          </a:moveTo>
                          <a:lnTo>
                            <a:pt x="24" y="38"/>
                          </a:lnTo>
                          <a:lnTo>
                            <a:pt x="25" y="41"/>
                          </a:lnTo>
                          <a:lnTo>
                            <a:pt x="25" y="43"/>
                          </a:lnTo>
                          <a:lnTo>
                            <a:pt x="26" y="47"/>
                          </a:lnTo>
                          <a:lnTo>
                            <a:pt x="26" y="50"/>
                          </a:lnTo>
                          <a:lnTo>
                            <a:pt x="27" y="55"/>
                          </a:lnTo>
                          <a:lnTo>
                            <a:pt x="27" y="58"/>
                          </a:lnTo>
                          <a:lnTo>
                            <a:pt x="27" y="64"/>
                          </a:lnTo>
                          <a:lnTo>
                            <a:pt x="27" y="66"/>
                          </a:lnTo>
                          <a:lnTo>
                            <a:pt x="27" y="70"/>
                          </a:lnTo>
                          <a:lnTo>
                            <a:pt x="27" y="73"/>
                          </a:lnTo>
                          <a:lnTo>
                            <a:pt x="27" y="76"/>
                          </a:lnTo>
                          <a:lnTo>
                            <a:pt x="26" y="79"/>
                          </a:lnTo>
                          <a:lnTo>
                            <a:pt x="26" y="82"/>
                          </a:lnTo>
                          <a:lnTo>
                            <a:pt x="26" y="85"/>
                          </a:lnTo>
                          <a:lnTo>
                            <a:pt x="26" y="90"/>
                          </a:lnTo>
                          <a:lnTo>
                            <a:pt x="25" y="93"/>
                          </a:lnTo>
                          <a:lnTo>
                            <a:pt x="25" y="97"/>
                          </a:lnTo>
                          <a:lnTo>
                            <a:pt x="24" y="102"/>
                          </a:lnTo>
                          <a:lnTo>
                            <a:pt x="24" y="107"/>
                          </a:lnTo>
                          <a:lnTo>
                            <a:pt x="23" y="111"/>
                          </a:lnTo>
                          <a:lnTo>
                            <a:pt x="23" y="114"/>
                          </a:lnTo>
                          <a:lnTo>
                            <a:pt x="23" y="119"/>
                          </a:lnTo>
                          <a:lnTo>
                            <a:pt x="22" y="124"/>
                          </a:lnTo>
                          <a:lnTo>
                            <a:pt x="21" y="129"/>
                          </a:lnTo>
                          <a:lnTo>
                            <a:pt x="20" y="133"/>
                          </a:lnTo>
                          <a:lnTo>
                            <a:pt x="19" y="138"/>
                          </a:lnTo>
                          <a:lnTo>
                            <a:pt x="18" y="143"/>
                          </a:lnTo>
                          <a:lnTo>
                            <a:pt x="16" y="148"/>
                          </a:lnTo>
                          <a:lnTo>
                            <a:pt x="16" y="152"/>
                          </a:lnTo>
                          <a:lnTo>
                            <a:pt x="14" y="157"/>
                          </a:lnTo>
                          <a:lnTo>
                            <a:pt x="14" y="162"/>
                          </a:lnTo>
                          <a:lnTo>
                            <a:pt x="12" y="167"/>
                          </a:lnTo>
                          <a:lnTo>
                            <a:pt x="11" y="171"/>
                          </a:lnTo>
                          <a:lnTo>
                            <a:pt x="10" y="175"/>
                          </a:lnTo>
                          <a:lnTo>
                            <a:pt x="10" y="180"/>
                          </a:lnTo>
                          <a:lnTo>
                            <a:pt x="8" y="184"/>
                          </a:lnTo>
                          <a:lnTo>
                            <a:pt x="7" y="188"/>
                          </a:lnTo>
                          <a:lnTo>
                            <a:pt x="6" y="191"/>
                          </a:lnTo>
                          <a:lnTo>
                            <a:pt x="5" y="196"/>
                          </a:lnTo>
                          <a:lnTo>
                            <a:pt x="4" y="199"/>
                          </a:lnTo>
                          <a:lnTo>
                            <a:pt x="4" y="202"/>
                          </a:lnTo>
                          <a:lnTo>
                            <a:pt x="3" y="205"/>
                          </a:lnTo>
                          <a:lnTo>
                            <a:pt x="3" y="209"/>
                          </a:lnTo>
                          <a:lnTo>
                            <a:pt x="2" y="213"/>
                          </a:lnTo>
                          <a:lnTo>
                            <a:pt x="1" y="217"/>
                          </a:lnTo>
                          <a:lnTo>
                            <a:pt x="0" y="219"/>
                          </a:lnTo>
                          <a:lnTo>
                            <a:pt x="0" y="220"/>
                          </a:lnTo>
                          <a:lnTo>
                            <a:pt x="0" y="220"/>
                          </a:lnTo>
                          <a:lnTo>
                            <a:pt x="3" y="219"/>
                          </a:lnTo>
                          <a:lnTo>
                            <a:pt x="4" y="218"/>
                          </a:lnTo>
                          <a:lnTo>
                            <a:pt x="8" y="217"/>
                          </a:lnTo>
                          <a:lnTo>
                            <a:pt x="13" y="216"/>
                          </a:lnTo>
                          <a:lnTo>
                            <a:pt x="18" y="214"/>
                          </a:lnTo>
                          <a:lnTo>
                            <a:pt x="23" y="212"/>
                          </a:lnTo>
                          <a:lnTo>
                            <a:pt x="28" y="210"/>
                          </a:lnTo>
                          <a:lnTo>
                            <a:pt x="33" y="208"/>
                          </a:lnTo>
                          <a:lnTo>
                            <a:pt x="38" y="205"/>
                          </a:lnTo>
                          <a:lnTo>
                            <a:pt x="43" y="201"/>
                          </a:lnTo>
                          <a:lnTo>
                            <a:pt x="46" y="199"/>
                          </a:lnTo>
                          <a:lnTo>
                            <a:pt x="49" y="196"/>
                          </a:lnTo>
                          <a:lnTo>
                            <a:pt x="52" y="195"/>
                          </a:lnTo>
                          <a:lnTo>
                            <a:pt x="54" y="193"/>
                          </a:lnTo>
                          <a:lnTo>
                            <a:pt x="55" y="193"/>
                          </a:lnTo>
                          <a:lnTo>
                            <a:pt x="54" y="192"/>
                          </a:lnTo>
                          <a:lnTo>
                            <a:pt x="53" y="189"/>
                          </a:lnTo>
                          <a:lnTo>
                            <a:pt x="52" y="187"/>
                          </a:lnTo>
                          <a:lnTo>
                            <a:pt x="52" y="184"/>
                          </a:lnTo>
                          <a:lnTo>
                            <a:pt x="51" y="181"/>
                          </a:lnTo>
                          <a:lnTo>
                            <a:pt x="51" y="178"/>
                          </a:lnTo>
                          <a:lnTo>
                            <a:pt x="49" y="174"/>
                          </a:lnTo>
                          <a:lnTo>
                            <a:pt x="49" y="171"/>
                          </a:lnTo>
                          <a:lnTo>
                            <a:pt x="48" y="167"/>
                          </a:lnTo>
                          <a:lnTo>
                            <a:pt x="48" y="164"/>
                          </a:lnTo>
                          <a:lnTo>
                            <a:pt x="48" y="160"/>
                          </a:lnTo>
                          <a:lnTo>
                            <a:pt x="49" y="157"/>
                          </a:lnTo>
                          <a:lnTo>
                            <a:pt x="49" y="154"/>
                          </a:lnTo>
                          <a:lnTo>
                            <a:pt x="51" y="152"/>
                          </a:lnTo>
                          <a:lnTo>
                            <a:pt x="52" y="148"/>
                          </a:lnTo>
                          <a:lnTo>
                            <a:pt x="53" y="145"/>
                          </a:lnTo>
                          <a:lnTo>
                            <a:pt x="56" y="143"/>
                          </a:lnTo>
                          <a:lnTo>
                            <a:pt x="58" y="141"/>
                          </a:lnTo>
                          <a:lnTo>
                            <a:pt x="62" y="137"/>
                          </a:lnTo>
                          <a:lnTo>
                            <a:pt x="68" y="135"/>
                          </a:lnTo>
                          <a:lnTo>
                            <a:pt x="73" y="134"/>
                          </a:lnTo>
                          <a:lnTo>
                            <a:pt x="79" y="134"/>
                          </a:lnTo>
                          <a:lnTo>
                            <a:pt x="83" y="135"/>
                          </a:lnTo>
                          <a:lnTo>
                            <a:pt x="88" y="137"/>
                          </a:lnTo>
                          <a:lnTo>
                            <a:pt x="89" y="139"/>
                          </a:lnTo>
                          <a:lnTo>
                            <a:pt x="92" y="143"/>
                          </a:lnTo>
                          <a:lnTo>
                            <a:pt x="92" y="146"/>
                          </a:lnTo>
                          <a:lnTo>
                            <a:pt x="93" y="151"/>
                          </a:lnTo>
                          <a:lnTo>
                            <a:pt x="92" y="152"/>
                          </a:lnTo>
                          <a:lnTo>
                            <a:pt x="92" y="156"/>
                          </a:lnTo>
                          <a:lnTo>
                            <a:pt x="92" y="158"/>
                          </a:lnTo>
                          <a:lnTo>
                            <a:pt x="92" y="159"/>
                          </a:lnTo>
                          <a:lnTo>
                            <a:pt x="92" y="159"/>
                          </a:lnTo>
                          <a:lnTo>
                            <a:pt x="94" y="158"/>
                          </a:lnTo>
                          <a:lnTo>
                            <a:pt x="97" y="155"/>
                          </a:lnTo>
                          <a:lnTo>
                            <a:pt x="101" y="153"/>
                          </a:lnTo>
                          <a:lnTo>
                            <a:pt x="105" y="150"/>
                          </a:lnTo>
                          <a:lnTo>
                            <a:pt x="111" y="146"/>
                          </a:lnTo>
                          <a:lnTo>
                            <a:pt x="114" y="143"/>
                          </a:lnTo>
                          <a:lnTo>
                            <a:pt x="117" y="140"/>
                          </a:lnTo>
                          <a:lnTo>
                            <a:pt x="120" y="137"/>
                          </a:lnTo>
                          <a:lnTo>
                            <a:pt x="123" y="135"/>
                          </a:lnTo>
                          <a:lnTo>
                            <a:pt x="126" y="132"/>
                          </a:lnTo>
                          <a:lnTo>
                            <a:pt x="129" y="128"/>
                          </a:lnTo>
                          <a:lnTo>
                            <a:pt x="133" y="124"/>
                          </a:lnTo>
                          <a:lnTo>
                            <a:pt x="136" y="120"/>
                          </a:lnTo>
                          <a:lnTo>
                            <a:pt x="139" y="116"/>
                          </a:lnTo>
                          <a:lnTo>
                            <a:pt x="141" y="113"/>
                          </a:lnTo>
                          <a:lnTo>
                            <a:pt x="144" y="109"/>
                          </a:lnTo>
                          <a:lnTo>
                            <a:pt x="147" y="106"/>
                          </a:lnTo>
                          <a:lnTo>
                            <a:pt x="149" y="102"/>
                          </a:lnTo>
                          <a:lnTo>
                            <a:pt x="151" y="99"/>
                          </a:lnTo>
                          <a:lnTo>
                            <a:pt x="153" y="96"/>
                          </a:lnTo>
                          <a:lnTo>
                            <a:pt x="155" y="95"/>
                          </a:lnTo>
                          <a:lnTo>
                            <a:pt x="157" y="92"/>
                          </a:lnTo>
                          <a:lnTo>
                            <a:pt x="158" y="91"/>
                          </a:lnTo>
                          <a:lnTo>
                            <a:pt x="158" y="90"/>
                          </a:lnTo>
                          <a:lnTo>
                            <a:pt x="163" y="90"/>
                          </a:lnTo>
                          <a:lnTo>
                            <a:pt x="166" y="89"/>
                          </a:lnTo>
                          <a:lnTo>
                            <a:pt x="170" y="89"/>
                          </a:lnTo>
                          <a:lnTo>
                            <a:pt x="174" y="89"/>
                          </a:lnTo>
                          <a:lnTo>
                            <a:pt x="178" y="89"/>
                          </a:lnTo>
                          <a:lnTo>
                            <a:pt x="182" y="88"/>
                          </a:lnTo>
                          <a:lnTo>
                            <a:pt x="187" y="87"/>
                          </a:lnTo>
                          <a:lnTo>
                            <a:pt x="193" y="85"/>
                          </a:lnTo>
                          <a:lnTo>
                            <a:pt x="197" y="85"/>
                          </a:lnTo>
                          <a:lnTo>
                            <a:pt x="202" y="83"/>
                          </a:lnTo>
                          <a:lnTo>
                            <a:pt x="208" y="81"/>
                          </a:lnTo>
                          <a:lnTo>
                            <a:pt x="214" y="79"/>
                          </a:lnTo>
                          <a:lnTo>
                            <a:pt x="218" y="78"/>
                          </a:lnTo>
                          <a:lnTo>
                            <a:pt x="223" y="76"/>
                          </a:lnTo>
                          <a:lnTo>
                            <a:pt x="228" y="73"/>
                          </a:lnTo>
                          <a:lnTo>
                            <a:pt x="232" y="70"/>
                          </a:lnTo>
                          <a:lnTo>
                            <a:pt x="237" y="67"/>
                          </a:lnTo>
                          <a:lnTo>
                            <a:pt x="240" y="64"/>
                          </a:lnTo>
                          <a:lnTo>
                            <a:pt x="245" y="61"/>
                          </a:lnTo>
                          <a:lnTo>
                            <a:pt x="248" y="58"/>
                          </a:lnTo>
                          <a:lnTo>
                            <a:pt x="252" y="56"/>
                          </a:lnTo>
                          <a:lnTo>
                            <a:pt x="255" y="54"/>
                          </a:lnTo>
                          <a:lnTo>
                            <a:pt x="257" y="51"/>
                          </a:lnTo>
                          <a:lnTo>
                            <a:pt x="259" y="48"/>
                          </a:lnTo>
                          <a:lnTo>
                            <a:pt x="262" y="47"/>
                          </a:lnTo>
                          <a:lnTo>
                            <a:pt x="264" y="44"/>
                          </a:lnTo>
                          <a:lnTo>
                            <a:pt x="266" y="43"/>
                          </a:lnTo>
                          <a:lnTo>
                            <a:pt x="264" y="42"/>
                          </a:lnTo>
                          <a:lnTo>
                            <a:pt x="263" y="41"/>
                          </a:lnTo>
                          <a:lnTo>
                            <a:pt x="259" y="39"/>
                          </a:lnTo>
                          <a:lnTo>
                            <a:pt x="255" y="37"/>
                          </a:lnTo>
                          <a:lnTo>
                            <a:pt x="251" y="34"/>
                          </a:lnTo>
                          <a:lnTo>
                            <a:pt x="245" y="30"/>
                          </a:lnTo>
                          <a:lnTo>
                            <a:pt x="241" y="28"/>
                          </a:lnTo>
                          <a:lnTo>
                            <a:pt x="238" y="26"/>
                          </a:lnTo>
                          <a:lnTo>
                            <a:pt x="235" y="25"/>
                          </a:lnTo>
                          <a:lnTo>
                            <a:pt x="231" y="23"/>
                          </a:lnTo>
                          <a:lnTo>
                            <a:pt x="227" y="21"/>
                          </a:lnTo>
                          <a:lnTo>
                            <a:pt x="222" y="18"/>
                          </a:lnTo>
                          <a:lnTo>
                            <a:pt x="218" y="17"/>
                          </a:lnTo>
                          <a:lnTo>
                            <a:pt x="214" y="15"/>
                          </a:lnTo>
                          <a:lnTo>
                            <a:pt x="209" y="13"/>
                          </a:lnTo>
                          <a:lnTo>
                            <a:pt x="204" y="11"/>
                          </a:lnTo>
                          <a:lnTo>
                            <a:pt x="199" y="10"/>
                          </a:lnTo>
                          <a:lnTo>
                            <a:pt x="195" y="8"/>
                          </a:lnTo>
                          <a:lnTo>
                            <a:pt x="190" y="7"/>
                          </a:lnTo>
                          <a:lnTo>
                            <a:pt x="184" y="5"/>
                          </a:lnTo>
                          <a:lnTo>
                            <a:pt x="178" y="3"/>
                          </a:lnTo>
                          <a:lnTo>
                            <a:pt x="174" y="3"/>
                          </a:lnTo>
                          <a:lnTo>
                            <a:pt x="168" y="2"/>
                          </a:lnTo>
                          <a:lnTo>
                            <a:pt x="162" y="1"/>
                          </a:lnTo>
                          <a:lnTo>
                            <a:pt x="157" y="1"/>
                          </a:lnTo>
                          <a:lnTo>
                            <a:pt x="151" y="1"/>
                          </a:lnTo>
                          <a:lnTo>
                            <a:pt x="148" y="0"/>
                          </a:lnTo>
                          <a:lnTo>
                            <a:pt x="145" y="0"/>
                          </a:lnTo>
                          <a:lnTo>
                            <a:pt x="142" y="0"/>
                          </a:lnTo>
                          <a:lnTo>
                            <a:pt x="139" y="0"/>
                          </a:lnTo>
                          <a:lnTo>
                            <a:pt x="134" y="0"/>
                          </a:lnTo>
                          <a:lnTo>
                            <a:pt x="128" y="1"/>
                          </a:lnTo>
                          <a:lnTo>
                            <a:pt x="122" y="1"/>
                          </a:lnTo>
                          <a:lnTo>
                            <a:pt x="117" y="2"/>
                          </a:lnTo>
                          <a:lnTo>
                            <a:pt x="111" y="3"/>
                          </a:lnTo>
                          <a:lnTo>
                            <a:pt x="105" y="5"/>
                          </a:lnTo>
                          <a:lnTo>
                            <a:pt x="100" y="6"/>
                          </a:lnTo>
                          <a:lnTo>
                            <a:pt x="94" y="7"/>
                          </a:lnTo>
                          <a:lnTo>
                            <a:pt x="89" y="9"/>
                          </a:lnTo>
                          <a:lnTo>
                            <a:pt x="84" y="11"/>
                          </a:lnTo>
                          <a:lnTo>
                            <a:pt x="80" y="12"/>
                          </a:lnTo>
                          <a:lnTo>
                            <a:pt x="75" y="14"/>
                          </a:lnTo>
                          <a:lnTo>
                            <a:pt x="69" y="16"/>
                          </a:lnTo>
                          <a:lnTo>
                            <a:pt x="65" y="18"/>
                          </a:lnTo>
                          <a:lnTo>
                            <a:pt x="61" y="19"/>
                          </a:lnTo>
                          <a:lnTo>
                            <a:pt x="56" y="21"/>
                          </a:lnTo>
                          <a:lnTo>
                            <a:pt x="52" y="22"/>
                          </a:lnTo>
                          <a:lnTo>
                            <a:pt x="48" y="25"/>
                          </a:lnTo>
                          <a:lnTo>
                            <a:pt x="44" y="26"/>
                          </a:lnTo>
                          <a:lnTo>
                            <a:pt x="42" y="28"/>
                          </a:lnTo>
                          <a:lnTo>
                            <a:pt x="39" y="30"/>
                          </a:lnTo>
                          <a:lnTo>
                            <a:pt x="36" y="31"/>
                          </a:lnTo>
                          <a:lnTo>
                            <a:pt x="31" y="34"/>
                          </a:lnTo>
                          <a:lnTo>
                            <a:pt x="27" y="36"/>
                          </a:lnTo>
                          <a:lnTo>
                            <a:pt x="25" y="37"/>
                          </a:lnTo>
                          <a:lnTo>
                            <a:pt x="24" y="37"/>
                          </a:lnTo>
                          <a:lnTo>
                            <a:pt x="24" y="37"/>
                          </a:lnTo>
                          <a:close/>
                        </a:path>
                      </a:pathLst>
                    </a:custGeom>
                    <a:solidFill>
                      <a:srgbClr val="1a1a1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6432480" y="2098800"/>
                      <a:ext cx="184320" cy="51120"/>
                    </a:xfrm>
                    <a:custGeom>
                      <a:avLst/>
                      <a:gdLst/>
                      <a:ahLst/>
                      <a:rect l="l" t="t" r="r" b="b"/>
                      <a:pathLst>
                        <a:path w="190" h="66">
                          <a:moveTo>
                            <a:pt x="0" y="27"/>
                          </a:moveTo>
                          <a:lnTo>
                            <a:pt x="0" y="27"/>
                          </a:lnTo>
                          <a:lnTo>
                            <a:pt x="2" y="27"/>
                          </a:lnTo>
                          <a:lnTo>
                            <a:pt x="5" y="25"/>
                          </a:lnTo>
                          <a:lnTo>
                            <a:pt x="8" y="24"/>
                          </a:lnTo>
                          <a:lnTo>
                            <a:pt x="12" y="22"/>
                          </a:lnTo>
                          <a:lnTo>
                            <a:pt x="18" y="20"/>
                          </a:lnTo>
                          <a:lnTo>
                            <a:pt x="21" y="18"/>
                          </a:lnTo>
                          <a:lnTo>
                            <a:pt x="24" y="17"/>
                          </a:lnTo>
                          <a:lnTo>
                            <a:pt x="27" y="16"/>
                          </a:lnTo>
                          <a:lnTo>
                            <a:pt x="31" y="15"/>
                          </a:lnTo>
                          <a:lnTo>
                            <a:pt x="34" y="13"/>
                          </a:lnTo>
                          <a:lnTo>
                            <a:pt x="38" y="12"/>
                          </a:lnTo>
                          <a:lnTo>
                            <a:pt x="42" y="11"/>
                          </a:lnTo>
                          <a:lnTo>
                            <a:pt x="44" y="10"/>
                          </a:lnTo>
                          <a:lnTo>
                            <a:pt x="48" y="8"/>
                          </a:lnTo>
                          <a:lnTo>
                            <a:pt x="52" y="8"/>
                          </a:lnTo>
                          <a:lnTo>
                            <a:pt x="56" y="7"/>
                          </a:lnTo>
                          <a:lnTo>
                            <a:pt x="61" y="6"/>
                          </a:lnTo>
                          <a:lnTo>
                            <a:pt x="64" y="5"/>
                          </a:lnTo>
                          <a:lnTo>
                            <a:pt x="68" y="4"/>
                          </a:lnTo>
                          <a:lnTo>
                            <a:pt x="72" y="3"/>
                          </a:lnTo>
                          <a:lnTo>
                            <a:pt x="76" y="3"/>
                          </a:lnTo>
                          <a:lnTo>
                            <a:pt x="80" y="2"/>
                          </a:lnTo>
                          <a:lnTo>
                            <a:pt x="84" y="1"/>
                          </a:lnTo>
                          <a:lnTo>
                            <a:pt x="88" y="1"/>
                          </a:lnTo>
                          <a:lnTo>
                            <a:pt x="92" y="1"/>
                          </a:lnTo>
                          <a:lnTo>
                            <a:pt x="96" y="1"/>
                          </a:lnTo>
                          <a:lnTo>
                            <a:pt x="100" y="0"/>
                          </a:lnTo>
                          <a:lnTo>
                            <a:pt x="102" y="0"/>
                          </a:lnTo>
                          <a:lnTo>
                            <a:pt x="106" y="1"/>
                          </a:lnTo>
                          <a:lnTo>
                            <a:pt x="109" y="1"/>
                          </a:lnTo>
                          <a:lnTo>
                            <a:pt x="113" y="1"/>
                          </a:lnTo>
                          <a:lnTo>
                            <a:pt x="116" y="1"/>
                          </a:lnTo>
                          <a:lnTo>
                            <a:pt x="120" y="2"/>
                          </a:lnTo>
                          <a:lnTo>
                            <a:pt x="124" y="2"/>
                          </a:lnTo>
                          <a:lnTo>
                            <a:pt x="131" y="4"/>
                          </a:lnTo>
                          <a:lnTo>
                            <a:pt x="136" y="5"/>
                          </a:lnTo>
                          <a:lnTo>
                            <a:pt x="141" y="7"/>
                          </a:lnTo>
                          <a:lnTo>
                            <a:pt x="144" y="8"/>
                          </a:lnTo>
                          <a:lnTo>
                            <a:pt x="148" y="9"/>
                          </a:lnTo>
                          <a:lnTo>
                            <a:pt x="151" y="11"/>
                          </a:lnTo>
                          <a:lnTo>
                            <a:pt x="154" y="12"/>
                          </a:lnTo>
                          <a:lnTo>
                            <a:pt x="158" y="14"/>
                          </a:lnTo>
                          <a:lnTo>
                            <a:pt x="160" y="15"/>
                          </a:lnTo>
                          <a:lnTo>
                            <a:pt x="158" y="16"/>
                          </a:lnTo>
                          <a:lnTo>
                            <a:pt x="153" y="20"/>
                          </a:lnTo>
                          <a:lnTo>
                            <a:pt x="149" y="22"/>
                          </a:lnTo>
                          <a:lnTo>
                            <a:pt x="145" y="25"/>
                          </a:lnTo>
                          <a:lnTo>
                            <a:pt x="142" y="26"/>
                          </a:lnTo>
                          <a:lnTo>
                            <a:pt x="141" y="27"/>
                          </a:lnTo>
                          <a:lnTo>
                            <a:pt x="138" y="28"/>
                          </a:lnTo>
                          <a:lnTo>
                            <a:pt x="135" y="29"/>
                          </a:lnTo>
                          <a:lnTo>
                            <a:pt x="131" y="30"/>
                          </a:lnTo>
                          <a:lnTo>
                            <a:pt x="127" y="31"/>
                          </a:lnTo>
                          <a:lnTo>
                            <a:pt x="123" y="32"/>
                          </a:lnTo>
                          <a:lnTo>
                            <a:pt x="121" y="33"/>
                          </a:lnTo>
                          <a:lnTo>
                            <a:pt x="116" y="34"/>
                          </a:lnTo>
                          <a:lnTo>
                            <a:pt x="113" y="35"/>
                          </a:lnTo>
                          <a:lnTo>
                            <a:pt x="109" y="36"/>
                          </a:lnTo>
                          <a:lnTo>
                            <a:pt x="105" y="37"/>
                          </a:lnTo>
                          <a:lnTo>
                            <a:pt x="102" y="37"/>
                          </a:lnTo>
                          <a:lnTo>
                            <a:pt x="100" y="37"/>
                          </a:lnTo>
                          <a:lnTo>
                            <a:pt x="96" y="38"/>
                          </a:lnTo>
                          <a:lnTo>
                            <a:pt x="95" y="38"/>
                          </a:lnTo>
                          <a:lnTo>
                            <a:pt x="91" y="39"/>
                          </a:lnTo>
                          <a:lnTo>
                            <a:pt x="90" y="40"/>
                          </a:lnTo>
                          <a:lnTo>
                            <a:pt x="91" y="40"/>
                          </a:lnTo>
                          <a:lnTo>
                            <a:pt x="95" y="40"/>
                          </a:lnTo>
                          <a:lnTo>
                            <a:pt x="97" y="41"/>
                          </a:lnTo>
                          <a:lnTo>
                            <a:pt x="100" y="41"/>
                          </a:lnTo>
                          <a:lnTo>
                            <a:pt x="103" y="42"/>
                          </a:lnTo>
                          <a:lnTo>
                            <a:pt x="107" y="43"/>
                          </a:lnTo>
                          <a:lnTo>
                            <a:pt x="110" y="43"/>
                          </a:lnTo>
                          <a:lnTo>
                            <a:pt x="115" y="44"/>
                          </a:lnTo>
                          <a:lnTo>
                            <a:pt x="120" y="44"/>
                          </a:lnTo>
                          <a:lnTo>
                            <a:pt x="124" y="45"/>
                          </a:lnTo>
                          <a:lnTo>
                            <a:pt x="128" y="45"/>
                          </a:lnTo>
                          <a:lnTo>
                            <a:pt x="133" y="46"/>
                          </a:lnTo>
                          <a:lnTo>
                            <a:pt x="138" y="46"/>
                          </a:lnTo>
                          <a:lnTo>
                            <a:pt x="142" y="46"/>
                          </a:lnTo>
                          <a:lnTo>
                            <a:pt x="147" y="46"/>
                          </a:lnTo>
                          <a:lnTo>
                            <a:pt x="152" y="46"/>
                          </a:lnTo>
                          <a:lnTo>
                            <a:pt x="156" y="46"/>
                          </a:lnTo>
                          <a:lnTo>
                            <a:pt x="160" y="46"/>
                          </a:lnTo>
                          <a:lnTo>
                            <a:pt x="164" y="45"/>
                          </a:lnTo>
                          <a:lnTo>
                            <a:pt x="168" y="45"/>
                          </a:lnTo>
                          <a:lnTo>
                            <a:pt x="172" y="44"/>
                          </a:lnTo>
                          <a:lnTo>
                            <a:pt x="176" y="44"/>
                          </a:lnTo>
                          <a:lnTo>
                            <a:pt x="179" y="44"/>
                          </a:lnTo>
                          <a:lnTo>
                            <a:pt x="181" y="43"/>
                          </a:lnTo>
                          <a:lnTo>
                            <a:pt x="183" y="42"/>
                          </a:lnTo>
                          <a:lnTo>
                            <a:pt x="186" y="42"/>
                          </a:lnTo>
                          <a:lnTo>
                            <a:pt x="189" y="42"/>
                          </a:lnTo>
                          <a:lnTo>
                            <a:pt x="190" y="42"/>
                          </a:lnTo>
                          <a:lnTo>
                            <a:pt x="189" y="42"/>
                          </a:lnTo>
                          <a:lnTo>
                            <a:pt x="188" y="42"/>
                          </a:lnTo>
                          <a:lnTo>
                            <a:pt x="185" y="43"/>
                          </a:lnTo>
                          <a:lnTo>
                            <a:pt x="182" y="45"/>
                          </a:lnTo>
                          <a:lnTo>
                            <a:pt x="179" y="46"/>
                          </a:lnTo>
                          <a:lnTo>
                            <a:pt x="174" y="46"/>
                          </a:lnTo>
                          <a:lnTo>
                            <a:pt x="169" y="48"/>
                          </a:lnTo>
                          <a:lnTo>
                            <a:pt x="164" y="50"/>
                          </a:lnTo>
                          <a:lnTo>
                            <a:pt x="161" y="51"/>
                          </a:lnTo>
                          <a:lnTo>
                            <a:pt x="158" y="52"/>
                          </a:lnTo>
                          <a:lnTo>
                            <a:pt x="155" y="53"/>
                          </a:lnTo>
                          <a:lnTo>
                            <a:pt x="152" y="54"/>
                          </a:lnTo>
                          <a:lnTo>
                            <a:pt x="149" y="54"/>
                          </a:lnTo>
                          <a:lnTo>
                            <a:pt x="145" y="56"/>
                          </a:lnTo>
                          <a:lnTo>
                            <a:pt x="142" y="57"/>
                          </a:lnTo>
                          <a:lnTo>
                            <a:pt x="140" y="58"/>
                          </a:lnTo>
                          <a:lnTo>
                            <a:pt x="136" y="59"/>
                          </a:lnTo>
                          <a:lnTo>
                            <a:pt x="132" y="60"/>
                          </a:lnTo>
                          <a:lnTo>
                            <a:pt x="128" y="60"/>
                          </a:lnTo>
                          <a:lnTo>
                            <a:pt x="124" y="61"/>
                          </a:lnTo>
                          <a:lnTo>
                            <a:pt x="121" y="62"/>
                          </a:lnTo>
                          <a:lnTo>
                            <a:pt x="118" y="63"/>
                          </a:lnTo>
                          <a:lnTo>
                            <a:pt x="114" y="64"/>
                          </a:lnTo>
                          <a:lnTo>
                            <a:pt x="110" y="65"/>
                          </a:lnTo>
                          <a:lnTo>
                            <a:pt x="107" y="65"/>
                          </a:lnTo>
                          <a:lnTo>
                            <a:pt x="103" y="65"/>
                          </a:lnTo>
                          <a:lnTo>
                            <a:pt x="100" y="65"/>
                          </a:lnTo>
                          <a:lnTo>
                            <a:pt x="96" y="65"/>
                          </a:lnTo>
                          <a:lnTo>
                            <a:pt x="92" y="65"/>
                          </a:lnTo>
                          <a:lnTo>
                            <a:pt x="88" y="65"/>
                          </a:lnTo>
                          <a:lnTo>
                            <a:pt x="85" y="65"/>
                          </a:lnTo>
                          <a:lnTo>
                            <a:pt x="82" y="66"/>
                          </a:lnTo>
                          <a:lnTo>
                            <a:pt x="79" y="65"/>
                          </a:lnTo>
                          <a:lnTo>
                            <a:pt x="76" y="65"/>
                          </a:lnTo>
                          <a:lnTo>
                            <a:pt x="72" y="65"/>
                          </a:lnTo>
                          <a:lnTo>
                            <a:pt x="70" y="65"/>
                          </a:lnTo>
                          <a:lnTo>
                            <a:pt x="66" y="65"/>
                          </a:lnTo>
                          <a:lnTo>
                            <a:pt x="64" y="65"/>
                          </a:lnTo>
                          <a:lnTo>
                            <a:pt x="61" y="65"/>
                          </a:lnTo>
                          <a:lnTo>
                            <a:pt x="59" y="65"/>
                          </a:lnTo>
                          <a:lnTo>
                            <a:pt x="53" y="64"/>
                          </a:lnTo>
                          <a:lnTo>
                            <a:pt x="49" y="64"/>
                          </a:lnTo>
                          <a:lnTo>
                            <a:pt x="44" y="63"/>
                          </a:lnTo>
                          <a:lnTo>
                            <a:pt x="43" y="63"/>
                          </a:lnTo>
                          <a:lnTo>
                            <a:pt x="38" y="62"/>
                          </a:lnTo>
                          <a:lnTo>
                            <a:pt x="36" y="62"/>
                          </a:lnTo>
                          <a:lnTo>
                            <a:pt x="64" y="52"/>
                          </a:lnTo>
                          <a:lnTo>
                            <a:pt x="0" y="27"/>
                          </a:lnTo>
                          <a:lnTo>
                            <a:pt x="0" y="27"/>
                          </a:lnTo>
                          <a:close/>
                        </a:path>
                      </a:pathLst>
                    </a:custGeom>
                    <a:solidFill>
                      <a:srgbClr val="4d4d4d"/>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243" name=""/>
                    <p:cNvSpPr/>
                    <p:nvPr/>
                  </p:nvSpPr>
                  <p:spPr>
                    <a:xfrm>
                      <a:off x="6472440" y="2383920"/>
                      <a:ext cx="47520" cy="63720"/>
                    </a:xfrm>
                    <a:custGeom>
                      <a:avLst/>
                      <a:gdLst/>
                      <a:ahLst/>
                      <a:rect l="l" t="t" r="r" b="b"/>
                      <a:pathLst>
                        <a:path w="49" h="82">
                          <a:moveTo>
                            <a:pt x="25" y="0"/>
                          </a:moveTo>
                          <a:lnTo>
                            <a:pt x="49" y="25"/>
                          </a:lnTo>
                          <a:lnTo>
                            <a:pt x="25" y="82"/>
                          </a:lnTo>
                          <a:lnTo>
                            <a:pt x="0" y="39"/>
                          </a:lnTo>
                          <a:lnTo>
                            <a:pt x="25" y="0"/>
                          </a:lnTo>
                          <a:lnTo>
                            <a:pt x="25" y="0"/>
                          </a:lnTo>
                          <a:close/>
                        </a:path>
                      </a:pathLst>
                    </a:custGeom>
                    <a:solidFill>
                      <a:srgbClr val="1a1a1a"/>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44" name=""/>
                    <p:cNvSpPr/>
                    <p:nvPr/>
                  </p:nvSpPr>
                  <p:spPr>
                    <a:xfrm>
                      <a:off x="6442200" y="2421720"/>
                      <a:ext cx="89280" cy="268920"/>
                    </a:xfrm>
                    <a:custGeom>
                      <a:avLst/>
                      <a:gdLst/>
                      <a:ahLst/>
                      <a:rect l="l" t="t" r="r" b="b"/>
                      <a:pathLst>
                        <a:path w="92" h="345">
                          <a:moveTo>
                            <a:pt x="56" y="0"/>
                          </a:moveTo>
                          <a:lnTo>
                            <a:pt x="56" y="0"/>
                          </a:lnTo>
                          <a:lnTo>
                            <a:pt x="56" y="2"/>
                          </a:lnTo>
                          <a:lnTo>
                            <a:pt x="56" y="4"/>
                          </a:lnTo>
                          <a:lnTo>
                            <a:pt x="57" y="6"/>
                          </a:lnTo>
                          <a:lnTo>
                            <a:pt x="58" y="9"/>
                          </a:lnTo>
                          <a:lnTo>
                            <a:pt x="59" y="13"/>
                          </a:lnTo>
                          <a:lnTo>
                            <a:pt x="60" y="15"/>
                          </a:lnTo>
                          <a:lnTo>
                            <a:pt x="61" y="18"/>
                          </a:lnTo>
                          <a:lnTo>
                            <a:pt x="61" y="22"/>
                          </a:lnTo>
                          <a:lnTo>
                            <a:pt x="63" y="26"/>
                          </a:lnTo>
                          <a:lnTo>
                            <a:pt x="64" y="31"/>
                          </a:lnTo>
                          <a:lnTo>
                            <a:pt x="65" y="35"/>
                          </a:lnTo>
                          <a:lnTo>
                            <a:pt x="66" y="40"/>
                          </a:lnTo>
                          <a:lnTo>
                            <a:pt x="68" y="46"/>
                          </a:lnTo>
                          <a:lnTo>
                            <a:pt x="69" y="51"/>
                          </a:lnTo>
                          <a:lnTo>
                            <a:pt x="70" y="55"/>
                          </a:lnTo>
                          <a:lnTo>
                            <a:pt x="71" y="61"/>
                          </a:lnTo>
                          <a:lnTo>
                            <a:pt x="73" y="67"/>
                          </a:lnTo>
                          <a:lnTo>
                            <a:pt x="73" y="70"/>
                          </a:lnTo>
                          <a:lnTo>
                            <a:pt x="73" y="73"/>
                          </a:lnTo>
                          <a:lnTo>
                            <a:pt x="73" y="76"/>
                          </a:lnTo>
                          <a:lnTo>
                            <a:pt x="74" y="79"/>
                          </a:lnTo>
                          <a:lnTo>
                            <a:pt x="75" y="83"/>
                          </a:lnTo>
                          <a:lnTo>
                            <a:pt x="75" y="86"/>
                          </a:lnTo>
                          <a:lnTo>
                            <a:pt x="76" y="90"/>
                          </a:lnTo>
                          <a:lnTo>
                            <a:pt x="77" y="92"/>
                          </a:lnTo>
                          <a:lnTo>
                            <a:pt x="77" y="96"/>
                          </a:lnTo>
                          <a:lnTo>
                            <a:pt x="78" y="99"/>
                          </a:lnTo>
                          <a:lnTo>
                            <a:pt x="78" y="102"/>
                          </a:lnTo>
                          <a:lnTo>
                            <a:pt x="79" y="106"/>
                          </a:lnTo>
                          <a:lnTo>
                            <a:pt x="79" y="109"/>
                          </a:lnTo>
                          <a:lnTo>
                            <a:pt x="81" y="112"/>
                          </a:lnTo>
                          <a:lnTo>
                            <a:pt x="81" y="115"/>
                          </a:lnTo>
                          <a:lnTo>
                            <a:pt x="82" y="119"/>
                          </a:lnTo>
                          <a:lnTo>
                            <a:pt x="82" y="123"/>
                          </a:lnTo>
                          <a:lnTo>
                            <a:pt x="83" y="127"/>
                          </a:lnTo>
                          <a:lnTo>
                            <a:pt x="83" y="130"/>
                          </a:lnTo>
                          <a:lnTo>
                            <a:pt x="84" y="133"/>
                          </a:lnTo>
                          <a:lnTo>
                            <a:pt x="84" y="137"/>
                          </a:lnTo>
                          <a:lnTo>
                            <a:pt x="85" y="141"/>
                          </a:lnTo>
                          <a:lnTo>
                            <a:pt x="85" y="145"/>
                          </a:lnTo>
                          <a:lnTo>
                            <a:pt x="86" y="148"/>
                          </a:lnTo>
                          <a:lnTo>
                            <a:pt x="86" y="151"/>
                          </a:lnTo>
                          <a:lnTo>
                            <a:pt x="87" y="154"/>
                          </a:lnTo>
                          <a:lnTo>
                            <a:pt x="87" y="158"/>
                          </a:lnTo>
                          <a:lnTo>
                            <a:pt x="87" y="161"/>
                          </a:lnTo>
                          <a:lnTo>
                            <a:pt x="87" y="164"/>
                          </a:lnTo>
                          <a:lnTo>
                            <a:pt x="88" y="167"/>
                          </a:lnTo>
                          <a:lnTo>
                            <a:pt x="88" y="169"/>
                          </a:lnTo>
                          <a:lnTo>
                            <a:pt x="89" y="173"/>
                          </a:lnTo>
                          <a:lnTo>
                            <a:pt x="89" y="178"/>
                          </a:lnTo>
                          <a:lnTo>
                            <a:pt x="90" y="184"/>
                          </a:lnTo>
                          <a:lnTo>
                            <a:pt x="90" y="188"/>
                          </a:lnTo>
                          <a:lnTo>
                            <a:pt x="91" y="193"/>
                          </a:lnTo>
                          <a:lnTo>
                            <a:pt x="91" y="197"/>
                          </a:lnTo>
                          <a:lnTo>
                            <a:pt x="91" y="202"/>
                          </a:lnTo>
                          <a:lnTo>
                            <a:pt x="91" y="205"/>
                          </a:lnTo>
                          <a:lnTo>
                            <a:pt x="92" y="208"/>
                          </a:lnTo>
                          <a:lnTo>
                            <a:pt x="92" y="211"/>
                          </a:lnTo>
                          <a:lnTo>
                            <a:pt x="92" y="215"/>
                          </a:lnTo>
                          <a:lnTo>
                            <a:pt x="92" y="218"/>
                          </a:lnTo>
                          <a:lnTo>
                            <a:pt x="92" y="220"/>
                          </a:lnTo>
                          <a:lnTo>
                            <a:pt x="92" y="224"/>
                          </a:lnTo>
                          <a:lnTo>
                            <a:pt x="92" y="227"/>
                          </a:lnTo>
                          <a:lnTo>
                            <a:pt x="92" y="230"/>
                          </a:lnTo>
                          <a:lnTo>
                            <a:pt x="92" y="233"/>
                          </a:lnTo>
                          <a:lnTo>
                            <a:pt x="92" y="235"/>
                          </a:lnTo>
                          <a:lnTo>
                            <a:pt x="92" y="236"/>
                          </a:lnTo>
                          <a:lnTo>
                            <a:pt x="0" y="345"/>
                          </a:lnTo>
                          <a:lnTo>
                            <a:pt x="56" y="0"/>
                          </a:lnTo>
                          <a:lnTo>
                            <a:pt x="56" y="0"/>
                          </a:lnTo>
                          <a:close/>
                        </a:path>
                      </a:pathLst>
                    </a:custGeom>
                    <a:solidFill>
                      <a:srgbClr val="1a1a1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7164720" y="2158920"/>
                      <a:ext cx="249480" cy="276480"/>
                    </a:xfrm>
                    <a:custGeom>
                      <a:avLst/>
                      <a:gdLst/>
                      <a:ahLst/>
                      <a:rect l="l" t="t" r="r" b="b"/>
                      <a:pathLst>
                        <a:path w="257" h="355">
                          <a:moveTo>
                            <a:pt x="1" y="0"/>
                          </a:moveTo>
                          <a:lnTo>
                            <a:pt x="0" y="355"/>
                          </a:lnTo>
                          <a:lnTo>
                            <a:pt x="257" y="355"/>
                          </a:lnTo>
                          <a:lnTo>
                            <a:pt x="257" y="1"/>
                          </a:lnTo>
                          <a:lnTo>
                            <a:pt x="1" y="0"/>
                          </a:lnTo>
                          <a:lnTo>
                            <a:pt x="1"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7430760" y="2538360"/>
                      <a:ext cx="187200" cy="196560"/>
                    </a:xfrm>
                    <a:custGeom>
                      <a:avLst/>
                      <a:gdLst/>
                      <a:ahLst/>
                      <a:rect l="l" t="t" r="r" b="b"/>
                      <a:pathLst>
                        <a:path w="193" h="252">
                          <a:moveTo>
                            <a:pt x="0" y="166"/>
                          </a:moveTo>
                          <a:lnTo>
                            <a:pt x="40" y="181"/>
                          </a:lnTo>
                          <a:lnTo>
                            <a:pt x="42" y="252"/>
                          </a:lnTo>
                          <a:lnTo>
                            <a:pt x="193" y="194"/>
                          </a:lnTo>
                          <a:lnTo>
                            <a:pt x="164" y="68"/>
                          </a:lnTo>
                          <a:lnTo>
                            <a:pt x="29" y="0"/>
                          </a:lnTo>
                          <a:lnTo>
                            <a:pt x="0" y="166"/>
                          </a:lnTo>
                          <a:lnTo>
                            <a:pt x="0" y="166"/>
                          </a:lnTo>
                          <a:close/>
                        </a:path>
                      </a:pathLst>
                    </a:custGeom>
                    <a:solidFill>
                      <a:srgbClr val="8529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7408800" y="2444400"/>
                      <a:ext cx="188280" cy="313200"/>
                    </a:xfrm>
                    <a:custGeom>
                      <a:avLst/>
                      <a:gdLst/>
                      <a:ahLst/>
                      <a:rect l="l" t="t" r="r" b="b"/>
                      <a:pathLst>
                        <a:path w="194" h="402">
                          <a:moveTo>
                            <a:pt x="29" y="402"/>
                          </a:moveTo>
                          <a:lnTo>
                            <a:pt x="28" y="402"/>
                          </a:lnTo>
                          <a:lnTo>
                            <a:pt x="27" y="400"/>
                          </a:lnTo>
                          <a:lnTo>
                            <a:pt x="26" y="398"/>
                          </a:lnTo>
                          <a:lnTo>
                            <a:pt x="26" y="395"/>
                          </a:lnTo>
                          <a:lnTo>
                            <a:pt x="26" y="391"/>
                          </a:lnTo>
                          <a:lnTo>
                            <a:pt x="26" y="389"/>
                          </a:lnTo>
                          <a:lnTo>
                            <a:pt x="26" y="385"/>
                          </a:lnTo>
                          <a:lnTo>
                            <a:pt x="27" y="381"/>
                          </a:lnTo>
                          <a:lnTo>
                            <a:pt x="27" y="378"/>
                          </a:lnTo>
                          <a:lnTo>
                            <a:pt x="27" y="375"/>
                          </a:lnTo>
                          <a:lnTo>
                            <a:pt x="28" y="372"/>
                          </a:lnTo>
                          <a:lnTo>
                            <a:pt x="29" y="370"/>
                          </a:lnTo>
                          <a:lnTo>
                            <a:pt x="29" y="367"/>
                          </a:lnTo>
                          <a:lnTo>
                            <a:pt x="30" y="363"/>
                          </a:lnTo>
                          <a:lnTo>
                            <a:pt x="31" y="359"/>
                          </a:lnTo>
                          <a:lnTo>
                            <a:pt x="33" y="356"/>
                          </a:lnTo>
                          <a:lnTo>
                            <a:pt x="33" y="351"/>
                          </a:lnTo>
                          <a:lnTo>
                            <a:pt x="34" y="347"/>
                          </a:lnTo>
                          <a:lnTo>
                            <a:pt x="35" y="342"/>
                          </a:lnTo>
                          <a:lnTo>
                            <a:pt x="37" y="337"/>
                          </a:lnTo>
                          <a:lnTo>
                            <a:pt x="38" y="332"/>
                          </a:lnTo>
                          <a:lnTo>
                            <a:pt x="39" y="327"/>
                          </a:lnTo>
                          <a:lnTo>
                            <a:pt x="41" y="322"/>
                          </a:lnTo>
                          <a:lnTo>
                            <a:pt x="43" y="317"/>
                          </a:lnTo>
                          <a:lnTo>
                            <a:pt x="44" y="312"/>
                          </a:lnTo>
                          <a:lnTo>
                            <a:pt x="45" y="307"/>
                          </a:lnTo>
                          <a:lnTo>
                            <a:pt x="46" y="301"/>
                          </a:lnTo>
                          <a:lnTo>
                            <a:pt x="48" y="295"/>
                          </a:lnTo>
                          <a:lnTo>
                            <a:pt x="50" y="291"/>
                          </a:lnTo>
                          <a:lnTo>
                            <a:pt x="51" y="286"/>
                          </a:lnTo>
                          <a:lnTo>
                            <a:pt x="53" y="281"/>
                          </a:lnTo>
                          <a:lnTo>
                            <a:pt x="55" y="275"/>
                          </a:lnTo>
                          <a:lnTo>
                            <a:pt x="56" y="271"/>
                          </a:lnTo>
                          <a:lnTo>
                            <a:pt x="57" y="266"/>
                          </a:lnTo>
                          <a:lnTo>
                            <a:pt x="58" y="261"/>
                          </a:lnTo>
                          <a:lnTo>
                            <a:pt x="60" y="257"/>
                          </a:lnTo>
                          <a:lnTo>
                            <a:pt x="61" y="253"/>
                          </a:lnTo>
                          <a:lnTo>
                            <a:pt x="62" y="249"/>
                          </a:lnTo>
                          <a:lnTo>
                            <a:pt x="63" y="245"/>
                          </a:lnTo>
                          <a:lnTo>
                            <a:pt x="64" y="242"/>
                          </a:lnTo>
                          <a:lnTo>
                            <a:pt x="65" y="239"/>
                          </a:lnTo>
                          <a:lnTo>
                            <a:pt x="66" y="236"/>
                          </a:lnTo>
                          <a:lnTo>
                            <a:pt x="66" y="234"/>
                          </a:lnTo>
                          <a:lnTo>
                            <a:pt x="67" y="232"/>
                          </a:lnTo>
                          <a:lnTo>
                            <a:pt x="69" y="230"/>
                          </a:lnTo>
                          <a:lnTo>
                            <a:pt x="25" y="287"/>
                          </a:lnTo>
                          <a:lnTo>
                            <a:pt x="25" y="286"/>
                          </a:lnTo>
                          <a:lnTo>
                            <a:pt x="24" y="284"/>
                          </a:lnTo>
                          <a:lnTo>
                            <a:pt x="22" y="282"/>
                          </a:lnTo>
                          <a:lnTo>
                            <a:pt x="21" y="279"/>
                          </a:lnTo>
                          <a:lnTo>
                            <a:pt x="19" y="275"/>
                          </a:lnTo>
                          <a:lnTo>
                            <a:pt x="17" y="272"/>
                          </a:lnTo>
                          <a:lnTo>
                            <a:pt x="15" y="266"/>
                          </a:lnTo>
                          <a:lnTo>
                            <a:pt x="13" y="261"/>
                          </a:lnTo>
                          <a:lnTo>
                            <a:pt x="11" y="258"/>
                          </a:lnTo>
                          <a:lnTo>
                            <a:pt x="10" y="255"/>
                          </a:lnTo>
                          <a:lnTo>
                            <a:pt x="9" y="252"/>
                          </a:lnTo>
                          <a:lnTo>
                            <a:pt x="8" y="249"/>
                          </a:lnTo>
                          <a:lnTo>
                            <a:pt x="7" y="245"/>
                          </a:lnTo>
                          <a:lnTo>
                            <a:pt x="6" y="241"/>
                          </a:lnTo>
                          <a:lnTo>
                            <a:pt x="5" y="237"/>
                          </a:lnTo>
                          <a:lnTo>
                            <a:pt x="5" y="234"/>
                          </a:lnTo>
                          <a:lnTo>
                            <a:pt x="4" y="230"/>
                          </a:lnTo>
                          <a:lnTo>
                            <a:pt x="3" y="226"/>
                          </a:lnTo>
                          <a:lnTo>
                            <a:pt x="2" y="221"/>
                          </a:lnTo>
                          <a:lnTo>
                            <a:pt x="2" y="217"/>
                          </a:lnTo>
                          <a:lnTo>
                            <a:pt x="1" y="213"/>
                          </a:lnTo>
                          <a:lnTo>
                            <a:pt x="1" y="209"/>
                          </a:lnTo>
                          <a:lnTo>
                            <a:pt x="1" y="204"/>
                          </a:lnTo>
                          <a:lnTo>
                            <a:pt x="1" y="200"/>
                          </a:lnTo>
                          <a:lnTo>
                            <a:pt x="0" y="196"/>
                          </a:lnTo>
                          <a:lnTo>
                            <a:pt x="0" y="191"/>
                          </a:lnTo>
                          <a:lnTo>
                            <a:pt x="0" y="186"/>
                          </a:lnTo>
                          <a:lnTo>
                            <a:pt x="1" y="182"/>
                          </a:lnTo>
                          <a:lnTo>
                            <a:pt x="1" y="178"/>
                          </a:lnTo>
                          <a:lnTo>
                            <a:pt x="1" y="173"/>
                          </a:lnTo>
                          <a:lnTo>
                            <a:pt x="1" y="169"/>
                          </a:lnTo>
                          <a:lnTo>
                            <a:pt x="2" y="164"/>
                          </a:lnTo>
                          <a:lnTo>
                            <a:pt x="2" y="159"/>
                          </a:lnTo>
                          <a:lnTo>
                            <a:pt x="3" y="155"/>
                          </a:lnTo>
                          <a:lnTo>
                            <a:pt x="4" y="151"/>
                          </a:lnTo>
                          <a:lnTo>
                            <a:pt x="5" y="147"/>
                          </a:lnTo>
                          <a:lnTo>
                            <a:pt x="5" y="142"/>
                          </a:lnTo>
                          <a:lnTo>
                            <a:pt x="6" y="139"/>
                          </a:lnTo>
                          <a:lnTo>
                            <a:pt x="6" y="135"/>
                          </a:lnTo>
                          <a:lnTo>
                            <a:pt x="8" y="131"/>
                          </a:lnTo>
                          <a:lnTo>
                            <a:pt x="8" y="127"/>
                          </a:lnTo>
                          <a:lnTo>
                            <a:pt x="9" y="124"/>
                          </a:lnTo>
                          <a:lnTo>
                            <a:pt x="10" y="121"/>
                          </a:lnTo>
                          <a:lnTo>
                            <a:pt x="11" y="118"/>
                          </a:lnTo>
                          <a:lnTo>
                            <a:pt x="13" y="112"/>
                          </a:lnTo>
                          <a:lnTo>
                            <a:pt x="14" y="107"/>
                          </a:lnTo>
                          <a:lnTo>
                            <a:pt x="15" y="102"/>
                          </a:lnTo>
                          <a:lnTo>
                            <a:pt x="17" y="101"/>
                          </a:lnTo>
                          <a:lnTo>
                            <a:pt x="17" y="98"/>
                          </a:lnTo>
                          <a:lnTo>
                            <a:pt x="18" y="98"/>
                          </a:lnTo>
                          <a:lnTo>
                            <a:pt x="7" y="66"/>
                          </a:lnTo>
                          <a:lnTo>
                            <a:pt x="55" y="0"/>
                          </a:lnTo>
                          <a:lnTo>
                            <a:pt x="194" y="122"/>
                          </a:lnTo>
                          <a:lnTo>
                            <a:pt x="145" y="244"/>
                          </a:lnTo>
                          <a:lnTo>
                            <a:pt x="87" y="336"/>
                          </a:lnTo>
                          <a:lnTo>
                            <a:pt x="29" y="402"/>
                          </a:lnTo>
                          <a:lnTo>
                            <a:pt x="29" y="402"/>
                          </a:lnTo>
                          <a:close/>
                        </a:path>
                      </a:pathLst>
                    </a:custGeom>
                    <a:solidFill>
                      <a:srgbClr val="a84a3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7489440" y="2516760"/>
                      <a:ext cx="33840" cy="59040"/>
                    </a:xfrm>
                    <a:custGeom>
                      <a:avLst/>
                      <a:gdLst/>
                      <a:ahLst/>
                      <a:rect l="l" t="t" r="r" b="b"/>
                      <a:pathLst>
                        <a:path w="35" h="76">
                          <a:moveTo>
                            <a:pt x="4" y="9"/>
                          </a:moveTo>
                          <a:lnTo>
                            <a:pt x="5" y="8"/>
                          </a:lnTo>
                          <a:lnTo>
                            <a:pt x="10" y="4"/>
                          </a:lnTo>
                          <a:lnTo>
                            <a:pt x="12" y="2"/>
                          </a:lnTo>
                          <a:lnTo>
                            <a:pt x="16" y="1"/>
                          </a:lnTo>
                          <a:lnTo>
                            <a:pt x="19" y="0"/>
                          </a:lnTo>
                          <a:lnTo>
                            <a:pt x="21" y="1"/>
                          </a:lnTo>
                          <a:lnTo>
                            <a:pt x="24" y="2"/>
                          </a:lnTo>
                          <a:lnTo>
                            <a:pt x="27" y="5"/>
                          </a:lnTo>
                          <a:lnTo>
                            <a:pt x="29" y="9"/>
                          </a:lnTo>
                          <a:lnTo>
                            <a:pt x="32" y="13"/>
                          </a:lnTo>
                          <a:lnTo>
                            <a:pt x="33" y="15"/>
                          </a:lnTo>
                          <a:lnTo>
                            <a:pt x="33" y="19"/>
                          </a:lnTo>
                          <a:lnTo>
                            <a:pt x="34" y="22"/>
                          </a:lnTo>
                          <a:lnTo>
                            <a:pt x="35" y="25"/>
                          </a:lnTo>
                          <a:lnTo>
                            <a:pt x="34" y="28"/>
                          </a:lnTo>
                          <a:lnTo>
                            <a:pt x="34" y="31"/>
                          </a:lnTo>
                          <a:lnTo>
                            <a:pt x="34" y="34"/>
                          </a:lnTo>
                          <a:lnTo>
                            <a:pt x="34" y="38"/>
                          </a:lnTo>
                          <a:lnTo>
                            <a:pt x="33" y="42"/>
                          </a:lnTo>
                          <a:lnTo>
                            <a:pt x="32" y="46"/>
                          </a:lnTo>
                          <a:lnTo>
                            <a:pt x="30" y="48"/>
                          </a:lnTo>
                          <a:lnTo>
                            <a:pt x="29" y="52"/>
                          </a:lnTo>
                          <a:lnTo>
                            <a:pt x="28" y="55"/>
                          </a:lnTo>
                          <a:lnTo>
                            <a:pt x="26" y="58"/>
                          </a:lnTo>
                          <a:lnTo>
                            <a:pt x="24" y="62"/>
                          </a:lnTo>
                          <a:lnTo>
                            <a:pt x="23" y="65"/>
                          </a:lnTo>
                          <a:lnTo>
                            <a:pt x="19" y="69"/>
                          </a:lnTo>
                          <a:lnTo>
                            <a:pt x="17" y="73"/>
                          </a:lnTo>
                          <a:lnTo>
                            <a:pt x="15" y="76"/>
                          </a:lnTo>
                          <a:lnTo>
                            <a:pt x="19" y="33"/>
                          </a:lnTo>
                          <a:lnTo>
                            <a:pt x="0" y="20"/>
                          </a:lnTo>
                          <a:lnTo>
                            <a:pt x="4" y="9"/>
                          </a:lnTo>
                          <a:lnTo>
                            <a:pt x="4" y="9"/>
                          </a:lnTo>
                          <a:close/>
                        </a:path>
                      </a:pathLst>
                    </a:custGeom>
                    <a:solidFill>
                      <a:srgbClr val="85291c"/>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49" name=""/>
                    <p:cNvSpPr/>
                    <p:nvPr/>
                  </p:nvSpPr>
                  <p:spPr>
                    <a:xfrm>
                      <a:off x="7439040" y="2631960"/>
                      <a:ext cx="34560" cy="99720"/>
                    </a:xfrm>
                    <a:custGeom>
                      <a:avLst/>
                      <a:gdLst/>
                      <a:ahLst/>
                      <a:rect l="l" t="t" r="r" b="b"/>
                      <a:pathLst>
                        <a:path w="36" h="128">
                          <a:moveTo>
                            <a:pt x="36" y="0"/>
                          </a:moveTo>
                          <a:lnTo>
                            <a:pt x="32" y="120"/>
                          </a:lnTo>
                          <a:lnTo>
                            <a:pt x="0" y="128"/>
                          </a:lnTo>
                          <a:lnTo>
                            <a:pt x="36" y="0"/>
                          </a:lnTo>
                          <a:lnTo>
                            <a:pt x="36" y="0"/>
                          </a:lnTo>
                          <a:close/>
                        </a:path>
                      </a:pathLst>
                    </a:custGeom>
                    <a:solidFill>
                      <a:srgbClr val="c7695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7352280" y="2671200"/>
                      <a:ext cx="461160" cy="187920"/>
                    </a:xfrm>
                    <a:custGeom>
                      <a:avLst/>
                      <a:gdLst/>
                      <a:ahLst/>
                      <a:rect l="l" t="t" r="r" b="b"/>
                      <a:pathLst>
                        <a:path w="475" h="241">
                          <a:moveTo>
                            <a:pt x="198" y="28"/>
                          </a:moveTo>
                          <a:lnTo>
                            <a:pt x="199" y="27"/>
                          </a:lnTo>
                          <a:lnTo>
                            <a:pt x="200" y="25"/>
                          </a:lnTo>
                          <a:lnTo>
                            <a:pt x="203" y="22"/>
                          </a:lnTo>
                          <a:lnTo>
                            <a:pt x="208" y="20"/>
                          </a:lnTo>
                          <a:lnTo>
                            <a:pt x="210" y="17"/>
                          </a:lnTo>
                          <a:lnTo>
                            <a:pt x="213" y="15"/>
                          </a:lnTo>
                          <a:lnTo>
                            <a:pt x="217" y="13"/>
                          </a:lnTo>
                          <a:lnTo>
                            <a:pt x="219" y="11"/>
                          </a:lnTo>
                          <a:lnTo>
                            <a:pt x="222" y="9"/>
                          </a:lnTo>
                          <a:lnTo>
                            <a:pt x="226" y="7"/>
                          </a:lnTo>
                          <a:lnTo>
                            <a:pt x="230" y="6"/>
                          </a:lnTo>
                          <a:lnTo>
                            <a:pt x="234" y="4"/>
                          </a:lnTo>
                          <a:lnTo>
                            <a:pt x="237" y="3"/>
                          </a:lnTo>
                          <a:lnTo>
                            <a:pt x="241" y="2"/>
                          </a:lnTo>
                          <a:lnTo>
                            <a:pt x="245" y="1"/>
                          </a:lnTo>
                          <a:lnTo>
                            <a:pt x="250" y="1"/>
                          </a:lnTo>
                          <a:lnTo>
                            <a:pt x="253" y="0"/>
                          </a:lnTo>
                          <a:lnTo>
                            <a:pt x="256" y="0"/>
                          </a:lnTo>
                          <a:lnTo>
                            <a:pt x="260" y="0"/>
                          </a:lnTo>
                          <a:lnTo>
                            <a:pt x="264" y="0"/>
                          </a:lnTo>
                          <a:lnTo>
                            <a:pt x="267" y="0"/>
                          </a:lnTo>
                          <a:lnTo>
                            <a:pt x="270" y="0"/>
                          </a:lnTo>
                          <a:lnTo>
                            <a:pt x="272" y="0"/>
                          </a:lnTo>
                          <a:lnTo>
                            <a:pt x="275" y="0"/>
                          </a:lnTo>
                          <a:lnTo>
                            <a:pt x="278" y="0"/>
                          </a:lnTo>
                          <a:lnTo>
                            <a:pt x="279" y="0"/>
                          </a:lnTo>
                          <a:lnTo>
                            <a:pt x="308" y="28"/>
                          </a:lnTo>
                          <a:lnTo>
                            <a:pt x="475" y="118"/>
                          </a:lnTo>
                          <a:lnTo>
                            <a:pt x="475" y="241"/>
                          </a:lnTo>
                          <a:lnTo>
                            <a:pt x="0" y="241"/>
                          </a:lnTo>
                          <a:lnTo>
                            <a:pt x="108" y="80"/>
                          </a:lnTo>
                          <a:lnTo>
                            <a:pt x="198" y="28"/>
                          </a:lnTo>
                          <a:lnTo>
                            <a:pt x="198" y="28"/>
                          </a:lnTo>
                          <a:close/>
                        </a:path>
                      </a:pathLst>
                    </a:custGeom>
                    <a:solidFill>
                      <a:srgbClr val="5963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7406640" y="2678040"/>
                      <a:ext cx="168840" cy="83160"/>
                    </a:xfrm>
                    <a:custGeom>
                      <a:avLst/>
                      <a:gdLst/>
                      <a:ahLst/>
                      <a:rect l="l" t="t" r="r" b="b"/>
                      <a:pathLst>
                        <a:path w="174" h="107">
                          <a:moveTo>
                            <a:pt x="0" y="107"/>
                          </a:moveTo>
                          <a:lnTo>
                            <a:pt x="27" y="63"/>
                          </a:lnTo>
                          <a:lnTo>
                            <a:pt x="174" y="0"/>
                          </a:lnTo>
                          <a:lnTo>
                            <a:pt x="117" y="66"/>
                          </a:lnTo>
                          <a:lnTo>
                            <a:pt x="0" y="107"/>
                          </a:lnTo>
                          <a:lnTo>
                            <a:pt x="0" y="107"/>
                          </a:lnTo>
                          <a:close/>
                        </a:path>
                      </a:pathLst>
                    </a:custGeom>
                    <a:solidFill>
                      <a:srgbClr val="9cb8f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52" name=""/>
                    <p:cNvSpPr/>
                    <p:nvPr/>
                  </p:nvSpPr>
                  <p:spPr>
                    <a:xfrm>
                      <a:off x="7167600" y="2746080"/>
                      <a:ext cx="543960" cy="113040"/>
                    </a:xfrm>
                    <a:custGeom>
                      <a:avLst/>
                      <a:gdLst/>
                      <a:ahLst/>
                      <a:rect l="l" t="t" r="r" b="b"/>
                      <a:pathLst>
                        <a:path w="560" h="145">
                          <a:moveTo>
                            <a:pt x="0" y="145"/>
                          </a:moveTo>
                          <a:lnTo>
                            <a:pt x="99" y="49"/>
                          </a:lnTo>
                          <a:lnTo>
                            <a:pt x="283" y="0"/>
                          </a:lnTo>
                          <a:lnTo>
                            <a:pt x="560" y="0"/>
                          </a:lnTo>
                          <a:lnTo>
                            <a:pt x="559" y="0"/>
                          </a:lnTo>
                          <a:lnTo>
                            <a:pt x="557" y="1"/>
                          </a:lnTo>
                          <a:lnTo>
                            <a:pt x="553" y="2"/>
                          </a:lnTo>
                          <a:lnTo>
                            <a:pt x="549" y="4"/>
                          </a:lnTo>
                          <a:lnTo>
                            <a:pt x="545" y="5"/>
                          </a:lnTo>
                          <a:lnTo>
                            <a:pt x="543" y="6"/>
                          </a:lnTo>
                          <a:lnTo>
                            <a:pt x="540" y="8"/>
                          </a:lnTo>
                          <a:lnTo>
                            <a:pt x="537" y="10"/>
                          </a:lnTo>
                          <a:lnTo>
                            <a:pt x="533" y="12"/>
                          </a:lnTo>
                          <a:lnTo>
                            <a:pt x="529" y="13"/>
                          </a:lnTo>
                          <a:lnTo>
                            <a:pt x="525" y="16"/>
                          </a:lnTo>
                          <a:lnTo>
                            <a:pt x="522" y="19"/>
                          </a:lnTo>
                          <a:lnTo>
                            <a:pt x="518" y="20"/>
                          </a:lnTo>
                          <a:lnTo>
                            <a:pt x="513" y="22"/>
                          </a:lnTo>
                          <a:lnTo>
                            <a:pt x="509" y="24"/>
                          </a:lnTo>
                          <a:lnTo>
                            <a:pt x="504" y="27"/>
                          </a:lnTo>
                          <a:lnTo>
                            <a:pt x="500" y="29"/>
                          </a:lnTo>
                          <a:lnTo>
                            <a:pt x="496" y="32"/>
                          </a:lnTo>
                          <a:lnTo>
                            <a:pt x="490" y="36"/>
                          </a:lnTo>
                          <a:lnTo>
                            <a:pt x="486" y="39"/>
                          </a:lnTo>
                          <a:lnTo>
                            <a:pt x="482" y="41"/>
                          </a:lnTo>
                          <a:lnTo>
                            <a:pt x="477" y="44"/>
                          </a:lnTo>
                          <a:lnTo>
                            <a:pt x="472" y="47"/>
                          </a:lnTo>
                          <a:lnTo>
                            <a:pt x="467" y="51"/>
                          </a:lnTo>
                          <a:lnTo>
                            <a:pt x="463" y="54"/>
                          </a:lnTo>
                          <a:lnTo>
                            <a:pt x="458" y="58"/>
                          </a:lnTo>
                          <a:lnTo>
                            <a:pt x="454" y="60"/>
                          </a:lnTo>
                          <a:lnTo>
                            <a:pt x="450" y="64"/>
                          </a:lnTo>
                          <a:lnTo>
                            <a:pt x="446" y="68"/>
                          </a:lnTo>
                          <a:lnTo>
                            <a:pt x="442" y="71"/>
                          </a:lnTo>
                          <a:lnTo>
                            <a:pt x="437" y="75"/>
                          </a:lnTo>
                          <a:lnTo>
                            <a:pt x="434" y="78"/>
                          </a:lnTo>
                          <a:lnTo>
                            <a:pt x="429" y="81"/>
                          </a:lnTo>
                          <a:lnTo>
                            <a:pt x="427" y="85"/>
                          </a:lnTo>
                          <a:lnTo>
                            <a:pt x="424" y="88"/>
                          </a:lnTo>
                          <a:lnTo>
                            <a:pt x="420" y="92"/>
                          </a:lnTo>
                          <a:lnTo>
                            <a:pt x="417" y="96"/>
                          </a:lnTo>
                          <a:lnTo>
                            <a:pt x="413" y="98"/>
                          </a:lnTo>
                          <a:lnTo>
                            <a:pt x="410" y="101"/>
                          </a:lnTo>
                          <a:lnTo>
                            <a:pt x="408" y="105"/>
                          </a:lnTo>
                          <a:lnTo>
                            <a:pt x="405" y="109"/>
                          </a:lnTo>
                          <a:lnTo>
                            <a:pt x="403" y="112"/>
                          </a:lnTo>
                          <a:lnTo>
                            <a:pt x="400" y="116"/>
                          </a:lnTo>
                          <a:lnTo>
                            <a:pt x="398" y="118"/>
                          </a:lnTo>
                          <a:lnTo>
                            <a:pt x="393" y="123"/>
                          </a:lnTo>
                          <a:lnTo>
                            <a:pt x="389" y="129"/>
                          </a:lnTo>
                          <a:lnTo>
                            <a:pt x="387" y="133"/>
                          </a:lnTo>
                          <a:lnTo>
                            <a:pt x="385" y="137"/>
                          </a:lnTo>
                          <a:lnTo>
                            <a:pt x="383" y="140"/>
                          </a:lnTo>
                          <a:lnTo>
                            <a:pt x="381" y="142"/>
                          </a:lnTo>
                          <a:lnTo>
                            <a:pt x="380" y="144"/>
                          </a:lnTo>
                          <a:lnTo>
                            <a:pt x="380" y="145"/>
                          </a:lnTo>
                          <a:lnTo>
                            <a:pt x="0" y="145"/>
                          </a:lnTo>
                          <a:lnTo>
                            <a:pt x="0" y="145"/>
                          </a:lnTo>
                          <a:close/>
                        </a:path>
                      </a:pathLst>
                    </a:custGeom>
                    <a:solidFill>
                      <a:srgbClr val="9cb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7590240" y="2107440"/>
                      <a:ext cx="223200" cy="151200"/>
                    </a:xfrm>
                    <a:custGeom>
                      <a:avLst/>
                      <a:gdLst/>
                      <a:ahLst/>
                      <a:rect l="l" t="t" r="r" b="b"/>
                      <a:pathLst>
                        <a:path w="230" h="194">
                          <a:moveTo>
                            <a:pt x="200" y="194"/>
                          </a:moveTo>
                          <a:lnTo>
                            <a:pt x="229" y="180"/>
                          </a:lnTo>
                          <a:lnTo>
                            <a:pt x="230" y="117"/>
                          </a:lnTo>
                          <a:lnTo>
                            <a:pt x="96" y="14"/>
                          </a:lnTo>
                          <a:lnTo>
                            <a:pt x="0" y="0"/>
                          </a:lnTo>
                          <a:lnTo>
                            <a:pt x="200" y="194"/>
                          </a:lnTo>
                          <a:lnTo>
                            <a:pt x="200" y="194"/>
                          </a:lnTo>
                          <a:close/>
                        </a:path>
                      </a:pathLst>
                    </a:custGeom>
                    <a:solidFill>
                      <a:srgbClr val="54423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7434720" y="1868400"/>
                      <a:ext cx="365760" cy="275040"/>
                    </a:xfrm>
                    <a:custGeom>
                      <a:avLst/>
                      <a:gdLst/>
                      <a:ahLst/>
                      <a:rect l="l" t="t" r="r" b="b"/>
                      <a:pathLst>
                        <a:path w="377" h="353">
                          <a:moveTo>
                            <a:pt x="53" y="353"/>
                          </a:moveTo>
                          <a:lnTo>
                            <a:pt x="0" y="307"/>
                          </a:lnTo>
                          <a:lnTo>
                            <a:pt x="25" y="256"/>
                          </a:lnTo>
                          <a:lnTo>
                            <a:pt x="17" y="228"/>
                          </a:lnTo>
                          <a:lnTo>
                            <a:pt x="17" y="227"/>
                          </a:lnTo>
                          <a:lnTo>
                            <a:pt x="19" y="225"/>
                          </a:lnTo>
                          <a:lnTo>
                            <a:pt x="20" y="222"/>
                          </a:lnTo>
                          <a:lnTo>
                            <a:pt x="22" y="220"/>
                          </a:lnTo>
                          <a:lnTo>
                            <a:pt x="24" y="216"/>
                          </a:lnTo>
                          <a:lnTo>
                            <a:pt x="27" y="214"/>
                          </a:lnTo>
                          <a:lnTo>
                            <a:pt x="29" y="209"/>
                          </a:lnTo>
                          <a:lnTo>
                            <a:pt x="32" y="206"/>
                          </a:lnTo>
                          <a:lnTo>
                            <a:pt x="35" y="201"/>
                          </a:lnTo>
                          <a:lnTo>
                            <a:pt x="38" y="196"/>
                          </a:lnTo>
                          <a:lnTo>
                            <a:pt x="41" y="191"/>
                          </a:lnTo>
                          <a:lnTo>
                            <a:pt x="45" y="187"/>
                          </a:lnTo>
                          <a:lnTo>
                            <a:pt x="49" y="182"/>
                          </a:lnTo>
                          <a:lnTo>
                            <a:pt x="54" y="176"/>
                          </a:lnTo>
                          <a:lnTo>
                            <a:pt x="56" y="173"/>
                          </a:lnTo>
                          <a:lnTo>
                            <a:pt x="57" y="170"/>
                          </a:lnTo>
                          <a:lnTo>
                            <a:pt x="59" y="168"/>
                          </a:lnTo>
                          <a:lnTo>
                            <a:pt x="61" y="165"/>
                          </a:lnTo>
                          <a:lnTo>
                            <a:pt x="66" y="159"/>
                          </a:lnTo>
                          <a:lnTo>
                            <a:pt x="71" y="153"/>
                          </a:lnTo>
                          <a:lnTo>
                            <a:pt x="73" y="150"/>
                          </a:lnTo>
                          <a:lnTo>
                            <a:pt x="75" y="147"/>
                          </a:lnTo>
                          <a:lnTo>
                            <a:pt x="77" y="144"/>
                          </a:lnTo>
                          <a:lnTo>
                            <a:pt x="80" y="141"/>
                          </a:lnTo>
                          <a:lnTo>
                            <a:pt x="82" y="138"/>
                          </a:lnTo>
                          <a:lnTo>
                            <a:pt x="85" y="135"/>
                          </a:lnTo>
                          <a:lnTo>
                            <a:pt x="87" y="131"/>
                          </a:lnTo>
                          <a:lnTo>
                            <a:pt x="90" y="130"/>
                          </a:lnTo>
                          <a:lnTo>
                            <a:pt x="92" y="126"/>
                          </a:lnTo>
                          <a:lnTo>
                            <a:pt x="94" y="123"/>
                          </a:lnTo>
                          <a:lnTo>
                            <a:pt x="96" y="119"/>
                          </a:lnTo>
                          <a:lnTo>
                            <a:pt x="99" y="116"/>
                          </a:lnTo>
                          <a:lnTo>
                            <a:pt x="101" y="113"/>
                          </a:lnTo>
                          <a:lnTo>
                            <a:pt x="105" y="111"/>
                          </a:lnTo>
                          <a:lnTo>
                            <a:pt x="107" y="107"/>
                          </a:lnTo>
                          <a:lnTo>
                            <a:pt x="110" y="104"/>
                          </a:lnTo>
                          <a:lnTo>
                            <a:pt x="114" y="98"/>
                          </a:lnTo>
                          <a:lnTo>
                            <a:pt x="120" y="93"/>
                          </a:lnTo>
                          <a:lnTo>
                            <a:pt x="125" y="87"/>
                          </a:lnTo>
                          <a:lnTo>
                            <a:pt x="131" y="82"/>
                          </a:lnTo>
                          <a:lnTo>
                            <a:pt x="135" y="76"/>
                          </a:lnTo>
                          <a:lnTo>
                            <a:pt x="140" y="72"/>
                          </a:lnTo>
                          <a:lnTo>
                            <a:pt x="145" y="67"/>
                          </a:lnTo>
                          <a:lnTo>
                            <a:pt x="150" y="62"/>
                          </a:lnTo>
                          <a:lnTo>
                            <a:pt x="154" y="57"/>
                          </a:lnTo>
                          <a:lnTo>
                            <a:pt x="159" y="53"/>
                          </a:lnTo>
                          <a:lnTo>
                            <a:pt x="164" y="49"/>
                          </a:lnTo>
                          <a:lnTo>
                            <a:pt x="169" y="45"/>
                          </a:lnTo>
                          <a:lnTo>
                            <a:pt x="173" y="41"/>
                          </a:lnTo>
                          <a:lnTo>
                            <a:pt x="177" y="37"/>
                          </a:lnTo>
                          <a:lnTo>
                            <a:pt x="182" y="34"/>
                          </a:lnTo>
                          <a:lnTo>
                            <a:pt x="186" y="31"/>
                          </a:lnTo>
                          <a:lnTo>
                            <a:pt x="190" y="27"/>
                          </a:lnTo>
                          <a:lnTo>
                            <a:pt x="194" y="25"/>
                          </a:lnTo>
                          <a:lnTo>
                            <a:pt x="198" y="22"/>
                          </a:lnTo>
                          <a:lnTo>
                            <a:pt x="202" y="20"/>
                          </a:lnTo>
                          <a:lnTo>
                            <a:pt x="205" y="16"/>
                          </a:lnTo>
                          <a:lnTo>
                            <a:pt x="208" y="15"/>
                          </a:lnTo>
                          <a:lnTo>
                            <a:pt x="211" y="13"/>
                          </a:lnTo>
                          <a:lnTo>
                            <a:pt x="214" y="11"/>
                          </a:lnTo>
                          <a:lnTo>
                            <a:pt x="220" y="7"/>
                          </a:lnTo>
                          <a:lnTo>
                            <a:pt x="225" y="5"/>
                          </a:lnTo>
                          <a:lnTo>
                            <a:pt x="228" y="2"/>
                          </a:lnTo>
                          <a:lnTo>
                            <a:pt x="230" y="1"/>
                          </a:lnTo>
                          <a:lnTo>
                            <a:pt x="232" y="0"/>
                          </a:lnTo>
                          <a:lnTo>
                            <a:pt x="233" y="0"/>
                          </a:lnTo>
                          <a:lnTo>
                            <a:pt x="377" y="31"/>
                          </a:lnTo>
                          <a:lnTo>
                            <a:pt x="365" y="270"/>
                          </a:lnTo>
                          <a:lnTo>
                            <a:pt x="188" y="288"/>
                          </a:lnTo>
                          <a:lnTo>
                            <a:pt x="53" y="353"/>
                          </a:lnTo>
                          <a:lnTo>
                            <a:pt x="53" y="353"/>
                          </a:lnTo>
                          <a:close/>
                        </a:path>
                      </a:pathLst>
                    </a:custGeom>
                    <a:solidFill>
                      <a:srgbClr val="c2d6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7698960" y="1773360"/>
                      <a:ext cx="114480" cy="212040"/>
                    </a:xfrm>
                    <a:custGeom>
                      <a:avLst/>
                      <a:gdLst/>
                      <a:ahLst/>
                      <a:rect l="l" t="t" r="r" b="b"/>
                      <a:pathLst>
                        <a:path w="118" h="272">
                          <a:moveTo>
                            <a:pt x="39" y="0"/>
                          </a:moveTo>
                          <a:lnTo>
                            <a:pt x="39" y="0"/>
                          </a:lnTo>
                          <a:lnTo>
                            <a:pt x="37" y="2"/>
                          </a:lnTo>
                          <a:lnTo>
                            <a:pt x="35" y="4"/>
                          </a:lnTo>
                          <a:lnTo>
                            <a:pt x="35" y="6"/>
                          </a:lnTo>
                          <a:lnTo>
                            <a:pt x="31" y="10"/>
                          </a:lnTo>
                          <a:lnTo>
                            <a:pt x="28" y="15"/>
                          </a:lnTo>
                          <a:lnTo>
                            <a:pt x="26" y="17"/>
                          </a:lnTo>
                          <a:lnTo>
                            <a:pt x="24" y="20"/>
                          </a:lnTo>
                          <a:lnTo>
                            <a:pt x="23" y="23"/>
                          </a:lnTo>
                          <a:lnTo>
                            <a:pt x="21" y="26"/>
                          </a:lnTo>
                          <a:lnTo>
                            <a:pt x="19" y="30"/>
                          </a:lnTo>
                          <a:lnTo>
                            <a:pt x="16" y="33"/>
                          </a:lnTo>
                          <a:lnTo>
                            <a:pt x="15" y="37"/>
                          </a:lnTo>
                          <a:lnTo>
                            <a:pt x="13" y="41"/>
                          </a:lnTo>
                          <a:lnTo>
                            <a:pt x="11" y="43"/>
                          </a:lnTo>
                          <a:lnTo>
                            <a:pt x="9" y="47"/>
                          </a:lnTo>
                          <a:lnTo>
                            <a:pt x="8" y="51"/>
                          </a:lnTo>
                          <a:lnTo>
                            <a:pt x="7" y="55"/>
                          </a:lnTo>
                          <a:lnTo>
                            <a:pt x="5" y="58"/>
                          </a:lnTo>
                          <a:lnTo>
                            <a:pt x="3" y="61"/>
                          </a:lnTo>
                          <a:lnTo>
                            <a:pt x="2" y="63"/>
                          </a:lnTo>
                          <a:lnTo>
                            <a:pt x="2" y="66"/>
                          </a:lnTo>
                          <a:lnTo>
                            <a:pt x="0" y="69"/>
                          </a:lnTo>
                          <a:lnTo>
                            <a:pt x="0" y="71"/>
                          </a:lnTo>
                          <a:lnTo>
                            <a:pt x="13" y="88"/>
                          </a:lnTo>
                          <a:lnTo>
                            <a:pt x="3" y="128"/>
                          </a:lnTo>
                          <a:lnTo>
                            <a:pt x="3" y="130"/>
                          </a:lnTo>
                          <a:lnTo>
                            <a:pt x="3" y="132"/>
                          </a:lnTo>
                          <a:lnTo>
                            <a:pt x="4" y="135"/>
                          </a:lnTo>
                          <a:lnTo>
                            <a:pt x="4" y="138"/>
                          </a:lnTo>
                          <a:lnTo>
                            <a:pt x="5" y="142"/>
                          </a:lnTo>
                          <a:lnTo>
                            <a:pt x="6" y="147"/>
                          </a:lnTo>
                          <a:lnTo>
                            <a:pt x="7" y="153"/>
                          </a:lnTo>
                          <a:lnTo>
                            <a:pt x="7" y="157"/>
                          </a:lnTo>
                          <a:lnTo>
                            <a:pt x="8" y="163"/>
                          </a:lnTo>
                          <a:lnTo>
                            <a:pt x="9" y="167"/>
                          </a:lnTo>
                          <a:lnTo>
                            <a:pt x="9" y="170"/>
                          </a:lnTo>
                          <a:lnTo>
                            <a:pt x="10" y="173"/>
                          </a:lnTo>
                          <a:lnTo>
                            <a:pt x="11" y="176"/>
                          </a:lnTo>
                          <a:lnTo>
                            <a:pt x="11" y="179"/>
                          </a:lnTo>
                          <a:lnTo>
                            <a:pt x="12" y="182"/>
                          </a:lnTo>
                          <a:lnTo>
                            <a:pt x="12" y="185"/>
                          </a:lnTo>
                          <a:lnTo>
                            <a:pt x="13" y="189"/>
                          </a:lnTo>
                          <a:lnTo>
                            <a:pt x="14" y="192"/>
                          </a:lnTo>
                          <a:lnTo>
                            <a:pt x="15" y="195"/>
                          </a:lnTo>
                          <a:lnTo>
                            <a:pt x="15" y="198"/>
                          </a:lnTo>
                          <a:lnTo>
                            <a:pt x="16" y="201"/>
                          </a:lnTo>
                          <a:lnTo>
                            <a:pt x="17" y="207"/>
                          </a:lnTo>
                          <a:lnTo>
                            <a:pt x="19" y="213"/>
                          </a:lnTo>
                          <a:lnTo>
                            <a:pt x="20" y="217"/>
                          </a:lnTo>
                          <a:lnTo>
                            <a:pt x="22" y="223"/>
                          </a:lnTo>
                          <a:lnTo>
                            <a:pt x="24" y="227"/>
                          </a:lnTo>
                          <a:lnTo>
                            <a:pt x="25" y="232"/>
                          </a:lnTo>
                          <a:lnTo>
                            <a:pt x="27" y="235"/>
                          </a:lnTo>
                          <a:lnTo>
                            <a:pt x="29" y="239"/>
                          </a:lnTo>
                          <a:lnTo>
                            <a:pt x="30" y="241"/>
                          </a:lnTo>
                          <a:lnTo>
                            <a:pt x="31" y="245"/>
                          </a:lnTo>
                          <a:lnTo>
                            <a:pt x="32" y="247"/>
                          </a:lnTo>
                          <a:lnTo>
                            <a:pt x="34" y="249"/>
                          </a:lnTo>
                          <a:lnTo>
                            <a:pt x="35" y="252"/>
                          </a:lnTo>
                          <a:lnTo>
                            <a:pt x="35" y="253"/>
                          </a:lnTo>
                          <a:lnTo>
                            <a:pt x="92" y="272"/>
                          </a:lnTo>
                          <a:lnTo>
                            <a:pt x="117" y="241"/>
                          </a:lnTo>
                          <a:lnTo>
                            <a:pt x="118" y="101"/>
                          </a:lnTo>
                          <a:lnTo>
                            <a:pt x="118" y="10"/>
                          </a:lnTo>
                          <a:lnTo>
                            <a:pt x="39" y="0"/>
                          </a:lnTo>
                          <a:lnTo>
                            <a:pt x="39" y="0"/>
                          </a:lnTo>
                          <a:close/>
                        </a:path>
                      </a:pathLst>
                    </a:custGeom>
                    <a:solidFill>
                      <a:srgbClr val="f59e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7484400" y="1940400"/>
                      <a:ext cx="329040" cy="258120"/>
                    </a:xfrm>
                    <a:custGeom>
                      <a:avLst/>
                      <a:gdLst/>
                      <a:ahLst/>
                      <a:rect l="l" t="t" r="r" b="b"/>
                      <a:pathLst>
                        <a:path w="339" h="331">
                          <a:moveTo>
                            <a:pt x="56" y="259"/>
                          </a:moveTo>
                          <a:lnTo>
                            <a:pt x="0" y="259"/>
                          </a:lnTo>
                          <a:lnTo>
                            <a:pt x="0" y="258"/>
                          </a:lnTo>
                          <a:lnTo>
                            <a:pt x="0" y="257"/>
                          </a:lnTo>
                          <a:lnTo>
                            <a:pt x="0" y="254"/>
                          </a:lnTo>
                          <a:lnTo>
                            <a:pt x="1" y="251"/>
                          </a:lnTo>
                          <a:lnTo>
                            <a:pt x="2" y="248"/>
                          </a:lnTo>
                          <a:lnTo>
                            <a:pt x="3" y="244"/>
                          </a:lnTo>
                          <a:lnTo>
                            <a:pt x="5" y="239"/>
                          </a:lnTo>
                          <a:lnTo>
                            <a:pt x="6" y="234"/>
                          </a:lnTo>
                          <a:lnTo>
                            <a:pt x="8" y="229"/>
                          </a:lnTo>
                          <a:lnTo>
                            <a:pt x="12" y="223"/>
                          </a:lnTo>
                          <a:lnTo>
                            <a:pt x="13" y="220"/>
                          </a:lnTo>
                          <a:lnTo>
                            <a:pt x="14" y="217"/>
                          </a:lnTo>
                          <a:lnTo>
                            <a:pt x="17" y="214"/>
                          </a:lnTo>
                          <a:lnTo>
                            <a:pt x="19" y="211"/>
                          </a:lnTo>
                          <a:lnTo>
                            <a:pt x="21" y="208"/>
                          </a:lnTo>
                          <a:lnTo>
                            <a:pt x="22" y="205"/>
                          </a:lnTo>
                          <a:lnTo>
                            <a:pt x="24" y="202"/>
                          </a:lnTo>
                          <a:lnTo>
                            <a:pt x="26" y="199"/>
                          </a:lnTo>
                          <a:lnTo>
                            <a:pt x="29" y="196"/>
                          </a:lnTo>
                          <a:lnTo>
                            <a:pt x="32" y="193"/>
                          </a:lnTo>
                          <a:lnTo>
                            <a:pt x="35" y="191"/>
                          </a:lnTo>
                          <a:lnTo>
                            <a:pt x="38" y="189"/>
                          </a:lnTo>
                          <a:lnTo>
                            <a:pt x="41" y="185"/>
                          </a:lnTo>
                          <a:lnTo>
                            <a:pt x="44" y="183"/>
                          </a:lnTo>
                          <a:lnTo>
                            <a:pt x="47" y="180"/>
                          </a:lnTo>
                          <a:lnTo>
                            <a:pt x="50" y="178"/>
                          </a:lnTo>
                          <a:lnTo>
                            <a:pt x="54" y="175"/>
                          </a:lnTo>
                          <a:lnTo>
                            <a:pt x="58" y="173"/>
                          </a:lnTo>
                          <a:lnTo>
                            <a:pt x="62" y="172"/>
                          </a:lnTo>
                          <a:lnTo>
                            <a:pt x="65" y="170"/>
                          </a:lnTo>
                          <a:lnTo>
                            <a:pt x="68" y="167"/>
                          </a:lnTo>
                          <a:lnTo>
                            <a:pt x="72" y="165"/>
                          </a:lnTo>
                          <a:lnTo>
                            <a:pt x="75" y="163"/>
                          </a:lnTo>
                          <a:lnTo>
                            <a:pt x="79" y="162"/>
                          </a:lnTo>
                          <a:lnTo>
                            <a:pt x="82" y="160"/>
                          </a:lnTo>
                          <a:lnTo>
                            <a:pt x="86" y="158"/>
                          </a:lnTo>
                          <a:lnTo>
                            <a:pt x="90" y="156"/>
                          </a:lnTo>
                          <a:lnTo>
                            <a:pt x="94" y="155"/>
                          </a:lnTo>
                          <a:lnTo>
                            <a:pt x="96" y="154"/>
                          </a:lnTo>
                          <a:lnTo>
                            <a:pt x="100" y="153"/>
                          </a:lnTo>
                          <a:lnTo>
                            <a:pt x="102" y="151"/>
                          </a:lnTo>
                          <a:lnTo>
                            <a:pt x="105" y="151"/>
                          </a:lnTo>
                          <a:lnTo>
                            <a:pt x="111" y="148"/>
                          </a:lnTo>
                          <a:lnTo>
                            <a:pt x="116" y="147"/>
                          </a:lnTo>
                          <a:lnTo>
                            <a:pt x="120" y="145"/>
                          </a:lnTo>
                          <a:lnTo>
                            <a:pt x="122" y="144"/>
                          </a:lnTo>
                          <a:lnTo>
                            <a:pt x="124" y="144"/>
                          </a:lnTo>
                          <a:lnTo>
                            <a:pt x="125" y="144"/>
                          </a:lnTo>
                          <a:lnTo>
                            <a:pt x="147" y="183"/>
                          </a:lnTo>
                          <a:lnTo>
                            <a:pt x="150" y="132"/>
                          </a:lnTo>
                          <a:lnTo>
                            <a:pt x="121" y="108"/>
                          </a:lnTo>
                          <a:lnTo>
                            <a:pt x="122" y="108"/>
                          </a:lnTo>
                          <a:lnTo>
                            <a:pt x="124" y="107"/>
                          </a:lnTo>
                          <a:lnTo>
                            <a:pt x="126" y="106"/>
                          </a:lnTo>
                          <a:lnTo>
                            <a:pt x="129" y="105"/>
                          </a:lnTo>
                          <a:lnTo>
                            <a:pt x="132" y="104"/>
                          </a:lnTo>
                          <a:lnTo>
                            <a:pt x="135" y="103"/>
                          </a:lnTo>
                          <a:lnTo>
                            <a:pt x="138" y="101"/>
                          </a:lnTo>
                          <a:lnTo>
                            <a:pt x="141" y="99"/>
                          </a:lnTo>
                          <a:lnTo>
                            <a:pt x="144" y="96"/>
                          </a:lnTo>
                          <a:lnTo>
                            <a:pt x="148" y="94"/>
                          </a:lnTo>
                          <a:lnTo>
                            <a:pt x="151" y="90"/>
                          </a:lnTo>
                          <a:lnTo>
                            <a:pt x="155" y="87"/>
                          </a:lnTo>
                          <a:lnTo>
                            <a:pt x="159" y="82"/>
                          </a:lnTo>
                          <a:lnTo>
                            <a:pt x="162" y="78"/>
                          </a:lnTo>
                          <a:lnTo>
                            <a:pt x="163" y="75"/>
                          </a:lnTo>
                          <a:lnTo>
                            <a:pt x="164" y="72"/>
                          </a:lnTo>
                          <a:lnTo>
                            <a:pt x="166" y="69"/>
                          </a:lnTo>
                          <a:lnTo>
                            <a:pt x="168" y="66"/>
                          </a:lnTo>
                          <a:lnTo>
                            <a:pt x="170" y="63"/>
                          </a:lnTo>
                          <a:lnTo>
                            <a:pt x="171" y="59"/>
                          </a:lnTo>
                          <a:lnTo>
                            <a:pt x="173" y="57"/>
                          </a:lnTo>
                          <a:lnTo>
                            <a:pt x="175" y="54"/>
                          </a:lnTo>
                          <a:lnTo>
                            <a:pt x="176" y="50"/>
                          </a:lnTo>
                          <a:lnTo>
                            <a:pt x="177" y="47"/>
                          </a:lnTo>
                          <a:lnTo>
                            <a:pt x="178" y="43"/>
                          </a:lnTo>
                          <a:lnTo>
                            <a:pt x="179" y="40"/>
                          </a:lnTo>
                          <a:lnTo>
                            <a:pt x="180" y="38"/>
                          </a:lnTo>
                          <a:lnTo>
                            <a:pt x="182" y="34"/>
                          </a:lnTo>
                          <a:lnTo>
                            <a:pt x="183" y="31"/>
                          </a:lnTo>
                          <a:lnTo>
                            <a:pt x="184" y="28"/>
                          </a:lnTo>
                          <a:lnTo>
                            <a:pt x="185" y="25"/>
                          </a:lnTo>
                          <a:lnTo>
                            <a:pt x="186" y="21"/>
                          </a:lnTo>
                          <a:lnTo>
                            <a:pt x="187" y="19"/>
                          </a:lnTo>
                          <a:lnTo>
                            <a:pt x="188" y="16"/>
                          </a:lnTo>
                          <a:lnTo>
                            <a:pt x="189" y="11"/>
                          </a:lnTo>
                          <a:lnTo>
                            <a:pt x="191" y="7"/>
                          </a:lnTo>
                          <a:lnTo>
                            <a:pt x="192" y="3"/>
                          </a:lnTo>
                          <a:lnTo>
                            <a:pt x="193" y="1"/>
                          </a:lnTo>
                          <a:lnTo>
                            <a:pt x="193" y="0"/>
                          </a:lnTo>
                          <a:lnTo>
                            <a:pt x="194" y="0"/>
                          </a:lnTo>
                          <a:lnTo>
                            <a:pt x="254" y="144"/>
                          </a:lnTo>
                          <a:lnTo>
                            <a:pt x="294" y="90"/>
                          </a:lnTo>
                          <a:lnTo>
                            <a:pt x="339" y="59"/>
                          </a:lnTo>
                          <a:lnTo>
                            <a:pt x="339" y="331"/>
                          </a:lnTo>
                          <a:lnTo>
                            <a:pt x="160" y="199"/>
                          </a:lnTo>
                          <a:lnTo>
                            <a:pt x="119" y="247"/>
                          </a:lnTo>
                          <a:lnTo>
                            <a:pt x="56" y="259"/>
                          </a:lnTo>
                          <a:lnTo>
                            <a:pt x="56" y="259"/>
                          </a:lnTo>
                          <a:close/>
                        </a:path>
                      </a:pathLst>
                    </a:custGeom>
                    <a:solidFill>
                      <a:srgbClr val="8a998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7732080" y="1832040"/>
                      <a:ext cx="81720" cy="182880"/>
                    </a:xfrm>
                    <a:custGeom>
                      <a:avLst/>
                      <a:gdLst/>
                      <a:ahLst/>
                      <a:rect l="l" t="t" r="r" b="b"/>
                      <a:pathLst>
                        <a:path w="84" h="235">
                          <a:moveTo>
                            <a:pt x="39" y="235"/>
                          </a:moveTo>
                          <a:lnTo>
                            <a:pt x="9" y="171"/>
                          </a:lnTo>
                          <a:lnTo>
                            <a:pt x="33" y="183"/>
                          </a:lnTo>
                          <a:lnTo>
                            <a:pt x="59" y="175"/>
                          </a:lnTo>
                          <a:lnTo>
                            <a:pt x="29" y="169"/>
                          </a:lnTo>
                          <a:lnTo>
                            <a:pt x="17" y="125"/>
                          </a:lnTo>
                          <a:lnTo>
                            <a:pt x="17" y="94"/>
                          </a:lnTo>
                          <a:lnTo>
                            <a:pt x="0" y="78"/>
                          </a:lnTo>
                          <a:lnTo>
                            <a:pt x="23" y="13"/>
                          </a:lnTo>
                          <a:lnTo>
                            <a:pt x="62" y="0"/>
                          </a:lnTo>
                          <a:lnTo>
                            <a:pt x="84" y="20"/>
                          </a:lnTo>
                          <a:lnTo>
                            <a:pt x="84" y="205"/>
                          </a:lnTo>
                          <a:lnTo>
                            <a:pt x="39" y="235"/>
                          </a:lnTo>
                          <a:lnTo>
                            <a:pt x="39" y="235"/>
                          </a:lnTo>
                          <a:close/>
                        </a:path>
                      </a:pathLst>
                    </a:custGeom>
                    <a:solidFill>
                      <a:srgbClr val="a84a3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7751520" y="2017800"/>
                      <a:ext cx="37800" cy="63000"/>
                    </a:xfrm>
                    <a:custGeom>
                      <a:avLst/>
                      <a:gdLst/>
                      <a:ahLst/>
                      <a:rect l="l" t="t" r="r" b="b"/>
                      <a:pathLst>
                        <a:path w="39" h="81">
                          <a:moveTo>
                            <a:pt x="19" y="0"/>
                          </a:moveTo>
                          <a:lnTo>
                            <a:pt x="39" y="37"/>
                          </a:lnTo>
                          <a:lnTo>
                            <a:pt x="12" y="81"/>
                          </a:lnTo>
                          <a:lnTo>
                            <a:pt x="0" y="27"/>
                          </a:lnTo>
                          <a:lnTo>
                            <a:pt x="19" y="0"/>
                          </a:lnTo>
                          <a:lnTo>
                            <a:pt x="19" y="0"/>
                          </a:lnTo>
                          <a:close/>
                        </a:path>
                      </a:pathLst>
                    </a:custGeom>
                    <a:solidFill>
                      <a:srgbClr val="1a1a1a"/>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259" name=""/>
                    <p:cNvSpPr/>
                    <p:nvPr/>
                  </p:nvSpPr>
                  <p:spPr>
                    <a:xfrm>
                      <a:off x="7733160" y="2072160"/>
                      <a:ext cx="57240" cy="113760"/>
                    </a:xfrm>
                    <a:custGeom>
                      <a:avLst/>
                      <a:gdLst/>
                      <a:ahLst/>
                      <a:rect l="l" t="t" r="r" b="b"/>
                      <a:pathLst>
                        <a:path w="59" h="146">
                          <a:moveTo>
                            <a:pt x="32" y="0"/>
                          </a:moveTo>
                          <a:lnTo>
                            <a:pt x="32" y="1"/>
                          </a:lnTo>
                          <a:lnTo>
                            <a:pt x="33" y="4"/>
                          </a:lnTo>
                          <a:lnTo>
                            <a:pt x="33" y="6"/>
                          </a:lnTo>
                          <a:lnTo>
                            <a:pt x="34" y="10"/>
                          </a:lnTo>
                          <a:lnTo>
                            <a:pt x="35" y="13"/>
                          </a:lnTo>
                          <a:lnTo>
                            <a:pt x="36" y="18"/>
                          </a:lnTo>
                          <a:lnTo>
                            <a:pt x="37" y="23"/>
                          </a:lnTo>
                          <a:lnTo>
                            <a:pt x="38" y="27"/>
                          </a:lnTo>
                          <a:lnTo>
                            <a:pt x="38" y="32"/>
                          </a:lnTo>
                          <a:lnTo>
                            <a:pt x="39" y="39"/>
                          </a:lnTo>
                          <a:lnTo>
                            <a:pt x="39" y="42"/>
                          </a:lnTo>
                          <a:lnTo>
                            <a:pt x="40" y="44"/>
                          </a:lnTo>
                          <a:lnTo>
                            <a:pt x="40" y="47"/>
                          </a:lnTo>
                          <a:lnTo>
                            <a:pt x="41" y="51"/>
                          </a:lnTo>
                          <a:lnTo>
                            <a:pt x="42" y="54"/>
                          </a:lnTo>
                          <a:lnTo>
                            <a:pt x="42" y="58"/>
                          </a:lnTo>
                          <a:lnTo>
                            <a:pt x="43" y="61"/>
                          </a:lnTo>
                          <a:lnTo>
                            <a:pt x="44" y="64"/>
                          </a:lnTo>
                          <a:lnTo>
                            <a:pt x="44" y="67"/>
                          </a:lnTo>
                          <a:lnTo>
                            <a:pt x="45" y="71"/>
                          </a:lnTo>
                          <a:lnTo>
                            <a:pt x="45" y="74"/>
                          </a:lnTo>
                          <a:lnTo>
                            <a:pt x="46" y="78"/>
                          </a:lnTo>
                          <a:lnTo>
                            <a:pt x="47" y="80"/>
                          </a:lnTo>
                          <a:lnTo>
                            <a:pt x="48" y="84"/>
                          </a:lnTo>
                          <a:lnTo>
                            <a:pt x="48" y="88"/>
                          </a:lnTo>
                          <a:lnTo>
                            <a:pt x="49" y="92"/>
                          </a:lnTo>
                          <a:lnTo>
                            <a:pt x="49" y="96"/>
                          </a:lnTo>
                          <a:lnTo>
                            <a:pt x="50" y="99"/>
                          </a:lnTo>
                          <a:lnTo>
                            <a:pt x="50" y="102"/>
                          </a:lnTo>
                          <a:lnTo>
                            <a:pt x="51" y="106"/>
                          </a:lnTo>
                          <a:lnTo>
                            <a:pt x="52" y="109"/>
                          </a:lnTo>
                          <a:lnTo>
                            <a:pt x="53" y="112"/>
                          </a:lnTo>
                          <a:lnTo>
                            <a:pt x="53" y="116"/>
                          </a:lnTo>
                          <a:lnTo>
                            <a:pt x="54" y="119"/>
                          </a:lnTo>
                          <a:lnTo>
                            <a:pt x="55" y="123"/>
                          </a:lnTo>
                          <a:lnTo>
                            <a:pt x="56" y="129"/>
                          </a:lnTo>
                          <a:lnTo>
                            <a:pt x="57" y="133"/>
                          </a:lnTo>
                          <a:lnTo>
                            <a:pt x="58" y="138"/>
                          </a:lnTo>
                          <a:lnTo>
                            <a:pt x="58" y="140"/>
                          </a:lnTo>
                          <a:lnTo>
                            <a:pt x="58" y="143"/>
                          </a:lnTo>
                          <a:lnTo>
                            <a:pt x="58" y="144"/>
                          </a:lnTo>
                          <a:lnTo>
                            <a:pt x="59" y="146"/>
                          </a:lnTo>
                          <a:lnTo>
                            <a:pt x="0" y="101"/>
                          </a:lnTo>
                          <a:lnTo>
                            <a:pt x="32" y="0"/>
                          </a:lnTo>
                          <a:lnTo>
                            <a:pt x="32" y="0"/>
                          </a:lnTo>
                          <a:close/>
                        </a:path>
                      </a:pathLst>
                    </a:custGeom>
                    <a:solidFill>
                      <a:srgbClr val="1a1a1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7506000" y="2074320"/>
                      <a:ext cx="295920" cy="192600"/>
                    </a:xfrm>
                    <a:custGeom>
                      <a:avLst/>
                      <a:gdLst/>
                      <a:ahLst/>
                      <a:rect l="l" t="t" r="r" b="b"/>
                      <a:pathLst>
                        <a:path w="305" h="247">
                          <a:moveTo>
                            <a:pt x="0" y="77"/>
                          </a:moveTo>
                          <a:lnTo>
                            <a:pt x="0" y="76"/>
                          </a:lnTo>
                          <a:lnTo>
                            <a:pt x="2" y="72"/>
                          </a:lnTo>
                          <a:lnTo>
                            <a:pt x="2" y="69"/>
                          </a:lnTo>
                          <a:lnTo>
                            <a:pt x="2" y="67"/>
                          </a:lnTo>
                          <a:lnTo>
                            <a:pt x="4" y="63"/>
                          </a:lnTo>
                          <a:lnTo>
                            <a:pt x="6" y="60"/>
                          </a:lnTo>
                          <a:lnTo>
                            <a:pt x="8" y="57"/>
                          </a:lnTo>
                          <a:lnTo>
                            <a:pt x="11" y="53"/>
                          </a:lnTo>
                          <a:lnTo>
                            <a:pt x="13" y="49"/>
                          </a:lnTo>
                          <a:lnTo>
                            <a:pt x="17" y="46"/>
                          </a:lnTo>
                          <a:lnTo>
                            <a:pt x="21" y="41"/>
                          </a:lnTo>
                          <a:lnTo>
                            <a:pt x="24" y="39"/>
                          </a:lnTo>
                          <a:lnTo>
                            <a:pt x="29" y="35"/>
                          </a:lnTo>
                          <a:lnTo>
                            <a:pt x="35" y="31"/>
                          </a:lnTo>
                          <a:lnTo>
                            <a:pt x="37" y="29"/>
                          </a:lnTo>
                          <a:lnTo>
                            <a:pt x="40" y="27"/>
                          </a:lnTo>
                          <a:lnTo>
                            <a:pt x="41" y="25"/>
                          </a:lnTo>
                          <a:lnTo>
                            <a:pt x="45" y="23"/>
                          </a:lnTo>
                          <a:lnTo>
                            <a:pt x="48" y="22"/>
                          </a:lnTo>
                          <a:lnTo>
                            <a:pt x="51" y="20"/>
                          </a:lnTo>
                          <a:lnTo>
                            <a:pt x="55" y="19"/>
                          </a:lnTo>
                          <a:lnTo>
                            <a:pt x="58" y="18"/>
                          </a:lnTo>
                          <a:lnTo>
                            <a:pt x="60" y="16"/>
                          </a:lnTo>
                          <a:lnTo>
                            <a:pt x="63" y="15"/>
                          </a:lnTo>
                          <a:lnTo>
                            <a:pt x="67" y="13"/>
                          </a:lnTo>
                          <a:lnTo>
                            <a:pt x="70" y="12"/>
                          </a:lnTo>
                          <a:lnTo>
                            <a:pt x="73" y="11"/>
                          </a:lnTo>
                          <a:lnTo>
                            <a:pt x="76" y="9"/>
                          </a:lnTo>
                          <a:lnTo>
                            <a:pt x="79" y="8"/>
                          </a:lnTo>
                          <a:lnTo>
                            <a:pt x="82" y="8"/>
                          </a:lnTo>
                          <a:lnTo>
                            <a:pt x="87" y="5"/>
                          </a:lnTo>
                          <a:lnTo>
                            <a:pt x="93" y="3"/>
                          </a:lnTo>
                          <a:lnTo>
                            <a:pt x="97" y="2"/>
                          </a:lnTo>
                          <a:lnTo>
                            <a:pt x="101" y="1"/>
                          </a:lnTo>
                          <a:lnTo>
                            <a:pt x="104" y="0"/>
                          </a:lnTo>
                          <a:lnTo>
                            <a:pt x="107" y="0"/>
                          </a:lnTo>
                          <a:lnTo>
                            <a:pt x="109" y="0"/>
                          </a:lnTo>
                          <a:lnTo>
                            <a:pt x="110" y="0"/>
                          </a:lnTo>
                          <a:lnTo>
                            <a:pt x="205" y="135"/>
                          </a:lnTo>
                          <a:lnTo>
                            <a:pt x="259" y="128"/>
                          </a:lnTo>
                          <a:lnTo>
                            <a:pt x="280" y="159"/>
                          </a:lnTo>
                          <a:lnTo>
                            <a:pt x="300" y="179"/>
                          </a:lnTo>
                          <a:lnTo>
                            <a:pt x="288" y="193"/>
                          </a:lnTo>
                          <a:lnTo>
                            <a:pt x="305" y="244"/>
                          </a:lnTo>
                          <a:lnTo>
                            <a:pt x="293" y="247"/>
                          </a:lnTo>
                          <a:lnTo>
                            <a:pt x="283" y="237"/>
                          </a:lnTo>
                          <a:lnTo>
                            <a:pt x="250" y="240"/>
                          </a:lnTo>
                          <a:lnTo>
                            <a:pt x="175" y="189"/>
                          </a:lnTo>
                          <a:lnTo>
                            <a:pt x="175" y="172"/>
                          </a:lnTo>
                          <a:lnTo>
                            <a:pt x="0" y="77"/>
                          </a:lnTo>
                          <a:lnTo>
                            <a:pt x="0" y="77"/>
                          </a:lnTo>
                          <a:close/>
                        </a:path>
                      </a:pathLst>
                    </a:custGeom>
                    <a:solidFill>
                      <a:srgbClr val="c7695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7533000" y="2104920"/>
                      <a:ext cx="255240" cy="128520"/>
                    </a:xfrm>
                    <a:custGeom>
                      <a:avLst/>
                      <a:gdLst/>
                      <a:ahLst/>
                      <a:rect l="l" t="t" r="r" b="b"/>
                      <a:pathLst>
                        <a:path w="263" h="165">
                          <a:moveTo>
                            <a:pt x="0" y="54"/>
                          </a:moveTo>
                          <a:lnTo>
                            <a:pt x="0" y="53"/>
                          </a:lnTo>
                          <a:lnTo>
                            <a:pt x="0" y="52"/>
                          </a:lnTo>
                          <a:lnTo>
                            <a:pt x="0" y="49"/>
                          </a:lnTo>
                          <a:lnTo>
                            <a:pt x="2" y="46"/>
                          </a:lnTo>
                          <a:lnTo>
                            <a:pt x="3" y="41"/>
                          </a:lnTo>
                          <a:lnTo>
                            <a:pt x="6" y="38"/>
                          </a:lnTo>
                          <a:lnTo>
                            <a:pt x="9" y="33"/>
                          </a:lnTo>
                          <a:lnTo>
                            <a:pt x="14" y="29"/>
                          </a:lnTo>
                          <a:lnTo>
                            <a:pt x="17" y="25"/>
                          </a:lnTo>
                          <a:lnTo>
                            <a:pt x="20" y="22"/>
                          </a:lnTo>
                          <a:lnTo>
                            <a:pt x="24" y="20"/>
                          </a:lnTo>
                          <a:lnTo>
                            <a:pt x="28" y="18"/>
                          </a:lnTo>
                          <a:lnTo>
                            <a:pt x="32" y="15"/>
                          </a:lnTo>
                          <a:lnTo>
                            <a:pt x="36" y="13"/>
                          </a:lnTo>
                          <a:lnTo>
                            <a:pt x="40" y="10"/>
                          </a:lnTo>
                          <a:lnTo>
                            <a:pt x="44" y="8"/>
                          </a:lnTo>
                          <a:lnTo>
                            <a:pt x="48" y="6"/>
                          </a:lnTo>
                          <a:lnTo>
                            <a:pt x="51" y="4"/>
                          </a:lnTo>
                          <a:lnTo>
                            <a:pt x="53" y="2"/>
                          </a:lnTo>
                          <a:lnTo>
                            <a:pt x="56" y="1"/>
                          </a:lnTo>
                          <a:lnTo>
                            <a:pt x="61" y="0"/>
                          </a:lnTo>
                          <a:lnTo>
                            <a:pt x="63" y="0"/>
                          </a:lnTo>
                          <a:lnTo>
                            <a:pt x="172" y="101"/>
                          </a:lnTo>
                          <a:lnTo>
                            <a:pt x="226" y="92"/>
                          </a:lnTo>
                          <a:lnTo>
                            <a:pt x="263" y="157"/>
                          </a:lnTo>
                          <a:lnTo>
                            <a:pt x="246" y="162"/>
                          </a:lnTo>
                          <a:lnTo>
                            <a:pt x="209" y="123"/>
                          </a:lnTo>
                          <a:lnTo>
                            <a:pt x="199" y="135"/>
                          </a:lnTo>
                          <a:lnTo>
                            <a:pt x="187" y="133"/>
                          </a:lnTo>
                          <a:lnTo>
                            <a:pt x="174" y="165"/>
                          </a:lnTo>
                          <a:lnTo>
                            <a:pt x="145" y="153"/>
                          </a:lnTo>
                          <a:lnTo>
                            <a:pt x="145" y="135"/>
                          </a:lnTo>
                          <a:lnTo>
                            <a:pt x="143" y="134"/>
                          </a:lnTo>
                          <a:lnTo>
                            <a:pt x="138" y="132"/>
                          </a:lnTo>
                          <a:lnTo>
                            <a:pt x="134" y="129"/>
                          </a:lnTo>
                          <a:lnTo>
                            <a:pt x="130" y="127"/>
                          </a:lnTo>
                          <a:lnTo>
                            <a:pt x="127" y="124"/>
                          </a:lnTo>
                          <a:lnTo>
                            <a:pt x="122" y="122"/>
                          </a:lnTo>
                          <a:lnTo>
                            <a:pt x="116" y="118"/>
                          </a:lnTo>
                          <a:lnTo>
                            <a:pt x="110" y="115"/>
                          </a:lnTo>
                          <a:lnTo>
                            <a:pt x="108" y="114"/>
                          </a:lnTo>
                          <a:lnTo>
                            <a:pt x="105" y="112"/>
                          </a:lnTo>
                          <a:lnTo>
                            <a:pt x="102" y="110"/>
                          </a:lnTo>
                          <a:lnTo>
                            <a:pt x="99" y="109"/>
                          </a:lnTo>
                          <a:lnTo>
                            <a:pt x="95" y="106"/>
                          </a:lnTo>
                          <a:lnTo>
                            <a:pt x="92" y="105"/>
                          </a:lnTo>
                          <a:lnTo>
                            <a:pt x="89" y="102"/>
                          </a:lnTo>
                          <a:lnTo>
                            <a:pt x="86" y="101"/>
                          </a:lnTo>
                          <a:lnTo>
                            <a:pt x="82" y="98"/>
                          </a:lnTo>
                          <a:lnTo>
                            <a:pt x="79" y="97"/>
                          </a:lnTo>
                          <a:lnTo>
                            <a:pt x="76" y="96"/>
                          </a:lnTo>
                          <a:lnTo>
                            <a:pt x="72" y="94"/>
                          </a:lnTo>
                          <a:lnTo>
                            <a:pt x="69" y="92"/>
                          </a:lnTo>
                          <a:lnTo>
                            <a:pt x="66" y="90"/>
                          </a:lnTo>
                          <a:lnTo>
                            <a:pt x="62" y="88"/>
                          </a:lnTo>
                          <a:lnTo>
                            <a:pt x="59" y="86"/>
                          </a:lnTo>
                          <a:lnTo>
                            <a:pt x="55" y="84"/>
                          </a:lnTo>
                          <a:lnTo>
                            <a:pt x="52" y="82"/>
                          </a:lnTo>
                          <a:lnTo>
                            <a:pt x="49" y="80"/>
                          </a:lnTo>
                          <a:lnTo>
                            <a:pt x="46" y="78"/>
                          </a:lnTo>
                          <a:lnTo>
                            <a:pt x="42" y="77"/>
                          </a:lnTo>
                          <a:lnTo>
                            <a:pt x="39" y="75"/>
                          </a:lnTo>
                          <a:lnTo>
                            <a:pt x="36" y="74"/>
                          </a:lnTo>
                          <a:lnTo>
                            <a:pt x="33" y="72"/>
                          </a:lnTo>
                          <a:lnTo>
                            <a:pt x="28" y="69"/>
                          </a:lnTo>
                          <a:lnTo>
                            <a:pt x="23" y="66"/>
                          </a:lnTo>
                          <a:lnTo>
                            <a:pt x="17" y="62"/>
                          </a:lnTo>
                          <a:lnTo>
                            <a:pt x="13" y="60"/>
                          </a:lnTo>
                          <a:lnTo>
                            <a:pt x="9" y="58"/>
                          </a:lnTo>
                          <a:lnTo>
                            <a:pt x="7" y="57"/>
                          </a:lnTo>
                          <a:lnTo>
                            <a:pt x="2" y="54"/>
                          </a:lnTo>
                          <a:lnTo>
                            <a:pt x="0" y="54"/>
                          </a:lnTo>
                          <a:lnTo>
                            <a:pt x="0" y="54"/>
                          </a:lnTo>
                          <a:close/>
                        </a:path>
                      </a:pathLst>
                    </a:custGeom>
                    <a:solidFill>
                      <a:srgbClr val="f59e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7690320" y="1740600"/>
                      <a:ext cx="123120" cy="88920"/>
                    </a:xfrm>
                    <a:custGeom>
                      <a:avLst/>
                      <a:gdLst/>
                      <a:ahLst/>
                      <a:rect l="l" t="t" r="r" b="b"/>
                      <a:pathLst>
                        <a:path w="127" h="114">
                          <a:moveTo>
                            <a:pt x="12" y="114"/>
                          </a:moveTo>
                          <a:lnTo>
                            <a:pt x="11" y="113"/>
                          </a:lnTo>
                          <a:lnTo>
                            <a:pt x="10" y="109"/>
                          </a:lnTo>
                          <a:lnTo>
                            <a:pt x="9" y="106"/>
                          </a:lnTo>
                          <a:lnTo>
                            <a:pt x="8" y="104"/>
                          </a:lnTo>
                          <a:lnTo>
                            <a:pt x="7" y="102"/>
                          </a:lnTo>
                          <a:lnTo>
                            <a:pt x="7" y="99"/>
                          </a:lnTo>
                          <a:lnTo>
                            <a:pt x="5" y="94"/>
                          </a:lnTo>
                          <a:lnTo>
                            <a:pt x="5" y="90"/>
                          </a:lnTo>
                          <a:lnTo>
                            <a:pt x="4" y="86"/>
                          </a:lnTo>
                          <a:lnTo>
                            <a:pt x="4" y="83"/>
                          </a:lnTo>
                          <a:lnTo>
                            <a:pt x="3" y="78"/>
                          </a:lnTo>
                          <a:lnTo>
                            <a:pt x="2" y="73"/>
                          </a:lnTo>
                          <a:lnTo>
                            <a:pt x="1" y="69"/>
                          </a:lnTo>
                          <a:lnTo>
                            <a:pt x="1" y="65"/>
                          </a:lnTo>
                          <a:lnTo>
                            <a:pt x="1" y="59"/>
                          </a:lnTo>
                          <a:lnTo>
                            <a:pt x="0" y="54"/>
                          </a:lnTo>
                          <a:lnTo>
                            <a:pt x="0" y="49"/>
                          </a:lnTo>
                          <a:lnTo>
                            <a:pt x="1" y="45"/>
                          </a:lnTo>
                          <a:lnTo>
                            <a:pt x="1" y="40"/>
                          </a:lnTo>
                          <a:lnTo>
                            <a:pt x="2" y="35"/>
                          </a:lnTo>
                          <a:lnTo>
                            <a:pt x="3" y="30"/>
                          </a:lnTo>
                          <a:lnTo>
                            <a:pt x="5" y="26"/>
                          </a:lnTo>
                          <a:lnTo>
                            <a:pt x="6" y="22"/>
                          </a:lnTo>
                          <a:lnTo>
                            <a:pt x="9" y="18"/>
                          </a:lnTo>
                          <a:lnTo>
                            <a:pt x="12" y="14"/>
                          </a:lnTo>
                          <a:lnTo>
                            <a:pt x="16" y="11"/>
                          </a:lnTo>
                          <a:lnTo>
                            <a:pt x="20" y="8"/>
                          </a:lnTo>
                          <a:lnTo>
                            <a:pt x="24" y="6"/>
                          </a:lnTo>
                          <a:lnTo>
                            <a:pt x="27" y="5"/>
                          </a:lnTo>
                          <a:lnTo>
                            <a:pt x="30" y="4"/>
                          </a:lnTo>
                          <a:lnTo>
                            <a:pt x="33" y="3"/>
                          </a:lnTo>
                          <a:lnTo>
                            <a:pt x="37" y="3"/>
                          </a:lnTo>
                          <a:lnTo>
                            <a:pt x="40" y="2"/>
                          </a:lnTo>
                          <a:lnTo>
                            <a:pt x="43" y="1"/>
                          </a:lnTo>
                          <a:lnTo>
                            <a:pt x="45" y="1"/>
                          </a:lnTo>
                          <a:lnTo>
                            <a:pt x="49" y="1"/>
                          </a:lnTo>
                          <a:lnTo>
                            <a:pt x="53" y="0"/>
                          </a:lnTo>
                          <a:lnTo>
                            <a:pt x="57" y="0"/>
                          </a:lnTo>
                          <a:lnTo>
                            <a:pt x="61" y="0"/>
                          </a:lnTo>
                          <a:lnTo>
                            <a:pt x="64" y="1"/>
                          </a:lnTo>
                          <a:lnTo>
                            <a:pt x="68" y="1"/>
                          </a:lnTo>
                          <a:lnTo>
                            <a:pt x="72" y="1"/>
                          </a:lnTo>
                          <a:lnTo>
                            <a:pt x="75" y="1"/>
                          </a:lnTo>
                          <a:lnTo>
                            <a:pt x="80" y="2"/>
                          </a:lnTo>
                          <a:lnTo>
                            <a:pt x="82" y="2"/>
                          </a:lnTo>
                          <a:lnTo>
                            <a:pt x="86" y="3"/>
                          </a:lnTo>
                          <a:lnTo>
                            <a:pt x="90" y="4"/>
                          </a:lnTo>
                          <a:lnTo>
                            <a:pt x="94" y="5"/>
                          </a:lnTo>
                          <a:lnTo>
                            <a:pt x="97" y="5"/>
                          </a:lnTo>
                          <a:lnTo>
                            <a:pt x="101" y="6"/>
                          </a:lnTo>
                          <a:lnTo>
                            <a:pt x="103" y="6"/>
                          </a:lnTo>
                          <a:lnTo>
                            <a:pt x="106" y="7"/>
                          </a:lnTo>
                          <a:lnTo>
                            <a:pt x="109" y="7"/>
                          </a:lnTo>
                          <a:lnTo>
                            <a:pt x="112" y="7"/>
                          </a:lnTo>
                          <a:lnTo>
                            <a:pt x="115" y="8"/>
                          </a:lnTo>
                          <a:lnTo>
                            <a:pt x="118" y="9"/>
                          </a:lnTo>
                          <a:lnTo>
                            <a:pt x="121" y="9"/>
                          </a:lnTo>
                          <a:lnTo>
                            <a:pt x="124" y="10"/>
                          </a:lnTo>
                          <a:lnTo>
                            <a:pt x="126" y="11"/>
                          </a:lnTo>
                          <a:lnTo>
                            <a:pt x="127" y="12"/>
                          </a:lnTo>
                          <a:lnTo>
                            <a:pt x="127" y="89"/>
                          </a:lnTo>
                          <a:lnTo>
                            <a:pt x="125" y="88"/>
                          </a:lnTo>
                          <a:lnTo>
                            <a:pt x="122" y="87"/>
                          </a:lnTo>
                          <a:lnTo>
                            <a:pt x="121" y="86"/>
                          </a:lnTo>
                          <a:lnTo>
                            <a:pt x="118" y="85"/>
                          </a:lnTo>
                          <a:lnTo>
                            <a:pt x="115" y="84"/>
                          </a:lnTo>
                          <a:lnTo>
                            <a:pt x="113" y="84"/>
                          </a:lnTo>
                          <a:lnTo>
                            <a:pt x="109" y="83"/>
                          </a:lnTo>
                          <a:lnTo>
                            <a:pt x="105" y="82"/>
                          </a:lnTo>
                          <a:lnTo>
                            <a:pt x="102" y="80"/>
                          </a:lnTo>
                          <a:lnTo>
                            <a:pt x="99" y="79"/>
                          </a:lnTo>
                          <a:lnTo>
                            <a:pt x="95" y="77"/>
                          </a:lnTo>
                          <a:lnTo>
                            <a:pt x="91" y="75"/>
                          </a:lnTo>
                          <a:lnTo>
                            <a:pt x="87" y="73"/>
                          </a:lnTo>
                          <a:lnTo>
                            <a:pt x="84" y="72"/>
                          </a:lnTo>
                          <a:lnTo>
                            <a:pt x="80" y="69"/>
                          </a:lnTo>
                          <a:lnTo>
                            <a:pt x="77" y="66"/>
                          </a:lnTo>
                          <a:lnTo>
                            <a:pt x="73" y="65"/>
                          </a:lnTo>
                          <a:lnTo>
                            <a:pt x="70" y="62"/>
                          </a:lnTo>
                          <a:lnTo>
                            <a:pt x="64" y="57"/>
                          </a:lnTo>
                          <a:lnTo>
                            <a:pt x="61" y="53"/>
                          </a:lnTo>
                          <a:lnTo>
                            <a:pt x="56" y="49"/>
                          </a:lnTo>
                          <a:lnTo>
                            <a:pt x="53" y="46"/>
                          </a:lnTo>
                          <a:lnTo>
                            <a:pt x="52" y="45"/>
                          </a:lnTo>
                          <a:lnTo>
                            <a:pt x="50" y="45"/>
                          </a:lnTo>
                          <a:lnTo>
                            <a:pt x="48" y="49"/>
                          </a:lnTo>
                          <a:lnTo>
                            <a:pt x="45" y="52"/>
                          </a:lnTo>
                          <a:lnTo>
                            <a:pt x="44" y="56"/>
                          </a:lnTo>
                          <a:lnTo>
                            <a:pt x="42" y="58"/>
                          </a:lnTo>
                          <a:lnTo>
                            <a:pt x="40" y="61"/>
                          </a:lnTo>
                          <a:lnTo>
                            <a:pt x="38" y="65"/>
                          </a:lnTo>
                          <a:lnTo>
                            <a:pt x="37" y="67"/>
                          </a:lnTo>
                          <a:lnTo>
                            <a:pt x="34" y="70"/>
                          </a:lnTo>
                          <a:lnTo>
                            <a:pt x="32" y="73"/>
                          </a:lnTo>
                          <a:lnTo>
                            <a:pt x="29" y="77"/>
                          </a:lnTo>
                          <a:lnTo>
                            <a:pt x="28" y="82"/>
                          </a:lnTo>
                          <a:lnTo>
                            <a:pt x="25" y="85"/>
                          </a:lnTo>
                          <a:lnTo>
                            <a:pt x="24" y="89"/>
                          </a:lnTo>
                          <a:lnTo>
                            <a:pt x="22" y="93"/>
                          </a:lnTo>
                          <a:lnTo>
                            <a:pt x="20" y="97"/>
                          </a:lnTo>
                          <a:lnTo>
                            <a:pt x="18" y="101"/>
                          </a:lnTo>
                          <a:lnTo>
                            <a:pt x="16" y="103"/>
                          </a:lnTo>
                          <a:lnTo>
                            <a:pt x="15" y="106"/>
                          </a:lnTo>
                          <a:lnTo>
                            <a:pt x="14" y="109"/>
                          </a:lnTo>
                          <a:lnTo>
                            <a:pt x="12" y="113"/>
                          </a:lnTo>
                          <a:lnTo>
                            <a:pt x="12" y="114"/>
                          </a:lnTo>
                          <a:lnTo>
                            <a:pt x="12" y="114"/>
                          </a:lnTo>
                          <a:close/>
                        </a:path>
                      </a:pathLst>
                    </a:custGeom>
                    <a:solidFill>
                      <a:srgbClr val="8c5e2b"/>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63" name=""/>
                    <p:cNvSpPr/>
                    <p:nvPr/>
                  </p:nvSpPr>
                  <p:spPr>
                    <a:xfrm>
                      <a:off x="7741800" y="1748520"/>
                      <a:ext cx="60120" cy="45000"/>
                    </a:xfrm>
                    <a:custGeom>
                      <a:avLst/>
                      <a:gdLst/>
                      <a:ahLst/>
                      <a:rect l="l" t="t" r="r" b="b"/>
                      <a:pathLst>
                        <a:path w="62" h="58">
                          <a:moveTo>
                            <a:pt x="1" y="0"/>
                          </a:moveTo>
                          <a:lnTo>
                            <a:pt x="62" y="22"/>
                          </a:lnTo>
                          <a:lnTo>
                            <a:pt x="23" y="23"/>
                          </a:lnTo>
                          <a:lnTo>
                            <a:pt x="62" y="58"/>
                          </a:lnTo>
                          <a:lnTo>
                            <a:pt x="60" y="58"/>
                          </a:lnTo>
                          <a:lnTo>
                            <a:pt x="56" y="56"/>
                          </a:lnTo>
                          <a:lnTo>
                            <a:pt x="53" y="55"/>
                          </a:lnTo>
                          <a:lnTo>
                            <a:pt x="50" y="55"/>
                          </a:lnTo>
                          <a:lnTo>
                            <a:pt x="48" y="55"/>
                          </a:lnTo>
                          <a:lnTo>
                            <a:pt x="45" y="55"/>
                          </a:lnTo>
                          <a:lnTo>
                            <a:pt x="40" y="53"/>
                          </a:lnTo>
                          <a:lnTo>
                            <a:pt x="37" y="51"/>
                          </a:lnTo>
                          <a:lnTo>
                            <a:pt x="32" y="49"/>
                          </a:lnTo>
                          <a:lnTo>
                            <a:pt x="29" y="48"/>
                          </a:lnTo>
                          <a:lnTo>
                            <a:pt x="25" y="46"/>
                          </a:lnTo>
                          <a:lnTo>
                            <a:pt x="22" y="43"/>
                          </a:lnTo>
                          <a:lnTo>
                            <a:pt x="19" y="40"/>
                          </a:lnTo>
                          <a:lnTo>
                            <a:pt x="16" y="38"/>
                          </a:lnTo>
                          <a:lnTo>
                            <a:pt x="12" y="36"/>
                          </a:lnTo>
                          <a:lnTo>
                            <a:pt x="10" y="32"/>
                          </a:lnTo>
                          <a:lnTo>
                            <a:pt x="8" y="29"/>
                          </a:lnTo>
                          <a:lnTo>
                            <a:pt x="7" y="26"/>
                          </a:lnTo>
                          <a:lnTo>
                            <a:pt x="5" y="23"/>
                          </a:lnTo>
                          <a:lnTo>
                            <a:pt x="4" y="19"/>
                          </a:lnTo>
                          <a:lnTo>
                            <a:pt x="3" y="16"/>
                          </a:lnTo>
                          <a:lnTo>
                            <a:pt x="2" y="14"/>
                          </a:lnTo>
                          <a:lnTo>
                            <a:pt x="1" y="8"/>
                          </a:lnTo>
                          <a:lnTo>
                            <a:pt x="0" y="4"/>
                          </a:lnTo>
                          <a:lnTo>
                            <a:pt x="0" y="1"/>
                          </a:lnTo>
                          <a:lnTo>
                            <a:pt x="1" y="0"/>
                          </a:lnTo>
                          <a:lnTo>
                            <a:pt x="1" y="0"/>
                          </a:lnTo>
                          <a:close/>
                        </a:path>
                      </a:pathLst>
                    </a:custGeom>
                    <a:solidFill>
                      <a:srgbClr val="e68033"/>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264" name=""/>
                    <p:cNvSpPr/>
                    <p:nvPr/>
                  </p:nvSpPr>
                  <p:spPr>
                    <a:xfrm>
                      <a:off x="7169760" y="2241360"/>
                      <a:ext cx="240840" cy="189360"/>
                    </a:xfrm>
                    <a:custGeom>
                      <a:avLst/>
                      <a:gdLst/>
                      <a:ahLst/>
                      <a:rect l="l" t="t" r="r" b="b"/>
                      <a:pathLst>
                        <a:path w="248" h="243">
                          <a:moveTo>
                            <a:pt x="5" y="68"/>
                          </a:moveTo>
                          <a:lnTo>
                            <a:pt x="110" y="136"/>
                          </a:lnTo>
                          <a:lnTo>
                            <a:pt x="248" y="0"/>
                          </a:lnTo>
                          <a:lnTo>
                            <a:pt x="242" y="243"/>
                          </a:lnTo>
                          <a:lnTo>
                            <a:pt x="0" y="238"/>
                          </a:lnTo>
                          <a:lnTo>
                            <a:pt x="5" y="68"/>
                          </a:lnTo>
                          <a:lnTo>
                            <a:pt x="5" y="68"/>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7178400" y="2171880"/>
                      <a:ext cx="223920" cy="48960"/>
                    </a:xfrm>
                    <a:custGeom>
                      <a:avLst/>
                      <a:gdLst/>
                      <a:ahLst/>
                      <a:rect l="l" t="t" r="r" b="b"/>
                      <a:pathLst>
                        <a:path w="231" h="63">
                          <a:moveTo>
                            <a:pt x="0" y="0"/>
                          </a:moveTo>
                          <a:lnTo>
                            <a:pt x="231" y="0"/>
                          </a:lnTo>
                          <a:lnTo>
                            <a:pt x="231" y="63"/>
                          </a:lnTo>
                          <a:lnTo>
                            <a:pt x="2" y="63"/>
                          </a:lnTo>
                          <a:lnTo>
                            <a:pt x="0" y="0"/>
                          </a:lnTo>
                          <a:lnTo>
                            <a:pt x="0" y="0"/>
                          </a:lnTo>
                          <a:close/>
                        </a:path>
                      </a:pathLst>
                    </a:custGeom>
                    <a:solidFill>
                      <a:srgbClr val="e6e6e6"/>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66" name=""/>
                    <p:cNvSpPr/>
                    <p:nvPr/>
                  </p:nvSpPr>
                  <p:spPr>
                    <a:xfrm>
                      <a:off x="6895800" y="2284200"/>
                      <a:ext cx="336960" cy="133200"/>
                    </a:xfrm>
                    <a:custGeom>
                      <a:avLst/>
                      <a:gdLst/>
                      <a:ahLst/>
                      <a:rect l="l" t="t" r="r" b="b"/>
                      <a:pathLst>
                        <a:path w="347" h="171">
                          <a:moveTo>
                            <a:pt x="281" y="0"/>
                          </a:moveTo>
                          <a:lnTo>
                            <a:pt x="238" y="18"/>
                          </a:lnTo>
                          <a:lnTo>
                            <a:pt x="237" y="19"/>
                          </a:lnTo>
                          <a:lnTo>
                            <a:pt x="235" y="24"/>
                          </a:lnTo>
                          <a:lnTo>
                            <a:pt x="233" y="27"/>
                          </a:lnTo>
                          <a:lnTo>
                            <a:pt x="231" y="30"/>
                          </a:lnTo>
                          <a:lnTo>
                            <a:pt x="228" y="34"/>
                          </a:lnTo>
                          <a:lnTo>
                            <a:pt x="225" y="39"/>
                          </a:lnTo>
                          <a:lnTo>
                            <a:pt x="222" y="43"/>
                          </a:lnTo>
                          <a:lnTo>
                            <a:pt x="218" y="48"/>
                          </a:lnTo>
                          <a:lnTo>
                            <a:pt x="213" y="52"/>
                          </a:lnTo>
                          <a:lnTo>
                            <a:pt x="208" y="57"/>
                          </a:lnTo>
                          <a:lnTo>
                            <a:pt x="205" y="58"/>
                          </a:lnTo>
                          <a:lnTo>
                            <a:pt x="202" y="60"/>
                          </a:lnTo>
                          <a:lnTo>
                            <a:pt x="199" y="63"/>
                          </a:lnTo>
                          <a:lnTo>
                            <a:pt x="196" y="65"/>
                          </a:lnTo>
                          <a:lnTo>
                            <a:pt x="192" y="66"/>
                          </a:lnTo>
                          <a:lnTo>
                            <a:pt x="188" y="68"/>
                          </a:lnTo>
                          <a:lnTo>
                            <a:pt x="185" y="70"/>
                          </a:lnTo>
                          <a:lnTo>
                            <a:pt x="181" y="72"/>
                          </a:lnTo>
                          <a:lnTo>
                            <a:pt x="176" y="73"/>
                          </a:lnTo>
                          <a:lnTo>
                            <a:pt x="171" y="74"/>
                          </a:lnTo>
                          <a:lnTo>
                            <a:pt x="166" y="76"/>
                          </a:lnTo>
                          <a:lnTo>
                            <a:pt x="161" y="77"/>
                          </a:lnTo>
                          <a:lnTo>
                            <a:pt x="158" y="77"/>
                          </a:lnTo>
                          <a:lnTo>
                            <a:pt x="155" y="77"/>
                          </a:lnTo>
                          <a:lnTo>
                            <a:pt x="152" y="77"/>
                          </a:lnTo>
                          <a:lnTo>
                            <a:pt x="149" y="78"/>
                          </a:lnTo>
                          <a:lnTo>
                            <a:pt x="144" y="79"/>
                          </a:lnTo>
                          <a:lnTo>
                            <a:pt x="138" y="80"/>
                          </a:lnTo>
                          <a:lnTo>
                            <a:pt x="135" y="80"/>
                          </a:lnTo>
                          <a:lnTo>
                            <a:pt x="131" y="80"/>
                          </a:lnTo>
                          <a:lnTo>
                            <a:pt x="128" y="80"/>
                          </a:lnTo>
                          <a:lnTo>
                            <a:pt x="126" y="80"/>
                          </a:lnTo>
                          <a:lnTo>
                            <a:pt x="122" y="80"/>
                          </a:lnTo>
                          <a:lnTo>
                            <a:pt x="119" y="81"/>
                          </a:lnTo>
                          <a:lnTo>
                            <a:pt x="115" y="81"/>
                          </a:lnTo>
                          <a:lnTo>
                            <a:pt x="112" y="81"/>
                          </a:lnTo>
                          <a:lnTo>
                            <a:pt x="108" y="81"/>
                          </a:lnTo>
                          <a:lnTo>
                            <a:pt x="106" y="81"/>
                          </a:lnTo>
                          <a:lnTo>
                            <a:pt x="103" y="81"/>
                          </a:lnTo>
                          <a:lnTo>
                            <a:pt x="99" y="81"/>
                          </a:lnTo>
                          <a:lnTo>
                            <a:pt x="96" y="81"/>
                          </a:lnTo>
                          <a:lnTo>
                            <a:pt x="93" y="81"/>
                          </a:lnTo>
                          <a:lnTo>
                            <a:pt x="90" y="81"/>
                          </a:lnTo>
                          <a:lnTo>
                            <a:pt x="88" y="82"/>
                          </a:lnTo>
                          <a:lnTo>
                            <a:pt x="84" y="81"/>
                          </a:lnTo>
                          <a:lnTo>
                            <a:pt x="81" y="81"/>
                          </a:lnTo>
                          <a:lnTo>
                            <a:pt x="78" y="81"/>
                          </a:lnTo>
                          <a:lnTo>
                            <a:pt x="74" y="81"/>
                          </a:lnTo>
                          <a:lnTo>
                            <a:pt x="69" y="81"/>
                          </a:lnTo>
                          <a:lnTo>
                            <a:pt x="64" y="81"/>
                          </a:lnTo>
                          <a:lnTo>
                            <a:pt x="58" y="81"/>
                          </a:lnTo>
                          <a:lnTo>
                            <a:pt x="53" y="81"/>
                          </a:lnTo>
                          <a:lnTo>
                            <a:pt x="49" y="81"/>
                          </a:lnTo>
                          <a:lnTo>
                            <a:pt x="45" y="81"/>
                          </a:lnTo>
                          <a:lnTo>
                            <a:pt x="41" y="81"/>
                          </a:lnTo>
                          <a:lnTo>
                            <a:pt x="37" y="81"/>
                          </a:lnTo>
                          <a:lnTo>
                            <a:pt x="34" y="81"/>
                          </a:lnTo>
                          <a:lnTo>
                            <a:pt x="32" y="81"/>
                          </a:lnTo>
                          <a:lnTo>
                            <a:pt x="29" y="81"/>
                          </a:lnTo>
                          <a:lnTo>
                            <a:pt x="28" y="81"/>
                          </a:lnTo>
                          <a:lnTo>
                            <a:pt x="0" y="171"/>
                          </a:lnTo>
                          <a:lnTo>
                            <a:pt x="208" y="125"/>
                          </a:lnTo>
                          <a:lnTo>
                            <a:pt x="249" y="136"/>
                          </a:lnTo>
                          <a:lnTo>
                            <a:pt x="249" y="136"/>
                          </a:lnTo>
                          <a:lnTo>
                            <a:pt x="253" y="136"/>
                          </a:lnTo>
                          <a:lnTo>
                            <a:pt x="254" y="136"/>
                          </a:lnTo>
                          <a:lnTo>
                            <a:pt x="258" y="136"/>
                          </a:lnTo>
                          <a:lnTo>
                            <a:pt x="261" y="136"/>
                          </a:lnTo>
                          <a:lnTo>
                            <a:pt x="264" y="137"/>
                          </a:lnTo>
                          <a:lnTo>
                            <a:pt x="267" y="136"/>
                          </a:lnTo>
                          <a:lnTo>
                            <a:pt x="271" y="135"/>
                          </a:lnTo>
                          <a:lnTo>
                            <a:pt x="275" y="134"/>
                          </a:lnTo>
                          <a:lnTo>
                            <a:pt x="280" y="134"/>
                          </a:lnTo>
                          <a:lnTo>
                            <a:pt x="284" y="131"/>
                          </a:lnTo>
                          <a:lnTo>
                            <a:pt x="288" y="129"/>
                          </a:lnTo>
                          <a:lnTo>
                            <a:pt x="293" y="126"/>
                          </a:lnTo>
                          <a:lnTo>
                            <a:pt x="298" y="123"/>
                          </a:lnTo>
                          <a:lnTo>
                            <a:pt x="302" y="119"/>
                          </a:lnTo>
                          <a:lnTo>
                            <a:pt x="306" y="116"/>
                          </a:lnTo>
                          <a:lnTo>
                            <a:pt x="311" y="114"/>
                          </a:lnTo>
                          <a:lnTo>
                            <a:pt x="315" y="112"/>
                          </a:lnTo>
                          <a:lnTo>
                            <a:pt x="319" y="110"/>
                          </a:lnTo>
                          <a:lnTo>
                            <a:pt x="323" y="109"/>
                          </a:lnTo>
                          <a:lnTo>
                            <a:pt x="327" y="109"/>
                          </a:lnTo>
                          <a:lnTo>
                            <a:pt x="331" y="109"/>
                          </a:lnTo>
                          <a:lnTo>
                            <a:pt x="335" y="108"/>
                          </a:lnTo>
                          <a:lnTo>
                            <a:pt x="338" y="108"/>
                          </a:lnTo>
                          <a:lnTo>
                            <a:pt x="340" y="108"/>
                          </a:lnTo>
                          <a:lnTo>
                            <a:pt x="342" y="109"/>
                          </a:lnTo>
                          <a:lnTo>
                            <a:pt x="346" y="109"/>
                          </a:lnTo>
                          <a:lnTo>
                            <a:pt x="347" y="110"/>
                          </a:lnTo>
                          <a:lnTo>
                            <a:pt x="339" y="90"/>
                          </a:lnTo>
                          <a:lnTo>
                            <a:pt x="282" y="85"/>
                          </a:lnTo>
                          <a:lnTo>
                            <a:pt x="281" y="0"/>
                          </a:lnTo>
                          <a:lnTo>
                            <a:pt x="281" y="0"/>
                          </a:lnTo>
                          <a:close/>
                        </a:path>
                      </a:pathLst>
                    </a:custGeom>
                    <a:solidFill>
                      <a:srgbClr val="eda3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6849360" y="2338200"/>
                      <a:ext cx="237600" cy="81000"/>
                    </a:xfrm>
                    <a:custGeom>
                      <a:avLst/>
                      <a:gdLst/>
                      <a:ahLst/>
                      <a:rect l="l" t="t" r="r" b="b"/>
                      <a:pathLst>
                        <a:path w="245" h="104">
                          <a:moveTo>
                            <a:pt x="93" y="11"/>
                          </a:moveTo>
                          <a:lnTo>
                            <a:pt x="151" y="67"/>
                          </a:lnTo>
                          <a:lnTo>
                            <a:pt x="153" y="66"/>
                          </a:lnTo>
                          <a:lnTo>
                            <a:pt x="156" y="66"/>
                          </a:lnTo>
                          <a:lnTo>
                            <a:pt x="158" y="65"/>
                          </a:lnTo>
                          <a:lnTo>
                            <a:pt x="161" y="65"/>
                          </a:lnTo>
                          <a:lnTo>
                            <a:pt x="164" y="65"/>
                          </a:lnTo>
                          <a:lnTo>
                            <a:pt x="168" y="65"/>
                          </a:lnTo>
                          <a:lnTo>
                            <a:pt x="172" y="65"/>
                          </a:lnTo>
                          <a:lnTo>
                            <a:pt x="176" y="65"/>
                          </a:lnTo>
                          <a:lnTo>
                            <a:pt x="179" y="65"/>
                          </a:lnTo>
                          <a:lnTo>
                            <a:pt x="183" y="65"/>
                          </a:lnTo>
                          <a:lnTo>
                            <a:pt x="187" y="64"/>
                          </a:lnTo>
                          <a:lnTo>
                            <a:pt x="192" y="64"/>
                          </a:lnTo>
                          <a:lnTo>
                            <a:pt x="195" y="64"/>
                          </a:lnTo>
                          <a:lnTo>
                            <a:pt x="200" y="64"/>
                          </a:lnTo>
                          <a:lnTo>
                            <a:pt x="204" y="63"/>
                          </a:lnTo>
                          <a:lnTo>
                            <a:pt x="209" y="62"/>
                          </a:lnTo>
                          <a:lnTo>
                            <a:pt x="213" y="62"/>
                          </a:lnTo>
                          <a:lnTo>
                            <a:pt x="216" y="62"/>
                          </a:lnTo>
                          <a:lnTo>
                            <a:pt x="220" y="61"/>
                          </a:lnTo>
                          <a:lnTo>
                            <a:pt x="224" y="61"/>
                          </a:lnTo>
                          <a:lnTo>
                            <a:pt x="228" y="61"/>
                          </a:lnTo>
                          <a:lnTo>
                            <a:pt x="232" y="61"/>
                          </a:lnTo>
                          <a:lnTo>
                            <a:pt x="236" y="60"/>
                          </a:lnTo>
                          <a:lnTo>
                            <a:pt x="241" y="60"/>
                          </a:lnTo>
                          <a:lnTo>
                            <a:pt x="244" y="60"/>
                          </a:lnTo>
                          <a:lnTo>
                            <a:pt x="245" y="60"/>
                          </a:lnTo>
                          <a:lnTo>
                            <a:pt x="244" y="60"/>
                          </a:lnTo>
                          <a:lnTo>
                            <a:pt x="243" y="60"/>
                          </a:lnTo>
                          <a:lnTo>
                            <a:pt x="241" y="61"/>
                          </a:lnTo>
                          <a:lnTo>
                            <a:pt x="238" y="62"/>
                          </a:lnTo>
                          <a:lnTo>
                            <a:pt x="234" y="64"/>
                          </a:lnTo>
                          <a:lnTo>
                            <a:pt x="231" y="65"/>
                          </a:lnTo>
                          <a:lnTo>
                            <a:pt x="225" y="66"/>
                          </a:lnTo>
                          <a:lnTo>
                            <a:pt x="220" y="68"/>
                          </a:lnTo>
                          <a:lnTo>
                            <a:pt x="216" y="69"/>
                          </a:lnTo>
                          <a:lnTo>
                            <a:pt x="213" y="70"/>
                          </a:lnTo>
                          <a:lnTo>
                            <a:pt x="210" y="71"/>
                          </a:lnTo>
                          <a:lnTo>
                            <a:pt x="207" y="72"/>
                          </a:lnTo>
                          <a:lnTo>
                            <a:pt x="203" y="73"/>
                          </a:lnTo>
                          <a:lnTo>
                            <a:pt x="199" y="74"/>
                          </a:lnTo>
                          <a:lnTo>
                            <a:pt x="195" y="75"/>
                          </a:lnTo>
                          <a:lnTo>
                            <a:pt x="192" y="77"/>
                          </a:lnTo>
                          <a:lnTo>
                            <a:pt x="188" y="77"/>
                          </a:lnTo>
                          <a:lnTo>
                            <a:pt x="184" y="78"/>
                          </a:lnTo>
                          <a:lnTo>
                            <a:pt x="179" y="80"/>
                          </a:lnTo>
                          <a:lnTo>
                            <a:pt x="176" y="81"/>
                          </a:lnTo>
                          <a:lnTo>
                            <a:pt x="171" y="82"/>
                          </a:lnTo>
                          <a:lnTo>
                            <a:pt x="167" y="83"/>
                          </a:lnTo>
                          <a:lnTo>
                            <a:pt x="162" y="84"/>
                          </a:lnTo>
                          <a:lnTo>
                            <a:pt x="158" y="85"/>
                          </a:lnTo>
                          <a:lnTo>
                            <a:pt x="153" y="85"/>
                          </a:lnTo>
                          <a:lnTo>
                            <a:pt x="148" y="87"/>
                          </a:lnTo>
                          <a:lnTo>
                            <a:pt x="142" y="87"/>
                          </a:lnTo>
                          <a:lnTo>
                            <a:pt x="137" y="88"/>
                          </a:lnTo>
                          <a:lnTo>
                            <a:pt x="131" y="89"/>
                          </a:lnTo>
                          <a:lnTo>
                            <a:pt x="126" y="90"/>
                          </a:lnTo>
                          <a:lnTo>
                            <a:pt x="120" y="91"/>
                          </a:lnTo>
                          <a:lnTo>
                            <a:pt x="115" y="92"/>
                          </a:lnTo>
                          <a:lnTo>
                            <a:pt x="112" y="92"/>
                          </a:lnTo>
                          <a:lnTo>
                            <a:pt x="109" y="93"/>
                          </a:lnTo>
                          <a:lnTo>
                            <a:pt x="106" y="93"/>
                          </a:lnTo>
                          <a:lnTo>
                            <a:pt x="103" y="93"/>
                          </a:lnTo>
                          <a:lnTo>
                            <a:pt x="98" y="94"/>
                          </a:lnTo>
                          <a:lnTo>
                            <a:pt x="92" y="95"/>
                          </a:lnTo>
                          <a:lnTo>
                            <a:pt x="86" y="96"/>
                          </a:lnTo>
                          <a:lnTo>
                            <a:pt x="80" y="97"/>
                          </a:lnTo>
                          <a:lnTo>
                            <a:pt x="75" y="97"/>
                          </a:lnTo>
                          <a:lnTo>
                            <a:pt x="70" y="99"/>
                          </a:lnTo>
                          <a:lnTo>
                            <a:pt x="65" y="99"/>
                          </a:lnTo>
                          <a:lnTo>
                            <a:pt x="60" y="99"/>
                          </a:lnTo>
                          <a:lnTo>
                            <a:pt x="55" y="100"/>
                          </a:lnTo>
                          <a:lnTo>
                            <a:pt x="51" y="100"/>
                          </a:lnTo>
                          <a:lnTo>
                            <a:pt x="46" y="101"/>
                          </a:lnTo>
                          <a:lnTo>
                            <a:pt x="42" y="101"/>
                          </a:lnTo>
                          <a:lnTo>
                            <a:pt x="39" y="102"/>
                          </a:lnTo>
                          <a:lnTo>
                            <a:pt x="36" y="102"/>
                          </a:lnTo>
                          <a:lnTo>
                            <a:pt x="32" y="102"/>
                          </a:lnTo>
                          <a:lnTo>
                            <a:pt x="29" y="103"/>
                          </a:lnTo>
                          <a:lnTo>
                            <a:pt x="26" y="103"/>
                          </a:lnTo>
                          <a:lnTo>
                            <a:pt x="25" y="104"/>
                          </a:lnTo>
                          <a:lnTo>
                            <a:pt x="22" y="104"/>
                          </a:lnTo>
                          <a:lnTo>
                            <a:pt x="21" y="104"/>
                          </a:lnTo>
                          <a:lnTo>
                            <a:pt x="0" y="0"/>
                          </a:lnTo>
                          <a:lnTo>
                            <a:pt x="93" y="11"/>
                          </a:lnTo>
                          <a:lnTo>
                            <a:pt x="93" y="11"/>
                          </a:lnTo>
                          <a:close/>
                        </a:path>
                      </a:pathLst>
                    </a:custGeom>
                    <a:solidFill>
                      <a:srgbClr val="a84a3d"/>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68" name=""/>
                    <p:cNvSpPr/>
                    <p:nvPr/>
                  </p:nvSpPr>
                  <p:spPr>
                    <a:xfrm>
                      <a:off x="6769440" y="2296800"/>
                      <a:ext cx="160920" cy="133920"/>
                    </a:xfrm>
                    <a:custGeom>
                      <a:avLst/>
                      <a:gdLst/>
                      <a:ahLst/>
                      <a:rect l="l" t="t" r="r" b="b"/>
                      <a:pathLst>
                        <a:path w="166" h="172">
                          <a:moveTo>
                            <a:pt x="102" y="170"/>
                          </a:moveTo>
                          <a:lnTo>
                            <a:pt x="166" y="115"/>
                          </a:lnTo>
                          <a:lnTo>
                            <a:pt x="82" y="0"/>
                          </a:lnTo>
                          <a:lnTo>
                            <a:pt x="25" y="0"/>
                          </a:lnTo>
                          <a:lnTo>
                            <a:pt x="0" y="18"/>
                          </a:lnTo>
                          <a:lnTo>
                            <a:pt x="30" y="86"/>
                          </a:lnTo>
                          <a:lnTo>
                            <a:pt x="98" y="102"/>
                          </a:lnTo>
                          <a:lnTo>
                            <a:pt x="30" y="134"/>
                          </a:lnTo>
                          <a:lnTo>
                            <a:pt x="14" y="172"/>
                          </a:lnTo>
                          <a:lnTo>
                            <a:pt x="102" y="170"/>
                          </a:lnTo>
                          <a:lnTo>
                            <a:pt x="102" y="170"/>
                          </a:lnTo>
                          <a:close/>
                        </a:path>
                      </a:pathLst>
                    </a:custGeom>
                    <a:solidFill>
                      <a:srgbClr val="bdc9d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7133040" y="2307600"/>
                      <a:ext cx="33840" cy="42840"/>
                    </a:xfrm>
                    <a:custGeom>
                      <a:avLst/>
                      <a:gdLst/>
                      <a:ahLst/>
                      <a:rect l="l" t="t" r="r" b="b"/>
                      <a:pathLst>
                        <a:path w="35" h="55">
                          <a:moveTo>
                            <a:pt x="35" y="0"/>
                          </a:moveTo>
                          <a:lnTo>
                            <a:pt x="0" y="44"/>
                          </a:lnTo>
                          <a:lnTo>
                            <a:pt x="35" y="55"/>
                          </a:lnTo>
                          <a:lnTo>
                            <a:pt x="35" y="0"/>
                          </a:lnTo>
                          <a:lnTo>
                            <a:pt x="35" y="0"/>
                          </a:lnTo>
                          <a:close/>
                        </a:path>
                      </a:pathLst>
                    </a:custGeom>
                    <a:solidFill>
                      <a:srgbClr val="a84a3d"/>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70" name=""/>
                    <p:cNvSpPr/>
                    <p:nvPr/>
                  </p:nvSpPr>
                  <p:spPr>
                    <a:xfrm>
                      <a:off x="6771600" y="2763000"/>
                      <a:ext cx="241560" cy="59040"/>
                    </a:xfrm>
                    <a:custGeom>
                      <a:avLst/>
                      <a:gdLst/>
                      <a:ahLst/>
                      <a:rect l="l" t="t" r="r" b="b"/>
                      <a:pathLst>
                        <a:path w="249" h="76">
                          <a:moveTo>
                            <a:pt x="0" y="3"/>
                          </a:moveTo>
                          <a:lnTo>
                            <a:pt x="174" y="0"/>
                          </a:lnTo>
                          <a:lnTo>
                            <a:pt x="249" y="62"/>
                          </a:lnTo>
                          <a:lnTo>
                            <a:pt x="203" y="76"/>
                          </a:lnTo>
                          <a:lnTo>
                            <a:pt x="48" y="68"/>
                          </a:lnTo>
                          <a:lnTo>
                            <a:pt x="0" y="3"/>
                          </a:lnTo>
                          <a:lnTo>
                            <a:pt x="0" y="3"/>
                          </a:lnTo>
                          <a:close/>
                        </a:path>
                      </a:pathLst>
                    </a:custGeom>
                    <a:solidFill>
                      <a:srgbClr val="54423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71" name=""/>
                    <p:cNvSpPr/>
                    <p:nvPr/>
                  </p:nvSpPr>
                  <p:spPr>
                    <a:xfrm>
                      <a:off x="6379200" y="2725920"/>
                      <a:ext cx="512640" cy="95040"/>
                    </a:xfrm>
                    <a:custGeom>
                      <a:avLst/>
                      <a:gdLst/>
                      <a:ahLst/>
                      <a:rect l="l" t="t" r="r" b="b"/>
                      <a:pathLst>
                        <a:path w="528" h="122">
                          <a:moveTo>
                            <a:pt x="55" y="0"/>
                          </a:moveTo>
                          <a:lnTo>
                            <a:pt x="295" y="59"/>
                          </a:lnTo>
                          <a:lnTo>
                            <a:pt x="395" y="5"/>
                          </a:lnTo>
                          <a:lnTo>
                            <a:pt x="473" y="16"/>
                          </a:lnTo>
                          <a:lnTo>
                            <a:pt x="475" y="17"/>
                          </a:lnTo>
                          <a:lnTo>
                            <a:pt x="478" y="22"/>
                          </a:lnTo>
                          <a:lnTo>
                            <a:pt x="481" y="25"/>
                          </a:lnTo>
                          <a:lnTo>
                            <a:pt x="485" y="28"/>
                          </a:lnTo>
                          <a:lnTo>
                            <a:pt x="488" y="30"/>
                          </a:lnTo>
                          <a:lnTo>
                            <a:pt x="493" y="34"/>
                          </a:lnTo>
                          <a:lnTo>
                            <a:pt x="496" y="36"/>
                          </a:lnTo>
                          <a:lnTo>
                            <a:pt x="498" y="38"/>
                          </a:lnTo>
                          <a:lnTo>
                            <a:pt x="502" y="39"/>
                          </a:lnTo>
                          <a:lnTo>
                            <a:pt x="505" y="41"/>
                          </a:lnTo>
                          <a:lnTo>
                            <a:pt x="510" y="44"/>
                          </a:lnTo>
                          <a:lnTo>
                            <a:pt x="516" y="47"/>
                          </a:lnTo>
                          <a:lnTo>
                            <a:pt x="521" y="48"/>
                          </a:lnTo>
                          <a:lnTo>
                            <a:pt x="524" y="50"/>
                          </a:lnTo>
                          <a:lnTo>
                            <a:pt x="526" y="51"/>
                          </a:lnTo>
                          <a:lnTo>
                            <a:pt x="528" y="53"/>
                          </a:lnTo>
                          <a:lnTo>
                            <a:pt x="459" y="122"/>
                          </a:lnTo>
                          <a:lnTo>
                            <a:pt x="0" y="122"/>
                          </a:lnTo>
                          <a:lnTo>
                            <a:pt x="55" y="0"/>
                          </a:lnTo>
                          <a:lnTo>
                            <a:pt x="55" y="0"/>
                          </a:lnTo>
                          <a:close/>
                        </a:path>
                      </a:pathLst>
                    </a:custGeom>
                    <a:solidFill>
                      <a:srgbClr val="eda3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6387840" y="2727360"/>
                      <a:ext cx="551520" cy="102960"/>
                    </a:xfrm>
                    <a:custGeom>
                      <a:avLst/>
                      <a:gdLst/>
                      <a:ahLst/>
                      <a:rect l="l" t="t" r="r" b="b"/>
                      <a:pathLst>
                        <a:path w="568" h="132">
                          <a:moveTo>
                            <a:pt x="101" y="8"/>
                          </a:moveTo>
                          <a:lnTo>
                            <a:pt x="101" y="9"/>
                          </a:lnTo>
                          <a:lnTo>
                            <a:pt x="103" y="13"/>
                          </a:lnTo>
                          <a:lnTo>
                            <a:pt x="104" y="15"/>
                          </a:lnTo>
                          <a:lnTo>
                            <a:pt x="106" y="19"/>
                          </a:lnTo>
                          <a:lnTo>
                            <a:pt x="109" y="23"/>
                          </a:lnTo>
                          <a:lnTo>
                            <a:pt x="111" y="27"/>
                          </a:lnTo>
                          <a:lnTo>
                            <a:pt x="114" y="31"/>
                          </a:lnTo>
                          <a:lnTo>
                            <a:pt x="118" y="36"/>
                          </a:lnTo>
                          <a:lnTo>
                            <a:pt x="123" y="41"/>
                          </a:lnTo>
                          <a:lnTo>
                            <a:pt x="128" y="45"/>
                          </a:lnTo>
                          <a:lnTo>
                            <a:pt x="130" y="47"/>
                          </a:lnTo>
                          <a:lnTo>
                            <a:pt x="133" y="50"/>
                          </a:lnTo>
                          <a:lnTo>
                            <a:pt x="137" y="52"/>
                          </a:lnTo>
                          <a:lnTo>
                            <a:pt x="141" y="55"/>
                          </a:lnTo>
                          <a:lnTo>
                            <a:pt x="144" y="57"/>
                          </a:lnTo>
                          <a:lnTo>
                            <a:pt x="148" y="60"/>
                          </a:lnTo>
                          <a:lnTo>
                            <a:pt x="151" y="63"/>
                          </a:lnTo>
                          <a:lnTo>
                            <a:pt x="156" y="65"/>
                          </a:lnTo>
                          <a:lnTo>
                            <a:pt x="160" y="67"/>
                          </a:lnTo>
                          <a:lnTo>
                            <a:pt x="166" y="69"/>
                          </a:lnTo>
                          <a:lnTo>
                            <a:pt x="170" y="71"/>
                          </a:lnTo>
                          <a:lnTo>
                            <a:pt x="175" y="74"/>
                          </a:lnTo>
                          <a:lnTo>
                            <a:pt x="180" y="76"/>
                          </a:lnTo>
                          <a:lnTo>
                            <a:pt x="185" y="78"/>
                          </a:lnTo>
                          <a:lnTo>
                            <a:pt x="190" y="80"/>
                          </a:lnTo>
                          <a:lnTo>
                            <a:pt x="195" y="83"/>
                          </a:lnTo>
                          <a:lnTo>
                            <a:pt x="200" y="84"/>
                          </a:lnTo>
                          <a:lnTo>
                            <a:pt x="206" y="85"/>
                          </a:lnTo>
                          <a:lnTo>
                            <a:pt x="210" y="87"/>
                          </a:lnTo>
                          <a:lnTo>
                            <a:pt x="216" y="89"/>
                          </a:lnTo>
                          <a:lnTo>
                            <a:pt x="221" y="91"/>
                          </a:lnTo>
                          <a:lnTo>
                            <a:pt x="226" y="93"/>
                          </a:lnTo>
                          <a:lnTo>
                            <a:pt x="231" y="95"/>
                          </a:lnTo>
                          <a:lnTo>
                            <a:pt x="236" y="97"/>
                          </a:lnTo>
                          <a:lnTo>
                            <a:pt x="241" y="98"/>
                          </a:lnTo>
                          <a:lnTo>
                            <a:pt x="245" y="99"/>
                          </a:lnTo>
                          <a:lnTo>
                            <a:pt x="249" y="100"/>
                          </a:lnTo>
                          <a:lnTo>
                            <a:pt x="254" y="102"/>
                          </a:lnTo>
                          <a:lnTo>
                            <a:pt x="258" y="102"/>
                          </a:lnTo>
                          <a:lnTo>
                            <a:pt x="262" y="103"/>
                          </a:lnTo>
                          <a:lnTo>
                            <a:pt x="265" y="104"/>
                          </a:lnTo>
                          <a:lnTo>
                            <a:pt x="269" y="105"/>
                          </a:lnTo>
                          <a:lnTo>
                            <a:pt x="274" y="106"/>
                          </a:lnTo>
                          <a:lnTo>
                            <a:pt x="279" y="108"/>
                          </a:lnTo>
                          <a:lnTo>
                            <a:pt x="282" y="108"/>
                          </a:lnTo>
                          <a:lnTo>
                            <a:pt x="283" y="109"/>
                          </a:lnTo>
                          <a:lnTo>
                            <a:pt x="303" y="99"/>
                          </a:lnTo>
                          <a:lnTo>
                            <a:pt x="341" y="106"/>
                          </a:lnTo>
                          <a:lnTo>
                            <a:pt x="422" y="89"/>
                          </a:lnTo>
                          <a:lnTo>
                            <a:pt x="411" y="37"/>
                          </a:lnTo>
                          <a:lnTo>
                            <a:pt x="399" y="32"/>
                          </a:lnTo>
                          <a:lnTo>
                            <a:pt x="417" y="10"/>
                          </a:lnTo>
                          <a:lnTo>
                            <a:pt x="566" y="99"/>
                          </a:lnTo>
                          <a:lnTo>
                            <a:pt x="568" y="120"/>
                          </a:lnTo>
                          <a:lnTo>
                            <a:pt x="408" y="132"/>
                          </a:lnTo>
                          <a:lnTo>
                            <a:pt x="308" y="124"/>
                          </a:lnTo>
                          <a:lnTo>
                            <a:pt x="225" y="128"/>
                          </a:lnTo>
                          <a:lnTo>
                            <a:pt x="0" y="116"/>
                          </a:lnTo>
                          <a:lnTo>
                            <a:pt x="42" y="0"/>
                          </a:lnTo>
                          <a:lnTo>
                            <a:pt x="101" y="8"/>
                          </a:lnTo>
                          <a:lnTo>
                            <a:pt x="101" y="8"/>
                          </a:lnTo>
                          <a:close/>
                        </a:path>
                      </a:pathLst>
                    </a:custGeom>
                    <a:solidFill>
                      <a:srgbClr val="a84a3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6302160" y="2665800"/>
                      <a:ext cx="190440" cy="155160"/>
                    </a:xfrm>
                    <a:custGeom>
                      <a:avLst/>
                      <a:gdLst/>
                      <a:ahLst/>
                      <a:rect l="l" t="t" r="r" b="b"/>
                      <a:pathLst>
                        <a:path w="196" h="199">
                          <a:moveTo>
                            <a:pt x="196" y="73"/>
                          </a:moveTo>
                          <a:lnTo>
                            <a:pt x="91" y="0"/>
                          </a:lnTo>
                          <a:lnTo>
                            <a:pt x="26" y="75"/>
                          </a:lnTo>
                          <a:lnTo>
                            <a:pt x="60" y="120"/>
                          </a:lnTo>
                          <a:lnTo>
                            <a:pt x="9" y="139"/>
                          </a:lnTo>
                          <a:lnTo>
                            <a:pt x="0" y="199"/>
                          </a:lnTo>
                          <a:lnTo>
                            <a:pt x="136" y="199"/>
                          </a:lnTo>
                          <a:lnTo>
                            <a:pt x="137" y="197"/>
                          </a:lnTo>
                          <a:lnTo>
                            <a:pt x="140" y="195"/>
                          </a:lnTo>
                          <a:lnTo>
                            <a:pt x="140" y="192"/>
                          </a:lnTo>
                          <a:lnTo>
                            <a:pt x="143" y="189"/>
                          </a:lnTo>
                          <a:lnTo>
                            <a:pt x="146" y="187"/>
                          </a:lnTo>
                          <a:lnTo>
                            <a:pt x="149" y="184"/>
                          </a:lnTo>
                          <a:lnTo>
                            <a:pt x="152" y="180"/>
                          </a:lnTo>
                          <a:lnTo>
                            <a:pt x="156" y="176"/>
                          </a:lnTo>
                          <a:lnTo>
                            <a:pt x="159" y="172"/>
                          </a:lnTo>
                          <a:lnTo>
                            <a:pt x="161" y="168"/>
                          </a:lnTo>
                          <a:lnTo>
                            <a:pt x="165" y="163"/>
                          </a:lnTo>
                          <a:lnTo>
                            <a:pt x="168" y="159"/>
                          </a:lnTo>
                          <a:lnTo>
                            <a:pt x="172" y="153"/>
                          </a:lnTo>
                          <a:lnTo>
                            <a:pt x="175" y="148"/>
                          </a:lnTo>
                          <a:lnTo>
                            <a:pt x="176" y="144"/>
                          </a:lnTo>
                          <a:lnTo>
                            <a:pt x="177" y="142"/>
                          </a:lnTo>
                          <a:lnTo>
                            <a:pt x="178" y="139"/>
                          </a:lnTo>
                          <a:lnTo>
                            <a:pt x="178" y="136"/>
                          </a:lnTo>
                          <a:lnTo>
                            <a:pt x="180" y="132"/>
                          </a:lnTo>
                          <a:lnTo>
                            <a:pt x="181" y="129"/>
                          </a:lnTo>
                          <a:lnTo>
                            <a:pt x="182" y="126"/>
                          </a:lnTo>
                          <a:lnTo>
                            <a:pt x="183" y="124"/>
                          </a:lnTo>
                          <a:lnTo>
                            <a:pt x="184" y="120"/>
                          </a:lnTo>
                          <a:lnTo>
                            <a:pt x="185" y="117"/>
                          </a:lnTo>
                          <a:lnTo>
                            <a:pt x="185" y="114"/>
                          </a:lnTo>
                          <a:lnTo>
                            <a:pt x="186" y="110"/>
                          </a:lnTo>
                          <a:lnTo>
                            <a:pt x="188" y="105"/>
                          </a:lnTo>
                          <a:lnTo>
                            <a:pt x="190" y="99"/>
                          </a:lnTo>
                          <a:lnTo>
                            <a:pt x="191" y="93"/>
                          </a:lnTo>
                          <a:lnTo>
                            <a:pt x="192" y="88"/>
                          </a:lnTo>
                          <a:lnTo>
                            <a:pt x="193" y="84"/>
                          </a:lnTo>
                          <a:lnTo>
                            <a:pt x="194" y="80"/>
                          </a:lnTo>
                          <a:lnTo>
                            <a:pt x="195" y="77"/>
                          </a:lnTo>
                          <a:lnTo>
                            <a:pt x="195" y="75"/>
                          </a:lnTo>
                          <a:lnTo>
                            <a:pt x="195" y="73"/>
                          </a:lnTo>
                          <a:lnTo>
                            <a:pt x="196" y="73"/>
                          </a:lnTo>
                          <a:lnTo>
                            <a:pt x="196" y="73"/>
                          </a:lnTo>
                          <a:close/>
                        </a:path>
                      </a:pathLst>
                    </a:custGeom>
                    <a:solidFill>
                      <a:srgbClr val="bdc9d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6343920" y="2670480"/>
                      <a:ext cx="132840" cy="150480"/>
                    </a:xfrm>
                    <a:custGeom>
                      <a:avLst/>
                      <a:gdLst/>
                      <a:ahLst/>
                      <a:rect l="l" t="t" r="r" b="b"/>
                      <a:pathLst>
                        <a:path w="137" h="193">
                          <a:moveTo>
                            <a:pt x="54" y="0"/>
                          </a:moveTo>
                          <a:lnTo>
                            <a:pt x="54" y="138"/>
                          </a:lnTo>
                          <a:lnTo>
                            <a:pt x="0" y="193"/>
                          </a:lnTo>
                          <a:lnTo>
                            <a:pt x="97" y="193"/>
                          </a:lnTo>
                          <a:lnTo>
                            <a:pt x="97" y="191"/>
                          </a:lnTo>
                          <a:lnTo>
                            <a:pt x="101" y="186"/>
                          </a:lnTo>
                          <a:lnTo>
                            <a:pt x="102" y="183"/>
                          </a:lnTo>
                          <a:lnTo>
                            <a:pt x="105" y="179"/>
                          </a:lnTo>
                          <a:lnTo>
                            <a:pt x="107" y="176"/>
                          </a:lnTo>
                          <a:lnTo>
                            <a:pt x="111" y="173"/>
                          </a:lnTo>
                          <a:lnTo>
                            <a:pt x="114" y="168"/>
                          </a:lnTo>
                          <a:lnTo>
                            <a:pt x="116" y="162"/>
                          </a:lnTo>
                          <a:lnTo>
                            <a:pt x="118" y="157"/>
                          </a:lnTo>
                          <a:lnTo>
                            <a:pt x="122" y="153"/>
                          </a:lnTo>
                          <a:lnTo>
                            <a:pt x="124" y="147"/>
                          </a:lnTo>
                          <a:lnTo>
                            <a:pt x="127" y="141"/>
                          </a:lnTo>
                          <a:lnTo>
                            <a:pt x="129" y="137"/>
                          </a:lnTo>
                          <a:lnTo>
                            <a:pt x="132" y="132"/>
                          </a:lnTo>
                          <a:lnTo>
                            <a:pt x="133" y="126"/>
                          </a:lnTo>
                          <a:lnTo>
                            <a:pt x="134" y="120"/>
                          </a:lnTo>
                          <a:lnTo>
                            <a:pt x="135" y="116"/>
                          </a:lnTo>
                          <a:lnTo>
                            <a:pt x="135" y="110"/>
                          </a:lnTo>
                          <a:lnTo>
                            <a:pt x="136" y="104"/>
                          </a:lnTo>
                          <a:lnTo>
                            <a:pt x="137" y="99"/>
                          </a:lnTo>
                          <a:lnTo>
                            <a:pt x="137" y="94"/>
                          </a:lnTo>
                          <a:lnTo>
                            <a:pt x="137" y="89"/>
                          </a:lnTo>
                          <a:lnTo>
                            <a:pt x="137" y="84"/>
                          </a:lnTo>
                          <a:lnTo>
                            <a:pt x="137" y="80"/>
                          </a:lnTo>
                          <a:lnTo>
                            <a:pt x="137" y="76"/>
                          </a:lnTo>
                          <a:lnTo>
                            <a:pt x="137" y="73"/>
                          </a:lnTo>
                          <a:lnTo>
                            <a:pt x="137" y="68"/>
                          </a:lnTo>
                          <a:lnTo>
                            <a:pt x="137" y="67"/>
                          </a:lnTo>
                          <a:lnTo>
                            <a:pt x="54" y="0"/>
                          </a:lnTo>
                          <a:lnTo>
                            <a:pt x="54" y="0"/>
                          </a:lnTo>
                          <a:close/>
                        </a:path>
                      </a:pathLst>
                    </a:custGeom>
                    <a:solidFill>
                      <a:srgbClr val="7a94a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7405920" y="2727360"/>
                      <a:ext cx="62640" cy="24120"/>
                    </a:xfrm>
                    <a:custGeom>
                      <a:avLst/>
                      <a:gdLst/>
                      <a:ahLst/>
                      <a:rect l="l" t="t" r="r" b="b"/>
                      <a:pathLst>
                        <a:path w="65" h="31">
                          <a:moveTo>
                            <a:pt x="28" y="0"/>
                          </a:moveTo>
                          <a:lnTo>
                            <a:pt x="65" y="23"/>
                          </a:lnTo>
                          <a:lnTo>
                            <a:pt x="0" y="31"/>
                          </a:lnTo>
                          <a:lnTo>
                            <a:pt x="28" y="0"/>
                          </a:lnTo>
                          <a:lnTo>
                            <a:pt x="28" y="0"/>
                          </a:lnTo>
                          <a:close/>
                        </a:path>
                      </a:pathLst>
                    </a:custGeom>
                    <a:solidFill>
                      <a:srgbClr val="bdd6ff"/>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76" name=""/>
                    <p:cNvSpPr/>
                    <p:nvPr/>
                  </p:nvSpPr>
                  <p:spPr>
                    <a:xfrm>
                      <a:off x="7154280" y="2783520"/>
                      <a:ext cx="173520" cy="75600"/>
                    </a:xfrm>
                    <a:custGeom>
                      <a:avLst/>
                      <a:gdLst/>
                      <a:ahLst/>
                      <a:rect l="l" t="t" r="r" b="b"/>
                      <a:pathLst>
                        <a:path w="179" h="97">
                          <a:moveTo>
                            <a:pt x="0" y="97"/>
                          </a:moveTo>
                          <a:lnTo>
                            <a:pt x="113" y="0"/>
                          </a:lnTo>
                          <a:lnTo>
                            <a:pt x="179" y="78"/>
                          </a:lnTo>
                          <a:lnTo>
                            <a:pt x="177" y="77"/>
                          </a:lnTo>
                          <a:lnTo>
                            <a:pt x="172" y="73"/>
                          </a:lnTo>
                          <a:lnTo>
                            <a:pt x="169" y="70"/>
                          </a:lnTo>
                          <a:lnTo>
                            <a:pt x="166" y="68"/>
                          </a:lnTo>
                          <a:lnTo>
                            <a:pt x="161" y="65"/>
                          </a:lnTo>
                          <a:lnTo>
                            <a:pt x="157" y="62"/>
                          </a:lnTo>
                          <a:lnTo>
                            <a:pt x="151" y="59"/>
                          </a:lnTo>
                          <a:lnTo>
                            <a:pt x="146" y="56"/>
                          </a:lnTo>
                          <a:lnTo>
                            <a:pt x="141" y="53"/>
                          </a:lnTo>
                          <a:lnTo>
                            <a:pt x="135" y="52"/>
                          </a:lnTo>
                          <a:lnTo>
                            <a:pt x="132" y="51"/>
                          </a:lnTo>
                          <a:lnTo>
                            <a:pt x="129" y="50"/>
                          </a:lnTo>
                          <a:lnTo>
                            <a:pt x="126" y="50"/>
                          </a:lnTo>
                          <a:lnTo>
                            <a:pt x="123" y="50"/>
                          </a:lnTo>
                          <a:lnTo>
                            <a:pt x="117" y="50"/>
                          </a:lnTo>
                          <a:lnTo>
                            <a:pt x="113" y="50"/>
                          </a:lnTo>
                          <a:lnTo>
                            <a:pt x="109" y="50"/>
                          </a:lnTo>
                          <a:lnTo>
                            <a:pt x="106" y="51"/>
                          </a:lnTo>
                          <a:lnTo>
                            <a:pt x="103" y="51"/>
                          </a:lnTo>
                          <a:lnTo>
                            <a:pt x="100" y="53"/>
                          </a:lnTo>
                          <a:lnTo>
                            <a:pt x="94" y="56"/>
                          </a:lnTo>
                          <a:lnTo>
                            <a:pt x="90" y="59"/>
                          </a:lnTo>
                          <a:lnTo>
                            <a:pt x="85" y="62"/>
                          </a:lnTo>
                          <a:lnTo>
                            <a:pt x="80" y="67"/>
                          </a:lnTo>
                          <a:lnTo>
                            <a:pt x="76" y="70"/>
                          </a:lnTo>
                          <a:lnTo>
                            <a:pt x="73" y="75"/>
                          </a:lnTo>
                          <a:lnTo>
                            <a:pt x="69" y="79"/>
                          </a:lnTo>
                          <a:lnTo>
                            <a:pt x="66" y="83"/>
                          </a:lnTo>
                          <a:lnTo>
                            <a:pt x="63" y="86"/>
                          </a:lnTo>
                          <a:lnTo>
                            <a:pt x="61" y="89"/>
                          </a:lnTo>
                          <a:lnTo>
                            <a:pt x="59" y="92"/>
                          </a:lnTo>
                          <a:lnTo>
                            <a:pt x="57" y="94"/>
                          </a:lnTo>
                          <a:lnTo>
                            <a:pt x="57" y="96"/>
                          </a:lnTo>
                          <a:lnTo>
                            <a:pt x="57" y="97"/>
                          </a:lnTo>
                          <a:lnTo>
                            <a:pt x="0" y="97"/>
                          </a:lnTo>
                          <a:lnTo>
                            <a:pt x="0" y="97"/>
                          </a:lnTo>
                          <a:close/>
                        </a:path>
                      </a:pathLst>
                    </a:custGeom>
                    <a:solidFill>
                      <a:srgbClr val="bdd6ff"/>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77" name=""/>
                    <p:cNvSpPr/>
                    <p:nvPr/>
                  </p:nvSpPr>
                  <p:spPr>
                    <a:xfrm>
                      <a:off x="7402680" y="2466720"/>
                      <a:ext cx="49320" cy="198720"/>
                    </a:xfrm>
                    <a:custGeom>
                      <a:avLst/>
                      <a:gdLst/>
                      <a:ahLst/>
                      <a:rect l="l" t="t" r="r" b="b"/>
                      <a:pathLst>
                        <a:path w="51" h="255">
                          <a:moveTo>
                            <a:pt x="44" y="0"/>
                          </a:moveTo>
                          <a:lnTo>
                            <a:pt x="9" y="35"/>
                          </a:lnTo>
                          <a:lnTo>
                            <a:pt x="20" y="73"/>
                          </a:lnTo>
                          <a:lnTo>
                            <a:pt x="19" y="73"/>
                          </a:lnTo>
                          <a:lnTo>
                            <a:pt x="16" y="75"/>
                          </a:lnTo>
                          <a:lnTo>
                            <a:pt x="15" y="76"/>
                          </a:lnTo>
                          <a:lnTo>
                            <a:pt x="13" y="79"/>
                          </a:lnTo>
                          <a:lnTo>
                            <a:pt x="11" y="81"/>
                          </a:lnTo>
                          <a:lnTo>
                            <a:pt x="10" y="85"/>
                          </a:lnTo>
                          <a:lnTo>
                            <a:pt x="8" y="88"/>
                          </a:lnTo>
                          <a:lnTo>
                            <a:pt x="6" y="92"/>
                          </a:lnTo>
                          <a:lnTo>
                            <a:pt x="4" y="96"/>
                          </a:lnTo>
                          <a:lnTo>
                            <a:pt x="3" y="102"/>
                          </a:lnTo>
                          <a:lnTo>
                            <a:pt x="2" y="105"/>
                          </a:lnTo>
                          <a:lnTo>
                            <a:pt x="1" y="108"/>
                          </a:lnTo>
                          <a:lnTo>
                            <a:pt x="0" y="111"/>
                          </a:lnTo>
                          <a:lnTo>
                            <a:pt x="0" y="115"/>
                          </a:lnTo>
                          <a:lnTo>
                            <a:pt x="0" y="118"/>
                          </a:lnTo>
                          <a:lnTo>
                            <a:pt x="0" y="122"/>
                          </a:lnTo>
                          <a:lnTo>
                            <a:pt x="0" y="126"/>
                          </a:lnTo>
                          <a:lnTo>
                            <a:pt x="0" y="131"/>
                          </a:lnTo>
                          <a:lnTo>
                            <a:pt x="0" y="135"/>
                          </a:lnTo>
                          <a:lnTo>
                            <a:pt x="0" y="140"/>
                          </a:lnTo>
                          <a:lnTo>
                            <a:pt x="0" y="145"/>
                          </a:lnTo>
                          <a:lnTo>
                            <a:pt x="2" y="149"/>
                          </a:lnTo>
                          <a:lnTo>
                            <a:pt x="2" y="154"/>
                          </a:lnTo>
                          <a:lnTo>
                            <a:pt x="3" y="159"/>
                          </a:lnTo>
                          <a:lnTo>
                            <a:pt x="3" y="164"/>
                          </a:lnTo>
                          <a:lnTo>
                            <a:pt x="5" y="169"/>
                          </a:lnTo>
                          <a:lnTo>
                            <a:pt x="5" y="174"/>
                          </a:lnTo>
                          <a:lnTo>
                            <a:pt x="7" y="180"/>
                          </a:lnTo>
                          <a:lnTo>
                            <a:pt x="8" y="185"/>
                          </a:lnTo>
                          <a:lnTo>
                            <a:pt x="9" y="189"/>
                          </a:lnTo>
                          <a:lnTo>
                            <a:pt x="11" y="194"/>
                          </a:lnTo>
                          <a:lnTo>
                            <a:pt x="11" y="200"/>
                          </a:lnTo>
                          <a:lnTo>
                            <a:pt x="12" y="205"/>
                          </a:lnTo>
                          <a:lnTo>
                            <a:pt x="14" y="209"/>
                          </a:lnTo>
                          <a:lnTo>
                            <a:pt x="15" y="214"/>
                          </a:lnTo>
                          <a:lnTo>
                            <a:pt x="16" y="218"/>
                          </a:lnTo>
                          <a:lnTo>
                            <a:pt x="17" y="223"/>
                          </a:lnTo>
                          <a:lnTo>
                            <a:pt x="18" y="226"/>
                          </a:lnTo>
                          <a:lnTo>
                            <a:pt x="19" y="230"/>
                          </a:lnTo>
                          <a:lnTo>
                            <a:pt x="20" y="234"/>
                          </a:lnTo>
                          <a:lnTo>
                            <a:pt x="21" y="238"/>
                          </a:lnTo>
                          <a:lnTo>
                            <a:pt x="23" y="242"/>
                          </a:lnTo>
                          <a:lnTo>
                            <a:pt x="24" y="246"/>
                          </a:lnTo>
                          <a:lnTo>
                            <a:pt x="25" y="251"/>
                          </a:lnTo>
                          <a:lnTo>
                            <a:pt x="27" y="254"/>
                          </a:lnTo>
                          <a:lnTo>
                            <a:pt x="27" y="255"/>
                          </a:lnTo>
                          <a:lnTo>
                            <a:pt x="51" y="116"/>
                          </a:lnTo>
                          <a:lnTo>
                            <a:pt x="26" y="40"/>
                          </a:lnTo>
                          <a:lnTo>
                            <a:pt x="44" y="0"/>
                          </a:lnTo>
                          <a:lnTo>
                            <a:pt x="44" y="0"/>
                          </a:lnTo>
                          <a:close/>
                        </a:path>
                      </a:pathLst>
                    </a:custGeom>
                    <a:solidFill>
                      <a:srgbClr val="c7695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7407720" y="2521440"/>
                      <a:ext cx="41400" cy="73800"/>
                    </a:xfrm>
                    <a:custGeom>
                      <a:avLst/>
                      <a:gdLst/>
                      <a:ahLst/>
                      <a:rect l="l" t="t" r="r" b="b"/>
                      <a:pathLst>
                        <a:path w="43" h="95">
                          <a:moveTo>
                            <a:pt x="19" y="0"/>
                          </a:moveTo>
                          <a:lnTo>
                            <a:pt x="43" y="36"/>
                          </a:lnTo>
                          <a:lnTo>
                            <a:pt x="2" y="95"/>
                          </a:lnTo>
                          <a:lnTo>
                            <a:pt x="1" y="93"/>
                          </a:lnTo>
                          <a:lnTo>
                            <a:pt x="1" y="89"/>
                          </a:lnTo>
                          <a:lnTo>
                            <a:pt x="0" y="86"/>
                          </a:lnTo>
                          <a:lnTo>
                            <a:pt x="0" y="83"/>
                          </a:lnTo>
                          <a:lnTo>
                            <a:pt x="0" y="80"/>
                          </a:lnTo>
                          <a:lnTo>
                            <a:pt x="0" y="78"/>
                          </a:lnTo>
                          <a:lnTo>
                            <a:pt x="0" y="73"/>
                          </a:lnTo>
                          <a:lnTo>
                            <a:pt x="0" y="69"/>
                          </a:lnTo>
                          <a:lnTo>
                            <a:pt x="0" y="64"/>
                          </a:lnTo>
                          <a:lnTo>
                            <a:pt x="1" y="60"/>
                          </a:lnTo>
                          <a:lnTo>
                            <a:pt x="1" y="55"/>
                          </a:lnTo>
                          <a:lnTo>
                            <a:pt x="2" y="51"/>
                          </a:lnTo>
                          <a:lnTo>
                            <a:pt x="2" y="46"/>
                          </a:lnTo>
                          <a:lnTo>
                            <a:pt x="4" y="42"/>
                          </a:lnTo>
                          <a:lnTo>
                            <a:pt x="4" y="38"/>
                          </a:lnTo>
                          <a:lnTo>
                            <a:pt x="5" y="34"/>
                          </a:lnTo>
                          <a:lnTo>
                            <a:pt x="6" y="29"/>
                          </a:lnTo>
                          <a:lnTo>
                            <a:pt x="6" y="25"/>
                          </a:lnTo>
                          <a:lnTo>
                            <a:pt x="7" y="22"/>
                          </a:lnTo>
                          <a:lnTo>
                            <a:pt x="9" y="18"/>
                          </a:lnTo>
                          <a:lnTo>
                            <a:pt x="10" y="15"/>
                          </a:lnTo>
                          <a:lnTo>
                            <a:pt x="12" y="12"/>
                          </a:lnTo>
                          <a:lnTo>
                            <a:pt x="14" y="6"/>
                          </a:lnTo>
                          <a:lnTo>
                            <a:pt x="16" y="3"/>
                          </a:lnTo>
                          <a:lnTo>
                            <a:pt x="18" y="0"/>
                          </a:lnTo>
                          <a:lnTo>
                            <a:pt x="19" y="0"/>
                          </a:lnTo>
                          <a:lnTo>
                            <a:pt x="19" y="0"/>
                          </a:lnTo>
                          <a:close/>
                        </a:path>
                      </a:pathLst>
                    </a:custGeom>
                    <a:solidFill>
                      <a:srgbClr val="e08578"/>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279" name=""/>
                    <p:cNvSpPr/>
                    <p:nvPr/>
                  </p:nvSpPr>
                  <p:spPr>
                    <a:xfrm>
                      <a:off x="7434000" y="2403720"/>
                      <a:ext cx="247320" cy="240120"/>
                    </a:xfrm>
                    <a:custGeom>
                      <a:avLst/>
                      <a:gdLst/>
                      <a:ahLst/>
                      <a:rect l="l" t="t" r="r" b="b"/>
                      <a:pathLst>
                        <a:path w="255" h="308">
                          <a:moveTo>
                            <a:pt x="18" y="29"/>
                          </a:moveTo>
                          <a:lnTo>
                            <a:pt x="17" y="30"/>
                          </a:lnTo>
                          <a:lnTo>
                            <a:pt x="14" y="34"/>
                          </a:lnTo>
                          <a:lnTo>
                            <a:pt x="12" y="36"/>
                          </a:lnTo>
                          <a:lnTo>
                            <a:pt x="10" y="39"/>
                          </a:lnTo>
                          <a:lnTo>
                            <a:pt x="8" y="43"/>
                          </a:lnTo>
                          <a:lnTo>
                            <a:pt x="7" y="48"/>
                          </a:lnTo>
                          <a:lnTo>
                            <a:pt x="4" y="52"/>
                          </a:lnTo>
                          <a:lnTo>
                            <a:pt x="3" y="57"/>
                          </a:lnTo>
                          <a:lnTo>
                            <a:pt x="1" y="61"/>
                          </a:lnTo>
                          <a:lnTo>
                            <a:pt x="0" y="67"/>
                          </a:lnTo>
                          <a:lnTo>
                            <a:pt x="0" y="72"/>
                          </a:lnTo>
                          <a:lnTo>
                            <a:pt x="0" y="77"/>
                          </a:lnTo>
                          <a:lnTo>
                            <a:pt x="0" y="82"/>
                          </a:lnTo>
                          <a:lnTo>
                            <a:pt x="3" y="88"/>
                          </a:lnTo>
                          <a:lnTo>
                            <a:pt x="4" y="93"/>
                          </a:lnTo>
                          <a:lnTo>
                            <a:pt x="7" y="97"/>
                          </a:lnTo>
                          <a:lnTo>
                            <a:pt x="11" y="102"/>
                          </a:lnTo>
                          <a:lnTo>
                            <a:pt x="15" y="108"/>
                          </a:lnTo>
                          <a:lnTo>
                            <a:pt x="18" y="112"/>
                          </a:lnTo>
                          <a:lnTo>
                            <a:pt x="23" y="116"/>
                          </a:lnTo>
                          <a:lnTo>
                            <a:pt x="27" y="120"/>
                          </a:lnTo>
                          <a:lnTo>
                            <a:pt x="32" y="125"/>
                          </a:lnTo>
                          <a:lnTo>
                            <a:pt x="36" y="128"/>
                          </a:lnTo>
                          <a:lnTo>
                            <a:pt x="40" y="131"/>
                          </a:lnTo>
                          <a:lnTo>
                            <a:pt x="44" y="134"/>
                          </a:lnTo>
                          <a:lnTo>
                            <a:pt x="48" y="136"/>
                          </a:lnTo>
                          <a:lnTo>
                            <a:pt x="50" y="138"/>
                          </a:lnTo>
                          <a:lnTo>
                            <a:pt x="53" y="140"/>
                          </a:lnTo>
                          <a:lnTo>
                            <a:pt x="54" y="141"/>
                          </a:lnTo>
                          <a:lnTo>
                            <a:pt x="55" y="141"/>
                          </a:lnTo>
                          <a:lnTo>
                            <a:pt x="56" y="140"/>
                          </a:lnTo>
                          <a:lnTo>
                            <a:pt x="57" y="138"/>
                          </a:lnTo>
                          <a:lnTo>
                            <a:pt x="61" y="136"/>
                          </a:lnTo>
                          <a:lnTo>
                            <a:pt x="67" y="134"/>
                          </a:lnTo>
                          <a:lnTo>
                            <a:pt x="72" y="131"/>
                          </a:lnTo>
                          <a:lnTo>
                            <a:pt x="77" y="130"/>
                          </a:lnTo>
                          <a:lnTo>
                            <a:pt x="80" y="130"/>
                          </a:lnTo>
                          <a:lnTo>
                            <a:pt x="84" y="130"/>
                          </a:lnTo>
                          <a:lnTo>
                            <a:pt x="86" y="131"/>
                          </a:lnTo>
                          <a:lnTo>
                            <a:pt x="89" y="133"/>
                          </a:lnTo>
                          <a:lnTo>
                            <a:pt x="91" y="134"/>
                          </a:lnTo>
                          <a:lnTo>
                            <a:pt x="93" y="135"/>
                          </a:lnTo>
                          <a:lnTo>
                            <a:pt x="95" y="138"/>
                          </a:lnTo>
                          <a:lnTo>
                            <a:pt x="96" y="141"/>
                          </a:lnTo>
                          <a:lnTo>
                            <a:pt x="97" y="145"/>
                          </a:lnTo>
                          <a:lnTo>
                            <a:pt x="98" y="148"/>
                          </a:lnTo>
                          <a:lnTo>
                            <a:pt x="100" y="152"/>
                          </a:lnTo>
                          <a:lnTo>
                            <a:pt x="101" y="156"/>
                          </a:lnTo>
                          <a:lnTo>
                            <a:pt x="101" y="160"/>
                          </a:lnTo>
                          <a:lnTo>
                            <a:pt x="101" y="165"/>
                          </a:lnTo>
                          <a:lnTo>
                            <a:pt x="101" y="170"/>
                          </a:lnTo>
                          <a:lnTo>
                            <a:pt x="102" y="174"/>
                          </a:lnTo>
                          <a:lnTo>
                            <a:pt x="101" y="179"/>
                          </a:lnTo>
                          <a:lnTo>
                            <a:pt x="101" y="184"/>
                          </a:lnTo>
                          <a:lnTo>
                            <a:pt x="101" y="189"/>
                          </a:lnTo>
                          <a:lnTo>
                            <a:pt x="100" y="193"/>
                          </a:lnTo>
                          <a:lnTo>
                            <a:pt x="98" y="197"/>
                          </a:lnTo>
                          <a:lnTo>
                            <a:pt x="97" y="201"/>
                          </a:lnTo>
                          <a:lnTo>
                            <a:pt x="96" y="205"/>
                          </a:lnTo>
                          <a:lnTo>
                            <a:pt x="95" y="210"/>
                          </a:lnTo>
                          <a:lnTo>
                            <a:pt x="94" y="212"/>
                          </a:lnTo>
                          <a:lnTo>
                            <a:pt x="92" y="215"/>
                          </a:lnTo>
                          <a:lnTo>
                            <a:pt x="90" y="218"/>
                          </a:lnTo>
                          <a:lnTo>
                            <a:pt x="89" y="222"/>
                          </a:lnTo>
                          <a:lnTo>
                            <a:pt x="85" y="226"/>
                          </a:lnTo>
                          <a:lnTo>
                            <a:pt x="83" y="230"/>
                          </a:lnTo>
                          <a:lnTo>
                            <a:pt x="81" y="231"/>
                          </a:lnTo>
                          <a:lnTo>
                            <a:pt x="81" y="233"/>
                          </a:lnTo>
                          <a:lnTo>
                            <a:pt x="81" y="233"/>
                          </a:lnTo>
                          <a:lnTo>
                            <a:pt x="81" y="235"/>
                          </a:lnTo>
                          <a:lnTo>
                            <a:pt x="82" y="239"/>
                          </a:lnTo>
                          <a:lnTo>
                            <a:pt x="84" y="245"/>
                          </a:lnTo>
                          <a:lnTo>
                            <a:pt x="84" y="247"/>
                          </a:lnTo>
                          <a:lnTo>
                            <a:pt x="85" y="249"/>
                          </a:lnTo>
                          <a:lnTo>
                            <a:pt x="85" y="253"/>
                          </a:lnTo>
                          <a:lnTo>
                            <a:pt x="86" y="256"/>
                          </a:lnTo>
                          <a:lnTo>
                            <a:pt x="87" y="259"/>
                          </a:lnTo>
                          <a:lnTo>
                            <a:pt x="89" y="263"/>
                          </a:lnTo>
                          <a:lnTo>
                            <a:pt x="90" y="266"/>
                          </a:lnTo>
                          <a:lnTo>
                            <a:pt x="91" y="269"/>
                          </a:lnTo>
                          <a:lnTo>
                            <a:pt x="92" y="273"/>
                          </a:lnTo>
                          <a:lnTo>
                            <a:pt x="93" y="276"/>
                          </a:lnTo>
                          <a:lnTo>
                            <a:pt x="94" y="279"/>
                          </a:lnTo>
                          <a:lnTo>
                            <a:pt x="95" y="283"/>
                          </a:lnTo>
                          <a:lnTo>
                            <a:pt x="95" y="286"/>
                          </a:lnTo>
                          <a:lnTo>
                            <a:pt x="96" y="289"/>
                          </a:lnTo>
                          <a:lnTo>
                            <a:pt x="97" y="292"/>
                          </a:lnTo>
                          <a:lnTo>
                            <a:pt x="98" y="295"/>
                          </a:lnTo>
                          <a:lnTo>
                            <a:pt x="99" y="301"/>
                          </a:lnTo>
                          <a:lnTo>
                            <a:pt x="101" y="305"/>
                          </a:lnTo>
                          <a:lnTo>
                            <a:pt x="102" y="307"/>
                          </a:lnTo>
                          <a:lnTo>
                            <a:pt x="102" y="308"/>
                          </a:lnTo>
                          <a:lnTo>
                            <a:pt x="178" y="308"/>
                          </a:lnTo>
                          <a:lnTo>
                            <a:pt x="179" y="307"/>
                          </a:lnTo>
                          <a:lnTo>
                            <a:pt x="181" y="304"/>
                          </a:lnTo>
                          <a:lnTo>
                            <a:pt x="183" y="301"/>
                          </a:lnTo>
                          <a:lnTo>
                            <a:pt x="184" y="298"/>
                          </a:lnTo>
                          <a:lnTo>
                            <a:pt x="187" y="295"/>
                          </a:lnTo>
                          <a:lnTo>
                            <a:pt x="190" y="291"/>
                          </a:lnTo>
                          <a:lnTo>
                            <a:pt x="192" y="288"/>
                          </a:lnTo>
                          <a:lnTo>
                            <a:pt x="195" y="283"/>
                          </a:lnTo>
                          <a:lnTo>
                            <a:pt x="198" y="278"/>
                          </a:lnTo>
                          <a:lnTo>
                            <a:pt x="202" y="273"/>
                          </a:lnTo>
                          <a:lnTo>
                            <a:pt x="205" y="268"/>
                          </a:lnTo>
                          <a:lnTo>
                            <a:pt x="208" y="262"/>
                          </a:lnTo>
                          <a:lnTo>
                            <a:pt x="210" y="259"/>
                          </a:lnTo>
                          <a:lnTo>
                            <a:pt x="211" y="256"/>
                          </a:lnTo>
                          <a:lnTo>
                            <a:pt x="213" y="253"/>
                          </a:lnTo>
                          <a:lnTo>
                            <a:pt x="215" y="250"/>
                          </a:lnTo>
                          <a:lnTo>
                            <a:pt x="217" y="247"/>
                          </a:lnTo>
                          <a:lnTo>
                            <a:pt x="219" y="243"/>
                          </a:lnTo>
                          <a:lnTo>
                            <a:pt x="220" y="240"/>
                          </a:lnTo>
                          <a:lnTo>
                            <a:pt x="222" y="237"/>
                          </a:lnTo>
                          <a:lnTo>
                            <a:pt x="224" y="233"/>
                          </a:lnTo>
                          <a:lnTo>
                            <a:pt x="225" y="230"/>
                          </a:lnTo>
                          <a:lnTo>
                            <a:pt x="227" y="226"/>
                          </a:lnTo>
                          <a:lnTo>
                            <a:pt x="229" y="223"/>
                          </a:lnTo>
                          <a:lnTo>
                            <a:pt x="230" y="219"/>
                          </a:lnTo>
                          <a:lnTo>
                            <a:pt x="231" y="215"/>
                          </a:lnTo>
                          <a:lnTo>
                            <a:pt x="233" y="211"/>
                          </a:lnTo>
                          <a:lnTo>
                            <a:pt x="235" y="209"/>
                          </a:lnTo>
                          <a:lnTo>
                            <a:pt x="236" y="205"/>
                          </a:lnTo>
                          <a:lnTo>
                            <a:pt x="238" y="201"/>
                          </a:lnTo>
                          <a:lnTo>
                            <a:pt x="240" y="197"/>
                          </a:lnTo>
                          <a:lnTo>
                            <a:pt x="241" y="194"/>
                          </a:lnTo>
                          <a:lnTo>
                            <a:pt x="243" y="190"/>
                          </a:lnTo>
                          <a:lnTo>
                            <a:pt x="244" y="186"/>
                          </a:lnTo>
                          <a:lnTo>
                            <a:pt x="245" y="182"/>
                          </a:lnTo>
                          <a:lnTo>
                            <a:pt x="247" y="179"/>
                          </a:lnTo>
                          <a:lnTo>
                            <a:pt x="248" y="174"/>
                          </a:lnTo>
                          <a:lnTo>
                            <a:pt x="249" y="171"/>
                          </a:lnTo>
                          <a:lnTo>
                            <a:pt x="250" y="168"/>
                          </a:lnTo>
                          <a:lnTo>
                            <a:pt x="250" y="164"/>
                          </a:lnTo>
                          <a:lnTo>
                            <a:pt x="251" y="160"/>
                          </a:lnTo>
                          <a:lnTo>
                            <a:pt x="251" y="156"/>
                          </a:lnTo>
                          <a:lnTo>
                            <a:pt x="252" y="153"/>
                          </a:lnTo>
                          <a:lnTo>
                            <a:pt x="253" y="150"/>
                          </a:lnTo>
                          <a:lnTo>
                            <a:pt x="253" y="146"/>
                          </a:lnTo>
                          <a:lnTo>
                            <a:pt x="253" y="142"/>
                          </a:lnTo>
                          <a:lnTo>
                            <a:pt x="254" y="138"/>
                          </a:lnTo>
                          <a:lnTo>
                            <a:pt x="255" y="135"/>
                          </a:lnTo>
                          <a:lnTo>
                            <a:pt x="254" y="132"/>
                          </a:lnTo>
                          <a:lnTo>
                            <a:pt x="254" y="128"/>
                          </a:lnTo>
                          <a:lnTo>
                            <a:pt x="254" y="124"/>
                          </a:lnTo>
                          <a:lnTo>
                            <a:pt x="254" y="121"/>
                          </a:lnTo>
                          <a:lnTo>
                            <a:pt x="253" y="117"/>
                          </a:lnTo>
                          <a:lnTo>
                            <a:pt x="253" y="115"/>
                          </a:lnTo>
                          <a:lnTo>
                            <a:pt x="252" y="112"/>
                          </a:lnTo>
                          <a:lnTo>
                            <a:pt x="252" y="108"/>
                          </a:lnTo>
                          <a:lnTo>
                            <a:pt x="251" y="105"/>
                          </a:lnTo>
                          <a:lnTo>
                            <a:pt x="250" y="101"/>
                          </a:lnTo>
                          <a:lnTo>
                            <a:pt x="250" y="98"/>
                          </a:lnTo>
                          <a:lnTo>
                            <a:pt x="249" y="96"/>
                          </a:lnTo>
                          <a:lnTo>
                            <a:pt x="247" y="90"/>
                          </a:lnTo>
                          <a:lnTo>
                            <a:pt x="245" y="84"/>
                          </a:lnTo>
                          <a:lnTo>
                            <a:pt x="241" y="78"/>
                          </a:lnTo>
                          <a:lnTo>
                            <a:pt x="238" y="73"/>
                          </a:lnTo>
                          <a:lnTo>
                            <a:pt x="235" y="68"/>
                          </a:lnTo>
                          <a:lnTo>
                            <a:pt x="231" y="63"/>
                          </a:lnTo>
                          <a:lnTo>
                            <a:pt x="228" y="58"/>
                          </a:lnTo>
                          <a:lnTo>
                            <a:pt x="224" y="53"/>
                          </a:lnTo>
                          <a:lnTo>
                            <a:pt x="219" y="48"/>
                          </a:lnTo>
                          <a:lnTo>
                            <a:pt x="215" y="44"/>
                          </a:lnTo>
                          <a:lnTo>
                            <a:pt x="211" y="39"/>
                          </a:lnTo>
                          <a:lnTo>
                            <a:pt x="205" y="36"/>
                          </a:lnTo>
                          <a:lnTo>
                            <a:pt x="200" y="32"/>
                          </a:lnTo>
                          <a:lnTo>
                            <a:pt x="195" y="28"/>
                          </a:lnTo>
                          <a:lnTo>
                            <a:pt x="191" y="24"/>
                          </a:lnTo>
                          <a:lnTo>
                            <a:pt x="185" y="21"/>
                          </a:lnTo>
                          <a:lnTo>
                            <a:pt x="179" y="19"/>
                          </a:lnTo>
                          <a:lnTo>
                            <a:pt x="174" y="16"/>
                          </a:lnTo>
                          <a:lnTo>
                            <a:pt x="168" y="13"/>
                          </a:lnTo>
                          <a:lnTo>
                            <a:pt x="163" y="11"/>
                          </a:lnTo>
                          <a:lnTo>
                            <a:pt x="157" y="9"/>
                          </a:lnTo>
                          <a:lnTo>
                            <a:pt x="152" y="7"/>
                          </a:lnTo>
                          <a:lnTo>
                            <a:pt x="146" y="5"/>
                          </a:lnTo>
                          <a:lnTo>
                            <a:pt x="140" y="4"/>
                          </a:lnTo>
                          <a:lnTo>
                            <a:pt x="134" y="3"/>
                          </a:lnTo>
                          <a:lnTo>
                            <a:pt x="129" y="2"/>
                          </a:lnTo>
                          <a:lnTo>
                            <a:pt x="123" y="0"/>
                          </a:lnTo>
                          <a:lnTo>
                            <a:pt x="117" y="0"/>
                          </a:lnTo>
                          <a:lnTo>
                            <a:pt x="112" y="0"/>
                          </a:lnTo>
                          <a:lnTo>
                            <a:pt x="106" y="0"/>
                          </a:lnTo>
                          <a:lnTo>
                            <a:pt x="101" y="0"/>
                          </a:lnTo>
                          <a:lnTo>
                            <a:pt x="95" y="0"/>
                          </a:lnTo>
                          <a:lnTo>
                            <a:pt x="91" y="0"/>
                          </a:lnTo>
                          <a:lnTo>
                            <a:pt x="86" y="1"/>
                          </a:lnTo>
                          <a:lnTo>
                            <a:pt x="81" y="1"/>
                          </a:lnTo>
                          <a:lnTo>
                            <a:pt x="76" y="3"/>
                          </a:lnTo>
                          <a:lnTo>
                            <a:pt x="72" y="4"/>
                          </a:lnTo>
                          <a:lnTo>
                            <a:pt x="67" y="5"/>
                          </a:lnTo>
                          <a:lnTo>
                            <a:pt x="62" y="7"/>
                          </a:lnTo>
                          <a:lnTo>
                            <a:pt x="58" y="8"/>
                          </a:lnTo>
                          <a:lnTo>
                            <a:pt x="54" y="10"/>
                          </a:lnTo>
                          <a:lnTo>
                            <a:pt x="51" y="12"/>
                          </a:lnTo>
                          <a:lnTo>
                            <a:pt x="46" y="13"/>
                          </a:lnTo>
                          <a:lnTo>
                            <a:pt x="43" y="15"/>
                          </a:lnTo>
                          <a:lnTo>
                            <a:pt x="39" y="16"/>
                          </a:lnTo>
                          <a:lnTo>
                            <a:pt x="37" y="17"/>
                          </a:lnTo>
                          <a:lnTo>
                            <a:pt x="34" y="18"/>
                          </a:lnTo>
                          <a:lnTo>
                            <a:pt x="31" y="20"/>
                          </a:lnTo>
                          <a:lnTo>
                            <a:pt x="28" y="21"/>
                          </a:lnTo>
                          <a:lnTo>
                            <a:pt x="27" y="23"/>
                          </a:lnTo>
                          <a:lnTo>
                            <a:pt x="22" y="24"/>
                          </a:lnTo>
                          <a:lnTo>
                            <a:pt x="19" y="27"/>
                          </a:lnTo>
                          <a:lnTo>
                            <a:pt x="18" y="28"/>
                          </a:lnTo>
                          <a:lnTo>
                            <a:pt x="18" y="29"/>
                          </a:lnTo>
                          <a:lnTo>
                            <a:pt x="18" y="29"/>
                          </a:lnTo>
                          <a:close/>
                        </a:path>
                      </a:pathLst>
                    </a:custGeom>
                    <a:solidFill>
                      <a:srgbClr val="1a1a1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a:off x="7448400" y="2421720"/>
                      <a:ext cx="77400" cy="60480"/>
                    </a:xfrm>
                    <a:custGeom>
                      <a:avLst/>
                      <a:gdLst/>
                      <a:ahLst/>
                      <a:rect l="l" t="t" r="r" b="b"/>
                      <a:pathLst>
                        <a:path w="80" h="78">
                          <a:moveTo>
                            <a:pt x="9" y="0"/>
                          </a:moveTo>
                          <a:lnTo>
                            <a:pt x="80" y="71"/>
                          </a:lnTo>
                          <a:lnTo>
                            <a:pt x="78" y="73"/>
                          </a:lnTo>
                          <a:lnTo>
                            <a:pt x="75" y="75"/>
                          </a:lnTo>
                          <a:lnTo>
                            <a:pt x="72" y="76"/>
                          </a:lnTo>
                          <a:lnTo>
                            <a:pt x="70" y="78"/>
                          </a:lnTo>
                          <a:lnTo>
                            <a:pt x="66" y="78"/>
                          </a:lnTo>
                          <a:lnTo>
                            <a:pt x="63" y="78"/>
                          </a:lnTo>
                          <a:lnTo>
                            <a:pt x="61" y="76"/>
                          </a:lnTo>
                          <a:lnTo>
                            <a:pt x="57" y="73"/>
                          </a:lnTo>
                          <a:lnTo>
                            <a:pt x="53" y="71"/>
                          </a:lnTo>
                          <a:lnTo>
                            <a:pt x="50" y="68"/>
                          </a:lnTo>
                          <a:lnTo>
                            <a:pt x="47" y="65"/>
                          </a:lnTo>
                          <a:lnTo>
                            <a:pt x="45" y="62"/>
                          </a:lnTo>
                          <a:lnTo>
                            <a:pt x="43" y="59"/>
                          </a:lnTo>
                          <a:lnTo>
                            <a:pt x="42" y="61"/>
                          </a:lnTo>
                          <a:lnTo>
                            <a:pt x="38" y="65"/>
                          </a:lnTo>
                          <a:lnTo>
                            <a:pt x="34" y="66"/>
                          </a:lnTo>
                          <a:lnTo>
                            <a:pt x="31" y="67"/>
                          </a:lnTo>
                          <a:lnTo>
                            <a:pt x="28" y="67"/>
                          </a:lnTo>
                          <a:lnTo>
                            <a:pt x="26" y="67"/>
                          </a:lnTo>
                          <a:lnTo>
                            <a:pt x="24" y="63"/>
                          </a:lnTo>
                          <a:lnTo>
                            <a:pt x="22" y="59"/>
                          </a:lnTo>
                          <a:lnTo>
                            <a:pt x="21" y="54"/>
                          </a:lnTo>
                          <a:lnTo>
                            <a:pt x="20" y="51"/>
                          </a:lnTo>
                          <a:lnTo>
                            <a:pt x="19" y="46"/>
                          </a:lnTo>
                          <a:lnTo>
                            <a:pt x="18" y="42"/>
                          </a:lnTo>
                          <a:lnTo>
                            <a:pt x="18" y="38"/>
                          </a:lnTo>
                          <a:lnTo>
                            <a:pt x="18" y="38"/>
                          </a:lnTo>
                          <a:lnTo>
                            <a:pt x="15" y="38"/>
                          </a:lnTo>
                          <a:lnTo>
                            <a:pt x="10" y="38"/>
                          </a:lnTo>
                          <a:lnTo>
                            <a:pt x="7" y="38"/>
                          </a:lnTo>
                          <a:lnTo>
                            <a:pt x="4" y="37"/>
                          </a:lnTo>
                          <a:lnTo>
                            <a:pt x="2" y="35"/>
                          </a:lnTo>
                          <a:lnTo>
                            <a:pt x="1" y="33"/>
                          </a:lnTo>
                          <a:lnTo>
                            <a:pt x="0" y="27"/>
                          </a:lnTo>
                          <a:lnTo>
                            <a:pt x="1" y="22"/>
                          </a:lnTo>
                          <a:lnTo>
                            <a:pt x="2" y="16"/>
                          </a:lnTo>
                          <a:lnTo>
                            <a:pt x="3" y="12"/>
                          </a:lnTo>
                          <a:lnTo>
                            <a:pt x="5" y="7"/>
                          </a:lnTo>
                          <a:lnTo>
                            <a:pt x="6" y="3"/>
                          </a:lnTo>
                          <a:lnTo>
                            <a:pt x="8" y="0"/>
                          </a:lnTo>
                          <a:lnTo>
                            <a:pt x="9" y="0"/>
                          </a:lnTo>
                          <a:lnTo>
                            <a:pt x="9" y="0"/>
                          </a:lnTo>
                          <a:close/>
                        </a:path>
                      </a:pathLst>
                    </a:custGeom>
                    <a:solidFill>
                      <a:srgbClr val="4d4d4d"/>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81" name=""/>
                    <p:cNvSpPr/>
                    <p:nvPr/>
                  </p:nvSpPr>
                  <p:spPr>
                    <a:xfrm>
                      <a:off x="7449480" y="1870200"/>
                      <a:ext cx="216720" cy="200160"/>
                    </a:xfrm>
                    <a:custGeom>
                      <a:avLst/>
                      <a:gdLst/>
                      <a:ahLst/>
                      <a:rect l="l" t="t" r="r" b="b"/>
                      <a:pathLst>
                        <a:path w="223" h="257">
                          <a:moveTo>
                            <a:pt x="223" y="0"/>
                          </a:moveTo>
                          <a:lnTo>
                            <a:pt x="90" y="152"/>
                          </a:lnTo>
                          <a:lnTo>
                            <a:pt x="146" y="196"/>
                          </a:lnTo>
                          <a:lnTo>
                            <a:pt x="145" y="194"/>
                          </a:lnTo>
                          <a:lnTo>
                            <a:pt x="142" y="193"/>
                          </a:lnTo>
                          <a:lnTo>
                            <a:pt x="139" y="192"/>
                          </a:lnTo>
                          <a:lnTo>
                            <a:pt x="137" y="191"/>
                          </a:lnTo>
                          <a:lnTo>
                            <a:pt x="134" y="190"/>
                          </a:lnTo>
                          <a:lnTo>
                            <a:pt x="131" y="190"/>
                          </a:lnTo>
                          <a:lnTo>
                            <a:pt x="126" y="189"/>
                          </a:lnTo>
                          <a:lnTo>
                            <a:pt x="122" y="189"/>
                          </a:lnTo>
                          <a:lnTo>
                            <a:pt x="118" y="188"/>
                          </a:lnTo>
                          <a:lnTo>
                            <a:pt x="113" y="189"/>
                          </a:lnTo>
                          <a:lnTo>
                            <a:pt x="106" y="189"/>
                          </a:lnTo>
                          <a:lnTo>
                            <a:pt x="101" y="191"/>
                          </a:lnTo>
                          <a:lnTo>
                            <a:pt x="98" y="192"/>
                          </a:lnTo>
                          <a:lnTo>
                            <a:pt x="95" y="193"/>
                          </a:lnTo>
                          <a:lnTo>
                            <a:pt x="92" y="195"/>
                          </a:lnTo>
                          <a:lnTo>
                            <a:pt x="89" y="197"/>
                          </a:lnTo>
                          <a:lnTo>
                            <a:pt x="85" y="198"/>
                          </a:lnTo>
                          <a:lnTo>
                            <a:pt x="82" y="200"/>
                          </a:lnTo>
                          <a:lnTo>
                            <a:pt x="79" y="201"/>
                          </a:lnTo>
                          <a:lnTo>
                            <a:pt x="75" y="204"/>
                          </a:lnTo>
                          <a:lnTo>
                            <a:pt x="71" y="205"/>
                          </a:lnTo>
                          <a:lnTo>
                            <a:pt x="68" y="206"/>
                          </a:lnTo>
                          <a:lnTo>
                            <a:pt x="65" y="209"/>
                          </a:lnTo>
                          <a:lnTo>
                            <a:pt x="61" y="212"/>
                          </a:lnTo>
                          <a:lnTo>
                            <a:pt x="58" y="214"/>
                          </a:lnTo>
                          <a:lnTo>
                            <a:pt x="55" y="217"/>
                          </a:lnTo>
                          <a:lnTo>
                            <a:pt x="51" y="219"/>
                          </a:lnTo>
                          <a:lnTo>
                            <a:pt x="48" y="222"/>
                          </a:lnTo>
                          <a:lnTo>
                            <a:pt x="44" y="224"/>
                          </a:lnTo>
                          <a:lnTo>
                            <a:pt x="41" y="226"/>
                          </a:lnTo>
                          <a:lnTo>
                            <a:pt x="39" y="229"/>
                          </a:lnTo>
                          <a:lnTo>
                            <a:pt x="36" y="232"/>
                          </a:lnTo>
                          <a:lnTo>
                            <a:pt x="33" y="234"/>
                          </a:lnTo>
                          <a:lnTo>
                            <a:pt x="29" y="237"/>
                          </a:lnTo>
                          <a:lnTo>
                            <a:pt x="27" y="239"/>
                          </a:lnTo>
                          <a:lnTo>
                            <a:pt x="24" y="242"/>
                          </a:lnTo>
                          <a:lnTo>
                            <a:pt x="20" y="245"/>
                          </a:lnTo>
                          <a:lnTo>
                            <a:pt x="17" y="249"/>
                          </a:lnTo>
                          <a:lnTo>
                            <a:pt x="13" y="252"/>
                          </a:lnTo>
                          <a:lnTo>
                            <a:pt x="11" y="254"/>
                          </a:lnTo>
                          <a:lnTo>
                            <a:pt x="9" y="256"/>
                          </a:lnTo>
                          <a:lnTo>
                            <a:pt x="9" y="257"/>
                          </a:lnTo>
                          <a:lnTo>
                            <a:pt x="0" y="226"/>
                          </a:lnTo>
                          <a:lnTo>
                            <a:pt x="0" y="225"/>
                          </a:lnTo>
                          <a:lnTo>
                            <a:pt x="2" y="223"/>
                          </a:lnTo>
                          <a:lnTo>
                            <a:pt x="3" y="220"/>
                          </a:lnTo>
                          <a:lnTo>
                            <a:pt x="4" y="218"/>
                          </a:lnTo>
                          <a:lnTo>
                            <a:pt x="7" y="214"/>
                          </a:lnTo>
                          <a:lnTo>
                            <a:pt x="9" y="211"/>
                          </a:lnTo>
                          <a:lnTo>
                            <a:pt x="12" y="206"/>
                          </a:lnTo>
                          <a:lnTo>
                            <a:pt x="14" y="204"/>
                          </a:lnTo>
                          <a:lnTo>
                            <a:pt x="18" y="198"/>
                          </a:lnTo>
                          <a:lnTo>
                            <a:pt x="21" y="194"/>
                          </a:lnTo>
                          <a:lnTo>
                            <a:pt x="24" y="188"/>
                          </a:lnTo>
                          <a:lnTo>
                            <a:pt x="28" y="184"/>
                          </a:lnTo>
                          <a:lnTo>
                            <a:pt x="32" y="178"/>
                          </a:lnTo>
                          <a:lnTo>
                            <a:pt x="37" y="173"/>
                          </a:lnTo>
                          <a:lnTo>
                            <a:pt x="39" y="169"/>
                          </a:lnTo>
                          <a:lnTo>
                            <a:pt x="41" y="167"/>
                          </a:lnTo>
                          <a:lnTo>
                            <a:pt x="42" y="164"/>
                          </a:lnTo>
                          <a:lnTo>
                            <a:pt x="45" y="161"/>
                          </a:lnTo>
                          <a:lnTo>
                            <a:pt x="47" y="157"/>
                          </a:lnTo>
                          <a:lnTo>
                            <a:pt x="50" y="154"/>
                          </a:lnTo>
                          <a:lnTo>
                            <a:pt x="52" y="151"/>
                          </a:lnTo>
                          <a:lnTo>
                            <a:pt x="55" y="148"/>
                          </a:lnTo>
                          <a:lnTo>
                            <a:pt x="57" y="146"/>
                          </a:lnTo>
                          <a:lnTo>
                            <a:pt x="60" y="142"/>
                          </a:lnTo>
                          <a:lnTo>
                            <a:pt x="61" y="139"/>
                          </a:lnTo>
                          <a:lnTo>
                            <a:pt x="64" y="136"/>
                          </a:lnTo>
                          <a:lnTo>
                            <a:pt x="66" y="133"/>
                          </a:lnTo>
                          <a:lnTo>
                            <a:pt x="69" y="129"/>
                          </a:lnTo>
                          <a:lnTo>
                            <a:pt x="71" y="127"/>
                          </a:lnTo>
                          <a:lnTo>
                            <a:pt x="75" y="124"/>
                          </a:lnTo>
                          <a:lnTo>
                            <a:pt x="77" y="121"/>
                          </a:lnTo>
                          <a:lnTo>
                            <a:pt x="79" y="117"/>
                          </a:lnTo>
                          <a:lnTo>
                            <a:pt x="82" y="114"/>
                          </a:lnTo>
                          <a:lnTo>
                            <a:pt x="85" y="111"/>
                          </a:lnTo>
                          <a:lnTo>
                            <a:pt x="87" y="108"/>
                          </a:lnTo>
                          <a:lnTo>
                            <a:pt x="90" y="105"/>
                          </a:lnTo>
                          <a:lnTo>
                            <a:pt x="93" y="102"/>
                          </a:lnTo>
                          <a:lnTo>
                            <a:pt x="96" y="99"/>
                          </a:lnTo>
                          <a:lnTo>
                            <a:pt x="98" y="96"/>
                          </a:lnTo>
                          <a:lnTo>
                            <a:pt x="101" y="92"/>
                          </a:lnTo>
                          <a:lnTo>
                            <a:pt x="103" y="90"/>
                          </a:lnTo>
                          <a:lnTo>
                            <a:pt x="106" y="88"/>
                          </a:lnTo>
                          <a:lnTo>
                            <a:pt x="112" y="81"/>
                          </a:lnTo>
                          <a:lnTo>
                            <a:pt x="118" y="76"/>
                          </a:lnTo>
                          <a:lnTo>
                            <a:pt x="122" y="71"/>
                          </a:lnTo>
                          <a:lnTo>
                            <a:pt x="128" y="67"/>
                          </a:lnTo>
                          <a:lnTo>
                            <a:pt x="133" y="61"/>
                          </a:lnTo>
                          <a:lnTo>
                            <a:pt x="138" y="56"/>
                          </a:lnTo>
                          <a:lnTo>
                            <a:pt x="143" y="52"/>
                          </a:lnTo>
                          <a:lnTo>
                            <a:pt x="148" y="48"/>
                          </a:lnTo>
                          <a:lnTo>
                            <a:pt x="153" y="44"/>
                          </a:lnTo>
                          <a:lnTo>
                            <a:pt x="157" y="40"/>
                          </a:lnTo>
                          <a:lnTo>
                            <a:pt x="162" y="36"/>
                          </a:lnTo>
                          <a:lnTo>
                            <a:pt x="166" y="33"/>
                          </a:lnTo>
                          <a:lnTo>
                            <a:pt x="171" y="30"/>
                          </a:lnTo>
                          <a:lnTo>
                            <a:pt x="175" y="27"/>
                          </a:lnTo>
                          <a:lnTo>
                            <a:pt x="178" y="24"/>
                          </a:lnTo>
                          <a:lnTo>
                            <a:pt x="183" y="21"/>
                          </a:lnTo>
                          <a:lnTo>
                            <a:pt x="187" y="19"/>
                          </a:lnTo>
                          <a:lnTo>
                            <a:pt x="191" y="17"/>
                          </a:lnTo>
                          <a:lnTo>
                            <a:pt x="195" y="14"/>
                          </a:lnTo>
                          <a:lnTo>
                            <a:pt x="197" y="13"/>
                          </a:lnTo>
                          <a:lnTo>
                            <a:pt x="200" y="11"/>
                          </a:lnTo>
                          <a:lnTo>
                            <a:pt x="204" y="9"/>
                          </a:lnTo>
                          <a:lnTo>
                            <a:pt x="209" y="5"/>
                          </a:lnTo>
                          <a:lnTo>
                            <a:pt x="214" y="4"/>
                          </a:lnTo>
                          <a:lnTo>
                            <a:pt x="217" y="1"/>
                          </a:lnTo>
                          <a:lnTo>
                            <a:pt x="220" y="0"/>
                          </a:lnTo>
                          <a:lnTo>
                            <a:pt x="221" y="0"/>
                          </a:lnTo>
                          <a:lnTo>
                            <a:pt x="223" y="0"/>
                          </a:lnTo>
                          <a:lnTo>
                            <a:pt x="223" y="0"/>
                          </a:lnTo>
                          <a:close/>
                        </a:path>
                      </a:pathLst>
                    </a:custGeom>
                    <a:solidFill>
                      <a:srgbClr val="e6ff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7772040" y="2015280"/>
                      <a:ext cx="44640" cy="43560"/>
                    </a:xfrm>
                    <a:custGeom>
                      <a:avLst/>
                      <a:gdLst/>
                      <a:ahLst/>
                      <a:rect l="l" t="t" r="r" b="b"/>
                      <a:pathLst>
                        <a:path w="46" h="56">
                          <a:moveTo>
                            <a:pt x="0" y="0"/>
                          </a:moveTo>
                          <a:lnTo>
                            <a:pt x="46" y="1"/>
                          </a:lnTo>
                          <a:lnTo>
                            <a:pt x="27" y="56"/>
                          </a:lnTo>
                          <a:lnTo>
                            <a:pt x="0" y="0"/>
                          </a:lnTo>
                          <a:lnTo>
                            <a:pt x="0" y="0"/>
                          </a:lnTo>
                          <a:close/>
                        </a:path>
                      </a:pathLst>
                    </a:custGeom>
                    <a:solidFill>
                      <a:srgbClr val="b0c2b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283" name=""/>
                    <p:cNvSpPr/>
                    <p:nvPr/>
                  </p:nvSpPr>
                  <p:spPr>
                    <a:xfrm>
                      <a:off x="7432200" y="2070360"/>
                      <a:ext cx="53280" cy="74880"/>
                    </a:xfrm>
                    <a:custGeom>
                      <a:avLst/>
                      <a:gdLst/>
                      <a:ahLst/>
                      <a:rect l="l" t="t" r="r" b="b"/>
                      <a:pathLst>
                        <a:path w="55" h="96">
                          <a:moveTo>
                            <a:pt x="30" y="0"/>
                          </a:moveTo>
                          <a:lnTo>
                            <a:pt x="55" y="96"/>
                          </a:lnTo>
                          <a:lnTo>
                            <a:pt x="0" y="47"/>
                          </a:lnTo>
                          <a:lnTo>
                            <a:pt x="30" y="0"/>
                          </a:lnTo>
                          <a:lnTo>
                            <a:pt x="30" y="0"/>
                          </a:lnTo>
                          <a:close/>
                        </a:path>
                      </a:pathLst>
                    </a:custGeom>
                    <a:solidFill>
                      <a:srgbClr val="d4ebd4"/>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84" name=""/>
                    <p:cNvSpPr/>
                    <p:nvPr/>
                  </p:nvSpPr>
                  <p:spPr>
                    <a:xfrm>
                      <a:off x="7696080" y="1753200"/>
                      <a:ext cx="41760" cy="73800"/>
                    </a:xfrm>
                    <a:custGeom>
                      <a:avLst/>
                      <a:gdLst/>
                      <a:ahLst/>
                      <a:rect l="l" t="t" r="r" b="b"/>
                      <a:pathLst>
                        <a:path w="43" h="95">
                          <a:moveTo>
                            <a:pt x="43" y="25"/>
                          </a:moveTo>
                          <a:lnTo>
                            <a:pt x="35" y="0"/>
                          </a:lnTo>
                          <a:lnTo>
                            <a:pt x="33" y="0"/>
                          </a:lnTo>
                          <a:lnTo>
                            <a:pt x="30" y="2"/>
                          </a:lnTo>
                          <a:lnTo>
                            <a:pt x="25" y="5"/>
                          </a:lnTo>
                          <a:lnTo>
                            <a:pt x="21" y="9"/>
                          </a:lnTo>
                          <a:lnTo>
                            <a:pt x="18" y="10"/>
                          </a:lnTo>
                          <a:lnTo>
                            <a:pt x="15" y="13"/>
                          </a:lnTo>
                          <a:lnTo>
                            <a:pt x="12" y="16"/>
                          </a:lnTo>
                          <a:lnTo>
                            <a:pt x="10" y="20"/>
                          </a:lnTo>
                          <a:lnTo>
                            <a:pt x="7" y="24"/>
                          </a:lnTo>
                          <a:lnTo>
                            <a:pt x="6" y="27"/>
                          </a:lnTo>
                          <a:lnTo>
                            <a:pt x="3" y="31"/>
                          </a:lnTo>
                          <a:lnTo>
                            <a:pt x="3" y="36"/>
                          </a:lnTo>
                          <a:lnTo>
                            <a:pt x="1" y="41"/>
                          </a:lnTo>
                          <a:lnTo>
                            <a:pt x="1" y="46"/>
                          </a:lnTo>
                          <a:lnTo>
                            <a:pt x="0" y="50"/>
                          </a:lnTo>
                          <a:lnTo>
                            <a:pt x="0" y="56"/>
                          </a:lnTo>
                          <a:lnTo>
                            <a:pt x="0" y="61"/>
                          </a:lnTo>
                          <a:lnTo>
                            <a:pt x="0" y="66"/>
                          </a:lnTo>
                          <a:lnTo>
                            <a:pt x="1" y="70"/>
                          </a:lnTo>
                          <a:lnTo>
                            <a:pt x="2" y="75"/>
                          </a:lnTo>
                          <a:lnTo>
                            <a:pt x="2" y="79"/>
                          </a:lnTo>
                          <a:lnTo>
                            <a:pt x="3" y="83"/>
                          </a:lnTo>
                          <a:lnTo>
                            <a:pt x="4" y="87"/>
                          </a:lnTo>
                          <a:lnTo>
                            <a:pt x="5" y="89"/>
                          </a:lnTo>
                          <a:lnTo>
                            <a:pt x="6" y="94"/>
                          </a:lnTo>
                          <a:lnTo>
                            <a:pt x="7" y="95"/>
                          </a:lnTo>
                          <a:lnTo>
                            <a:pt x="43" y="25"/>
                          </a:lnTo>
                          <a:lnTo>
                            <a:pt x="43" y="25"/>
                          </a:lnTo>
                          <a:close/>
                        </a:path>
                      </a:pathLst>
                    </a:custGeom>
                    <a:solidFill>
                      <a:srgbClr val="6936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285" name=""/>
                    <p:cNvSpPr/>
                    <p:nvPr/>
                  </p:nvSpPr>
                  <p:spPr>
                    <a:xfrm>
                      <a:off x="6949080" y="1999080"/>
                      <a:ext cx="89280" cy="151200"/>
                    </a:xfrm>
                    <a:custGeom>
                      <a:avLst/>
                      <a:gdLst/>
                      <a:ahLst/>
                      <a:rect l="l" t="t" r="r" b="b"/>
                      <a:pathLst>
                        <a:path w="92" h="194">
                          <a:moveTo>
                            <a:pt x="22" y="0"/>
                          </a:moveTo>
                          <a:lnTo>
                            <a:pt x="92" y="88"/>
                          </a:lnTo>
                          <a:lnTo>
                            <a:pt x="0" y="194"/>
                          </a:lnTo>
                          <a:lnTo>
                            <a:pt x="1" y="21"/>
                          </a:lnTo>
                          <a:lnTo>
                            <a:pt x="22" y="0"/>
                          </a:lnTo>
                          <a:lnTo>
                            <a:pt x="22" y="0"/>
                          </a:lnTo>
                          <a:close/>
                        </a:path>
                      </a:pathLst>
                    </a:custGeom>
                    <a:solidFill>
                      <a:srgbClr val="debfe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a:off x="6479280" y="2391120"/>
                      <a:ext cx="17280" cy="43560"/>
                    </a:xfrm>
                    <a:custGeom>
                      <a:avLst/>
                      <a:gdLst/>
                      <a:ahLst/>
                      <a:rect l="l" t="t" r="r" b="b"/>
                      <a:pathLst>
                        <a:path w="18" h="56">
                          <a:moveTo>
                            <a:pt x="18" y="0"/>
                          </a:moveTo>
                          <a:lnTo>
                            <a:pt x="18" y="56"/>
                          </a:lnTo>
                          <a:lnTo>
                            <a:pt x="0" y="31"/>
                          </a:lnTo>
                          <a:lnTo>
                            <a:pt x="18" y="0"/>
                          </a:lnTo>
                          <a:lnTo>
                            <a:pt x="18" y="0"/>
                          </a:lnTo>
                          <a:close/>
                        </a:path>
                      </a:pathLst>
                    </a:custGeom>
                    <a:solidFill>
                      <a:srgbClr val="8aa1ff"/>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287" name=""/>
                    <p:cNvSpPr/>
                    <p:nvPr/>
                  </p:nvSpPr>
                  <p:spPr>
                    <a:xfrm>
                      <a:off x="6469560" y="2444760"/>
                      <a:ext cx="28080" cy="152640"/>
                    </a:xfrm>
                    <a:custGeom>
                      <a:avLst/>
                      <a:gdLst/>
                      <a:ahLst/>
                      <a:rect l="l" t="t" r="r" b="b"/>
                      <a:pathLst>
                        <a:path w="29" h="196">
                          <a:moveTo>
                            <a:pt x="29" y="0"/>
                          </a:moveTo>
                          <a:lnTo>
                            <a:pt x="26" y="196"/>
                          </a:lnTo>
                          <a:lnTo>
                            <a:pt x="0" y="176"/>
                          </a:lnTo>
                          <a:lnTo>
                            <a:pt x="29" y="0"/>
                          </a:lnTo>
                          <a:lnTo>
                            <a:pt x="29" y="0"/>
                          </a:lnTo>
                          <a:close/>
                        </a:path>
                      </a:pathLst>
                    </a:custGeom>
                    <a:solidFill>
                      <a:srgbClr val="8aa1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6748200" y="2647800"/>
                      <a:ext cx="99000" cy="116640"/>
                    </a:xfrm>
                    <a:custGeom>
                      <a:avLst/>
                      <a:gdLst/>
                      <a:ahLst/>
                      <a:rect l="l" t="t" r="r" b="b"/>
                      <a:pathLst>
                        <a:path w="102" h="150">
                          <a:moveTo>
                            <a:pt x="102" y="150"/>
                          </a:moveTo>
                          <a:lnTo>
                            <a:pt x="101" y="148"/>
                          </a:lnTo>
                          <a:lnTo>
                            <a:pt x="101" y="145"/>
                          </a:lnTo>
                          <a:lnTo>
                            <a:pt x="100" y="141"/>
                          </a:lnTo>
                          <a:lnTo>
                            <a:pt x="98" y="138"/>
                          </a:lnTo>
                          <a:lnTo>
                            <a:pt x="97" y="133"/>
                          </a:lnTo>
                          <a:lnTo>
                            <a:pt x="96" y="129"/>
                          </a:lnTo>
                          <a:lnTo>
                            <a:pt x="94" y="125"/>
                          </a:lnTo>
                          <a:lnTo>
                            <a:pt x="92" y="119"/>
                          </a:lnTo>
                          <a:lnTo>
                            <a:pt x="89" y="113"/>
                          </a:lnTo>
                          <a:lnTo>
                            <a:pt x="87" y="108"/>
                          </a:lnTo>
                          <a:lnTo>
                            <a:pt x="85" y="105"/>
                          </a:lnTo>
                          <a:lnTo>
                            <a:pt x="84" y="101"/>
                          </a:lnTo>
                          <a:lnTo>
                            <a:pt x="82" y="98"/>
                          </a:lnTo>
                          <a:lnTo>
                            <a:pt x="80" y="94"/>
                          </a:lnTo>
                          <a:lnTo>
                            <a:pt x="78" y="91"/>
                          </a:lnTo>
                          <a:lnTo>
                            <a:pt x="76" y="89"/>
                          </a:lnTo>
                          <a:lnTo>
                            <a:pt x="73" y="85"/>
                          </a:lnTo>
                          <a:lnTo>
                            <a:pt x="72" y="82"/>
                          </a:lnTo>
                          <a:lnTo>
                            <a:pt x="69" y="78"/>
                          </a:lnTo>
                          <a:lnTo>
                            <a:pt x="67" y="74"/>
                          </a:lnTo>
                          <a:lnTo>
                            <a:pt x="64" y="71"/>
                          </a:lnTo>
                          <a:lnTo>
                            <a:pt x="61" y="67"/>
                          </a:lnTo>
                          <a:lnTo>
                            <a:pt x="58" y="63"/>
                          </a:lnTo>
                          <a:lnTo>
                            <a:pt x="55" y="59"/>
                          </a:lnTo>
                          <a:lnTo>
                            <a:pt x="52" y="56"/>
                          </a:lnTo>
                          <a:lnTo>
                            <a:pt x="50" y="52"/>
                          </a:lnTo>
                          <a:lnTo>
                            <a:pt x="47" y="49"/>
                          </a:lnTo>
                          <a:lnTo>
                            <a:pt x="44" y="46"/>
                          </a:lnTo>
                          <a:lnTo>
                            <a:pt x="40" y="42"/>
                          </a:lnTo>
                          <a:lnTo>
                            <a:pt x="37" y="38"/>
                          </a:lnTo>
                          <a:lnTo>
                            <a:pt x="34" y="35"/>
                          </a:lnTo>
                          <a:lnTo>
                            <a:pt x="31" y="32"/>
                          </a:lnTo>
                          <a:lnTo>
                            <a:pt x="29" y="30"/>
                          </a:lnTo>
                          <a:lnTo>
                            <a:pt x="27" y="27"/>
                          </a:lnTo>
                          <a:lnTo>
                            <a:pt x="23" y="23"/>
                          </a:lnTo>
                          <a:lnTo>
                            <a:pt x="20" y="20"/>
                          </a:lnTo>
                          <a:lnTo>
                            <a:pt x="18" y="17"/>
                          </a:lnTo>
                          <a:lnTo>
                            <a:pt x="15" y="15"/>
                          </a:lnTo>
                          <a:lnTo>
                            <a:pt x="10" y="11"/>
                          </a:lnTo>
                          <a:lnTo>
                            <a:pt x="8" y="8"/>
                          </a:lnTo>
                          <a:lnTo>
                            <a:pt x="4" y="4"/>
                          </a:lnTo>
                          <a:lnTo>
                            <a:pt x="2" y="2"/>
                          </a:lnTo>
                          <a:lnTo>
                            <a:pt x="0" y="0"/>
                          </a:lnTo>
                          <a:lnTo>
                            <a:pt x="0" y="1"/>
                          </a:lnTo>
                          <a:lnTo>
                            <a:pt x="0" y="4"/>
                          </a:lnTo>
                          <a:lnTo>
                            <a:pt x="0" y="6"/>
                          </a:lnTo>
                          <a:lnTo>
                            <a:pt x="2" y="9"/>
                          </a:lnTo>
                          <a:lnTo>
                            <a:pt x="2" y="12"/>
                          </a:lnTo>
                          <a:lnTo>
                            <a:pt x="4" y="15"/>
                          </a:lnTo>
                          <a:lnTo>
                            <a:pt x="5" y="18"/>
                          </a:lnTo>
                          <a:lnTo>
                            <a:pt x="7" y="23"/>
                          </a:lnTo>
                          <a:lnTo>
                            <a:pt x="8" y="28"/>
                          </a:lnTo>
                          <a:lnTo>
                            <a:pt x="10" y="32"/>
                          </a:lnTo>
                          <a:lnTo>
                            <a:pt x="11" y="37"/>
                          </a:lnTo>
                          <a:lnTo>
                            <a:pt x="15" y="44"/>
                          </a:lnTo>
                          <a:lnTo>
                            <a:pt x="16" y="46"/>
                          </a:lnTo>
                          <a:lnTo>
                            <a:pt x="18" y="49"/>
                          </a:lnTo>
                          <a:lnTo>
                            <a:pt x="19" y="52"/>
                          </a:lnTo>
                          <a:lnTo>
                            <a:pt x="22" y="55"/>
                          </a:lnTo>
                          <a:lnTo>
                            <a:pt x="23" y="58"/>
                          </a:lnTo>
                          <a:lnTo>
                            <a:pt x="25" y="61"/>
                          </a:lnTo>
                          <a:lnTo>
                            <a:pt x="27" y="65"/>
                          </a:lnTo>
                          <a:lnTo>
                            <a:pt x="28" y="68"/>
                          </a:lnTo>
                          <a:lnTo>
                            <a:pt x="29" y="71"/>
                          </a:lnTo>
                          <a:lnTo>
                            <a:pt x="31" y="74"/>
                          </a:lnTo>
                          <a:lnTo>
                            <a:pt x="33" y="77"/>
                          </a:lnTo>
                          <a:lnTo>
                            <a:pt x="35" y="81"/>
                          </a:lnTo>
                          <a:lnTo>
                            <a:pt x="37" y="83"/>
                          </a:lnTo>
                          <a:lnTo>
                            <a:pt x="39" y="87"/>
                          </a:lnTo>
                          <a:lnTo>
                            <a:pt x="41" y="90"/>
                          </a:lnTo>
                          <a:lnTo>
                            <a:pt x="43" y="93"/>
                          </a:lnTo>
                          <a:lnTo>
                            <a:pt x="45" y="96"/>
                          </a:lnTo>
                          <a:lnTo>
                            <a:pt x="47" y="99"/>
                          </a:lnTo>
                          <a:lnTo>
                            <a:pt x="48" y="102"/>
                          </a:lnTo>
                          <a:lnTo>
                            <a:pt x="51" y="105"/>
                          </a:lnTo>
                          <a:lnTo>
                            <a:pt x="54" y="109"/>
                          </a:lnTo>
                          <a:lnTo>
                            <a:pt x="57" y="115"/>
                          </a:lnTo>
                          <a:lnTo>
                            <a:pt x="60" y="119"/>
                          </a:lnTo>
                          <a:lnTo>
                            <a:pt x="63" y="123"/>
                          </a:lnTo>
                          <a:lnTo>
                            <a:pt x="64" y="126"/>
                          </a:lnTo>
                          <a:lnTo>
                            <a:pt x="66" y="128"/>
                          </a:lnTo>
                          <a:lnTo>
                            <a:pt x="67" y="129"/>
                          </a:lnTo>
                          <a:lnTo>
                            <a:pt x="67" y="130"/>
                          </a:lnTo>
                          <a:lnTo>
                            <a:pt x="102" y="150"/>
                          </a:lnTo>
                          <a:lnTo>
                            <a:pt x="102" y="150"/>
                          </a:lnTo>
                          <a:close/>
                        </a:path>
                      </a:pathLst>
                    </a:custGeom>
                    <a:solidFill>
                      <a:srgbClr val="63632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6747120" y="2643840"/>
                      <a:ext cx="51480" cy="64440"/>
                    </a:xfrm>
                    <a:custGeom>
                      <a:avLst/>
                      <a:gdLst/>
                      <a:ahLst/>
                      <a:rect l="l" t="t" r="r" b="b"/>
                      <a:pathLst>
                        <a:path w="53" h="83">
                          <a:moveTo>
                            <a:pt x="0" y="0"/>
                          </a:moveTo>
                          <a:lnTo>
                            <a:pt x="53" y="67"/>
                          </a:lnTo>
                          <a:lnTo>
                            <a:pt x="40" y="83"/>
                          </a:lnTo>
                          <a:lnTo>
                            <a:pt x="0" y="0"/>
                          </a:lnTo>
                          <a:lnTo>
                            <a:pt x="0" y="0"/>
                          </a:lnTo>
                          <a:close/>
                        </a:path>
                      </a:pathLst>
                    </a:custGeom>
                    <a:solidFill>
                      <a:srgbClr val="bdab2b"/>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290" name=""/>
                    <p:cNvSpPr/>
                    <p:nvPr/>
                  </p:nvSpPr>
                  <p:spPr>
                    <a:xfrm>
                      <a:off x="6792840" y="2707560"/>
                      <a:ext cx="41760" cy="48960"/>
                    </a:xfrm>
                    <a:custGeom>
                      <a:avLst/>
                      <a:gdLst/>
                      <a:ahLst/>
                      <a:rect l="l" t="t" r="r" b="b"/>
                      <a:pathLst>
                        <a:path w="43" h="63">
                          <a:moveTo>
                            <a:pt x="12" y="0"/>
                          </a:moveTo>
                          <a:lnTo>
                            <a:pt x="0" y="13"/>
                          </a:lnTo>
                          <a:lnTo>
                            <a:pt x="16" y="41"/>
                          </a:lnTo>
                          <a:lnTo>
                            <a:pt x="43" y="63"/>
                          </a:lnTo>
                          <a:lnTo>
                            <a:pt x="12" y="0"/>
                          </a:lnTo>
                          <a:lnTo>
                            <a:pt x="12" y="0"/>
                          </a:lnTo>
                          <a:close/>
                        </a:path>
                      </a:pathLst>
                    </a:custGeom>
                    <a:solidFill>
                      <a:srgbClr val="bdab2b"/>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91" name=""/>
                    <p:cNvSpPr/>
                    <p:nvPr/>
                  </p:nvSpPr>
                  <p:spPr>
                    <a:xfrm>
                      <a:off x="7547760" y="2541600"/>
                      <a:ext cx="120240" cy="100440"/>
                    </a:xfrm>
                    <a:custGeom>
                      <a:avLst/>
                      <a:gdLst/>
                      <a:ahLst/>
                      <a:rect l="l" t="t" r="r" b="b"/>
                      <a:pathLst>
                        <a:path w="124" h="129">
                          <a:moveTo>
                            <a:pt x="124" y="0"/>
                          </a:moveTo>
                          <a:lnTo>
                            <a:pt x="0" y="125"/>
                          </a:lnTo>
                          <a:lnTo>
                            <a:pt x="66" y="129"/>
                          </a:lnTo>
                          <a:lnTo>
                            <a:pt x="66" y="128"/>
                          </a:lnTo>
                          <a:lnTo>
                            <a:pt x="67" y="126"/>
                          </a:lnTo>
                          <a:lnTo>
                            <a:pt x="68" y="124"/>
                          </a:lnTo>
                          <a:lnTo>
                            <a:pt x="70" y="121"/>
                          </a:lnTo>
                          <a:lnTo>
                            <a:pt x="73" y="117"/>
                          </a:lnTo>
                          <a:lnTo>
                            <a:pt x="75" y="113"/>
                          </a:lnTo>
                          <a:lnTo>
                            <a:pt x="78" y="110"/>
                          </a:lnTo>
                          <a:lnTo>
                            <a:pt x="82" y="105"/>
                          </a:lnTo>
                          <a:lnTo>
                            <a:pt x="85" y="99"/>
                          </a:lnTo>
                          <a:lnTo>
                            <a:pt x="89" y="93"/>
                          </a:lnTo>
                          <a:lnTo>
                            <a:pt x="92" y="88"/>
                          </a:lnTo>
                          <a:lnTo>
                            <a:pt x="96" y="82"/>
                          </a:lnTo>
                          <a:lnTo>
                            <a:pt x="98" y="79"/>
                          </a:lnTo>
                          <a:lnTo>
                            <a:pt x="99" y="76"/>
                          </a:lnTo>
                          <a:lnTo>
                            <a:pt x="101" y="72"/>
                          </a:lnTo>
                          <a:lnTo>
                            <a:pt x="103" y="70"/>
                          </a:lnTo>
                          <a:lnTo>
                            <a:pt x="105" y="67"/>
                          </a:lnTo>
                          <a:lnTo>
                            <a:pt x="106" y="64"/>
                          </a:lnTo>
                          <a:lnTo>
                            <a:pt x="108" y="61"/>
                          </a:lnTo>
                          <a:lnTo>
                            <a:pt x="110" y="58"/>
                          </a:lnTo>
                          <a:lnTo>
                            <a:pt x="110" y="54"/>
                          </a:lnTo>
                          <a:lnTo>
                            <a:pt x="112" y="52"/>
                          </a:lnTo>
                          <a:lnTo>
                            <a:pt x="112" y="49"/>
                          </a:lnTo>
                          <a:lnTo>
                            <a:pt x="113" y="46"/>
                          </a:lnTo>
                          <a:lnTo>
                            <a:pt x="115" y="40"/>
                          </a:lnTo>
                          <a:lnTo>
                            <a:pt x="117" y="35"/>
                          </a:lnTo>
                          <a:lnTo>
                            <a:pt x="118" y="30"/>
                          </a:lnTo>
                          <a:lnTo>
                            <a:pt x="119" y="25"/>
                          </a:lnTo>
                          <a:lnTo>
                            <a:pt x="120" y="21"/>
                          </a:lnTo>
                          <a:lnTo>
                            <a:pt x="122" y="17"/>
                          </a:lnTo>
                          <a:lnTo>
                            <a:pt x="122" y="13"/>
                          </a:lnTo>
                          <a:lnTo>
                            <a:pt x="123" y="10"/>
                          </a:lnTo>
                          <a:lnTo>
                            <a:pt x="123" y="6"/>
                          </a:lnTo>
                          <a:lnTo>
                            <a:pt x="124" y="4"/>
                          </a:lnTo>
                          <a:lnTo>
                            <a:pt x="124" y="1"/>
                          </a:lnTo>
                          <a:lnTo>
                            <a:pt x="124" y="0"/>
                          </a:lnTo>
                          <a:lnTo>
                            <a:pt x="1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2" name=""/>
                  <p:cNvSpPr/>
                  <p:nvPr/>
                </p:nvSpPr>
                <p:spPr>
                  <a:xfrm>
                    <a:off x="4902120" y="1177920"/>
                    <a:ext cx="2681280" cy="118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Arial"/>
                        <a:ea typeface="ＭＳ Ｐゴシック"/>
                      </a:rPr>
                      <a:t>Systems publish results in </a:t>
                    </a:r>
                    <a:r>
                      <a:rPr b="1" lang="en-US" sz="1200" spc="-1" strike="noStrike">
                        <a:solidFill>
                          <a:srgbClr val="ff3300"/>
                        </a:solidFill>
                        <a:latin typeface="Arial"/>
                        <a:ea typeface="ＭＳ Ｐゴシック"/>
                      </a:rPr>
                      <a:t>standard machine readable </a:t>
                    </a:r>
                    <a:r>
                      <a:rPr b="1" lang="en-US" sz="1200" spc="-1" strike="noStrike">
                        <a:solidFill>
                          <a:srgbClr val="fc0128"/>
                        </a:solidFill>
                        <a:latin typeface="Arial"/>
                        <a:ea typeface="ＭＳ Ｐゴシック"/>
                      </a:rPr>
                      <a:t>OVAL Results format</a:t>
                    </a:r>
                    <a:r>
                      <a:rPr b="0" lang="en-US" sz="1200" spc="-1" strike="noStrike">
                        <a:solidFill>
                          <a:srgbClr val="ff3300"/>
                        </a:solidFill>
                        <a:latin typeface="Arial"/>
                        <a:ea typeface="ＭＳ Ｐゴシック"/>
                      </a:rPr>
                      <a:t> and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Arial"/>
                        <a:ea typeface="ＭＳ Ｐゴシック"/>
                      </a:rPr>
                      <a:t>send Complianc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Arial"/>
                        <a:ea typeface="ＭＳ Ｐゴシック"/>
                      </a:rPr>
                      <a:t>to a central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Arial"/>
                        <a:ea typeface="ＭＳ Ｐゴシック"/>
                      </a:rPr>
                      <a:t>Tracking System</a:t>
                    </a:r>
                    <a:endParaRPr b="0" lang="en-US" sz="1200" spc="-1" strike="noStrike">
                      <a:solidFill>
                        <a:srgbClr val="000000"/>
                      </a:solidFill>
                      <a:latin typeface="Times New Roman"/>
                    </a:endParaRPr>
                  </a:p>
                </p:txBody>
              </p:sp>
              <p:grpSp>
                <p:nvGrpSpPr>
                  <p:cNvPr id="293" name=""/>
                  <p:cNvGrpSpPr/>
                  <p:nvPr/>
                </p:nvGrpSpPr>
                <p:grpSpPr>
                  <a:xfrm>
                    <a:off x="5148360" y="2591280"/>
                    <a:ext cx="950760" cy="835560"/>
                    <a:chOff x="5148360" y="2591280"/>
                    <a:chExt cx="950760" cy="835560"/>
                  </a:xfrm>
                </p:grpSpPr>
                <p:grpSp>
                  <p:nvGrpSpPr>
                    <p:cNvPr id="294" name=""/>
                    <p:cNvGrpSpPr/>
                    <p:nvPr/>
                  </p:nvGrpSpPr>
                  <p:grpSpPr>
                    <a:xfrm>
                      <a:off x="5148360" y="2591280"/>
                      <a:ext cx="950760" cy="835560"/>
                      <a:chOff x="5148360" y="2591280"/>
                      <a:chExt cx="950760" cy="835560"/>
                    </a:xfrm>
                  </p:grpSpPr>
                  <p:sp>
                    <p:nvSpPr>
                      <p:cNvPr id="295" name=""/>
                      <p:cNvSpPr/>
                      <p:nvPr/>
                    </p:nvSpPr>
                    <p:spPr>
                      <a:xfrm rot="19453200">
                        <a:off x="5176440" y="2816280"/>
                        <a:ext cx="893880" cy="385560"/>
                      </a:xfrm>
                      <a:custGeom>
                        <a:avLst/>
                        <a:gdLst/>
                        <a:ahLst/>
                        <a:rect l="l" t="t" r="r" b="b"/>
                        <a:pathLst>
                          <a:path w="1118" h="436">
                            <a:moveTo>
                              <a:pt x="74" y="210"/>
                            </a:moveTo>
                            <a:lnTo>
                              <a:pt x="0" y="349"/>
                            </a:lnTo>
                            <a:lnTo>
                              <a:pt x="183" y="436"/>
                            </a:lnTo>
                            <a:lnTo>
                              <a:pt x="422" y="256"/>
                            </a:lnTo>
                            <a:lnTo>
                              <a:pt x="560" y="179"/>
                            </a:lnTo>
                            <a:lnTo>
                              <a:pt x="718" y="301"/>
                            </a:lnTo>
                            <a:lnTo>
                              <a:pt x="994" y="125"/>
                            </a:lnTo>
                            <a:lnTo>
                              <a:pt x="1036" y="168"/>
                            </a:lnTo>
                            <a:lnTo>
                              <a:pt x="1118" y="16"/>
                            </a:lnTo>
                            <a:lnTo>
                              <a:pt x="944" y="0"/>
                            </a:lnTo>
                            <a:lnTo>
                              <a:pt x="950" y="51"/>
                            </a:lnTo>
                            <a:lnTo>
                              <a:pt x="718" y="176"/>
                            </a:lnTo>
                            <a:lnTo>
                              <a:pt x="608" y="14"/>
                            </a:lnTo>
                            <a:lnTo>
                              <a:pt x="410" y="117"/>
                            </a:lnTo>
                            <a:lnTo>
                              <a:pt x="175" y="272"/>
                            </a:lnTo>
                            <a:lnTo>
                              <a:pt x="79" y="202"/>
                            </a:lnTo>
                            <a:lnTo>
                              <a:pt x="74" y="210"/>
                            </a:lnTo>
                            <a:lnTo>
                              <a:pt x="74" y="210"/>
                            </a:lnTo>
                            <a:close/>
                          </a:path>
                        </a:pathLst>
                      </a:custGeom>
                      <a:solidFill>
                        <a:srgbClr val="d9e0e6"/>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rot="19453200">
                        <a:off x="5193000" y="2827440"/>
                        <a:ext cx="858600" cy="354600"/>
                      </a:xfrm>
                      <a:custGeom>
                        <a:avLst/>
                        <a:gdLst/>
                        <a:ahLst/>
                        <a:rect l="l" t="t" r="r" b="b"/>
                        <a:pathLst>
                          <a:path w="1074" h="401">
                            <a:moveTo>
                              <a:pt x="67" y="217"/>
                            </a:moveTo>
                            <a:lnTo>
                              <a:pt x="146" y="279"/>
                            </a:lnTo>
                            <a:lnTo>
                              <a:pt x="442" y="92"/>
                            </a:lnTo>
                            <a:lnTo>
                              <a:pt x="577" y="23"/>
                            </a:lnTo>
                            <a:lnTo>
                              <a:pt x="686" y="185"/>
                            </a:lnTo>
                            <a:lnTo>
                              <a:pt x="948" y="46"/>
                            </a:lnTo>
                            <a:lnTo>
                              <a:pt x="936" y="0"/>
                            </a:lnTo>
                            <a:lnTo>
                              <a:pt x="1074" y="15"/>
                            </a:lnTo>
                            <a:lnTo>
                              <a:pt x="1012" y="128"/>
                            </a:lnTo>
                            <a:lnTo>
                              <a:pt x="970" y="92"/>
                            </a:lnTo>
                            <a:lnTo>
                              <a:pt x="703" y="272"/>
                            </a:lnTo>
                            <a:lnTo>
                              <a:pt x="537" y="150"/>
                            </a:lnTo>
                            <a:lnTo>
                              <a:pt x="388" y="235"/>
                            </a:lnTo>
                            <a:lnTo>
                              <a:pt x="149" y="401"/>
                            </a:lnTo>
                            <a:lnTo>
                              <a:pt x="0" y="331"/>
                            </a:lnTo>
                            <a:lnTo>
                              <a:pt x="67" y="217"/>
                            </a:lnTo>
                            <a:lnTo>
                              <a:pt x="67" y="217"/>
                            </a:lnTo>
                            <a:close/>
                          </a:path>
                        </a:pathLst>
                      </a:custGeom>
                      <a:solidFill>
                        <a:srgbClr val="ffcc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rot="19453200">
                        <a:off x="5619960" y="2711160"/>
                        <a:ext cx="326160" cy="222840"/>
                      </a:xfrm>
                      <a:custGeom>
                        <a:avLst/>
                        <a:gdLst/>
                        <a:ahLst/>
                        <a:rect l="l" t="t" r="r" b="b"/>
                        <a:pathLst>
                          <a:path w="408" h="252">
                            <a:moveTo>
                              <a:pt x="345" y="0"/>
                            </a:moveTo>
                            <a:lnTo>
                              <a:pt x="351" y="1"/>
                            </a:lnTo>
                            <a:lnTo>
                              <a:pt x="360" y="2"/>
                            </a:lnTo>
                            <a:lnTo>
                              <a:pt x="366" y="2"/>
                            </a:lnTo>
                            <a:lnTo>
                              <a:pt x="375" y="3"/>
                            </a:lnTo>
                            <a:lnTo>
                              <a:pt x="383" y="3"/>
                            </a:lnTo>
                            <a:lnTo>
                              <a:pt x="390" y="3"/>
                            </a:lnTo>
                            <a:lnTo>
                              <a:pt x="399" y="3"/>
                            </a:lnTo>
                            <a:lnTo>
                              <a:pt x="408" y="4"/>
                            </a:lnTo>
                            <a:lnTo>
                              <a:pt x="407" y="11"/>
                            </a:lnTo>
                            <a:lnTo>
                              <a:pt x="407" y="19"/>
                            </a:lnTo>
                            <a:lnTo>
                              <a:pt x="406" y="26"/>
                            </a:lnTo>
                            <a:lnTo>
                              <a:pt x="403" y="34"/>
                            </a:lnTo>
                            <a:lnTo>
                              <a:pt x="402" y="42"/>
                            </a:lnTo>
                            <a:lnTo>
                              <a:pt x="402" y="51"/>
                            </a:lnTo>
                            <a:lnTo>
                              <a:pt x="402" y="59"/>
                            </a:lnTo>
                            <a:lnTo>
                              <a:pt x="403" y="68"/>
                            </a:lnTo>
                            <a:lnTo>
                              <a:pt x="403" y="72"/>
                            </a:lnTo>
                            <a:lnTo>
                              <a:pt x="402" y="76"/>
                            </a:lnTo>
                            <a:lnTo>
                              <a:pt x="399" y="79"/>
                            </a:lnTo>
                            <a:lnTo>
                              <a:pt x="397" y="82"/>
                            </a:lnTo>
                            <a:lnTo>
                              <a:pt x="390" y="83"/>
                            </a:lnTo>
                            <a:lnTo>
                              <a:pt x="384" y="84"/>
                            </a:lnTo>
                            <a:lnTo>
                              <a:pt x="375" y="82"/>
                            </a:lnTo>
                            <a:lnTo>
                              <a:pt x="366" y="80"/>
                            </a:lnTo>
                            <a:lnTo>
                              <a:pt x="360" y="80"/>
                            </a:lnTo>
                            <a:lnTo>
                              <a:pt x="353" y="83"/>
                            </a:lnTo>
                            <a:lnTo>
                              <a:pt x="346" y="74"/>
                            </a:lnTo>
                            <a:lnTo>
                              <a:pt x="337" y="70"/>
                            </a:lnTo>
                            <a:lnTo>
                              <a:pt x="331" y="69"/>
                            </a:lnTo>
                            <a:lnTo>
                              <a:pt x="327" y="71"/>
                            </a:lnTo>
                            <a:lnTo>
                              <a:pt x="325" y="75"/>
                            </a:lnTo>
                            <a:lnTo>
                              <a:pt x="323" y="83"/>
                            </a:lnTo>
                            <a:lnTo>
                              <a:pt x="316" y="83"/>
                            </a:lnTo>
                            <a:lnTo>
                              <a:pt x="311" y="87"/>
                            </a:lnTo>
                            <a:lnTo>
                              <a:pt x="307" y="90"/>
                            </a:lnTo>
                            <a:lnTo>
                              <a:pt x="304" y="96"/>
                            </a:lnTo>
                            <a:lnTo>
                              <a:pt x="299" y="100"/>
                            </a:lnTo>
                            <a:lnTo>
                              <a:pt x="294" y="104"/>
                            </a:lnTo>
                            <a:lnTo>
                              <a:pt x="289" y="107"/>
                            </a:lnTo>
                            <a:lnTo>
                              <a:pt x="285" y="107"/>
                            </a:lnTo>
                            <a:lnTo>
                              <a:pt x="279" y="108"/>
                            </a:lnTo>
                            <a:lnTo>
                              <a:pt x="274" y="109"/>
                            </a:lnTo>
                            <a:lnTo>
                              <a:pt x="269" y="112"/>
                            </a:lnTo>
                            <a:lnTo>
                              <a:pt x="264" y="115"/>
                            </a:lnTo>
                            <a:lnTo>
                              <a:pt x="253" y="120"/>
                            </a:lnTo>
                            <a:lnTo>
                              <a:pt x="245" y="127"/>
                            </a:lnTo>
                            <a:lnTo>
                              <a:pt x="236" y="134"/>
                            </a:lnTo>
                            <a:lnTo>
                              <a:pt x="230" y="144"/>
                            </a:lnTo>
                            <a:lnTo>
                              <a:pt x="227" y="148"/>
                            </a:lnTo>
                            <a:lnTo>
                              <a:pt x="225" y="154"/>
                            </a:lnTo>
                            <a:lnTo>
                              <a:pt x="223" y="160"/>
                            </a:lnTo>
                            <a:lnTo>
                              <a:pt x="223" y="166"/>
                            </a:lnTo>
                            <a:lnTo>
                              <a:pt x="218" y="171"/>
                            </a:lnTo>
                            <a:lnTo>
                              <a:pt x="213" y="176"/>
                            </a:lnTo>
                            <a:lnTo>
                              <a:pt x="207" y="178"/>
                            </a:lnTo>
                            <a:lnTo>
                              <a:pt x="202" y="180"/>
                            </a:lnTo>
                            <a:lnTo>
                              <a:pt x="205" y="170"/>
                            </a:lnTo>
                            <a:lnTo>
                              <a:pt x="209" y="162"/>
                            </a:lnTo>
                            <a:lnTo>
                              <a:pt x="212" y="153"/>
                            </a:lnTo>
                            <a:lnTo>
                              <a:pt x="216" y="146"/>
                            </a:lnTo>
                            <a:lnTo>
                              <a:pt x="219" y="137"/>
                            </a:lnTo>
                            <a:lnTo>
                              <a:pt x="225" y="128"/>
                            </a:lnTo>
                            <a:lnTo>
                              <a:pt x="231" y="121"/>
                            </a:lnTo>
                            <a:lnTo>
                              <a:pt x="239" y="114"/>
                            </a:lnTo>
                            <a:lnTo>
                              <a:pt x="233" y="113"/>
                            </a:lnTo>
                            <a:lnTo>
                              <a:pt x="227" y="113"/>
                            </a:lnTo>
                            <a:lnTo>
                              <a:pt x="219" y="112"/>
                            </a:lnTo>
                            <a:lnTo>
                              <a:pt x="214" y="112"/>
                            </a:lnTo>
                            <a:lnTo>
                              <a:pt x="214" y="117"/>
                            </a:lnTo>
                            <a:lnTo>
                              <a:pt x="214" y="123"/>
                            </a:lnTo>
                            <a:lnTo>
                              <a:pt x="213" y="129"/>
                            </a:lnTo>
                            <a:lnTo>
                              <a:pt x="213" y="136"/>
                            </a:lnTo>
                            <a:lnTo>
                              <a:pt x="209" y="141"/>
                            </a:lnTo>
                            <a:lnTo>
                              <a:pt x="206" y="146"/>
                            </a:lnTo>
                            <a:lnTo>
                              <a:pt x="201" y="148"/>
                            </a:lnTo>
                            <a:lnTo>
                              <a:pt x="196" y="149"/>
                            </a:lnTo>
                            <a:lnTo>
                              <a:pt x="193" y="142"/>
                            </a:lnTo>
                            <a:lnTo>
                              <a:pt x="196" y="137"/>
                            </a:lnTo>
                            <a:lnTo>
                              <a:pt x="200" y="131"/>
                            </a:lnTo>
                            <a:lnTo>
                              <a:pt x="202" y="125"/>
                            </a:lnTo>
                            <a:lnTo>
                              <a:pt x="197" y="126"/>
                            </a:lnTo>
                            <a:lnTo>
                              <a:pt x="193" y="128"/>
                            </a:lnTo>
                            <a:lnTo>
                              <a:pt x="186" y="130"/>
                            </a:lnTo>
                            <a:lnTo>
                              <a:pt x="183" y="133"/>
                            </a:lnTo>
                            <a:lnTo>
                              <a:pt x="183" y="128"/>
                            </a:lnTo>
                            <a:lnTo>
                              <a:pt x="184" y="124"/>
                            </a:lnTo>
                            <a:lnTo>
                              <a:pt x="186" y="118"/>
                            </a:lnTo>
                            <a:lnTo>
                              <a:pt x="189" y="115"/>
                            </a:lnTo>
                            <a:lnTo>
                              <a:pt x="183" y="114"/>
                            </a:lnTo>
                            <a:lnTo>
                              <a:pt x="177" y="116"/>
                            </a:lnTo>
                            <a:lnTo>
                              <a:pt x="173" y="119"/>
                            </a:lnTo>
                            <a:lnTo>
                              <a:pt x="169" y="123"/>
                            </a:lnTo>
                            <a:lnTo>
                              <a:pt x="160" y="129"/>
                            </a:lnTo>
                            <a:lnTo>
                              <a:pt x="153" y="136"/>
                            </a:lnTo>
                            <a:lnTo>
                              <a:pt x="156" y="135"/>
                            </a:lnTo>
                            <a:lnTo>
                              <a:pt x="161" y="135"/>
                            </a:lnTo>
                            <a:lnTo>
                              <a:pt x="167" y="134"/>
                            </a:lnTo>
                            <a:lnTo>
                              <a:pt x="173" y="135"/>
                            </a:lnTo>
                            <a:lnTo>
                              <a:pt x="176" y="135"/>
                            </a:lnTo>
                            <a:lnTo>
                              <a:pt x="179" y="137"/>
                            </a:lnTo>
                            <a:lnTo>
                              <a:pt x="179" y="141"/>
                            </a:lnTo>
                            <a:lnTo>
                              <a:pt x="177" y="148"/>
                            </a:lnTo>
                            <a:lnTo>
                              <a:pt x="179" y="146"/>
                            </a:lnTo>
                            <a:lnTo>
                              <a:pt x="184" y="146"/>
                            </a:lnTo>
                            <a:lnTo>
                              <a:pt x="188" y="146"/>
                            </a:lnTo>
                            <a:lnTo>
                              <a:pt x="192" y="146"/>
                            </a:lnTo>
                            <a:lnTo>
                              <a:pt x="191" y="151"/>
                            </a:lnTo>
                            <a:lnTo>
                              <a:pt x="189" y="155"/>
                            </a:lnTo>
                            <a:lnTo>
                              <a:pt x="185" y="157"/>
                            </a:lnTo>
                            <a:lnTo>
                              <a:pt x="182" y="160"/>
                            </a:lnTo>
                            <a:lnTo>
                              <a:pt x="176" y="161"/>
                            </a:lnTo>
                            <a:lnTo>
                              <a:pt x="172" y="162"/>
                            </a:lnTo>
                            <a:lnTo>
                              <a:pt x="167" y="163"/>
                            </a:lnTo>
                            <a:lnTo>
                              <a:pt x="164" y="165"/>
                            </a:lnTo>
                            <a:lnTo>
                              <a:pt x="166" y="167"/>
                            </a:lnTo>
                            <a:lnTo>
                              <a:pt x="170" y="173"/>
                            </a:lnTo>
                            <a:lnTo>
                              <a:pt x="174" y="173"/>
                            </a:lnTo>
                            <a:lnTo>
                              <a:pt x="181" y="174"/>
                            </a:lnTo>
                            <a:lnTo>
                              <a:pt x="189" y="175"/>
                            </a:lnTo>
                            <a:lnTo>
                              <a:pt x="194" y="177"/>
                            </a:lnTo>
                            <a:lnTo>
                              <a:pt x="190" y="180"/>
                            </a:lnTo>
                            <a:lnTo>
                              <a:pt x="187" y="184"/>
                            </a:lnTo>
                            <a:lnTo>
                              <a:pt x="182" y="185"/>
                            </a:lnTo>
                            <a:lnTo>
                              <a:pt x="177" y="187"/>
                            </a:lnTo>
                            <a:lnTo>
                              <a:pt x="172" y="187"/>
                            </a:lnTo>
                            <a:lnTo>
                              <a:pt x="168" y="188"/>
                            </a:lnTo>
                            <a:lnTo>
                              <a:pt x="162" y="188"/>
                            </a:lnTo>
                            <a:lnTo>
                              <a:pt x="159" y="192"/>
                            </a:lnTo>
                            <a:lnTo>
                              <a:pt x="156" y="196"/>
                            </a:lnTo>
                            <a:lnTo>
                              <a:pt x="157" y="204"/>
                            </a:lnTo>
                            <a:lnTo>
                              <a:pt x="151" y="203"/>
                            </a:lnTo>
                            <a:lnTo>
                              <a:pt x="145" y="203"/>
                            </a:lnTo>
                            <a:lnTo>
                              <a:pt x="140" y="203"/>
                            </a:lnTo>
                            <a:lnTo>
                              <a:pt x="137" y="204"/>
                            </a:lnTo>
                            <a:lnTo>
                              <a:pt x="127" y="209"/>
                            </a:lnTo>
                            <a:lnTo>
                              <a:pt x="119" y="217"/>
                            </a:lnTo>
                            <a:lnTo>
                              <a:pt x="111" y="222"/>
                            </a:lnTo>
                            <a:lnTo>
                              <a:pt x="102" y="228"/>
                            </a:lnTo>
                            <a:lnTo>
                              <a:pt x="98" y="229"/>
                            </a:lnTo>
                            <a:lnTo>
                              <a:pt x="93" y="230"/>
                            </a:lnTo>
                            <a:lnTo>
                              <a:pt x="87" y="230"/>
                            </a:lnTo>
                            <a:lnTo>
                              <a:pt x="81" y="229"/>
                            </a:lnTo>
                            <a:lnTo>
                              <a:pt x="79" y="233"/>
                            </a:lnTo>
                            <a:lnTo>
                              <a:pt x="75" y="241"/>
                            </a:lnTo>
                            <a:lnTo>
                              <a:pt x="70" y="247"/>
                            </a:lnTo>
                            <a:lnTo>
                              <a:pt x="68" y="252"/>
                            </a:lnTo>
                            <a:lnTo>
                              <a:pt x="62" y="248"/>
                            </a:lnTo>
                            <a:lnTo>
                              <a:pt x="59" y="243"/>
                            </a:lnTo>
                            <a:lnTo>
                              <a:pt x="55" y="239"/>
                            </a:lnTo>
                            <a:lnTo>
                              <a:pt x="51" y="235"/>
                            </a:lnTo>
                            <a:lnTo>
                              <a:pt x="46" y="231"/>
                            </a:lnTo>
                            <a:lnTo>
                              <a:pt x="42" y="229"/>
                            </a:lnTo>
                            <a:lnTo>
                              <a:pt x="37" y="227"/>
                            </a:lnTo>
                            <a:lnTo>
                              <a:pt x="32" y="229"/>
                            </a:lnTo>
                            <a:lnTo>
                              <a:pt x="31" y="226"/>
                            </a:lnTo>
                            <a:lnTo>
                              <a:pt x="31" y="222"/>
                            </a:lnTo>
                            <a:lnTo>
                              <a:pt x="32" y="218"/>
                            </a:lnTo>
                            <a:lnTo>
                              <a:pt x="34" y="216"/>
                            </a:lnTo>
                            <a:lnTo>
                              <a:pt x="38" y="217"/>
                            </a:lnTo>
                            <a:lnTo>
                              <a:pt x="42" y="219"/>
                            </a:lnTo>
                            <a:lnTo>
                              <a:pt x="48" y="219"/>
                            </a:lnTo>
                            <a:lnTo>
                              <a:pt x="54" y="220"/>
                            </a:lnTo>
                            <a:lnTo>
                              <a:pt x="58" y="220"/>
                            </a:lnTo>
                            <a:lnTo>
                              <a:pt x="62" y="223"/>
                            </a:lnTo>
                            <a:lnTo>
                              <a:pt x="64" y="228"/>
                            </a:lnTo>
                            <a:lnTo>
                              <a:pt x="66" y="236"/>
                            </a:lnTo>
                            <a:lnTo>
                              <a:pt x="68" y="227"/>
                            </a:lnTo>
                            <a:lnTo>
                              <a:pt x="67" y="219"/>
                            </a:lnTo>
                            <a:lnTo>
                              <a:pt x="65" y="214"/>
                            </a:lnTo>
                            <a:lnTo>
                              <a:pt x="66" y="211"/>
                            </a:lnTo>
                            <a:lnTo>
                              <a:pt x="68" y="208"/>
                            </a:lnTo>
                            <a:lnTo>
                              <a:pt x="74" y="208"/>
                            </a:lnTo>
                            <a:lnTo>
                              <a:pt x="71" y="208"/>
                            </a:lnTo>
                            <a:lnTo>
                              <a:pt x="67" y="208"/>
                            </a:lnTo>
                            <a:lnTo>
                              <a:pt x="63" y="208"/>
                            </a:lnTo>
                            <a:lnTo>
                              <a:pt x="61" y="208"/>
                            </a:lnTo>
                            <a:lnTo>
                              <a:pt x="60" y="205"/>
                            </a:lnTo>
                            <a:lnTo>
                              <a:pt x="58" y="203"/>
                            </a:lnTo>
                            <a:lnTo>
                              <a:pt x="55" y="198"/>
                            </a:lnTo>
                            <a:lnTo>
                              <a:pt x="54" y="197"/>
                            </a:lnTo>
                            <a:lnTo>
                              <a:pt x="46" y="203"/>
                            </a:lnTo>
                            <a:lnTo>
                              <a:pt x="39" y="206"/>
                            </a:lnTo>
                            <a:lnTo>
                              <a:pt x="34" y="206"/>
                            </a:lnTo>
                            <a:lnTo>
                              <a:pt x="31" y="209"/>
                            </a:lnTo>
                            <a:lnTo>
                              <a:pt x="28" y="212"/>
                            </a:lnTo>
                            <a:lnTo>
                              <a:pt x="27" y="219"/>
                            </a:lnTo>
                            <a:lnTo>
                              <a:pt x="23" y="219"/>
                            </a:lnTo>
                            <a:lnTo>
                              <a:pt x="19" y="219"/>
                            </a:lnTo>
                            <a:lnTo>
                              <a:pt x="18" y="212"/>
                            </a:lnTo>
                            <a:lnTo>
                              <a:pt x="16" y="207"/>
                            </a:lnTo>
                            <a:lnTo>
                              <a:pt x="11" y="203"/>
                            </a:lnTo>
                            <a:lnTo>
                              <a:pt x="7" y="201"/>
                            </a:lnTo>
                            <a:lnTo>
                              <a:pt x="3" y="196"/>
                            </a:lnTo>
                            <a:lnTo>
                              <a:pt x="1" y="192"/>
                            </a:lnTo>
                            <a:lnTo>
                              <a:pt x="0" y="186"/>
                            </a:lnTo>
                            <a:lnTo>
                              <a:pt x="4" y="180"/>
                            </a:lnTo>
                            <a:lnTo>
                              <a:pt x="7" y="177"/>
                            </a:lnTo>
                            <a:lnTo>
                              <a:pt x="12" y="179"/>
                            </a:lnTo>
                            <a:lnTo>
                              <a:pt x="15" y="182"/>
                            </a:lnTo>
                            <a:lnTo>
                              <a:pt x="18" y="187"/>
                            </a:lnTo>
                            <a:lnTo>
                              <a:pt x="21" y="191"/>
                            </a:lnTo>
                            <a:lnTo>
                              <a:pt x="23" y="195"/>
                            </a:lnTo>
                            <a:lnTo>
                              <a:pt x="27" y="196"/>
                            </a:lnTo>
                            <a:lnTo>
                              <a:pt x="34" y="195"/>
                            </a:lnTo>
                            <a:lnTo>
                              <a:pt x="32" y="185"/>
                            </a:lnTo>
                            <a:lnTo>
                              <a:pt x="37" y="180"/>
                            </a:lnTo>
                            <a:lnTo>
                              <a:pt x="43" y="176"/>
                            </a:lnTo>
                            <a:lnTo>
                              <a:pt x="52" y="175"/>
                            </a:lnTo>
                            <a:lnTo>
                              <a:pt x="61" y="176"/>
                            </a:lnTo>
                            <a:lnTo>
                              <a:pt x="68" y="180"/>
                            </a:lnTo>
                            <a:lnTo>
                              <a:pt x="73" y="185"/>
                            </a:lnTo>
                            <a:lnTo>
                              <a:pt x="76" y="195"/>
                            </a:lnTo>
                            <a:lnTo>
                              <a:pt x="79" y="195"/>
                            </a:lnTo>
                            <a:lnTo>
                              <a:pt x="81" y="195"/>
                            </a:lnTo>
                            <a:lnTo>
                              <a:pt x="82" y="186"/>
                            </a:lnTo>
                            <a:lnTo>
                              <a:pt x="86" y="181"/>
                            </a:lnTo>
                            <a:lnTo>
                              <a:pt x="91" y="176"/>
                            </a:lnTo>
                            <a:lnTo>
                              <a:pt x="97" y="172"/>
                            </a:lnTo>
                            <a:lnTo>
                              <a:pt x="102" y="168"/>
                            </a:lnTo>
                            <a:lnTo>
                              <a:pt x="109" y="165"/>
                            </a:lnTo>
                            <a:lnTo>
                              <a:pt x="114" y="159"/>
                            </a:lnTo>
                            <a:lnTo>
                              <a:pt x="119" y="154"/>
                            </a:lnTo>
                            <a:lnTo>
                              <a:pt x="124" y="147"/>
                            </a:lnTo>
                            <a:lnTo>
                              <a:pt x="129" y="142"/>
                            </a:lnTo>
                            <a:lnTo>
                              <a:pt x="135" y="136"/>
                            </a:lnTo>
                            <a:lnTo>
                              <a:pt x="140" y="131"/>
                            </a:lnTo>
                            <a:lnTo>
                              <a:pt x="145" y="126"/>
                            </a:lnTo>
                            <a:lnTo>
                              <a:pt x="151" y="120"/>
                            </a:lnTo>
                            <a:lnTo>
                              <a:pt x="156" y="115"/>
                            </a:lnTo>
                            <a:lnTo>
                              <a:pt x="162" y="111"/>
                            </a:lnTo>
                            <a:lnTo>
                              <a:pt x="168" y="107"/>
                            </a:lnTo>
                            <a:lnTo>
                              <a:pt x="174" y="103"/>
                            </a:lnTo>
                            <a:lnTo>
                              <a:pt x="179" y="100"/>
                            </a:lnTo>
                            <a:lnTo>
                              <a:pt x="186" y="98"/>
                            </a:lnTo>
                            <a:lnTo>
                              <a:pt x="193" y="95"/>
                            </a:lnTo>
                            <a:lnTo>
                              <a:pt x="200" y="95"/>
                            </a:lnTo>
                            <a:lnTo>
                              <a:pt x="208" y="94"/>
                            </a:lnTo>
                            <a:lnTo>
                              <a:pt x="216" y="96"/>
                            </a:lnTo>
                            <a:lnTo>
                              <a:pt x="223" y="92"/>
                            </a:lnTo>
                            <a:lnTo>
                              <a:pt x="233" y="89"/>
                            </a:lnTo>
                            <a:lnTo>
                              <a:pt x="238" y="88"/>
                            </a:lnTo>
                            <a:lnTo>
                              <a:pt x="243" y="89"/>
                            </a:lnTo>
                            <a:lnTo>
                              <a:pt x="246" y="91"/>
                            </a:lnTo>
                            <a:lnTo>
                              <a:pt x="250" y="97"/>
                            </a:lnTo>
                            <a:lnTo>
                              <a:pt x="251" y="91"/>
                            </a:lnTo>
                            <a:lnTo>
                              <a:pt x="254" y="89"/>
                            </a:lnTo>
                            <a:lnTo>
                              <a:pt x="257" y="89"/>
                            </a:lnTo>
                            <a:lnTo>
                              <a:pt x="262" y="89"/>
                            </a:lnTo>
                            <a:lnTo>
                              <a:pt x="269" y="88"/>
                            </a:lnTo>
                            <a:lnTo>
                              <a:pt x="276" y="83"/>
                            </a:lnTo>
                            <a:lnTo>
                              <a:pt x="272" y="81"/>
                            </a:lnTo>
                            <a:lnTo>
                              <a:pt x="270" y="77"/>
                            </a:lnTo>
                            <a:lnTo>
                              <a:pt x="269" y="72"/>
                            </a:lnTo>
                            <a:lnTo>
                              <a:pt x="270" y="70"/>
                            </a:lnTo>
                            <a:lnTo>
                              <a:pt x="275" y="68"/>
                            </a:lnTo>
                            <a:lnTo>
                              <a:pt x="280" y="65"/>
                            </a:lnTo>
                            <a:lnTo>
                              <a:pt x="286" y="62"/>
                            </a:lnTo>
                            <a:lnTo>
                              <a:pt x="291" y="60"/>
                            </a:lnTo>
                            <a:lnTo>
                              <a:pt x="297" y="57"/>
                            </a:lnTo>
                            <a:lnTo>
                              <a:pt x="303" y="57"/>
                            </a:lnTo>
                            <a:lnTo>
                              <a:pt x="308" y="56"/>
                            </a:lnTo>
                            <a:lnTo>
                              <a:pt x="316" y="58"/>
                            </a:lnTo>
                            <a:lnTo>
                              <a:pt x="316" y="50"/>
                            </a:lnTo>
                            <a:lnTo>
                              <a:pt x="318" y="42"/>
                            </a:lnTo>
                            <a:lnTo>
                              <a:pt x="320" y="33"/>
                            </a:lnTo>
                            <a:lnTo>
                              <a:pt x="324" y="26"/>
                            </a:lnTo>
                            <a:lnTo>
                              <a:pt x="327" y="18"/>
                            </a:lnTo>
                            <a:lnTo>
                              <a:pt x="331" y="12"/>
                            </a:lnTo>
                            <a:lnTo>
                              <a:pt x="337" y="5"/>
                            </a:lnTo>
                            <a:lnTo>
                              <a:pt x="345" y="0"/>
                            </a:lnTo>
                            <a:lnTo>
                              <a:pt x="345" y="0"/>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rot="19453200">
                        <a:off x="5770440" y="2809800"/>
                        <a:ext cx="10800" cy="2520"/>
                      </a:xfrm>
                      <a:custGeom>
                        <a:avLst/>
                        <a:gdLst/>
                        <a:ahLst/>
                        <a:rect l="l" t="t" r="r" b="b"/>
                        <a:pathLst>
                          <a:path w="14" h="3">
                            <a:moveTo>
                              <a:pt x="14" y="3"/>
                            </a:moveTo>
                            <a:lnTo>
                              <a:pt x="7" y="0"/>
                            </a:lnTo>
                            <a:lnTo>
                              <a:pt x="2" y="1"/>
                            </a:lnTo>
                            <a:lnTo>
                              <a:pt x="0" y="2"/>
                            </a:lnTo>
                            <a:lnTo>
                              <a:pt x="2" y="3"/>
                            </a:lnTo>
                            <a:lnTo>
                              <a:pt x="5" y="3"/>
                            </a:lnTo>
                            <a:lnTo>
                              <a:pt x="14" y="3"/>
                            </a:lnTo>
                            <a:lnTo>
                              <a:pt x="14" y="3"/>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99" name=""/>
                      <p:cNvSpPr/>
                      <p:nvPr/>
                    </p:nvSpPr>
                    <p:spPr>
                      <a:xfrm rot="19453200">
                        <a:off x="5824080" y="2670480"/>
                        <a:ext cx="30240" cy="19440"/>
                      </a:xfrm>
                      <a:custGeom>
                        <a:avLst/>
                        <a:gdLst/>
                        <a:ahLst/>
                        <a:rect l="l" t="t" r="r" b="b"/>
                        <a:pathLst>
                          <a:path w="38" h="22">
                            <a:moveTo>
                              <a:pt x="10" y="0"/>
                            </a:moveTo>
                            <a:lnTo>
                              <a:pt x="16" y="2"/>
                            </a:lnTo>
                            <a:lnTo>
                              <a:pt x="23" y="2"/>
                            </a:lnTo>
                            <a:lnTo>
                              <a:pt x="30" y="1"/>
                            </a:lnTo>
                            <a:lnTo>
                              <a:pt x="38" y="3"/>
                            </a:lnTo>
                            <a:lnTo>
                              <a:pt x="30" y="7"/>
                            </a:lnTo>
                            <a:lnTo>
                              <a:pt x="23" y="11"/>
                            </a:lnTo>
                            <a:lnTo>
                              <a:pt x="15" y="15"/>
                            </a:lnTo>
                            <a:lnTo>
                              <a:pt x="7" y="22"/>
                            </a:lnTo>
                            <a:lnTo>
                              <a:pt x="5" y="18"/>
                            </a:lnTo>
                            <a:lnTo>
                              <a:pt x="2" y="13"/>
                            </a:lnTo>
                            <a:lnTo>
                              <a:pt x="0" y="9"/>
                            </a:lnTo>
                            <a:lnTo>
                              <a:pt x="0" y="6"/>
                            </a:lnTo>
                            <a:lnTo>
                              <a:pt x="2" y="4"/>
                            </a:lnTo>
                            <a:lnTo>
                              <a:pt x="5" y="2"/>
                            </a:lnTo>
                            <a:lnTo>
                              <a:pt x="7" y="0"/>
                            </a:lnTo>
                            <a:lnTo>
                              <a:pt x="10" y="0"/>
                            </a:lnTo>
                            <a:lnTo>
                              <a:pt x="10"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300" name=""/>
                      <p:cNvSpPr/>
                      <p:nvPr/>
                    </p:nvSpPr>
                    <p:spPr>
                      <a:xfrm rot="19453200">
                        <a:off x="5821560" y="2696400"/>
                        <a:ext cx="4680" cy="15840"/>
                      </a:xfrm>
                      <a:custGeom>
                        <a:avLst/>
                        <a:gdLst/>
                        <a:ahLst/>
                        <a:rect l="l" t="t" r="r" b="b"/>
                        <a:pathLst>
                          <a:path w="6" h="18">
                            <a:moveTo>
                              <a:pt x="6" y="0"/>
                            </a:moveTo>
                            <a:lnTo>
                              <a:pt x="6" y="3"/>
                            </a:lnTo>
                            <a:lnTo>
                              <a:pt x="6" y="8"/>
                            </a:lnTo>
                            <a:lnTo>
                              <a:pt x="5" y="12"/>
                            </a:lnTo>
                            <a:lnTo>
                              <a:pt x="4" y="16"/>
                            </a:lnTo>
                            <a:lnTo>
                              <a:pt x="1" y="18"/>
                            </a:lnTo>
                            <a:lnTo>
                              <a:pt x="0" y="18"/>
                            </a:lnTo>
                            <a:lnTo>
                              <a:pt x="0" y="15"/>
                            </a:lnTo>
                            <a:lnTo>
                              <a:pt x="3" y="8"/>
                            </a:lnTo>
                            <a:lnTo>
                              <a:pt x="4" y="2"/>
                            </a:lnTo>
                            <a:lnTo>
                              <a:pt x="6" y="0"/>
                            </a:lnTo>
                            <a:lnTo>
                              <a:pt x="6"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01" name=""/>
                      <p:cNvSpPr/>
                      <p:nvPr/>
                    </p:nvSpPr>
                    <p:spPr>
                      <a:xfrm rot="19453200">
                        <a:off x="5843160" y="2676960"/>
                        <a:ext cx="27720" cy="28080"/>
                      </a:xfrm>
                      <a:custGeom>
                        <a:avLst/>
                        <a:gdLst/>
                        <a:ahLst/>
                        <a:rect l="l" t="t" r="r" b="b"/>
                        <a:pathLst>
                          <a:path w="35" h="32">
                            <a:moveTo>
                              <a:pt x="31" y="0"/>
                            </a:moveTo>
                            <a:lnTo>
                              <a:pt x="35" y="8"/>
                            </a:lnTo>
                            <a:lnTo>
                              <a:pt x="35" y="16"/>
                            </a:lnTo>
                            <a:lnTo>
                              <a:pt x="32" y="22"/>
                            </a:lnTo>
                            <a:lnTo>
                              <a:pt x="29" y="28"/>
                            </a:lnTo>
                            <a:lnTo>
                              <a:pt x="22" y="31"/>
                            </a:lnTo>
                            <a:lnTo>
                              <a:pt x="16" y="32"/>
                            </a:lnTo>
                            <a:lnTo>
                              <a:pt x="8" y="32"/>
                            </a:lnTo>
                            <a:lnTo>
                              <a:pt x="2" y="31"/>
                            </a:lnTo>
                            <a:lnTo>
                              <a:pt x="0" y="24"/>
                            </a:lnTo>
                            <a:lnTo>
                              <a:pt x="0" y="19"/>
                            </a:lnTo>
                            <a:lnTo>
                              <a:pt x="7" y="13"/>
                            </a:lnTo>
                            <a:lnTo>
                              <a:pt x="16" y="9"/>
                            </a:lnTo>
                            <a:lnTo>
                              <a:pt x="23" y="5"/>
                            </a:lnTo>
                            <a:lnTo>
                              <a:pt x="31" y="0"/>
                            </a:lnTo>
                            <a:lnTo>
                              <a:pt x="31"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302" name=""/>
                      <p:cNvSpPr/>
                      <p:nvPr/>
                    </p:nvSpPr>
                    <p:spPr>
                      <a:xfrm rot="19453200">
                        <a:off x="5259960" y="2961000"/>
                        <a:ext cx="503640" cy="297720"/>
                      </a:xfrm>
                      <a:custGeom>
                        <a:avLst/>
                        <a:gdLst/>
                        <a:ahLst/>
                        <a:rect l="l" t="t" r="r" b="b"/>
                        <a:pathLst>
                          <a:path w="630" h="337">
                            <a:moveTo>
                              <a:pt x="470" y="3"/>
                            </a:moveTo>
                            <a:lnTo>
                              <a:pt x="474" y="0"/>
                            </a:lnTo>
                            <a:lnTo>
                              <a:pt x="481" y="1"/>
                            </a:lnTo>
                            <a:lnTo>
                              <a:pt x="486" y="3"/>
                            </a:lnTo>
                            <a:lnTo>
                              <a:pt x="493" y="7"/>
                            </a:lnTo>
                            <a:lnTo>
                              <a:pt x="496" y="9"/>
                            </a:lnTo>
                            <a:lnTo>
                              <a:pt x="497" y="12"/>
                            </a:lnTo>
                            <a:lnTo>
                              <a:pt x="496" y="13"/>
                            </a:lnTo>
                            <a:lnTo>
                              <a:pt x="493" y="14"/>
                            </a:lnTo>
                            <a:lnTo>
                              <a:pt x="489" y="15"/>
                            </a:lnTo>
                            <a:lnTo>
                              <a:pt x="485" y="16"/>
                            </a:lnTo>
                            <a:lnTo>
                              <a:pt x="478" y="18"/>
                            </a:lnTo>
                            <a:lnTo>
                              <a:pt x="472" y="26"/>
                            </a:lnTo>
                            <a:lnTo>
                              <a:pt x="470" y="33"/>
                            </a:lnTo>
                            <a:lnTo>
                              <a:pt x="474" y="41"/>
                            </a:lnTo>
                            <a:lnTo>
                              <a:pt x="473" y="32"/>
                            </a:lnTo>
                            <a:lnTo>
                              <a:pt x="478" y="28"/>
                            </a:lnTo>
                            <a:lnTo>
                              <a:pt x="484" y="27"/>
                            </a:lnTo>
                            <a:lnTo>
                              <a:pt x="488" y="33"/>
                            </a:lnTo>
                            <a:lnTo>
                              <a:pt x="492" y="28"/>
                            </a:lnTo>
                            <a:lnTo>
                              <a:pt x="496" y="24"/>
                            </a:lnTo>
                            <a:lnTo>
                              <a:pt x="500" y="18"/>
                            </a:lnTo>
                            <a:lnTo>
                              <a:pt x="504" y="13"/>
                            </a:lnTo>
                            <a:lnTo>
                              <a:pt x="506" y="8"/>
                            </a:lnTo>
                            <a:lnTo>
                              <a:pt x="510" y="6"/>
                            </a:lnTo>
                            <a:lnTo>
                              <a:pt x="516" y="4"/>
                            </a:lnTo>
                            <a:lnTo>
                              <a:pt x="523" y="6"/>
                            </a:lnTo>
                            <a:lnTo>
                              <a:pt x="530" y="4"/>
                            </a:lnTo>
                            <a:lnTo>
                              <a:pt x="538" y="6"/>
                            </a:lnTo>
                            <a:lnTo>
                              <a:pt x="544" y="8"/>
                            </a:lnTo>
                            <a:lnTo>
                              <a:pt x="551" y="12"/>
                            </a:lnTo>
                            <a:lnTo>
                              <a:pt x="557" y="15"/>
                            </a:lnTo>
                            <a:lnTo>
                              <a:pt x="563" y="19"/>
                            </a:lnTo>
                            <a:lnTo>
                              <a:pt x="570" y="21"/>
                            </a:lnTo>
                            <a:lnTo>
                              <a:pt x="579" y="23"/>
                            </a:lnTo>
                            <a:lnTo>
                              <a:pt x="581" y="31"/>
                            </a:lnTo>
                            <a:lnTo>
                              <a:pt x="583" y="42"/>
                            </a:lnTo>
                            <a:lnTo>
                              <a:pt x="583" y="51"/>
                            </a:lnTo>
                            <a:lnTo>
                              <a:pt x="584" y="62"/>
                            </a:lnTo>
                            <a:lnTo>
                              <a:pt x="583" y="66"/>
                            </a:lnTo>
                            <a:lnTo>
                              <a:pt x="583" y="71"/>
                            </a:lnTo>
                            <a:lnTo>
                              <a:pt x="582" y="77"/>
                            </a:lnTo>
                            <a:lnTo>
                              <a:pt x="582" y="83"/>
                            </a:lnTo>
                            <a:lnTo>
                              <a:pt x="581" y="87"/>
                            </a:lnTo>
                            <a:lnTo>
                              <a:pt x="581" y="92"/>
                            </a:lnTo>
                            <a:lnTo>
                              <a:pt x="581" y="98"/>
                            </a:lnTo>
                            <a:lnTo>
                              <a:pt x="581" y="104"/>
                            </a:lnTo>
                            <a:lnTo>
                              <a:pt x="578" y="105"/>
                            </a:lnTo>
                            <a:lnTo>
                              <a:pt x="575" y="107"/>
                            </a:lnTo>
                            <a:lnTo>
                              <a:pt x="584" y="104"/>
                            </a:lnTo>
                            <a:lnTo>
                              <a:pt x="595" y="107"/>
                            </a:lnTo>
                            <a:lnTo>
                              <a:pt x="600" y="108"/>
                            </a:lnTo>
                            <a:lnTo>
                              <a:pt x="605" y="110"/>
                            </a:lnTo>
                            <a:lnTo>
                              <a:pt x="610" y="108"/>
                            </a:lnTo>
                            <a:lnTo>
                              <a:pt x="615" y="104"/>
                            </a:lnTo>
                            <a:lnTo>
                              <a:pt x="608" y="103"/>
                            </a:lnTo>
                            <a:lnTo>
                              <a:pt x="605" y="98"/>
                            </a:lnTo>
                            <a:lnTo>
                              <a:pt x="605" y="92"/>
                            </a:lnTo>
                            <a:lnTo>
                              <a:pt x="608" y="87"/>
                            </a:lnTo>
                            <a:lnTo>
                              <a:pt x="610" y="84"/>
                            </a:lnTo>
                            <a:lnTo>
                              <a:pt x="615" y="83"/>
                            </a:lnTo>
                            <a:lnTo>
                              <a:pt x="617" y="83"/>
                            </a:lnTo>
                            <a:lnTo>
                              <a:pt x="619" y="85"/>
                            </a:lnTo>
                            <a:lnTo>
                              <a:pt x="621" y="87"/>
                            </a:lnTo>
                            <a:lnTo>
                              <a:pt x="624" y="93"/>
                            </a:lnTo>
                            <a:lnTo>
                              <a:pt x="628" y="97"/>
                            </a:lnTo>
                            <a:lnTo>
                              <a:pt x="630" y="102"/>
                            </a:lnTo>
                            <a:lnTo>
                              <a:pt x="630" y="107"/>
                            </a:lnTo>
                            <a:lnTo>
                              <a:pt x="630" y="113"/>
                            </a:lnTo>
                            <a:lnTo>
                              <a:pt x="628" y="119"/>
                            </a:lnTo>
                            <a:lnTo>
                              <a:pt x="627" y="124"/>
                            </a:lnTo>
                            <a:lnTo>
                              <a:pt x="627" y="130"/>
                            </a:lnTo>
                            <a:lnTo>
                              <a:pt x="628" y="137"/>
                            </a:lnTo>
                            <a:lnTo>
                              <a:pt x="622" y="137"/>
                            </a:lnTo>
                            <a:lnTo>
                              <a:pt x="618" y="137"/>
                            </a:lnTo>
                            <a:lnTo>
                              <a:pt x="616" y="133"/>
                            </a:lnTo>
                            <a:lnTo>
                              <a:pt x="612" y="128"/>
                            </a:lnTo>
                            <a:lnTo>
                              <a:pt x="606" y="124"/>
                            </a:lnTo>
                            <a:lnTo>
                              <a:pt x="603" y="123"/>
                            </a:lnTo>
                            <a:lnTo>
                              <a:pt x="598" y="124"/>
                            </a:lnTo>
                            <a:lnTo>
                              <a:pt x="595" y="127"/>
                            </a:lnTo>
                            <a:lnTo>
                              <a:pt x="592" y="131"/>
                            </a:lnTo>
                            <a:lnTo>
                              <a:pt x="592" y="136"/>
                            </a:lnTo>
                            <a:lnTo>
                              <a:pt x="591" y="141"/>
                            </a:lnTo>
                            <a:lnTo>
                              <a:pt x="591" y="145"/>
                            </a:lnTo>
                            <a:lnTo>
                              <a:pt x="591" y="150"/>
                            </a:lnTo>
                            <a:lnTo>
                              <a:pt x="591" y="156"/>
                            </a:lnTo>
                            <a:lnTo>
                              <a:pt x="583" y="157"/>
                            </a:lnTo>
                            <a:lnTo>
                              <a:pt x="578" y="159"/>
                            </a:lnTo>
                            <a:lnTo>
                              <a:pt x="575" y="153"/>
                            </a:lnTo>
                            <a:lnTo>
                              <a:pt x="572" y="148"/>
                            </a:lnTo>
                            <a:lnTo>
                              <a:pt x="568" y="143"/>
                            </a:lnTo>
                            <a:lnTo>
                              <a:pt x="565" y="140"/>
                            </a:lnTo>
                            <a:lnTo>
                              <a:pt x="557" y="132"/>
                            </a:lnTo>
                            <a:lnTo>
                              <a:pt x="549" y="125"/>
                            </a:lnTo>
                            <a:lnTo>
                              <a:pt x="541" y="117"/>
                            </a:lnTo>
                            <a:lnTo>
                              <a:pt x="535" y="109"/>
                            </a:lnTo>
                            <a:lnTo>
                              <a:pt x="532" y="104"/>
                            </a:lnTo>
                            <a:lnTo>
                              <a:pt x="531" y="100"/>
                            </a:lnTo>
                            <a:lnTo>
                              <a:pt x="531" y="95"/>
                            </a:lnTo>
                            <a:lnTo>
                              <a:pt x="532" y="90"/>
                            </a:lnTo>
                            <a:lnTo>
                              <a:pt x="527" y="87"/>
                            </a:lnTo>
                            <a:lnTo>
                              <a:pt x="523" y="85"/>
                            </a:lnTo>
                            <a:lnTo>
                              <a:pt x="524" y="80"/>
                            </a:lnTo>
                            <a:lnTo>
                              <a:pt x="526" y="74"/>
                            </a:lnTo>
                            <a:lnTo>
                              <a:pt x="529" y="68"/>
                            </a:lnTo>
                            <a:lnTo>
                              <a:pt x="532" y="63"/>
                            </a:lnTo>
                            <a:lnTo>
                              <a:pt x="535" y="57"/>
                            </a:lnTo>
                            <a:lnTo>
                              <a:pt x="538" y="51"/>
                            </a:lnTo>
                            <a:lnTo>
                              <a:pt x="541" y="47"/>
                            </a:lnTo>
                            <a:lnTo>
                              <a:pt x="546" y="42"/>
                            </a:lnTo>
                            <a:lnTo>
                              <a:pt x="541" y="35"/>
                            </a:lnTo>
                            <a:lnTo>
                              <a:pt x="534" y="32"/>
                            </a:lnTo>
                            <a:lnTo>
                              <a:pt x="526" y="33"/>
                            </a:lnTo>
                            <a:lnTo>
                              <a:pt x="522" y="39"/>
                            </a:lnTo>
                            <a:lnTo>
                              <a:pt x="523" y="40"/>
                            </a:lnTo>
                            <a:lnTo>
                              <a:pt x="527" y="43"/>
                            </a:lnTo>
                            <a:lnTo>
                              <a:pt x="529" y="47"/>
                            </a:lnTo>
                            <a:lnTo>
                              <a:pt x="532" y="51"/>
                            </a:lnTo>
                            <a:lnTo>
                              <a:pt x="523" y="49"/>
                            </a:lnTo>
                            <a:lnTo>
                              <a:pt x="520" y="53"/>
                            </a:lnTo>
                            <a:lnTo>
                              <a:pt x="518" y="61"/>
                            </a:lnTo>
                            <a:lnTo>
                              <a:pt x="518" y="70"/>
                            </a:lnTo>
                            <a:lnTo>
                              <a:pt x="516" y="79"/>
                            </a:lnTo>
                            <a:lnTo>
                              <a:pt x="513" y="86"/>
                            </a:lnTo>
                            <a:lnTo>
                              <a:pt x="510" y="88"/>
                            </a:lnTo>
                            <a:lnTo>
                              <a:pt x="507" y="91"/>
                            </a:lnTo>
                            <a:lnTo>
                              <a:pt x="503" y="91"/>
                            </a:lnTo>
                            <a:lnTo>
                              <a:pt x="498" y="91"/>
                            </a:lnTo>
                            <a:lnTo>
                              <a:pt x="488" y="90"/>
                            </a:lnTo>
                            <a:lnTo>
                              <a:pt x="479" y="90"/>
                            </a:lnTo>
                            <a:lnTo>
                              <a:pt x="469" y="90"/>
                            </a:lnTo>
                            <a:lnTo>
                              <a:pt x="461" y="90"/>
                            </a:lnTo>
                            <a:lnTo>
                              <a:pt x="460" y="85"/>
                            </a:lnTo>
                            <a:lnTo>
                              <a:pt x="460" y="82"/>
                            </a:lnTo>
                            <a:lnTo>
                              <a:pt x="460" y="77"/>
                            </a:lnTo>
                            <a:lnTo>
                              <a:pt x="460" y="75"/>
                            </a:lnTo>
                            <a:lnTo>
                              <a:pt x="453" y="76"/>
                            </a:lnTo>
                            <a:lnTo>
                              <a:pt x="452" y="80"/>
                            </a:lnTo>
                            <a:lnTo>
                              <a:pt x="454" y="85"/>
                            </a:lnTo>
                            <a:lnTo>
                              <a:pt x="457" y="91"/>
                            </a:lnTo>
                            <a:lnTo>
                              <a:pt x="458" y="95"/>
                            </a:lnTo>
                            <a:lnTo>
                              <a:pt x="459" y="99"/>
                            </a:lnTo>
                            <a:lnTo>
                              <a:pt x="456" y="102"/>
                            </a:lnTo>
                            <a:lnTo>
                              <a:pt x="449" y="102"/>
                            </a:lnTo>
                            <a:lnTo>
                              <a:pt x="447" y="93"/>
                            </a:lnTo>
                            <a:lnTo>
                              <a:pt x="444" y="90"/>
                            </a:lnTo>
                            <a:lnTo>
                              <a:pt x="440" y="90"/>
                            </a:lnTo>
                            <a:lnTo>
                              <a:pt x="437" y="94"/>
                            </a:lnTo>
                            <a:lnTo>
                              <a:pt x="432" y="97"/>
                            </a:lnTo>
                            <a:lnTo>
                              <a:pt x="428" y="101"/>
                            </a:lnTo>
                            <a:lnTo>
                              <a:pt x="425" y="103"/>
                            </a:lnTo>
                            <a:lnTo>
                              <a:pt x="421" y="104"/>
                            </a:lnTo>
                            <a:lnTo>
                              <a:pt x="420" y="100"/>
                            </a:lnTo>
                            <a:lnTo>
                              <a:pt x="420" y="96"/>
                            </a:lnTo>
                            <a:lnTo>
                              <a:pt x="420" y="91"/>
                            </a:lnTo>
                            <a:lnTo>
                              <a:pt x="421" y="90"/>
                            </a:lnTo>
                            <a:lnTo>
                              <a:pt x="412" y="90"/>
                            </a:lnTo>
                            <a:lnTo>
                              <a:pt x="407" y="92"/>
                            </a:lnTo>
                            <a:lnTo>
                              <a:pt x="402" y="95"/>
                            </a:lnTo>
                            <a:lnTo>
                              <a:pt x="399" y="101"/>
                            </a:lnTo>
                            <a:lnTo>
                              <a:pt x="396" y="105"/>
                            </a:lnTo>
                            <a:lnTo>
                              <a:pt x="395" y="112"/>
                            </a:lnTo>
                            <a:lnTo>
                              <a:pt x="394" y="119"/>
                            </a:lnTo>
                            <a:lnTo>
                              <a:pt x="395" y="127"/>
                            </a:lnTo>
                            <a:lnTo>
                              <a:pt x="386" y="130"/>
                            </a:lnTo>
                            <a:lnTo>
                              <a:pt x="379" y="126"/>
                            </a:lnTo>
                            <a:lnTo>
                              <a:pt x="377" y="118"/>
                            </a:lnTo>
                            <a:lnTo>
                              <a:pt x="382" y="112"/>
                            </a:lnTo>
                            <a:lnTo>
                              <a:pt x="379" y="109"/>
                            </a:lnTo>
                            <a:lnTo>
                              <a:pt x="377" y="106"/>
                            </a:lnTo>
                            <a:lnTo>
                              <a:pt x="371" y="109"/>
                            </a:lnTo>
                            <a:lnTo>
                              <a:pt x="369" y="113"/>
                            </a:lnTo>
                            <a:lnTo>
                              <a:pt x="369" y="117"/>
                            </a:lnTo>
                            <a:lnTo>
                              <a:pt x="371" y="123"/>
                            </a:lnTo>
                            <a:lnTo>
                              <a:pt x="377" y="131"/>
                            </a:lnTo>
                            <a:lnTo>
                              <a:pt x="379" y="142"/>
                            </a:lnTo>
                            <a:lnTo>
                              <a:pt x="385" y="139"/>
                            </a:lnTo>
                            <a:lnTo>
                              <a:pt x="391" y="136"/>
                            </a:lnTo>
                            <a:lnTo>
                              <a:pt x="397" y="130"/>
                            </a:lnTo>
                            <a:lnTo>
                              <a:pt x="403" y="125"/>
                            </a:lnTo>
                            <a:lnTo>
                              <a:pt x="408" y="120"/>
                            </a:lnTo>
                            <a:lnTo>
                              <a:pt x="413" y="116"/>
                            </a:lnTo>
                            <a:lnTo>
                              <a:pt x="419" y="112"/>
                            </a:lnTo>
                            <a:lnTo>
                              <a:pt x="428" y="112"/>
                            </a:lnTo>
                            <a:lnTo>
                              <a:pt x="433" y="107"/>
                            </a:lnTo>
                            <a:lnTo>
                              <a:pt x="440" y="104"/>
                            </a:lnTo>
                            <a:lnTo>
                              <a:pt x="444" y="106"/>
                            </a:lnTo>
                            <a:lnTo>
                              <a:pt x="449" y="111"/>
                            </a:lnTo>
                            <a:lnTo>
                              <a:pt x="442" y="117"/>
                            </a:lnTo>
                            <a:lnTo>
                              <a:pt x="435" y="122"/>
                            </a:lnTo>
                            <a:lnTo>
                              <a:pt x="428" y="125"/>
                            </a:lnTo>
                            <a:lnTo>
                              <a:pt x="420" y="129"/>
                            </a:lnTo>
                            <a:lnTo>
                              <a:pt x="412" y="132"/>
                            </a:lnTo>
                            <a:lnTo>
                              <a:pt x="406" y="138"/>
                            </a:lnTo>
                            <a:lnTo>
                              <a:pt x="399" y="143"/>
                            </a:lnTo>
                            <a:lnTo>
                              <a:pt x="394" y="153"/>
                            </a:lnTo>
                            <a:lnTo>
                              <a:pt x="386" y="156"/>
                            </a:lnTo>
                            <a:lnTo>
                              <a:pt x="378" y="157"/>
                            </a:lnTo>
                            <a:lnTo>
                              <a:pt x="370" y="157"/>
                            </a:lnTo>
                            <a:lnTo>
                              <a:pt x="362" y="158"/>
                            </a:lnTo>
                            <a:lnTo>
                              <a:pt x="353" y="158"/>
                            </a:lnTo>
                            <a:lnTo>
                              <a:pt x="347" y="160"/>
                            </a:lnTo>
                            <a:lnTo>
                              <a:pt x="339" y="164"/>
                            </a:lnTo>
                            <a:lnTo>
                              <a:pt x="334" y="173"/>
                            </a:lnTo>
                            <a:lnTo>
                              <a:pt x="329" y="178"/>
                            </a:lnTo>
                            <a:lnTo>
                              <a:pt x="323" y="183"/>
                            </a:lnTo>
                            <a:lnTo>
                              <a:pt x="316" y="188"/>
                            </a:lnTo>
                            <a:lnTo>
                              <a:pt x="311" y="193"/>
                            </a:lnTo>
                            <a:lnTo>
                              <a:pt x="304" y="195"/>
                            </a:lnTo>
                            <a:lnTo>
                              <a:pt x="297" y="195"/>
                            </a:lnTo>
                            <a:lnTo>
                              <a:pt x="291" y="193"/>
                            </a:lnTo>
                            <a:lnTo>
                              <a:pt x="284" y="190"/>
                            </a:lnTo>
                            <a:lnTo>
                              <a:pt x="279" y="192"/>
                            </a:lnTo>
                            <a:lnTo>
                              <a:pt x="276" y="194"/>
                            </a:lnTo>
                            <a:lnTo>
                              <a:pt x="277" y="196"/>
                            </a:lnTo>
                            <a:lnTo>
                              <a:pt x="282" y="200"/>
                            </a:lnTo>
                            <a:lnTo>
                              <a:pt x="285" y="205"/>
                            </a:lnTo>
                            <a:lnTo>
                              <a:pt x="288" y="210"/>
                            </a:lnTo>
                            <a:lnTo>
                              <a:pt x="279" y="210"/>
                            </a:lnTo>
                            <a:lnTo>
                              <a:pt x="272" y="215"/>
                            </a:lnTo>
                            <a:lnTo>
                              <a:pt x="265" y="220"/>
                            </a:lnTo>
                            <a:lnTo>
                              <a:pt x="259" y="228"/>
                            </a:lnTo>
                            <a:lnTo>
                              <a:pt x="253" y="235"/>
                            </a:lnTo>
                            <a:lnTo>
                              <a:pt x="247" y="240"/>
                            </a:lnTo>
                            <a:lnTo>
                              <a:pt x="239" y="244"/>
                            </a:lnTo>
                            <a:lnTo>
                              <a:pt x="232" y="246"/>
                            </a:lnTo>
                            <a:lnTo>
                              <a:pt x="223" y="247"/>
                            </a:lnTo>
                            <a:lnTo>
                              <a:pt x="219" y="254"/>
                            </a:lnTo>
                            <a:lnTo>
                              <a:pt x="216" y="257"/>
                            </a:lnTo>
                            <a:lnTo>
                              <a:pt x="213" y="260"/>
                            </a:lnTo>
                            <a:lnTo>
                              <a:pt x="208" y="262"/>
                            </a:lnTo>
                            <a:lnTo>
                              <a:pt x="204" y="261"/>
                            </a:lnTo>
                            <a:lnTo>
                              <a:pt x="203" y="267"/>
                            </a:lnTo>
                            <a:lnTo>
                              <a:pt x="200" y="271"/>
                            </a:lnTo>
                            <a:lnTo>
                              <a:pt x="196" y="273"/>
                            </a:lnTo>
                            <a:lnTo>
                              <a:pt x="192" y="275"/>
                            </a:lnTo>
                            <a:lnTo>
                              <a:pt x="187" y="276"/>
                            </a:lnTo>
                            <a:lnTo>
                              <a:pt x="184" y="278"/>
                            </a:lnTo>
                            <a:lnTo>
                              <a:pt x="182" y="282"/>
                            </a:lnTo>
                            <a:lnTo>
                              <a:pt x="185" y="290"/>
                            </a:lnTo>
                            <a:lnTo>
                              <a:pt x="181" y="298"/>
                            </a:lnTo>
                            <a:lnTo>
                              <a:pt x="176" y="306"/>
                            </a:lnTo>
                            <a:lnTo>
                              <a:pt x="167" y="311"/>
                            </a:lnTo>
                            <a:lnTo>
                              <a:pt x="160" y="314"/>
                            </a:lnTo>
                            <a:lnTo>
                              <a:pt x="149" y="315"/>
                            </a:lnTo>
                            <a:lnTo>
                              <a:pt x="140" y="316"/>
                            </a:lnTo>
                            <a:lnTo>
                              <a:pt x="131" y="315"/>
                            </a:lnTo>
                            <a:lnTo>
                              <a:pt x="124" y="315"/>
                            </a:lnTo>
                            <a:lnTo>
                              <a:pt x="122" y="316"/>
                            </a:lnTo>
                            <a:lnTo>
                              <a:pt x="120" y="318"/>
                            </a:lnTo>
                            <a:lnTo>
                              <a:pt x="124" y="320"/>
                            </a:lnTo>
                            <a:lnTo>
                              <a:pt x="125" y="324"/>
                            </a:lnTo>
                            <a:lnTo>
                              <a:pt x="125" y="328"/>
                            </a:lnTo>
                            <a:lnTo>
                              <a:pt x="124" y="333"/>
                            </a:lnTo>
                            <a:lnTo>
                              <a:pt x="118" y="337"/>
                            </a:lnTo>
                            <a:lnTo>
                              <a:pt x="110" y="336"/>
                            </a:lnTo>
                            <a:lnTo>
                              <a:pt x="106" y="329"/>
                            </a:lnTo>
                            <a:lnTo>
                              <a:pt x="105" y="322"/>
                            </a:lnTo>
                            <a:lnTo>
                              <a:pt x="105" y="314"/>
                            </a:lnTo>
                            <a:lnTo>
                              <a:pt x="105" y="307"/>
                            </a:lnTo>
                            <a:lnTo>
                              <a:pt x="105" y="298"/>
                            </a:lnTo>
                            <a:lnTo>
                              <a:pt x="107" y="291"/>
                            </a:lnTo>
                            <a:lnTo>
                              <a:pt x="109" y="283"/>
                            </a:lnTo>
                            <a:lnTo>
                              <a:pt x="111" y="277"/>
                            </a:lnTo>
                            <a:lnTo>
                              <a:pt x="114" y="276"/>
                            </a:lnTo>
                            <a:lnTo>
                              <a:pt x="117" y="274"/>
                            </a:lnTo>
                            <a:lnTo>
                              <a:pt x="108" y="269"/>
                            </a:lnTo>
                            <a:lnTo>
                              <a:pt x="100" y="267"/>
                            </a:lnTo>
                            <a:lnTo>
                              <a:pt x="92" y="265"/>
                            </a:lnTo>
                            <a:lnTo>
                              <a:pt x="84" y="263"/>
                            </a:lnTo>
                            <a:lnTo>
                              <a:pt x="86" y="259"/>
                            </a:lnTo>
                            <a:lnTo>
                              <a:pt x="89" y="257"/>
                            </a:lnTo>
                            <a:lnTo>
                              <a:pt x="93" y="254"/>
                            </a:lnTo>
                            <a:lnTo>
                              <a:pt x="98" y="254"/>
                            </a:lnTo>
                            <a:lnTo>
                              <a:pt x="98" y="247"/>
                            </a:lnTo>
                            <a:lnTo>
                              <a:pt x="98" y="240"/>
                            </a:lnTo>
                            <a:lnTo>
                              <a:pt x="95" y="235"/>
                            </a:lnTo>
                            <a:lnTo>
                              <a:pt x="89" y="236"/>
                            </a:lnTo>
                            <a:lnTo>
                              <a:pt x="89" y="242"/>
                            </a:lnTo>
                            <a:lnTo>
                              <a:pt x="87" y="248"/>
                            </a:lnTo>
                            <a:lnTo>
                              <a:pt x="79" y="251"/>
                            </a:lnTo>
                            <a:lnTo>
                              <a:pt x="73" y="254"/>
                            </a:lnTo>
                            <a:lnTo>
                              <a:pt x="65" y="256"/>
                            </a:lnTo>
                            <a:lnTo>
                              <a:pt x="60" y="260"/>
                            </a:lnTo>
                            <a:lnTo>
                              <a:pt x="57" y="263"/>
                            </a:lnTo>
                            <a:lnTo>
                              <a:pt x="57" y="267"/>
                            </a:lnTo>
                            <a:lnTo>
                              <a:pt x="57" y="271"/>
                            </a:lnTo>
                            <a:lnTo>
                              <a:pt x="61" y="277"/>
                            </a:lnTo>
                            <a:lnTo>
                              <a:pt x="66" y="276"/>
                            </a:lnTo>
                            <a:lnTo>
                              <a:pt x="68" y="273"/>
                            </a:lnTo>
                            <a:lnTo>
                              <a:pt x="69" y="269"/>
                            </a:lnTo>
                            <a:lnTo>
                              <a:pt x="70" y="265"/>
                            </a:lnTo>
                            <a:lnTo>
                              <a:pt x="70" y="261"/>
                            </a:lnTo>
                            <a:lnTo>
                              <a:pt x="71" y="258"/>
                            </a:lnTo>
                            <a:lnTo>
                              <a:pt x="74" y="257"/>
                            </a:lnTo>
                            <a:lnTo>
                              <a:pt x="80" y="258"/>
                            </a:lnTo>
                            <a:lnTo>
                              <a:pt x="83" y="267"/>
                            </a:lnTo>
                            <a:lnTo>
                              <a:pt x="83" y="274"/>
                            </a:lnTo>
                            <a:lnTo>
                              <a:pt x="79" y="278"/>
                            </a:lnTo>
                            <a:lnTo>
                              <a:pt x="75" y="284"/>
                            </a:lnTo>
                            <a:lnTo>
                              <a:pt x="69" y="287"/>
                            </a:lnTo>
                            <a:lnTo>
                              <a:pt x="62" y="290"/>
                            </a:lnTo>
                            <a:lnTo>
                              <a:pt x="56" y="293"/>
                            </a:lnTo>
                            <a:lnTo>
                              <a:pt x="50" y="295"/>
                            </a:lnTo>
                            <a:lnTo>
                              <a:pt x="48" y="297"/>
                            </a:lnTo>
                            <a:lnTo>
                              <a:pt x="44" y="301"/>
                            </a:lnTo>
                            <a:lnTo>
                              <a:pt x="39" y="303"/>
                            </a:lnTo>
                            <a:lnTo>
                              <a:pt x="38" y="305"/>
                            </a:lnTo>
                            <a:lnTo>
                              <a:pt x="31" y="298"/>
                            </a:lnTo>
                            <a:lnTo>
                              <a:pt x="29" y="293"/>
                            </a:lnTo>
                            <a:lnTo>
                              <a:pt x="30" y="287"/>
                            </a:lnTo>
                            <a:lnTo>
                              <a:pt x="33" y="281"/>
                            </a:lnTo>
                            <a:lnTo>
                              <a:pt x="34" y="275"/>
                            </a:lnTo>
                            <a:lnTo>
                              <a:pt x="38" y="269"/>
                            </a:lnTo>
                            <a:lnTo>
                              <a:pt x="37" y="263"/>
                            </a:lnTo>
                            <a:lnTo>
                              <a:pt x="34" y="259"/>
                            </a:lnTo>
                            <a:lnTo>
                              <a:pt x="39" y="258"/>
                            </a:lnTo>
                            <a:lnTo>
                              <a:pt x="44" y="263"/>
                            </a:lnTo>
                            <a:lnTo>
                              <a:pt x="46" y="257"/>
                            </a:lnTo>
                            <a:lnTo>
                              <a:pt x="48" y="253"/>
                            </a:lnTo>
                            <a:lnTo>
                              <a:pt x="53" y="248"/>
                            </a:lnTo>
                            <a:lnTo>
                              <a:pt x="58" y="245"/>
                            </a:lnTo>
                            <a:lnTo>
                              <a:pt x="62" y="240"/>
                            </a:lnTo>
                            <a:lnTo>
                              <a:pt x="66" y="237"/>
                            </a:lnTo>
                            <a:lnTo>
                              <a:pt x="66" y="232"/>
                            </a:lnTo>
                            <a:lnTo>
                              <a:pt x="66" y="226"/>
                            </a:lnTo>
                            <a:lnTo>
                              <a:pt x="66" y="220"/>
                            </a:lnTo>
                            <a:lnTo>
                              <a:pt x="68" y="216"/>
                            </a:lnTo>
                            <a:lnTo>
                              <a:pt x="61" y="212"/>
                            </a:lnTo>
                            <a:lnTo>
                              <a:pt x="56" y="211"/>
                            </a:lnTo>
                            <a:lnTo>
                              <a:pt x="48" y="212"/>
                            </a:lnTo>
                            <a:lnTo>
                              <a:pt x="44" y="215"/>
                            </a:lnTo>
                            <a:lnTo>
                              <a:pt x="38" y="218"/>
                            </a:lnTo>
                            <a:lnTo>
                              <a:pt x="34" y="223"/>
                            </a:lnTo>
                            <a:lnTo>
                              <a:pt x="32" y="229"/>
                            </a:lnTo>
                            <a:lnTo>
                              <a:pt x="34" y="237"/>
                            </a:lnTo>
                            <a:lnTo>
                              <a:pt x="36" y="231"/>
                            </a:lnTo>
                            <a:lnTo>
                              <a:pt x="39" y="230"/>
                            </a:lnTo>
                            <a:lnTo>
                              <a:pt x="44" y="231"/>
                            </a:lnTo>
                            <a:lnTo>
                              <a:pt x="48" y="235"/>
                            </a:lnTo>
                            <a:lnTo>
                              <a:pt x="48" y="237"/>
                            </a:lnTo>
                            <a:lnTo>
                              <a:pt x="48" y="241"/>
                            </a:lnTo>
                            <a:lnTo>
                              <a:pt x="46" y="242"/>
                            </a:lnTo>
                            <a:lnTo>
                              <a:pt x="39" y="242"/>
                            </a:lnTo>
                            <a:lnTo>
                              <a:pt x="34" y="242"/>
                            </a:lnTo>
                            <a:lnTo>
                              <a:pt x="30" y="242"/>
                            </a:lnTo>
                            <a:lnTo>
                              <a:pt x="25" y="241"/>
                            </a:lnTo>
                            <a:lnTo>
                              <a:pt x="23" y="240"/>
                            </a:lnTo>
                            <a:lnTo>
                              <a:pt x="16" y="245"/>
                            </a:lnTo>
                            <a:lnTo>
                              <a:pt x="12" y="251"/>
                            </a:lnTo>
                            <a:lnTo>
                              <a:pt x="10" y="257"/>
                            </a:lnTo>
                            <a:lnTo>
                              <a:pt x="10" y="265"/>
                            </a:lnTo>
                            <a:lnTo>
                              <a:pt x="11" y="272"/>
                            </a:lnTo>
                            <a:lnTo>
                              <a:pt x="14" y="278"/>
                            </a:lnTo>
                            <a:lnTo>
                              <a:pt x="19" y="284"/>
                            </a:lnTo>
                            <a:lnTo>
                              <a:pt x="25" y="291"/>
                            </a:lnTo>
                            <a:lnTo>
                              <a:pt x="18" y="291"/>
                            </a:lnTo>
                            <a:lnTo>
                              <a:pt x="13" y="291"/>
                            </a:lnTo>
                            <a:lnTo>
                              <a:pt x="6" y="286"/>
                            </a:lnTo>
                            <a:lnTo>
                              <a:pt x="2" y="281"/>
                            </a:lnTo>
                            <a:lnTo>
                              <a:pt x="0" y="274"/>
                            </a:lnTo>
                            <a:lnTo>
                              <a:pt x="0" y="267"/>
                            </a:lnTo>
                            <a:lnTo>
                              <a:pt x="0" y="258"/>
                            </a:lnTo>
                            <a:lnTo>
                              <a:pt x="0" y="251"/>
                            </a:lnTo>
                            <a:lnTo>
                              <a:pt x="0" y="243"/>
                            </a:lnTo>
                            <a:lnTo>
                              <a:pt x="1" y="237"/>
                            </a:lnTo>
                            <a:lnTo>
                              <a:pt x="4" y="228"/>
                            </a:lnTo>
                            <a:lnTo>
                              <a:pt x="10" y="220"/>
                            </a:lnTo>
                            <a:lnTo>
                              <a:pt x="15" y="214"/>
                            </a:lnTo>
                            <a:lnTo>
                              <a:pt x="24" y="209"/>
                            </a:lnTo>
                            <a:lnTo>
                              <a:pt x="30" y="204"/>
                            </a:lnTo>
                            <a:lnTo>
                              <a:pt x="39" y="201"/>
                            </a:lnTo>
                            <a:lnTo>
                              <a:pt x="48" y="199"/>
                            </a:lnTo>
                            <a:lnTo>
                              <a:pt x="57" y="197"/>
                            </a:lnTo>
                            <a:lnTo>
                              <a:pt x="62" y="198"/>
                            </a:lnTo>
                            <a:lnTo>
                              <a:pt x="69" y="201"/>
                            </a:lnTo>
                            <a:lnTo>
                              <a:pt x="75" y="205"/>
                            </a:lnTo>
                            <a:lnTo>
                              <a:pt x="83" y="211"/>
                            </a:lnTo>
                            <a:lnTo>
                              <a:pt x="87" y="215"/>
                            </a:lnTo>
                            <a:lnTo>
                              <a:pt x="93" y="219"/>
                            </a:lnTo>
                            <a:lnTo>
                              <a:pt x="100" y="223"/>
                            </a:lnTo>
                            <a:lnTo>
                              <a:pt x="108" y="226"/>
                            </a:lnTo>
                            <a:lnTo>
                              <a:pt x="105" y="231"/>
                            </a:lnTo>
                            <a:lnTo>
                              <a:pt x="106" y="236"/>
                            </a:lnTo>
                            <a:lnTo>
                              <a:pt x="108" y="240"/>
                            </a:lnTo>
                            <a:lnTo>
                              <a:pt x="113" y="245"/>
                            </a:lnTo>
                            <a:lnTo>
                              <a:pt x="117" y="247"/>
                            </a:lnTo>
                            <a:lnTo>
                              <a:pt x="123" y="249"/>
                            </a:lnTo>
                            <a:lnTo>
                              <a:pt x="127" y="249"/>
                            </a:lnTo>
                            <a:lnTo>
                              <a:pt x="133" y="248"/>
                            </a:lnTo>
                            <a:lnTo>
                              <a:pt x="132" y="252"/>
                            </a:lnTo>
                            <a:lnTo>
                              <a:pt x="133" y="257"/>
                            </a:lnTo>
                            <a:lnTo>
                              <a:pt x="135" y="262"/>
                            </a:lnTo>
                            <a:lnTo>
                              <a:pt x="138" y="268"/>
                            </a:lnTo>
                            <a:lnTo>
                              <a:pt x="138" y="273"/>
                            </a:lnTo>
                            <a:lnTo>
                              <a:pt x="138" y="277"/>
                            </a:lnTo>
                            <a:lnTo>
                              <a:pt x="134" y="281"/>
                            </a:lnTo>
                            <a:lnTo>
                              <a:pt x="128" y="285"/>
                            </a:lnTo>
                            <a:lnTo>
                              <a:pt x="125" y="289"/>
                            </a:lnTo>
                            <a:lnTo>
                              <a:pt x="124" y="296"/>
                            </a:lnTo>
                            <a:lnTo>
                              <a:pt x="124" y="303"/>
                            </a:lnTo>
                            <a:lnTo>
                              <a:pt x="124" y="308"/>
                            </a:lnTo>
                            <a:lnTo>
                              <a:pt x="128" y="303"/>
                            </a:lnTo>
                            <a:lnTo>
                              <a:pt x="137" y="304"/>
                            </a:lnTo>
                            <a:lnTo>
                              <a:pt x="140" y="304"/>
                            </a:lnTo>
                            <a:lnTo>
                              <a:pt x="143" y="304"/>
                            </a:lnTo>
                            <a:lnTo>
                              <a:pt x="145" y="302"/>
                            </a:lnTo>
                            <a:lnTo>
                              <a:pt x="147" y="298"/>
                            </a:lnTo>
                            <a:lnTo>
                              <a:pt x="143" y="297"/>
                            </a:lnTo>
                            <a:lnTo>
                              <a:pt x="138" y="297"/>
                            </a:lnTo>
                            <a:lnTo>
                              <a:pt x="132" y="297"/>
                            </a:lnTo>
                            <a:lnTo>
                              <a:pt x="129" y="297"/>
                            </a:lnTo>
                            <a:lnTo>
                              <a:pt x="129" y="290"/>
                            </a:lnTo>
                            <a:lnTo>
                              <a:pt x="133" y="285"/>
                            </a:lnTo>
                            <a:lnTo>
                              <a:pt x="138" y="281"/>
                            </a:lnTo>
                            <a:lnTo>
                              <a:pt x="143" y="281"/>
                            </a:lnTo>
                            <a:lnTo>
                              <a:pt x="149" y="282"/>
                            </a:lnTo>
                            <a:lnTo>
                              <a:pt x="155" y="285"/>
                            </a:lnTo>
                            <a:lnTo>
                              <a:pt x="160" y="289"/>
                            </a:lnTo>
                            <a:lnTo>
                              <a:pt x="164" y="295"/>
                            </a:lnTo>
                            <a:lnTo>
                              <a:pt x="168" y="293"/>
                            </a:lnTo>
                            <a:lnTo>
                              <a:pt x="171" y="291"/>
                            </a:lnTo>
                            <a:lnTo>
                              <a:pt x="171" y="288"/>
                            </a:lnTo>
                            <a:lnTo>
                              <a:pt x="170" y="286"/>
                            </a:lnTo>
                            <a:lnTo>
                              <a:pt x="164" y="281"/>
                            </a:lnTo>
                            <a:lnTo>
                              <a:pt x="160" y="282"/>
                            </a:lnTo>
                            <a:lnTo>
                              <a:pt x="157" y="276"/>
                            </a:lnTo>
                            <a:lnTo>
                              <a:pt x="158" y="273"/>
                            </a:lnTo>
                            <a:lnTo>
                              <a:pt x="161" y="270"/>
                            </a:lnTo>
                            <a:lnTo>
                              <a:pt x="164" y="269"/>
                            </a:lnTo>
                            <a:lnTo>
                              <a:pt x="168" y="267"/>
                            </a:lnTo>
                            <a:lnTo>
                              <a:pt x="171" y="265"/>
                            </a:lnTo>
                            <a:lnTo>
                              <a:pt x="173" y="262"/>
                            </a:lnTo>
                            <a:lnTo>
                              <a:pt x="173" y="258"/>
                            </a:lnTo>
                            <a:lnTo>
                              <a:pt x="170" y="258"/>
                            </a:lnTo>
                            <a:lnTo>
                              <a:pt x="166" y="260"/>
                            </a:lnTo>
                            <a:lnTo>
                              <a:pt x="162" y="262"/>
                            </a:lnTo>
                            <a:lnTo>
                              <a:pt x="158" y="263"/>
                            </a:lnTo>
                            <a:lnTo>
                              <a:pt x="158" y="258"/>
                            </a:lnTo>
                            <a:lnTo>
                              <a:pt x="161" y="255"/>
                            </a:lnTo>
                            <a:lnTo>
                              <a:pt x="163" y="251"/>
                            </a:lnTo>
                            <a:lnTo>
                              <a:pt x="166" y="249"/>
                            </a:lnTo>
                            <a:lnTo>
                              <a:pt x="158" y="244"/>
                            </a:lnTo>
                            <a:lnTo>
                              <a:pt x="152" y="237"/>
                            </a:lnTo>
                            <a:lnTo>
                              <a:pt x="145" y="229"/>
                            </a:lnTo>
                            <a:lnTo>
                              <a:pt x="139" y="223"/>
                            </a:lnTo>
                            <a:lnTo>
                              <a:pt x="141" y="218"/>
                            </a:lnTo>
                            <a:lnTo>
                              <a:pt x="145" y="216"/>
                            </a:lnTo>
                            <a:lnTo>
                              <a:pt x="150" y="215"/>
                            </a:lnTo>
                            <a:lnTo>
                              <a:pt x="155" y="216"/>
                            </a:lnTo>
                            <a:lnTo>
                              <a:pt x="159" y="217"/>
                            </a:lnTo>
                            <a:lnTo>
                              <a:pt x="162" y="220"/>
                            </a:lnTo>
                            <a:lnTo>
                              <a:pt x="163" y="224"/>
                            </a:lnTo>
                            <a:lnTo>
                              <a:pt x="163" y="231"/>
                            </a:lnTo>
                            <a:lnTo>
                              <a:pt x="166" y="230"/>
                            </a:lnTo>
                            <a:lnTo>
                              <a:pt x="171" y="229"/>
                            </a:lnTo>
                            <a:lnTo>
                              <a:pt x="176" y="228"/>
                            </a:lnTo>
                            <a:lnTo>
                              <a:pt x="180" y="228"/>
                            </a:lnTo>
                            <a:lnTo>
                              <a:pt x="173" y="219"/>
                            </a:lnTo>
                            <a:lnTo>
                              <a:pt x="174" y="210"/>
                            </a:lnTo>
                            <a:lnTo>
                              <a:pt x="178" y="200"/>
                            </a:lnTo>
                            <a:lnTo>
                              <a:pt x="185" y="194"/>
                            </a:lnTo>
                            <a:lnTo>
                              <a:pt x="189" y="190"/>
                            </a:lnTo>
                            <a:lnTo>
                              <a:pt x="194" y="187"/>
                            </a:lnTo>
                            <a:lnTo>
                              <a:pt x="191" y="193"/>
                            </a:lnTo>
                            <a:lnTo>
                              <a:pt x="191" y="200"/>
                            </a:lnTo>
                            <a:lnTo>
                              <a:pt x="191" y="208"/>
                            </a:lnTo>
                            <a:lnTo>
                              <a:pt x="192" y="216"/>
                            </a:lnTo>
                            <a:lnTo>
                              <a:pt x="192" y="222"/>
                            </a:lnTo>
                            <a:lnTo>
                              <a:pt x="192" y="229"/>
                            </a:lnTo>
                            <a:lnTo>
                              <a:pt x="189" y="236"/>
                            </a:lnTo>
                            <a:lnTo>
                              <a:pt x="186" y="242"/>
                            </a:lnTo>
                            <a:lnTo>
                              <a:pt x="185" y="245"/>
                            </a:lnTo>
                            <a:lnTo>
                              <a:pt x="187" y="250"/>
                            </a:lnTo>
                            <a:lnTo>
                              <a:pt x="189" y="255"/>
                            </a:lnTo>
                            <a:lnTo>
                              <a:pt x="192" y="258"/>
                            </a:lnTo>
                            <a:lnTo>
                              <a:pt x="189" y="249"/>
                            </a:lnTo>
                            <a:lnTo>
                              <a:pt x="195" y="244"/>
                            </a:lnTo>
                            <a:lnTo>
                              <a:pt x="198" y="243"/>
                            </a:lnTo>
                            <a:lnTo>
                              <a:pt x="201" y="245"/>
                            </a:lnTo>
                            <a:lnTo>
                              <a:pt x="204" y="247"/>
                            </a:lnTo>
                            <a:lnTo>
                              <a:pt x="203" y="244"/>
                            </a:lnTo>
                            <a:lnTo>
                              <a:pt x="202" y="239"/>
                            </a:lnTo>
                            <a:lnTo>
                              <a:pt x="204" y="235"/>
                            </a:lnTo>
                            <a:lnTo>
                              <a:pt x="204" y="230"/>
                            </a:lnTo>
                            <a:lnTo>
                              <a:pt x="207" y="229"/>
                            </a:lnTo>
                            <a:lnTo>
                              <a:pt x="209" y="230"/>
                            </a:lnTo>
                            <a:lnTo>
                              <a:pt x="214" y="237"/>
                            </a:lnTo>
                            <a:lnTo>
                              <a:pt x="215" y="231"/>
                            </a:lnTo>
                            <a:lnTo>
                              <a:pt x="216" y="225"/>
                            </a:lnTo>
                            <a:lnTo>
                              <a:pt x="215" y="219"/>
                            </a:lnTo>
                            <a:lnTo>
                              <a:pt x="214" y="215"/>
                            </a:lnTo>
                            <a:lnTo>
                              <a:pt x="211" y="209"/>
                            </a:lnTo>
                            <a:lnTo>
                              <a:pt x="210" y="204"/>
                            </a:lnTo>
                            <a:lnTo>
                              <a:pt x="209" y="199"/>
                            </a:lnTo>
                            <a:lnTo>
                              <a:pt x="211" y="194"/>
                            </a:lnTo>
                            <a:lnTo>
                              <a:pt x="206" y="189"/>
                            </a:lnTo>
                            <a:lnTo>
                              <a:pt x="201" y="184"/>
                            </a:lnTo>
                            <a:lnTo>
                              <a:pt x="196" y="180"/>
                            </a:lnTo>
                            <a:lnTo>
                              <a:pt x="194" y="177"/>
                            </a:lnTo>
                            <a:lnTo>
                              <a:pt x="198" y="173"/>
                            </a:lnTo>
                            <a:lnTo>
                              <a:pt x="204" y="169"/>
                            </a:lnTo>
                            <a:lnTo>
                              <a:pt x="209" y="171"/>
                            </a:lnTo>
                            <a:lnTo>
                              <a:pt x="214" y="176"/>
                            </a:lnTo>
                            <a:lnTo>
                              <a:pt x="217" y="181"/>
                            </a:lnTo>
                            <a:lnTo>
                              <a:pt x="220" y="187"/>
                            </a:lnTo>
                            <a:lnTo>
                              <a:pt x="222" y="193"/>
                            </a:lnTo>
                            <a:lnTo>
                              <a:pt x="225" y="199"/>
                            </a:lnTo>
                            <a:lnTo>
                              <a:pt x="227" y="206"/>
                            </a:lnTo>
                            <a:lnTo>
                              <a:pt x="231" y="213"/>
                            </a:lnTo>
                            <a:lnTo>
                              <a:pt x="233" y="208"/>
                            </a:lnTo>
                            <a:lnTo>
                              <a:pt x="238" y="203"/>
                            </a:lnTo>
                            <a:lnTo>
                              <a:pt x="242" y="198"/>
                            </a:lnTo>
                            <a:lnTo>
                              <a:pt x="246" y="195"/>
                            </a:lnTo>
                            <a:lnTo>
                              <a:pt x="247" y="197"/>
                            </a:lnTo>
                            <a:lnTo>
                              <a:pt x="250" y="201"/>
                            </a:lnTo>
                            <a:lnTo>
                              <a:pt x="253" y="205"/>
                            </a:lnTo>
                            <a:lnTo>
                              <a:pt x="256" y="208"/>
                            </a:lnTo>
                            <a:lnTo>
                              <a:pt x="256" y="203"/>
                            </a:lnTo>
                            <a:lnTo>
                              <a:pt x="257" y="197"/>
                            </a:lnTo>
                            <a:lnTo>
                              <a:pt x="257" y="189"/>
                            </a:lnTo>
                            <a:lnTo>
                              <a:pt x="258" y="184"/>
                            </a:lnTo>
                            <a:lnTo>
                              <a:pt x="254" y="183"/>
                            </a:lnTo>
                            <a:lnTo>
                              <a:pt x="249" y="183"/>
                            </a:lnTo>
                            <a:lnTo>
                              <a:pt x="243" y="183"/>
                            </a:lnTo>
                            <a:lnTo>
                              <a:pt x="239" y="184"/>
                            </a:lnTo>
                            <a:lnTo>
                              <a:pt x="235" y="180"/>
                            </a:lnTo>
                            <a:lnTo>
                              <a:pt x="231" y="176"/>
                            </a:lnTo>
                            <a:lnTo>
                              <a:pt x="238" y="171"/>
                            </a:lnTo>
                            <a:lnTo>
                              <a:pt x="245" y="166"/>
                            </a:lnTo>
                            <a:lnTo>
                              <a:pt x="252" y="160"/>
                            </a:lnTo>
                            <a:lnTo>
                              <a:pt x="259" y="156"/>
                            </a:lnTo>
                            <a:lnTo>
                              <a:pt x="258" y="158"/>
                            </a:lnTo>
                            <a:lnTo>
                              <a:pt x="257" y="162"/>
                            </a:lnTo>
                            <a:lnTo>
                              <a:pt x="255" y="166"/>
                            </a:lnTo>
                            <a:lnTo>
                              <a:pt x="253" y="169"/>
                            </a:lnTo>
                            <a:lnTo>
                              <a:pt x="257" y="167"/>
                            </a:lnTo>
                            <a:lnTo>
                              <a:pt x="261" y="168"/>
                            </a:lnTo>
                            <a:lnTo>
                              <a:pt x="264" y="171"/>
                            </a:lnTo>
                            <a:lnTo>
                              <a:pt x="267" y="176"/>
                            </a:lnTo>
                            <a:lnTo>
                              <a:pt x="270" y="179"/>
                            </a:lnTo>
                            <a:lnTo>
                              <a:pt x="273" y="181"/>
                            </a:lnTo>
                            <a:lnTo>
                              <a:pt x="276" y="181"/>
                            </a:lnTo>
                            <a:lnTo>
                              <a:pt x="283" y="180"/>
                            </a:lnTo>
                            <a:lnTo>
                              <a:pt x="286" y="179"/>
                            </a:lnTo>
                            <a:lnTo>
                              <a:pt x="292" y="179"/>
                            </a:lnTo>
                            <a:lnTo>
                              <a:pt x="297" y="179"/>
                            </a:lnTo>
                            <a:lnTo>
                              <a:pt x="302" y="180"/>
                            </a:lnTo>
                            <a:lnTo>
                              <a:pt x="299" y="172"/>
                            </a:lnTo>
                            <a:lnTo>
                              <a:pt x="300" y="166"/>
                            </a:lnTo>
                            <a:lnTo>
                              <a:pt x="302" y="161"/>
                            </a:lnTo>
                            <a:lnTo>
                              <a:pt x="305" y="158"/>
                            </a:lnTo>
                            <a:lnTo>
                              <a:pt x="312" y="150"/>
                            </a:lnTo>
                            <a:lnTo>
                              <a:pt x="310" y="145"/>
                            </a:lnTo>
                            <a:lnTo>
                              <a:pt x="306" y="145"/>
                            </a:lnTo>
                            <a:lnTo>
                              <a:pt x="303" y="142"/>
                            </a:lnTo>
                            <a:lnTo>
                              <a:pt x="302" y="137"/>
                            </a:lnTo>
                            <a:lnTo>
                              <a:pt x="301" y="131"/>
                            </a:lnTo>
                            <a:lnTo>
                              <a:pt x="303" y="128"/>
                            </a:lnTo>
                            <a:lnTo>
                              <a:pt x="307" y="126"/>
                            </a:lnTo>
                            <a:lnTo>
                              <a:pt x="314" y="129"/>
                            </a:lnTo>
                            <a:lnTo>
                              <a:pt x="314" y="137"/>
                            </a:lnTo>
                            <a:lnTo>
                              <a:pt x="321" y="139"/>
                            </a:lnTo>
                            <a:lnTo>
                              <a:pt x="327" y="134"/>
                            </a:lnTo>
                            <a:lnTo>
                              <a:pt x="330" y="127"/>
                            </a:lnTo>
                            <a:lnTo>
                              <a:pt x="333" y="122"/>
                            </a:lnTo>
                            <a:lnTo>
                              <a:pt x="333" y="114"/>
                            </a:lnTo>
                            <a:lnTo>
                              <a:pt x="334" y="107"/>
                            </a:lnTo>
                            <a:lnTo>
                              <a:pt x="336" y="100"/>
                            </a:lnTo>
                            <a:lnTo>
                              <a:pt x="339" y="94"/>
                            </a:lnTo>
                            <a:lnTo>
                              <a:pt x="344" y="88"/>
                            </a:lnTo>
                            <a:lnTo>
                              <a:pt x="348" y="87"/>
                            </a:lnTo>
                            <a:lnTo>
                              <a:pt x="350" y="88"/>
                            </a:lnTo>
                            <a:lnTo>
                              <a:pt x="352" y="93"/>
                            </a:lnTo>
                            <a:lnTo>
                              <a:pt x="352" y="98"/>
                            </a:lnTo>
                            <a:lnTo>
                              <a:pt x="352" y="104"/>
                            </a:lnTo>
                            <a:lnTo>
                              <a:pt x="352" y="108"/>
                            </a:lnTo>
                            <a:lnTo>
                              <a:pt x="352" y="114"/>
                            </a:lnTo>
                            <a:lnTo>
                              <a:pt x="357" y="114"/>
                            </a:lnTo>
                            <a:lnTo>
                              <a:pt x="362" y="114"/>
                            </a:lnTo>
                            <a:lnTo>
                              <a:pt x="360" y="107"/>
                            </a:lnTo>
                            <a:lnTo>
                              <a:pt x="362" y="103"/>
                            </a:lnTo>
                            <a:lnTo>
                              <a:pt x="366" y="99"/>
                            </a:lnTo>
                            <a:lnTo>
                              <a:pt x="372" y="96"/>
                            </a:lnTo>
                            <a:lnTo>
                              <a:pt x="378" y="93"/>
                            </a:lnTo>
                            <a:lnTo>
                              <a:pt x="384" y="90"/>
                            </a:lnTo>
                            <a:lnTo>
                              <a:pt x="389" y="87"/>
                            </a:lnTo>
                            <a:lnTo>
                              <a:pt x="394" y="85"/>
                            </a:lnTo>
                            <a:lnTo>
                              <a:pt x="402" y="83"/>
                            </a:lnTo>
                            <a:lnTo>
                              <a:pt x="410" y="80"/>
                            </a:lnTo>
                            <a:lnTo>
                              <a:pt x="418" y="74"/>
                            </a:lnTo>
                            <a:lnTo>
                              <a:pt x="426" y="69"/>
                            </a:lnTo>
                            <a:lnTo>
                              <a:pt x="419" y="64"/>
                            </a:lnTo>
                            <a:lnTo>
                              <a:pt x="418" y="60"/>
                            </a:lnTo>
                            <a:lnTo>
                              <a:pt x="421" y="57"/>
                            </a:lnTo>
                            <a:lnTo>
                              <a:pt x="427" y="54"/>
                            </a:lnTo>
                            <a:lnTo>
                              <a:pt x="432" y="50"/>
                            </a:lnTo>
                            <a:lnTo>
                              <a:pt x="439" y="47"/>
                            </a:lnTo>
                            <a:lnTo>
                              <a:pt x="445" y="45"/>
                            </a:lnTo>
                            <a:lnTo>
                              <a:pt x="448" y="42"/>
                            </a:lnTo>
                            <a:lnTo>
                              <a:pt x="449" y="44"/>
                            </a:lnTo>
                            <a:lnTo>
                              <a:pt x="452" y="48"/>
                            </a:lnTo>
                            <a:lnTo>
                              <a:pt x="454" y="52"/>
                            </a:lnTo>
                            <a:lnTo>
                              <a:pt x="457" y="55"/>
                            </a:lnTo>
                            <a:lnTo>
                              <a:pt x="459" y="53"/>
                            </a:lnTo>
                            <a:lnTo>
                              <a:pt x="462" y="51"/>
                            </a:lnTo>
                            <a:lnTo>
                              <a:pt x="455" y="47"/>
                            </a:lnTo>
                            <a:lnTo>
                              <a:pt x="453" y="44"/>
                            </a:lnTo>
                            <a:lnTo>
                              <a:pt x="454" y="39"/>
                            </a:lnTo>
                            <a:lnTo>
                              <a:pt x="457" y="34"/>
                            </a:lnTo>
                            <a:lnTo>
                              <a:pt x="463" y="24"/>
                            </a:lnTo>
                            <a:lnTo>
                              <a:pt x="464" y="15"/>
                            </a:lnTo>
                            <a:lnTo>
                              <a:pt x="465" y="11"/>
                            </a:lnTo>
                            <a:lnTo>
                              <a:pt x="466" y="8"/>
                            </a:lnTo>
                            <a:lnTo>
                              <a:pt x="468" y="4"/>
                            </a:lnTo>
                            <a:lnTo>
                              <a:pt x="470" y="3"/>
                            </a:lnTo>
                            <a:lnTo>
                              <a:pt x="470" y="3"/>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rot="19453200">
                        <a:off x="5512680" y="3058200"/>
                        <a:ext cx="21240" cy="18360"/>
                      </a:xfrm>
                      <a:custGeom>
                        <a:avLst/>
                        <a:gdLst/>
                        <a:ahLst/>
                        <a:rect l="l" t="t" r="r" b="b"/>
                        <a:pathLst>
                          <a:path w="27" h="21">
                            <a:moveTo>
                              <a:pt x="27" y="1"/>
                            </a:moveTo>
                            <a:lnTo>
                              <a:pt x="19" y="2"/>
                            </a:lnTo>
                            <a:lnTo>
                              <a:pt x="12" y="3"/>
                            </a:lnTo>
                            <a:lnTo>
                              <a:pt x="6" y="1"/>
                            </a:lnTo>
                            <a:lnTo>
                              <a:pt x="0" y="0"/>
                            </a:lnTo>
                            <a:lnTo>
                              <a:pt x="2" y="3"/>
                            </a:lnTo>
                            <a:lnTo>
                              <a:pt x="5" y="10"/>
                            </a:lnTo>
                            <a:lnTo>
                              <a:pt x="6" y="16"/>
                            </a:lnTo>
                            <a:lnTo>
                              <a:pt x="8" y="21"/>
                            </a:lnTo>
                            <a:lnTo>
                              <a:pt x="15" y="20"/>
                            </a:lnTo>
                            <a:lnTo>
                              <a:pt x="20" y="16"/>
                            </a:lnTo>
                            <a:lnTo>
                              <a:pt x="23" y="8"/>
                            </a:lnTo>
                            <a:lnTo>
                              <a:pt x="27" y="1"/>
                            </a:lnTo>
                            <a:lnTo>
                              <a:pt x="27" y="1"/>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304" name=""/>
                      <p:cNvSpPr/>
                      <p:nvPr/>
                    </p:nvSpPr>
                    <p:spPr>
                      <a:xfrm rot="19453200">
                        <a:off x="5562360" y="2902320"/>
                        <a:ext cx="9360" cy="10440"/>
                      </a:xfrm>
                      <a:custGeom>
                        <a:avLst/>
                        <a:gdLst/>
                        <a:ahLst/>
                        <a:rect l="l" t="t" r="r" b="b"/>
                        <a:pathLst>
                          <a:path w="12" h="12">
                            <a:moveTo>
                              <a:pt x="3" y="0"/>
                            </a:moveTo>
                            <a:lnTo>
                              <a:pt x="8" y="3"/>
                            </a:lnTo>
                            <a:lnTo>
                              <a:pt x="12" y="10"/>
                            </a:lnTo>
                            <a:lnTo>
                              <a:pt x="12" y="11"/>
                            </a:lnTo>
                            <a:lnTo>
                              <a:pt x="11" y="12"/>
                            </a:lnTo>
                            <a:lnTo>
                              <a:pt x="7" y="11"/>
                            </a:lnTo>
                            <a:lnTo>
                              <a:pt x="0" y="8"/>
                            </a:lnTo>
                            <a:lnTo>
                              <a:pt x="1" y="2"/>
                            </a:lnTo>
                            <a:lnTo>
                              <a:pt x="3" y="0"/>
                            </a:lnTo>
                            <a:lnTo>
                              <a:pt x="3"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05" name=""/>
                      <p:cNvSpPr/>
                      <p:nvPr/>
                    </p:nvSpPr>
                    <p:spPr>
                      <a:xfrm rot="19453200">
                        <a:off x="5603400" y="2892600"/>
                        <a:ext cx="19800" cy="46800"/>
                      </a:xfrm>
                      <a:custGeom>
                        <a:avLst/>
                        <a:gdLst/>
                        <a:ahLst/>
                        <a:rect l="l" t="t" r="r" b="b"/>
                        <a:pathLst>
                          <a:path w="25" h="53">
                            <a:moveTo>
                              <a:pt x="13" y="0"/>
                            </a:moveTo>
                            <a:lnTo>
                              <a:pt x="18" y="3"/>
                            </a:lnTo>
                            <a:lnTo>
                              <a:pt x="23" y="10"/>
                            </a:lnTo>
                            <a:lnTo>
                              <a:pt x="24" y="16"/>
                            </a:lnTo>
                            <a:lnTo>
                              <a:pt x="25" y="25"/>
                            </a:lnTo>
                            <a:lnTo>
                              <a:pt x="22" y="33"/>
                            </a:lnTo>
                            <a:lnTo>
                              <a:pt x="20" y="40"/>
                            </a:lnTo>
                            <a:lnTo>
                              <a:pt x="15" y="47"/>
                            </a:lnTo>
                            <a:lnTo>
                              <a:pt x="12" y="53"/>
                            </a:lnTo>
                            <a:lnTo>
                              <a:pt x="9" y="50"/>
                            </a:lnTo>
                            <a:lnTo>
                              <a:pt x="5" y="48"/>
                            </a:lnTo>
                            <a:lnTo>
                              <a:pt x="1" y="45"/>
                            </a:lnTo>
                            <a:lnTo>
                              <a:pt x="0" y="44"/>
                            </a:lnTo>
                            <a:lnTo>
                              <a:pt x="6" y="41"/>
                            </a:lnTo>
                            <a:lnTo>
                              <a:pt x="9" y="37"/>
                            </a:lnTo>
                            <a:lnTo>
                              <a:pt x="9" y="31"/>
                            </a:lnTo>
                            <a:lnTo>
                              <a:pt x="9" y="25"/>
                            </a:lnTo>
                            <a:lnTo>
                              <a:pt x="7" y="17"/>
                            </a:lnTo>
                            <a:lnTo>
                              <a:pt x="8" y="11"/>
                            </a:lnTo>
                            <a:lnTo>
                              <a:pt x="9" y="4"/>
                            </a:lnTo>
                            <a:lnTo>
                              <a:pt x="13" y="0"/>
                            </a:lnTo>
                            <a:lnTo>
                              <a:pt x="13"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306" name=""/>
                      <p:cNvSpPr/>
                      <p:nvPr/>
                    </p:nvSpPr>
                    <p:spPr>
                      <a:xfrm rot="19453200">
                        <a:off x="5553720" y="2937240"/>
                        <a:ext cx="29520" cy="27000"/>
                      </a:xfrm>
                      <a:custGeom>
                        <a:avLst/>
                        <a:gdLst/>
                        <a:ahLst/>
                        <a:rect l="l" t="t" r="r" b="b"/>
                        <a:pathLst>
                          <a:path w="37" h="31">
                            <a:moveTo>
                              <a:pt x="18" y="0"/>
                            </a:moveTo>
                            <a:lnTo>
                              <a:pt x="18" y="1"/>
                            </a:lnTo>
                            <a:lnTo>
                              <a:pt x="19" y="5"/>
                            </a:lnTo>
                            <a:lnTo>
                              <a:pt x="19" y="10"/>
                            </a:lnTo>
                            <a:lnTo>
                              <a:pt x="21" y="15"/>
                            </a:lnTo>
                            <a:lnTo>
                              <a:pt x="23" y="12"/>
                            </a:lnTo>
                            <a:lnTo>
                              <a:pt x="28" y="8"/>
                            </a:lnTo>
                            <a:lnTo>
                              <a:pt x="32" y="4"/>
                            </a:lnTo>
                            <a:lnTo>
                              <a:pt x="34" y="3"/>
                            </a:lnTo>
                            <a:lnTo>
                              <a:pt x="35" y="9"/>
                            </a:lnTo>
                            <a:lnTo>
                              <a:pt x="37" y="16"/>
                            </a:lnTo>
                            <a:lnTo>
                              <a:pt x="35" y="22"/>
                            </a:lnTo>
                            <a:lnTo>
                              <a:pt x="33" y="26"/>
                            </a:lnTo>
                            <a:lnTo>
                              <a:pt x="27" y="29"/>
                            </a:lnTo>
                            <a:lnTo>
                              <a:pt x="22" y="31"/>
                            </a:lnTo>
                            <a:lnTo>
                              <a:pt x="15" y="30"/>
                            </a:lnTo>
                            <a:lnTo>
                              <a:pt x="9" y="29"/>
                            </a:lnTo>
                            <a:lnTo>
                              <a:pt x="3" y="25"/>
                            </a:lnTo>
                            <a:lnTo>
                              <a:pt x="0" y="22"/>
                            </a:lnTo>
                            <a:lnTo>
                              <a:pt x="4" y="22"/>
                            </a:lnTo>
                            <a:lnTo>
                              <a:pt x="8" y="21"/>
                            </a:lnTo>
                            <a:lnTo>
                              <a:pt x="9" y="17"/>
                            </a:lnTo>
                            <a:lnTo>
                              <a:pt x="10" y="13"/>
                            </a:lnTo>
                            <a:lnTo>
                              <a:pt x="10" y="8"/>
                            </a:lnTo>
                            <a:lnTo>
                              <a:pt x="11" y="3"/>
                            </a:lnTo>
                            <a:lnTo>
                              <a:pt x="13" y="1"/>
                            </a:lnTo>
                            <a:lnTo>
                              <a:pt x="18" y="0"/>
                            </a:lnTo>
                            <a:lnTo>
                              <a:pt x="18"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07" name=""/>
                      <p:cNvSpPr/>
                      <p:nvPr/>
                    </p:nvSpPr>
                    <p:spPr>
                      <a:xfrm rot="19453200">
                        <a:off x="5537520" y="2967840"/>
                        <a:ext cx="6840" cy="15840"/>
                      </a:xfrm>
                      <a:custGeom>
                        <a:avLst/>
                        <a:gdLst/>
                        <a:ahLst/>
                        <a:rect l="l" t="t" r="r" b="b"/>
                        <a:pathLst>
                          <a:path w="9" h="18">
                            <a:moveTo>
                              <a:pt x="5" y="0"/>
                            </a:moveTo>
                            <a:lnTo>
                              <a:pt x="8" y="6"/>
                            </a:lnTo>
                            <a:lnTo>
                              <a:pt x="9" y="11"/>
                            </a:lnTo>
                            <a:lnTo>
                              <a:pt x="7" y="15"/>
                            </a:lnTo>
                            <a:lnTo>
                              <a:pt x="5" y="18"/>
                            </a:lnTo>
                            <a:lnTo>
                              <a:pt x="2" y="18"/>
                            </a:lnTo>
                            <a:lnTo>
                              <a:pt x="0" y="16"/>
                            </a:lnTo>
                            <a:lnTo>
                              <a:pt x="0" y="12"/>
                            </a:lnTo>
                            <a:lnTo>
                              <a:pt x="4" y="7"/>
                            </a:lnTo>
                            <a:lnTo>
                              <a:pt x="4" y="3"/>
                            </a:lnTo>
                            <a:lnTo>
                              <a:pt x="5" y="0"/>
                            </a:lnTo>
                            <a:lnTo>
                              <a:pt x="5"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08" name=""/>
                      <p:cNvSpPr/>
                      <p:nvPr/>
                    </p:nvSpPr>
                    <p:spPr>
                      <a:xfrm rot="19453200">
                        <a:off x="5509800" y="2989440"/>
                        <a:ext cx="6480" cy="12960"/>
                      </a:xfrm>
                      <a:custGeom>
                        <a:avLst/>
                        <a:gdLst/>
                        <a:ahLst/>
                        <a:rect l="l" t="t" r="r" b="b"/>
                        <a:pathLst>
                          <a:path w="8" h="15">
                            <a:moveTo>
                              <a:pt x="3" y="0"/>
                            </a:moveTo>
                            <a:lnTo>
                              <a:pt x="6" y="0"/>
                            </a:lnTo>
                            <a:lnTo>
                              <a:pt x="8" y="3"/>
                            </a:lnTo>
                            <a:lnTo>
                              <a:pt x="7" y="8"/>
                            </a:lnTo>
                            <a:lnTo>
                              <a:pt x="7" y="12"/>
                            </a:lnTo>
                            <a:lnTo>
                              <a:pt x="5" y="14"/>
                            </a:lnTo>
                            <a:lnTo>
                              <a:pt x="3" y="15"/>
                            </a:lnTo>
                            <a:lnTo>
                              <a:pt x="0" y="12"/>
                            </a:lnTo>
                            <a:lnTo>
                              <a:pt x="0" y="6"/>
                            </a:lnTo>
                            <a:lnTo>
                              <a:pt x="1" y="2"/>
                            </a:lnTo>
                            <a:lnTo>
                              <a:pt x="3" y="0"/>
                            </a:lnTo>
                            <a:lnTo>
                              <a:pt x="3" y="0"/>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09" name=""/>
                      <p:cNvSpPr/>
                      <p:nvPr/>
                    </p:nvSpPr>
                    <p:spPr>
                      <a:xfrm rot="19453200">
                        <a:off x="5500440" y="3010320"/>
                        <a:ext cx="4680" cy="14040"/>
                      </a:xfrm>
                      <a:custGeom>
                        <a:avLst/>
                        <a:gdLst/>
                        <a:ahLst/>
                        <a:rect l="l" t="t" r="r" b="b"/>
                        <a:pathLst>
                          <a:path w="6" h="16">
                            <a:moveTo>
                              <a:pt x="1" y="0"/>
                            </a:moveTo>
                            <a:lnTo>
                              <a:pt x="4" y="0"/>
                            </a:lnTo>
                            <a:lnTo>
                              <a:pt x="6" y="3"/>
                            </a:lnTo>
                            <a:lnTo>
                              <a:pt x="5" y="7"/>
                            </a:lnTo>
                            <a:lnTo>
                              <a:pt x="5" y="12"/>
                            </a:lnTo>
                            <a:lnTo>
                              <a:pt x="3" y="15"/>
                            </a:lnTo>
                            <a:lnTo>
                              <a:pt x="1" y="16"/>
                            </a:lnTo>
                            <a:lnTo>
                              <a:pt x="0" y="13"/>
                            </a:lnTo>
                            <a:lnTo>
                              <a:pt x="0" y="6"/>
                            </a:lnTo>
                            <a:lnTo>
                              <a:pt x="0" y="2"/>
                            </a:lnTo>
                            <a:lnTo>
                              <a:pt x="1" y="0"/>
                            </a:lnTo>
                            <a:lnTo>
                              <a:pt x="1" y="0"/>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10" name=""/>
                      <p:cNvSpPr/>
                      <p:nvPr/>
                    </p:nvSpPr>
                    <p:spPr>
                      <a:xfrm rot="19453200">
                        <a:off x="5635080" y="2939400"/>
                        <a:ext cx="28440" cy="34200"/>
                      </a:xfrm>
                      <a:custGeom>
                        <a:avLst/>
                        <a:gdLst/>
                        <a:ahLst/>
                        <a:rect l="l" t="t" r="r" b="b"/>
                        <a:pathLst>
                          <a:path w="36" h="39">
                            <a:moveTo>
                              <a:pt x="0" y="0"/>
                            </a:moveTo>
                            <a:lnTo>
                              <a:pt x="4" y="5"/>
                            </a:lnTo>
                            <a:lnTo>
                              <a:pt x="9" y="9"/>
                            </a:lnTo>
                            <a:lnTo>
                              <a:pt x="14" y="13"/>
                            </a:lnTo>
                            <a:lnTo>
                              <a:pt x="21" y="18"/>
                            </a:lnTo>
                            <a:lnTo>
                              <a:pt x="25" y="22"/>
                            </a:lnTo>
                            <a:lnTo>
                              <a:pt x="30" y="26"/>
                            </a:lnTo>
                            <a:lnTo>
                              <a:pt x="33" y="32"/>
                            </a:lnTo>
                            <a:lnTo>
                              <a:pt x="36" y="39"/>
                            </a:lnTo>
                            <a:lnTo>
                              <a:pt x="31" y="33"/>
                            </a:lnTo>
                            <a:lnTo>
                              <a:pt x="25" y="29"/>
                            </a:lnTo>
                            <a:lnTo>
                              <a:pt x="18" y="25"/>
                            </a:lnTo>
                            <a:lnTo>
                              <a:pt x="13" y="22"/>
                            </a:lnTo>
                            <a:lnTo>
                              <a:pt x="7" y="17"/>
                            </a:lnTo>
                            <a:lnTo>
                              <a:pt x="3" y="13"/>
                            </a:lnTo>
                            <a:lnTo>
                              <a:pt x="0" y="6"/>
                            </a:lnTo>
                            <a:lnTo>
                              <a:pt x="0" y="0"/>
                            </a:lnTo>
                            <a:lnTo>
                              <a:pt x="0"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311" name=""/>
                      <p:cNvSpPr/>
                      <p:nvPr/>
                    </p:nvSpPr>
                    <p:spPr>
                      <a:xfrm rot="19453200">
                        <a:off x="5769000" y="2850480"/>
                        <a:ext cx="3240" cy="2520"/>
                      </a:xfrm>
                      <a:custGeom>
                        <a:avLst/>
                        <a:gdLst/>
                        <a:ahLst/>
                        <a:rect l="l" t="t" r="r" b="b"/>
                        <a:pathLst>
                          <a:path w="4" h="3">
                            <a:moveTo>
                              <a:pt x="2" y="0"/>
                            </a:moveTo>
                            <a:lnTo>
                              <a:pt x="4" y="3"/>
                            </a:lnTo>
                            <a:lnTo>
                              <a:pt x="2" y="3"/>
                            </a:lnTo>
                            <a:lnTo>
                              <a:pt x="0" y="1"/>
                            </a:lnTo>
                            <a:lnTo>
                              <a:pt x="2" y="0"/>
                            </a:lnTo>
                            <a:lnTo>
                              <a:pt x="2"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12" name=""/>
                      <p:cNvSpPr/>
                      <p:nvPr/>
                    </p:nvSpPr>
                    <p:spPr>
                      <a:xfrm rot="19453200">
                        <a:off x="5539680" y="3017520"/>
                        <a:ext cx="5400" cy="12960"/>
                      </a:xfrm>
                      <a:custGeom>
                        <a:avLst/>
                        <a:gdLst/>
                        <a:ahLst/>
                        <a:rect l="l" t="t" r="r" b="b"/>
                        <a:pathLst>
                          <a:path w="7" h="15">
                            <a:moveTo>
                              <a:pt x="3" y="0"/>
                            </a:moveTo>
                            <a:lnTo>
                              <a:pt x="5" y="0"/>
                            </a:lnTo>
                            <a:lnTo>
                              <a:pt x="7" y="3"/>
                            </a:lnTo>
                            <a:lnTo>
                              <a:pt x="6" y="7"/>
                            </a:lnTo>
                            <a:lnTo>
                              <a:pt x="6" y="12"/>
                            </a:lnTo>
                            <a:lnTo>
                              <a:pt x="4" y="14"/>
                            </a:lnTo>
                            <a:lnTo>
                              <a:pt x="3" y="15"/>
                            </a:lnTo>
                            <a:lnTo>
                              <a:pt x="0" y="12"/>
                            </a:lnTo>
                            <a:lnTo>
                              <a:pt x="0" y="5"/>
                            </a:lnTo>
                            <a:lnTo>
                              <a:pt x="0" y="2"/>
                            </a:lnTo>
                            <a:lnTo>
                              <a:pt x="3" y="0"/>
                            </a:lnTo>
                            <a:lnTo>
                              <a:pt x="3" y="0"/>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13" name=""/>
                      <p:cNvSpPr/>
                      <p:nvPr/>
                    </p:nvSpPr>
                    <p:spPr>
                      <a:xfrm rot="19453200">
                        <a:off x="5757840" y="2863080"/>
                        <a:ext cx="4680" cy="14040"/>
                      </a:xfrm>
                      <a:custGeom>
                        <a:avLst/>
                        <a:gdLst/>
                        <a:ahLst/>
                        <a:rect l="l" t="t" r="r" b="b"/>
                        <a:pathLst>
                          <a:path w="6" h="16">
                            <a:moveTo>
                              <a:pt x="4" y="0"/>
                            </a:moveTo>
                            <a:lnTo>
                              <a:pt x="5" y="6"/>
                            </a:lnTo>
                            <a:lnTo>
                              <a:pt x="6" y="11"/>
                            </a:lnTo>
                            <a:lnTo>
                              <a:pt x="5" y="14"/>
                            </a:lnTo>
                            <a:lnTo>
                              <a:pt x="4" y="16"/>
                            </a:lnTo>
                            <a:lnTo>
                              <a:pt x="2" y="15"/>
                            </a:lnTo>
                            <a:lnTo>
                              <a:pt x="1" y="13"/>
                            </a:lnTo>
                            <a:lnTo>
                              <a:pt x="0" y="9"/>
                            </a:lnTo>
                            <a:lnTo>
                              <a:pt x="1" y="5"/>
                            </a:lnTo>
                            <a:lnTo>
                              <a:pt x="2" y="2"/>
                            </a:lnTo>
                            <a:lnTo>
                              <a:pt x="4" y="0"/>
                            </a:lnTo>
                            <a:lnTo>
                              <a:pt x="4"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14" name=""/>
                      <p:cNvSpPr/>
                      <p:nvPr/>
                    </p:nvSpPr>
                    <p:spPr>
                      <a:xfrm rot="19453200">
                        <a:off x="5487480" y="3064680"/>
                        <a:ext cx="6480" cy="12240"/>
                      </a:xfrm>
                      <a:custGeom>
                        <a:avLst/>
                        <a:gdLst/>
                        <a:ahLst/>
                        <a:rect l="l" t="t" r="r" b="b"/>
                        <a:pathLst>
                          <a:path w="8" h="14">
                            <a:moveTo>
                              <a:pt x="3" y="0"/>
                            </a:moveTo>
                            <a:lnTo>
                              <a:pt x="6" y="0"/>
                            </a:lnTo>
                            <a:lnTo>
                              <a:pt x="8" y="3"/>
                            </a:lnTo>
                            <a:lnTo>
                              <a:pt x="7" y="7"/>
                            </a:lnTo>
                            <a:lnTo>
                              <a:pt x="7" y="12"/>
                            </a:lnTo>
                            <a:lnTo>
                              <a:pt x="5" y="13"/>
                            </a:lnTo>
                            <a:lnTo>
                              <a:pt x="3" y="14"/>
                            </a:lnTo>
                            <a:lnTo>
                              <a:pt x="0" y="12"/>
                            </a:lnTo>
                            <a:lnTo>
                              <a:pt x="0" y="6"/>
                            </a:lnTo>
                            <a:lnTo>
                              <a:pt x="0" y="2"/>
                            </a:lnTo>
                            <a:lnTo>
                              <a:pt x="3" y="0"/>
                            </a:lnTo>
                            <a:lnTo>
                              <a:pt x="3" y="0"/>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315" name=""/>
                      <p:cNvSpPr/>
                      <p:nvPr/>
                    </p:nvSpPr>
                    <p:spPr>
                      <a:xfrm rot="19453200">
                        <a:off x="5755680" y="2881440"/>
                        <a:ext cx="21240" cy="23760"/>
                      </a:xfrm>
                      <a:custGeom>
                        <a:avLst/>
                        <a:gdLst/>
                        <a:ahLst/>
                        <a:rect l="l" t="t" r="r" b="b"/>
                        <a:pathLst>
                          <a:path w="27" h="27">
                            <a:moveTo>
                              <a:pt x="10" y="0"/>
                            </a:moveTo>
                            <a:lnTo>
                              <a:pt x="15" y="4"/>
                            </a:lnTo>
                            <a:lnTo>
                              <a:pt x="22" y="6"/>
                            </a:lnTo>
                            <a:lnTo>
                              <a:pt x="24" y="6"/>
                            </a:lnTo>
                            <a:lnTo>
                              <a:pt x="27" y="9"/>
                            </a:lnTo>
                            <a:lnTo>
                              <a:pt x="27" y="13"/>
                            </a:lnTo>
                            <a:lnTo>
                              <a:pt x="27" y="21"/>
                            </a:lnTo>
                            <a:lnTo>
                              <a:pt x="21" y="25"/>
                            </a:lnTo>
                            <a:lnTo>
                              <a:pt x="15" y="27"/>
                            </a:lnTo>
                            <a:lnTo>
                              <a:pt x="7" y="27"/>
                            </a:lnTo>
                            <a:lnTo>
                              <a:pt x="0" y="26"/>
                            </a:lnTo>
                            <a:lnTo>
                              <a:pt x="2" y="18"/>
                            </a:lnTo>
                            <a:lnTo>
                              <a:pt x="4" y="12"/>
                            </a:lnTo>
                            <a:lnTo>
                              <a:pt x="5" y="4"/>
                            </a:lnTo>
                            <a:lnTo>
                              <a:pt x="10" y="0"/>
                            </a:lnTo>
                            <a:lnTo>
                              <a:pt x="10"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16" name=""/>
                      <p:cNvSpPr/>
                      <p:nvPr/>
                    </p:nvSpPr>
                    <p:spPr>
                      <a:xfrm rot="19453200">
                        <a:off x="5467680" y="3096720"/>
                        <a:ext cx="26280" cy="28800"/>
                      </a:xfrm>
                      <a:custGeom>
                        <a:avLst/>
                        <a:gdLst/>
                        <a:ahLst/>
                        <a:rect l="l" t="t" r="r" b="b"/>
                        <a:pathLst>
                          <a:path w="33" h="33">
                            <a:moveTo>
                              <a:pt x="15" y="0"/>
                            </a:moveTo>
                            <a:lnTo>
                              <a:pt x="17" y="0"/>
                            </a:lnTo>
                            <a:lnTo>
                              <a:pt x="22" y="1"/>
                            </a:lnTo>
                            <a:lnTo>
                              <a:pt x="27" y="1"/>
                            </a:lnTo>
                            <a:lnTo>
                              <a:pt x="31" y="2"/>
                            </a:lnTo>
                            <a:lnTo>
                              <a:pt x="33" y="8"/>
                            </a:lnTo>
                            <a:lnTo>
                              <a:pt x="33" y="10"/>
                            </a:lnTo>
                            <a:lnTo>
                              <a:pt x="31" y="12"/>
                            </a:lnTo>
                            <a:lnTo>
                              <a:pt x="29" y="13"/>
                            </a:lnTo>
                            <a:lnTo>
                              <a:pt x="22" y="14"/>
                            </a:lnTo>
                            <a:lnTo>
                              <a:pt x="17" y="18"/>
                            </a:lnTo>
                            <a:lnTo>
                              <a:pt x="22" y="25"/>
                            </a:lnTo>
                            <a:lnTo>
                              <a:pt x="18" y="30"/>
                            </a:lnTo>
                            <a:lnTo>
                              <a:pt x="14" y="31"/>
                            </a:lnTo>
                            <a:lnTo>
                              <a:pt x="10" y="32"/>
                            </a:lnTo>
                            <a:lnTo>
                              <a:pt x="6" y="32"/>
                            </a:lnTo>
                            <a:lnTo>
                              <a:pt x="3" y="33"/>
                            </a:lnTo>
                            <a:lnTo>
                              <a:pt x="0" y="23"/>
                            </a:lnTo>
                            <a:lnTo>
                              <a:pt x="3" y="15"/>
                            </a:lnTo>
                            <a:lnTo>
                              <a:pt x="8" y="7"/>
                            </a:lnTo>
                            <a:lnTo>
                              <a:pt x="15" y="0"/>
                            </a:lnTo>
                            <a:lnTo>
                              <a:pt x="15" y="0"/>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317" name=""/>
                      <p:cNvSpPr/>
                      <p:nvPr/>
                    </p:nvSpPr>
                    <p:spPr>
                      <a:xfrm rot="19453200">
                        <a:off x="5748120" y="2903760"/>
                        <a:ext cx="2160" cy="7920"/>
                      </a:xfrm>
                      <a:custGeom>
                        <a:avLst/>
                        <a:gdLst/>
                        <a:ahLst/>
                        <a:rect l="l" t="t" r="r" b="b"/>
                        <a:pathLst>
                          <a:path w="3" h="9">
                            <a:moveTo>
                              <a:pt x="3" y="0"/>
                            </a:moveTo>
                            <a:lnTo>
                              <a:pt x="2" y="7"/>
                            </a:lnTo>
                            <a:lnTo>
                              <a:pt x="1" y="9"/>
                            </a:lnTo>
                            <a:lnTo>
                              <a:pt x="0" y="7"/>
                            </a:lnTo>
                            <a:lnTo>
                              <a:pt x="3" y="0"/>
                            </a:lnTo>
                            <a:lnTo>
                              <a:pt x="3"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18" name=""/>
                      <p:cNvSpPr/>
                      <p:nvPr/>
                    </p:nvSpPr>
                    <p:spPr>
                      <a:xfrm rot="19453200">
                        <a:off x="5747400" y="2927880"/>
                        <a:ext cx="11160" cy="11880"/>
                      </a:xfrm>
                      <a:custGeom>
                        <a:avLst/>
                        <a:gdLst/>
                        <a:ahLst/>
                        <a:rect l="l" t="t" r="r" b="b"/>
                        <a:pathLst>
                          <a:path w="14" h="14">
                            <a:moveTo>
                              <a:pt x="0" y="0"/>
                            </a:moveTo>
                            <a:lnTo>
                              <a:pt x="7" y="1"/>
                            </a:lnTo>
                            <a:lnTo>
                              <a:pt x="14" y="6"/>
                            </a:lnTo>
                            <a:lnTo>
                              <a:pt x="14" y="8"/>
                            </a:lnTo>
                            <a:lnTo>
                              <a:pt x="14" y="11"/>
                            </a:lnTo>
                            <a:lnTo>
                              <a:pt x="10" y="13"/>
                            </a:lnTo>
                            <a:lnTo>
                              <a:pt x="3" y="14"/>
                            </a:lnTo>
                            <a:lnTo>
                              <a:pt x="1" y="9"/>
                            </a:lnTo>
                            <a:lnTo>
                              <a:pt x="1" y="5"/>
                            </a:lnTo>
                            <a:lnTo>
                              <a:pt x="0" y="2"/>
                            </a:lnTo>
                            <a:lnTo>
                              <a:pt x="0" y="0"/>
                            </a:lnTo>
                            <a:lnTo>
                              <a:pt x="0"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319" name=""/>
                      <p:cNvSpPr/>
                      <p:nvPr/>
                    </p:nvSpPr>
                    <p:spPr>
                      <a:xfrm rot="19453200">
                        <a:off x="5485680" y="3182760"/>
                        <a:ext cx="4680" cy="9360"/>
                      </a:xfrm>
                      <a:custGeom>
                        <a:avLst/>
                        <a:gdLst/>
                        <a:ahLst/>
                        <a:rect l="l" t="t" r="r" b="b"/>
                        <a:pathLst>
                          <a:path w="6" h="11">
                            <a:moveTo>
                              <a:pt x="4" y="0"/>
                            </a:moveTo>
                            <a:lnTo>
                              <a:pt x="5" y="4"/>
                            </a:lnTo>
                            <a:lnTo>
                              <a:pt x="6" y="8"/>
                            </a:lnTo>
                            <a:lnTo>
                              <a:pt x="4" y="10"/>
                            </a:lnTo>
                            <a:lnTo>
                              <a:pt x="3" y="11"/>
                            </a:lnTo>
                            <a:lnTo>
                              <a:pt x="0" y="8"/>
                            </a:lnTo>
                            <a:lnTo>
                              <a:pt x="4" y="0"/>
                            </a:lnTo>
                            <a:lnTo>
                              <a:pt x="4"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20" name=""/>
                      <p:cNvSpPr/>
                      <p:nvPr/>
                    </p:nvSpPr>
                    <p:spPr>
                      <a:xfrm rot="19453200">
                        <a:off x="5389200" y="3259440"/>
                        <a:ext cx="3960" cy="3240"/>
                      </a:xfrm>
                      <a:custGeom>
                        <a:avLst/>
                        <a:gdLst/>
                        <a:ahLst/>
                        <a:rect l="l" t="t" r="r" b="b"/>
                        <a:pathLst>
                          <a:path w="5" h="4">
                            <a:moveTo>
                              <a:pt x="2" y="0"/>
                            </a:moveTo>
                            <a:lnTo>
                              <a:pt x="5" y="2"/>
                            </a:lnTo>
                            <a:lnTo>
                              <a:pt x="2" y="4"/>
                            </a:lnTo>
                            <a:lnTo>
                              <a:pt x="0" y="3"/>
                            </a:lnTo>
                            <a:lnTo>
                              <a:pt x="2" y="0"/>
                            </a:lnTo>
                            <a:lnTo>
                              <a:pt x="2"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21" name=""/>
                      <p:cNvSpPr/>
                      <p:nvPr/>
                    </p:nvSpPr>
                    <p:spPr>
                      <a:xfrm rot="19453200">
                        <a:off x="5422680" y="3238560"/>
                        <a:ext cx="6480" cy="12240"/>
                      </a:xfrm>
                      <a:custGeom>
                        <a:avLst/>
                        <a:gdLst/>
                        <a:ahLst/>
                        <a:rect l="l" t="t" r="r" b="b"/>
                        <a:pathLst>
                          <a:path w="8" h="14">
                            <a:moveTo>
                              <a:pt x="3" y="0"/>
                            </a:moveTo>
                            <a:lnTo>
                              <a:pt x="6" y="0"/>
                            </a:lnTo>
                            <a:lnTo>
                              <a:pt x="8" y="3"/>
                            </a:lnTo>
                            <a:lnTo>
                              <a:pt x="7" y="7"/>
                            </a:lnTo>
                            <a:lnTo>
                              <a:pt x="7" y="11"/>
                            </a:lnTo>
                            <a:lnTo>
                              <a:pt x="5" y="13"/>
                            </a:lnTo>
                            <a:lnTo>
                              <a:pt x="3" y="14"/>
                            </a:lnTo>
                            <a:lnTo>
                              <a:pt x="0" y="11"/>
                            </a:lnTo>
                            <a:lnTo>
                              <a:pt x="0" y="6"/>
                            </a:lnTo>
                            <a:lnTo>
                              <a:pt x="0" y="2"/>
                            </a:lnTo>
                            <a:lnTo>
                              <a:pt x="3" y="0"/>
                            </a:lnTo>
                            <a:lnTo>
                              <a:pt x="3" y="0"/>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322" name=""/>
                      <p:cNvSpPr/>
                      <p:nvPr/>
                    </p:nvSpPr>
                    <p:spPr>
                      <a:xfrm rot="19453200">
                        <a:off x="5446080" y="3241080"/>
                        <a:ext cx="6840" cy="23040"/>
                      </a:xfrm>
                      <a:custGeom>
                        <a:avLst/>
                        <a:gdLst/>
                        <a:ahLst/>
                        <a:rect l="l" t="t" r="r" b="b"/>
                        <a:pathLst>
                          <a:path w="9" h="26">
                            <a:moveTo>
                              <a:pt x="2" y="0"/>
                            </a:moveTo>
                            <a:lnTo>
                              <a:pt x="5" y="0"/>
                            </a:lnTo>
                            <a:lnTo>
                              <a:pt x="8" y="5"/>
                            </a:lnTo>
                            <a:lnTo>
                              <a:pt x="9" y="11"/>
                            </a:lnTo>
                            <a:lnTo>
                              <a:pt x="9" y="18"/>
                            </a:lnTo>
                            <a:lnTo>
                              <a:pt x="7" y="23"/>
                            </a:lnTo>
                            <a:lnTo>
                              <a:pt x="5" y="26"/>
                            </a:lnTo>
                            <a:lnTo>
                              <a:pt x="2" y="25"/>
                            </a:lnTo>
                            <a:lnTo>
                              <a:pt x="0" y="19"/>
                            </a:lnTo>
                            <a:lnTo>
                              <a:pt x="0" y="13"/>
                            </a:lnTo>
                            <a:lnTo>
                              <a:pt x="0" y="8"/>
                            </a:lnTo>
                            <a:lnTo>
                              <a:pt x="0" y="2"/>
                            </a:lnTo>
                            <a:lnTo>
                              <a:pt x="2" y="0"/>
                            </a:lnTo>
                            <a:lnTo>
                              <a:pt x="2" y="0"/>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323" name=""/>
                      <p:cNvSpPr/>
                      <p:nvPr/>
                    </p:nvSpPr>
                    <p:spPr>
                      <a:xfrm rot="19453200">
                        <a:off x="5420880" y="3285000"/>
                        <a:ext cx="10080" cy="17640"/>
                      </a:xfrm>
                      <a:custGeom>
                        <a:avLst/>
                        <a:gdLst/>
                        <a:ahLst/>
                        <a:rect l="l" t="t" r="r" b="b"/>
                        <a:pathLst>
                          <a:path w="13" h="20">
                            <a:moveTo>
                              <a:pt x="8" y="0"/>
                            </a:moveTo>
                            <a:lnTo>
                              <a:pt x="11" y="1"/>
                            </a:lnTo>
                            <a:lnTo>
                              <a:pt x="13" y="4"/>
                            </a:lnTo>
                            <a:lnTo>
                              <a:pt x="13" y="8"/>
                            </a:lnTo>
                            <a:lnTo>
                              <a:pt x="12" y="14"/>
                            </a:lnTo>
                            <a:lnTo>
                              <a:pt x="10" y="17"/>
                            </a:lnTo>
                            <a:lnTo>
                              <a:pt x="6" y="20"/>
                            </a:lnTo>
                            <a:lnTo>
                              <a:pt x="2" y="18"/>
                            </a:lnTo>
                            <a:lnTo>
                              <a:pt x="0" y="14"/>
                            </a:lnTo>
                            <a:lnTo>
                              <a:pt x="0" y="9"/>
                            </a:lnTo>
                            <a:lnTo>
                              <a:pt x="2" y="6"/>
                            </a:lnTo>
                            <a:lnTo>
                              <a:pt x="5" y="2"/>
                            </a:lnTo>
                            <a:lnTo>
                              <a:pt x="8" y="0"/>
                            </a:lnTo>
                            <a:lnTo>
                              <a:pt x="8" y="0"/>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24" name=""/>
                      <p:cNvSpPr/>
                      <p:nvPr/>
                    </p:nvSpPr>
                    <p:spPr>
                      <a:xfrm rot="19453200">
                        <a:off x="5402520" y="3313440"/>
                        <a:ext cx="48600" cy="33480"/>
                      </a:xfrm>
                      <a:custGeom>
                        <a:avLst/>
                        <a:gdLst/>
                        <a:ahLst/>
                        <a:rect l="l" t="t" r="r" b="b"/>
                        <a:pathLst>
                          <a:path w="61" h="38">
                            <a:moveTo>
                              <a:pt x="49" y="0"/>
                            </a:moveTo>
                            <a:lnTo>
                              <a:pt x="53" y="0"/>
                            </a:lnTo>
                            <a:lnTo>
                              <a:pt x="57" y="2"/>
                            </a:lnTo>
                            <a:lnTo>
                              <a:pt x="60" y="4"/>
                            </a:lnTo>
                            <a:lnTo>
                              <a:pt x="61" y="8"/>
                            </a:lnTo>
                            <a:lnTo>
                              <a:pt x="61" y="16"/>
                            </a:lnTo>
                            <a:lnTo>
                              <a:pt x="58" y="24"/>
                            </a:lnTo>
                            <a:lnTo>
                              <a:pt x="51" y="31"/>
                            </a:lnTo>
                            <a:lnTo>
                              <a:pt x="46" y="37"/>
                            </a:lnTo>
                            <a:lnTo>
                              <a:pt x="37" y="38"/>
                            </a:lnTo>
                            <a:lnTo>
                              <a:pt x="29" y="37"/>
                            </a:lnTo>
                            <a:lnTo>
                              <a:pt x="20" y="37"/>
                            </a:lnTo>
                            <a:lnTo>
                              <a:pt x="13" y="34"/>
                            </a:lnTo>
                            <a:lnTo>
                              <a:pt x="7" y="29"/>
                            </a:lnTo>
                            <a:lnTo>
                              <a:pt x="0" y="27"/>
                            </a:lnTo>
                            <a:lnTo>
                              <a:pt x="0" y="23"/>
                            </a:lnTo>
                            <a:lnTo>
                              <a:pt x="2" y="19"/>
                            </a:lnTo>
                            <a:lnTo>
                              <a:pt x="5" y="16"/>
                            </a:lnTo>
                            <a:lnTo>
                              <a:pt x="7" y="14"/>
                            </a:lnTo>
                            <a:lnTo>
                              <a:pt x="11" y="19"/>
                            </a:lnTo>
                            <a:lnTo>
                              <a:pt x="16" y="22"/>
                            </a:lnTo>
                            <a:lnTo>
                              <a:pt x="24" y="24"/>
                            </a:lnTo>
                            <a:lnTo>
                              <a:pt x="31" y="25"/>
                            </a:lnTo>
                            <a:lnTo>
                              <a:pt x="37" y="23"/>
                            </a:lnTo>
                            <a:lnTo>
                              <a:pt x="42" y="19"/>
                            </a:lnTo>
                            <a:lnTo>
                              <a:pt x="46" y="14"/>
                            </a:lnTo>
                            <a:lnTo>
                              <a:pt x="47" y="6"/>
                            </a:lnTo>
                            <a:lnTo>
                              <a:pt x="47" y="2"/>
                            </a:lnTo>
                            <a:lnTo>
                              <a:pt x="49" y="0"/>
                            </a:lnTo>
                            <a:lnTo>
                              <a:pt x="49" y="0"/>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25" name=""/>
                      <p:cNvSpPr/>
                      <p:nvPr/>
                    </p:nvSpPr>
                    <p:spPr>
                      <a:xfrm rot="19453200">
                        <a:off x="5476680" y="3299400"/>
                        <a:ext cx="6120" cy="14040"/>
                      </a:xfrm>
                      <a:custGeom>
                        <a:avLst/>
                        <a:gdLst/>
                        <a:ahLst/>
                        <a:rect l="l" t="t" r="r" b="b"/>
                        <a:pathLst>
                          <a:path w="8" h="16">
                            <a:moveTo>
                              <a:pt x="3" y="0"/>
                            </a:moveTo>
                            <a:lnTo>
                              <a:pt x="6" y="0"/>
                            </a:lnTo>
                            <a:lnTo>
                              <a:pt x="8" y="4"/>
                            </a:lnTo>
                            <a:lnTo>
                              <a:pt x="7" y="8"/>
                            </a:lnTo>
                            <a:lnTo>
                              <a:pt x="7" y="13"/>
                            </a:lnTo>
                            <a:lnTo>
                              <a:pt x="5" y="15"/>
                            </a:lnTo>
                            <a:lnTo>
                              <a:pt x="3" y="16"/>
                            </a:lnTo>
                            <a:lnTo>
                              <a:pt x="0" y="14"/>
                            </a:lnTo>
                            <a:lnTo>
                              <a:pt x="0" y="7"/>
                            </a:lnTo>
                            <a:lnTo>
                              <a:pt x="0" y="2"/>
                            </a:lnTo>
                            <a:lnTo>
                              <a:pt x="3" y="0"/>
                            </a:lnTo>
                            <a:lnTo>
                              <a:pt x="3" y="0"/>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26" name=""/>
                      <p:cNvSpPr/>
                      <p:nvPr/>
                    </p:nvSpPr>
                    <p:spPr>
                      <a:xfrm rot="19453200">
                        <a:off x="5519880" y="3120840"/>
                        <a:ext cx="10440" cy="16560"/>
                      </a:xfrm>
                      <a:custGeom>
                        <a:avLst/>
                        <a:gdLst/>
                        <a:ahLst/>
                        <a:rect l="l" t="t" r="r" b="b"/>
                        <a:pathLst>
                          <a:path w="13" h="19">
                            <a:moveTo>
                              <a:pt x="3" y="0"/>
                            </a:moveTo>
                            <a:lnTo>
                              <a:pt x="7" y="1"/>
                            </a:lnTo>
                            <a:lnTo>
                              <a:pt x="11" y="5"/>
                            </a:lnTo>
                            <a:lnTo>
                              <a:pt x="12" y="10"/>
                            </a:lnTo>
                            <a:lnTo>
                              <a:pt x="13" y="14"/>
                            </a:lnTo>
                            <a:lnTo>
                              <a:pt x="11" y="17"/>
                            </a:lnTo>
                            <a:lnTo>
                              <a:pt x="8" y="19"/>
                            </a:lnTo>
                            <a:lnTo>
                              <a:pt x="5" y="17"/>
                            </a:lnTo>
                            <a:lnTo>
                              <a:pt x="0" y="12"/>
                            </a:lnTo>
                            <a:lnTo>
                              <a:pt x="0" y="8"/>
                            </a:lnTo>
                            <a:lnTo>
                              <a:pt x="1" y="4"/>
                            </a:lnTo>
                            <a:lnTo>
                              <a:pt x="2" y="1"/>
                            </a:lnTo>
                            <a:lnTo>
                              <a:pt x="3" y="0"/>
                            </a:lnTo>
                            <a:lnTo>
                              <a:pt x="3" y="0"/>
                            </a:lnTo>
                            <a:close/>
                          </a:path>
                        </a:pathLst>
                      </a:custGeom>
                      <a:solidFill>
                        <a:srgbClr val="fac7c7"/>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327" name=""/>
                      <p:cNvSpPr/>
                      <p:nvPr/>
                    </p:nvSpPr>
                    <p:spPr>
                      <a:xfrm rot="19453200">
                        <a:off x="5558040" y="3021480"/>
                        <a:ext cx="12600" cy="15840"/>
                      </a:xfrm>
                      <a:custGeom>
                        <a:avLst/>
                        <a:gdLst/>
                        <a:ahLst/>
                        <a:rect l="l" t="t" r="r" b="b"/>
                        <a:pathLst>
                          <a:path w="16" h="18">
                            <a:moveTo>
                              <a:pt x="5" y="0"/>
                            </a:moveTo>
                            <a:lnTo>
                              <a:pt x="9" y="2"/>
                            </a:lnTo>
                            <a:lnTo>
                              <a:pt x="15" y="7"/>
                            </a:lnTo>
                            <a:lnTo>
                              <a:pt x="16" y="12"/>
                            </a:lnTo>
                            <a:lnTo>
                              <a:pt x="11" y="18"/>
                            </a:lnTo>
                            <a:lnTo>
                              <a:pt x="5" y="15"/>
                            </a:lnTo>
                            <a:lnTo>
                              <a:pt x="1" y="10"/>
                            </a:lnTo>
                            <a:lnTo>
                              <a:pt x="0" y="4"/>
                            </a:lnTo>
                            <a:lnTo>
                              <a:pt x="5" y="0"/>
                            </a:lnTo>
                            <a:lnTo>
                              <a:pt x="5" y="0"/>
                            </a:lnTo>
                            <a:close/>
                          </a:path>
                        </a:pathLst>
                      </a:custGeom>
                      <a:solidFill>
                        <a:srgbClr val="fac7c7"/>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28" name=""/>
                      <p:cNvSpPr/>
                      <p:nvPr/>
                    </p:nvSpPr>
                    <p:spPr>
                      <a:xfrm rot="19453200">
                        <a:off x="5768280" y="2914920"/>
                        <a:ext cx="8640" cy="14760"/>
                      </a:xfrm>
                      <a:custGeom>
                        <a:avLst/>
                        <a:gdLst/>
                        <a:ahLst/>
                        <a:rect l="l" t="t" r="r" b="b"/>
                        <a:pathLst>
                          <a:path w="11" h="17">
                            <a:moveTo>
                              <a:pt x="1" y="0"/>
                            </a:moveTo>
                            <a:lnTo>
                              <a:pt x="5" y="2"/>
                            </a:lnTo>
                            <a:lnTo>
                              <a:pt x="11" y="9"/>
                            </a:lnTo>
                            <a:lnTo>
                              <a:pt x="11" y="12"/>
                            </a:lnTo>
                            <a:lnTo>
                              <a:pt x="11" y="15"/>
                            </a:lnTo>
                            <a:lnTo>
                              <a:pt x="8" y="16"/>
                            </a:lnTo>
                            <a:lnTo>
                              <a:pt x="4" y="17"/>
                            </a:lnTo>
                            <a:lnTo>
                              <a:pt x="2" y="12"/>
                            </a:lnTo>
                            <a:lnTo>
                              <a:pt x="1" y="7"/>
                            </a:lnTo>
                            <a:lnTo>
                              <a:pt x="0" y="2"/>
                            </a:lnTo>
                            <a:lnTo>
                              <a:pt x="1" y="0"/>
                            </a:lnTo>
                            <a:lnTo>
                              <a:pt x="1" y="0"/>
                            </a:lnTo>
                            <a:close/>
                          </a:path>
                        </a:pathLst>
                      </a:custGeom>
                      <a:solidFill>
                        <a:srgbClr val="fac7c7"/>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29" name=""/>
                      <p:cNvSpPr/>
                      <p:nvPr/>
                    </p:nvSpPr>
                    <p:spPr>
                      <a:xfrm rot="19453200">
                        <a:off x="5814720" y="2816640"/>
                        <a:ext cx="8640" cy="16560"/>
                      </a:xfrm>
                      <a:custGeom>
                        <a:avLst/>
                        <a:gdLst/>
                        <a:ahLst/>
                        <a:rect l="l" t="t" r="r" b="b"/>
                        <a:pathLst>
                          <a:path w="11" h="19">
                            <a:moveTo>
                              <a:pt x="1" y="0"/>
                            </a:moveTo>
                            <a:lnTo>
                              <a:pt x="6" y="3"/>
                            </a:lnTo>
                            <a:lnTo>
                              <a:pt x="11" y="9"/>
                            </a:lnTo>
                            <a:lnTo>
                              <a:pt x="11" y="12"/>
                            </a:lnTo>
                            <a:lnTo>
                              <a:pt x="10" y="15"/>
                            </a:lnTo>
                            <a:lnTo>
                              <a:pt x="7" y="17"/>
                            </a:lnTo>
                            <a:lnTo>
                              <a:pt x="3" y="19"/>
                            </a:lnTo>
                            <a:lnTo>
                              <a:pt x="1" y="14"/>
                            </a:lnTo>
                            <a:lnTo>
                              <a:pt x="0" y="8"/>
                            </a:lnTo>
                            <a:lnTo>
                              <a:pt x="0" y="3"/>
                            </a:lnTo>
                            <a:lnTo>
                              <a:pt x="1" y="0"/>
                            </a:lnTo>
                            <a:lnTo>
                              <a:pt x="1" y="0"/>
                            </a:lnTo>
                            <a:close/>
                          </a:path>
                        </a:pathLst>
                      </a:custGeom>
                      <a:solidFill>
                        <a:srgbClr val="fac7c7"/>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330" name=""/>
                      <p:cNvSpPr/>
                      <p:nvPr/>
                    </p:nvSpPr>
                    <p:spPr>
                      <a:xfrm rot="19453200">
                        <a:off x="5168520" y="2832120"/>
                        <a:ext cx="872280" cy="303120"/>
                      </a:xfrm>
                      <a:custGeom>
                        <a:avLst/>
                        <a:gdLst/>
                        <a:ahLst/>
                        <a:rect l="l" t="t" r="r" b="b"/>
                        <a:pathLst>
                          <a:path w="1091" h="343">
                            <a:moveTo>
                              <a:pt x="0" y="335"/>
                            </a:moveTo>
                            <a:lnTo>
                              <a:pt x="71" y="211"/>
                            </a:lnTo>
                            <a:lnTo>
                              <a:pt x="160" y="275"/>
                            </a:lnTo>
                            <a:lnTo>
                              <a:pt x="412" y="109"/>
                            </a:lnTo>
                            <a:lnTo>
                              <a:pt x="592" y="15"/>
                            </a:lnTo>
                            <a:lnTo>
                              <a:pt x="701" y="179"/>
                            </a:lnTo>
                            <a:lnTo>
                              <a:pt x="948" y="48"/>
                            </a:lnTo>
                            <a:lnTo>
                              <a:pt x="940" y="0"/>
                            </a:lnTo>
                            <a:lnTo>
                              <a:pt x="1091" y="10"/>
                            </a:lnTo>
                            <a:lnTo>
                              <a:pt x="1084" y="23"/>
                            </a:lnTo>
                            <a:lnTo>
                              <a:pt x="957" y="15"/>
                            </a:lnTo>
                            <a:lnTo>
                              <a:pt x="964" y="53"/>
                            </a:lnTo>
                            <a:lnTo>
                              <a:pt x="698" y="196"/>
                            </a:lnTo>
                            <a:lnTo>
                              <a:pt x="585" y="36"/>
                            </a:lnTo>
                            <a:lnTo>
                              <a:pt x="406" y="131"/>
                            </a:lnTo>
                            <a:lnTo>
                              <a:pt x="158" y="294"/>
                            </a:lnTo>
                            <a:lnTo>
                              <a:pt x="74" y="235"/>
                            </a:lnTo>
                            <a:lnTo>
                              <a:pt x="16" y="343"/>
                            </a:lnTo>
                            <a:lnTo>
                              <a:pt x="0" y="335"/>
                            </a:lnTo>
                            <a:lnTo>
                              <a:pt x="0" y="335"/>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rot="19453200">
                        <a:off x="5757840" y="2649240"/>
                        <a:ext cx="176400" cy="139680"/>
                      </a:xfrm>
                      <a:custGeom>
                        <a:avLst/>
                        <a:gdLst/>
                        <a:ahLst/>
                        <a:rect l="l" t="t" r="r" b="b"/>
                        <a:pathLst>
                          <a:path w="221" h="158">
                            <a:moveTo>
                              <a:pt x="0" y="151"/>
                            </a:moveTo>
                            <a:lnTo>
                              <a:pt x="113" y="73"/>
                            </a:lnTo>
                            <a:lnTo>
                              <a:pt x="142" y="112"/>
                            </a:lnTo>
                            <a:lnTo>
                              <a:pt x="208" y="3"/>
                            </a:lnTo>
                            <a:lnTo>
                              <a:pt x="221" y="0"/>
                            </a:lnTo>
                            <a:lnTo>
                              <a:pt x="150" y="134"/>
                            </a:lnTo>
                            <a:lnTo>
                              <a:pt x="113" y="94"/>
                            </a:lnTo>
                            <a:lnTo>
                              <a:pt x="14" y="158"/>
                            </a:lnTo>
                            <a:lnTo>
                              <a:pt x="0" y="151"/>
                            </a:lnTo>
                            <a:lnTo>
                              <a:pt x="0" y="151"/>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rot="19453200">
                        <a:off x="5757480" y="2842200"/>
                        <a:ext cx="81360" cy="65160"/>
                      </a:xfrm>
                      <a:custGeom>
                        <a:avLst/>
                        <a:gdLst/>
                        <a:ahLst/>
                        <a:rect l="l" t="t" r="r" b="b"/>
                        <a:pathLst>
                          <a:path w="102" h="74">
                            <a:moveTo>
                              <a:pt x="98" y="0"/>
                            </a:moveTo>
                            <a:lnTo>
                              <a:pt x="0" y="63"/>
                            </a:lnTo>
                            <a:lnTo>
                              <a:pt x="7" y="74"/>
                            </a:lnTo>
                            <a:lnTo>
                              <a:pt x="102" y="16"/>
                            </a:lnTo>
                            <a:lnTo>
                              <a:pt x="98" y="0"/>
                            </a:lnTo>
                            <a:lnTo>
                              <a:pt x="98" y="0"/>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33" name=""/>
                      <p:cNvSpPr/>
                      <p:nvPr/>
                    </p:nvSpPr>
                    <p:spPr>
                      <a:xfrm rot="19453200">
                        <a:off x="5556600" y="2916000"/>
                        <a:ext cx="234000" cy="122040"/>
                      </a:xfrm>
                      <a:custGeom>
                        <a:avLst/>
                        <a:gdLst/>
                        <a:ahLst/>
                        <a:rect l="l" t="t" r="r" b="b"/>
                        <a:pathLst>
                          <a:path w="293" h="138">
                            <a:moveTo>
                              <a:pt x="283" y="93"/>
                            </a:moveTo>
                            <a:lnTo>
                              <a:pt x="239" y="123"/>
                            </a:lnTo>
                            <a:lnTo>
                              <a:pt x="71" y="0"/>
                            </a:lnTo>
                            <a:lnTo>
                              <a:pt x="0" y="40"/>
                            </a:lnTo>
                            <a:lnTo>
                              <a:pt x="10" y="51"/>
                            </a:lnTo>
                            <a:lnTo>
                              <a:pt x="72" y="16"/>
                            </a:lnTo>
                            <a:lnTo>
                              <a:pt x="237" y="138"/>
                            </a:lnTo>
                            <a:lnTo>
                              <a:pt x="293" y="101"/>
                            </a:lnTo>
                            <a:lnTo>
                              <a:pt x="283" y="93"/>
                            </a:lnTo>
                            <a:lnTo>
                              <a:pt x="283" y="93"/>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rot="19453200">
                        <a:off x="5310720" y="3202560"/>
                        <a:ext cx="286200" cy="137880"/>
                      </a:xfrm>
                      <a:custGeom>
                        <a:avLst/>
                        <a:gdLst/>
                        <a:ahLst/>
                        <a:rect l="l" t="t" r="r" b="b"/>
                        <a:pathLst>
                          <a:path w="358" h="156">
                            <a:moveTo>
                              <a:pt x="353" y="0"/>
                            </a:moveTo>
                            <a:lnTo>
                              <a:pt x="158" y="138"/>
                            </a:lnTo>
                            <a:lnTo>
                              <a:pt x="13" y="63"/>
                            </a:lnTo>
                            <a:lnTo>
                              <a:pt x="0" y="79"/>
                            </a:lnTo>
                            <a:lnTo>
                              <a:pt x="162" y="156"/>
                            </a:lnTo>
                            <a:lnTo>
                              <a:pt x="358" y="14"/>
                            </a:lnTo>
                            <a:lnTo>
                              <a:pt x="353" y="0"/>
                            </a:lnTo>
                            <a:lnTo>
                              <a:pt x="353" y="0"/>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rot="19453200">
                        <a:off x="5509080" y="3049920"/>
                        <a:ext cx="79200" cy="60840"/>
                      </a:xfrm>
                      <a:custGeom>
                        <a:avLst/>
                        <a:gdLst/>
                        <a:ahLst/>
                        <a:rect l="l" t="t" r="r" b="b"/>
                        <a:pathLst>
                          <a:path w="99" h="69">
                            <a:moveTo>
                              <a:pt x="92" y="0"/>
                            </a:moveTo>
                            <a:lnTo>
                              <a:pt x="0" y="59"/>
                            </a:lnTo>
                            <a:lnTo>
                              <a:pt x="8" y="69"/>
                            </a:lnTo>
                            <a:lnTo>
                              <a:pt x="99" y="10"/>
                            </a:lnTo>
                            <a:lnTo>
                              <a:pt x="92" y="0"/>
                            </a:lnTo>
                            <a:lnTo>
                              <a:pt x="92" y="0"/>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336" name=""/>
                      <p:cNvSpPr/>
                      <p:nvPr/>
                    </p:nvSpPr>
                    <p:spPr>
                      <a:xfrm rot="19453200">
                        <a:off x="5463000" y="3236400"/>
                        <a:ext cx="23040" cy="40680"/>
                      </a:xfrm>
                      <a:custGeom>
                        <a:avLst/>
                        <a:gdLst/>
                        <a:ahLst/>
                        <a:rect l="l" t="t" r="r" b="b"/>
                        <a:pathLst>
                          <a:path w="29" h="46">
                            <a:moveTo>
                              <a:pt x="23" y="46"/>
                            </a:moveTo>
                            <a:lnTo>
                              <a:pt x="0" y="8"/>
                            </a:lnTo>
                            <a:lnTo>
                              <a:pt x="8" y="0"/>
                            </a:lnTo>
                            <a:lnTo>
                              <a:pt x="29" y="36"/>
                            </a:lnTo>
                            <a:lnTo>
                              <a:pt x="23" y="46"/>
                            </a:lnTo>
                            <a:lnTo>
                              <a:pt x="23" y="46"/>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337" name=""/>
                      <p:cNvSpPr/>
                      <p:nvPr/>
                    </p:nvSpPr>
                    <p:spPr>
                      <a:xfrm rot="19453200">
                        <a:off x="5470920" y="3217320"/>
                        <a:ext cx="21960" cy="42120"/>
                      </a:xfrm>
                      <a:custGeom>
                        <a:avLst/>
                        <a:gdLst/>
                        <a:ahLst/>
                        <a:rect l="l" t="t" r="r" b="b"/>
                        <a:pathLst>
                          <a:path w="28" h="48">
                            <a:moveTo>
                              <a:pt x="23" y="48"/>
                            </a:moveTo>
                            <a:lnTo>
                              <a:pt x="0" y="10"/>
                            </a:lnTo>
                            <a:lnTo>
                              <a:pt x="7" y="0"/>
                            </a:lnTo>
                            <a:lnTo>
                              <a:pt x="28" y="37"/>
                            </a:lnTo>
                            <a:lnTo>
                              <a:pt x="23" y="48"/>
                            </a:lnTo>
                            <a:lnTo>
                              <a:pt x="23" y="48"/>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338" name=""/>
                      <p:cNvSpPr/>
                      <p:nvPr/>
                    </p:nvSpPr>
                    <p:spPr>
                      <a:xfrm rot="19453200">
                        <a:off x="5474880" y="3200400"/>
                        <a:ext cx="21240" cy="40680"/>
                      </a:xfrm>
                      <a:custGeom>
                        <a:avLst/>
                        <a:gdLst/>
                        <a:ahLst/>
                        <a:rect l="l" t="t" r="r" b="b"/>
                        <a:pathLst>
                          <a:path w="27" h="46">
                            <a:moveTo>
                              <a:pt x="23" y="46"/>
                            </a:moveTo>
                            <a:lnTo>
                              <a:pt x="0" y="8"/>
                            </a:lnTo>
                            <a:lnTo>
                              <a:pt x="7" y="0"/>
                            </a:lnTo>
                            <a:lnTo>
                              <a:pt x="27" y="35"/>
                            </a:lnTo>
                            <a:lnTo>
                              <a:pt x="23" y="46"/>
                            </a:lnTo>
                            <a:lnTo>
                              <a:pt x="23" y="46"/>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339" name=""/>
                      <p:cNvSpPr/>
                      <p:nvPr/>
                    </p:nvSpPr>
                    <p:spPr>
                      <a:xfrm rot="19453200">
                        <a:off x="5479560" y="3180240"/>
                        <a:ext cx="21600" cy="40680"/>
                      </a:xfrm>
                      <a:custGeom>
                        <a:avLst/>
                        <a:gdLst/>
                        <a:ahLst/>
                        <a:rect l="l" t="t" r="r" b="b"/>
                        <a:pathLst>
                          <a:path w="27" h="46">
                            <a:moveTo>
                              <a:pt x="22" y="46"/>
                            </a:moveTo>
                            <a:lnTo>
                              <a:pt x="0" y="8"/>
                            </a:lnTo>
                            <a:lnTo>
                              <a:pt x="6" y="0"/>
                            </a:lnTo>
                            <a:lnTo>
                              <a:pt x="27" y="35"/>
                            </a:lnTo>
                            <a:lnTo>
                              <a:pt x="22" y="46"/>
                            </a:lnTo>
                            <a:lnTo>
                              <a:pt x="22" y="46"/>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340" name=""/>
                      <p:cNvSpPr/>
                      <p:nvPr/>
                    </p:nvSpPr>
                    <p:spPr>
                      <a:xfrm rot="19453200">
                        <a:off x="5564520" y="2873880"/>
                        <a:ext cx="28440" cy="26280"/>
                      </a:xfrm>
                      <a:custGeom>
                        <a:avLst/>
                        <a:gdLst/>
                        <a:ahLst/>
                        <a:rect l="l" t="t" r="r" b="b"/>
                        <a:pathLst>
                          <a:path w="36" h="30">
                            <a:moveTo>
                              <a:pt x="29" y="0"/>
                            </a:moveTo>
                            <a:lnTo>
                              <a:pt x="0" y="21"/>
                            </a:lnTo>
                            <a:lnTo>
                              <a:pt x="8" y="30"/>
                            </a:lnTo>
                            <a:lnTo>
                              <a:pt x="36" y="11"/>
                            </a:lnTo>
                            <a:lnTo>
                              <a:pt x="29" y="0"/>
                            </a:lnTo>
                            <a:lnTo>
                              <a:pt x="29" y="0"/>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341" name=""/>
                      <p:cNvSpPr/>
                      <p:nvPr/>
                    </p:nvSpPr>
                    <p:spPr>
                      <a:xfrm rot="19453200">
                        <a:off x="5583600" y="2879640"/>
                        <a:ext cx="29520" cy="28080"/>
                      </a:xfrm>
                      <a:custGeom>
                        <a:avLst/>
                        <a:gdLst/>
                        <a:ahLst/>
                        <a:rect l="l" t="t" r="r" b="b"/>
                        <a:pathLst>
                          <a:path w="37" h="32">
                            <a:moveTo>
                              <a:pt x="29" y="0"/>
                            </a:moveTo>
                            <a:lnTo>
                              <a:pt x="0" y="22"/>
                            </a:lnTo>
                            <a:lnTo>
                              <a:pt x="8" y="32"/>
                            </a:lnTo>
                            <a:lnTo>
                              <a:pt x="37" y="12"/>
                            </a:lnTo>
                            <a:lnTo>
                              <a:pt x="29" y="0"/>
                            </a:lnTo>
                            <a:lnTo>
                              <a:pt x="29" y="0"/>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342" name=""/>
                      <p:cNvSpPr/>
                      <p:nvPr/>
                    </p:nvSpPr>
                    <p:spPr>
                      <a:xfrm rot="19453200">
                        <a:off x="5604120" y="2885760"/>
                        <a:ext cx="28800" cy="27360"/>
                      </a:xfrm>
                      <a:custGeom>
                        <a:avLst/>
                        <a:gdLst/>
                        <a:ahLst/>
                        <a:rect l="l" t="t" r="r" b="b"/>
                        <a:pathLst>
                          <a:path w="36" h="31">
                            <a:moveTo>
                              <a:pt x="28" y="0"/>
                            </a:moveTo>
                            <a:lnTo>
                              <a:pt x="0" y="22"/>
                            </a:lnTo>
                            <a:lnTo>
                              <a:pt x="8" y="31"/>
                            </a:lnTo>
                            <a:lnTo>
                              <a:pt x="36" y="12"/>
                            </a:lnTo>
                            <a:lnTo>
                              <a:pt x="28" y="0"/>
                            </a:lnTo>
                            <a:lnTo>
                              <a:pt x="28" y="0"/>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343" name=""/>
                      <p:cNvSpPr/>
                      <p:nvPr/>
                    </p:nvSpPr>
                    <p:spPr>
                      <a:xfrm rot="19453200">
                        <a:off x="5624640" y="2892600"/>
                        <a:ext cx="28800" cy="27360"/>
                      </a:xfrm>
                      <a:custGeom>
                        <a:avLst/>
                        <a:gdLst/>
                        <a:ahLst/>
                        <a:rect l="l" t="t" r="r" b="b"/>
                        <a:pathLst>
                          <a:path w="36" h="31">
                            <a:moveTo>
                              <a:pt x="28" y="0"/>
                            </a:moveTo>
                            <a:lnTo>
                              <a:pt x="0" y="22"/>
                            </a:lnTo>
                            <a:lnTo>
                              <a:pt x="8" y="31"/>
                            </a:lnTo>
                            <a:lnTo>
                              <a:pt x="36" y="11"/>
                            </a:lnTo>
                            <a:lnTo>
                              <a:pt x="28" y="0"/>
                            </a:lnTo>
                            <a:lnTo>
                              <a:pt x="28" y="0"/>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344" name=""/>
                      <p:cNvSpPr/>
                      <p:nvPr/>
                    </p:nvSpPr>
                    <p:spPr>
                      <a:xfrm rot="19453200">
                        <a:off x="5855760" y="2679120"/>
                        <a:ext cx="27000" cy="28080"/>
                      </a:xfrm>
                      <a:custGeom>
                        <a:avLst/>
                        <a:gdLst/>
                        <a:ahLst/>
                        <a:rect l="l" t="t" r="r" b="b"/>
                        <a:pathLst>
                          <a:path w="34" h="32">
                            <a:moveTo>
                              <a:pt x="26" y="32"/>
                            </a:moveTo>
                            <a:lnTo>
                              <a:pt x="0" y="9"/>
                            </a:lnTo>
                            <a:lnTo>
                              <a:pt x="5" y="0"/>
                            </a:lnTo>
                            <a:lnTo>
                              <a:pt x="34" y="22"/>
                            </a:lnTo>
                            <a:lnTo>
                              <a:pt x="26" y="32"/>
                            </a:lnTo>
                            <a:lnTo>
                              <a:pt x="26" y="32"/>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345" name=""/>
                      <p:cNvSpPr/>
                      <p:nvPr/>
                    </p:nvSpPr>
                    <p:spPr>
                      <a:xfrm rot="19453200">
                        <a:off x="5856120" y="2661480"/>
                        <a:ext cx="25560" cy="27360"/>
                      </a:xfrm>
                      <a:custGeom>
                        <a:avLst/>
                        <a:gdLst/>
                        <a:ahLst/>
                        <a:rect l="l" t="t" r="r" b="b"/>
                        <a:pathLst>
                          <a:path w="32" h="31">
                            <a:moveTo>
                              <a:pt x="25" y="31"/>
                            </a:moveTo>
                            <a:lnTo>
                              <a:pt x="0" y="8"/>
                            </a:lnTo>
                            <a:lnTo>
                              <a:pt x="5" y="0"/>
                            </a:lnTo>
                            <a:lnTo>
                              <a:pt x="32" y="20"/>
                            </a:lnTo>
                            <a:lnTo>
                              <a:pt x="25" y="31"/>
                            </a:lnTo>
                            <a:lnTo>
                              <a:pt x="25" y="31"/>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346" name=""/>
                      <p:cNvSpPr/>
                      <p:nvPr/>
                    </p:nvSpPr>
                    <p:spPr>
                      <a:xfrm rot="19453200">
                        <a:off x="5854680" y="2642400"/>
                        <a:ext cx="26280" cy="28800"/>
                      </a:xfrm>
                      <a:custGeom>
                        <a:avLst/>
                        <a:gdLst/>
                        <a:ahLst/>
                        <a:rect l="l" t="t" r="r" b="b"/>
                        <a:pathLst>
                          <a:path w="33" h="33">
                            <a:moveTo>
                              <a:pt x="27" y="33"/>
                            </a:moveTo>
                            <a:lnTo>
                              <a:pt x="0" y="9"/>
                            </a:lnTo>
                            <a:lnTo>
                              <a:pt x="7" y="0"/>
                            </a:lnTo>
                            <a:lnTo>
                              <a:pt x="33" y="23"/>
                            </a:lnTo>
                            <a:lnTo>
                              <a:pt x="27" y="33"/>
                            </a:lnTo>
                            <a:lnTo>
                              <a:pt x="27" y="33"/>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347" name=""/>
                      <p:cNvSpPr/>
                      <p:nvPr/>
                    </p:nvSpPr>
                    <p:spPr>
                      <a:xfrm rot="19453200">
                        <a:off x="5855760" y="2679120"/>
                        <a:ext cx="27000" cy="28080"/>
                      </a:xfrm>
                      <a:custGeom>
                        <a:avLst/>
                        <a:gdLst/>
                        <a:ahLst/>
                        <a:rect l="l" t="t" r="r" b="b"/>
                        <a:pathLst>
                          <a:path w="34" h="32">
                            <a:moveTo>
                              <a:pt x="26" y="32"/>
                            </a:moveTo>
                            <a:lnTo>
                              <a:pt x="0" y="9"/>
                            </a:lnTo>
                            <a:lnTo>
                              <a:pt x="5" y="0"/>
                            </a:lnTo>
                            <a:lnTo>
                              <a:pt x="34" y="22"/>
                            </a:lnTo>
                            <a:lnTo>
                              <a:pt x="26" y="32"/>
                            </a:lnTo>
                            <a:lnTo>
                              <a:pt x="26" y="32"/>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348" name=""/>
                      <p:cNvSpPr/>
                      <p:nvPr/>
                    </p:nvSpPr>
                    <p:spPr>
                      <a:xfrm rot="19453200">
                        <a:off x="5855760" y="2679120"/>
                        <a:ext cx="27000" cy="28080"/>
                      </a:xfrm>
                      <a:custGeom>
                        <a:avLst/>
                        <a:gdLst/>
                        <a:ahLst/>
                        <a:rect l="l" t="t" r="r" b="b"/>
                        <a:pathLst>
                          <a:path w="34" h="32">
                            <a:moveTo>
                              <a:pt x="26" y="32"/>
                            </a:moveTo>
                            <a:lnTo>
                              <a:pt x="0" y="9"/>
                            </a:lnTo>
                            <a:lnTo>
                              <a:pt x="5" y="0"/>
                            </a:lnTo>
                            <a:lnTo>
                              <a:pt x="34" y="22"/>
                            </a:lnTo>
                            <a:lnTo>
                              <a:pt x="26" y="32"/>
                            </a:lnTo>
                            <a:lnTo>
                              <a:pt x="26" y="32"/>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grpSp>
                <p:sp>
                  <p:nvSpPr>
                    <p:cNvPr id="349" name=""/>
                    <p:cNvSpPr/>
                    <p:nvPr/>
                  </p:nvSpPr>
                  <p:spPr>
                    <a:xfrm flipV="1">
                      <a:off x="5772240" y="2904120"/>
                      <a:ext cx="12240" cy="37080"/>
                    </a:xfrm>
                    <a:prstGeom prst="line">
                      <a:avLst/>
                    </a:prstGeom>
                    <a:ln w="9360">
                      <a:solidFill>
                        <a:srgbClr val="000000"/>
                      </a:solidFill>
                      <a:miter/>
                    </a:ln>
                  </p:spPr>
                  <p:style>
                    <a:lnRef idx="0"/>
                    <a:fillRef idx="0"/>
                    <a:effectRef idx="0"/>
                    <a:fontRef idx="minor"/>
                  </p:style>
                  <p:txBody>
                    <a:bodyPr lIns="90000" rIns="90000" tIns="-9720" bIns="-9720" anchor="ctr">
                      <a:noAutofit/>
                    </a:bodyPr>
                    <a:p>
                      <a:endParaRPr b="0" lang="en-US" sz="2400" spc="-1" strike="noStrike">
                        <a:solidFill>
                          <a:srgbClr val="000000"/>
                        </a:solidFill>
                        <a:latin typeface="Times New Roman"/>
                      </a:endParaRPr>
                    </a:p>
                  </p:txBody>
                </p:sp>
                <p:sp>
                  <p:nvSpPr>
                    <p:cNvPr id="350" name=""/>
                    <p:cNvSpPr/>
                    <p:nvPr/>
                  </p:nvSpPr>
                  <p:spPr>
                    <a:xfrm flipV="1">
                      <a:off x="5777640" y="2903760"/>
                      <a:ext cx="12960" cy="37080"/>
                    </a:xfrm>
                    <a:prstGeom prst="line">
                      <a:avLst/>
                    </a:prstGeom>
                    <a:ln w="9360">
                      <a:solidFill>
                        <a:srgbClr val="000000"/>
                      </a:solidFill>
                      <a:miter/>
                    </a:ln>
                  </p:spPr>
                  <p:style>
                    <a:lnRef idx="0"/>
                    <a:fillRef idx="0"/>
                    <a:effectRef idx="0"/>
                    <a:fontRef idx="minor"/>
                  </p:style>
                  <p:txBody>
                    <a:bodyPr lIns="90000" rIns="90000" tIns="-9720" bIns="-9720" anchor="ctr">
                      <a:noAutofit/>
                    </a:bodyPr>
                    <a:p>
                      <a:endParaRPr b="0" lang="en-US" sz="2400" spc="-1" strike="noStrike">
                        <a:solidFill>
                          <a:srgbClr val="000000"/>
                        </a:solidFill>
                        <a:latin typeface="Times New Roman"/>
                      </a:endParaRPr>
                    </a:p>
                  </p:txBody>
                </p:sp>
                <p:sp>
                  <p:nvSpPr>
                    <p:cNvPr id="351" name=""/>
                    <p:cNvSpPr/>
                    <p:nvPr/>
                  </p:nvSpPr>
                  <p:spPr>
                    <a:xfrm flipV="1">
                      <a:off x="5773320" y="2903040"/>
                      <a:ext cx="12240" cy="37440"/>
                    </a:xfrm>
                    <a:prstGeom prst="line">
                      <a:avLst/>
                    </a:prstGeom>
                    <a:ln w="9360">
                      <a:solidFill>
                        <a:srgbClr val="000000"/>
                      </a:solidFill>
                      <a:miter/>
                    </a:ln>
                  </p:spPr>
                  <p:style>
                    <a:lnRef idx="0"/>
                    <a:fillRef idx="0"/>
                    <a:effectRef idx="0"/>
                    <a:fontRef idx="minor"/>
                  </p:style>
                  <p:txBody>
                    <a:bodyPr lIns="90000" rIns="90000" tIns="-9360" bIns="-9360" anchor="ctr">
                      <a:noAutofit/>
                    </a:bodyPr>
                    <a:p>
                      <a:endParaRPr b="0" lang="en-US" sz="2400" spc="-1" strike="noStrike">
                        <a:solidFill>
                          <a:srgbClr val="000000"/>
                        </a:solidFill>
                        <a:latin typeface="Times New Roman"/>
                      </a:endParaRPr>
                    </a:p>
                  </p:txBody>
                </p:sp>
                <p:sp>
                  <p:nvSpPr>
                    <p:cNvPr id="352" name=""/>
                    <p:cNvSpPr/>
                    <p:nvPr/>
                  </p:nvSpPr>
                  <p:spPr>
                    <a:xfrm flipV="1">
                      <a:off x="5810760" y="2799000"/>
                      <a:ext cx="12600" cy="37440"/>
                    </a:xfrm>
                    <a:prstGeom prst="line">
                      <a:avLst/>
                    </a:prstGeom>
                    <a:ln w="9360">
                      <a:solidFill>
                        <a:srgbClr val="000000"/>
                      </a:solidFill>
                      <a:miter/>
                    </a:ln>
                  </p:spPr>
                  <p:style>
                    <a:lnRef idx="0"/>
                    <a:fillRef idx="0"/>
                    <a:effectRef idx="0"/>
                    <a:fontRef idx="minor"/>
                  </p:style>
                  <p:txBody>
                    <a:bodyPr lIns="90000" rIns="90000" tIns="-9360" bIns="-9360" anchor="ctr">
                      <a:noAutofit/>
                    </a:bodyPr>
                    <a:p>
                      <a:endParaRPr b="0" lang="en-US" sz="2400" spc="-1" strike="noStrike">
                        <a:solidFill>
                          <a:srgbClr val="000000"/>
                        </a:solidFill>
                        <a:latin typeface="Times New Roman"/>
                      </a:endParaRPr>
                    </a:p>
                  </p:txBody>
                </p:sp>
                <p:sp>
                  <p:nvSpPr>
                    <p:cNvPr id="353" name=""/>
                    <p:cNvSpPr/>
                    <p:nvPr/>
                  </p:nvSpPr>
                  <p:spPr>
                    <a:xfrm flipV="1">
                      <a:off x="5811840" y="2811960"/>
                      <a:ext cx="12240" cy="37080"/>
                    </a:xfrm>
                    <a:prstGeom prst="line">
                      <a:avLst/>
                    </a:prstGeom>
                    <a:ln w="9360">
                      <a:solidFill>
                        <a:srgbClr val="000000"/>
                      </a:solidFill>
                      <a:miter/>
                    </a:ln>
                  </p:spPr>
                  <p:style>
                    <a:lnRef idx="0"/>
                    <a:fillRef idx="0"/>
                    <a:effectRef idx="0"/>
                    <a:fontRef idx="minor"/>
                  </p:style>
                  <p:txBody>
                    <a:bodyPr lIns="90000" rIns="90000" tIns="-9720" bIns="-9720" anchor="ctr">
                      <a:noAutofit/>
                    </a:bodyPr>
                    <a:p>
                      <a:endParaRPr b="0" lang="en-US" sz="2400" spc="-1" strike="noStrike">
                        <a:solidFill>
                          <a:srgbClr val="000000"/>
                        </a:solidFill>
                        <a:latin typeface="Times New Roman"/>
                      </a:endParaRPr>
                    </a:p>
                  </p:txBody>
                </p:sp>
                <p:sp>
                  <p:nvSpPr>
                    <p:cNvPr id="354" name=""/>
                    <p:cNvSpPr/>
                    <p:nvPr/>
                  </p:nvSpPr>
                  <p:spPr>
                    <a:xfrm flipV="1">
                      <a:off x="5805360" y="2803320"/>
                      <a:ext cx="12600" cy="36720"/>
                    </a:xfrm>
                    <a:prstGeom prst="line">
                      <a:avLst/>
                    </a:prstGeom>
                    <a:ln w="936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55" name=""/>
                    <p:cNvSpPr/>
                    <p:nvPr/>
                  </p:nvSpPr>
                  <p:spPr>
                    <a:xfrm flipV="1">
                      <a:off x="5527800" y="3095280"/>
                      <a:ext cx="12240" cy="37440"/>
                    </a:xfrm>
                    <a:prstGeom prst="line">
                      <a:avLst/>
                    </a:prstGeom>
                    <a:ln w="9360">
                      <a:solidFill>
                        <a:srgbClr val="000000"/>
                      </a:solidFill>
                      <a:miter/>
                    </a:ln>
                  </p:spPr>
                  <p:style>
                    <a:lnRef idx="0"/>
                    <a:fillRef idx="0"/>
                    <a:effectRef idx="0"/>
                    <a:fontRef idx="minor"/>
                  </p:style>
                  <p:txBody>
                    <a:bodyPr lIns="90000" rIns="90000" tIns="-9360" bIns="-9360" anchor="ctr">
                      <a:noAutofit/>
                    </a:bodyPr>
                    <a:p>
                      <a:endParaRPr b="0" lang="en-US" sz="2400" spc="-1" strike="noStrike">
                        <a:solidFill>
                          <a:srgbClr val="000000"/>
                        </a:solidFill>
                        <a:latin typeface="Times New Roman"/>
                      </a:endParaRPr>
                    </a:p>
                  </p:txBody>
                </p:sp>
                <p:sp>
                  <p:nvSpPr>
                    <p:cNvPr id="356" name=""/>
                    <p:cNvSpPr/>
                    <p:nvPr/>
                  </p:nvSpPr>
                  <p:spPr>
                    <a:xfrm flipV="1">
                      <a:off x="5529240" y="3108960"/>
                      <a:ext cx="12600" cy="37080"/>
                    </a:xfrm>
                    <a:prstGeom prst="line">
                      <a:avLst/>
                    </a:prstGeom>
                    <a:ln w="9360">
                      <a:solidFill>
                        <a:srgbClr val="000000"/>
                      </a:solidFill>
                      <a:miter/>
                    </a:ln>
                  </p:spPr>
                  <p:style>
                    <a:lnRef idx="0"/>
                    <a:fillRef idx="0"/>
                    <a:effectRef idx="0"/>
                    <a:fontRef idx="minor"/>
                  </p:style>
                  <p:txBody>
                    <a:bodyPr lIns="90000" rIns="90000" tIns="-9720" bIns="-9720" anchor="ctr">
                      <a:noAutofit/>
                    </a:bodyPr>
                    <a:p>
                      <a:endParaRPr b="0" lang="en-US" sz="2400" spc="-1" strike="noStrike">
                        <a:solidFill>
                          <a:srgbClr val="000000"/>
                        </a:solidFill>
                        <a:latin typeface="Times New Roman"/>
                      </a:endParaRPr>
                    </a:p>
                  </p:txBody>
                </p:sp>
                <p:sp>
                  <p:nvSpPr>
                    <p:cNvPr id="357" name=""/>
                    <p:cNvSpPr/>
                    <p:nvPr/>
                  </p:nvSpPr>
                  <p:spPr>
                    <a:xfrm flipV="1">
                      <a:off x="5524200" y="3112560"/>
                      <a:ext cx="12600" cy="37080"/>
                    </a:xfrm>
                    <a:prstGeom prst="line">
                      <a:avLst/>
                    </a:prstGeom>
                    <a:ln w="9360">
                      <a:solidFill>
                        <a:srgbClr val="000000"/>
                      </a:solidFill>
                      <a:miter/>
                    </a:ln>
                  </p:spPr>
                  <p:style>
                    <a:lnRef idx="0"/>
                    <a:fillRef idx="0"/>
                    <a:effectRef idx="0"/>
                    <a:fontRef idx="minor"/>
                  </p:style>
                  <p:txBody>
                    <a:bodyPr lIns="90000" rIns="90000" tIns="-9720" bIns="-9720" anchor="ctr">
                      <a:noAutofit/>
                    </a:bodyPr>
                    <a:p>
                      <a:endParaRPr b="0" lang="en-US" sz="2400" spc="-1" strike="noStrike">
                        <a:solidFill>
                          <a:srgbClr val="000000"/>
                        </a:solidFill>
                        <a:latin typeface="Times New Roman"/>
                      </a:endParaRPr>
                    </a:p>
                  </p:txBody>
                </p:sp>
                <p:sp>
                  <p:nvSpPr>
                    <p:cNvPr id="358" name=""/>
                    <p:cNvSpPr/>
                    <p:nvPr/>
                  </p:nvSpPr>
                  <p:spPr>
                    <a:xfrm flipV="1">
                      <a:off x="5523840" y="3107880"/>
                      <a:ext cx="11160" cy="36360"/>
                    </a:xfrm>
                    <a:prstGeom prst="line">
                      <a:avLst/>
                    </a:prstGeom>
                    <a:ln w="9360">
                      <a:solidFill>
                        <a:srgbClr val="000000"/>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359" name=""/>
                    <p:cNvSpPr/>
                    <p:nvPr/>
                  </p:nvSpPr>
                  <p:spPr>
                    <a:xfrm flipV="1">
                      <a:off x="5557320" y="3018240"/>
                      <a:ext cx="11520" cy="27720"/>
                    </a:xfrm>
                    <a:prstGeom prst="line">
                      <a:avLst/>
                    </a:prstGeom>
                    <a:ln w="9360">
                      <a:solidFill>
                        <a:srgbClr val="000000"/>
                      </a:solidFill>
                      <a:miter/>
                    </a:ln>
                  </p:spPr>
                  <p:style>
                    <a:lnRef idx="0"/>
                    <a:fillRef idx="0"/>
                    <a:effectRef idx="0"/>
                    <a:fontRef idx="minor"/>
                  </p:style>
                  <p:txBody>
                    <a:bodyPr lIns="90000" rIns="90000" tIns="-19080" bIns="-19080" anchor="ctr">
                      <a:noAutofit/>
                    </a:bodyPr>
                    <a:p>
                      <a:endParaRPr b="0" lang="en-US" sz="2400" spc="-1" strike="noStrike">
                        <a:solidFill>
                          <a:srgbClr val="000000"/>
                        </a:solidFill>
                        <a:latin typeface="Times New Roman"/>
                      </a:endParaRPr>
                    </a:p>
                  </p:txBody>
                </p:sp>
                <p:sp>
                  <p:nvSpPr>
                    <p:cNvPr id="360" name=""/>
                    <p:cNvSpPr/>
                    <p:nvPr/>
                  </p:nvSpPr>
                  <p:spPr>
                    <a:xfrm flipV="1">
                      <a:off x="5531760" y="3017520"/>
                      <a:ext cx="42840" cy="115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flipV="1">
                      <a:off x="5560200" y="3016080"/>
                      <a:ext cx="11520" cy="27720"/>
                    </a:xfrm>
                    <a:prstGeom prst="line">
                      <a:avLst/>
                    </a:prstGeom>
                    <a:ln w="9360">
                      <a:solidFill>
                        <a:srgbClr val="000000"/>
                      </a:solidFill>
                      <a:miter/>
                    </a:ln>
                  </p:spPr>
                  <p:style>
                    <a:lnRef idx="0"/>
                    <a:fillRef idx="0"/>
                    <a:effectRef idx="0"/>
                    <a:fontRef idx="minor"/>
                  </p:style>
                  <p:txBody>
                    <a:bodyPr lIns="90000" rIns="90000" tIns="-19080" bIns="-19080" anchor="ctr">
                      <a:noAutofit/>
                    </a:bodyPr>
                    <a:p>
                      <a:endParaRPr b="0" lang="en-US" sz="2400" spc="-1" strike="noStrike">
                        <a:solidFill>
                          <a:srgbClr val="000000"/>
                        </a:solidFill>
                        <a:latin typeface="Times New Roman"/>
                      </a:endParaRPr>
                    </a:p>
                  </p:txBody>
                </p:sp>
              </p:grpSp>
              <p:grpSp>
                <p:nvGrpSpPr>
                  <p:cNvPr id="362" name=""/>
                  <p:cNvGrpSpPr/>
                  <p:nvPr/>
                </p:nvGrpSpPr>
                <p:grpSpPr>
                  <a:xfrm>
                    <a:off x="4332240" y="3765240"/>
                    <a:ext cx="1247760" cy="1061280"/>
                    <a:chOff x="4332240" y="3765240"/>
                    <a:chExt cx="1247760" cy="1061280"/>
                  </a:xfrm>
                </p:grpSpPr>
                <p:grpSp>
                  <p:nvGrpSpPr>
                    <p:cNvPr id="363" name=""/>
                    <p:cNvGrpSpPr/>
                    <p:nvPr/>
                  </p:nvGrpSpPr>
                  <p:grpSpPr>
                    <a:xfrm>
                      <a:off x="4332240" y="3765240"/>
                      <a:ext cx="1247760" cy="1061280"/>
                      <a:chOff x="4332240" y="3765240"/>
                      <a:chExt cx="1247760" cy="1061280"/>
                    </a:xfrm>
                  </p:grpSpPr>
                  <p:sp>
                    <p:nvSpPr>
                      <p:cNvPr id="364" name=""/>
                      <p:cNvSpPr/>
                      <p:nvPr/>
                    </p:nvSpPr>
                    <p:spPr>
                      <a:xfrm rot="19453200">
                        <a:off x="4336920" y="4087800"/>
                        <a:ext cx="1238400" cy="415800"/>
                      </a:xfrm>
                      <a:custGeom>
                        <a:avLst/>
                        <a:gdLst/>
                        <a:ahLst/>
                        <a:rect l="l" t="t" r="r" b="b"/>
                        <a:pathLst>
                          <a:path w="1118" h="436">
                            <a:moveTo>
                              <a:pt x="74" y="210"/>
                            </a:moveTo>
                            <a:lnTo>
                              <a:pt x="0" y="349"/>
                            </a:lnTo>
                            <a:lnTo>
                              <a:pt x="183" y="436"/>
                            </a:lnTo>
                            <a:lnTo>
                              <a:pt x="422" y="256"/>
                            </a:lnTo>
                            <a:lnTo>
                              <a:pt x="560" y="179"/>
                            </a:lnTo>
                            <a:lnTo>
                              <a:pt x="718" y="301"/>
                            </a:lnTo>
                            <a:lnTo>
                              <a:pt x="994" y="125"/>
                            </a:lnTo>
                            <a:lnTo>
                              <a:pt x="1036" y="168"/>
                            </a:lnTo>
                            <a:lnTo>
                              <a:pt x="1118" y="16"/>
                            </a:lnTo>
                            <a:lnTo>
                              <a:pt x="944" y="0"/>
                            </a:lnTo>
                            <a:lnTo>
                              <a:pt x="950" y="51"/>
                            </a:lnTo>
                            <a:lnTo>
                              <a:pt x="718" y="176"/>
                            </a:lnTo>
                            <a:lnTo>
                              <a:pt x="608" y="14"/>
                            </a:lnTo>
                            <a:lnTo>
                              <a:pt x="410" y="117"/>
                            </a:lnTo>
                            <a:lnTo>
                              <a:pt x="175" y="272"/>
                            </a:lnTo>
                            <a:lnTo>
                              <a:pt x="79" y="202"/>
                            </a:lnTo>
                            <a:lnTo>
                              <a:pt x="74" y="210"/>
                            </a:lnTo>
                            <a:lnTo>
                              <a:pt x="74" y="210"/>
                            </a:lnTo>
                            <a:close/>
                          </a:path>
                        </a:pathLst>
                      </a:custGeom>
                      <a:solidFill>
                        <a:srgbClr val="d9e0e6"/>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rot="19453200">
                        <a:off x="4359960" y="4099320"/>
                        <a:ext cx="1189440" cy="382320"/>
                      </a:xfrm>
                      <a:custGeom>
                        <a:avLst/>
                        <a:gdLst/>
                        <a:ahLst/>
                        <a:rect l="l" t="t" r="r" b="b"/>
                        <a:pathLst>
                          <a:path w="1074" h="401">
                            <a:moveTo>
                              <a:pt x="67" y="217"/>
                            </a:moveTo>
                            <a:lnTo>
                              <a:pt x="146" y="279"/>
                            </a:lnTo>
                            <a:lnTo>
                              <a:pt x="442" y="92"/>
                            </a:lnTo>
                            <a:lnTo>
                              <a:pt x="577" y="23"/>
                            </a:lnTo>
                            <a:lnTo>
                              <a:pt x="686" y="185"/>
                            </a:lnTo>
                            <a:lnTo>
                              <a:pt x="948" y="46"/>
                            </a:lnTo>
                            <a:lnTo>
                              <a:pt x="936" y="0"/>
                            </a:lnTo>
                            <a:lnTo>
                              <a:pt x="1074" y="15"/>
                            </a:lnTo>
                            <a:lnTo>
                              <a:pt x="1012" y="128"/>
                            </a:lnTo>
                            <a:lnTo>
                              <a:pt x="970" y="92"/>
                            </a:lnTo>
                            <a:lnTo>
                              <a:pt x="703" y="272"/>
                            </a:lnTo>
                            <a:lnTo>
                              <a:pt x="537" y="150"/>
                            </a:lnTo>
                            <a:lnTo>
                              <a:pt x="388" y="235"/>
                            </a:lnTo>
                            <a:lnTo>
                              <a:pt x="149" y="401"/>
                            </a:lnTo>
                            <a:lnTo>
                              <a:pt x="0" y="331"/>
                            </a:lnTo>
                            <a:lnTo>
                              <a:pt x="67" y="217"/>
                            </a:lnTo>
                            <a:lnTo>
                              <a:pt x="67" y="217"/>
                            </a:lnTo>
                            <a:close/>
                          </a:path>
                        </a:pathLst>
                      </a:custGeom>
                      <a:solidFill>
                        <a:srgbClr val="ffcc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rot="19453200">
                        <a:off x="4961520" y="3931920"/>
                        <a:ext cx="452160" cy="240480"/>
                      </a:xfrm>
                      <a:custGeom>
                        <a:avLst/>
                        <a:gdLst/>
                        <a:ahLst/>
                        <a:rect l="l" t="t" r="r" b="b"/>
                        <a:pathLst>
                          <a:path w="408" h="252">
                            <a:moveTo>
                              <a:pt x="345" y="0"/>
                            </a:moveTo>
                            <a:lnTo>
                              <a:pt x="351" y="1"/>
                            </a:lnTo>
                            <a:lnTo>
                              <a:pt x="360" y="2"/>
                            </a:lnTo>
                            <a:lnTo>
                              <a:pt x="366" y="2"/>
                            </a:lnTo>
                            <a:lnTo>
                              <a:pt x="375" y="3"/>
                            </a:lnTo>
                            <a:lnTo>
                              <a:pt x="383" y="3"/>
                            </a:lnTo>
                            <a:lnTo>
                              <a:pt x="390" y="3"/>
                            </a:lnTo>
                            <a:lnTo>
                              <a:pt x="399" y="3"/>
                            </a:lnTo>
                            <a:lnTo>
                              <a:pt x="408" y="4"/>
                            </a:lnTo>
                            <a:lnTo>
                              <a:pt x="407" y="11"/>
                            </a:lnTo>
                            <a:lnTo>
                              <a:pt x="407" y="19"/>
                            </a:lnTo>
                            <a:lnTo>
                              <a:pt x="406" y="26"/>
                            </a:lnTo>
                            <a:lnTo>
                              <a:pt x="403" y="34"/>
                            </a:lnTo>
                            <a:lnTo>
                              <a:pt x="402" y="42"/>
                            </a:lnTo>
                            <a:lnTo>
                              <a:pt x="402" y="51"/>
                            </a:lnTo>
                            <a:lnTo>
                              <a:pt x="402" y="59"/>
                            </a:lnTo>
                            <a:lnTo>
                              <a:pt x="403" y="68"/>
                            </a:lnTo>
                            <a:lnTo>
                              <a:pt x="403" y="72"/>
                            </a:lnTo>
                            <a:lnTo>
                              <a:pt x="402" y="76"/>
                            </a:lnTo>
                            <a:lnTo>
                              <a:pt x="399" y="79"/>
                            </a:lnTo>
                            <a:lnTo>
                              <a:pt x="397" y="82"/>
                            </a:lnTo>
                            <a:lnTo>
                              <a:pt x="390" y="83"/>
                            </a:lnTo>
                            <a:lnTo>
                              <a:pt x="384" y="84"/>
                            </a:lnTo>
                            <a:lnTo>
                              <a:pt x="375" y="82"/>
                            </a:lnTo>
                            <a:lnTo>
                              <a:pt x="366" y="80"/>
                            </a:lnTo>
                            <a:lnTo>
                              <a:pt x="360" y="80"/>
                            </a:lnTo>
                            <a:lnTo>
                              <a:pt x="353" y="83"/>
                            </a:lnTo>
                            <a:lnTo>
                              <a:pt x="346" y="74"/>
                            </a:lnTo>
                            <a:lnTo>
                              <a:pt x="337" y="70"/>
                            </a:lnTo>
                            <a:lnTo>
                              <a:pt x="331" y="69"/>
                            </a:lnTo>
                            <a:lnTo>
                              <a:pt x="327" y="71"/>
                            </a:lnTo>
                            <a:lnTo>
                              <a:pt x="325" y="75"/>
                            </a:lnTo>
                            <a:lnTo>
                              <a:pt x="323" y="83"/>
                            </a:lnTo>
                            <a:lnTo>
                              <a:pt x="316" y="83"/>
                            </a:lnTo>
                            <a:lnTo>
                              <a:pt x="311" y="87"/>
                            </a:lnTo>
                            <a:lnTo>
                              <a:pt x="307" y="90"/>
                            </a:lnTo>
                            <a:lnTo>
                              <a:pt x="304" y="96"/>
                            </a:lnTo>
                            <a:lnTo>
                              <a:pt x="299" y="100"/>
                            </a:lnTo>
                            <a:lnTo>
                              <a:pt x="294" y="104"/>
                            </a:lnTo>
                            <a:lnTo>
                              <a:pt x="289" y="107"/>
                            </a:lnTo>
                            <a:lnTo>
                              <a:pt x="285" y="107"/>
                            </a:lnTo>
                            <a:lnTo>
                              <a:pt x="279" y="108"/>
                            </a:lnTo>
                            <a:lnTo>
                              <a:pt x="274" y="109"/>
                            </a:lnTo>
                            <a:lnTo>
                              <a:pt x="269" y="112"/>
                            </a:lnTo>
                            <a:lnTo>
                              <a:pt x="264" y="115"/>
                            </a:lnTo>
                            <a:lnTo>
                              <a:pt x="253" y="120"/>
                            </a:lnTo>
                            <a:lnTo>
                              <a:pt x="245" y="127"/>
                            </a:lnTo>
                            <a:lnTo>
                              <a:pt x="236" y="134"/>
                            </a:lnTo>
                            <a:lnTo>
                              <a:pt x="230" y="144"/>
                            </a:lnTo>
                            <a:lnTo>
                              <a:pt x="227" y="148"/>
                            </a:lnTo>
                            <a:lnTo>
                              <a:pt x="225" y="154"/>
                            </a:lnTo>
                            <a:lnTo>
                              <a:pt x="223" y="160"/>
                            </a:lnTo>
                            <a:lnTo>
                              <a:pt x="223" y="166"/>
                            </a:lnTo>
                            <a:lnTo>
                              <a:pt x="218" y="171"/>
                            </a:lnTo>
                            <a:lnTo>
                              <a:pt x="213" y="176"/>
                            </a:lnTo>
                            <a:lnTo>
                              <a:pt x="207" y="178"/>
                            </a:lnTo>
                            <a:lnTo>
                              <a:pt x="202" y="180"/>
                            </a:lnTo>
                            <a:lnTo>
                              <a:pt x="205" y="170"/>
                            </a:lnTo>
                            <a:lnTo>
                              <a:pt x="209" y="162"/>
                            </a:lnTo>
                            <a:lnTo>
                              <a:pt x="212" y="153"/>
                            </a:lnTo>
                            <a:lnTo>
                              <a:pt x="216" y="146"/>
                            </a:lnTo>
                            <a:lnTo>
                              <a:pt x="219" y="137"/>
                            </a:lnTo>
                            <a:lnTo>
                              <a:pt x="225" y="128"/>
                            </a:lnTo>
                            <a:lnTo>
                              <a:pt x="231" y="121"/>
                            </a:lnTo>
                            <a:lnTo>
                              <a:pt x="239" y="114"/>
                            </a:lnTo>
                            <a:lnTo>
                              <a:pt x="233" y="113"/>
                            </a:lnTo>
                            <a:lnTo>
                              <a:pt x="227" y="113"/>
                            </a:lnTo>
                            <a:lnTo>
                              <a:pt x="219" y="112"/>
                            </a:lnTo>
                            <a:lnTo>
                              <a:pt x="214" y="112"/>
                            </a:lnTo>
                            <a:lnTo>
                              <a:pt x="214" y="117"/>
                            </a:lnTo>
                            <a:lnTo>
                              <a:pt x="214" y="123"/>
                            </a:lnTo>
                            <a:lnTo>
                              <a:pt x="213" y="129"/>
                            </a:lnTo>
                            <a:lnTo>
                              <a:pt x="213" y="136"/>
                            </a:lnTo>
                            <a:lnTo>
                              <a:pt x="209" y="141"/>
                            </a:lnTo>
                            <a:lnTo>
                              <a:pt x="206" y="146"/>
                            </a:lnTo>
                            <a:lnTo>
                              <a:pt x="201" y="148"/>
                            </a:lnTo>
                            <a:lnTo>
                              <a:pt x="196" y="149"/>
                            </a:lnTo>
                            <a:lnTo>
                              <a:pt x="193" y="142"/>
                            </a:lnTo>
                            <a:lnTo>
                              <a:pt x="196" y="137"/>
                            </a:lnTo>
                            <a:lnTo>
                              <a:pt x="200" y="131"/>
                            </a:lnTo>
                            <a:lnTo>
                              <a:pt x="202" y="125"/>
                            </a:lnTo>
                            <a:lnTo>
                              <a:pt x="197" y="126"/>
                            </a:lnTo>
                            <a:lnTo>
                              <a:pt x="193" y="128"/>
                            </a:lnTo>
                            <a:lnTo>
                              <a:pt x="186" y="130"/>
                            </a:lnTo>
                            <a:lnTo>
                              <a:pt x="183" y="133"/>
                            </a:lnTo>
                            <a:lnTo>
                              <a:pt x="183" y="128"/>
                            </a:lnTo>
                            <a:lnTo>
                              <a:pt x="184" y="124"/>
                            </a:lnTo>
                            <a:lnTo>
                              <a:pt x="186" y="118"/>
                            </a:lnTo>
                            <a:lnTo>
                              <a:pt x="189" y="115"/>
                            </a:lnTo>
                            <a:lnTo>
                              <a:pt x="183" y="114"/>
                            </a:lnTo>
                            <a:lnTo>
                              <a:pt x="177" y="116"/>
                            </a:lnTo>
                            <a:lnTo>
                              <a:pt x="173" y="119"/>
                            </a:lnTo>
                            <a:lnTo>
                              <a:pt x="169" y="123"/>
                            </a:lnTo>
                            <a:lnTo>
                              <a:pt x="160" y="129"/>
                            </a:lnTo>
                            <a:lnTo>
                              <a:pt x="153" y="136"/>
                            </a:lnTo>
                            <a:lnTo>
                              <a:pt x="156" y="135"/>
                            </a:lnTo>
                            <a:lnTo>
                              <a:pt x="161" y="135"/>
                            </a:lnTo>
                            <a:lnTo>
                              <a:pt x="167" y="134"/>
                            </a:lnTo>
                            <a:lnTo>
                              <a:pt x="173" y="135"/>
                            </a:lnTo>
                            <a:lnTo>
                              <a:pt x="176" y="135"/>
                            </a:lnTo>
                            <a:lnTo>
                              <a:pt x="179" y="137"/>
                            </a:lnTo>
                            <a:lnTo>
                              <a:pt x="179" y="141"/>
                            </a:lnTo>
                            <a:lnTo>
                              <a:pt x="177" y="148"/>
                            </a:lnTo>
                            <a:lnTo>
                              <a:pt x="179" y="146"/>
                            </a:lnTo>
                            <a:lnTo>
                              <a:pt x="184" y="146"/>
                            </a:lnTo>
                            <a:lnTo>
                              <a:pt x="188" y="146"/>
                            </a:lnTo>
                            <a:lnTo>
                              <a:pt x="192" y="146"/>
                            </a:lnTo>
                            <a:lnTo>
                              <a:pt x="191" y="151"/>
                            </a:lnTo>
                            <a:lnTo>
                              <a:pt x="189" y="155"/>
                            </a:lnTo>
                            <a:lnTo>
                              <a:pt x="185" y="157"/>
                            </a:lnTo>
                            <a:lnTo>
                              <a:pt x="182" y="160"/>
                            </a:lnTo>
                            <a:lnTo>
                              <a:pt x="176" y="161"/>
                            </a:lnTo>
                            <a:lnTo>
                              <a:pt x="172" y="162"/>
                            </a:lnTo>
                            <a:lnTo>
                              <a:pt x="167" y="163"/>
                            </a:lnTo>
                            <a:lnTo>
                              <a:pt x="164" y="165"/>
                            </a:lnTo>
                            <a:lnTo>
                              <a:pt x="166" y="167"/>
                            </a:lnTo>
                            <a:lnTo>
                              <a:pt x="170" y="173"/>
                            </a:lnTo>
                            <a:lnTo>
                              <a:pt x="174" y="173"/>
                            </a:lnTo>
                            <a:lnTo>
                              <a:pt x="181" y="174"/>
                            </a:lnTo>
                            <a:lnTo>
                              <a:pt x="189" y="175"/>
                            </a:lnTo>
                            <a:lnTo>
                              <a:pt x="194" y="177"/>
                            </a:lnTo>
                            <a:lnTo>
                              <a:pt x="190" y="180"/>
                            </a:lnTo>
                            <a:lnTo>
                              <a:pt x="187" y="184"/>
                            </a:lnTo>
                            <a:lnTo>
                              <a:pt x="182" y="185"/>
                            </a:lnTo>
                            <a:lnTo>
                              <a:pt x="177" y="187"/>
                            </a:lnTo>
                            <a:lnTo>
                              <a:pt x="172" y="187"/>
                            </a:lnTo>
                            <a:lnTo>
                              <a:pt x="168" y="188"/>
                            </a:lnTo>
                            <a:lnTo>
                              <a:pt x="162" y="188"/>
                            </a:lnTo>
                            <a:lnTo>
                              <a:pt x="159" y="192"/>
                            </a:lnTo>
                            <a:lnTo>
                              <a:pt x="156" y="196"/>
                            </a:lnTo>
                            <a:lnTo>
                              <a:pt x="157" y="204"/>
                            </a:lnTo>
                            <a:lnTo>
                              <a:pt x="151" y="203"/>
                            </a:lnTo>
                            <a:lnTo>
                              <a:pt x="145" y="203"/>
                            </a:lnTo>
                            <a:lnTo>
                              <a:pt x="140" y="203"/>
                            </a:lnTo>
                            <a:lnTo>
                              <a:pt x="137" y="204"/>
                            </a:lnTo>
                            <a:lnTo>
                              <a:pt x="127" y="209"/>
                            </a:lnTo>
                            <a:lnTo>
                              <a:pt x="119" y="217"/>
                            </a:lnTo>
                            <a:lnTo>
                              <a:pt x="111" y="222"/>
                            </a:lnTo>
                            <a:lnTo>
                              <a:pt x="102" y="228"/>
                            </a:lnTo>
                            <a:lnTo>
                              <a:pt x="98" y="229"/>
                            </a:lnTo>
                            <a:lnTo>
                              <a:pt x="93" y="230"/>
                            </a:lnTo>
                            <a:lnTo>
                              <a:pt x="87" y="230"/>
                            </a:lnTo>
                            <a:lnTo>
                              <a:pt x="81" y="229"/>
                            </a:lnTo>
                            <a:lnTo>
                              <a:pt x="79" y="233"/>
                            </a:lnTo>
                            <a:lnTo>
                              <a:pt x="75" y="241"/>
                            </a:lnTo>
                            <a:lnTo>
                              <a:pt x="70" y="247"/>
                            </a:lnTo>
                            <a:lnTo>
                              <a:pt x="68" y="252"/>
                            </a:lnTo>
                            <a:lnTo>
                              <a:pt x="62" y="248"/>
                            </a:lnTo>
                            <a:lnTo>
                              <a:pt x="59" y="243"/>
                            </a:lnTo>
                            <a:lnTo>
                              <a:pt x="55" y="239"/>
                            </a:lnTo>
                            <a:lnTo>
                              <a:pt x="51" y="235"/>
                            </a:lnTo>
                            <a:lnTo>
                              <a:pt x="46" y="231"/>
                            </a:lnTo>
                            <a:lnTo>
                              <a:pt x="42" y="229"/>
                            </a:lnTo>
                            <a:lnTo>
                              <a:pt x="37" y="227"/>
                            </a:lnTo>
                            <a:lnTo>
                              <a:pt x="32" y="229"/>
                            </a:lnTo>
                            <a:lnTo>
                              <a:pt x="31" y="226"/>
                            </a:lnTo>
                            <a:lnTo>
                              <a:pt x="31" y="222"/>
                            </a:lnTo>
                            <a:lnTo>
                              <a:pt x="32" y="218"/>
                            </a:lnTo>
                            <a:lnTo>
                              <a:pt x="34" y="216"/>
                            </a:lnTo>
                            <a:lnTo>
                              <a:pt x="38" y="217"/>
                            </a:lnTo>
                            <a:lnTo>
                              <a:pt x="42" y="219"/>
                            </a:lnTo>
                            <a:lnTo>
                              <a:pt x="48" y="219"/>
                            </a:lnTo>
                            <a:lnTo>
                              <a:pt x="54" y="220"/>
                            </a:lnTo>
                            <a:lnTo>
                              <a:pt x="58" y="220"/>
                            </a:lnTo>
                            <a:lnTo>
                              <a:pt x="62" y="223"/>
                            </a:lnTo>
                            <a:lnTo>
                              <a:pt x="64" y="228"/>
                            </a:lnTo>
                            <a:lnTo>
                              <a:pt x="66" y="236"/>
                            </a:lnTo>
                            <a:lnTo>
                              <a:pt x="68" y="227"/>
                            </a:lnTo>
                            <a:lnTo>
                              <a:pt x="67" y="219"/>
                            </a:lnTo>
                            <a:lnTo>
                              <a:pt x="65" y="214"/>
                            </a:lnTo>
                            <a:lnTo>
                              <a:pt x="66" y="211"/>
                            </a:lnTo>
                            <a:lnTo>
                              <a:pt x="68" y="208"/>
                            </a:lnTo>
                            <a:lnTo>
                              <a:pt x="74" y="208"/>
                            </a:lnTo>
                            <a:lnTo>
                              <a:pt x="71" y="208"/>
                            </a:lnTo>
                            <a:lnTo>
                              <a:pt x="67" y="208"/>
                            </a:lnTo>
                            <a:lnTo>
                              <a:pt x="63" y="208"/>
                            </a:lnTo>
                            <a:lnTo>
                              <a:pt x="61" y="208"/>
                            </a:lnTo>
                            <a:lnTo>
                              <a:pt x="60" y="205"/>
                            </a:lnTo>
                            <a:lnTo>
                              <a:pt x="58" y="203"/>
                            </a:lnTo>
                            <a:lnTo>
                              <a:pt x="55" y="198"/>
                            </a:lnTo>
                            <a:lnTo>
                              <a:pt x="54" y="197"/>
                            </a:lnTo>
                            <a:lnTo>
                              <a:pt x="46" y="203"/>
                            </a:lnTo>
                            <a:lnTo>
                              <a:pt x="39" y="206"/>
                            </a:lnTo>
                            <a:lnTo>
                              <a:pt x="34" y="206"/>
                            </a:lnTo>
                            <a:lnTo>
                              <a:pt x="31" y="209"/>
                            </a:lnTo>
                            <a:lnTo>
                              <a:pt x="28" y="212"/>
                            </a:lnTo>
                            <a:lnTo>
                              <a:pt x="27" y="219"/>
                            </a:lnTo>
                            <a:lnTo>
                              <a:pt x="23" y="219"/>
                            </a:lnTo>
                            <a:lnTo>
                              <a:pt x="19" y="219"/>
                            </a:lnTo>
                            <a:lnTo>
                              <a:pt x="18" y="212"/>
                            </a:lnTo>
                            <a:lnTo>
                              <a:pt x="16" y="207"/>
                            </a:lnTo>
                            <a:lnTo>
                              <a:pt x="11" y="203"/>
                            </a:lnTo>
                            <a:lnTo>
                              <a:pt x="7" y="201"/>
                            </a:lnTo>
                            <a:lnTo>
                              <a:pt x="3" y="196"/>
                            </a:lnTo>
                            <a:lnTo>
                              <a:pt x="1" y="192"/>
                            </a:lnTo>
                            <a:lnTo>
                              <a:pt x="0" y="186"/>
                            </a:lnTo>
                            <a:lnTo>
                              <a:pt x="4" y="180"/>
                            </a:lnTo>
                            <a:lnTo>
                              <a:pt x="7" y="177"/>
                            </a:lnTo>
                            <a:lnTo>
                              <a:pt x="12" y="179"/>
                            </a:lnTo>
                            <a:lnTo>
                              <a:pt x="15" y="182"/>
                            </a:lnTo>
                            <a:lnTo>
                              <a:pt x="18" y="187"/>
                            </a:lnTo>
                            <a:lnTo>
                              <a:pt x="21" y="191"/>
                            </a:lnTo>
                            <a:lnTo>
                              <a:pt x="23" y="195"/>
                            </a:lnTo>
                            <a:lnTo>
                              <a:pt x="27" y="196"/>
                            </a:lnTo>
                            <a:lnTo>
                              <a:pt x="34" y="195"/>
                            </a:lnTo>
                            <a:lnTo>
                              <a:pt x="32" y="185"/>
                            </a:lnTo>
                            <a:lnTo>
                              <a:pt x="37" y="180"/>
                            </a:lnTo>
                            <a:lnTo>
                              <a:pt x="43" y="176"/>
                            </a:lnTo>
                            <a:lnTo>
                              <a:pt x="52" y="175"/>
                            </a:lnTo>
                            <a:lnTo>
                              <a:pt x="61" y="176"/>
                            </a:lnTo>
                            <a:lnTo>
                              <a:pt x="68" y="180"/>
                            </a:lnTo>
                            <a:lnTo>
                              <a:pt x="73" y="185"/>
                            </a:lnTo>
                            <a:lnTo>
                              <a:pt x="76" y="195"/>
                            </a:lnTo>
                            <a:lnTo>
                              <a:pt x="79" y="195"/>
                            </a:lnTo>
                            <a:lnTo>
                              <a:pt x="81" y="195"/>
                            </a:lnTo>
                            <a:lnTo>
                              <a:pt x="82" y="186"/>
                            </a:lnTo>
                            <a:lnTo>
                              <a:pt x="86" y="181"/>
                            </a:lnTo>
                            <a:lnTo>
                              <a:pt x="91" y="176"/>
                            </a:lnTo>
                            <a:lnTo>
                              <a:pt x="97" y="172"/>
                            </a:lnTo>
                            <a:lnTo>
                              <a:pt x="102" y="168"/>
                            </a:lnTo>
                            <a:lnTo>
                              <a:pt x="109" y="165"/>
                            </a:lnTo>
                            <a:lnTo>
                              <a:pt x="114" y="159"/>
                            </a:lnTo>
                            <a:lnTo>
                              <a:pt x="119" y="154"/>
                            </a:lnTo>
                            <a:lnTo>
                              <a:pt x="124" y="147"/>
                            </a:lnTo>
                            <a:lnTo>
                              <a:pt x="129" y="142"/>
                            </a:lnTo>
                            <a:lnTo>
                              <a:pt x="135" y="136"/>
                            </a:lnTo>
                            <a:lnTo>
                              <a:pt x="140" y="131"/>
                            </a:lnTo>
                            <a:lnTo>
                              <a:pt x="145" y="126"/>
                            </a:lnTo>
                            <a:lnTo>
                              <a:pt x="151" y="120"/>
                            </a:lnTo>
                            <a:lnTo>
                              <a:pt x="156" y="115"/>
                            </a:lnTo>
                            <a:lnTo>
                              <a:pt x="162" y="111"/>
                            </a:lnTo>
                            <a:lnTo>
                              <a:pt x="168" y="107"/>
                            </a:lnTo>
                            <a:lnTo>
                              <a:pt x="174" y="103"/>
                            </a:lnTo>
                            <a:lnTo>
                              <a:pt x="179" y="100"/>
                            </a:lnTo>
                            <a:lnTo>
                              <a:pt x="186" y="98"/>
                            </a:lnTo>
                            <a:lnTo>
                              <a:pt x="193" y="95"/>
                            </a:lnTo>
                            <a:lnTo>
                              <a:pt x="200" y="95"/>
                            </a:lnTo>
                            <a:lnTo>
                              <a:pt x="208" y="94"/>
                            </a:lnTo>
                            <a:lnTo>
                              <a:pt x="216" y="96"/>
                            </a:lnTo>
                            <a:lnTo>
                              <a:pt x="223" y="92"/>
                            </a:lnTo>
                            <a:lnTo>
                              <a:pt x="233" y="89"/>
                            </a:lnTo>
                            <a:lnTo>
                              <a:pt x="238" y="88"/>
                            </a:lnTo>
                            <a:lnTo>
                              <a:pt x="243" y="89"/>
                            </a:lnTo>
                            <a:lnTo>
                              <a:pt x="246" y="91"/>
                            </a:lnTo>
                            <a:lnTo>
                              <a:pt x="250" y="97"/>
                            </a:lnTo>
                            <a:lnTo>
                              <a:pt x="251" y="91"/>
                            </a:lnTo>
                            <a:lnTo>
                              <a:pt x="254" y="89"/>
                            </a:lnTo>
                            <a:lnTo>
                              <a:pt x="257" y="89"/>
                            </a:lnTo>
                            <a:lnTo>
                              <a:pt x="262" y="89"/>
                            </a:lnTo>
                            <a:lnTo>
                              <a:pt x="269" y="88"/>
                            </a:lnTo>
                            <a:lnTo>
                              <a:pt x="276" y="83"/>
                            </a:lnTo>
                            <a:lnTo>
                              <a:pt x="272" y="81"/>
                            </a:lnTo>
                            <a:lnTo>
                              <a:pt x="270" y="77"/>
                            </a:lnTo>
                            <a:lnTo>
                              <a:pt x="269" y="72"/>
                            </a:lnTo>
                            <a:lnTo>
                              <a:pt x="270" y="70"/>
                            </a:lnTo>
                            <a:lnTo>
                              <a:pt x="275" y="68"/>
                            </a:lnTo>
                            <a:lnTo>
                              <a:pt x="280" y="65"/>
                            </a:lnTo>
                            <a:lnTo>
                              <a:pt x="286" y="62"/>
                            </a:lnTo>
                            <a:lnTo>
                              <a:pt x="291" y="60"/>
                            </a:lnTo>
                            <a:lnTo>
                              <a:pt x="297" y="57"/>
                            </a:lnTo>
                            <a:lnTo>
                              <a:pt x="303" y="57"/>
                            </a:lnTo>
                            <a:lnTo>
                              <a:pt x="308" y="56"/>
                            </a:lnTo>
                            <a:lnTo>
                              <a:pt x="316" y="58"/>
                            </a:lnTo>
                            <a:lnTo>
                              <a:pt x="316" y="50"/>
                            </a:lnTo>
                            <a:lnTo>
                              <a:pt x="318" y="42"/>
                            </a:lnTo>
                            <a:lnTo>
                              <a:pt x="320" y="33"/>
                            </a:lnTo>
                            <a:lnTo>
                              <a:pt x="324" y="26"/>
                            </a:lnTo>
                            <a:lnTo>
                              <a:pt x="327" y="18"/>
                            </a:lnTo>
                            <a:lnTo>
                              <a:pt x="331" y="12"/>
                            </a:lnTo>
                            <a:lnTo>
                              <a:pt x="337" y="5"/>
                            </a:lnTo>
                            <a:lnTo>
                              <a:pt x="345" y="0"/>
                            </a:lnTo>
                            <a:lnTo>
                              <a:pt x="345" y="0"/>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rot="19453200">
                        <a:off x="5172120" y="4038480"/>
                        <a:ext cx="15120" cy="2520"/>
                      </a:xfrm>
                      <a:custGeom>
                        <a:avLst/>
                        <a:gdLst/>
                        <a:ahLst/>
                        <a:rect l="l" t="t" r="r" b="b"/>
                        <a:pathLst>
                          <a:path w="14" h="3">
                            <a:moveTo>
                              <a:pt x="14" y="3"/>
                            </a:moveTo>
                            <a:lnTo>
                              <a:pt x="7" y="0"/>
                            </a:lnTo>
                            <a:lnTo>
                              <a:pt x="2" y="1"/>
                            </a:lnTo>
                            <a:lnTo>
                              <a:pt x="0" y="2"/>
                            </a:lnTo>
                            <a:lnTo>
                              <a:pt x="2" y="3"/>
                            </a:lnTo>
                            <a:lnTo>
                              <a:pt x="5" y="3"/>
                            </a:lnTo>
                            <a:lnTo>
                              <a:pt x="14" y="3"/>
                            </a:lnTo>
                            <a:lnTo>
                              <a:pt x="14" y="3"/>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68" name=""/>
                      <p:cNvSpPr/>
                      <p:nvPr/>
                    </p:nvSpPr>
                    <p:spPr>
                      <a:xfrm rot="19453200">
                        <a:off x="5258520" y="3864960"/>
                        <a:ext cx="42120" cy="20880"/>
                      </a:xfrm>
                      <a:custGeom>
                        <a:avLst/>
                        <a:gdLst/>
                        <a:ahLst/>
                        <a:rect l="l" t="t" r="r" b="b"/>
                        <a:pathLst>
                          <a:path w="38" h="22">
                            <a:moveTo>
                              <a:pt x="10" y="0"/>
                            </a:moveTo>
                            <a:lnTo>
                              <a:pt x="16" y="2"/>
                            </a:lnTo>
                            <a:lnTo>
                              <a:pt x="23" y="2"/>
                            </a:lnTo>
                            <a:lnTo>
                              <a:pt x="30" y="1"/>
                            </a:lnTo>
                            <a:lnTo>
                              <a:pt x="38" y="3"/>
                            </a:lnTo>
                            <a:lnTo>
                              <a:pt x="30" y="7"/>
                            </a:lnTo>
                            <a:lnTo>
                              <a:pt x="23" y="11"/>
                            </a:lnTo>
                            <a:lnTo>
                              <a:pt x="15" y="15"/>
                            </a:lnTo>
                            <a:lnTo>
                              <a:pt x="7" y="22"/>
                            </a:lnTo>
                            <a:lnTo>
                              <a:pt x="5" y="18"/>
                            </a:lnTo>
                            <a:lnTo>
                              <a:pt x="2" y="13"/>
                            </a:lnTo>
                            <a:lnTo>
                              <a:pt x="0" y="9"/>
                            </a:lnTo>
                            <a:lnTo>
                              <a:pt x="0" y="6"/>
                            </a:lnTo>
                            <a:lnTo>
                              <a:pt x="2" y="4"/>
                            </a:lnTo>
                            <a:lnTo>
                              <a:pt x="5" y="2"/>
                            </a:lnTo>
                            <a:lnTo>
                              <a:pt x="7" y="0"/>
                            </a:lnTo>
                            <a:lnTo>
                              <a:pt x="10" y="0"/>
                            </a:lnTo>
                            <a:lnTo>
                              <a:pt x="10"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69" name=""/>
                      <p:cNvSpPr/>
                      <p:nvPr/>
                    </p:nvSpPr>
                    <p:spPr>
                      <a:xfrm rot="19453200">
                        <a:off x="5253480" y="3897360"/>
                        <a:ext cx="6480" cy="16920"/>
                      </a:xfrm>
                      <a:custGeom>
                        <a:avLst/>
                        <a:gdLst/>
                        <a:ahLst/>
                        <a:rect l="l" t="t" r="r" b="b"/>
                        <a:pathLst>
                          <a:path w="6" h="18">
                            <a:moveTo>
                              <a:pt x="6" y="0"/>
                            </a:moveTo>
                            <a:lnTo>
                              <a:pt x="6" y="3"/>
                            </a:lnTo>
                            <a:lnTo>
                              <a:pt x="6" y="8"/>
                            </a:lnTo>
                            <a:lnTo>
                              <a:pt x="5" y="12"/>
                            </a:lnTo>
                            <a:lnTo>
                              <a:pt x="4" y="16"/>
                            </a:lnTo>
                            <a:lnTo>
                              <a:pt x="1" y="18"/>
                            </a:lnTo>
                            <a:lnTo>
                              <a:pt x="0" y="18"/>
                            </a:lnTo>
                            <a:lnTo>
                              <a:pt x="0" y="15"/>
                            </a:lnTo>
                            <a:lnTo>
                              <a:pt x="3" y="8"/>
                            </a:lnTo>
                            <a:lnTo>
                              <a:pt x="4" y="2"/>
                            </a:lnTo>
                            <a:lnTo>
                              <a:pt x="6" y="0"/>
                            </a:lnTo>
                            <a:lnTo>
                              <a:pt x="6"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370" name=""/>
                      <p:cNvSpPr/>
                      <p:nvPr/>
                    </p:nvSpPr>
                    <p:spPr>
                      <a:xfrm rot="19453200">
                        <a:off x="5281920" y="3870360"/>
                        <a:ext cx="38520" cy="30240"/>
                      </a:xfrm>
                      <a:custGeom>
                        <a:avLst/>
                        <a:gdLst/>
                        <a:ahLst/>
                        <a:rect l="l" t="t" r="r" b="b"/>
                        <a:pathLst>
                          <a:path w="35" h="32">
                            <a:moveTo>
                              <a:pt x="31" y="0"/>
                            </a:moveTo>
                            <a:lnTo>
                              <a:pt x="35" y="8"/>
                            </a:lnTo>
                            <a:lnTo>
                              <a:pt x="35" y="16"/>
                            </a:lnTo>
                            <a:lnTo>
                              <a:pt x="32" y="22"/>
                            </a:lnTo>
                            <a:lnTo>
                              <a:pt x="29" y="28"/>
                            </a:lnTo>
                            <a:lnTo>
                              <a:pt x="22" y="31"/>
                            </a:lnTo>
                            <a:lnTo>
                              <a:pt x="16" y="32"/>
                            </a:lnTo>
                            <a:lnTo>
                              <a:pt x="8" y="32"/>
                            </a:lnTo>
                            <a:lnTo>
                              <a:pt x="2" y="31"/>
                            </a:lnTo>
                            <a:lnTo>
                              <a:pt x="0" y="24"/>
                            </a:lnTo>
                            <a:lnTo>
                              <a:pt x="0" y="19"/>
                            </a:lnTo>
                            <a:lnTo>
                              <a:pt x="7" y="13"/>
                            </a:lnTo>
                            <a:lnTo>
                              <a:pt x="16" y="9"/>
                            </a:lnTo>
                            <a:lnTo>
                              <a:pt x="23" y="5"/>
                            </a:lnTo>
                            <a:lnTo>
                              <a:pt x="31" y="0"/>
                            </a:lnTo>
                            <a:lnTo>
                              <a:pt x="31"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71" name=""/>
                      <p:cNvSpPr/>
                      <p:nvPr/>
                    </p:nvSpPr>
                    <p:spPr>
                      <a:xfrm rot="19453200">
                        <a:off x="4449600" y="4271400"/>
                        <a:ext cx="697680" cy="321120"/>
                      </a:xfrm>
                      <a:custGeom>
                        <a:avLst/>
                        <a:gdLst/>
                        <a:ahLst/>
                        <a:rect l="l" t="t" r="r" b="b"/>
                        <a:pathLst>
                          <a:path w="630" h="337">
                            <a:moveTo>
                              <a:pt x="470" y="3"/>
                            </a:moveTo>
                            <a:lnTo>
                              <a:pt x="474" y="0"/>
                            </a:lnTo>
                            <a:lnTo>
                              <a:pt x="481" y="1"/>
                            </a:lnTo>
                            <a:lnTo>
                              <a:pt x="486" y="3"/>
                            </a:lnTo>
                            <a:lnTo>
                              <a:pt x="493" y="7"/>
                            </a:lnTo>
                            <a:lnTo>
                              <a:pt x="496" y="9"/>
                            </a:lnTo>
                            <a:lnTo>
                              <a:pt x="497" y="12"/>
                            </a:lnTo>
                            <a:lnTo>
                              <a:pt x="496" y="13"/>
                            </a:lnTo>
                            <a:lnTo>
                              <a:pt x="493" y="14"/>
                            </a:lnTo>
                            <a:lnTo>
                              <a:pt x="489" y="15"/>
                            </a:lnTo>
                            <a:lnTo>
                              <a:pt x="485" y="16"/>
                            </a:lnTo>
                            <a:lnTo>
                              <a:pt x="478" y="18"/>
                            </a:lnTo>
                            <a:lnTo>
                              <a:pt x="472" y="26"/>
                            </a:lnTo>
                            <a:lnTo>
                              <a:pt x="470" y="33"/>
                            </a:lnTo>
                            <a:lnTo>
                              <a:pt x="474" y="41"/>
                            </a:lnTo>
                            <a:lnTo>
                              <a:pt x="473" y="32"/>
                            </a:lnTo>
                            <a:lnTo>
                              <a:pt x="478" y="28"/>
                            </a:lnTo>
                            <a:lnTo>
                              <a:pt x="484" y="27"/>
                            </a:lnTo>
                            <a:lnTo>
                              <a:pt x="488" y="33"/>
                            </a:lnTo>
                            <a:lnTo>
                              <a:pt x="492" y="28"/>
                            </a:lnTo>
                            <a:lnTo>
                              <a:pt x="496" y="24"/>
                            </a:lnTo>
                            <a:lnTo>
                              <a:pt x="500" y="18"/>
                            </a:lnTo>
                            <a:lnTo>
                              <a:pt x="504" y="13"/>
                            </a:lnTo>
                            <a:lnTo>
                              <a:pt x="506" y="8"/>
                            </a:lnTo>
                            <a:lnTo>
                              <a:pt x="510" y="6"/>
                            </a:lnTo>
                            <a:lnTo>
                              <a:pt x="516" y="4"/>
                            </a:lnTo>
                            <a:lnTo>
                              <a:pt x="523" y="6"/>
                            </a:lnTo>
                            <a:lnTo>
                              <a:pt x="530" y="4"/>
                            </a:lnTo>
                            <a:lnTo>
                              <a:pt x="538" y="6"/>
                            </a:lnTo>
                            <a:lnTo>
                              <a:pt x="544" y="8"/>
                            </a:lnTo>
                            <a:lnTo>
                              <a:pt x="551" y="12"/>
                            </a:lnTo>
                            <a:lnTo>
                              <a:pt x="557" y="15"/>
                            </a:lnTo>
                            <a:lnTo>
                              <a:pt x="563" y="19"/>
                            </a:lnTo>
                            <a:lnTo>
                              <a:pt x="570" y="21"/>
                            </a:lnTo>
                            <a:lnTo>
                              <a:pt x="579" y="23"/>
                            </a:lnTo>
                            <a:lnTo>
                              <a:pt x="581" y="31"/>
                            </a:lnTo>
                            <a:lnTo>
                              <a:pt x="583" y="42"/>
                            </a:lnTo>
                            <a:lnTo>
                              <a:pt x="583" y="51"/>
                            </a:lnTo>
                            <a:lnTo>
                              <a:pt x="584" y="62"/>
                            </a:lnTo>
                            <a:lnTo>
                              <a:pt x="583" y="66"/>
                            </a:lnTo>
                            <a:lnTo>
                              <a:pt x="583" y="71"/>
                            </a:lnTo>
                            <a:lnTo>
                              <a:pt x="582" y="77"/>
                            </a:lnTo>
                            <a:lnTo>
                              <a:pt x="582" y="83"/>
                            </a:lnTo>
                            <a:lnTo>
                              <a:pt x="581" y="87"/>
                            </a:lnTo>
                            <a:lnTo>
                              <a:pt x="581" y="92"/>
                            </a:lnTo>
                            <a:lnTo>
                              <a:pt x="581" y="98"/>
                            </a:lnTo>
                            <a:lnTo>
                              <a:pt x="581" y="104"/>
                            </a:lnTo>
                            <a:lnTo>
                              <a:pt x="578" y="105"/>
                            </a:lnTo>
                            <a:lnTo>
                              <a:pt x="575" y="107"/>
                            </a:lnTo>
                            <a:lnTo>
                              <a:pt x="584" y="104"/>
                            </a:lnTo>
                            <a:lnTo>
                              <a:pt x="595" y="107"/>
                            </a:lnTo>
                            <a:lnTo>
                              <a:pt x="600" y="108"/>
                            </a:lnTo>
                            <a:lnTo>
                              <a:pt x="605" y="110"/>
                            </a:lnTo>
                            <a:lnTo>
                              <a:pt x="610" y="108"/>
                            </a:lnTo>
                            <a:lnTo>
                              <a:pt x="615" y="104"/>
                            </a:lnTo>
                            <a:lnTo>
                              <a:pt x="608" y="103"/>
                            </a:lnTo>
                            <a:lnTo>
                              <a:pt x="605" y="98"/>
                            </a:lnTo>
                            <a:lnTo>
                              <a:pt x="605" y="92"/>
                            </a:lnTo>
                            <a:lnTo>
                              <a:pt x="608" y="87"/>
                            </a:lnTo>
                            <a:lnTo>
                              <a:pt x="610" y="84"/>
                            </a:lnTo>
                            <a:lnTo>
                              <a:pt x="615" y="83"/>
                            </a:lnTo>
                            <a:lnTo>
                              <a:pt x="617" y="83"/>
                            </a:lnTo>
                            <a:lnTo>
                              <a:pt x="619" y="85"/>
                            </a:lnTo>
                            <a:lnTo>
                              <a:pt x="621" y="87"/>
                            </a:lnTo>
                            <a:lnTo>
                              <a:pt x="624" y="93"/>
                            </a:lnTo>
                            <a:lnTo>
                              <a:pt x="628" y="97"/>
                            </a:lnTo>
                            <a:lnTo>
                              <a:pt x="630" y="102"/>
                            </a:lnTo>
                            <a:lnTo>
                              <a:pt x="630" y="107"/>
                            </a:lnTo>
                            <a:lnTo>
                              <a:pt x="630" y="113"/>
                            </a:lnTo>
                            <a:lnTo>
                              <a:pt x="628" y="119"/>
                            </a:lnTo>
                            <a:lnTo>
                              <a:pt x="627" y="124"/>
                            </a:lnTo>
                            <a:lnTo>
                              <a:pt x="627" y="130"/>
                            </a:lnTo>
                            <a:lnTo>
                              <a:pt x="628" y="137"/>
                            </a:lnTo>
                            <a:lnTo>
                              <a:pt x="622" y="137"/>
                            </a:lnTo>
                            <a:lnTo>
                              <a:pt x="618" y="137"/>
                            </a:lnTo>
                            <a:lnTo>
                              <a:pt x="616" y="133"/>
                            </a:lnTo>
                            <a:lnTo>
                              <a:pt x="612" y="128"/>
                            </a:lnTo>
                            <a:lnTo>
                              <a:pt x="606" y="124"/>
                            </a:lnTo>
                            <a:lnTo>
                              <a:pt x="603" y="123"/>
                            </a:lnTo>
                            <a:lnTo>
                              <a:pt x="598" y="124"/>
                            </a:lnTo>
                            <a:lnTo>
                              <a:pt x="595" y="127"/>
                            </a:lnTo>
                            <a:lnTo>
                              <a:pt x="592" y="131"/>
                            </a:lnTo>
                            <a:lnTo>
                              <a:pt x="592" y="136"/>
                            </a:lnTo>
                            <a:lnTo>
                              <a:pt x="591" y="141"/>
                            </a:lnTo>
                            <a:lnTo>
                              <a:pt x="591" y="145"/>
                            </a:lnTo>
                            <a:lnTo>
                              <a:pt x="591" y="150"/>
                            </a:lnTo>
                            <a:lnTo>
                              <a:pt x="591" y="156"/>
                            </a:lnTo>
                            <a:lnTo>
                              <a:pt x="583" y="157"/>
                            </a:lnTo>
                            <a:lnTo>
                              <a:pt x="578" y="159"/>
                            </a:lnTo>
                            <a:lnTo>
                              <a:pt x="575" y="153"/>
                            </a:lnTo>
                            <a:lnTo>
                              <a:pt x="572" y="148"/>
                            </a:lnTo>
                            <a:lnTo>
                              <a:pt x="568" y="143"/>
                            </a:lnTo>
                            <a:lnTo>
                              <a:pt x="565" y="140"/>
                            </a:lnTo>
                            <a:lnTo>
                              <a:pt x="557" y="132"/>
                            </a:lnTo>
                            <a:lnTo>
                              <a:pt x="549" y="125"/>
                            </a:lnTo>
                            <a:lnTo>
                              <a:pt x="541" y="117"/>
                            </a:lnTo>
                            <a:lnTo>
                              <a:pt x="535" y="109"/>
                            </a:lnTo>
                            <a:lnTo>
                              <a:pt x="532" y="104"/>
                            </a:lnTo>
                            <a:lnTo>
                              <a:pt x="531" y="100"/>
                            </a:lnTo>
                            <a:lnTo>
                              <a:pt x="531" y="95"/>
                            </a:lnTo>
                            <a:lnTo>
                              <a:pt x="532" y="90"/>
                            </a:lnTo>
                            <a:lnTo>
                              <a:pt x="527" y="87"/>
                            </a:lnTo>
                            <a:lnTo>
                              <a:pt x="523" y="85"/>
                            </a:lnTo>
                            <a:lnTo>
                              <a:pt x="524" y="80"/>
                            </a:lnTo>
                            <a:lnTo>
                              <a:pt x="526" y="74"/>
                            </a:lnTo>
                            <a:lnTo>
                              <a:pt x="529" y="68"/>
                            </a:lnTo>
                            <a:lnTo>
                              <a:pt x="532" y="63"/>
                            </a:lnTo>
                            <a:lnTo>
                              <a:pt x="535" y="57"/>
                            </a:lnTo>
                            <a:lnTo>
                              <a:pt x="538" y="51"/>
                            </a:lnTo>
                            <a:lnTo>
                              <a:pt x="541" y="47"/>
                            </a:lnTo>
                            <a:lnTo>
                              <a:pt x="546" y="42"/>
                            </a:lnTo>
                            <a:lnTo>
                              <a:pt x="541" y="35"/>
                            </a:lnTo>
                            <a:lnTo>
                              <a:pt x="534" y="32"/>
                            </a:lnTo>
                            <a:lnTo>
                              <a:pt x="526" y="33"/>
                            </a:lnTo>
                            <a:lnTo>
                              <a:pt x="522" y="39"/>
                            </a:lnTo>
                            <a:lnTo>
                              <a:pt x="523" y="40"/>
                            </a:lnTo>
                            <a:lnTo>
                              <a:pt x="527" y="43"/>
                            </a:lnTo>
                            <a:lnTo>
                              <a:pt x="529" y="47"/>
                            </a:lnTo>
                            <a:lnTo>
                              <a:pt x="532" y="51"/>
                            </a:lnTo>
                            <a:lnTo>
                              <a:pt x="523" y="49"/>
                            </a:lnTo>
                            <a:lnTo>
                              <a:pt x="520" y="53"/>
                            </a:lnTo>
                            <a:lnTo>
                              <a:pt x="518" y="61"/>
                            </a:lnTo>
                            <a:lnTo>
                              <a:pt x="518" y="70"/>
                            </a:lnTo>
                            <a:lnTo>
                              <a:pt x="516" y="79"/>
                            </a:lnTo>
                            <a:lnTo>
                              <a:pt x="513" y="86"/>
                            </a:lnTo>
                            <a:lnTo>
                              <a:pt x="510" y="88"/>
                            </a:lnTo>
                            <a:lnTo>
                              <a:pt x="507" y="91"/>
                            </a:lnTo>
                            <a:lnTo>
                              <a:pt x="503" y="91"/>
                            </a:lnTo>
                            <a:lnTo>
                              <a:pt x="498" y="91"/>
                            </a:lnTo>
                            <a:lnTo>
                              <a:pt x="488" y="90"/>
                            </a:lnTo>
                            <a:lnTo>
                              <a:pt x="479" y="90"/>
                            </a:lnTo>
                            <a:lnTo>
                              <a:pt x="469" y="90"/>
                            </a:lnTo>
                            <a:lnTo>
                              <a:pt x="461" y="90"/>
                            </a:lnTo>
                            <a:lnTo>
                              <a:pt x="460" y="85"/>
                            </a:lnTo>
                            <a:lnTo>
                              <a:pt x="460" y="82"/>
                            </a:lnTo>
                            <a:lnTo>
                              <a:pt x="460" y="77"/>
                            </a:lnTo>
                            <a:lnTo>
                              <a:pt x="460" y="75"/>
                            </a:lnTo>
                            <a:lnTo>
                              <a:pt x="453" y="76"/>
                            </a:lnTo>
                            <a:lnTo>
                              <a:pt x="452" y="80"/>
                            </a:lnTo>
                            <a:lnTo>
                              <a:pt x="454" y="85"/>
                            </a:lnTo>
                            <a:lnTo>
                              <a:pt x="457" y="91"/>
                            </a:lnTo>
                            <a:lnTo>
                              <a:pt x="458" y="95"/>
                            </a:lnTo>
                            <a:lnTo>
                              <a:pt x="459" y="99"/>
                            </a:lnTo>
                            <a:lnTo>
                              <a:pt x="456" y="102"/>
                            </a:lnTo>
                            <a:lnTo>
                              <a:pt x="449" y="102"/>
                            </a:lnTo>
                            <a:lnTo>
                              <a:pt x="447" y="93"/>
                            </a:lnTo>
                            <a:lnTo>
                              <a:pt x="444" y="90"/>
                            </a:lnTo>
                            <a:lnTo>
                              <a:pt x="440" y="90"/>
                            </a:lnTo>
                            <a:lnTo>
                              <a:pt x="437" y="94"/>
                            </a:lnTo>
                            <a:lnTo>
                              <a:pt x="432" y="97"/>
                            </a:lnTo>
                            <a:lnTo>
                              <a:pt x="428" y="101"/>
                            </a:lnTo>
                            <a:lnTo>
                              <a:pt x="425" y="103"/>
                            </a:lnTo>
                            <a:lnTo>
                              <a:pt x="421" y="104"/>
                            </a:lnTo>
                            <a:lnTo>
                              <a:pt x="420" y="100"/>
                            </a:lnTo>
                            <a:lnTo>
                              <a:pt x="420" y="96"/>
                            </a:lnTo>
                            <a:lnTo>
                              <a:pt x="420" y="91"/>
                            </a:lnTo>
                            <a:lnTo>
                              <a:pt x="421" y="90"/>
                            </a:lnTo>
                            <a:lnTo>
                              <a:pt x="412" y="90"/>
                            </a:lnTo>
                            <a:lnTo>
                              <a:pt x="407" y="92"/>
                            </a:lnTo>
                            <a:lnTo>
                              <a:pt x="402" y="95"/>
                            </a:lnTo>
                            <a:lnTo>
                              <a:pt x="399" y="101"/>
                            </a:lnTo>
                            <a:lnTo>
                              <a:pt x="396" y="105"/>
                            </a:lnTo>
                            <a:lnTo>
                              <a:pt x="395" y="112"/>
                            </a:lnTo>
                            <a:lnTo>
                              <a:pt x="394" y="119"/>
                            </a:lnTo>
                            <a:lnTo>
                              <a:pt x="395" y="127"/>
                            </a:lnTo>
                            <a:lnTo>
                              <a:pt x="386" y="130"/>
                            </a:lnTo>
                            <a:lnTo>
                              <a:pt x="379" y="126"/>
                            </a:lnTo>
                            <a:lnTo>
                              <a:pt x="377" y="118"/>
                            </a:lnTo>
                            <a:lnTo>
                              <a:pt x="382" y="112"/>
                            </a:lnTo>
                            <a:lnTo>
                              <a:pt x="379" y="109"/>
                            </a:lnTo>
                            <a:lnTo>
                              <a:pt x="377" y="106"/>
                            </a:lnTo>
                            <a:lnTo>
                              <a:pt x="371" y="109"/>
                            </a:lnTo>
                            <a:lnTo>
                              <a:pt x="369" y="113"/>
                            </a:lnTo>
                            <a:lnTo>
                              <a:pt x="369" y="117"/>
                            </a:lnTo>
                            <a:lnTo>
                              <a:pt x="371" y="123"/>
                            </a:lnTo>
                            <a:lnTo>
                              <a:pt x="377" y="131"/>
                            </a:lnTo>
                            <a:lnTo>
                              <a:pt x="379" y="142"/>
                            </a:lnTo>
                            <a:lnTo>
                              <a:pt x="385" y="139"/>
                            </a:lnTo>
                            <a:lnTo>
                              <a:pt x="391" y="136"/>
                            </a:lnTo>
                            <a:lnTo>
                              <a:pt x="397" y="130"/>
                            </a:lnTo>
                            <a:lnTo>
                              <a:pt x="403" y="125"/>
                            </a:lnTo>
                            <a:lnTo>
                              <a:pt x="408" y="120"/>
                            </a:lnTo>
                            <a:lnTo>
                              <a:pt x="413" y="116"/>
                            </a:lnTo>
                            <a:lnTo>
                              <a:pt x="419" y="112"/>
                            </a:lnTo>
                            <a:lnTo>
                              <a:pt x="428" y="112"/>
                            </a:lnTo>
                            <a:lnTo>
                              <a:pt x="433" y="107"/>
                            </a:lnTo>
                            <a:lnTo>
                              <a:pt x="440" y="104"/>
                            </a:lnTo>
                            <a:lnTo>
                              <a:pt x="444" y="106"/>
                            </a:lnTo>
                            <a:lnTo>
                              <a:pt x="449" y="111"/>
                            </a:lnTo>
                            <a:lnTo>
                              <a:pt x="442" y="117"/>
                            </a:lnTo>
                            <a:lnTo>
                              <a:pt x="435" y="122"/>
                            </a:lnTo>
                            <a:lnTo>
                              <a:pt x="428" y="125"/>
                            </a:lnTo>
                            <a:lnTo>
                              <a:pt x="420" y="129"/>
                            </a:lnTo>
                            <a:lnTo>
                              <a:pt x="412" y="132"/>
                            </a:lnTo>
                            <a:lnTo>
                              <a:pt x="406" y="138"/>
                            </a:lnTo>
                            <a:lnTo>
                              <a:pt x="399" y="143"/>
                            </a:lnTo>
                            <a:lnTo>
                              <a:pt x="394" y="153"/>
                            </a:lnTo>
                            <a:lnTo>
                              <a:pt x="386" y="156"/>
                            </a:lnTo>
                            <a:lnTo>
                              <a:pt x="378" y="157"/>
                            </a:lnTo>
                            <a:lnTo>
                              <a:pt x="370" y="157"/>
                            </a:lnTo>
                            <a:lnTo>
                              <a:pt x="362" y="158"/>
                            </a:lnTo>
                            <a:lnTo>
                              <a:pt x="353" y="158"/>
                            </a:lnTo>
                            <a:lnTo>
                              <a:pt x="347" y="160"/>
                            </a:lnTo>
                            <a:lnTo>
                              <a:pt x="339" y="164"/>
                            </a:lnTo>
                            <a:lnTo>
                              <a:pt x="334" y="173"/>
                            </a:lnTo>
                            <a:lnTo>
                              <a:pt x="329" y="178"/>
                            </a:lnTo>
                            <a:lnTo>
                              <a:pt x="323" y="183"/>
                            </a:lnTo>
                            <a:lnTo>
                              <a:pt x="316" y="188"/>
                            </a:lnTo>
                            <a:lnTo>
                              <a:pt x="311" y="193"/>
                            </a:lnTo>
                            <a:lnTo>
                              <a:pt x="304" y="195"/>
                            </a:lnTo>
                            <a:lnTo>
                              <a:pt x="297" y="195"/>
                            </a:lnTo>
                            <a:lnTo>
                              <a:pt x="291" y="193"/>
                            </a:lnTo>
                            <a:lnTo>
                              <a:pt x="284" y="190"/>
                            </a:lnTo>
                            <a:lnTo>
                              <a:pt x="279" y="192"/>
                            </a:lnTo>
                            <a:lnTo>
                              <a:pt x="276" y="194"/>
                            </a:lnTo>
                            <a:lnTo>
                              <a:pt x="277" y="196"/>
                            </a:lnTo>
                            <a:lnTo>
                              <a:pt x="282" y="200"/>
                            </a:lnTo>
                            <a:lnTo>
                              <a:pt x="285" y="205"/>
                            </a:lnTo>
                            <a:lnTo>
                              <a:pt x="288" y="210"/>
                            </a:lnTo>
                            <a:lnTo>
                              <a:pt x="279" y="210"/>
                            </a:lnTo>
                            <a:lnTo>
                              <a:pt x="272" y="215"/>
                            </a:lnTo>
                            <a:lnTo>
                              <a:pt x="265" y="220"/>
                            </a:lnTo>
                            <a:lnTo>
                              <a:pt x="259" y="228"/>
                            </a:lnTo>
                            <a:lnTo>
                              <a:pt x="253" y="235"/>
                            </a:lnTo>
                            <a:lnTo>
                              <a:pt x="247" y="240"/>
                            </a:lnTo>
                            <a:lnTo>
                              <a:pt x="239" y="244"/>
                            </a:lnTo>
                            <a:lnTo>
                              <a:pt x="232" y="246"/>
                            </a:lnTo>
                            <a:lnTo>
                              <a:pt x="223" y="247"/>
                            </a:lnTo>
                            <a:lnTo>
                              <a:pt x="219" y="254"/>
                            </a:lnTo>
                            <a:lnTo>
                              <a:pt x="216" y="257"/>
                            </a:lnTo>
                            <a:lnTo>
                              <a:pt x="213" y="260"/>
                            </a:lnTo>
                            <a:lnTo>
                              <a:pt x="208" y="262"/>
                            </a:lnTo>
                            <a:lnTo>
                              <a:pt x="204" y="261"/>
                            </a:lnTo>
                            <a:lnTo>
                              <a:pt x="203" y="267"/>
                            </a:lnTo>
                            <a:lnTo>
                              <a:pt x="200" y="271"/>
                            </a:lnTo>
                            <a:lnTo>
                              <a:pt x="196" y="273"/>
                            </a:lnTo>
                            <a:lnTo>
                              <a:pt x="192" y="275"/>
                            </a:lnTo>
                            <a:lnTo>
                              <a:pt x="187" y="276"/>
                            </a:lnTo>
                            <a:lnTo>
                              <a:pt x="184" y="278"/>
                            </a:lnTo>
                            <a:lnTo>
                              <a:pt x="182" y="282"/>
                            </a:lnTo>
                            <a:lnTo>
                              <a:pt x="185" y="290"/>
                            </a:lnTo>
                            <a:lnTo>
                              <a:pt x="181" y="298"/>
                            </a:lnTo>
                            <a:lnTo>
                              <a:pt x="176" y="306"/>
                            </a:lnTo>
                            <a:lnTo>
                              <a:pt x="167" y="311"/>
                            </a:lnTo>
                            <a:lnTo>
                              <a:pt x="160" y="314"/>
                            </a:lnTo>
                            <a:lnTo>
                              <a:pt x="149" y="315"/>
                            </a:lnTo>
                            <a:lnTo>
                              <a:pt x="140" y="316"/>
                            </a:lnTo>
                            <a:lnTo>
                              <a:pt x="131" y="315"/>
                            </a:lnTo>
                            <a:lnTo>
                              <a:pt x="124" y="315"/>
                            </a:lnTo>
                            <a:lnTo>
                              <a:pt x="122" y="316"/>
                            </a:lnTo>
                            <a:lnTo>
                              <a:pt x="120" y="318"/>
                            </a:lnTo>
                            <a:lnTo>
                              <a:pt x="124" y="320"/>
                            </a:lnTo>
                            <a:lnTo>
                              <a:pt x="125" y="324"/>
                            </a:lnTo>
                            <a:lnTo>
                              <a:pt x="125" y="328"/>
                            </a:lnTo>
                            <a:lnTo>
                              <a:pt x="124" y="333"/>
                            </a:lnTo>
                            <a:lnTo>
                              <a:pt x="118" y="337"/>
                            </a:lnTo>
                            <a:lnTo>
                              <a:pt x="110" y="336"/>
                            </a:lnTo>
                            <a:lnTo>
                              <a:pt x="106" y="329"/>
                            </a:lnTo>
                            <a:lnTo>
                              <a:pt x="105" y="322"/>
                            </a:lnTo>
                            <a:lnTo>
                              <a:pt x="105" y="314"/>
                            </a:lnTo>
                            <a:lnTo>
                              <a:pt x="105" y="307"/>
                            </a:lnTo>
                            <a:lnTo>
                              <a:pt x="105" y="298"/>
                            </a:lnTo>
                            <a:lnTo>
                              <a:pt x="107" y="291"/>
                            </a:lnTo>
                            <a:lnTo>
                              <a:pt x="109" y="283"/>
                            </a:lnTo>
                            <a:lnTo>
                              <a:pt x="111" y="277"/>
                            </a:lnTo>
                            <a:lnTo>
                              <a:pt x="114" y="276"/>
                            </a:lnTo>
                            <a:lnTo>
                              <a:pt x="117" y="274"/>
                            </a:lnTo>
                            <a:lnTo>
                              <a:pt x="108" y="269"/>
                            </a:lnTo>
                            <a:lnTo>
                              <a:pt x="100" y="267"/>
                            </a:lnTo>
                            <a:lnTo>
                              <a:pt x="92" y="265"/>
                            </a:lnTo>
                            <a:lnTo>
                              <a:pt x="84" y="263"/>
                            </a:lnTo>
                            <a:lnTo>
                              <a:pt x="86" y="259"/>
                            </a:lnTo>
                            <a:lnTo>
                              <a:pt x="89" y="257"/>
                            </a:lnTo>
                            <a:lnTo>
                              <a:pt x="93" y="254"/>
                            </a:lnTo>
                            <a:lnTo>
                              <a:pt x="98" y="254"/>
                            </a:lnTo>
                            <a:lnTo>
                              <a:pt x="98" y="247"/>
                            </a:lnTo>
                            <a:lnTo>
                              <a:pt x="98" y="240"/>
                            </a:lnTo>
                            <a:lnTo>
                              <a:pt x="95" y="235"/>
                            </a:lnTo>
                            <a:lnTo>
                              <a:pt x="89" y="236"/>
                            </a:lnTo>
                            <a:lnTo>
                              <a:pt x="89" y="242"/>
                            </a:lnTo>
                            <a:lnTo>
                              <a:pt x="87" y="248"/>
                            </a:lnTo>
                            <a:lnTo>
                              <a:pt x="79" y="251"/>
                            </a:lnTo>
                            <a:lnTo>
                              <a:pt x="73" y="254"/>
                            </a:lnTo>
                            <a:lnTo>
                              <a:pt x="65" y="256"/>
                            </a:lnTo>
                            <a:lnTo>
                              <a:pt x="60" y="260"/>
                            </a:lnTo>
                            <a:lnTo>
                              <a:pt x="57" y="263"/>
                            </a:lnTo>
                            <a:lnTo>
                              <a:pt x="57" y="267"/>
                            </a:lnTo>
                            <a:lnTo>
                              <a:pt x="57" y="271"/>
                            </a:lnTo>
                            <a:lnTo>
                              <a:pt x="61" y="277"/>
                            </a:lnTo>
                            <a:lnTo>
                              <a:pt x="66" y="276"/>
                            </a:lnTo>
                            <a:lnTo>
                              <a:pt x="68" y="273"/>
                            </a:lnTo>
                            <a:lnTo>
                              <a:pt x="69" y="269"/>
                            </a:lnTo>
                            <a:lnTo>
                              <a:pt x="70" y="265"/>
                            </a:lnTo>
                            <a:lnTo>
                              <a:pt x="70" y="261"/>
                            </a:lnTo>
                            <a:lnTo>
                              <a:pt x="71" y="258"/>
                            </a:lnTo>
                            <a:lnTo>
                              <a:pt x="74" y="257"/>
                            </a:lnTo>
                            <a:lnTo>
                              <a:pt x="80" y="258"/>
                            </a:lnTo>
                            <a:lnTo>
                              <a:pt x="83" y="267"/>
                            </a:lnTo>
                            <a:lnTo>
                              <a:pt x="83" y="274"/>
                            </a:lnTo>
                            <a:lnTo>
                              <a:pt x="79" y="278"/>
                            </a:lnTo>
                            <a:lnTo>
                              <a:pt x="75" y="284"/>
                            </a:lnTo>
                            <a:lnTo>
                              <a:pt x="69" y="287"/>
                            </a:lnTo>
                            <a:lnTo>
                              <a:pt x="62" y="290"/>
                            </a:lnTo>
                            <a:lnTo>
                              <a:pt x="56" y="293"/>
                            </a:lnTo>
                            <a:lnTo>
                              <a:pt x="50" y="295"/>
                            </a:lnTo>
                            <a:lnTo>
                              <a:pt x="48" y="297"/>
                            </a:lnTo>
                            <a:lnTo>
                              <a:pt x="44" y="301"/>
                            </a:lnTo>
                            <a:lnTo>
                              <a:pt x="39" y="303"/>
                            </a:lnTo>
                            <a:lnTo>
                              <a:pt x="38" y="305"/>
                            </a:lnTo>
                            <a:lnTo>
                              <a:pt x="31" y="298"/>
                            </a:lnTo>
                            <a:lnTo>
                              <a:pt x="29" y="293"/>
                            </a:lnTo>
                            <a:lnTo>
                              <a:pt x="30" y="287"/>
                            </a:lnTo>
                            <a:lnTo>
                              <a:pt x="33" y="281"/>
                            </a:lnTo>
                            <a:lnTo>
                              <a:pt x="34" y="275"/>
                            </a:lnTo>
                            <a:lnTo>
                              <a:pt x="38" y="269"/>
                            </a:lnTo>
                            <a:lnTo>
                              <a:pt x="37" y="263"/>
                            </a:lnTo>
                            <a:lnTo>
                              <a:pt x="34" y="259"/>
                            </a:lnTo>
                            <a:lnTo>
                              <a:pt x="39" y="258"/>
                            </a:lnTo>
                            <a:lnTo>
                              <a:pt x="44" y="263"/>
                            </a:lnTo>
                            <a:lnTo>
                              <a:pt x="46" y="257"/>
                            </a:lnTo>
                            <a:lnTo>
                              <a:pt x="48" y="253"/>
                            </a:lnTo>
                            <a:lnTo>
                              <a:pt x="53" y="248"/>
                            </a:lnTo>
                            <a:lnTo>
                              <a:pt x="58" y="245"/>
                            </a:lnTo>
                            <a:lnTo>
                              <a:pt x="62" y="240"/>
                            </a:lnTo>
                            <a:lnTo>
                              <a:pt x="66" y="237"/>
                            </a:lnTo>
                            <a:lnTo>
                              <a:pt x="66" y="232"/>
                            </a:lnTo>
                            <a:lnTo>
                              <a:pt x="66" y="226"/>
                            </a:lnTo>
                            <a:lnTo>
                              <a:pt x="66" y="220"/>
                            </a:lnTo>
                            <a:lnTo>
                              <a:pt x="68" y="216"/>
                            </a:lnTo>
                            <a:lnTo>
                              <a:pt x="61" y="212"/>
                            </a:lnTo>
                            <a:lnTo>
                              <a:pt x="56" y="211"/>
                            </a:lnTo>
                            <a:lnTo>
                              <a:pt x="48" y="212"/>
                            </a:lnTo>
                            <a:lnTo>
                              <a:pt x="44" y="215"/>
                            </a:lnTo>
                            <a:lnTo>
                              <a:pt x="38" y="218"/>
                            </a:lnTo>
                            <a:lnTo>
                              <a:pt x="34" y="223"/>
                            </a:lnTo>
                            <a:lnTo>
                              <a:pt x="32" y="229"/>
                            </a:lnTo>
                            <a:lnTo>
                              <a:pt x="34" y="237"/>
                            </a:lnTo>
                            <a:lnTo>
                              <a:pt x="36" y="231"/>
                            </a:lnTo>
                            <a:lnTo>
                              <a:pt x="39" y="230"/>
                            </a:lnTo>
                            <a:lnTo>
                              <a:pt x="44" y="231"/>
                            </a:lnTo>
                            <a:lnTo>
                              <a:pt x="48" y="235"/>
                            </a:lnTo>
                            <a:lnTo>
                              <a:pt x="48" y="237"/>
                            </a:lnTo>
                            <a:lnTo>
                              <a:pt x="48" y="241"/>
                            </a:lnTo>
                            <a:lnTo>
                              <a:pt x="46" y="242"/>
                            </a:lnTo>
                            <a:lnTo>
                              <a:pt x="39" y="242"/>
                            </a:lnTo>
                            <a:lnTo>
                              <a:pt x="34" y="242"/>
                            </a:lnTo>
                            <a:lnTo>
                              <a:pt x="30" y="242"/>
                            </a:lnTo>
                            <a:lnTo>
                              <a:pt x="25" y="241"/>
                            </a:lnTo>
                            <a:lnTo>
                              <a:pt x="23" y="240"/>
                            </a:lnTo>
                            <a:lnTo>
                              <a:pt x="16" y="245"/>
                            </a:lnTo>
                            <a:lnTo>
                              <a:pt x="12" y="251"/>
                            </a:lnTo>
                            <a:lnTo>
                              <a:pt x="10" y="257"/>
                            </a:lnTo>
                            <a:lnTo>
                              <a:pt x="10" y="265"/>
                            </a:lnTo>
                            <a:lnTo>
                              <a:pt x="11" y="272"/>
                            </a:lnTo>
                            <a:lnTo>
                              <a:pt x="14" y="278"/>
                            </a:lnTo>
                            <a:lnTo>
                              <a:pt x="19" y="284"/>
                            </a:lnTo>
                            <a:lnTo>
                              <a:pt x="25" y="291"/>
                            </a:lnTo>
                            <a:lnTo>
                              <a:pt x="18" y="291"/>
                            </a:lnTo>
                            <a:lnTo>
                              <a:pt x="13" y="291"/>
                            </a:lnTo>
                            <a:lnTo>
                              <a:pt x="6" y="286"/>
                            </a:lnTo>
                            <a:lnTo>
                              <a:pt x="2" y="281"/>
                            </a:lnTo>
                            <a:lnTo>
                              <a:pt x="0" y="274"/>
                            </a:lnTo>
                            <a:lnTo>
                              <a:pt x="0" y="267"/>
                            </a:lnTo>
                            <a:lnTo>
                              <a:pt x="0" y="258"/>
                            </a:lnTo>
                            <a:lnTo>
                              <a:pt x="0" y="251"/>
                            </a:lnTo>
                            <a:lnTo>
                              <a:pt x="0" y="243"/>
                            </a:lnTo>
                            <a:lnTo>
                              <a:pt x="1" y="237"/>
                            </a:lnTo>
                            <a:lnTo>
                              <a:pt x="4" y="228"/>
                            </a:lnTo>
                            <a:lnTo>
                              <a:pt x="10" y="220"/>
                            </a:lnTo>
                            <a:lnTo>
                              <a:pt x="15" y="214"/>
                            </a:lnTo>
                            <a:lnTo>
                              <a:pt x="24" y="209"/>
                            </a:lnTo>
                            <a:lnTo>
                              <a:pt x="30" y="204"/>
                            </a:lnTo>
                            <a:lnTo>
                              <a:pt x="39" y="201"/>
                            </a:lnTo>
                            <a:lnTo>
                              <a:pt x="48" y="199"/>
                            </a:lnTo>
                            <a:lnTo>
                              <a:pt x="57" y="197"/>
                            </a:lnTo>
                            <a:lnTo>
                              <a:pt x="62" y="198"/>
                            </a:lnTo>
                            <a:lnTo>
                              <a:pt x="69" y="201"/>
                            </a:lnTo>
                            <a:lnTo>
                              <a:pt x="75" y="205"/>
                            </a:lnTo>
                            <a:lnTo>
                              <a:pt x="83" y="211"/>
                            </a:lnTo>
                            <a:lnTo>
                              <a:pt x="87" y="215"/>
                            </a:lnTo>
                            <a:lnTo>
                              <a:pt x="93" y="219"/>
                            </a:lnTo>
                            <a:lnTo>
                              <a:pt x="100" y="223"/>
                            </a:lnTo>
                            <a:lnTo>
                              <a:pt x="108" y="226"/>
                            </a:lnTo>
                            <a:lnTo>
                              <a:pt x="105" y="231"/>
                            </a:lnTo>
                            <a:lnTo>
                              <a:pt x="106" y="236"/>
                            </a:lnTo>
                            <a:lnTo>
                              <a:pt x="108" y="240"/>
                            </a:lnTo>
                            <a:lnTo>
                              <a:pt x="113" y="245"/>
                            </a:lnTo>
                            <a:lnTo>
                              <a:pt x="117" y="247"/>
                            </a:lnTo>
                            <a:lnTo>
                              <a:pt x="123" y="249"/>
                            </a:lnTo>
                            <a:lnTo>
                              <a:pt x="127" y="249"/>
                            </a:lnTo>
                            <a:lnTo>
                              <a:pt x="133" y="248"/>
                            </a:lnTo>
                            <a:lnTo>
                              <a:pt x="132" y="252"/>
                            </a:lnTo>
                            <a:lnTo>
                              <a:pt x="133" y="257"/>
                            </a:lnTo>
                            <a:lnTo>
                              <a:pt x="135" y="262"/>
                            </a:lnTo>
                            <a:lnTo>
                              <a:pt x="138" y="268"/>
                            </a:lnTo>
                            <a:lnTo>
                              <a:pt x="138" y="273"/>
                            </a:lnTo>
                            <a:lnTo>
                              <a:pt x="138" y="277"/>
                            </a:lnTo>
                            <a:lnTo>
                              <a:pt x="134" y="281"/>
                            </a:lnTo>
                            <a:lnTo>
                              <a:pt x="128" y="285"/>
                            </a:lnTo>
                            <a:lnTo>
                              <a:pt x="125" y="289"/>
                            </a:lnTo>
                            <a:lnTo>
                              <a:pt x="124" y="296"/>
                            </a:lnTo>
                            <a:lnTo>
                              <a:pt x="124" y="303"/>
                            </a:lnTo>
                            <a:lnTo>
                              <a:pt x="124" y="308"/>
                            </a:lnTo>
                            <a:lnTo>
                              <a:pt x="128" y="303"/>
                            </a:lnTo>
                            <a:lnTo>
                              <a:pt x="137" y="304"/>
                            </a:lnTo>
                            <a:lnTo>
                              <a:pt x="140" y="304"/>
                            </a:lnTo>
                            <a:lnTo>
                              <a:pt x="143" y="304"/>
                            </a:lnTo>
                            <a:lnTo>
                              <a:pt x="145" y="302"/>
                            </a:lnTo>
                            <a:lnTo>
                              <a:pt x="147" y="298"/>
                            </a:lnTo>
                            <a:lnTo>
                              <a:pt x="143" y="297"/>
                            </a:lnTo>
                            <a:lnTo>
                              <a:pt x="138" y="297"/>
                            </a:lnTo>
                            <a:lnTo>
                              <a:pt x="132" y="297"/>
                            </a:lnTo>
                            <a:lnTo>
                              <a:pt x="129" y="297"/>
                            </a:lnTo>
                            <a:lnTo>
                              <a:pt x="129" y="290"/>
                            </a:lnTo>
                            <a:lnTo>
                              <a:pt x="133" y="285"/>
                            </a:lnTo>
                            <a:lnTo>
                              <a:pt x="138" y="281"/>
                            </a:lnTo>
                            <a:lnTo>
                              <a:pt x="143" y="281"/>
                            </a:lnTo>
                            <a:lnTo>
                              <a:pt x="149" y="282"/>
                            </a:lnTo>
                            <a:lnTo>
                              <a:pt x="155" y="285"/>
                            </a:lnTo>
                            <a:lnTo>
                              <a:pt x="160" y="289"/>
                            </a:lnTo>
                            <a:lnTo>
                              <a:pt x="164" y="295"/>
                            </a:lnTo>
                            <a:lnTo>
                              <a:pt x="168" y="293"/>
                            </a:lnTo>
                            <a:lnTo>
                              <a:pt x="171" y="291"/>
                            </a:lnTo>
                            <a:lnTo>
                              <a:pt x="171" y="288"/>
                            </a:lnTo>
                            <a:lnTo>
                              <a:pt x="170" y="286"/>
                            </a:lnTo>
                            <a:lnTo>
                              <a:pt x="164" y="281"/>
                            </a:lnTo>
                            <a:lnTo>
                              <a:pt x="160" y="282"/>
                            </a:lnTo>
                            <a:lnTo>
                              <a:pt x="157" y="276"/>
                            </a:lnTo>
                            <a:lnTo>
                              <a:pt x="158" y="273"/>
                            </a:lnTo>
                            <a:lnTo>
                              <a:pt x="161" y="270"/>
                            </a:lnTo>
                            <a:lnTo>
                              <a:pt x="164" y="269"/>
                            </a:lnTo>
                            <a:lnTo>
                              <a:pt x="168" y="267"/>
                            </a:lnTo>
                            <a:lnTo>
                              <a:pt x="171" y="265"/>
                            </a:lnTo>
                            <a:lnTo>
                              <a:pt x="173" y="262"/>
                            </a:lnTo>
                            <a:lnTo>
                              <a:pt x="173" y="258"/>
                            </a:lnTo>
                            <a:lnTo>
                              <a:pt x="170" y="258"/>
                            </a:lnTo>
                            <a:lnTo>
                              <a:pt x="166" y="260"/>
                            </a:lnTo>
                            <a:lnTo>
                              <a:pt x="162" y="262"/>
                            </a:lnTo>
                            <a:lnTo>
                              <a:pt x="158" y="263"/>
                            </a:lnTo>
                            <a:lnTo>
                              <a:pt x="158" y="258"/>
                            </a:lnTo>
                            <a:lnTo>
                              <a:pt x="161" y="255"/>
                            </a:lnTo>
                            <a:lnTo>
                              <a:pt x="163" y="251"/>
                            </a:lnTo>
                            <a:lnTo>
                              <a:pt x="166" y="249"/>
                            </a:lnTo>
                            <a:lnTo>
                              <a:pt x="158" y="244"/>
                            </a:lnTo>
                            <a:lnTo>
                              <a:pt x="152" y="237"/>
                            </a:lnTo>
                            <a:lnTo>
                              <a:pt x="145" y="229"/>
                            </a:lnTo>
                            <a:lnTo>
                              <a:pt x="139" y="223"/>
                            </a:lnTo>
                            <a:lnTo>
                              <a:pt x="141" y="218"/>
                            </a:lnTo>
                            <a:lnTo>
                              <a:pt x="145" y="216"/>
                            </a:lnTo>
                            <a:lnTo>
                              <a:pt x="150" y="215"/>
                            </a:lnTo>
                            <a:lnTo>
                              <a:pt x="155" y="216"/>
                            </a:lnTo>
                            <a:lnTo>
                              <a:pt x="159" y="217"/>
                            </a:lnTo>
                            <a:lnTo>
                              <a:pt x="162" y="220"/>
                            </a:lnTo>
                            <a:lnTo>
                              <a:pt x="163" y="224"/>
                            </a:lnTo>
                            <a:lnTo>
                              <a:pt x="163" y="231"/>
                            </a:lnTo>
                            <a:lnTo>
                              <a:pt x="166" y="230"/>
                            </a:lnTo>
                            <a:lnTo>
                              <a:pt x="171" y="229"/>
                            </a:lnTo>
                            <a:lnTo>
                              <a:pt x="176" y="228"/>
                            </a:lnTo>
                            <a:lnTo>
                              <a:pt x="180" y="228"/>
                            </a:lnTo>
                            <a:lnTo>
                              <a:pt x="173" y="219"/>
                            </a:lnTo>
                            <a:lnTo>
                              <a:pt x="174" y="210"/>
                            </a:lnTo>
                            <a:lnTo>
                              <a:pt x="178" y="200"/>
                            </a:lnTo>
                            <a:lnTo>
                              <a:pt x="185" y="194"/>
                            </a:lnTo>
                            <a:lnTo>
                              <a:pt x="189" y="190"/>
                            </a:lnTo>
                            <a:lnTo>
                              <a:pt x="194" y="187"/>
                            </a:lnTo>
                            <a:lnTo>
                              <a:pt x="191" y="193"/>
                            </a:lnTo>
                            <a:lnTo>
                              <a:pt x="191" y="200"/>
                            </a:lnTo>
                            <a:lnTo>
                              <a:pt x="191" y="208"/>
                            </a:lnTo>
                            <a:lnTo>
                              <a:pt x="192" y="216"/>
                            </a:lnTo>
                            <a:lnTo>
                              <a:pt x="192" y="222"/>
                            </a:lnTo>
                            <a:lnTo>
                              <a:pt x="192" y="229"/>
                            </a:lnTo>
                            <a:lnTo>
                              <a:pt x="189" y="236"/>
                            </a:lnTo>
                            <a:lnTo>
                              <a:pt x="186" y="242"/>
                            </a:lnTo>
                            <a:lnTo>
                              <a:pt x="185" y="245"/>
                            </a:lnTo>
                            <a:lnTo>
                              <a:pt x="187" y="250"/>
                            </a:lnTo>
                            <a:lnTo>
                              <a:pt x="189" y="255"/>
                            </a:lnTo>
                            <a:lnTo>
                              <a:pt x="192" y="258"/>
                            </a:lnTo>
                            <a:lnTo>
                              <a:pt x="189" y="249"/>
                            </a:lnTo>
                            <a:lnTo>
                              <a:pt x="195" y="244"/>
                            </a:lnTo>
                            <a:lnTo>
                              <a:pt x="198" y="243"/>
                            </a:lnTo>
                            <a:lnTo>
                              <a:pt x="201" y="245"/>
                            </a:lnTo>
                            <a:lnTo>
                              <a:pt x="204" y="247"/>
                            </a:lnTo>
                            <a:lnTo>
                              <a:pt x="203" y="244"/>
                            </a:lnTo>
                            <a:lnTo>
                              <a:pt x="202" y="239"/>
                            </a:lnTo>
                            <a:lnTo>
                              <a:pt x="204" y="235"/>
                            </a:lnTo>
                            <a:lnTo>
                              <a:pt x="204" y="230"/>
                            </a:lnTo>
                            <a:lnTo>
                              <a:pt x="207" y="229"/>
                            </a:lnTo>
                            <a:lnTo>
                              <a:pt x="209" y="230"/>
                            </a:lnTo>
                            <a:lnTo>
                              <a:pt x="214" y="237"/>
                            </a:lnTo>
                            <a:lnTo>
                              <a:pt x="215" y="231"/>
                            </a:lnTo>
                            <a:lnTo>
                              <a:pt x="216" y="225"/>
                            </a:lnTo>
                            <a:lnTo>
                              <a:pt x="215" y="219"/>
                            </a:lnTo>
                            <a:lnTo>
                              <a:pt x="214" y="215"/>
                            </a:lnTo>
                            <a:lnTo>
                              <a:pt x="211" y="209"/>
                            </a:lnTo>
                            <a:lnTo>
                              <a:pt x="210" y="204"/>
                            </a:lnTo>
                            <a:lnTo>
                              <a:pt x="209" y="199"/>
                            </a:lnTo>
                            <a:lnTo>
                              <a:pt x="211" y="194"/>
                            </a:lnTo>
                            <a:lnTo>
                              <a:pt x="206" y="189"/>
                            </a:lnTo>
                            <a:lnTo>
                              <a:pt x="201" y="184"/>
                            </a:lnTo>
                            <a:lnTo>
                              <a:pt x="196" y="180"/>
                            </a:lnTo>
                            <a:lnTo>
                              <a:pt x="194" y="177"/>
                            </a:lnTo>
                            <a:lnTo>
                              <a:pt x="198" y="173"/>
                            </a:lnTo>
                            <a:lnTo>
                              <a:pt x="204" y="169"/>
                            </a:lnTo>
                            <a:lnTo>
                              <a:pt x="209" y="171"/>
                            </a:lnTo>
                            <a:lnTo>
                              <a:pt x="214" y="176"/>
                            </a:lnTo>
                            <a:lnTo>
                              <a:pt x="217" y="181"/>
                            </a:lnTo>
                            <a:lnTo>
                              <a:pt x="220" y="187"/>
                            </a:lnTo>
                            <a:lnTo>
                              <a:pt x="222" y="193"/>
                            </a:lnTo>
                            <a:lnTo>
                              <a:pt x="225" y="199"/>
                            </a:lnTo>
                            <a:lnTo>
                              <a:pt x="227" y="206"/>
                            </a:lnTo>
                            <a:lnTo>
                              <a:pt x="231" y="213"/>
                            </a:lnTo>
                            <a:lnTo>
                              <a:pt x="233" y="208"/>
                            </a:lnTo>
                            <a:lnTo>
                              <a:pt x="238" y="203"/>
                            </a:lnTo>
                            <a:lnTo>
                              <a:pt x="242" y="198"/>
                            </a:lnTo>
                            <a:lnTo>
                              <a:pt x="246" y="195"/>
                            </a:lnTo>
                            <a:lnTo>
                              <a:pt x="247" y="197"/>
                            </a:lnTo>
                            <a:lnTo>
                              <a:pt x="250" y="201"/>
                            </a:lnTo>
                            <a:lnTo>
                              <a:pt x="253" y="205"/>
                            </a:lnTo>
                            <a:lnTo>
                              <a:pt x="256" y="208"/>
                            </a:lnTo>
                            <a:lnTo>
                              <a:pt x="256" y="203"/>
                            </a:lnTo>
                            <a:lnTo>
                              <a:pt x="257" y="197"/>
                            </a:lnTo>
                            <a:lnTo>
                              <a:pt x="257" y="189"/>
                            </a:lnTo>
                            <a:lnTo>
                              <a:pt x="258" y="184"/>
                            </a:lnTo>
                            <a:lnTo>
                              <a:pt x="254" y="183"/>
                            </a:lnTo>
                            <a:lnTo>
                              <a:pt x="249" y="183"/>
                            </a:lnTo>
                            <a:lnTo>
                              <a:pt x="243" y="183"/>
                            </a:lnTo>
                            <a:lnTo>
                              <a:pt x="239" y="184"/>
                            </a:lnTo>
                            <a:lnTo>
                              <a:pt x="235" y="180"/>
                            </a:lnTo>
                            <a:lnTo>
                              <a:pt x="231" y="176"/>
                            </a:lnTo>
                            <a:lnTo>
                              <a:pt x="238" y="171"/>
                            </a:lnTo>
                            <a:lnTo>
                              <a:pt x="245" y="166"/>
                            </a:lnTo>
                            <a:lnTo>
                              <a:pt x="252" y="160"/>
                            </a:lnTo>
                            <a:lnTo>
                              <a:pt x="259" y="156"/>
                            </a:lnTo>
                            <a:lnTo>
                              <a:pt x="258" y="158"/>
                            </a:lnTo>
                            <a:lnTo>
                              <a:pt x="257" y="162"/>
                            </a:lnTo>
                            <a:lnTo>
                              <a:pt x="255" y="166"/>
                            </a:lnTo>
                            <a:lnTo>
                              <a:pt x="253" y="169"/>
                            </a:lnTo>
                            <a:lnTo>
                              <a:pt x="257" y="167"/>
                            </a:lnTo>
                            <a:lnTo>
                              <a:pt x="261" y="168"/>
                            </a:lnTo>
                            <a:lnTo>
                              <a:pt x="264" y="171"/>
                            </a:lnTo>
                            <a:lnTo>
                              <a:pt x="267" y="176"/>
                            </a:lnTo>
                            <a:lnTo>
                              <a:pt x="270" y="179"/>
                            </a:lnTo>
                            <a:lnTo>
                              <a:pt x="273" y="181"/>
                            </a:lnTo>
                            <a:lnTo>
                              <a:pt x="276" y="181"/>
                            </a:lnTo>
                            <a:lnTo>
                              <a:pt x="283" y="180"/>
                            </a:lnTo>
                            <a:lnTo>
                              <a:pt x="286" y="179"/>
                            </a:lnTo>
                            <a:lnTo>
                              <a:pt x="292" y="179"/>
                            </a:lnTo>
                            <a:lnTo>
                              <a:pt x="297" y="179"/>
                            </a:lnTo>
                            <a:lnTo>
                              <a:pt x="302" y="180"/>
                            </a:lnTo>
                            <a:lnTo>
                              <a:pt x="299" y="172"/>
                            </a:lnTo>
                            <a:lnTo>
                              <a:pt x="300" y="166"/>
                            </a:lnTo>
                            <a:lnTo>
                              <a:pt x="302" y="161"/>
                            </a:lnTo>
                            <a:lnTo>
                              <a:pt x="305" y="158"/>
                            </a:lnTo>
                            <a:lnTo>
                              <a:pt x="312" y="150"/>
                            </a:lnTo>
                            <a:lnTo>
                              <a:pt x="310" y="145"/>
                            </a:lnTo>
                            <a:lnTo>
                              <a:pt x="306" y="145"/>
                            </a:lnTo>
                            <a:lnTo>
                              <a:pt x="303" y="142"/>
                            </a:lnTo>
                            <a:lnTo>
                              <a:pt x="302" y="137"/>
                            </a:lnTo>
                            <a:lnTo>
                              <a:pt x="301" y="131"/>
                            </a:lnTo>
                            <a:lnTo>
                              <a:pt x="303" y="128"/>
                            </a:lnTo>
                            <a:lnTo>
                              <a:pt x="307" y="126"/>
                            </a:lnTo>
                            <a:lnTo>
                              <a:pt x="314" y="129"/>
                            </a:lnTo>
                            <a:lnTo>
                              <a:pt x="314" y="137"/>
                            </a:lnTo>
                            <a:lnTo>
                              <a:pt x="321" y="139"/>
                            </a:lnTo>
                            <a:lnTo>
                              <a:pt x="327" y="134"/>
                            </a:lnTo>
                            <a:lnTo>
                              <a:pt x="330" y="127"/>
                            </a:lnTo>
                            <a:lnTo>
                              <a:pt x="333" y="122"/>
                            </a:lnTo>
                            <a:lnTo>
                              <a:pt x="333" y="114"/>
                            </a:lnTo>
                            <a:lnTo>
                              <a:pt x="334" y="107"/>
                            </a:lnTo>
                            <a:lnTo>
                              <a:pt x="336" y="100"/>
                            </a:lnTo>
                            <a:lnTo>
                              <a:pt x="339" y="94"/>
                            </a:lnTo>
                            <a:lnTo>
                              <a:pt x="344" y="88"/>
                            </a:lnTo>
                            <a:lnTo>
                              <a:pt x="348" y="87"/>
                            </a:lnTo>
                            <a:lnTo>
                              <a:pt x="350" y="88"/>
                            </a:lnTo>
                            <a:lnTo>
                              <a:pt x="352" y="93"/>
                            </a:lnTo>
                            <a:lnTo>
                              <a:pt x="352" y="98"/>
                            </a:lnTo>
                            <a:lnTo>
                              <a:pt x="352" y="104"/>
                            </a:lnTo>
                            <a:lnTo>
                              <a:pt x="352" y="108"/>
                            </a:lnTo>
                            <a:lnTo>
                              <a:pt x="352" y="114"/>
                            </a:lnTo>
                            <a:lnTo>
                              <a:pt x="357" y="114"/>
                            </a:lnTo>
                            <a:lnTo>
                              <a:pt x="362" y="114"/>
                            </a:lnTo>
                            <a:lnTo>
                              <a:pt x="360" y="107"/>
                            </a:lnTo>
                            <a:lnTo>
                              <a:pt x="362" y="103"/>
                            </a:lnTo>
                            <a:lnTo>
                              <a:pt x="366" y="99"/>
                            </a:lnTo>
                            <a:lnTo>
                              <a:pt x="372" y="96"/>
                            </a:lnTo>
                            <a:lnTo>
                              <a:pt x="378" y="93"/>
                            </a:lnTo>
                            <a:lnTo>
                              <a:pt x="384" y="90"/>
                            </a:lnTo>
                            <a:lnTo>
                              <a:pt x="389" y="87"/>
                            </a:lnTo>
                            <a:lnTo>
                              <a:pt x="394" y="85"/>
                            </a:lnTo>
                            <a:lnTo>
                              <a:pt x="402" y="83"/>
                            </a:lnTo>
                            <a:lnTo>
                              <a:pt x="410" y="80"/>
                            </a:lnTo>
                            <a:lnTo>
                              <a:pt x="418" y="74"/>
                            </a:lnTo>
                            <a:lnTo>
                              <a:pt x="426" y="69"/>
                            </a:lnTo>
                            <a:lnTo>
                              <a:pt x="419" y="64"/>
                            </a:lnTo>
                            <a:lnTo>
                              <a:pt x="418" y="60"/>
                            </a:lnTo>
                            <a:lnTo>
                              <a:pt x="421" y="57"/>
                            </a:lnTo>
                            <a:lnTo>
                              <a:pt x="427" y="54"/>
                            </a:lnTo>
                            <a:lnTo>
                              <a:pt x="432" y="50"/>
                            </a:lnTo>
                            <a:lnTo>
                              <a:pt x="439" y="47"/>
                            </a:lnTo>
                            <a:lnTo>
                              <a:pt x="445" y="45"/>
                            </a:lnTo>
                            <a:lnTo>
                              <a:pt x="448" y="42"/>
                            </a:lnTo>
                            <a:lnTo>
                              <a:pt x="449" y="44"/>
                            </a:lnTo>
                            <a:lnTo>
                              <a:pt x="452" y="48"/>
                            </a:lnTo>
                            <a:lnTo>
                              <a:pt x="454" y="52"/>
                            </a:lnTo>
                            <a:lnTo>
                              <a:pt x="457" y="55"/>
                            </a:lnTo>
                            <a:lnTo>
                              <a:pt x="459" y="53"/>
                            </a:lnTo>
                            <a:lnTo>
                              <a:pt x="462" y="51"/>
                            </a:lnTo>
                            <a:lnTo>
                              <a:pt x="455" y="47"/>
                            </a:lnTo>
                            <a:lnTo>
                              <a:pt x="453" y="44"/>
                            </a:lnTo>
                            <a:lnTo>
                              <a:pt x="454" y="39"/>
                            </a:lnTo>
                            <a:lnTo>
                              <a:pt x="457" y="34"/>
                            </a:lnTo>
                            <a:lnTo>
                              <a:pt x="463" y="24"/>
                            </a:lnTo>
                            <a:lnTo>
                              <a:pt x="464" y="15"/>
                            </a:lnTo>
                            <a:lnTo>
                              <a:pt x="465" y="11"/>
                            </a:lnTo>
                            <a:lnTo>
                              <a:pt x="466" y="8"/>
                            </a:lnTo>
                            <a:lnTo>
                              <a:pt x="468" y="4"/>
                            </a:lnTo>
                            <a:lnTo>
                              <a:pt x="470" y="3"/>
                            </a:lnTo>
                            <a:lnTo>
                              <a:pt x="470" y="3"/>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rot="19453200">
                        <a:off x="4803840" y="4369320"/>
                        <a:ext cx="29880" cy="19800"/>
                      </a:xfrm>
                      <a:custGeom>
                        <a:avLst/>
                        <a:gdLst/>
                        <a:ahLst/>
                        <a:rect l="l" t="t" r="r" b="b"/>
                        <a:pathLst>
                          <a:path w="27" h="21">
                            <a:moveTo>
                              <a:pt x="27" y="1"/>
                            </a:moveTo>
                            <a:lnTo>
                              <a:pt x="19" y="2"/>
                            </a:lnTo>
                            <a:lnTo>
                              <a:pt x="12" y="3"/>
                            </a:lnTo>
                            <a:lnTo>
                              <a:pt x="6" y="1"/>
                            </a:lnTo>
                            <a:lnTo>
                              <a:pt x="0" y="0"/>
                            </a:lnTo>
                            <a:lnTo>
                              <a:pt x="2" y="3"/>
                            </a:lnTo>
                            <a:lnTo>
                              <a:pt x="5" y="10"/>
                            </a:lnTo>
                            <a:lnTo>
                              <a:pt x="6" y="16"/>
                            </a:lnTo>
                            <a:lnTo>
                              <a:pt x="8" y="21"/>
                            </a:lnTo>
                            <a:lnTo>
                              <a:pt x="15" y="20"/>
                            </a:lnTo>
                            <a:lnTo>
                              <a:pt x="20" y="16"/>
                            </a:lnTo>
                            <a:lnTo>
                              <a:pt x="23" y="8"/>
                            </a:lnTo>
                            <a:lnTo>
                              <a:pt x="27" y="1"/>
                            </a:lnTo>
                            <a:lnTo>
                              <a:pt x="27" y="1"/>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373" name=""/>
                      <p:cNvSpPr/>
                      <p:nvPr/>
                    </p:nvSpPr>
                    <p:spPr>
                      <a:xfrm rot="19453200">
                        <a:off x="4891680" y="4178520"/>
                        <a:ext cx="12960" cy="11160"/>
                      </a:xfrm>
                      <a:custGeom>
                        <a:avLst/>
                        <a:gdLst/>
                        <a:ahLst/>
                        <a:rect l="l" t="t" r="r" b="b"/>
                        <a:pathLst>
                          <a:path w="12" h="12">
                            <a:moveTo>
                              <a:pt x="3" y="0"/>
                            </a:moveTo>
                            <a:lnTo>
                              <a:pt x="8" y="3"/>
                            </a:lnTo>
                            <a:lnTo>
                              <a:pt x="12" y="10"/>
                            </a:lnTo>
                            <a:lnTo>
                              <a:pt x="12" y="11"/>
                            </a:lnTo>
                            <a:lnTo>
                              <a:pt x="11" y="12"/>
                            </a:lnTo>
                            <a:lnTo>
                              <a:pt x="7" y="11"/>
                            </a:lnTo>
                            <a:lnTo>
                              <a:pt x="0" y="8"/>
                            </a:lnTo>
                            <a:lnTo>
                              <a:pt x="1" y="2"/>
                            </a:lnTo>
                            <a:lnTo>
                              <a:pt x="3" y="0"/>
                            </a:lnTo>
                            <a:lnTo>
                              <a:pt x="3"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74" name=""/>
                      <p:cNvSpPr/>
                      <p:nvPr/>
                    </p:nvSpPr>
                    <p:spPr>
                      <a:xfrm rot="19453200">
                        <a:off x="4942440" y="4161960"/>
                        <a:ext cx="27720" cy="50400"/>
                      </a:xfrm>
                      <a:custGeom>
                        <a:avLst/>
                        <a:gdLst/>
                        <a:ahLst/>
                        <a:rect l="l" t="t" r="r" b="b"/>
                        <a:pathLst>
                          <a:path w="25" h="53">
                            <a:moveTo>
                              <a:pt x="13" y="0"/>
                            </a:moveTo>
                            <a:lnTo>
                              <a:pt x="18" y="3"/>
                            </a:lnTo>
                            <a:lnTo>
                              <a:pt x="23" y="10"/>
                            </a:lnTo>
                            <a:lnTo>
                              <a:pt x="24" y="16"/>
                            </a:lnTo>
                            <a:lnTo>
                              <a:pt x="25" y="25"/>
                            </a:lnTo>
                            <a:lnTo>
                              <a:pt x="22" y="33"/>
                            </a:lnTo>
                            <a:lnTo>
                              <a:pt x="20" y="40"/>
                            </a:lnTo>
                            <a:lnTo>
                              <a:pt x="15" y="47"/>
                            </a:lnTo>
                            <a:lnTo>
                              <a:pt x="12" y="53"/>
                            </a:lnTo>
                            <a:lnTo>
                              <a:pt x="9" y="50"/>
                            </a:lnTo>
                            <a:lnTo>
                              <a:pt x="5" y="48"/>
                            </a:lnTo>
                            <a:lnTo>
                              <a:pt x="1" y="45"/>
                            </a:lnTo>
                            <a:lnTo>
                              <a:pt x="0" y="44"/>
                            </a:lnTo>
                            <a:lnTo>
                              <a:pt x="6" y="41"/>
                            </a:lnTo>
                            <a:lnTo>
                              <a:pt x="9" y="37"/>
                            </a:lnTo>
                            <a:lnTo>
                              <a:pt x="9" y="31"/>
                            </a:lnTo>
                            <a:lnTo>
                              <a:pt x="9" y="25"/>
                            </a:lnTo>
                            <a:lnTo>
                              <a:pt x="7" y="17"/>
                            </a:lnTo>
                            <a:lnTo>
                              <a:pt x="8" y="11"/>
                            </a:lnTo>
                            <a:lnTo>
                              <a:pt x="9" y="4"/>
                            </a:lnTo>
                            <a:lnTo>
                              <a:pt x="13" y="0"/>
                            </a:lnTo>
                            <a:lnTo>
                              <a:pt x="13"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375" name=""/>
                      <p:cNvSpPr/>
                      <p:nvPr/>
                    </p:nvSpPr>
                    <p:spPr>
                      <a:xfrm rot="19453200">
                        <a:off x="4873320" y="4220280"/>
                        <a:ext cx="40680" cy="29160"/>
                      </a:xfrm>
                      <a:custGeom>
                        <a:avLst/>
                        <a:gdLst/>
                        <a:ahLst/>
                        <a:rect l="l" t="t" r="r" b="b"/>
                        <a:pathLst>
                          <a:path w="37" h="31">
                            <a:moveTo>
                              <a:pt x="18" y="0"/>
                            </a:moveTo>
                            <a:lnTo>
                              <a:pt x="18" y="1"/>
                            </a:lnTo>
                            <a:lnTo>
                              <a:pt x="19" y="5"/>
                            </a:lnTo>
                            <a:lnTo>
                              <a:pt x="19" y="10"/>
                            </a:lnTo>
                            <a:lnTo>
                              <a:pt x="21" y="15"/>
                            </a:lnTo>
                            <a:lnTo>
                              <a:pt x="23" y="12"/>
                            </a:lnTo>
                            <a:lnTo>
                              <a:pt x="28" y="8"/>
                            </a:lnTo>
                            <a:lnTo>
                              <a:pt x="32" y="4"/>
                            </a:lnTo>
                            <a:lnTo>
                              <a:pt x="34" y="3"/>
                            </a:lnTo>
                            <a:lnTo>
                              <a:pt x="35" y="9"/>
                            </a:lnTo>
                            <a:lnTo>
                              <a:pt x="37" y="16"/>
                            </a:lnTo>
                            <a:lnTo>
                              <a:pt x="35" y="22"/>
                            </a:lnTo>
                            <a:lnTo>
                              <a:pt x="33" y="26"/>
                            </a:lnTo>
                            <a:lnTo>
                              <a:pt x="27" y="29"/>
                            </a:lnTo>
                            <a:lnTo>
                              <a:pt x="22" y="31"/>
                            </a:lnTo>
                            <a:lnTo>
                              <a:pt x="15" y="30"/>
                            </a:lnTo>
                            <a:lnTo>
                              <a:pt x="9" y="29"/>
                            </a:lnTo>
                            <a:lnTo>
                              <a:pt x="3" y="25"/>
                            </a:lnTo>
                            <a:lnTo>
                              <a:pt x="0" y="22"/>
                            </a:lnTo>
                            <a:lnTo>
                              <a:pt x="4" y="22"/>
                            </a:lnTo>
                            <a:lnTo>
                              <a:pt x="8" y="21"/>
                            </a:lnTo>
                            <a:lnTo>
                              <a:pt x="9" y="17"/>
                            </a:lnTo>
                            <a:lnTo>
                              <a:pt x="10" y="13"/>
                            </a:lnTo>
                            <a:lnTo>
                              <a:pt x="10" y="8"/>
                            </a:lnTo>
                            <a:lnTo>
                              <a:pt x="11" y="3"/>
                            </a:lnTo>
                            <a:lnTo>
                              <a:pt x="13" y="1"/>
                            </a:lnTo>
                            <a:lnTo>
                              <a:pt x="18" y="0"/>
                            </a:lnTo>
                            <a:lnTo>
                              <a:pt x="18"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376" name=""/>
                      <p:cNvSpPr/>
                      <p:nvPr/>
                    </p:nvSpPr>
                    <p:spPr>
                      <a:xfrm rot="19453200">
                        <a:off x="4850280" y="4259520"/>
                        <a:ext cx="9720" cy="16920"/>
                      </a:xfrm>
                      <a:custGeom>
                        <a:avLst/>
                        <a:gdLst/>
                        <a:ahLst/>
                        <a:rect l="l" t="t" r="r" b="b"/>
                        <a:pathLst>
                          <a:path w="9" h="18">
                            <a:moveTo>
                              <a:pt x="5" y="0"/>
                            </a:moveTo>
                            <a:lnTo>
                              <a:pt x="8" y="6"/>
                            </a:lnTo>
                            <a:lnTo>
                              <a:pt x="9" y="11"/>
                            </a:lnTo>
                            <a:lnTo>
                              <a:pt x="7" y="15"/>
                            </a:lnTo>
                            <a:lnTo>
                              <a:pt x="5" y="18"/>
                            </a:lnTo>
                            <a:lnTo>
                              <a:pt x="2" y="18"/>
                            </a:lnTo>
                            <a:lnTo>
                              <a:pt x="0" y="16"/>
                            </a:lnTo>
                            <a:lnTo>
                              <a:pt x="0" y="12"/>
                            </a:lnTo>
                            <a:lnTo>
                              <a:pt x="4" y="7"/>
                            </a:lnTo>
                            <a:lnTo>
                              <a:pt x="4" y="3"/>
                            </a:lnTo>
                            <a:lnTo>
                              <a:pt x="5" y="0"/>
                            </a:lnTo>
                            <a:lnTo>
                              <a:pt x="5"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377" name=""/>
                      <p:cNvSpPr/>
                      <p:nvPr/>
                    </p:nvSpPr>
                    <p:spPr>
                      <a:xfrm rot="19453200">
                        <a:off x="4812840" y="4289400"/>
                        <a:ext cx="9000" cy="14040"/>
                      </a:xfrm>
                      <a:custGeom>
                        <a:avLst/>
                        <a:gdLst/>
                        <a:ahLst/>
                        <a:rect l="l" t="t" r="r" b="b"/>
                        <a:pathLst>
                          <a:path w="8" h="15">
                            <a:moveTo>
                              <a:pt x="3" y="0"/>
                            </a:moveTo>
                            <a:lnTo>
                              <a:pt x="6" y="0"/>
                            </a:lnTo>
                            <a:lnTo>
                              <a:pt x="8" y="3"/>
                            </a:lnTo>
                            <a:lnTo>
                              <a:pt x="7" y="8"/>
                            </a:lnTo>
                            <a:lnTo>
                              <a:pt x="7" y="12"/>
                            </a:lnTo>
                            <a:lnTo>
                              <a:pt x="5" y="14"/>
                            </a:lnTo>
                            <a:lnTo>
                              <a:pt x="3" y="15"/>
                            </a:lnTo>
                            <a:lnTo>
                              <a:pt x="0" y="12"/>
                            </a:lnTo>
                            <a:lnTo>
                              <a:pt x="0" y="6"/>
                            </a:lnTo>
                            <a:lnTo>
                              <a:pt x="1" y="2"/>
                            </a:lnTo>
                            <a:lnTo>
                              <a:pt x="3" y="0"/>
                            </a:lnTo>
                            <a:lnTo>
                              <a:pt x="3" y="0"/>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78" name=""/>
                      <p:cNvSpPr/>
                      <p:nvPr/>
                    </p:nvSpPr>
                    <p:spPr>
                      <a:xfrm rot="19453200">
                        <a:off x="4796640" y="4315320"/>
                        <a:ext cx="6480" cy="15120"/>
                      </a:xfrm>
                      <a:custGeom>
                        <a:avLst/>
                        <a:gdLst/>
                        <a:ahLst/>
                        <a:rect l="l" t="t" r="r" b="b"/>
                        <a:pathLst>
                          <a:path w="6" h="16">
                            <a:moveTo>
                              <a:pt x="1" y="0"/>
                            </a:moveTo>
                            <a:lnTo>
                              <a:pt x="4" y="0"/>
                            </a:lnTo>
                            <a:lnTo>
                              <a:pt x="6" y="3"/>
                            </a:lnTo>
                            <a:lnTo>
                              <a:pt x="5" y="7"/>
                            </a:lnTo>
                            <a:lnTo>
                              <a:pt x="5" y="12"/>
                            </a:lnTo>
                            <a:lnTo>
                              <a:pt x="3" y="15"/>
                            </a:lnTo>
                            <a:lnTo>
                              <a:pt x="1" y="16"/>
                            </a:lnTo>
                            <a:lnTo>
                              <a:pt x="0" y="13"/>
                            </a:lnTo>
                            <a:lnTo>
                              <a:pt x="0" y="6"/>
                            </a:lnTo>
                            <a:lnTo>
                              <a:pt x="0" y="2"/>
                            </a:lnTo>
                            <a:lnTo>
                              <a:pt x="1" y="0"/>
                            </a:lnTo>
                            <a:lnTo>
                              <a:pt x="1" y="0"/>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379" name=""/>
                      <p:cNvSpPr/>
                      <p:nvPr/>
                    </p:nvSpPr>
                    <p:spPr>
                      <a:xfrm rot="19453200">
                        <a:off x="4976280" y="4212000"/>
                        <a:ext cx="39600" cy="37080"/>
                      </a:xfrm>
                      <a:custGeom>
                        <a:avLst/>
                        <a:gdLst/>
                        <a:ahLst/>
                        <a:rect l="l" t="t" r="r" b="b"/>
                        <a:pathLst>
                          <a:path w="36" h="39">
                            <a:moveTo>
                              <a:pt x="0" y="0"/>
                            </a:moveTo>
                            <a:lnTo>
                              <a:pt x="4" y="5"/>
                            </a:lnTo>
                            <a:lnTo>
                              <a:pt x="9" y="9"/>
                            </a:lnTo>
                            <a:lnTo>
                              <a:pt x="14" y="13"/>
                            </a:lnTo>
                            <a:lnTo>
                              <a:pt x="21" y="18"/>
                            </a:lnTo>
                            <a:lnTo>
                              <a:pt x="25" y="22"/>
                            </a:lnTo>
                            <a:lnTo>
                              <a:pt x="30" y="26"/>
                            </a:lnTo>
                            <a:lnTo>
                              <a:pt x="33" y="32"/>
                            </a:lnTo>
                            <a:lnTo>
                              <a:pt x="36" y="39"/>
                            </a:lnTo>
                            <a:lnTo>
                              <a:pt x="31" y="33"/>
                            </a:lnTo>
                            <a:lnTo>
                              <a:pt x="25" y="29"/>
                            </a:lnTo>
                            <a:lnTo>
                              <a:pt x="18" y="25"/>
                            </a:lnTo>
                            <a:lnTo>
                              <a:pt x="13" y="22"/>
                            </a:lnTo>
                            <a:lnTo>
                              <a:pt x="7" y="17"/>
                            </a:lnTo>
                            <a:lnTo>
                              <a:pt x="3" y="13"/>
                            </a:lnTo>
                            <a:lnTo>
                              <a:pt x="0" y="6"/>
                            </a:lnTo>
                            <a:lnTo>
                              <a:pt x="0" y="0"/>
                            </a:lnTo>
                            <a:lnTo>
                              <a:pt x="0"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380" name=""/>
                      <p:cNvSpPr/>
                      <p:nvPr/>
                    </p:nvSpPr>
                    <p:spPr>
                      <a:xfrm rot="19453200">
                        <a:off x="5164920" y="4087080"/>
                        <a:ext cx="4320" cy="2520"/>
                      </a:xfrm>
                      <a:custGeom>
                        <a:avLst/>
                        <a:gdLst/>
                        <a:ahLst/>
                        <a:rect l="l" t="t" r="r" b="b"/>
                        <a:pathLst>
                          <a:path w="4" h="3">
                            <a:moveTo>
                              <a:pt x="2" y="0"/>
                            </a:moveTo>
                            <a:lnTo>
                              <a:pt x="4" y="3"/>
                            </a:lnTo>
                            <a:lnTo>
                              <a:pt x="2" y="3"/>
                            </a:lnTo>
                            <a:lnTo>
                              <a:pt x="0" y="1"/>
                            </a:lnTo>
                            <a:lnTo>
                              <a:pt x="2" y="0"/>
                            </a:lnTo>
                            <a:lnTo>
                              <a:pt x="2"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81" name=""/>
                      <p:cNvSpPr/>
                      <p:nvPr/>
                    </p:nvSpPr>
                    <p:spPr>
                      <a:xfrm rot="19453200">
                        <a:off x="4845960" y="4318560"/>
                        <a:ext cx="7560" cy="14040"/>
                      </a:xfrm>
                      <a:custGeom>
                        <a:avLst/>
                        <a:gdLst/>
                        <a:ahLst/>
                        <a:rect l="l" t="t" r="r" b="b"/>
                        <a:pathLst>
                          <a:path w="7" h="15">
                            <a:moveTo>
                              <a:pt x="3" y="0"/>
                            </a:moveTo>
                            <a:lnTo>
                              <a:pt x="5" y="0"/>
                            </a:lnTo>
                            <a:lnTo>
                              <a:pt x="7" y="3"/>
                            </a:lnTo>
                            <a:lnTo>
                              <a:pt x="6" y="7"/>
                            </a:lnTo>
                            <a:lnTo>
                              <a:pt x="6" y="12"/>
                            </a:lnTo>
                            <a:lnTo>
                              <a:pt x="4" y="14"/>
                            </a:lnTo>
                            <a:lnTo>
                              <a:pt x="3" y="15"/>
                            </a:lnTo>
                            <a:lnTo>
                              <a:pt x="0" y="12"/>
                            </a:lnTo>
                            <a:lnTo>
                              <a:pt x="0" y="5"/>
                            </a:lnTo>
                            <a:lnTo>
                              <a:pt x="0" y="2"/>
                            </a:lnTo>
                            <a:lnTo>
                              <a:pt x="3" y="0"/>
                            </a:lnTo>
                            <a:lnTo>
                              <a:pt x="3" y="0"/>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82" name=""/>
                      <p:cNvSpPr/>
                      <p:nvPr/>
                    </p:nvSpPr>
                    <p:spPr>
                      <a:xfrm rot="19453200">
                        <a:off x="5147640" y="4103640"/>
                        <a:ext cx="6480" cy="15120"/>
                      </a:xfrm>
                      <a:custGeom>
                        <a:avLst/>
                        <a:gdLst/>
                        <a:ahLst/>
                        <a:rect l="l" t="t" r="r" b="b"/>
                        <a:pathLst>
                          <a:path w="6" h="16">
                            <a:moveTo>
                              <a:pt x="4" y="0"/>
                            </a:moveTo>
                            <a:lnTo>
                              <a:pt x="5" y="6"/>
                            </a:lnTo>
                            <a:lnTo>
                              <a:pt x="6" y="11"/>
                            </a:lnTo>
                            <a:lnTo>
                              <a:pt x="5" y="14"/>
                            </a:lnTo>
                            <a:lnTo>
                              <a:pt x="4" y="16"/>
                            </a:lnTo>
                            <a:lnTo>
                              <a:pt x="2" y="15"/>
                            </a:lnTo>
                            <a:lnTo>
                              <a:pt x="1" y="13"/>
                            </a:lnTo>
                            <a:lnTo>
                              <a:pt x="0" y="9"/>
                            </a:lnTo>
                            <a:lnTo>
                              <a:pt x="1" y="5"/>
                            </a:lnTo>
                            <a:lnTo>
                              <a:pt x="2" y="2"/>
                            </a:lnTo>
                            <a:lnTo>
                              <a:pt x="4" y="0"/>
                            </a:lnTo>
                            <a:lnTo>
                              <a:pt x="4"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383" name=""/>
                      <p:cNvSpPr/>
                      <p:nvPr/>
                    </p:nvSpPr>
                    <p:spPr>
                      <a:xfrm rot="19453200">
                        <a:off x="4772520" y="4381560"/>
                        <a:ext cx="9000" cy="13320"/>
                      </a:xfrm>
                      <a:custGeom>
                        <a:avLst/>
                        <a:gdLst/>
                        <a:ahLst/>
                        <a:rect l="l" t="t" r="r" b="b"/>
                        <a:pathLst>
                          <a:path w="8" h="14">
                            <a:moveTo>
                              <a:pt x="3" y="0"/>
                            </a:moveTo>
                            <a:lnTo>
                              <a:pt x="6" y="0"/>
                            </a:lnTo>
                            <a:lnTo>
                              <a:pt x="8" y="3"/>
                            </a:lnTo>
                            <a:lnTo>
                              <a:pt x="7" y="7"/>
                            </a:lnTo>
                            <a:lnTo>
                              <a:pt x="7" y="12"/>
                            </a:lnTo>
                            <a:lnTo>
                              <a:pt x="5" y="13"/>
                            </a:lnTo>
                            <a:lnTo>
                              <a:pt x="3" y="14"/>
                            </a:lnTo>
                            <a:lnTo>
                              <a:pt x="0" y="12"/>
                            </a:lnTo>
                            <a:lnTo>
                              <a:pt x="0" y="6"/>
                            </a:lnTo>
                            <a:lnTo>
                              <a:pt x="0" y="2"/>
                            </a:lnTo>
                            <a:lnTo>
                              <a:pt x="3" y="0"/>
                            </a:lnTo>
                            <a:lnTo>
                              <a:pt x="3" y="0"/>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384" name=""/>
                      <p:cNvSpPr/>
                      <p:nvPr/>
                    </p:nvSpPr>
                    <p:spPr>
                      <a:xfrm rot="19453200">
                        <a:off x="5140440" y="4125240"/>
                        <a:ext cx="29880" cy="25560"/>
                      </a:xfrm>
                      <a:custGeom>
                        <a:avLst/>
                        <a:gdLst/>
                        <a:ahLst/>
                        <a:rect l="l" t="t" r="r" b="b"/>
                        <a:pathLst>
                          <a:path w="27" h="27">
                            <a:moveTo>
                              <a:pt x="10" y="0"/>
                            </a:moveTo>
                            <a:lnTo>
                              <a:pt x="15" y="4"/>
                            </a:lnTo>
                            <a:lnTo>
                              <a:pt x="22" y="6"/>
                            </a:lnTo>
                            <a:lnTo>
                              <a:pt x="24" y="6"/>
                            </a:lnTo>
                            <a:lnTo>
                              <a:pt x="27" y="9"/>
                            </a:lnTo>
                            <a:lnTo>
                              <a:pt x="27" y="13"/>
                            </a:lnTo>
                            <a:lnTo>
                              <a:pt x="27" y="21"/>
                            </a:lnTo>
                            <a:lnTo>
                              <a:pt x="21" y="25"/>
                            </a:lnTo>
                            <a:lnTo>
                              <a:pt x="15" y="27"/>
                            </a:lnTo>
                            <a:lnTo>
                              <a:pt x="7" y="27"/>
                            </a:lnTo>
                            <a:lnTo>
                              <a:pt x="0" y="26"/>
                            </a:lnTo>
                            <a:lnTo>
                              <a:pt x="2" y="18"/>
                            </a:lnTo>
                            <a:lnTo>
                              <a:pt x="4" y="12"/>
                            </a:lnTo>
                            <a:lnTo>
                              <a:pt x="5" y="4"/>
                            </a:lnTo>
                            <a:lnTo>
                              <a:pt x="10" y="0"/>
                            </a:lnTo>
                            <a:lnTo>
                              <a:pt x="10"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85" name=""/>
                      <p:cNvSpPr/>
                      <p:nvPr/>
                    </p:nvSpPr>
                    <p:spPr>
                      <a:xfrm rot="19453200">
                        <a:off x="4739760" y="4421880"/>
                        <a:ext cx="36360" cy="31320"/>
                      </a:xfrm>
                      <a:custGeom>
                        <a:avLst/>
                        <a:gdLst/>
                        <a:ahLst/>
                        <a:rect l="l" t="t" r="r" b="b"/>
                        <a:pathLst>
                          <a:path w="33" h="33">
                            <a:moveTo>
                              <a:pt x="15" y="0"/>
                            </a:moveTo>
                            <a:lnTo>
                              <a:pt x="17" y="0"/>
                            </a:lnTo>
                            <a:lnTo>
                              <a:pt x="22" y="1"/>
                            </a:lnTo>
                            <a:lnTo>
                              <a:pt x="27" y="1"/>
                            </a:lnTo>
                            <a:lnTo>
                              <a:pt x="31" y="2"/>
                            </a:lnTo>
                            <a:lnTo>
                              <a:pt x="33" y="8"/>
                            </a:lnTo>
                            <a:lnTo>
                              <a:pt x="33" y="10"/>
                            </a:lnTo>
                            <a:lnTo>
                              <a:pt x="31" y="12"/>
                            </a:lnTo>
                            <a:lnTo>
                              <a:pt x="29" y="13"/>
                            </a:lnTo>
                            <a:lnTo>
                              <a:pt x="22" y="14"/>
                            </a:lnTo>
                            <a:lnTo>
                              <a:pt x="17" y="18"/>
                            </a:lnTo>
                            <a:lnTo>
                              <a:pt x="22" y="25"/>
                            </a:lnTo>
                            <a:lnTo>
                              <a:pt x="18" y="30"/>
                            </a:lnTo>
                            <a:lnTo>
                              <a:pt x="14" y="31"/>
                            </a:lnTo>
                            <a:lnTo>
                              <a:pt x="10" y="32"/>
                            </a:lnTo>
                            <a:lnTo>
                              <a:pt x="6" y="32"/>
                            </a:lnTo>
                            <a:lnTo>
                              <a:pt x="3" y="33"/>
                            </a:lnTo>
                            <a:lnTo>
                              <a:pt x="0" y="23"/>
                            </a:lnTo>
                            <a:lnTo>
                              <a:pt x="3" y="15"/>
                            </a:lnTo>
                            <a:lnTo>
                              <a:pt x="8" y="7"/>
                            </a:lnTo>
                            <a:lnTo>
                              <a:pt x="15" y="0"/>
                            </a:lnTo>
                            <a:lnTo>
                              <a:pt x="15" y="0"/>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386" name=""/>
                      <p:cNvSpPr/>
                      <p:nvPr/>
                    </p:nvSpPr>
                    <p:spPr>
                      <a:xfrm rot="19453200">
                        <a:off x="5130000" y="4153320"/>
                        <a:ext cx="3240" cy="8640"/>
                      </a:xfrm>
                      <a:custGeom>
                        <a:avLst/>
                        <a:gdLst/>
                        <a:ahLst/>
                        <a:rect l="l" t="t" r="r" b="b"/>
                        <a:pathLst>
                          <a:path w="3" h="9">
                            <a:moveTo>
                              <a:pt x="3" y="0"/>
                            </a:moveTo>
                            <a:lnTo>
                              <a:pt x="2" y="7"/>
                            </a:lnTo>
                            <a:lnTo>
                              <a:pt x="1" y="9"/>
                            </a:lnTo>
                            <a:lnTo>
                              <a:pt x="0" y="7"/>
                            </a:lnTo>
                            <a:lnTo>
                              <a:pt x="3" y="0"/>
                            </a:lnTo>
                            <a:lnTo>
                              <a:pt x="3"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87" name=""/>
                      <p:cNvSpPr/>
                      <p:nvPr/>
                    </p:nvSpPr>
                    <p:spPr>
                      <a:xfrm rot="19453200">
                        <a:off x="5124600" y="4181760"/>
                        <a:ext cx="15480" cy="12960"/>
                      </a:xfrm>
                      <a:custGeom>
                        <a:avLst/>
                        <a:gdLst/>
                        <a:ahLst/>
                        <a:rect l="l" t="t" r="r" b="b"/>
                        <a:pathLst>
                          <a:path w="14" h="14">
                            <a:moveTo>
                              <a:pt x="0" y="0"/>
                            </a:moveTo>
                            <a:lnTo>
                              <a:pt x="7" y="1"/>
                            </a:lnTo>
                            <a:lnTo>
                              <a:pt x="14" y="6"/>
                            </a:lnTo>
                            <a:lnTo>
                              <a:pt x="14" y="8"/>
                            </a:lnTo>
                            <a:lnTo>
                              <a:pt x="14" y="11"/>
                            </a:lnTo>
                            <a:lnTo>
                              <a:pt x="10" y="13"/>
                            </a:lnTo>
                            <a:lnTo>
                              <a:pt x="3" y="14"/>
                            </a:lnTo>
                            <a:lnTo>
                              <a:pt x="1" y="9"/>
                            </a:lnTo>
                            <a:lnTo>
                              <a:pt x="1" y="5"/>
                            </a:lnTo>
                            <a:lnTo>
                              <a:pt x="0" y="2"/>
                            </a:lnTo>
                            <a:lnTo>
                              <a:pt x="0" y="0"/>
                            </a:lnTo>
                            <a:lnTo>
                              <a:pt x="0"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88" name=""/>
                      <p:cNvSpPr/>
                      <p:nvPr/>
                    </p:nvSpPr>
                    <p:spPr>
                      <a:xfrm rot="19453200">
                        <a:off x="4753080" y="4521600"/>
                        <a:ext cx="6480" cy="10080"/>
                      </a:xfrm>
                      <a:custGeom>
                        <a:avLst/>
                        <a:gdLst/>
                        <a:ahLst/>
                        <a:rect l="l" t="t" r="r" b="b"/>
                        <a:pathLst>
                          <a:path w="6" h="11">
                            <a:moveTo>
                              <a:pt x="4" y="0"/>
                            </a:moveTo>
                            <a:lnTo>
                              <a:pt x="5" y="4"/>
                            </a:lnTo>
                            <a:lnTo>
                              <a:pt x="6" y="8"/>
                            </a:lnTo>
                            <a:lnTo>
                              <a:pt x="4" y="10"/>
                            </a:lnTo>
                            <a:lnTo>
                              <a:pt x="3" y="11"/>
                            </a:lnTo>
                            <a:lnTo>
                              <a:pt x="0" y="8"/>
                            </a:lnTo>
                            <a:lnTo>
                              <a:pt x="4" y="0"/>
                            </a:lnTo>
                            <a:lnTo>
                              <a:pt x="4"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389" name=""/>
                      <p:cNvSpPr/>
                      <p:nvPr/>
                    </p:nvSpPr>
                    <p:spPr>
                      <a:xfrm rot="19453200">
                        <a:off x="4618800" y="4626360"/>
                        <a:ext cx="5400" cy="3600"/>
                      </a:xfrm>
                      <a:custGeom>
                        <a:avLst/>
                        <a:gdLst/>
                        <a:ahLst/>
                        <a:rect l="l" t="t" r="r" b="b"/>
                        <a:pathLst>
                          <a:path w="5" h="4">
                            <a:moveTo>
                              <a:pt x="2" y="0"/>
                            </a:moveTo>
                            <a:lnTo>
                              <a:pt x="5" y="2"/>
                            </a:lnTo>
                            <a:lnTo>
                              <a:pt x="2" y="4"/>
                            </a:lnTo>
                            <a:lnTo>
                              <a:pt x="0" y="3"/>
                            </a:lnTo>
                            <a:lnTo>
                              <a:pt x="2" y="0"/>
                            </a:lnTo>
                            <a:lnTo>
                              <a:pt x="2"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390" name=""/>
                      <p:cNvSpPr/>
                      <p:nvPr/>
                    </p:nvSpPr>
                    <p:spPr>
                      <a:xfrm rot="19453200">
                        <a:off x="4664160" y="4597200"/>
                        <a:ext cx="9000" cy="13320"/>
                      </a:xfrm>
                      <a:custGeom>
                        <a:avLst/>
                        <a:gdLst/>
                        <a:ahLst/>
                        <a:rect l="l" t="t" r="r" b="b"/>
                        <a:pathLst>
                          <a:path w="8" h="14">
                            <a:moveTo>
                              <a:pt x="3" y="0"/>
                            </a:moveTo>
                            <a:lnTo>
                              <a:pt x="6" y="0"/>
                            </a:lnTo>
                            <a:lnTo>
                              <a:pt x="8" y="3"/>
                            </a:lnTo>
                            <a:lnTo>
                              <a:pt x="7" y="7"/>
                            </a:lnTo>
                            <a:lnTo>
                              <a:pt x="7" y="11"/>
                            </a:lnTo>
                            <a:lnTo>
                              <a:pt x="5" y="13"/>
                            </a:lnTo>
                            <a:lnTo>
                              <a:pt x="3" y="14"/>
                            </a:lnTo>
                            <a:lnTo>
                              <a:pt x="0" y="11"/>
                            </a:lnTo>
                            <a:lnTo>
                              <a:pt x="0" y="6"/>
                            </a:lnTo>
                            <a:lnTo>
                              <a:pt x="0" y="2"/>
                            </a:lnTo>
                            <a:lnTo>
                              <a:pt x="3" y="0"/>
                            </a:lnTo>
                            <a:lnTo>
                              <a:pt x="3" y="0"/>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391" name=""/>
                      <p:cNvSpPr/>
                      <p:nvPr/>
                    </p:nvSpPr>
                    <p:spPr>
                      <a:xfrm rot="19453200">
                        <a:off x="4693320" y="4597200"/>
                        <a:ext cx="9720" cy="24840"/>
                      </a:xfrm>
                      <a:custGeom>
                        <a:avLst/>
                        <a:gdLst/>
                        <a:ahLst/>
                        <a:rect l="l" t="t" r="r" b="b"/>
                        <a:pathLst>
                          <a:path w="9" h="26">
                            <a:moveTo>
                              <a:pt x="2" y="0"/>
                            </a:moveTo>
                            <a:lnTo>
                              <a:pt x="5" y="0"/>
                            </a:lnTo>
                            <a:lnTo>
                              <a:pt x="8" y="5"/>
                            </a:lnTo>
                            <a:lnTo>
                              <a:pt x="9" y="11"/>
                            </a:lnTo>
                            <a:lnTo>
                              <a:pt x="9" y="18"/>
                            </a:lnTo>
                            <a:lnTo>
                              <a:pt x="7" y="23"/>
                            </a:lnTo>
                            <a:lnTo>
                              <a:pt x="5" y="26"/>
                            </a:lnTo>
                            <a:lnTo>
                              <a:pt x="2" y="25"/>
                            </a:lnTo>
                            <a:lnTo>
                              <a:pt x="0" y="19"/>
                            </a:lnTo>
                            <a:lnTo>
                              <a:pt x="0" y="13"/>
                            </a:lnTo>
                            <a:lnTo>
                              <a:pt x="0" y="8"/>
                            </a:lnTo>
                            <a:lnTo>
                              <a:pt x="0" y="2"/>
                            </a:lnTo>
                            <a:lnTo>
                              <a:pt x="2" y="0"/>
                            </a:lnTo>
                            <a:lnTo>
                              <a:pt x="2" y="0"/>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392" name=""/>
                      <p:cNvSpPr/>
                      <p:nvPr/>
                    </p:nvSpPr>
                    <p:spPr>
                      <a:xfrm rot="19453200">
                        <a:off x="4654800" y="4651920"/>
                        <a:ext cx="14040" cy="18720"/>
                      </a:xfrm>
                      <a:custGeom>
                        <a:avLst/>
                        <a:gdLst/>
                        <a:ahLst/>
                        <a:rect l="l" t="t" r="r" b="b"/>
                        <a:pathLst>
                          <a:path w="13" h="20">
                            <a:moveTo>
                              <a:pt x="8" y="0"/>
                            </a:moveTo>
                            <a:lnTo>
                              <a:pt x="11" y="1"/>
                            </a:lnTo>
                            <a:lnTo>
                              <a:pt x="13" y="4"/>
                            </a:lnTo>
                            <a:lnTo>
                              <a:pt x="13" y="8"/>
                            </a:lnTo>
                            <a:lnTo>
                              <a:pt x="12" y="14"/>
                            </a:lnTo>
                            <a:lnTo>
                              <a:pt x="10" y="17"/>
                            </a:lnTo>
                            <a:lnTo>
                              <a:pt x="6" y="20"/>
                            </a:lnTo>
                            <a:lnTo>
                              <a:pt x="2" y="18"/>
                            </a:lnTo>
                            <a:lnTo>
                              <a:pt x="0" y="14"/>
                            </a:lnTo>
                            <a:lnTo>
                              <a:pt x="0" y="9"/>
                            </a:lnTo>
                            <a:lnTo>
                              <a:pt x="2" y="6"/>
                            </a:lnTo>
                            <a:lnTo>
                              <a:pt x="5" y="2"/>
                            </a:lnTo>
                            <a:lnTo>
                              <a:pt x="8" y="0"/>
                            </a:lnTo>
                            <a:lnTo>
                              <a:pt x="8" y="0"/>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393" name=""/>
                      <p:cNvSpPr/>
                      <p:nvPr/>
                    </p:nvSpPr>
                    <p:spPr>
                      <a:xfrm rot="19453200">
                        <a:off x="4623480" y="4686480"/>
                        <a:ext cx="67320" cy="36000"/>
                      </a:xfrm>
                      <a:custGeom>
                        <a:avLst/>
                        <a:gdLst/>
                        <a:ahLst/>
                        <a:rect l="l" t="t" r="r" b="b"/>
                        <a:pathLst>
                          <a:path w="61" h="38">
                            <a:moveTo>
                              <a:pt x="49" y="0"/>
                            </a:moveTo>
                            <a:lnTo>
                              <a:pt x="53" y="0"/>
                            </a:lnTo>
                            <a:lnTo>
                              <a:pt x="57" y="2"/>
                            </a:lnTo>
                            <a:lnTo>
                              <a:pt x="60" y="4"/>
                            </a:lnTo>
                            <a:lnTo>
                              <a:pt x="61" y="8"/>
                            </a:lnTo>
                            <a:lnTo>
                              <a:pt x="61" y="16"/>
                            </a:lnTo>
                            <a:lnTo>
                              <a:pt x="58" y="24"/>
                            </a:lnTo>
                            <a:lnTo>
                              <a:pt x="51" y="31"/>
                            </a:lnTo>
                            <a:lnTo>
                              <a:pt x="46" y="37"/>
                            </a:lnTo>
                            <a:lnTo>
                              <a:pt x="37" y="38"/>
                            </a:lnTo>
                            <a:lnTo>
                              <a:pt x="29" y="37"/>
                            </a:lnTo>
                            <a:lnTo>
                              <a:pt x="20" y="37"/>
                            </a:lnTo>
                            <a:lnTo>
                              <a:pt x="13" y="34"/>
                            </a:lnTo>
                            <a:lnTo>
                              <a:pt x="7" y="29"/>
                            </a:lnTo>
                            <a:lnTo>
                              <a:pt x="0" y="27"/>
                            </a:lnTo>
                            <a:lnTo>
                              <a:pt x="0" y="23"/>
                            </a:lnTo>
                            <a:lnTo>
                              <a:pt x="2" y="19"/>
                            </a:lnTo>
                            <a:lnTo>
                              <a:pt x="5" y="16"/>
                            </a:lnTo>
                            <a:lnTo>
                              <a:pt x="7" y="14"/>
                            </a:lnTo>
                            <a:lnTo>
                              <a:pt x="11" y="19"/>
                            </a:lnTo>
                            <a:lnTo>
                              <a:pt x="16" y="22"/>
                            </a:lnTo>
                            <a:lnTo>
                              <a:pt x="24" y="24"/>
                            </a:lnTo>
                            <a:lnTo>
                              <a:pt x="31" y="25"/>
                            </a:lnTo>
                            <a:lnTo>
                              <a:pt x="37" y="23"/>
                            </a:lnTo>
                            <a:lnTo>
                              <a:pt x="42" y="19"/>
                            </a:lnTo>
                            <a:lnTo>
                              <a:pt x="46" y="14"/>
                            </a:lnTo>
                            <a:lnTo>
                              <a:pt x="47" y="6"/>
                            </a:lnTo>
                            <a:lnTo>
                              <a:pt x="47" y="2"/>
                            </a:lnTo>
                            <a:lnTo>
                              <a:pt x="49" y="0"/>
                            </a:lnTo>
                            <a:lnTo>
                              <a:pt x="49" y="0"/>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394" name=""/>
                      <p:cNvSpPr/>
                      <p:nvPr/>
                    </p:nvSpPr>
                    <p:spPr>
                      <a:xfrm rot="19453200">
                        <a:off x="4725000" y="4660920"/>
                        <a:ext cx="8640" cy="15120"/>
                      </a:xfrm>
                      <a:custGeom>
                        <a:avLst/>
                        <a:gdLst/>
                        <a:ahLst/>
                        <a:rect l="l" t="t" r="r" b="b"/>
                        <a:pathLst>
                          <a:path w="8" h="16">
                            <a:moveTo>
                              <a:pt x="3" y="0"/>
                            </a:moveTo>
                            <a:lnTo>
                              <a:pt x="6" y="0"/>
                            </a:lnTo>
                            <a:lnTo>
                              <a:pt x="8" y="4"/>
                            </a:lnTo>
                            <a:lnTo>
                              <a:pt x="7" y="8"/>
                            </a:lnTo>
                            <a:lnTo>
                              <a:pt x="7" y="13"/>
                            </a:lnTo>
                            <a:lnTo>
                              <a:pt x="5" y="15"/>
                            </a:lnTo>
                            <a:lnTo>
                              <a:pt x="3" y="16"/>
                            </a:lnTo>
                            <a:lnTo>
                              <a:pt x="0" y="14"/>
                            </a:lnTo>
                            <a:lnTo>
                              <a:pt x="0" y="7"/>
                            </a:lnTo>
                            <a:lnTo>
                              <a:pt x="0" y="2"/>
                            </a:lnTo>
                            <a:lnTo>
                              <a:pt x="3" y="0"/>
                            </a:lnTo>
                            <a:lnTo>
                              <a:pt x="3" y="0"/>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395" name=""/>
                      <p:cNvSpPr/>
                      <p:nvPr/>
                    </p:nvSpPr>
                    <p:spPr>
                      <a:xfrm rot="19453200">
                        <a:off x="4804920" y="4443120"/>
                        <a:ext cx="14400" cy="18000"/>
                      </a:xfrm>
                      <a:custGeom>
                        <a:avLst/>
                        <a:gdLst/>
                        <a:ahLst/>
                        <a:rect l="l" t="t" r="r" b="b"/>
                        <a:pathLst>
                          <a:path w="13" h="19">
                            <a:moveTo>
                              <a:pt x="3" y="0"/>
                            </a:moveTo>
                            <a:lnTo>
                              <a:pt x="7" y="1"/>
                            </a:lnTo>
                            <a:lnTo>
                              <a:pt x="11" y="5"/>
                            </a:lnTo>
                            <a:lnTo>
                              <a:pt x="12" y="10"/>
                            </a:lnTo>
                            <a:lnTo>
                              <a:pt x="13" y="14"/>
                            </a:lnTo>
                            <a:lnTo>
                              <a:pt x="11" y="17"/>
                            </a:lnTo>
                            <a:lnTo>
                              <a:pt x="8" y="19"/>
                            </a:lnTo>
                            <a:lnTo>
                              <a:pt x="5" y="17"/>
                            </a:lnTo>
                            <a:lnTo>
                              <a:pt x="0" y="12"/>
                            </a:lnTo>
                            <a:lnTo>
                              <a:pt x="0" y="8"/>
                            </a:lnTo>
                            <a:lnTo>
                              <a:pt x="1" y="4"/>
                            </a:lnTo>
                            <a:lnTo>
                              <a:pt x="2" y="1"/>
                            </a:lnTo>
                            <a:lnTo>
                              <a:pt x="3" y="0"/>
                            </a:lnTo>
                            <a:lnTo>
                              <a:pt x="3" y="0"/>
                            </a:lnTo>
                            <a:close/>
                          </a:path>
                        </a:pathLst>
                      </a:custGeom>
                      <a:solidFill>
                        <a:srgbClr val="fac7c7"/>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96" name=""/>
                      <p:cNvSpPr/>
                      <p:nvPr/>
                    </p:nvSpPr>
                    <p:spPr>
                      <a:xfrm rot="19453200">
                        <a:off x="4868640" y="4320360"/>
                        <a:ext cx="17280" cy="16920"/>
                      </a:xfrm>
                      <a:custGeom>
                        <a:avLst/>
                        <a:gdLst/>
                        <a:ahLst/>
                        <a:rect l="l" t="t" r="r" b="b"/>
                        <a:pathLst>
                          <a:path w="16" h="18">
                            <a:moveTo>
                              <a:pt x="5" y="0"/>
                            </a:moveTo>
                            <a:lnTo>
                              <a:pt x="9" y="2"/>
                            </a:lnTo>
                            <a:lnTo>
                              <a:pt x="15" y="7"/>
                            </a:lnTo>
                            <a:lnTo>
                              <a:pt x="16" y="12"/>
                            </a:lnTo>
                            <a:lnTo>
                              <a:pt x="11" y="18"/>
                            </a:lnTo>
                            <a:lnTo>
                              <a:pt x="5" y="15"/>
                            </a:lnTo>
                            <a:lnTo>
                              <a:pt x="1" y="10"/>
                            </a:lnTo>
                            <a:lnTo>
                              <a:pt x="0" y="4"/>
                            </a:lnTo>
                            <a:lnTo>
                              <a:pt x="5" y="0"/>
                            </a:lnTo>
                            <a:lnTo>
                              <a:pt x="5" y="0"/>
                            </a:lnTo>
                            <a:close/>
                          </a:path>
                        </a:pathLst>
                      </a:custGeom>
                      <a:solidFill>
                        <a:srgbClr val="fac7c7"/>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397" name=""/>
                      <p:cNvSpPr/>
                      <p:nvPr/>
                    </p:nvSpPr>
                    <p:spPr>
                      <a:xfrm rot="19453200">
                        <a:off x="5153760" y="4163760"/>
                        <a:ext cx="11880" cy="16200"/>
                      </a:xfrm>
                      <a:custGeom>
                        <a:avLst/>
                        <a:gdLst/>
                        <a:ahLst/>
                        <a:rect l="l" t="t" r="r" b="b"/>
                        <a:pathLst>
                          <a:path w="11" h="17">
                            <a:moveTo>
                              <a:pt x="1" y="0"/>
                            </a:moveTo>
                            <a:lnTo>
                              <a:pt x="5" y="2"/>
                            </a:lnTo>
                            <a:lnTo>
                              <a:pt x="11" y="9"/>
                            </a:lnTo>
                            <a:lnTo>
                              <a:pt x="11" y="12"/>
                            </a:lnTo>
                            <a:lnTo>
                              <a:pt x="11" y="15"/>
                            </a:lnTo>
                            <a:lnTo>
                              <a:pt x="8" y="16"/>
                            </a:lnTo>
                            <a:lnTo>
                              <a:pt x="4" y="17"/>
                            </a:lnTo>
                            <a:lnTo>
                              <a:pt x="2" y="12"/>
                            </a:lnTo>
                            <a:lnTo>
                              <a:pt x="1" y="7"/>
                            </a:lnTo>
                            <a:lnTo>
                              <a:pt x="0" y="2"/>
                            </a:lnTo>
                            <a:lnTo>
                              <a:pt x="1" y="0"/>
                            </a:lnTo>
                            <a:lnTo>
                              <a:pt x="1" y="0"/>
                            </a:lnTo>
                            <a:close/>
                          </a:path>
                        </a:pathLst>
                      </a:custGeom>
                      <a:solidFill>
                        <a:srgbClr val="fac7c7"/>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398" name=""/>
                      <p:cNvSpPr/>
                      <p:nvPr/>
                    </p:nvSpPr>
                    <p:spPr>
                      <a:xfrm rot="19453200">
                        <a:off x="5226840" y="4040640"/>
                        <a:ext cx="11880" cy="17640"/>
                      </a:xfrm>
                      <a:custGeom>
                        <a:avLst/>
                        <a:gdLst/>
                        <a:ahLst/>
                        <a:rect l="l" t="t" r="r" b="b"/>
                        <a:pathLst>
                          <a:path w="11" h="19">
                            <a:moveTo>
                              <a:pt x="1" y="0"/>
                            </a:moveTo>
                            <a:lnTo>
                              <a:pt x="6" y="3"/>
                            </a:lnTo>
                            <a:lnTo>
                              <a:pt x="11" y="9"/>
                            </a:lnTo>
                            <a:lnTo>
                              <a:pt x="11" y="12"/>
                            </a:lnTo>
                            <a:lnTo>
                              <a:pt x="10" y="15"/>
                            </a:lnTo>
                            <a:lnTo>
                              <a:pt x="7" y="17"/>
                            </a:lnTo>
                            <a:lnTo>
                              <a:pt x="3" y="19"/>
                            </a:lnTo>
                            <a:lnTo>
                              <a:pt x="1" y="14"/>
                            </a:lnTo>
                            <a:lnTo>
                              <a:pt x="0" y="8"/>
                            </a:lnTo>
                            <a:lnTo>
                              <a:pt x="0" y="3"/>
                            </a:lnTo>
                            <a:lnTo>
                              <a:pt x="1" y="0"/>
                            </a:lnTo>
                            <a:lnTo>
                              <a:pt x="1" y="0"/>
                            </a:lnTo>
                            <a:close/>
                          </a:path>
                        </a:pathLst>
                      </a:custGeom>
                      <a:solidFill>
                        <a:srgbClr val="fac7c7"/>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99" name=""/>
                      <p:cNvSpPr/>
                      <p:nvPr/>
                    </p:nvSpPr>
                    <p:spPr>
                      <a:xfrm rot="19453200">
                        <a:off x="4331160" y="4104720"/>
                        <a:ext cx="1208520" cy="326880"/>
                      </a:xfrm>
                      <a:custGeom>
                        <a:avLst/>
                        <a:gdLst/>
                        <a:ahLst/>
                        <a:rect l="l" t="t" r="r" b="b"/>
                        <a:pathLst>
                          <a:path w="1091" h="343">
                            <a:moveTo>
                              <a:pt x="0" y="335"/>
                            </a:moveTo>
                            <a:lnTo>
                              <a:pt x="71" y="211"/>
                            </a:lnTo>
                            <a:lnTo>
                              <a:pt x="160" y="275"/>
                            </a:lnTo>
                            <a:lnTo>
                              <a:pt x="412" y="109"/>
                            </a:lnTo>
                            <a:lnTo>
                              <a:pt x="592" y="15"/>
                            </a:lnTo>
                            <a:lnTo>
                              <a:pt x="701" y="179"/>
                            </a:lnTo>
                            <a:lnTo>
                              <a:pt x="948" y="48"/>
                            </a:lnTo>
                            <a:lnTo>
                              <a:pt x="940" y="0"/>
                            </a:lnTo>
                            <a:lnTo>
                              <a:pt x="1091" y="10"/>
                            </a:lnTo>
                            <a:lnTo>
                              <a:pt x="1084" y="23"/>
                            </a:lnTo>
                            <a:lnTo>
                              <a:pt x="957" y="15"/>
                            </a:lnTo>
                            <a:lnTo>
                              <a:pt x="964" y="53"/>
                            </a:lnTo>
                            <a:lnTo>
                              <a:pt x="698" y="196"/>
                            </a:lnTo>
                            <a:lnTo>
                              <a:pt x="585" y="36"/>
                            </a:lnTo>
                            <a:lnTo>
                              <a:pt x="406" y="131"/>
                            </a:lnTo>
                            <a:lnTo>
                              <a:pt x="158" y="294"/>
                            </a:lnTo>
                            <a:lnTo>
                              <a:pt x="74" y="235"/>
                            </a:lnTo>
                            <a:lnTo>
                              <a:pt x="16" y="343"/>
                            </a:lnTo>
                            <a:lnTo>
                              <a:pt x="0" y="335"/>
                            </a:lnTo>
                            <a:lnTo>
                              <a:pt x="0" y="335"/>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
                      <p:cNvSpPr/>
                      <p:nvPr/>
                    </p:nvSpPr>
                    <p:spPr>
                      <a:xfrm rot="19453200">
                        <a:off x="5160240" y="3844800"/>
                        <a:ext cx="244440" cy="150480"/>
                      </a:xfrm>
                      <a:custGeom>
                        <a:avLst/>
                        <a:gdLst/>
                        <a:ahLst/>
                        <a:rect l="l" t="t" r="r" b="b"/>
                        <a:pathLst>
                          <a:path w="221" h="158">
                            <a:moveTo>
                              <a:pt x="0" y="151"/>
                            </a:moveTo>
                            <a:lnTo>
                              <a:pt x="113" y="73"/>
                            </a:lnTo>
                            <a:lnTo>
                              <a:pt x="142" y="112"/>
                            </a:lnTo>
                            <a:lnTo>
                              <a:pt x="208" y="3"/>
                            </a:lnTo>
                            <a:lnTo>
                              <a:pt x="221" y="0"/>
                            </a:lnTo>
                            <a:lnTo>
                              <a:pt x="150" y="134"/>
                            </a:lnTo>
                            <a:lnTo>
                              <a:pt x="113" y="94"/>
                            </a:lnTo>
                            <a:lnTo>
                              <a:pt x="14" y="158"/>
                            </a:lnTo>
                            <a:lnTo>
                              <a:pt x="0" y="151"/>
                            </a:lnTo>
                            <a:lnTo>
                              <a:pt x="0" y="151"/>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 name=""/>
                      <p:cNvSpPr/>
                      <p:nvPr/>
                    </p:nvSpPr>
                    <p:spPr>
                      <a:xfrm rot="19453200">
                        <a:off x="5142600" y="4077000"/>
                        <a:ext cx="112680" cy="70200"/>
                      </a:xfrm>
                      <a:custGeom>
                        <a:avLst/>
                        <a:gdLst/>
                        <a:ahLst/>
                        <a:rect l="l" t="t" r="r" b="b"/>
                        <a:pathLst>
                          <a:path w="102" h="74">
                            <a:moveTo>
                              <a:pt x="98" y="0"/>
                            </a:moveTo>
                            <a:lnTo>
                              <a:pt x="0" y="63"/>
                            </a:lnTo>
                            <a:lnTo>
                              <a:pt x="7" y="74"/>
                            </a:lnTo>
                            <a:lnTo>
                              <a:pt x="102" y="16"/>
                            </a:lnTo>
                            <a:lnTo>
                              <a:pt x="98" y="0"/>
                            </a:lnTo>
                            <a:lnTo>
                              <a:pt x="98" y="0"/>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402" name=""/>
                      <p:cNvSpPr/>
                      <p:nvPr/>
                    </p:nvSpPr>
                    <p:spPr>
                      <a:xfrm rot="19453200">
                        <a:off x="4862520" y="4184640"/>
                        <a:ext cx="324360" cy="131400"/>
                      </a:xfrm>
                      <a:custGeom>
                        <a:avLst/>
                        <a:gdLst/>
                        <a:ahLst/>
                        <a:rect l="l" t="t" r="r" b="b"/>
                        <a:pathLst>
                          <a:path w="293" h="138">
                            <a:moveTo>
                              <a:pt x="283" y="93"/>
                            </a:moveTo>
                            <a:lnTo>
                              <a:pt x="239" y="123"/>
                            </a:lnTo>
                            <a:lnTo>
                              <a:pt x="71" y="0"/>
                            </a:lnTo>
                            <a:lnTo>
                              <a:pt x="0" y="40"/>
                            </a:lnTo>
                            <a:lnTo>
                              <a:pt x="10" y="51"/>
                            </a:lnTo>
                            <a:lnTo>
                              <a:pt x="72" y="16"/>
                            </a:lnTo>
                            <a:lnTo>
                              <a:pt x="237" y="138"/>
                            </a:lnTo>
                            <a:lnTo>
                              <a:pt x="293" y="101"/>
                            </a:lnTo>
                            <a:lnTo>
                              <a:pt x="283" y="93"/>
                            </a:lnTo>
                            <a:lnTo>
                              <a:pt x="283" y="93"/>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
                      <p:cNvSpPr/>
                      <p:nvPr/>
                    </p:nvSpPr>
                    <p:spPr>
                      <a:xfrm rot="19453200">
                        <a:off x="4501800" y="4556880"/>
                        <a:ext cx="396360" cy="148680"/>
                      </a:xfrm>
                      <a:custGeom>
                        <a:avLst/>
                        <a:gdLst/>
                        <a:ahLst/>
                        <a:rect l="l" t="t" r="r" b="b"/>
                        <a:pathLst>
                          <a:path w="358" h="156">
                            <a:moveTo>
                              <a:pt x="353" y="0"/>
                            </a:moveTo>
                            <a:lnTo>
                              <a:pt x="158" y="138"/>
                            </a:lnTo>
                            <a:lnTo>
                              <a:pt x="13" y="63"/>
                            </a:lnTo>
                            <a:lnTo>
                              <a:pt x="0" y="79"/>
                            </a:lnTo>
                            <a:lnTo>
                              <a:pt x="162" y="156"/>
                            </a:lnTo>
                            <a:lnTo>
                              <a:pt x="358" y="14"/>
                            </a:lnTo>
                            <a:lnTo>
                              <a:pt x="353" y="0"/>
                            </a:lnTo>
                            <a:lnTo>
                              <a:pt x="353" y="0"/>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
                      <p:cNvSpPr/>
                      <p:nvPr/>
                    </p:nvSpPr>
                    <p:spPr>
                      <a:xfrm rot="19453200">
                        <a:off x="4794480" y="4358160"/>
                        <a:ext cx="109440" cy="65520"/>
                      </a:xfrm>
                      <a:custGeom>
                        <a:avLst/>
                        <a:gdLst/>
                        <a:ahLst/>
                        <a:rect l="l" t="t" r="r" b="b"/>
                        <a:pathLst>
                          <a:path w="99" h="69">
                            <a:moveTo>
                              <a:pt x="92" y="0"/>
                            </a:moveTo>
                            <a:lnTo>
                              <a:pt x="0" y="59"/>
                            </a:lnTo>
                            <a:lnTo>
                              <a:pt x="8" y="69"/>
                            </a:lnTo>
                            <a:lnTo>
                              <a:pt x="99" y="10"/>
                            </a:lnTo>
                            <a:lnTo>
                              <a:pt x="92" y="0"/>
                            </a:lnTo>
                            <a:lnTo>
                              <a:pt x="92" y="0"/>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405" name=""/>
                      <p:cNvSpPr/>
                      <p:nvPr/>
                    </p:nvSpPr>
                    <p:spPr>
                      <a:xfrm rot="19453200">
                        <a:off x="4712760" y="4588560"/>
                        <a:ext cx="32040" cy="43560"/>
                      </a:xfrm>
                      <a:custGeom>
                        <a:avLst/>
                        <a:gdLst/>
                        <a:ahLst/>
                        <a:rect l="l" t="t" r="r" b="b"/>
                        <a:pathLst>
                          <a:path w="29" h="46">
                            <a:moveTo>
                              <a:pt x="23" y="46"/>
                            </a:moveTo>
                            <a:lnTo>
                              <a:pt x="0" y="8"/>
                            </a:lnTo>
                            <a:lnTo>
                              <a:pt x="8" y="0"/>
                            </a:lnTo>
                            <a:lnTo>
                              <a:pt x="29" y="36"/>
                            </a:lnTo>
                            <a:lnTo>
                              <a:pt x="23" y="46"/>
                            </a:lnTo>
                            <a:lnTo>
                              <a:pt x="23" y="46"/>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406" name=""/>
                      <p:cNvSpPr/>
                      <p:nvPr/>
                    </p:nvSpPr>
                    <p:spPr>
                      <a:xfrm rot="19453200">
                        <a:off x="4726080" y="4564800"/>
                        <a:ext cx="30600" cy="45360"/>
                      </a:xfrm>
                      <a:custGeom>
                        <a:avLst/>
                        <a:gdLst/>
                        <a:ahLst/>
                        <a:rect l="l" t="t" r="r" b="b"/>
                        <a:pathLst>
                          <a:path w="28" h="48">
                            <a:moveTo>
                              <a:pt x="23" y="48"/>
                            </a:moveTo>
                            <a:lnTo>
                              <a:pt x="0" y="10"/>
                            </a:lnTo>
                            <a:lnTo>
                              <a:pt x="7" y="0"/>
                            </a:lnTo>
                            <a:lnTo>
                              <a:pt x="28" y="37"/>
                            </a:lnTo>
                            <a:lnTo>
                              <a:pt x="23" y="48"/>
                            </a:lnTo>
                            <a:lnTo>
                              <a:pt x="23" y="48"/>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407" name=""/>
                      <p:cNvSpPr/>
                      <p:nvPr/>
                    </p:nvSpPr>
                    <p:spPr>
                      <a:xfrm rot="19453200">
                        <a:off x="4733640" y="4543920"/>
                        <a:ext cx="29880" cy="43560"/>
                      </a:xfrm>
                      <a:custGeom>
                        <a:avLst/>
                        <a:gdLst/>
                        <a:ahLst/>
                        <a:rect l="l" t="t" r="r" b="b"/>
                        <a:pathLst>
                          <a:path w="27" h="46">
                            <a:moveTo>
                              <a:pt x="23" y="46"/>
                            </a:moveTo>
                            <a:lnTo>
                              <a:pt x="0" y="8"/>
                            </a:lnTo>
                            <a:lnTo>
                              <a:pt x="7" y="0"/>
                            </a:lnTo>
                            <a:lnTo>
                              <a:pt x="27" y="35"/>
                            </a:lnTo>
                            <a:lnTo>
                              <a:pt x="23" y="46"/>
                            </a:lnTo>
                            <a:lnTo>
                              <a:pt x="23" y="46"/>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408" name=""/>
                      <p:cNvSpPr/>
                      <p:nvPr/>
                    </p:nvSpPr>
                    <p:spPr>
                      <a:xfrm rot="19453200">
                        <a:off x="4742280" y="4520160"/>
                        <a:ext cx="29880" cy="43560"/>
                      </a:xfrm>
                      <a:custGeom>
                        <a:avLst/>
                        <a:gdLst/>
                        <a:ahLst/>
                        <a:rect l="l" t="t" r="r" b="b"/>
                        <a:pathLst>
                          <a:path w="27" h="46">
                            <a:moveTo>
                              <a:pt x="22" y="46"/>
                            </a:moveTo>
                            <a:lnTo>
                              <a:pt x="0" y="8"/>
                            </a:lnTo>
                            <a:lnTo>
                              <a:pt x="6" y="0"/>
                            </a:lnTo>
                            <a:lnTo>
                              <a:pt x="27" y="35"/>
                            </a:lnTo>
                            <a:lnTo>
                              <a:pt x="22" y="46"/>
                            </a:lnTo>
                            <a:lnTo>
                              <a:pt x="22" y="46"/>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409" name=""/>
                      <p:cNvSpPr/>
                      <p:nvPr/>
                    </p:nvSpPr>
                    <p:spPr>
                      <a:xfrm rot="19453200">
                        <a:off x="4896720" y="4143600"/>
                        <a:ext cx="39600" cy="28440"/>
                      </a:xfrm>
                      <a:custGeom>
                        <a:avLst/>
                        <a:gdLst/>
                        <a:ahLst/>
                        <a:rect l="l" t="t" r="r" b="b"/>
                        <a:pathLst>
                          <a:path w="36" h="30">
                            <a:moveTo>
                              <a:pt x="29" y="0"/>
                            </a:moveTo>
                            <a:lnTo>
                              <a:pt x="0" y="21"/>
                            </a:lnTo>
                            <a:lnTo>
                              <a:pt x="8" y="30"/>
                            </a:lnTo>
                            <a:lnTo>
                              <a:pt x="36" y="11"/>
                            </a:lnTo>
                            <a:lnTo>
                              <a:pt x="29" y="0"/>
                            </a:lnTo>
                            <a:lnTo>
                              <a:pt x="29" y="0"/>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10" name=""/>
                      <p:cNvSpPr/>
                      <p:nvPr/>
                    </p:nvSpPr>
                    <p:spPr>
                      <a:xfrm rot="19453200">
                        <a:off x="4919760" y="4148640"/>
                        <a:ext cx="40680" cy="30240"/>
                      </a:xfrm>
                      <a:custGeom>
                        <a:avLst/>
                        <a:gdLst/>
                        <a:ahLst/>
                        <a:rect l="l" t="t" r="r" b="b"/>
                        <a:pathLst>
                          <a:path w="37" h="32">
                            <a:moveTo>
                              <a:pt x="29" y="0"/>
                            </a:moveTo>
                            <a:lnTo>
                              <a:pt x="0" y="22"/>
                            </a:lnTo>
                            <a:lnTo>
                              <a:pt x="8" y="32"/>
                            </a:lnTo>
                            <a:lnTo>
                              <a:pt x="37" y="12"/>
                            </a:lnTo>
                            <a:lnTo>
                              <a:pt x="29" y="0"/>
                            </a:lnTo>
                            <a:lnTo>
                              <a:pt x="29" y="0"/>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11" name=""/>
                      <p:cNvSpPr/>
                      <p:nvPr/>
                    </p:nvSpPr>
                    <p:spPr>
                      <a:xfrm rot="19453200">
                        <a:off x="4945680" y="4152240"/>
                        <a:ext cx="39600" cy="29520"/>
                      </a:xfrm>
                      <a:custGeom>
                        <a:avLst/>
                        <a:gdLst/>
                        <a:ahLst/>
                        <a:rect l="l" t="t" r="r" b="b"/>
                        <a:pathLst>
                          <a:path w="36" h="31">
                            <a:moveTo>
                              <a:pt x="28" y="0"/>
                            </a:moveTo>
                            <a:lnTo>
                              <a:pt x="0" y="22"/>
                            </a:lnTo>
                            <a:lnTo>
                              <a:pt x="8" y="31"/>
                            </a:lnTo>
                            <a:lnTo>
                              <a:pt x="36" y="12"/>
                            </a:lnTo>
                            <a:lnTo>
                              <a:pt x="28" y="0"/>
                            </a:lnTo>
                            <a:lnTo>
                              <a:pt x="28" y="0"/>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412" name=""/>
                      <p:cNvSpPr/>
                      <p:nvPr/>
                    </p:nvSpPr>
                    <p:spPr>
                      <a:xfrm rot="19453200">
                        <a:off x="4971240" y="4157280"/>
                        <a:ext cx="39600" cy="29520"/>
                      </a:xfrm>
                      <a:custGeom>
                        <a:avLst/>
                        <a:gdLst/>
                        <a:ahLst/>
                        <a:rect l="l" t="t" r="r" b="b"/>
                        <a:pathLst>
                          <a:path w="36" h="31">
                            <a:moveTo>
                              <a:pt x="28" y="0"/>
                            </a:moveTo>
                            <a:lnTo>
                              <a:pt x="0" y="22"/>
                            </a:lnTo>
                            <a:lnTo>
                              <a:pt x="8" y="31"/>
                            </a:lnTo>
                            <a:lnTo>
                              <a:pt x="36" y="11"/>
                            </a:lnTo>
                            <a:lnTo>
                              <a:pt x="28" y="0"/>
                            </a:lnTo>
                            <a:lnTo>
                              <a:pt x="28" y="0"/>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413" name=""/>
                      <p:cNvSpPr/>
                      <p:nvPr/>
                    </p:nvSpPr>
                    <p:spPr>
                      <a:xfrm rot="19453200">
                        <a:off x="5297400" y="3870720"/>
                        <a:ext cx="37440" cy="30240"/>
                      </a:xfrm>
                      <a:custGeom>
                        <a:avLst/>
                        <a:gdLst/>
                        <a:ahLst/>
                        <a:rect l="l" t="t" r="r" b="b"/>
                        <a:pathLst>
                          <a:path w="34" h="32">
                            <a:moveTo>
                              <a:pt x="26" y="32"/>
                            </a:moveTo>
                            <a:lnTo>
                              <a:pt x="0" y="9"/>
                            </a:lnTo>
                            <a:lnTo>
                              <a:pt x="5" y="0"/>
                            </a:lnTo>
                            <a:lnTo>
                              <a:pt x="34" y="22"/>
                            </a:lnTo>
                            <a:lnTo>
                              <a:pt x="26" y="32"/>
                            </a:lnTo>
                            <a:lnTo>
                              <a:pt x="26" y="32"/>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14" name=""/>
                      <p:cNvSpPr/>
                      <p:nvPr/>
                    </p:nvSpPr>
                    <p:spPr>
                      <a:xfrm rot="19453200">
                        <a:off x="5301000" y="3850560"/>
                        <a:ext cx="35280" cy="29520"/>
                      </a:xfrm>
                      <a:custGeom>
                        <a:avLst/>
                        <a:gdLst/>
                        <a:ahLst/>
                        <a:rect l="l" t="t" r="r" b="b"/>
                        <a:pathLst>
                          <a:path w="32" h="31">
                            <a:moveTo>
                              <a:pt x="25" y="31"/>
                            </a:moveTo>
                            <a:lnTo>
                              <a:pt x="0" y="8"/>
                            </a:lnTo>
                            <a:lnTo>
                              <a:pt x="5" y="0"/>
                            </a:lnTo>
                            <a:lnTo>
                              <a:pt x="32" y="20"/>
                            </a:lnTo>
                            <a:lnTo>
                              <a:pt x="25" y="31"/>
                            </a:lnTo>
                            <a:lnTo>
                              <a:pt x="25" y="31"/>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415" name=""/>
                      <p:cNvSpPr/>
                      <p:nvPr/>
                    </p:nvSpPr>
                    <p:spPr>
                      <a:xfrm rot="19453200">
                        <a:off x="5301720" y="3827880"/>
                        <a:ext cx="36360" cy="31320"/>
                      </a:xfrm>
                      <a:custGeom>
                        <a:avLst/>
                        <a:gdLst/>
                        <a:ahLst/>
                        <a:rect l="l" t="t" r="r" b="b"/>
                        <a:pathLst>
                          <a:path w="33" h="33">
                            <a:moveTo>
                              <a:pt x="27" y="33"/>
                            </a:moveTo>
                            <a:lnTo>
                              <a:pt x="0" y="9"/>
                            </a:lnTo>
                            <a:lnTo>
                              <a:pt x="7" y="0"/>
                            </a:lnTo>
                            <a:lnTo>
                              <a:pt x="33" y="23"/>
                            </a:lnTo>
                            <a:lnTo>
                              <a:pt x="27" y="33"/>
                            </a:lnTo>
                            <a:lnTo>
                              <a:pt x="27" y="33"/>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416" name=""/>
                      <p:cNvSpPr/>
                      <p:nvPr/>
                    </p:nvSpPr>
                    <p:spPr>
                      <a:xfrm rot="19453200">
                        <a:off x="5297400" y="3870720"/>
                        <a:ext cx="37440" cy="30240"/>
                      </a:xfrm>
                      <a:custGeom>
                        <a:avLst/>
                        <a:gdLst/>
                        <a:ahLst/>
                        <a:rect l="l" t="t" r="r" b="b"/>
                        <a:pathLst>
                          <a:path w="34" h="32">
                            <a:moveTo>
                              <a:pt x="26" y="32"/>
                            </a:moveTo>
                            <a:lnTo>
                              <a:pt x="0" y="9"/>
                            </a:lnTo>
                            <a:lnTo>
                              <a:pt x="5" y="0"/>
                            </a:lnTo>
                            <a:lnTo>
                              <a:pt x="34" y="22"/>
                            </a:lnTo>
                            <a:lnTo>
                              <a:pt x="26" y="32"/>
                            </a:lnTo>
                            <a:lnTo>
                              <a:pt x="26" y="32"/>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17" name=""/>
                      <p:cNvSpPr/>
                      <p:nvPr/>
                    </p:nvSpPr>
                    <p:spPr>
                      <a:xfrm rot="19453200">
                        <a:off x="5297400" y="3870720"/>
                        <a:ext cx="37440" cy="30240"/>
                      </a:xfrm>
                      <a:custGeom>
                        <a:avLst/>
                        <a:gdLst/>
                        <a:ahLst/>
                        <a:rect l="l" t="t" r="r" b="b"/>
                        <a:pathLst>
                          <a:path w="34" h="32">
                            <a:moveTo>
                              <a:pt x="26" y="32"/>
                            </a:moveTo>
                            <a:lnTo>
                              <a:pt x="0" y="9"/>
                            </a:lnTo>
                            <a:lnTo>
                              <a:pt x="5" y="0"/>
                            </a:lnTo>
                            <a:lnTo>
                              <a:pt x="34" y="22"/>
                            </a:lnTo>
                            <a:lnTo>
                              <a:pt x="26" y="32"/>
                            </a:lnTo>
                            <a:lnTo>
                              <a:pt x="26" y="32"/>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418" name=""/>
                    <p:cNvSpPr/>
                    <p:nvPr/>
                  </p:nvSpPr>
                  <p:spPr>
                    <a:xfrm flipV="1">
                      <a:off x="5155560" y="4147920"/>
                      <a:ext cx="21240" cy="45720"/>
                    </a:xfrm>
                    <a:prstGeom prst="line">
                      <a:avLst/>
                    </a:prstGeom>
                    <a:ln w="9360">
                      <a:solidFill>
                        <a:srgbClr val="000000"/>
                      </a:solidFill>
                      <a:miter/>
                    </a:ln>
                  </p:spPr>
                  <p:style>
                    <a:lnRef idx="0"/>
                    <a:fillRef idx="0"/>
                    <a:effectRef idx="0"/>
                    <a:fontRef idx="minor"/>
                  </p:style>
                  <p:txBody>
                    <a:bodyPr lIns="90000" rIns="90000" tIns="-1080" bIns="-1080" anchor="ctr">
                      <a:noAutofit/>
                    </a:bodyPr>
                    <a:p>
                      <a:endParaRPr b="0" lang="en-US" sz="2400" spc="-1" strike="noStrike">
                        <a:solidFill>
                          <a:srgbClr val="000000"/>
                        </a:solidFill>
                        <a:latin typeface="Times New Roman"/>
                      </a:endParaRPr>
                    </a:p>
                  </p:txBody>
                </p:sp>
                <p:sp>
                  <p:nvSpPr>
                    <p:cNvPr id="419" name=""/>
                    <p:cNvSpPr/>
                    <p:nvPr/>
                  </p:nvSpPr>
                  <p:spPr>
                    <a:xfrm flipV="1">
                      <a:off x="5163120" y="4147200"/>
                      <a:ext cx="21600" cy="45720"/>
                    </a:xfrm>
                    <a:prstGeom prst="line">
                      <a:avLst/>
                    </a:prstGeom>
                    <a:ln w="9360">
                      <a:solidFill>
                        <a:srgbClr val="000000"/>
                      </a:solidFill>
                      <a:miter/>
                    </a:ln>
                  </p:spPr>
                  <p:style>
                    <a:lnRef idx="0"/>
                    <a:fillRef idx="0"/>
                    <a:effectRef idx="0"/>
                    <a:fontRef idx="minor"/>
                  </p:style>
                  <p:txBody>
                    <a:bodyPr lIns="90000" rIns="90000" tIns="-1080" bIns="-1080" anchor="ctr">
                      <a:noAutofit/>
                    </a:bodyPr>
                    <a:p>
                      <a:endParaRPr b="0" lang="en-US" sz="2400" spc="-1" strike="noStrike">
                        <a:solidFill>
                          <a:srgbClr val="000000"/>
                        </a:solidFill>
                        <a:latin typeface="Times New Roman"/>
                      </a:endParaRPr>
                    </a:p>
                  </p:txBody>
                </p:sp>
                <p:sp>
                  <p:nvSpPr>
                    <p:cNvPr id="420" name=""/>
                    <p:cNvSpPr/>
                    <p:nvPr/>
                  </p:nvSpPr>
                  <p:spPr>
                    <a:xfrm flipV="1">
                      <a:off x="5157360" y="4146840"/>
                      <a:ext cx="21240" cy="45720"/>
                    </a:xfrm>
                    <a:prstGeom prst="line">
                      <a:avLst/>
                    </a:prstGeom>
                    <a:ln w="9360">
                      <a:solidFill>
                        <a:srgbClr val="000000"/>
                      </a:solidFill>
                      <a:miter/>
                    </a:ln>
                  </p:spPr>
                  <p:style>
                    <a:lnRef idx="0"/>
                    <a:fillRef idx="0"/>
                    <a:effectRef idx="0"/>
                    <a:fontRef idx="minor"/>
                  </p:style>
                  <p:txBody>
                    <a:bodyPr lIns="90000" rIns="90000" tIns="-1080" bIns="-1080" anchor="ctr">
                      <a:noAutofit/>
                    </a:bodyPr>
                    <a:p>
                      <a:endParaRPr b="0" lang="en-US" sz="2400" spc="-1" strike="noStrike">
                        <a:solidFill>
                          <a:srgbClr val="000000"/>
                        </a:solidFill>
                        <a:latin typeface="Times New Roman"/>
                      </a:endParaRPr>
                    </a:p>
                  </p:txBody>
                </p:sp>
                <p:sp>
                  <p:nvSpPr>
                    <p:cNvPr id="421" name=""/>
                    <p:cNvSpPr/>
                    <p:nvPr/>
                  </p:nvSpPr>
                  <p:spPr>
                    <a:xfrm flipV="1">
                      <a:off x="5220720" y="4018680"/>
                      <a:ext cx="21600" cy="45720"/>
                    </a:xfrm>
                    <a:prstGeom prst="line">
                      <a:avLst/>
                    </a:prstGeom>
                    <a:ln w="9360">
                      <a:solidFill>
                        <a:srgbClr val="000000"/>
                      </a:solidFill>
                      <a:miter/>
                    </a:ln>
                  </p:spPr>
                  <p:style>
                    <a:lnRef idx="0"/>
                    <a:fillRef idx="0"/>
                    <a:effectRef idx="0"/>
                    <a:fontRef idx="minor"/>
                  </p:style>
                  <p:txBody>
                    <a:bodyPr lIns="90000" rIns="90000" tIns="-1080" bIns="-1080" anchor="ctr">
                      <a:noAutofit/>
                    </a:bodyPr>
                    <a:p>
                      <a:endParaRPr b="0" lang="en-US" sz="2400" spc="-1" strike="noStrike">
                        <a:solidFill>
                          <a:srgbClr val="000000"/>
                        </a:solidFill>
                        <a:latin typeface="Times New Roman"/>
                      </a:endParaRPr>
                    </a:p>
                  </p:txBody>
                </p:sp>
                <p:sp>
                  <p:nvSpPr>
                    <p:cNvPr id="422" name=""/>
                    <p:cNvSpPr/>
                    <p:nvPr/>
                  </p:nvSpPr>
                  <p:spPr>
                    <a:xfrm flipV="1">
                      <a:off x="5220360" y="4033080"/>
                      <a:ext cx="20880" cy="45720"/>
                    </a:xfrm>
                    <a:prstGeom prst="line">
                      <a:avLst/>
                    </a:prstGeom>
                    <a:ln w="9360">
                      <a:solidFill>
                        <a:srgbClr val="000000"/>
                      </a:solidFill>
                      <a:miter/>
                    </a:ln>
                  </p:spPr>
                  <p:style>
                    <a:lnRef idx="0"/>
                    <a:fillRef idx="0"/>
                    <a:effectRef idx="0"/>
                    <a:fontRef idx="minor"/>
                  </p:style>
                  <p:txBody>
                    <a:bodyPr lIns="90000" rIns="90000" tIns="-1080" bIns="-1080" anchor="ctr">
                      <a:noAutofit/>
                    </a:bodyPr>
                    <a:p>
                      <a:endParaRPr b="0" lang="en-US" sz="2400" spc="-1" strike="noStrike">
                        <a:solidFill>
                          <a:srgbClr val="000000"/>
                        </a:solidFill>
                        <a:latin typeface="Times New Roman"/>
                      </a:endParaRPr>
                    </a:p>
                  </p:txBody>
                </p:sp>
                <p:sp>
                  <p:nvSpPr>
                    <p:cNvPr id="423" name=""/>
                    <p:cNvSpPr/>
                    <p:nvPr/>
                  </p:nvSpPr>
                  <p:spPr>
                    <a:xfrm flipV="1">
                      <a:off x="5213520" y="4024080"/>
                      <a:ext cx="21240" cy="45360"/>
                    </a:xfrm>
                    <a:prstGeom prst="line">
                      <a:avLst/>
                    </a:prstGeom>
                    <a:ln w="9360">
                      <a:solidFill>
                        <a:srgbClr val="00000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sp>
                  <p:nvSpPr>
                    <p:cNvPr id="424" name=""/>
                    <p:cNvSpPr/>
                    <p:nvPr/>
                  </p:nvSpPr>
                  <p:spPr>
                    <a:xfrm flipV="1">
                      <a:off x="4814640" y="4410000"/>
                      <a:ext cx="21240" cy="46080"/>
                    </a:xfrm>
                    <a:prstGeom prst="line">
                      <a:avLst/>
                    </a:prstGeom>
                    <a:ln w="9360">
                      <a:solidFill>
                        <a:srgbClr val="000000"/>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425" name=""/>
                    <p:cNvSpPr/>
                    <p:nvPr/>
                  </p:nvSpPr>
                  <p:spPr>
                    <a:xfrm flipV="1">
                      <a:off x="4815720" y="4426200"/>
                      <a:ext cx="21240" cy="45720"/>
                    </a:xfrm>
                    <a:prstGeom prst="line">
                      <a:avLst/>
                    </a:prstGeom>
                    <a:ln w="9360">
                      <a:solidFill>
                        <a:srgbClr val="000000"/>
                      </a:solidFill>
                      <a:miter/>
                    </a:ln>
                  </p:spPr>
                  <p:style>
                    <a:lnRef idx="0"/>
                    <a:fillRef idx="0"/>
                    <a:effectRef idx="0"/>
                    <a:fontRef idx="minor"/>
                  </p:style>
                  <p:txBody>
                    <a:bodyPr lIns="90000" rIns="90000" tIns="-1080" bIns="-1080" anchor="ctr">
                      <a:noAutofit/>
                    </a:bodyPr>
                    <a:p>
                      <a:endParaRPr b="0" lang="en-US" sz="2400" spc="-1" strike="noStrike">
                        <a:solidFill>
                          <a:srgbClr val="000000"/>
                        </a:solidFill>
                        <a:latin typeface="Times New Roman"/>
                      </a:endParaRPr>
                    </a:p>
                  </p:txBody>
                </p:sp>
                <p:sp>
                  <p:nvSpPr>
                    <p:cNvPr id="426" name=""/>
                    <p:cNvSpPr/>
                    <p:nvPr/>
                  </p:nvSpPr>
                  <p:spPr>
                    <a:xfrm flipV="1">
                      <a:off x="4808160" y="4431240"/>
                      <a:ext cx="21600" cy="45720"/>
                    </a:xfrm>
                    <a:prstGeom prst="line">
                      <a:avLst/>
                    </a:prstGeom>
                    <a:ln w="9360">
                      <a:solidFill>
                        <a:srgbClr val="000000"/>
                      </a:solidFill>
                      <a:miter/>
                    </a:ln>
                  </p:spPr>
                  <p:style>
                    <a:lnRef idx="0"/>
                    <a:fillRef idx="0"/>
                    <a:effectRef idx="0"/>
                    <a:fontRef idx="minor"/>
                  </p:style>
                  <p:txBody>
                    <a:bodyPr lIns="90000" rIns="90000" tIns="-1080" bIns="-1080" anchor="ctr">
                      <a:noAutofit/>
                    </a:bodyPr>
                    <a:p>
                      <a:endParaRPr b="0" lang="en-US" sz="2400" spc="-1" strike="noStrike">
                        <a:solidFill>
                          <a:srgbClr val="000000"/>
                        </a:solidFill>
                        <a:latin typeface="Times New Roman"/>
                      </a:endParaRPr>
                    </a:p>
                  </p:txBody>
                </p:sp>
                <p:sp>
                  <p:nvSpPr>
                    <p:cNvPr id="427" name=""/>
                    <p:cNvSpPr/>
                    <p:nvPr/>
                  </p:nvSpPr>
                  <p:spPr>
                    <a:xfrm flipV="1">
                      <a:off x="4808520" y="4425120"/>
                      <a:ext cx="19080" cy="44640"/>
                    </a:xfrm>
                    <a:prstGeom prst="line">
                      <a:avLst/>
                    </a:prstGeom>
                    <a:ln w="936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428" name=""/>
                    <p:cNvSpPr/>
                    <p:nvPr/>
                  </p:nvSpPr>
                  <p:spPr>
                    <a:xfrm flipV="1">
                      <a:off x="4865400" y="4313880"/>
                      <a:ext cx="18720" cy="34560"/>
                    </a:xfrm>
                    <a:prstGeom prst="line">
                      <a:avLst/>
                    </a:prstGeom>
                    <a:ln w="9360">
                      <a:solidFill>
                        <a:srgbClr val="000000"/>
                      </a:solidFill>
                      <a:miter/>
                    </a:ln>
                  </p:spPr>
                  <p:style>
                    <a:lnRef idx="0"/>
                    <a:fillRef idx="0"/>
                    <a:effectRef idx="0"/>
                    <a:fontRef idx="minor"/>
                  </p:style>
                  <p:txBody>
                    <a:bodyPr lIns="90000" rIns="90000" tIns="-12240" bIns="-12240" anchor="ctr">
                      <a:noAutofit/>
                    </a:bodyPr>
                    <a:p>
                      <a:endParaRPr b="0" lang="en-US" sz="2400" spc="-1" strike="noStrike">
                        <a:solidFill>
                          <a:srgbClr val="000000"/>
                        </a:solidFill>
                        <a:latin typeface="Times New Roman"/>
                      </a:endParaRPr>
                    </a:p>
                  </p:txBody>
                </p:sp>
                <p:sp>
                  <p:nvSpPr>
                    <p:cNvPr id="429" name=""/>
                    <p:cNvSpPr/>
                    <p:nvPr/>
                  </p:nvSpPr>
                  <p:spPr>
                    <a:xfrm flipV="1">
                      <a:off x="4820400" y="4313160"/>
                      <a:ext cx="71640" cy="143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flipV="1">
                      <a:off x="4869360" y="4311360"/>
                      <a:ext cx="18720" cy="34200"/>
                    </a:xfrm>
                    <a:prstGeom prst="line">
                      <a:avLst/>
                    </a:prstGeom>
                    <a:ln w="9360">
                      <a:solidFill>
                        <a:srgbClr val="000000"/>
                      </a:solidFill>
                      <a:miter/>
                    </a:ln>
                  </p:spPr>
                  <p:style>
                    <a:lnRef idx="0"/>
                    <a:fillRef idx="0"/>
                    <a:effectRef idx="0"/>
                    <a:fontRef idx="minor"/>
                  </p:style>
                  <p:txBody>
                    <a:bodyPr lIns="90000" rIns="90000" tIns="-12600" bIns="-12600" anchor="ctr">
                      <a:noAutofit/>
                    </a:bodyPr>
                    <a:p>
                      <a:endParaRPr b="0" lang="en-US" sz="2400" spc="-1" strike="noStrike">
                        <a:solidFill>
                          <a:srgbClr val="000000"/>
                        </a:solidFill>
                        <a:latin typeface="Times New Roman"/>
                      </a:endParaRPr>
                    </a:p>
                  </p:txBody>
                </p:sp>
              </p:grpSp>
              <p:pic>
                <p:nvPicPr>
                  <p:cNvPr id="431" name="" descr=""/>
                  <p:cNvPicPr/>
                  <p:nvPr/>
                </p:nvPicPr>
                <p:blipFill>
                  <a:blip r:embed="rId13"/>
                  <a:stretch/>
                </p:blipFill>
                <p:spPr>
                  <a:xfrm>
                    <a:off x="5510160" y="3592440"/>
                    <a:ext cx="501840" cy="569880"/>
                  </a:xfrm>
                  <a:prstGeom prst="rect">
                    <a:avLst/>
                  </a:prstGeom>
                  <a:ln w="9360">
                    <a:solidFill>
                      <a:srgbClr val="000000"/>
                    </a:solidFill>
                    <a:miter/>
                  </a:ln>
                  <a:effectLst>
                    <a:outerShdw dist="17819" dir="2700000" blurRad="0" rotWithShape="0">
                      <a:srgbClr val="808080"/>
                    </a:outerShdw>
                  </a:effectLst>
                </p:spPr>
              </p:pic>
            </p:grpSp>
            <p:sp>
              <p:nvSpPr>
                <p:cNvPr id="432" name=""/>
                <p:cNvSpPr/>
                <p:nvPr/>
              </p:nvSpPr>
              <p:spPr>
                <a:xfrm>
                  <a:off x="6134040" y="4368960"/>
                  <a:ext cx="762120" cy="863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33" name=""/>
              <p:cNvGrpSpPr/>
              <p:nvPr/>
            </p:nvGrpSpPr>
            <p:grpSpPr>
              <a:xfrm>
                <a:off x="5735520" y="4662720"/>
                <a:ext cx="1061280" cy="615240"/>
                <a:chOff x="5735520" y="4662720"/>
                <a:chExt cx="1061280" cy="615240"/>
              </a:xfrm>
            </p:grpSpPr>
            <p:grpSp>
              <p:nvGrpSpPr>
                <p:cNvPr id="434" name=""/>
                <p:cNvGrpSpPr/>
                <p:nvPr/>
              </p:nvGrpSpPr>
              <p:grpSpPr>
                <a:xfrm>
                  <a:off x="5735520" y="4662720"/>
                  <a:ext cx="1061280" cy="615240"/>
                  <a:chOff x="5735520" y="4662720"/>
                  <a:chExt cx="1061280" cy="615240"/>
                </a:xfrm>
              </p:grpSpPr>
              <p:sp>
                <p:nvSpPr>
                  <p:cNvPr id="435" name=""/>
                  <p:cNvSpPr/>
                  <p:nvPr/>
                </p:nvSpPr>
                <p:spPr>
                  <a:xfrm rot="808800">
                    <a:off x="5767560" y="4773240"/>
                    <a:ext cx="996840" cy="393840"/>
                  </a:xfrm>
                  <a:custGeom>
                    <a:avLst/>
                    <a:gdLst/>
                    <a:ahLst/>
                    <a:rect l="l" t="t" r="r" b="b"/>
                    <a:pathLst>
                      <a:path w="1118" h="436">
                        <a:moveTo>
                          <a:pt x="74" y="210"/>
                        </a:moveTo>
                        <a:lnTo>
                          <a:pt x="0" y="349"/>
                        </a:lnTo>
                        <a:lnTo>
                          <a:pt x="183" y="436"/>
                        </a:lnTo>
                        <a:lnTo>
                          <a:pt x="422" y="256"/>
                        </a:lnTo>
                        <a:lnTo>
                          <a:pt x="560" y="179"/>
                        </a:lnTo>
                        <a:lnTo>
                          <a:pt x="718" y="301"/>
                        </a:lnTo>
                        <a:lnTo>
                          <a:pt x="994" y="125"/>
                        </a:lnTo>
                        <a:lnTo>
                          <a:pt x="1036" y="168"/>
                        </a:lnTo>
                        <a:lnTo>
                          <a:pt x="1118" y="16"/>
                        </a:lnTo>
                        <a:lnTo>
                          <a:pt x="944" y="0"/>
                        </a:lnTo>
                        <a:lnTo>
                          <a:pt x="950" y="51"/>
                        </a:lnTo>
                        <a:lnTo>
                          <a:pt x="718" y="176"/>
                        </a:lnTo>
                        <a:lnTo>
                          <a:pt x="608" y="14"/>
                        </a:lnTo>
                        <a:lnTo>
                          <a:pt x="410" y="117"/>
                        </a:lnTo>
                        <a:lnTo>
                          <a:pt x="175" y="272"/>
                        </a:lnTo>
                        <a:lnTo>
                          <a:pt x="79" y="202"/>
                        </a:lnTo>
                        <a:lnTo>
                          <a:pt x="74" y="210"/>
                        </a:lnTo>
                        <a:lnTo>
                          <a:pt x="74" y="210"/>
                        </a:lnTo>
                        <a:close/>
                      </a:path>
                    </a:pathLst>
                  </a:custGeom>
                  <a:solidFill>
                    <a:srgbClr val="d9e0e6"/>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 name=""/>
                  <p:cNvSpPr/>
                  <p:nvPr/>
                </p:nvSpPr>
                <p:spPr>
                  <a:xfrm rot="808800">
                    <a:off x="5789520" y="4785840"/>
                    <a:ext cx="957600" cy="362160"/>
                  </a:xfrm>
                  <a:custGeom>
                    <a:avLst/>
                    <a:gdLst/>
                    <a:ahLst/>
                    <a:rect l="l" t="t" r="r" b="b"/>
                    <a:pathLst>
                      <a:path w="1074" h="401">
                        <a:moveTo>
                          <a:pt x="67" y="217"/>
                        </a:moveTo>
                        <a:lnTo>
                          <a:pt x="146" y="279"/>
                        </a:lnTo>
                        <a:lnTo>
                          <a:pt x="442" y="92"/>
                        </a:lnTo>
                        <a:lnTo>
                          <a:pt x="577" y="23"/>
                        </a:lnTo>
                        <a:lnTo>
                          <a:pt x="686" y="185"/>
                        </a:lnTo>
                        <a:lnTo>
                          <a:pt x="948" y="46"/>
                        </a:lnTo>
                        <a:lnTo>
                          <a:pt x="936" y="0"/>
                        </a:lnTo>
                        <a:lnTo>
                          <a:pt x="1074" y="15"/>
                        </a:lnTo>
                        <a:lnTo>
                          <a:pt x="1012" y="128"/>
                        </a:lnTo>
                        <a:lnTo>
                          <a:pt x="970" y="92"/>
                        </a:lnTo>
                        <a:lnTo>
                          <a:pt x="703" y="272"/>
                        </a:lnTo>
                        <a:lnTo>
                          <a:pt x="537" y="150"/>
                        </a:lnTo>
                        <a:lnTo>
                          <a:pt x="388" y="235"/>
                        </a:lnTo>
                        <a:lnTo>
                          <a:pt x="149" y="401"/>
                        </a:lnTo>
                        <a:lnTo>
                          <a:pt x="0" y="331"/>
                        </a:lnTo>
                        <a:lnTo>
                          <a:pt x="67" y="217"/>
                        </a:lnTo>
                        <a:lnTo>
                          <a:pt x="67" y="217"/>
                        </a:lnTo>
                        <a:close/>
                      </a:path>
                    </a:pathLst>
                  </a:custGeom>
                  <a:solidFill>
                    <a:srgbClr val="ffcc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
                  <p:cNvSpPr/>
                  <p:nvPr/>
                </p:nvSpPr>
                <p:spPr>
                  <a:xfrm rot="808800">
                    <a:off x="6355800" y="4861440"/>
                    <a:ext cx="363960" cy="227520"/>
                  </a:xfrm>
                  <a:custGeom>
                    <a:avLst/>
                    <a:gdLst/>
                    <a:ahLst/>
                    <a:rect l="l" t="t" r="r" b="b"/>
                    <a:pathLst>
                      <a:path w="408" h="252">
                        <a:moveTo>
                          <a:pt x="345" y="0"/>
                        </a:moveTo>
                        <a:lnTo>
                          <a:pt x="351" y="1"/>
                        </a:lnTo>
                        <a:lnTo>
                          <a:pt x="360" y="2"/>
                        </a:lnTo>
                        <a:lnTo>
                          <a:pt x="366" y="2"/>
                        </a:lnTo>
                        <a:lnTo>
                          <a:pt x="375" y="3"/>
                        </a:lnTo>
                        <a:lnTo>
                          <a:pt x="383" y="3"/>
                        </a:lnTo>
                        <a:lnTo>
                          <a:pt x="390" y="3"/>
                        </a:lnTo>
                        <a:lnTo>
                          <a:pt x="399" y="3"/>
                        </a:lnTo>
                        <a:lnTo>
                          <a:pt x="408" y="4"/>
                        </a:lnTo>
                        <a:lnTo>
                          <a:pt x="407" y="11"/>
                        </a:lnTo>
                        <a:lnTo>
                          <a:pt x="407" y="19"/>
                        </a:lnTo>
                        <a:lnTo>
                          <a:pt x="406" y="26"/>
                        </a:lnTo>
                        <a:lnTo>
                          <a:pt x="403" y="34"/>
                        </a:lnTo>
                        <a:lnTo>
                          <a:pt x="402" y="42"/>
                        </a:lnTo>
                        <a:lnTo>
                          <a:pt x="402" y="51"/>
                        </a:lnTo>
                        <a:lnTo>
                          <a:pt x="402" y="59"/>
                        </a:lnTo>
                        <a:lnTo>
                          <a:pt x="403" y="68"/>
                        </a:lnTo>
                        <a:lnTo>
                          <a:pt x="403" y="72"/>
                        </a:lnTo>
                        <a:lnTo>
                          <a:pt x="402" y="76"/>
                        </a:lnTo>
                        <a:lnTo>
                          <a:pt x="399" y="79"/>
                        </a:lnTo>
                        <a:lnTo>
                          <a:pt x="397" y="82"/>
                        </a:lnTo>
                        <a:lnTo>
                          <a:pt x="390" y="83"/>
                        </a:lnTo>
                        <a:lnTo>
                          <a:pt x="384" y="84"/>
                        </a:lnTo>
                        <a:lnTo>
                          <a:pt x="375" y="82"/>
                        </a:lnTo>
                        <a:lnTo>
                          <a:pt x="366" y="80"/>
                        </a:lnTo>
                        <a:lnTo>
                          <a:pt x="360" y="80"/>
                        </a:lnTo>
                        <a:lnTo>
                          <a:pt x="353" y="83"/>
                        </a:lnTo>
                        <a:lnTo>
                          <a:pt x="346" y="74"/>
                        </a:lnTo>
                        <a:lnTo>
                          <a:pt x="337" y="70"/>
                        </a:lnTo>
                        <a:lnTo>
                          <a:pt x="331" y="69"/>
                        </a:lnTo>
                        <a:lnTo>
                          <a:pt x="327" y="71"/>
                        </a:lnTo>
                        <a:lnTo>
                          <a:pt x="325" y="75"/>
                        </a:lnTo>
                        <a:lnTo>
                          <a:pt x="323" y="83"/>
                        </a:lnTo>
                        <a:lnTo>
                          <a:pt x="316" y="83"/>
                        </a:lnTo>
                        <a:lnTo>
                          <a:pt x="311" y="87"/>
                        </a:lnTo>
                        <a:lnTo>
                          <a:pt x="307" y="90"/>
                        </a:lnTo>
                        <a:lnTo>
                          <a:pt x="304" y="96"/>
                        </a:lnTo>
                        <a:lnTo>
                          <a:pt x="299" y="100"/>
                        </a:lnTo>
                        <a:lnTo>
                          <a:pt x="294" y="104"/>
                        </a:lnTo>
                        <a:lnTo>
                          <a:pt x="289" y="107"/>
                        </a:lnTo>
                        <a:lnTo>
                          <a:pt x="285" y="107"/>
                        </a:lnTo>
                        <a:lnTo>
                          <a:pt x="279" y="108"/>
                        </a:lnTo>
                        <a:lnTo>
                          <a:pt x="274" y="109"/>
                        </a:lnTo>
                        <a:lnTo>
                          <a:pt x="269" y="112"/>
                        </a:lnTo>
                        <a:lnTo>
                          <a:pt x="264" y="115"/>
                        </a:lnTo>
                        <a:lnTo>
                          <a:pt x="253" y="120"/>
                        </a:lnTo>
                        <a:lnTo>
                          <a:pt x="245" y="127"/>
                        </a:lnTo>
                        <a:lnTo>
                          <a:pt x="236" y="134"/>
                        </a:lnTo>
                        <a:lnTo>
                          <a:pt x="230" y="144"/>
                        </a:lnTo>
                        <a:lnTo>
                          <a:pt x="227" y="148"/>
                        </a:lnTo>
                        <a:lnTo>
                          <a:pt x="225" y="154"/>
                        </a:lnTo>
                        <a:lnTo>
                          <a:pt x="223" y="160"/>
                        </a:lnTo>
                        <a:lnTo>
                          <a:pt x="223" y="166"/>
                        </a:lnTo>
                        <a:lnTo>
                          <a:pt x="218" y="171"/>
                        </a:lnTo>
                        <a:lnTo>
                          <a:pt x="213" y="176"/>
                        </a:lnTo>
                        <a:lnTo>
                          <a:pt x="207" y="178"/>
                        </a:lnTo>
                        <a:lnTo>
                          <a:pt x="202" y="180"/>
                        </a:lnTo>
                        <a:lnTo>
                          <a:pt x="205" y="170"/>
                        </a:lnTo>
                        <a:lnTo>
                          <a:pt x="209" y="162"/>
                        </a:lnTo>
                        <a:lnTo>
                          <a:pt x="212" y="153"/>
                        </a:lnTo>
                        <a:lnTo>
                          <a:pt x="216" y="146"/>
                        </a:lnTo>
                        <a:lnTo>
                          <a:pt x="219" y="137"/>
                        </a:lnTo>
                        <a:lnTo>
                          <a:pt x="225" y="128"/>
                        </a:lnTo>
                        <a:lnTo>
                          <a:pt x="231" y="121"/>
                        </a:lnTo>
                        <a:lnTo>
                          <a:pt x="239" y="114"/>
                        </a:lnTo>
                        <a:lnTo>
                          <a:pt x="233" y="113"/>
                        </a:lnTo>
                        <a:lnTo>
                          <a:pt x="227" y="113"/>
                        </a:lnTo>
                        <a:lnTo>
                          <a:pt x="219" y="112"/>
                        </a:lnTo>
                        <a:lnTo>
                          <a:pt x="214" y="112"/>
                        </a:lnTo>
                        <a:lnTo>
                          <a:pt x="214" y="117"/>
                        </a:lnTo>
                        <a:lnTo>
                          <a:pt x="214" y="123"/>
                        </a:lnTo>
                        <a:lnTo>
                          <a:pt x="213" y="129"/>
                        </a:lnTo>
                        <a:lnTo>
                          <a:pt x="213" y="136"/>
                        </a:lnTo>
                        <a:lnTo>
                          <a:pt x="209" y="141"/>
                        </a:lnTo>
                        <a:lnTo>
                          <a:pt x="206" y="146"/>
                        </a:lnTo>
                        <a:lnTo>
                          <a:pt x="201" y="148"/>
                        </a:lnTo>
                        <a:lnTo>
                          <a:pt x="196" y="149"/>
                        </a:lnTo>
                        <a:lnTo>
                          <a:pt x="193" y="142"/>
                        </a:lnTo>
                        <a:lnTo>
                          <a:pt x="196" y="137"/>
                        </a:lnTo>
                        <a:lnTo>
                          <a:pt x="200" y="131"/>
                        </a:lnTo>
                        <a:lnTo>
                          <a:pt x="202" y="125"/>
                        </a:lnTo>
                        <a:lnTo>
                          <a:pt x="197" y="126"/>
                        </a:lnTo>
                        <a:lnTo>
                          <a:pt x="193" y="128"/>
                        </a:lnTo>
                        <a:lnTo>
                          <a:pt x="186" y="130"/>
                        </a:lnTo>
                        <a:lnTo>
                          <a:pt x="183" y="133"/>
                        </a:lnTo>
                        <a:lnTo>
                          <a:pt x="183" y="128"/>
                        </a:lnTo>
                        <a:lnTo>
                          <a:pt x="184" y="124"/>
                        </a:lnTo>
                        <a:lnTo>
                          <a:pt x="186" y="118"/>
                        </a:lnTo>
                        <a:lnTo>
                          <a:pt x="189" y="115"/>
                        </a:lnTo>
                        <a:lnTo>
                          <a:pt x="183" y="114"/>
                        </a:lnTo>
                        <a:lnTo>
                          <a:pt x="177" y="116"/>
                        </a:lnTo>
                        <a:lnTo>
                          <a:pt x="173" y="119"/>
                        </a:lnTo>
                        <a:lnTo>
                          <a:pt x="169" y="123"/>
                        </a:lnTo>
                        <a:lnTo>
                          <a:pt x="160" y="129"/>
                        </a:lnTo>
                        <a:lnTo>
                          <a:pt x="153" y="136"/>
                        </a:lnTo>
                        <a:lnTo>
                          <a:pt x="156" y="135"/>
                        </a:lnTo>
                        <a:lnTo>
                          <a:pt x="161" y="135"/>
                        </a:lnTo>
                        <a:lnTo>
                          <a:pt x="167" y="134"/>
                        </a:lnTo>
                        <a:lnTo>
                          <a:pt x="173" y="135"/>
                        </a:lnTo>
                        <a:lnTo>
                          <a:pt x="176" y="135"/>
                        </a:lnTo>
                        <a:lnTo>
                          <a:pt x="179" y="137"/>
                        </a:lnTo>
                        <a:lnTo>
                          <a:pt x="179" y="141"/>
                        </a:lnTo>
                        <a:lnTo>
                          <a:pt x="177" y="148"/>
                        </a:lnTo>
                        <a:lnTo>
                          <a:pt x="179" y="146"/>
                        </a:lnTo>
                        <a:lnTo>
                          <a:pt x="184" y="146"/>
                        </a:lnTo>
                        <a:lnTo>
                          <a:pt x="188" y="146"/>
                        </a:lnTo>
                        <a:lnTo>
                          <a:pt x="192" y="146"/>
                        </a:lnTo>
                        <a:lnTo>
                          <a:pt x="191" y="151"/>
                        </a:lnTo>
                        <a:lnTo>
                          <a:pt x="189" y="155"/>
                        </a:lnTo>
                        <a:lnTo>
                          <a:pt x="185" y="157"/>
                        </a:lnTo>
                        <a:lnTo>
                          <a:pt x="182" y="160"/>
                        </a:lnTo>
                        <a:lnTo>
                          <a:pt x="176" y="161"/>
                        </a:lnTo>
                        <a:lnTo>
                          <a:pt x="172" y="162"/>
                        </a:lnTo>
                        <a:lnTo>
                          <a:pt x="167" y="163"/>
                        </a:lnTo>
                        <a:lnTo>
                          <a:pt x="164" y="165"/>
                        </a:lnTo>
                        <a:lnTo>
                          <a:pt x="166" y="167"/>
                        </a:lnTo>
                        <a:lnTo>
                          <a:pt x="170" y="173"/>
                        </a:lnTo>
                        <a:lnTo>
                          <a:pt x="174" y="173"/>
                        </a:lnTo>
                        <a:lnTo>
                          <a:pt x="181" y="174"/>
                        </a:lnTo>
                        <a:lnTo>
                          <a:pt x="189" y="175"/>
                        </a:lnTo>
                        <a:lnTo>
                          <a:pt x="194" y="177"/>
                        </a:lnTo>
                        <a:lnTo>
                          <a:pt x="190" y="180"/>
                        </a:lnTo>
                        <a:lnTo>
                          <a:pt x="187" y="184"/>
                        </a:lnTo>
                        <a:lnTo>
                          <a:pt x="182" y="185"/>
                        </a:lnTo>
                        <a:lnTo>
                          <a:pt x="177" y="187"/>
                        </a:lnTo>
                        <a:lnTo>
                          <a:pt x="172" y="187"/>
                        </a:lnTo>
                        <a:lnTo>
                          <a:pt x="168" y="188"/>
                        </a:lnTo>
                        <a:lnTo>
                          <a:pt x="162" y="188"/>
                        </a:lnTo>
                        <a:lnTo>
                          <a:pt x="159" y="192"/>
                        </a:lnTo>
                        <a:lnTo>
                          <a:pt x="156" y="196"/>
                        </a:lnTo>
                        <a:lnTo>
                          <a:pt x="157" y="204"/>
                        </a:lnTo>
                        <a:lnTo>
                          <a:pt x="151" y="203"/>
                        </a:lnTo>
                        <a:lnTo>
                          <a:pt x="145" y="203"/>
                        </a:lnTo>
                        <a:lnTo>
                          <a:pt x="140" y="203"/>
                        </a:lnTo>
                        <a:lnTo>
                          <a:pt x="137" y="204"/>
                        </a:lnTo>
                        <a:lnTo>
                          <a:pt x="127" y="209"/>
                        </a:lnTo>
                        <a:lnTo>
                          <a:pt x="119" y="217"/>
                        </a:lnTo>
                        <a:lnTo>
                          <a:pt x="111" y="222"/>
                        </a:lnTo>
                        <a:lnTo>
                          <a:pt x="102" y="228"/>
                        </a:lnTo>
                        <a:lnTo>
                          <a:pt x="98" y="229"/>
                        </a:lnTo>
                        <a:lnTo>
                          <a:pt x="93" y="230"/>
                        </a:lnTo>
                        <a:lnTo>
                          <a:pt x="87" y="230"/>
                        </a:lnTo>
                        <a:lnTo>
                          <a:pt x="81" y="229"/>
                        </a:lnTo>
                        <a:lnTo>
                          <a:pt x="79" y="233"/>
                        </a:lnTo>
                        <a:lnTo>
                          <a:pt x="75" y="241"/>
                        </a:lnTo>
                        <a:lnTo>
                          <a:pt x="70" y="247"/>
                        </a:lnTo>
                        <a:lnTo>
                          <a:pt x="68" y="252"/>
                        </a:lnTo>
                        <a:lnTo>
                          <a:pt x="62" y="248"/>
                        </a:lnTo>
                        <a:lnTo>
                          <a:pt x="59" y="243"/>
                        </a:lnTo>
                        <a:lnTo>
                          <a:pt x="55" y="239"/>
                        </a:lnTo>
                        <a:lnTo>
                          <a:pt x="51" y="235"/>
                        </a:lnTo>
                        <a:lnTo>
                          <a:pt x="46" y="231"/>
                        </a:lnTo>
                        <a:lnTo>
                          <a:pt x="42" y="229"/>
                        </a:lnTo>
                        <a:lnTo>
                          <a:pt x="37" y="227"/>
                        </a:lnTo>
                        <a:lnTo>
                          <a:pt x="32" y="229"/>
                        </a:lnTo>
                        <a:lnTo>
                          <a:pt x="31" y="226"/>
                        </a:lnTo>
                        <a:lnTo>
                          <a:pt x="31" y="222"/>
                        </a:lnTo>
                        <a:lnTo>
                          <a:pt x="32" y="218"/>
                        </a:lnTo>
                        <a:lnTo>
                          <a:pt x="34" y="216"/>
                        </a:lnTo>
                        <a:lnTo>
                          <a:pt x="38" y="217"/>
                        </a:lnTo>
                        <a:lnTo>
                          <a:pt x="42" y="219"/>
                        </a:lnTo>
                        <a:lnTo>
                          <a:pt x="48" y="219"/>
                        </a:lnTo>
                        <a:lnTo>
                          <a:pt x="54" y="220"/>
                        </a:lnTo>
                        <a:lnTo>
                          <a:pt x="58" y="220"/>
                        </a:lnTo>
                        <a:lnTo>
                          <a:pt x="62" y="223"/>
                        </a:lnTo>
                        <a:lnTo>
                          <a:pt x="64" y="228"/>
                        </a:lnTo>
                        <a:lnTo>
                          <a:pt x="66" y="236"/>
                        </a:lnTo>
                        <a:lnTo>
                          <a:pt x="68" y="227"/>
                        </a:lnTo>
                        <a:lnTo>
                          <a:pt x="67" y="219"/>
                        </a:lnTo>
                        <a:lnTo>
                          <a:pt x="65" y="214"/>
                        </a:lnTo>
                        <a:lnTo>
                          <a:pt x="66" y="211"/>
                        </a:lnTo>
                        <a:lnTo>
                          <a:pt x="68" y="208"/>
                        </a:lnTo>
                        <a:lnTo>
                          <a:pt x="74" y="208"/>
                        </a:lnTo>
                        <a:lnTo>
                          <a:pt x="71" y="208"/>
                        </a:lnTo>
                        <a:lnTo>
                          <a:pt x="67" y="208"/>
                        </a:lnTo>
                        <a:lnTo>
                          <a:pt x="63" y="208"/>
                        </a:lnTo>
                        <a:lnTo>
                          <a:pt x="61" y="208"/>
                        </a:lnTo>
                        <a:lnTo>
                          <a:pt x="60" y="205"/>
                        </a:lnTo>
                        <a:lnTo>
                          <a:pt x="58" y="203"/>
                        </a:lnTo>
                        <a:lnTo>
                          <a:pt x="55" y="198"/>
                        </a:lnTo>
                        <a:lnTo>
                          <a:pt x="54" y="197"/>
                        </a:lnTo>
                        <a:lnTo>
                          <a:pt x="46" y="203"/>
                        </a:lnTo>
                        <a:lnTo>
                          <a:pt x="39" y="206"/>
                        </a:lnTo>
                        <a:lnTo>
                          <a:pt x="34" y="206"/>
                        </a:lnTo>
                        <a:lnTo>
                          <a:pt x="31" y="209"/>
                        </a:lnTo>
                        <a:lnTo>
                          <a:pt x="28" y="212"/>
                        </a:lnTo>
                        <a:lnTo>
                          <a:pt x="27" y="219"/>
                        </a:lnTo>
                        <a:lnTo>
                          <a:pt x="23" y="219"/>
                        </a:lnTo>
                        <a:lnTo>
                          <a:pt x="19" y="219"/>
                        </a:lnTo>
                        <a:lnTo>
                          <a:pt x="18" y="212"/>
                        </a:lnTo>
                        <a:lnTo>
                          <a:pt x="16" y="207"/>
                        </a:lnTo>
                        <a:lnTo>
                          <a:pt x="11" y="203"/>
                        </a:lnTo>
                        <a:lnTo>
                          <a:pt x="7" y="201"/>
                        </a:lnTo>
                        <a:lnTo>
                          <a:pt x="3" y="196"/>
                        </a:lnTo>
                        <a:lnTo>
                          <a:pt x="1" y="192"/>
                        </a:lnTo>
                        <a:lnTo>
                          <a:pt x="0" y="186"/>
                        </a:lnTo>
                        <a:lnTo>
                          <a:pt x="4" y="180"/>
                        </a:lnTo>
                        <a:lnTo>
                          <a:pt x="7" y="177"/>
                        </a:lnTo>
                        <a:lnTo>
                          <a:pt x="12" y="179"/>
                        </a:lnTo>
                        <a:lnTo>
                          <a:pt x="15" y="182"/>
                        </a:lnTo>
                        <a:lnTo>
                          <a:pt x="18" y="187"/>
                        </a:lnTo>
                        <a:lnTo>
                          <a:pt x="21" y="191"/>
                        </a:lnTo>
                        <a:lnTo>
                          <a:pt x="23" y="195"/>
                        </a:lnTo>
                        <a:lnTo>
                          <a:pt x="27" y="196"/>
                        </a:lnTo>
                        <a:lnTo>
                          <a:pt x="34" y="195"/>
                        </a:lnTo>
                        <a:lnTo>
                          <a:pt x="32" y="185"/>
                        </a:lnTo>
                        <a:lnTo>
                          <a:pt x="37" y="180"/>
                        </a:lnTo>
                        <a:lnTo>
                          <a:pt x="43" y="176"/>
                        </a:lnTo>
                        <a:lnTo>
                          <a:pt x="52" y="175"/>
                        </a:lnTo>
                        <a:lnTo>
                          <a:pt x="61" y="176"/>
                        </a:lnTo>
                        <a:lnTo>
                          <a:pt x="68" y="180"/>
                        </a:lnTo>
                        <a:lnTo>
                          <a:pt x="73" y="185"/>
                        </a:lnTo>
                        <a:lnTo>
                          <a:pt x="76" y="195"/>
                        </a:lnTo>
                        <a:lnTo>
                          <a:pt x="79" y="195"/>
                        </a:lnTo>
                        <a:lnTo>
                          <a:pt x="81" y="195"/>
                        </a:lnTo>
                        <a:lnTo>
                          <a:pt x="82" y="186"/>
                        </a:lnTo>
                        <a:lnTo>
                          <a:pt x="86" y="181"/>
                        </a:lnTo>
                        <a:lnTo>
                          <a:pt x="91" y="176"/>
                        </a:lnTo>
                        <a:lnTo>
                          <a:pt x="97" y="172"/>
                        </a:lnTo>
                        <a:lnTo>
                          <a:pt x="102" y="168"/>
                        </a:lnTo>
                        <a:lnTo>
                          <a:pt x="109" y="165"/>
                        </a:lnTo>
                        <a:lnTo>
                          <a:pt x="114" y="159"/>
                        </a:lnTo>
                        <a:lnTo>
                          <a:pt x="119" y="154"/>
                        </a:lnTo>
                        <a:lnTo>
                          <a:pt x="124" y="147"/>
                        </a:lnTo>
                        <a:lnTo>
                          <a:pt x="129" y="142"/>
                        </a:lnTo>
                        <a:lnTo>
                          <a:pt x="135" y="136"/>
                        </a:lnTo>
                        <a:lnTo>
                          <a:pt x="140" y="131"/>
                        </a:lnTo>
                        <a:lnTo>
                          <a:pt x="145" y="126"/>
                        </a:lnTo>
                        <a:lnTo>
                          <a:pt x="151" y="120"/>
                        </a:lnTo>
                        <a:lnTo>
                          <a:pt x="156" y="115"/>
                        </a:lnTo>
                        <a:lnTo>
                          <a:pt x="162" y="111"/>
                        </a:lnTo>
                        <a:lnTo>
                          <a:pt x="168" y="107"/>
                        </a:lnTo>
                        <a:lnTo>
                          <a:pt x="174" y="103"/>
                        </a:lnTo>
                        <a:lnTo>
                          <a:pt x="179" y="100"/>
                        </a:lnTo>
                        <a:lnTo>
                          <a:pt x="186" y="98"/>
                        </a:lnTo>
                        <a:lnTo>
                          <a:pt x="193" y="95"/>
                        </a:lnTo>
                        <a:lnTo>
                          <a:pt x="200" y="95"/>
                        </a:lnTo>
                        <a:lnTo>
                          <a:pt x="208" y="94"/>
                        </a:lnTo>
                        <a:lnTo>
                          <a:pt x="216" y="96"/>
                        </a:lnTo>
                        <a:lnTo>
                          <a:pt x="223" y="92"/>
                        </a:lnTo>
                        <a:lnTo>
                          <a:pt x="233" y="89"/>
                        </a:lnTo>
                        <a:lnTo>
                          <a:pt x="238" y="88"/>
                        </a:lnTo>
                        <a:lnTo>
                          <a:pt x="243" y="89"/>
                        </a:lnTo>
                        <a:lnTo>
                          <a:pt x="246" y="91"/>
                        </a:lnTo>
                        <a:lnTo>
                          <a:pt x="250" y="97"/>
                        </a:lnTo>
                        <a:lnTo>
                          <a:pt x="251" y="91"/>
                        </a:lnTo>
                        <a:lnTo>
                          <a:pt x="254" y="89"/>
                        </a:lnTo>
                        <a:lnTo>
                          <a:pt x="257" y="89"/>
                        </a:lnTo>
                        <a:lnTo>
                          <a:pt x="262" y="89"/>
                        </a:lnTo>
                        <a:lnTo>
                          <a:pt x="269" y="88"/>
                        </a:lnTo>
                        <a:lnTo>
                          <a:pt x="276" y="83"/>
                        </a:lnTo>
                        <a:lnTo>
                          <a:pt x="272" y="81"/>
                        </a:lnTo>
                        <a:lnTo>
                          <a:pt x="270" y="77"/>
                        </a:lnTo>
                        <a:lnTo>
                          <a:pt x="269" y="72"/>
                        </a:lnTo>
                        <a:lnTo>
                          <a:pt x="270" y="70"/>
                        </a:lnTo>
                        <a:lnTo>
                          <a:pt x="275" y="68"/>
                        </a:lnTo>
                        <a:lnTo>
                          <a:pt x="280" y="65"/>
                        </a:lnTo>
                        <a:lnTo>
                          <a:pt x="286" y="62"/>
                        </a:lnTo>
                        <a:lnTo>
                          <a:pt x="291" y="60"/>
                        </a:lnTo>
                        <a:lnTo>
                          <a:pt x="297" y="57"/>
                        </a:lnTo>
                        <a:lnTo>
                          <a:pt x="303" y="57"/>
                        </a:lnTo>
                        <a:lnTo>
                          <a:pt x="308" y="56"/>
                        </a:lnTo>
                        <a:lnTo>
                          <a:pt x="316" y="58"/>
                        </a:lnTo>
                        <a:lnTo>
                          <a:pt x="316" y="50"/>
                        </a:lnTo>
                        <a:lnTo>
                          <a:pt x="318" y="42"/>
                        </a:lnTo>
                        <a:lnTo>
                          <a:pt x="320" y="33"/>
                        </a:lnTo>
                        <a:lnTo>
                          <a:pt x="324" y="26"/>
                        </a:lnTo>
                        <a:lnTo>
                          <a:pt x="327" y="18"/>
                        </a:lnTo>
                        <a:lnTo>
                          <a:pt x="331" y="12"/>
                        </a:lnTo>
                        <a:lnTo>
                          <a:pt x="337" y="5"/>
                        </a:lnTo>
                        <a:lnTo>
                          <a:pt x="345" y="0"/>
                        </a:lnTo>
                        <a:lnTo>
                          <a:pt x="345" y="0"/>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 name=""/>
                  <p:cNvSpPr/>
                  <p:nvPr/>
                </p:nvSpPr>
                <p:spPr>
                  <a:xfrm rot="808800">
                    <a:off x="6535800" y="4960080"/>
                    <a:ext cx="12240" cy="2520"/>
                  </a:xfrm>
                  <a:custGeom>
                    <a:avLst/>
                    <a:gdLst/>
                    <a:ahLst/>
                    <a:rect l="l" t="t" r="r" b="b"/>
                    <a:pathLst>
                      <a:path w="14" h="3">
                        <a:moveTo>
                          <a:pt x="14" y="3"/>
                        </a:moveTo>
                        <a:lnTo>
                          <a:pt x="7" y="0"/>
                        </a:lnTo>
                        <a:lnTo>
                          <a:pt x="2" y="1"/>
                        </a:lnTo>
                        <a:lnTo>
                          <a:pt x="0" y="2"/>
                        </a:lnTo>
                        <a:lnTo>
                          <a:pt x="2" y="3"/>
                        </a:lnTo>
                        <a:lnTo>
                          <a:pt x="5" y="3"/>
                        </a:lnTo>
                        <a:lnTo>
                          <a:pt x="14" y="3"/>
                        </a:lnTo>
                        <a:lnTo>
                          <a:pt x="14" y="3"/>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39" name=""/>
                  <p:cNvSpPr/>
                  <p:nvPr/>
                </p:nvSpPr>
                <p:spPr>
                  <a:xfrm rot="808800">
                    <a:off x="6680520" y="4916160"/>
                    <a:ext cx="33840" cy="19800"/>
                  </a:xfrm>
                  <a:custGeom>
                    <a:avLst/>
                    <a:gdLst/>
                    <a:ahLst/>
                    <a:rect l="l" t="t" r="r" b="b"/>
                    <a:pathLst>
                      <a:path w="38" h="22">
                        <a:moveTo>
                          <a:pt x="10" y="0"/>
                        </a:moveTo>
                        <a:lnTo>
                          <a:pt x="16" y="2"/>
                        </a:lnTo>
                        <a:lnTo>
                          <a:pt x="23" y="2"/>
                        </a:lnTo>
                        <a:lnTo>
                          <a:pt x="30" y="1"/>
                        </a:lnTo>
                        <a:lnTo>
                          <a:pt x="38" y="3"/>
                        </a:lnTo>
                        <a:lnTo>
                          <a:pt x="30" y="7"/>
                        </a:lnTo>
                        <a:lnTo>
                          <a:pt x="23" y="11"/>
                        </a:lnTo>
                        <a:lnTo>
                          <a:pt x="15" y="15"/>
                        </a:lnTo>
                        <a:lnTo>
                          <a:pt x="7" y="22"/>
                        </a:lnTo>
                        <a:lnTo>
                          <a:pt x="5" y="18"/>
                        </a:lnTo>
                        <a:lnTo>
                          <a:pt x="2" y="13"/>
                        </a:lnTo>
                        <a:lnTo>
                          <a:pt x="0" y="9"/>
                        </a:lnTo>
                        <a:lnTo>
                          <a:pt x="0" y="6"/>
                        </a:lnTo>
                        <a:lnTo>
                          <a:pt x="2" y="4"/>
                        </a:lnTo>
                        <a:lnTo>
                          <a:pt x="5" y="2"/>
                        </a:lnTo>
                        <a:lnTo>
                          <a:pt x="7" y="0"/>
                        </a:lnTo>
                        <a:lnTo>
                          <a:pt x="10" y="0"/>
                        </a:lnTo>
                        <a:lnTo>
                          <a:pt x="10"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440" name=""/>
                  <p:cNvSpPr/>
                  <p:nvPr/>
                </p:nvSpPr>
                <p:spPr>
                  <a:xfrm rot="808800">
                    <a:off x="6663600" y="4921560"/>
                    <a:ext cx="5400" cy="15840"/>
                  </a:xfrm>
                  <a:custGeom>
                    <a:avLst/>
                    <a:gdLst/>
                    <a:ahLst/>
                    <a:rect l="l" t="t" r="r" b="b"/>
                    <a:pathLst>
                      <a:path w="6" h="18">
                        <a:moveTo>
                          <a:pt x="6" y="0"/>
                        </a:moveTo>
                        <a:lnTo>
                          <a:pt x="6" y="3"/>
                        </a:lnTo>
                        <a:lnTo>
                          <a:pt x="6" y="8"/>
                        </a:lnTo>
                        <a:lnTo>
                          <a:pt x="5" y="12"/>
                        </a:lnTo>
                        <a:lnTo>
                          <a:pt x="4" y="16"/>
                        </a:lnTo>
                        <a:lnTo>
                          <a:pt x="1" y="18"/>
                        </a:lnTo>
                        <a:lnTo>
                          <a:pt x="0" y="18"/>
                        </a:lnTo>
                        <a:lnTo>
                          <a:pt x="0" y="15"/>
                        </a:lnTo>
                        <a:lnTo>
                          <a:pt x="3" y="8"/>
                        </a:lnTo>
                        <a:lnTo>
                          <a:pt x="4" y="2"/>
                        </a:lnTo>
                        <a:lnTo>
                          <a:pt x="6" y="0"/>
                        </a:lnTo>
                        <a:lnTo>
                          <a:pt x="6"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41" name=""/>
                  <p:cNvSpPr/>
                  <p:nvPr/>
                </p:nvSpPr>
                <p:spPr>
                  <a:xfrm rot="808800">
                    <a:off x="6686280" y="4933080"/>
                    <a:ext cx="30960" cy="28800"/>
                  </a:xfrm>
                  <a:custGeom>
                    <a:avLst/>
                    <a:gdLst/>
                    <a:ahLst/>
                    <a:rect l="l" t="t" r="r" b="b"/>
                    <a:pathLst>
                      <a:path w="35" h="32">
                        <a:moveTo>
                          <a:pt x="31" y="0"/>
                        </a:moveTo>
                        <a:lnTo>
                          <a:pt x="35" y="8"/>
                        </a:lnTo>
                        <a:lnTo>
                          <a:pt x="35" y="16"/>
                        </a:lnTo>
                        <a:lnTo>
                          <a:pt x="32" y="22"/>
                        </a:lnTo>
                        <a:lnTo>
                          <a:pt x="29" y="28"/>
                        </a:lnTo>
                        <a:lnTo>
                          <a:pt x="22" y="31"/>
                        </a:lnTo>
                        <a:lnTo>
                          <a:pt x="16" y="32"/>
                        </a:lnTo>
                        <a:lnTo>
                          <a:pt x="8" y="32"/>
                        </a:lnTo>
                        <a:lnTo>
                          <a:pt x="2" y="31"/>
                        </a:lnTo>
                        <a:lnTo>
                          <a:pt x="0" y="24"/>
                        </a:lnTo>
                        <a:lnTo>
                          <a:pt x="0" y="19"/>
                        </a:lnTo>
                        <a:lnTo>
                          <a:pt x="7" y="13"/>
                        </a:lnTo>
                        <a:lnTo>
                          <a:pt x="16" y="9"/>
                        </a:lnTo>
                        <a:lnTo>
                          <a:pt x="23" y="5"/>
                        </a:lnTo>
                        <a:lnTo>
                          <a:pt x="31" y="0"/>
                        </a:lnTo>
                        <a:lnTo>
                          <a:pt x="31"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442" name=""/>
                  <p:cNvSpPr/>
                  <p:nvPr/>
                </p:nvSpPr>
                <p:spPr>
                  <a:xfrm rot="808800">
                    <a:off x="5818320" y="4796280"/>
                    <a:ext cx="561600" cy="304200"/>
                  </a:xfrm>
                  <a:custGeom>
                    <a:avLst/>
                    <a:gdLst/>
                    <a:ahLst/>
                    <a:rect l="l" t="t" r="r" b="b"/>
                    <a:pathLst>
                      <a:path w="630" h="337">
                        <a:moveTo>
                          <a:pt x="470" y="3"/>
                        </a:moveTo>
                        <a:lnTo>
                          <a:pt x="474" y="0"/>
                        </a:lnTo>
                        <a:lnTo>
                          <a:pt x="481" y="1"/>
                        </a:lnTo>
                        <a:lnTo>
                          <a:pt x="486" y="3"/>
                        </a:lnTo>
                        <a:lnTo>
                          <a:pt x="493" y="7"/>
                        </a:lnTo>
                        <a:lnTo>
                          <a:pt x="496" y="9"/>
                        </a:lnTo>
                        <a:lnTo>
                          <a:pt x="497" y="12"/>
                        </a:lnTo>
                        <a:lnTo>
                          <a:pt x="496" y="13"/>
                        </a:lnTo>
                        <a:lnTo>
                          <a:pt x="493" y="14"/>
                        </a:lnTo>
                        <a:lnTo>
                          <a:pt x="489" y="15"/>
                        </a:lnTo>
                        <a:lnTo>
                          <a:pt x="485" y="16"/>
                        </a:lnTo>
                        <a:lnTo>
                          <a:pt x="478" y="18"/>
                        </a:lnTo>
                        <a:lnTo>
                          <a:pt x="472" y="26"/>
                        </a:lnTo>
                        <a:lnTo>
                          <a:pt x="470" y="33"/>
                        </a:lnTo>
                        <a:lnTo>
                          <a:pt x="474" y="41"/>
                        </a:lnTo>
                        <a:lnTo>
                          <a:pt x="473" y="32"/>
                        </a:lnTo>
                        <a:lnTo>
                          <a:pt x="478" y="28"/>
                        </a:lnTo>
                        <a:lnTo>
                          <a:pt x="484" y="27"/>
                        </a:lnTo>
                        <a:lnTo>
                          <a:pt x="488" y="33"/>
                        </a:lnTo>
                        <a:lnTo>
                          <a:pt x="492" y="28"/>
                        </a:lnTo>
                        <a:lnTo>
                          <a:pt x="496" y="24"/>
                        </a:lnTo>
                        <a:lnTo>
                          <a:pt x="500" y="18"/>
                        </a:lnTo>
                        <a:lnTo>
                          <a:pt x="504" y="13"/>
                        </a:lnTo>
                        <a:lnTo>
                          <a:pt x="506" y="8"/>
                        </a:lnTo>
                        <a:lnTo>
                          <a:pt x="510" y="6"/>
                        </a:lnTo>
                        <a:lnTo>
                          <a:pt x="516" y="4"/>
                        </a:lnTo>
                        <a:lnTo>
                          <a:pt x="523" y="6"/>
                        </a:lnTo>
                        <a:lnTo>
                          <a:pt x="530" y="4"/>
                        </a:lnTo>
                        <a:lnTo>
                          <a:pt x="538" y="6"/>
                        </a:lnTo>
                        <a:lnTo>
                          <a:pt x="544" y="8"/>
                        </a:lnTo>
                        <a:lnTo>
                          <a:pt x="551" y="12"/>
                        </a:lnTo>
                        <a:lnTo>
                          <a:pt x="557" y="15"/>
                        </a:lnTo>
                        <a:lnTo>
                          <a:pt x="563" y="19"/>
                        </a:lnTo>
                        <a:lnTo>
                          <a:pt x="570" y="21"/>
                        </a:lnTo>
                        <a:lnTo>
                          <a:pt x="579" y="23"/>
                        </a:lnTo>
                        <a:lnTo>
                          <a:pt x="581" y="31"/>
                        </a:lnTo>
                        <a:lnTo>
                          <a:pt x="583" y="42"/>
                        </a:lnTo>
                        <a:lnTo>
                          <a:pt x="583" y="51"/>
                        </a:lnTo>
                        <a:lnTo>
                          <a:pt x="584" y="62"/>
                        </a:lnTo>
                        <a:lnTo>
                          <a:pt x="583" y="66"/>
                        </a:lnTo>
                        <a:lnTo>
                          <a:pt x="583" y="71"/>
                        </a:lnTo>
                        <a:lnTo>
                          <a:pt x="582" y="77"/>
                        </a:lnTo>
                        <a:lnTo>
                          <a:pt x="582" y="83"/>
                        </a:lnTo>
                        <a:lnTo>
                          <a:pt x="581" y="87"/>
                        </a:lnTo>
                        <a:lnTo>
                          <a:pt x="581" y="92"/>
                        </a:lnTo>
                        <a:lnTo>
                          <a:pt x="581" y="98"/>
                        </a:lnTo>
                        <a:lnTo>
                          <a:pt x="581" y="104"/>
                        </a:lnTo>
                        <a:lnTo>
                          <a:pt x="578" y="105"/>
                        </a:lnTo>
                        <a:lnTo>
                          <a:pt x="575" y="107"/>
                        </a:lnTo>
                        <a:lnTo>
                          <a:pt x="584" y="104"/>
                        </a:lnTo>
                        <a:lnTo>
                          <a:pt x="595" y="107"/>
                        </a:lnTo>
                        <a:lnTo>
                          <a:pt x="600" y="108"/>
                        </a:lnTo>
                        <a:lnTo>
                          <a:pt x="605" y="110"/>
                        </a:lnTo>
                        <a:lnTo>
                          <a:pt x="610" y="108"/>
                        </a:lnTo>
                        <a:lnTo>
                          <a:pt x="615" y="104"/>
                        </a:lnTo>
                        <a:lnTo>
                          <a:pt x="608" y="103"/>
                        </a:lnTo>
                        <a:lnTo>
                          <a:pt x="605" y="98"/>
                        </a:lnTo>
                        <a:lnTo>
                          <a:pt x="605" y="92"/>
                        </a:lnTo>
                        <a:lnTo>
                          <a:pt x="608" y="87"/>
                        </a:lnTo>
                        <a:lnTo>
                          <a:pt x="610" y="84"/>
                        </a:lnTo>
                        <a:lnTo>
                          <a:pt x="615" y="83"/>
                        </a:lnTo>
                        <a:lnTo>
                          <a:pt x="617" y="83"/>
                        </a:lnTo>
                        <a:lnTo>
                          <a:pt x="619" y="85"/>
                        </a:lnTo>
                        <a:lnTo>
                          <a:pt x="621" y="87"/>
                        </a:lnTo>
                        <a:lnTo>
                          <a:pt x="624" y="93"/>
                        </a:lnTo>
                        <a:lnTo>
                          <a:pt x="628" y="97"/>
                        </a:lnTo>
                        <a:lnTo>
                          <a:pt x="630" y="102"/>
                        </a:lnTo>
                        <a:lnTo>
                          <a:pt x="630" y="107"/>
                        </a:lnTo>
                        <a:lnTo>
                          <a:pt x="630" y="113"/>
                        </a:lnTo>
                        <a:lnTo>
                          <a:pt x="628" y="119"/>
                        </a:lnTo>
                        <a:lnTo>
                          <a:pt x="627" y="124"/>
                        </a:lnTo>
                        <a:lnTo>
                          <a:pt x="627" y="130"/>
                        </a:lnTo>
                        <a:lnTo>
                          <a:pt x="628" y="137"/>
                        </a:lnTo>
                        <a:lnTo>
                          <a:pt x="622" y="137"/>
                        </a:lnTo>
                        <a:lnTo>
                          <a:pt x="618" y="137"/>
                        </a:lnTo>
                        <a:lnTo>
                          <a:pt x="616" y="133"/>
                        </a:lnTo>
                        <a:lnTo>
                          <a:pt x="612" y="128"/>
                        </a:lnTo>
                        <a:lnTo>
                          <a:pt x="606" y="124"/>
                        </a:lnTo>
                        <a:lnTo>
                          <a:pt x="603" y="123"/>
                        </a:lnTo>
                        <a:lnTo>
                          <a:pt x="598" y="124"/>
                        </a:lnTo>
                        <a:lnTo>
                          <a:pt x="595" y="127"/>
                        </a:lnTo>
                        <a:lnTo>
                          <a:pt x="592" y="131"/>
                        </a:lnTo>
                        <a:lnTo>
                          <a:pt x="592" y="136"/>
                        </a:lnTo>
                        <a:lnTo>
                          <a:pt x="591" y="141"/>
                        </a:lnTo>
                        <a:lnTo>
                          <a:pt x="591" y="145"/>
                        </a:lnTo>
                        <a:lnTo>
                          <a:pt x="591" y="150"/>
                        </a:lnTo>
                        <a:lnTo>
                          <a:pt x="591" y="156"/>
                        </a:lnTo>
                        <a:lnTo>
                          <a:pt x="583" y="157"/>
                        </a:lnTo>
                        <a:lnTo>
                          <a:pt x="578" y="159"/>
                        </a:lnTo>
                        <a:lnTo>
                          <a:pt x="575" y="153"/>
                        </a:lnTo>
                        <a:lnTo>
                          <a:pt x="572" y="148"/>
                        </a:lnTo>
                        <a:lnTo>
                          <a:pt x="568" y="143"/>
                        </a:lnTo>
                        <a:lnTo>
                          <a:pt x="565" y="140"/>
                        </a:lnTo>
                        <a:lnTo>
                          <a:pt x="557" y="132"/>
                        </a:lnTo>
                        <a:lnTo>
                          <a:pt x="549" y="125"/>
                        </a:lnTo>
                        <a:lnTo>
                          <a:pt x="541" y="117"/>
                        </a:lnTo>
                        <a:lnTo>
                          <a:pt x="535" y="109"/>
                        </a:lnTo>
                        <a:lnTo>
                          <a:pt x="532" y="104"/>
                        </a:lnTo>
                        <a:lnTo>
                          <a:pt x="531" y="100"/>
                        </a:lnTo>
                        <a:lnTo>
                          <a:pt x="531" y="95"/>
                        </a:lnTo>
                        <a:lnTo>
                          <a:pt x="532" y="90"/>
                        </a:lnTo>
                        <a:lnTo>
                          <a:pt x="527" y="87"/>
                        </a:lnTo>
                        <a:lnTo>
                          <a:pt x="523" y="85"/>
                        </a:lnTo>
                        <a:lnTo>
                          <a:pt x="524" y="80"/>
                        </a:lnTo>
                        <a:lnTo>
                          <a:pt x="526" y="74"/>
                        </a:lnTo>
                        <a:lnTo>
                          <a:pt x="529" y="68"/>
                        </a:lnTo>
                        <a:lnTo>
                          <a:pt x="532" y="63"/>
                        </a:lnTo>
                        <a:lnTo>
                          <a:pt x="535" y="57"/>
                        </a:lnTo>
                        <a:lnTo>
                          <a:pt x="538" y="51"/>
                        </a:lnTo>
                        <a:lnTo>
                          <a:pt x="541" y="47"/>
                        </a:lnTo>
                        <a:lnTo>
                          <a:pt x="546" y="42"/>
                        </a:lnTo>
                        <a:lnTo>
                          <a:pt x="541" y="35"/>
                        </a:lnTo>
                        <a:lnTo>
                          <a:pt x="534" y="32"/>
                        </a:lnTo>
                        <a:lnTo>
                          <a:pt x="526" y="33"/>
                        </a:lnTo>
                        <a:lnTo>
                          <a:pt x="522" y="39"/>
                        </a:lnTo>
                        <a:lnTo>
                          <a:pt x="523" y="40"/>
                        </a:lnTo>
                        <a:lnTo>
                          <a:pt x="527" y="43"/>
                        </a:lnTo>
                        <a:lnTo>
                          <a:pt x="529" y="47"/>
                        </a:lnTo>
                        <a:lnTo>
                          <a:pt x="532" y="51"/>
                        </a:lnTo>
                        <a:lnTo>
                          <a:pt x="523" y="49"/>
                        </a:lnTo>
                        <a:lnTo>
                          <a:pt x="520" y="53"/>
                        </a:lnTo>
                        <a:lnTo>
                          <a:pt x="518" y="61"/>
                        </a:lnTo>
                        <a:lnTo>
                          <a:pt x="518" y="70"/>
                        </a:lnTo>
                        <a:lnTo>
                          <a:pt x="516" y="79"/>
                        </a:lnTo>
                        <a:lnTo>
                          <a:pt x="513" y="86"/>
                        </a:lnTo>
                        <a:lnTo>
                          <a:pt x="510" y="88"/>
                        </a:lnTo>
                        <a:lnTo>
                          <a:pt x="507" y="91"/>
                        </a:lnTo>
                        <a:lnTo>
                          <a:pt x="503" y="91"/>
                        </a:lnTo>
                        <a:lnTo>
                          <a:pt x="498" y="91"/>
                        </a:lnTo>
                        <a:lnTo>
                          <a:pt x="488" y="90"/>
                        </a:lnTo>
                        <a:lnTo>
                          <a:pt x="479" y="90"/>
                        </a:lnTo>
                        <a:lnTo>
                          <a:pt x="469" y="90"/>
                        </a:lnTo>
                        <a:lnTo>
                          <a:pt x="461" y="90"/>
                        </a:lnTo>
                        <a:lnTo>
                          <a:pt x="460" y="85"/>
                        </a:lnTo>
                        <a:lnTo>
                          <a:pt x="460" y="82"/>
                        </a:lnTo>
                        <a:lnTo>
                          <a:pt x="460" y="77"/>
                        </a:lnTo>
                        <a:lnTo>
                          <a:pt x="460" y="75"/>
                        </a:lnTo>
                        <a:lnTo>
                          <a:pt x="453" y="76"/>
                        </a:lnTo>
                        <a:lnTo>
                          <a:pt x="452" y="80"/>
                        </a:lnTo>
                        <a:lnTo>
                          <a:pt x="454" y="85"/>
                        </a:lnTo>
                        <a:lnTo>
                          <a:pt x="457" y="91"/>
                        </a:lnTo>
                        <a:lnTo>
                          <a:pt x="458" y="95"/>
                        </a:lnTo>
                        <a:lnTo>
                          <a:pt x="459" y="99"/>
                        </a:lnTo>
                        <a:lnTo>
                          <a:pt x="456" y="102"/>
                        </a:lnTo>
                        <a:lnTo>
                          <a:pt x="449" y="102"/>
                        </a:lnTo>
                        <a:lnTo>
                          <a:pt x="447" y="93"/>
                        </a:lnTo>
                        <a:lnTo>
                          <a:pt x="444" y="90"/>
                        </a:lnTo>
                        <a:lnTo>
                          <a:pt x="440" y="90"/>
                        </a:lnTo>
                        <a:lnTo>
                          <a:pt x="437" y="94"/>
                        </a:lnTo>
                        <a:lnTo>
                          <a:pt x="432" y="97"/>
                        </a:lnTo>
                        <a:lnTo>
                          <a:pt x="428" y="101"/>
                        </a:lnTo>
                        <a:lnTo>
                          <a:pt x="425" y="103"/>
                        </a:lnTo>
                        <a:lnTo>
                          <a:pt x="421" y="104"/>
                        </a:lnTo>
                        <a:lnTo>
                          <a:pt x="420" y="100"/>
                        </a:lnTo>
                        <a:lnTo>
                          <a:pt x="420" y="96"/>
                        </a:lnTo>
                        <a:lnTo>
                          <a:pt x="420" y="91"/>
                        </a:lnTo>
                        <a:lnTo>
                          <a:pt x="421" y="90"/>
                        </a:lnTo>
                        <a:lnTo>
                          <a:pt x="412" y="90"/>
                        </a:lnTo>
                        <a:lnTo>
                          <a:pt x="407" y="92"/>
                        </a:lnTo>
                        <a:lnTo>
                          <a:pt x="402" y="95"/>
                        </a:lnTo>
                        <a:lnTo>
                          <a:pt x="399" y="101"/>
                        </a:lnTo>
                        <a:lnTo>
                          <a:pt x="396" y="105"/>
                        </a:lnTo>
                        <a:lnTo>
                          <a:pt x="395" y="112"/>
                        </a:lnTo>
                        <a:lnTo>
                          <a:pt x="394" y="119"/>
                        </a:lnTo>
                        <a:lnTo>
                          <a:pt x="395" y="127"/>
                        </a:lnTo>
                        <a:lnTo>
                          <a:pt x="386" y="130"/>
                        </a:lnTo>
                        <a:lnTo>
                          <a:pt x="379" y="126"/>
                        </a:lnTo>
                        <a:lnTo>
                          <a:pt x="377" y="118"/>
                        </a:lnTo>
                        <a:lnTo>
                          <a:pt x="382" y="112"/>
                        </a:lnTo>
                        <a:lnTo>
                          <a:pt x="379" y="109"/>
                        </a:lnTo>
                        <a:lnTo>
                          <a:pt x="377" y="106"/>
                        </a:lnTo>
                        <a:lnTo>
                          <a:pt x="371" y="109"/>
                        </a:lnTo>
                        <a:lnTo>
                          <a:pt x="369" y="113"/>
                        </a:lnTo>
                        <a:lnTo>
                          <a:pt x="369" y="117"/>
                        </a:lnTo>
                        <a:lnTo>
                          <a:pt x="371" y="123"/>
                        </a:lnTo>
                        <a:lnTo>
                          <a:pt x="377" y="131"/>
                        </a:lnTo>
                        <a:lnTo>
                          <a:pt x="379" y="142"/>
                        </a:lnTo>
                        <a:lnTo>
                          <a:pt x="385" y="139"/>
                        </a:lnTo>
                        <a:lnTo>
                          <a:pt x="391" y="136"/>
                        </a:lnTo>
                        <a:lnTo>
                          <a:pt x="397" y="130"/>
                        </a:lnTo>
                        <a:lnTo>
                          <a:pt x="403" y="125"/>
                        </a:lnTo>
                        <a:lnTo>
                          <a:pt x="408" y="120"/>
                        </a:lnTo>
                        <a:lnTo>
                          <a:pt x="413" y="116"/>
                        </a:lnTo>
                        <a:lnTo>
                          <a:pt x="419" y="112"/>
                        </a:lnTo>
                        <a:lnTo>
                          <a:pt x="428" y="112"/>
                        </a:lnTo>
                        <a:lnTo>
                          <a:pt x="433" y="107"/>
                        </a:lnTo>
                        <a:lnTo>
                          <a:pt x="440" y="104"/>
                        </a:lnTo>
                        <a:lnTo>
                          <a:pt x="444" y="106"/>
                        </a:lnTo>
                        <a:lnTo>
                          <a:pt x="449" y="111"/>
                        </a:lnTo>
                        <a:lnTo>
                          <a:pt x="442" y="117"/>
                        </a:lnTo>
                        <a:lnTo>
                          <a:pt x="435" y="122"/>
                        </a:lnTo>
                        <a:lnTo>
                          <a:pt x="428" y="125"/>
                        </a:lnTo>
                        <a:lnTo>
                          <a:pt x="420" y="129"/>
                        </a:lnTo>
                        <a:lnTo>
                          <a:pt x="412" y="132"/>
                        </a:lnTo>
                        <a:lnTo>
                          <a:pt x="406" y="138"/>
                        </a:lnTo>
                        <a:lnTo>
                          <a:pt x="399" y="143"/>
                        </a:lnTo>
                        <a:lnTo>
                          <a:pt x="394" y="153"/>
                        </a:lnTo>
                        <a:lnTo>
                          <a:pt x="386" y="156"/>
                        </a:lnTo>
                        <a:lnTo>
                          <a:pt x="378" y="157"/>
                        </a:lnTo>
                        <a:lnTo>
                          <a:pt x="370" y="157"/>
                        </a:lnTo>
                        <a:lnTo>
                          <a:pt x="362" y="158"/>
                        </a:lnTo>
                        <a:lnTo>
                          <a:pt x="353" y="158"/>
                        </a:lnTo>
                        <a:lnTo>
                          <a:pt x="347" y="160"/>
                        </a:lnTo>
                        <a:lnTo>
                          <a:pt x="339" y="164"/>
                        </a:lnTo>
                        <a:lnTo>
                          <a:pt x="334" y="173"/>
                        </a:lnTo>
                        <a:lnTo>
                          <a:pt x="329" y="178"/>
                        </a:lnTo>
                        <a:lnTo>
                          <a:pt x="323" y="183"/>
                        </a:lnTo>
                        <a:lnTo>
                          <a:pt x="316" y="188"/>
                        </a:lnTo>
                        <a:lnTo>
                          <a:pt x="311" y="193"/>
                        </a:lnTo>
                        <a:lnTo>
                          <a:pt x="304" y="195"/>
                        </a:lnTo>
                        <a:lnTo>
                          <a:pt x="297" y="195"/>
                        </a:lnTo>
                        <a:lnTo>
                          <a:pt x="291" y="193"/>
                        </a:lnTo>
                        <a:lnTo>
                          <a:pt x="284" y="190"/>
                        </a:lnTo>
                        <a:lnTo>
                          <a:pt x="279" y="192"/>
                        </a:lnTo>
                        <a:lnTo>
                          <a:pt x="276" y="194"/>
                        </a:lnTo>
                        <a:lnTo>
                          <a:pt x="277" y="196"/>
                        </a:lnTo>
                        <a:lnTo>
                          <a:pt x="282" y="200"/>
                        </a:lnTo>
                        <a:lnTo>
                          <a:pt x="285" y="205"/>
                        </a:lnTo>
                        <a:lnTo>
                          <a:pt x="288" y="210"/>
                        </a:lnTo>
                        <a:lnTo>
                          <a:pt x="279" y="210"/>
                        </a:lnTo>
                        <a:lnTo>
                          <a:pt x="272" y="215"/>
                        </a:lnTo>
                        <a:lnTo>
                          <a:pt x="265" y="220"/>
                        </a:lnTo>
                        <a:lnTo>
                          <a:pt x="259" y="228"/>
                        </a:lnTo>
                        <a:lnTo>
                          <a:pt x="253" y="235"/>
                        </a:lnTo>
                        <a:lnTo>
                          <a:pt x="247" y="240"/>
                        </a:lnTo>
                        <a:lnTo>
                          <a:pt x="239" y="244"/>
                        </a:lnTo>
                        <a:lnTo>
                          <a:pt x="232" y="246"/>
                        </a:lnTo>
                        <a:lnTo>
                          <a:pt x="223" y="247"/>
                        </a:lnTo>
                        <a:lnTo>
                          <a:pt x="219" y="254"/>
                        </a:lnTo>
                        <a:lnTo>
                          <a:pt x="216" y="257"/>
                        </a:lnTo>
                        <a:lnTo>
                          <a:pt x="213" y="260"/>
                        </a:lnTo>
                        <a:lnTo>
                          <a:pt x="208" y="262"/>
                        </a:lnTo>
                        <a:lnTo>
                          <a:pt x="204" y="261"/>
                        </a:lnTo>
                        <a:lnTo>
                          <a:pt x="203" y="267"/>
                        </a:lnTo>
                        <a:lnTo>
                          <a:pt x="200" y="271"/>
                        </a:lnTo>
                        <a:lnTo>
                          <a:pt x="196" y="273"/>
                        </a:lnTo>
                        <a:lnTo>
                          <a:pt x="192" y="275"/>
                        </a:lnTo>
                        <a:lnTo>
                          <a:pt x="187" y="276"/>
                        </a:lnTo>
                        <a:lnTo>
                          <a:pt x="184" y="278"/>
                        </a:lnTo>
                        <a:lnTo>
                          <a:pt x="182" y="282"/>
                        </a:lnTo>
                        <a:lnTo>
                          <a:pt x="185" y="290"/>
                        </a:lnTo>
                        <a:lnTo>
                          <a:pt x="181" y="298"/>
                        </a:lnTo>
                        <a:lnTo>
                          <a:pt x="176" y="306"/>
                        </a:lnTo>
                        <a:lnTo>
                          <a:pt x="167" y="311"/>
                        </a:lnTo>
                        <a:lnTo>
                          <a:pt x="160" y="314"/>
                        </a:lnTo>
                        <a:lnTo>
                          <a:pt x="149" y="315"/>
                        </a:lnTo>
                        <a:lnTo>
                          <a:pt x="140" y="316"/>
                        </a:lnTo>
                        <a:lnTo>
                          <a:pt x="131" y="315"/>
                        </a:lnTo>
                        <a:lnTo>
                          <a:pt x="124" y="315"/>
                        </a:lnTo>
                        <a:lnTo>
                          <a:pt x="122" y="316"/>
                        </a:lnTo>
                        <a:lnTo>
                          <a:pt x="120" y="318"/>
                        </a:lnTo>
                        <a:lnTo>
                          <a:pt x="124" y="320"/>
                        </a:lnTo>
                        <a:lnTo>
                          <a:pt x="125" y="324"/>
                        </a:lnTo>
                        <a:lnTo>
                          <a:pt x="125" y="328"/>
                        </a:lnTo>
                        <a:lnTo>
                          <a:pt x="124" y="333"/>
                        </a:lnTo>
                        <a:lnTo>
                          <a:pt x="118" y="337"/>
                        </a:lnTo>
                        <a:lnTo>
                          <a:pt x="110" y="336"/>
                        </a:lnTo>
                        <a:lnTo>
                          <a:pt x="106" y="329"/>
                        </a:lnTo>
                        <a:lnTo>
                          <a:pt x="105" y="322"/>
                        </a:lnTo>
                        <a:lnTo>
                          <a:pt x="105" y="314"/>
                        </a:lnTo>
                        <a:lnTo>
                          <a:pt x="105" y="307"/>
                        </a:lnTo>
                        <a:lnTo>
                          <a:pt x="105" y="298"/>
                        </a:lnTo>
                        <a:lnTo>
                          <a:pt x="107" y="291"/>
                        </a:lnTo>
                        <a:lnTo>
                          <a:pt x="109" y="283"/>
                        </a:lnTo>
                        <a:lnTo>
                          <a:pt x="111" y="277"/>
                        </a:lnTo>
                        <a:lnTo>
                          <a:pt x="114" y="276"/>
                        </a:lnTo>
                        <a:lnTo>
                          <a:pt x="117" y="274"/>
                        </a:lnTo>
                        <a:lnTo>
                          <a:pt x="108" y="269"/>
                        </a:lnTo>
                        <a:lnTo>
                          <a:pt x="100" y="267"/>
                        </a:lnTo>
                        <a:lnTo>
                          <a:pt x="92" y="265"/>
                        </a:lnTo>
                        <a:lnTo>
                          <a:pt x="84" y="263"/>
                        </a:lnTo>
                        <a:lnTo>
                          <a:pt x="86" y="259"/>
                        </a:lnTo>
                        <a:lnTo>
                          <a:pt x="89" y="257"/>
                        </a:lnTo>
                        <a:lnTo>
                          <a:pt x="93" y="254"/>
                        </a:lnTo>
                        <a:lnTo>
                          <a:pt x="98" y="254"/>
                        </a:lnTo>
                        <a:lnTo>
                          <a:pt x="98" y="247"/>
                        </a:lnTo>
                        <a:lnTo>
                          <a:pt x="98" y="240"/>
                        </a:lnTo>
                        <a:lnTo>
                          <a:pt x="95" y="235"/>
                        </a:lnTo>
                        <a:lnTo>
                          <a:pt x="89" y="236"/>
                        </a:lnTo>
                        <a:lnTo>
                          <a:pt x="89" y="242"/>
                        </a:lnTo>
                        <a:lnTo>
                          <a:pt x="87" y="248"/>
                        </a:lnTo>
                        <a:lnTo>
                          <a:pt x="79" y="251"/>
                        </a:lnTo>
                        <a:lnTo>
                          <a:pt x="73" y="254"/>
                        </a:lnTo>
                        <a:lnTo>
                          <a:pt x="65" y="256"/>
                        </a:lnTo>
                        <a:lnTo>
                          <a:pt x="60" y="260"/>
                        </a:lnTo>
                        <a:lnTo>
                          <a:pt x="57" y="263"/>
                        </a:lnTo>
                        <a:lnTo>
                          <a:pt x="57" y="267"/>
                        </a:lnTo>
                        <a:lnTo>
                          <a:pt x="57" y="271"/>
                        </a:lnTo>
                        <a:lnTo>
                          <a:pt x="61" y="277"/>
                        </a:lnTo>
                        <a:lnTo>
                          <a:pt x="66" y="276"/>
                        </a:lnTo>
                        <a:lnTo>
                          <a:pt x="68" y="273"/>
                        </a:lnTo>
                        <a:lnTo>
                          <a:pt x="69" y="269"/>
                        </a:lnTo>
                        <a:lnTo>
                          <a:pt x="70" y="265"/>
                        </a:lnTo>
                        <a:lnTo>
                          <a:pt x="70" y="261"/>
                        </a:lnTo>
                        <a:lnTo>
                          <a:pt x="71" y="258"/>
                        </a:lnTo>
                        <a:lnTo>
                          <a:pt x="74" y="257"/>
                        </a:lnTo>
                        <a:lnTo>
                          <a:pt x="80" y="258"/>
                        </a:lnTo>
                        <a:lnTo>
                          <a:pt x="83" y="267"/>
                        </a:lnTo>
                        <a:lnTo>
                          <a:pt x="83" y="274"/>
                        </a:lnTo>
                        <a:lnTo>
                          <a:pt x="79" y="278"/>
                        </a:lnTo>
                        <a:lnTo>
                          <a:pt x="75" y="284"/>
                        </a:lnTo>
                        <a:lnTo>
                          <a:pt x="69" y="287"/>
                        </a:lnTo>
                        <a:lnTo>
                          <a:pt x="62" y="290"/>
                        </a:lnTo>
                        <a:lnTo>
                          <a:pt x="56" y="293"/>
                        </a:lnTo>
                        <a:lnTo>
                          <a:pt x="50" y="295"/>
                        </a:lnTo>
                        <a:lnTo>
                          <a:pt x="48" y="297"/>
                        </a:lnTo>
                        <a:lnTo>
                          <a:pt x="44" y="301"/>
                        </a:lnTo>
                        <a:lnTo>
                          <a:pt x="39" y="303"/>
                        </a:lnTo>
                        <a:lnTo>
                          <a:pt x="38" y="305"/>
                        </a:lnTo>
                        <a:lnTo>
                          <a:pt x="31" y="298"/>
                        </a:lnTo>
                        <a:lnTo>
                          <a:pt x="29" y="293"/>
                        </a:lnTo>
                        <a:lnTo>
                          <a:pt x="30" y="287"/>
                        </a:lnTo>
                        <a:lnTo>
                          <a:pt x="33" y="281"/>
                        </a:lnTo>
                        <a:lnTo>
                          <a:pt x="34" y="275"/>
                        </a:lnTo>
                        <a:lnTo>
                          <a:pt x="38" y="269"/>
                        </a:lnTo>
                        <a:lnTo>
                          <a:pt x="37" y="263"/>
                        </a:lnTo>
                        <a:lnTo>
                          <a:pt x="34" y="259"/>
                        </a:lnTo>
                        <a:lnTo>
                          <a:pt x="39" y="258"/>
                        </a:lnTo>
                        <a:lnTo>
                          <a:pt x="44" y="263"/>
                        </a:lnTo>
                        <a:lnTo>
                          <a:pt x="46" y="257"/>
                        </a:lnTo>
                        <a:lnTo>
                          <a:pt x="48" y="253"/>
                        </a:lnTo>
                        <a:lnTo>
                          <a:pt x="53" y="248"/>
                        </a:lnTo>
                        <a:lnTo>
                          <a:pt x="58" y="245"/>
                        </a:lnTo>
                        <a:lnTo>
                          <a:pt x="62" y="240"/>
                        </a:lnTo>
                        <a:lnTo>
                          <a:pt x="66" y="237"/>
                        </a:lnTo>
                        <a:lnTo>
                          <a:pt x="66" y="232"/>
                        </a:lnTo>
                        <a:lnTo>
                          <a:pt x="66" y="226"/>
                        </a:lnTo>
                        <a:lnTo>
                          <a:pt x="66" y="220"/>
                        </a:lnTo>
                        <a:lnTo>
                          <a:pt x="68" y="216"/>
                        </a:lnTo>
                        <a:lnTo>
                          <a:pt x="61" y="212"/>
                        </a:lnTo>
                        <a:lnTo>
                          <a:pt x="56" y="211"/>
                        </a:lnTo>
                        <a:lnTo>
                          <a:pt x="48" y="212"/>
                        </a:lnTo>
                        <a:lnTo>
                          <a:pt x="44" y="215"/>
                        </a:lnTo>
                        <a:lnTo>
                          <a:pt x="38" y="218"/>
                        </a:lnTo>
                        <a:lnTo>
                          <a:pt x="34" y="223"/>
                        </a:lnTo>
                        <a:lnTo>
                          <a:pt x="32" y="229"/>
                        </a:lnTo>
                        <a:lnTo>
                          <a:pt x="34" y="237"/>
                        </a:lnTo>
                        <a:lnTo>
                          <a:pt x="36" y="231"/>
                        </a:lnTo>
                        <a:lnTo>
                          <a:pt x="39" y="230"/>
                        </a:lnTo>
                        <a:lnTo>
                          <a:pt x="44" y="231"/>
                        </a:lnTo>
                        <a:lnTo>
                          <a:pt x="48" y="235"/>
                        </a:lnTo>
                        <a:lnTo>
                          <a:pt x="48" y="237"/>
                        </a:lnTo>
                        <a:lnTo>
                          <a:pt x="48" y="241"/>
                        </a:lnTo>
                        <a:lnTo>
                          <a:pt x="46" y="242"/>
                        </a:lnTo>
                        <a:lnTo>
                          <a:pt x="39" y="242"/>
                        </a:lnTo>
                        <a:lnTo>
                          <a:pt x="34" y="242"/>
                        </a:lnTo>
                        <a:lnTo>
                          <a:pt x="30" y="242"/>
                        </a:lnTo>
                        <a:lnTo>
                          <a:pt x="25" y="241"/>
                        </a:lnTo>
                        <a:lnTo>
                          <a:pt x="23" y="240"/>
                        </a:lnTo>
                        <a:lnTo>
                          <a:pt x="16" y="245"/>
                        </a:lnTo>
                        <a:lnTo>
                          <a:pt x="12" y="251"/>
                        </a:lnTo>
                        <a:lnTo>
                          <a:pt x="10" y="257"/>
                        </a:lnTo>
                        <a:lnTo>
                          <a:pt x="10" y="265"/>
                        </a:lnTo>
                        <a:lnTo>
                          <a:pt x="11" y="272"/>
                        </a:lnTo>
                        <a:lnTo>
                          <a:pt x="14" y="278"/>
                        </a:lnTo>
                        <a:lnTo>
                          <a:pt x="19" y="284"/>
                        </a:lnTo>
                        <a:lnTo>
                          <a:pt x="25" y="291"/>
                        </a:lnTo>
                        <a:lnTo>
                          <a:pt x="18" y="291"/>
                        </a:lnTo>
                        <a:lnTo>
                          <a:pt x="13" y="291"/>
                        </a:lnTo>
                        <a:lnTo>
                          <a:pt x="6" y="286"/>
                        </a:lnTo>
                        <a:lnTo>
                          <a:pt x="2" y="281"/>
                        </a:lnTo>
                        <a:lnTo>
                          <a:pt x="0" y="274"/>
                        </a:lnTo>
                        <a:lnTo>
                          <a:pt x="0" y="267"/>
                        </a:lnTo>
                        <a:lnTo>
                          <a:pt x="0" y="258"/>
                        </a:lnTo>
                        <a:lnTo>
                          <a:pt x="0" y="251"/>
                        </a:lnTo>
                        <a:lnTo>
                          <a:pt x="0" y="243"/>
                        </a:lnTo>
                        <a:lnTo>
                          <a:pt x="1" y="237"/>
                        </a:lnTo>
                        <a:lnTo>
                          <a:pt x="4" y="228"/>
                        </a:lnTo>
                        <a:lnTo>
                          <a:pt x="10" y="220"/>
                        </a:lnTo>
                        <a:lnTo>
                          <a:pt x="15" y="214"/>
                        </a:lnTo>
                        <a:lnTo>
                          <a:pt x="24" y="209"/>
                        </a:lnTo>
                        <a:lnTo>
                          <a:pt x="30" y="204"/>
                        </a:lnTo>
                        <a:lnTo>
                          <a:pt x="39" y="201"/>
                        </a:lnTo>
                        <a:lnTo>
                          <a:pt x="48" y="199"/>
                        </a:lnTo>
                        <a:lnTo>
                          <a:pt x="57" y="197"/>
                        </a:lnTo>
                        <a:lnTo>
                          <a:pt x="62" y="198"/>
                        </a:lnTo>
                        <a:lnTo>
                          <a:pt x="69" y="201"/>
                        </a:lnTo>
                        <a:lnTo>
                          <a:pt x="75" y="205"/>
                        </a:lnTo>
                        <a:lnTo>
                          <a:pt x="83" y="211"/>
                        </a:lnTo>
                        <a:lnTo>
                          <a:pt x="87" y="215"/>
                        </a:lnTo>
                        <a:lnTo>
                          <a:pt x="93" y="219"/>
                        </a:lnTo>
                        <a:lnTo>
                          <a:pt x="100" y="223"/>
                        </a:lnTo>
                        <a:lnTo>
                          <a:pt x="108" y="226"/>
                        </a:lnTo>
                        <a:lnTo>
                          <a:pt x="105" y="231"/>
                        </a:lnTo>
                        <a:lnTo>
                          <a:pt x="106" y="236"/>
                        </a:lnTo>
                        <a:lnTo>
                          <a:pt x="108" y="240"/>
                        </a:lnTo>
                        <a:lnTo>
                          <a:pt x="113" y="245"/>
                        </a:lnTo>
                        <a:lnTo>
                          <a:pt x="117" y="247"/>
                        </a:lnTo>
                        <a:lnTo>
                          <a:pt x="123" y="249"/>
                        </a:lnTo>
                        <a:lnTo>
                          <a:pt x="127" y="249"/>
                        </a:lnTo>
                        <a:lnTo>
                          <a:pt x="133" y="248"/>
                        </a:lnTo>
                        <a:lnTo>
                          <a:pt x="132" y="252"/>
                        </a:lnTo>
                        <a:lnTo>
                          <a:pt x="133" y="257"/>
                        </a:lnTo>
                        <a:lnTo>
                          <a:pt x="135" y="262"/>
                        </a:lnTo>
                        <a:lnTo>
                          <a:pt x="138" y="268"/>
                        </a:lnTo>
                        <a:lnTo>
                          <a:pt x="138" y="273"/>
                        </a:lnTo>
                        <a:lnTo>
                          <a:pt x="138" y="277"/>
                        </a:lnTo>
                        <a:lnTo>
                          <a:pt x="134" y="281"/>
                        </a:lnTo>
                        <a:lnTo>
                          <a:pt x="128" y="285"/>
                        </a:lnTo>
                        <a:lnTo>
                          <a:pt x="125" y="289"/>
                        </a:lnTo>
                        <a:lnTo>
                          <a:pt x="124" y="296"/>
                        </a:lnTo>
                        <a:lnTo>
                          <a:pt x="124" y="303"/>
                        </a:lnTo>
                        <a:lnTo>
                          <a:pt x="124" y="308"/>
                        </a:lnTo>
                        <a:lnTo>
                          <a:pt x="128" y="303"/>
                        </a:lnTo>
                        <a:lnTo>
                          <a:pt x="137" y="304"/>
                        </a:lnTo>
                        <a:lnTo>
                          <a:pt x="140" y="304"/>
                        </a:lnTo>
                        <a:lnTo>
                          <a:pt x="143" y="304"/>
                        </a:lnTo>
                        <a:lnTo>
                          <a:pt x="145" y="302"/>
                        </a:lnTo>
                        <a:lnTo>
                          <a:pt x="147" y="298"/>
                        </a:lnTo>
                        <a:lnTo>
                          <a:pt x="143" y="297"/>
                        </a:lnTo>
                        <a:lnTo>
                          <a:pt x="138" y="297"/>
                        </a:lnTo>
                        <a:lnTo>
                          <a:pt x="132" y="297"/>
                        </a:lnTo>
                        <a:lnTo>
                          <a:pt x="129" y="297"/>
                        </a:lnTo>
                        <a:lnTo>
                          <a:pt x="129" y="290"/>
                        </a:lnTo>
                        <a:lnTo>
                          <a:pt x="133" y="285"/>
                        </a:lnTo>
                        <a:lnTo>
                          <a:pt x="138" y="281"/>
                        </a:lnTo>
                        <a:lnTo>
                          <a:pt x="143" y="281"/>
                        </a:lnTo>
                        <a:lnTo>
                          <a:pt x="149" y="282"/>
                        </a:lnTo>
                        <a:lnTo>
                          <a:pt x="155" y="285"/>
                        </a:lnTo>
                        <a:lnTo>
                          <a:pt x="160" y="289"/>
                        </a:lnTo>
                        <a:lnTo>
                          <a:pt x="164" y="295"/>
                        </a:lnTo>
                        <a:lnTo>
                          <a:pt x="168" y="293"/>
                        </a:lnTo>
                        <a:lnTo>
                          <a:pt x="171" y="291"/>
                        </a:lnTo>
                        <a:lnTo>
                          <a:pt x="171" y="288"/>
                        </a:lnTo>
                        <a:lnTo>
                          <a:pt x="170" y="286"/>
                        </a:lnTo>
                        <a:lnTo>
                          <a:pt x="164" y="281"/>
                        </a:lnTo>
                        <a:lnTo>
                          <a:pt x="160" y="282"/>
                        </a:lnTo>
                        <a:lnTo>
                          <a:pt x="157" y="276"/>
                        </a:lnTo>
                        <a:lnTo>
                          <a:pt x="158" y="273"/>
                        </a:lnTo>
                        <a:lnTo>
                          <a:pt x="161" y="270"/>
                        </a:lnTo>
                        <a:lnTo>
                          <a:pt x="164" y="269"/>
                        </a:lnTo>
                        <a:lnTo>
                          <a:pt x="168" y="267"/>
                        </a:lnTo>
                        <a:lnTo>
                          <a:pt x="171" y="265"/>
                        </a:lnTo>
                        <a:lnTo>
                          <a:pt x="173" y="262"/>
                        </a:lnTo>
                        <a:lnTo>
                          <a:pt x="173" y="258"/>
                        </a:lnTo>
                        <a:lnTo>
                          <a:pt x="170" y="258"/>
                        </a:lnTo>
                        <a:lnTo>
                          <a:pt x="166" y="260"/>
                        </a:lnTo>
                        <a:lnTo>
                          <a:pt x="162" y="262"/>
                        </a:lnTo>
                        <a:lnTo>
                          <a:pt x="158" y="263"/>
                        </a:lnTo>
                        <a:lnTo>
                          <a:pt x="158" y="258"/>
                        </a:lnTo>
                        <a:lnTo>
                          <a:pt x="161" y="255"/>
                        </a:lnTo>
                        <a:lnTo>
                          <a:pt x="163" y="251"/>
                        </a:lnTo>
                        <a:lnTo>
                          <a:pt x="166" y="249"/>
                        </a:lnTo>
                        <a:lnTo>
                          <a:pt x="158" y="244"/>
                        </a:lnTo>
                        <a:lnTo>
                          <a:pt x="152" y="237"/>
                        </a:lnTo>
                        <a:lnTo>
                          <a:pt x="145" y="229"/>
                        </a:lnTo>
                        <a:lnTo>
                          <a:pt x="139" y="223"/>
                        </a:lnTo>
                        <a:lnTo>
                          <a:pt x="141" y="218"/>
                        </a:lnTo>
                        <a:lnTo>
                          <a:pt x="145" y="216"/>
                        </a:lnTo>
                        <a:lnTo>
                          <a:pt x="150" y="215"/>
                        </a:lnTo>
                        <a:lnTo>
                          <a:pt x="155" y="216"/>
                        </a:lnTo>
                        <a:lnTo>
                          <a:pt x="159" y="217"/>
                        </a:lnTo>
                        <a:lnTo>
                          <a:pt x="162" y="220"/>
                        </a:lnTo>
                        <a:lnTo>
                          <a:pt x="163" y="224"/>
                        </a:lnTo>
                        <a:lnTo>
                          <a:pt x="163" y="231"/>
                        </a:lnTo>
                        <a:lnTo>
                          <a:pt x="166" y="230"/>
                        </a:lnTo>
                        <a:lnTo>
                          <a:pt x="171" y="229"/>
                        </a:lnTo>
                        <a:lnTo>
                          <a:pt x="176" y="228"/>
                        </a:lnTo>
                        <a:lnTo>
                          <a:pt x="180" y="228"/>
                        </a:lnTo>
                        <a:lnTo>
                          <a:pt x="173" y="219"/>
                        </a:lnTo>
                        <a:lnTo>
                          <a:pt x="174" y="210"/>
                        </a:lnTo>
                        <a:lnTo>
                          <a:pt x="178" y="200"/>
                        </a:lnTo>
                        <a:lnTo>
                          <a:pt x="185" y="194"/>
                        </a:lnTo>
                        <a:lnTo>
                          <a:pt x="189" y="190"/>
                        </a:lnTo>
                        <a:lnTo>
                          <a:pt x="194" y="187"/>
                        </a:lnTo>
                        <a:lnTo>
                          <a:pt x="191" y="193"/>
                        </a:lnTo>
                        <a:lnTo>
                          <a:pt x="191" y="200"/>
                        </a:lnTo>
                        <a:lnTo>
                          <a:pt x="191" y="208"/>
                        </a:lnTo>
                        <a:lnTo>
                          <a:pt x="192" y="216"/>
                        </a:lnTo>
                        <a:lnTo>
                          <a:pt x="192" y="222"/>
                        </a:lnTo>
                        <a:lnTo>
                          <a:pt x="192" y="229"/>
                        </a:lnTo>
                        <a:lnTo>
                          <a:pt x="189" y="236"/>
                        </a:lnTo>
                        <a:lnTo>
                          <a:pt x="186" y="242"/>
                        </a:lnTo>
                        <a:lnTo>
                          <a:pt x="185" y="245"/>
                        </a:lnTo>
                        <a:lnTo>
                          <a:pt x="187" y="250"/>
                        </a:lnTo>
                        <a:lnTo>
                          <a:pt x="189" y="255"/>
                        </a:lnTo>
                        <a:lnTo>
                          <a:pt x="192" y="258"/>
                        </a:lnTo>
                        <a:lnTo>
                          <a:pt x="189" y="249"/>
                        </a:lnTo>
                        <a:lnTo>
                          <a:pt x="195" y="244"/>
                        </a:lnTo>
                        <a:lnTo>
                          <a:pt x="198" y="243"/>
                        </a:lnTo>
                        <a:lnTo>
                          <a:pt x="201" y="245"/>
                        </a:lnTo>
                        <a:lnTo>
                          <a:pt x="204" y="247"/>
                        </a:lnTo>
                        <a:lnTo>
                          <a:pt x="203" y="244"/>
                        </a:lnTo>
                        <a:lnTo>
                          <a:pt x="202" y="239"/>
                        </a:lnTo>
                        <a:lnTo>
                          <a:pt x="204" y="235"/>
                        </a:lnTo>
                        <a:lnTo>
                          <a:pt x="204" y="230"/>
                        </a:lnTo>
                        <a:lnTo>
                          <a:pt x="207" y="229"/>
                        </a:lnTo>
                        <a:lnTo>
                          <a:pt x="209" y="230"/>
                        </a:lnTo>
                        <a:lnTo>
                          <a:pt x="214" y="237"/>
                        </a:lnTo>
                        <a:lnTo>
                          <a:pt x="215" y="231"/>
                        </a:lnTo>
                        <a:lnTo>
                          <a:pt x="216" y="225"/>
                        </a:lnTo>
                        <a:lnTo>
                          <a:pt x="215" y="219"/>
                        </a:lnTo>
                        <a:lnTo>
                          <a:pt x="214" y="215"/>
                        </a:lnTo>
                        <a:lnTo>
                          <a:pt x="211" y="209"/>
                        </a:lnTo>
                        <a:lnTo>
                          <a:pt x="210" y="204"/>
                        </a:lnTo>
                        <a:lnTo>
                          <a:pt x="209" y="199"/>
                        </a:lnTo>
                        <a:lnTo>
                          <a:pt x="211" y="194"/>
                        </a:lnTo>
                        <a:lnTo>
                          <a:pt x="206" y="189"/>
                        </a:lnTo>
                        <a:lnTo>
                          <a:pt x="201" y="184"/>
                        </a:lnTo>
                        <a:lnTo>
                          <a:pt x="196" y="180"/>
                        </a:lnTo>
                        <a:lnTo>
                          <a:pt x="194" y="177"/>
                        </a:lnTo>
                        <a:lnTo>
                          <a:pt x="198" y="173"/>
                        </a:lnTo>
                        <a:lnTo>
                          <a:pt x="204" y="169"/>
                        </a:lnTo>
                        <a:lnTo>
                          <a:pt x="209" y="171"/>
                        </a:lnTo>
                        <a:lnTo>
                          <a:pt x="214" y="176"/>
                        </a:lnTo>
                        <a:lnTo>
                          <a:pt x="217" y="181"/>
                        </a:lnTo>
                        <a:lnTo>
                          <a:pt x="220" y="187"/>
                        </a:lnTo>
                        <a:lnTo>
                          <a:pt x="222" y="193"/>
                        </a:lnTo>
                        <a:lnTo>
                          <a:pt x="225" y="199"/>
                        </a:lnTo>
                        <a:lnTo>
                          <a:pt x="227" y="206"/>
                        </a:lnTo>
                        <a:lnTo>
                          <a:pt x="231" y="213"/>
                        </a:lnTo>
                        <a:lnTo>
                          <a:pt x="233" y="208"/>
                        </a:lnTo>
                        <a:lnTo>
                          <a:pt x="238" y="203"/>
                        </a:lnTo>
                        <a:lnTo>
                          <a:pt x="242" y="198"/>
                        </a:lnTo>
                        <a:lnTo>
                          <a:pt x="246" y="195"/>
                        </a:lnTo>
                        <a:lnTo>
                          <a:pt x="247" y="197"/>
                        </a:lnTo>
                        <a:lnTo>
                          <a:pt x="250" y="201"/>
                        </a:lnTo>
                        <a:lnTo>
                          <a:pt x="253" y="205"/>
                        </a:lnTo>
                        <a:lnTo>
                          <a:pt x="256" y="208"/>
                        </a:lnTo>
                        <a:lnTo>
                          <a:pt x="256" y="203"/>
                        </a:lnTo>
                        <a:lnTo>
                          <a:pt x="257" y="197"/>
                        </a:lnTo>
                        <a:lnTo>
                          <a:pt x="257" y="189"/>
                        </a:lnTo>
                        <a:lnTo>
                          <a:pt x="258" y="184"/>
                        </a:lnTo>
                        <a:lnTo>
                          <a:pt x="254" y="183"/>
                        </a:lnTo>
                        <a:lnTo>
                          <a:pt x="249" y="183"/>
                        </a:lnTo>
                        <a:lnTo>
                          <a:pt x="243" y="183"/>
                        </a:lnTo>
                        <a:lnTo>
                          <a:pt x="239" y="184"/>
                        </a:lnTo>
                        <a:lnTo>
                          <a:pt x="235" y="180"/>
                        </a:lnTo>
                        <a:lnTo>
                          <a:pt x="231" y="176"/>
                        </a:lnTo>
                        <a:lnTo>
                          <a:pt x="238" y="171"/>
                        </a:lnTo>
                        <a:lnTo>
                          <a:pt x="245" y="166"/>
                        </a:lnTo>
                        <a:lnTo>
                          <a:pt x="252" y="160"/>
                        </a:lnTo>
                        <a:lnTo>
                          <a:pt x="259" y="156"/>
                        </a:lnTo>
                        <a:lnTo>
                          <a:pt x="258" y="158"/>
                        </a:lnTo>
                        <a:lnTo>
                          <a:pt x="257" y="162"/>
                        </a:lnTo>
                        <a:lnTo>
                          <a:pt x="255" y="166"/>
                        </a:lnTo>
                        <a:lnTo>
                          <a:pt x="253" y="169"/>
                        </a:lnTo>
                        <a:lnTo>
                          <a:pt x="257" y="167"/>
                        </a:lnTo>
                        <a:lnTo>
                          <a:pt x="261" y="168"/>
                        </a:lnTo>
                        <a:lnTo>
                          <a:pt x="264" y="171"/>
                        </a:lnTo>
                        <a:lnTo>
                          <a:pt x="267" y="176"/>
                        </a:lnTo>
                        <a:lnTo>
                          <a:pt x="270" y="179"/>
                        </a:lnTo>
                        <a:lnTo>
                          <a:pt x="273" y="181"/>
                        </a:lnTo>
                        <a:lnTo>
                          <a:pt x="276" y="181"/>
                        </a:lnTo>
                        <a:lnTo>
                          <a:pt x="283" y="180"/>
                        </a:lnTo>
                        <a:lnTo>
                          <a:pt x="286" y="179"/>
                        </a:lnTo>
                        <a:lnTo>
                          <a:pt x="292" y="179"/>
                        </a:lnTo>
                        <a:lnTo>
                          <a:pt x="297" y="179"/>
                        </a:lnTo>
                        <a:lnTo>
                          <a:pt x="302" y="180"/>
                        </a:lnTo>
                        <a:lnTo>
                          <a:pt x="299" y="172"/>
                        </a:lnTo>
                        <a:lnTo>
                          <a:pt x="300" y="166"/>
                        </a:lnTo>
                        <a:lnTo>
                          <a:pt x="302" y="161"/>
                        </a:lnTo>
                        <a:lnTo>
                          <a:pt x="305" y="158"/>
                        </a:lnTo>
                        <a:lnTo>
                          <a:pt x="312" y="150"/>
                        </a:lnTo>
                        <a:lnTo>
                          <a:pt x="310" y="145"/>
                        </a:lnTo>
                        <a:lnTo>
                          <a:pt x="306" y="145"/>
                        </a:lnTo>
                        <a:lnTo>
                          <a:pt x="303" y="142"/>
                        </a:lnTo>
                        <a:lnTo>
                          <a:pt x="302" y="137"/>
                        </a:lnTo>
                        <a:lnTo>
                          <a:pt x="301" y="131"/>
                        </a:lnTo>
                        <a:lnTo>
                          <a:pt x="303" y="128"/>
                        </a:lnTo>
                        <a:lnTo>
                          <a:pt x="307" y="126"/>
                        </a:lnTo>
                        <a:lnTo>
                          <a:pt x="314" y="129"/>
                        </a:lnTo>
                        <a:lnTo>
                          <a:pt x="314" y="137"/>
                        </a:lnTo>
                        <a:lnTo>
                          <a:pt x="321" y="139"/>
                        </a:lnTo>
                        <a:lnTo>
                          <a:pt x="327" y="134"/>
                        </a:lnTo>
                        <a:lnTo>
                          <a:pt x="330" y="127"/>
                        </a:lnTo>
                        <a:lnTo>
                          <a:pt x="333" y="122"/>
                        </a:lnTo>
                        <a:lnTo>
                          <a:pt x="333" y="114"/>
                        </a:lnTo>
                        <a:lnTo>
                          <a:pt x="334" y="107"/>
                        </a:lnTo>
                        <a:lnTo>
                          <a:pt x="336" y="100"/>
                        </a:lnTo>
                        <a:lnTo>
                          <a:pt x="339" y="94"/>
                        </a:lnTo>
                        <a:lnTo>
                          <a:pt x="344" y="88"/>
                        </a:lnTo>
                        <a:lnTo>
                          <a:pt x="348" y="87"/>
                        </a:lnTo>
                        <a:lnTo>
                          <a:pt x="350" y="88"/>
                        </a:lnTo>
                        <a:lnTo>
                          <a:pt x="352" y="93"/>
                        </a:lnTo>
                        <a:lnTo>
                          <a:pt x="352" y="98"/>
                        </a:lnTo>
                        <a:lnTo>
                          <a:pt x="352" y="104"/>
                        </a:lnTo>
                        <a:lnTo>
                          <a:pt x="352" y="108"/>
                        </a:lnTo>
                        <a:lnTo>
                          <a:pt x="352" y="114"/>
                        </a:lnTo>
                        <a:lnTo>
                          <a:pt x="357" y="114"/>
                        </a:lnTo>
                        <a:lnTo>
                          <a:pt x="362" y="114"/>
                        </a:lnTo>
                        <a:lnTo>
                          <a:pt x="360" y="107"/>
                        </a:lnTo>
                        <a:lnTo>
                          <a:pt x="362" y="103"/>
                        </a:lnTo>
                        <a:lnTo>
                          <a:pt x="366" y="99"/>
                        </a:lnTo>
                        <a:lnTo>
                          <a:pt x="372" y="96"/>
                        </a:lnTo>
                        <a:lnTo>
                          <a:pt x="378" y="93"/>
                        </a:lnTo>
                        <a:lnTo>
                          <a:pt x="384" y="90"/>
                        </a:lnTo>
                        <a:lnTo>
                          <a:pt x="389" y="87"/>
                        </a:lnTo>
                        <a:lnTo>
                          <a:pt x="394" y="85"/>
                        </a:lnTo>
                        <a:lnTo>
                          <a:pt x="402" y="83"/>
                        </a:lnTo>
                        <a:lnTo>
                          <a:pt x="410" y="80"/>
                        </a:lnTo>
                        <a:lnTo>
                          <a:pt x="418" y="74"/>
                        </a:lnTo>
                        <a:lnTo>
                          <a:pt x="426" y="69"/>
                        </a:lnTo>
                        <a:lnTo>
                          <a:pt x="419" y="64"/>
                        </a:lnTo>
                        <a:lnTo>
                          <a:pt x="418" y="60"/>
                        </a:lnTo>
                        <a:lnTo>
                          <a:pt x="421" y="57"/>
                        </a:lnTo>
                        <a:lnTo>
                          <a:pt x="427" y="54"/>
                        </a:lnTo>
                        <a:lnTo>
                          <a:pt x="432" y="50"/>
                        </a:lnTo>
                        <a:lnTo>
                          <a:pt x="439" y="47"/>
                        </a:lnTo>
                        <a:lnTo>
                          <a:pt x="445" y="45"/>
                        </a:lnTo>
                        <a:lnTo>
                          <a:pt x="448" y="42"/>
                        </a:lnTo>
                        <a:lnTo>
                          <a:pt x="449" y="44"/>
                        </a:lnTo>
                        <a:lnTo>
                          <a:pt x="452" y="48"/>
                        </a:lnTo>
                        <a:lnTo>
                          <a:pt x="454" y="52"/>
                        </a:lnTo>
                        <a:lnTo>
                          <a:pt x="457" y="55"/>
                        </a:lnTo>
                        <a:lnTo>
                          <a:pt x="459" y="53"/>
                        </a:lnTo>
                        <a:lnTo>
                          <a:pt x="462" y="51"/>
                        </a:lnTo>
                        <a:lnTo>
                          <a:pt x="455" y="47"/>
                        </a:lnTo>
                        <a:lnTo>
                          <a:pt x="453" y="44"/>
                        </a:lnTo>
                        <a:lnTo>
                          <a:pt x="454" y="39"/>
                        </a:lnTo>
                        <a:lnTo>
                          <a:pt x="457" y="34"/>
                        </a:lnTo>
                        <a:lnTo>
                          <a:pt x="463" y="24"/>
                        </a:lnTo>
                        <a:lnTo>
                          <a:pt x="464" y="15"/>
                        </a:lnTo>
                        <a:lnTo>
                          <a:pt x="465" y="11"/>
                        </a:lnTo>
                        <a:lnTo>
                          <a:pt x="466" y="8"/>
                        </a:lnTo>
                        <a:lnTo>
                          <a:pt x="468" y="4"/>
                        </a:lnTo>
                        <a:lnTo>
                          <a:pt x="470" y="3"/>
                        </a:lnTo>
                        <a:lnTo>
                          <a:pt x="470" y="3"/>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rot="808800">
                    <a:off x="6131160" y="4919400"/>
                    <a:ext cx="23760" cy="18720"/>
                  </a:xfrm>
                  <a:custGeom>
                    <a:avLst/>
                    <a:gdLst/>
                    <a:ahLst/>
                    <a:rect l="l" t="t" r="r" b="b"/>
                    <a:pathLst>
                      <a:path w="27" h="21">
                        <a:moveTo>
                          <a:pt x="27" y="1"/>
                        </a:moveTo>
                        <a:lnTo>
                          <a:pt x="19" y="2"/>
                        </a:lnTo>
                        <a:lnTo>
                          <a:pt x="12" y="3"/>
                        </a:lnTo>
                        <a:lnTo>
                          <a:pt x="6" y="1"/>
                        </a:lnTo>
                        <a:lnTo>
                          <a:pt x="0" y="0"/>
                        </a:lnTo>
                        <a:lnTo>
                          <a:pt x="2" y="3"/>
                        </a:lnTo>
                        <a:lnTo>
                          <a:pt x="5" y="10"/>
                        </a:lnTo>
                        <a:lnTo>
                          <a:pt x="6" y="16"/>
                        </a:lnTo>
                        <a:lnTo>
                          <a:pt x="8" y="21"/>
                        </a:lnTo>
                        <a:lnTo>
                          <a:pt x="15" y="20"/>
                        </a:lnTo>
                        <a:lnTo>
                          <a:pt x="20" y="16"/>
                        </a:lnTo>
                        <a:lnTo>
                          <a:pt x="23" y="8"/>
                        </a:lnTo>
                        <a:lnTo>
                          <a:pt x="27" y="1"/>
                        </a:lnTo>
                        <a:lnTo>
                          <a:pt x="27" y="1"/>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444" name=""/>
                  <p:cNvSpPr/>
                  <p:nvPr/>
                </p:nvSpPr>
                <p:spPr>
                  <a:xfrm rot="808800">
                    <a:off x="6302520" y="4854240"/>
                    <a:ext cx="10440" cy="10800"/>
                  </a:xfrm>
                  <a:custGeom>
                    <a:avLst/>
                    <a:gdLst/>
                    <a:ahLst/>
                    <a:rect l="l" t="t" r="r" b="b"/>
                    <a:pathLst>
                      <a:path w="12" h="12">
                        <a:moveTo>
                          <a:pt x="3" y="0"/>
                        </a:moveTo>
                        <a:lnTo>
                          <a:pt x="8" y="3"/>
                        </a:lnTo>
                        <a:lnTo>
                          <a:pt x="12" y="10"/>
                        </a:lnTo>
                        <a:lnTo>
                          <a:pt x="12" y="11"/>
                        </a:lnTo>
                        <a:lnTo>
                          <a:pt x="11" y="12"/>
                        </a:lnTo>
                        <a:lnTo>
                          <a:pt x="7" y="11"/>
                        </a:lnTo>
                        <a:lnTo>
                          <a:pt x="0" y="8"/>
                        </a:lnTo>
                        <a:lnTo>
                          <a:pt x="1" y="2"/>
                        </a:lnTo>
                        <a:lnTo>
                          <a:pt x="3" y="0"/>
                        </a:lnTo>
                        <a:lnTo>
                          <a:pt x="3"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45" name=""/>
                  <p:cNvSpPr/>
                  <p:nvPr/>
                </p:nvSpPr>
                <p:spPr>
                  <a:xfrm rot="808800">
                    <a:off x="6323400" y="4877640"/>
                    <a:ext cx="22320" cy="47880"/>
                  </a:xfrm>
                  <a:custGeom>
                    <a:avLst/>
                    <a:gdLst/>
                    <a:ahLst/>
                    <a:rect l="l" t="t" r="r" b="b"/>
                    <a:pathLst>
                      <a:path w="25" h="53">
                        <a:moveTo>
                          <a:pt x="13" y="0"/>
                        </a:moveTo>
                        <a:lnTo>
                          <a:pt x="18" y="3"/>
                        </a:lnTo>
                        <a:lnTo>
                          <a:pt x="23" y="10"/>
                        </a:lnTo>
                        <a:lnTo>
                          <a:pt x="24" y="16"/>
                        </a:lnTo>
                        <a:lnTo>
                          <a:pt x="25" y="25"/>
                        </a:lnTo>
                        <a:lnTo>
                          <a:pt x="22" y="33"/>
                        </a:lnTo>
                        <a:lnTo>
                          <a:pt x="20" y="40"/>
                        </a:lnTo>
                        <a:lnTo>
                          <a:pt x="15" y="47"/>
                        </a:lnTo>
                        <a:lnTo>
                          <a:pt x="12" y="53"/>
                        </a:lnTo>
                        <a:lnTo>
                          <a:pt x="9" y="50"/>
                        </a:lnTo>
                        <a:lnTo>
                          <a:pt x="5" y="48"/>
                        </a:lnTo>
                        <a:lnTo>
                          <a:pt x="1" y="45"/>
                        </a:lnTo>
                        <a:lnTo>
                          <a:pt x="0" y="44"/>
                        </a:lnTo>
                        <a:lnTo>
                          <a:pt x="6" y="41"/>
                        </a:lnTo>
                        <a:lnTo>
                          <a:pt x="9" y="37"/>
                        </a:lnTo>
                        <a:lnTo>
                          <a:pt x="9" y="31"/>
                        </a:lnTo>
                        <a:lnTo>
                          <a:pt x="9" y="25"/>
                        </a:lnTo>
                        <a:lnTo>
                          <a:pt x="7" y="17"/>
                        </a:lnTo>
                        <a:lnTo>
                          <a:pt x="8" y="11"/>
                        </a:lnTo>
                        <a:lnTo>
                          <a:pt x="9" y="4"/>
                        </a:lnTo>
                        <a:lnTo>
                          <a:pt x="13" y="0"/>
                        </a:lnTo>
                        <a:lnTo>
                          <a:pt x="13"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446" name=""/>
                  <p:cNvSpPr/>
                  <p:nvPr/>
                </p:nvSpPr>
                <p:spPr>
                  <a:xfrm rot="808800">
                    <a:off x="6256440" y="4874760"/>
                    <a:ext cx="32760" cy="27720"/>
                  </a:xfrm>
                  <a:custGeom>
                    <a:avLst/>
                    <a:gdLst/>
                    <a:ahLst/>
                    <a:rect l="l" t="t" r="r" b="b"/>
                    <a:pathLst>
                      <a:path w="37" h="31">
                        <a:moveTo>
                          <a:pt x="18" y="0"/>
                        </a:moveTo>
                        <a:lnTo>
                          <a:pt x="18" y="1"/>
                        </a:lnTo>
                        <a:lnTo>
                          <a:pt x="19" y="5"/>
                        </a:lnTo>
                        <a:lnTo>
                          <a:pt x="19" y="10"/>
                        </a:lnTo>
                        <a:lnTo>
                          <a:pt x="21" y="15"/>
                        </a:lnTo>
                        <a:lnTo>
                          <a:pt x="23" y="12"/>
                        </a:lnTo>
                        <a:lnTo>
                          <a:pt x="28" y="8"/>
                        </a:lnTo>
                        <a:lnTo>
                          <a:pt x="32" y="4"/>
                        </a:lnTo>
                        <a:lnTo>
                          <a:pt x="34" y="3"/>
                        </a:lnTo>
                        <a:lnTo>
                          <a:pt x="35" y="9"/>
                        </a:lnTo>
                        <a:lnTo>
                          <a:pt x="37" y="16"/>
                        </a:lnTo>
                        <a:lnTo>
                          <a:pt x="35" y="22"/>
                        </a:lnTo>
                        <a:lnTo>
                          <a:pt x="33" y="26"/>
                        </a:lnTo>
                        <a:lnTo>
                          <a:pt x="27" y="29"/>
                        </a:lnTo>
                        <a:lnTo>
                          <a:pt x="22" y="31"/>
                        </a:lnTo>
                        <a:lnTo>
                          <a:pt x="15" y="30"/>
                        </a:lnTo>
                        <a:lnTo>
                          <a:pt x="9" y="29"/>
                        </a:lnTo>
                        <a:lnTo>
                          <a:pt x="3" y="25"/>
                        </a:lnTo>
                        <a:lnTo>
                          <a:pt x="0" y="22"/>
                        </a:lnTo>
                        <a:lnTo>
                          <a:pt x="4" y="22"/>
                        </a:lnTo>
                        <a:lnTo>
                          <a:pt x="8" y="21"/>
                        </a:lnTo>
                        <a:lnTo>
                          <a:pt x="9" y="17"/>
                        </a:lnTo>
                        <a:lnTo>
                          <a:pt x="10" y="13"/>
                        </a:lnTo>
                        <a:lnTo>
                          <a:pt x="10" y="8"/>
                        </a:lnTo>
                        <a:lnTo>
                          <a:pt x="11" y="3"/>
                        </a:lnTo>
                        <a:lnTo>
                          <a:pt x="13" y="1"/>
                        </a:lnTo>
                        <a:lnTo>
                          <a:pt x="18" y="0"/>
                        </a:lnTo>
                        <a:lnTo>
                          <a:pt x="18"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447" name=""/>
                  <p:cNvSpPr/>
                  <p:nvPr/>
                </p:nvSpPr>
                <p:spPr>
                  <a:xfrm rot="808800">
                    <a:off x="6228000" y="4875120"/>
                    <a:ext cx="7560" cy="15840"/>
                  </a:xfrm>
                  <a:custGeom>
                    <a:avLst/>
                    <a:gdLst/>
                    <a:ahLst/>
                    <a:rect l="l" t="t" r="r" b="b"/>
                    <a:pathLst>
                      <a:path w="9" h="18">
                        <a:moveTo>
                          <a:pt x="5" y="0"/>
                        </a:moveTo>
                        <a:lnTo>
                          <a:pt x="8" y="6"/>
                        </a:lnTo>
                        <a:lnTo>
                          <a:pt x="9" y="11"/>
                        </a:lnTo>
                        <a:lnTo>
                          <a:pt x="7" y="15"/>
                        </a:lnTo>
                        <a:lnTo>
                          <a:pt x="5" y="18"/>
                        </a:lnTo>
                        <a:lnTo>
                          <a:pt x="2" y="18"/>
                        </a:lnTo>
                        <a:lnTo>
                          <a:pt x="0" y="16"/>
                        </a:lnTo>
                        <a:lnTo>
                          <a:pt x="0" y="12"/>
                        </a:lnTo>
                        <a:lnTo>
                          <a:pt x="4" y="7"/>
                        </a:lnTo>
                        <a:lnTo>
                          <a:pt x="4" y="3"/>
                        </a:lnTo>
                        <a:lnTo>
                          <a:pt x="5" y="0"/>
                        </a:lnTo>
                        <a:lnTo>
                          <a:pt x="5"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48" name=""/>
                  <p:cNvSpPr/>
                  <p:nvPr/>
                </p:nvSpPr>
                <p:spPr>
                  <a:xfrm rot="808800">
                    <a:off x="6191280" y="4867920"/>
                    <a:ext cx="7200" cy="13320"/>
                  </a:xfrm>
                  <a:custGeom>
                    <a:avLst/>
                    <a:gdLst/>
                    <a:ahLst/>
                    <a:rect l="l" t="t" r="r" b="b"/>
                    <a:pathLst>
                      <a:path w="8" h="15">
                        <a:moveTo>
                          <a:pt x="3" y="0"/>
                        </a:moveTo>
                        <a:lnTo>
                          <a:pt x="6" y="0"/>
                        </a:lnTo>
                        <a:lnTo>
                          <a:pt x="8" y="3"/>
                        </a:lnTo>
                        <a:lnTo>
                          <a:pt x="7" y="8"/>
                        </a:lnTo>
                        <a:lnTo>
                          <a:pt x="7" y="12"/>
                        </a:lnTo>
                        <a:lnTo>
                          <a:pt x="5" y="14"/>
                        </a:lnTo>
                        <a:lnTo>
                          <a:pt x="3" y="15"/>
                        </a:lnTo>
                        <a:lnTo>
                          <a:pt x="0" y="12"/>
                        </a:lnTo>
                        <a:lnTo>
                          <a:pt x="0" y="6"/>
                        </a:lnTo>
                        <a:lnTo>
                          <a:pt x="1" y="2"/>
                        </a:lnTo>
                        <a:lnTo>
                          <a:pt x="3" y="0"/>
                        </a:lnTo>
                        <a:lnTo>
                          <a:pt x="3" y="0"/>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449" name=""/>
                  <p:cNvSpPr/>
                  <p:nvPr/>
                </p:nvSpPr>
                <p:spPr>
                  <a:xfrm rot="808800">
                    <a:off x="6166440" y="4872960"/>
                    <a:ext cx="5040" cy="14040"/>
                  </a:xfrm>
                  <a:custGeom>
                    <a:avLst/>
                    <a:gdLst/>
                    <a:ahLst/>
                    <a:rect l="l" t="t" r="r" b="b"/>
                    <a:pathLst>
                      <a:path w="6" h="16">
                        <a:moveTo>
                          <a:pt x="1" y="0"/>
                        </a:moveTo>
                        <a:lnTo>
                          <a:pt x="4" y="0"/>
                        </a:lnTo>
                        <a:lnTo>
                          <a:pt x="6" y="3"/>
                        </a:lnTo>
                        <a:lnTo>
                          <a:pt x="5" y="7"/>
                        </a:lnTo>
                        <a:lnTo>
                          <a:pt x="5" y="12"/>
                        </a:lnTo>
                        <a:lnTo>
                          <a:pt x="3" y="15"/>
                        </a:lnTo>
                        <a:lnTo>
                          <a:pt x="1" y="16"/>
                        </a:lnTo>
                        <a:lnTo>
                          <a:pt x="0" y="13"/>
                        </a:lnTo>
                        <a:lnTo>
                          <a:pt x="0" y="6"/>
                        </a:lnTo>
                        <a:lnTo>
                          <a:pt x="0" y="2"/>
                        </a:lnTo>
                        <a:lnTo>
                          <a:pt x="1" y="0"/>
                        </a:lnTo>
                        <a:lnTo>
                          <a:pt x="1" y="0"/>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450" name=""/>
                  <p:cNvSpPr/>
                  <p:nvPr/>
                </p:nvSpPr>
                <p:spPr>
                  <a:xfrm rot="808800">
                    <a:off x="6311520" y="4938840"/>
                    <a:ext cx="31680" cy="34920"/>
                  </a:xfrm>
                  <a:custGeom>
                    <a:avLst/>
                    <a:gdLst/>
                    <a:ahLst/>
                    <a:rect l="l" t="t" r="r" b="b"/>
                    <a:pathLst>
                      <a:path w="36" h="39">
                        <a:moveTo>
                          <a:pt x="0" y="0"/>
                        </a:moveTo>
                        <a:lnTo>
                          <a:pt x="4" y="5"/>
                        </a:lnTo>
                        <a:lnTo>
                          <a:pt x="9" y="9"/>
                        </a:lnTo>
                        <a:lnTo>
                          <a:pt x="14" y="13"/>
                        </a:lnTo>
                        <a:lnTo>
                          <a:pt x="21" y="18"/>
                        </a:lnTo>
                        <a:lnTo>
                          <a:pt x="25" y="22"/>
                        </a:lnTo>
                        <a:lnTo>
                          <a:pt x="30" y="26"/>
                        </a:lnTo>
                        <a:lnTo>
                          <a:pt x="33" y="32"/>
                        </a:lnTo>
                        <a:lnTo>
                          <a:pt x="36" y="39"/>
                        </a:lnTo>
                        <a:lnTo>
                          <a:pt x="31" y="33"/>
                        </a:lnTo>
                        <a:lnTo>
                          <a:pt x="25" y="29"/>
                        </a:lnTo>
                        <a:lnTo>
                          <a:pt x="18" y="25"/>
                        </a:lnTo>
                        <a:lnTo>
                          <a:pt x="13" y="22"/>
                        </a:lnTo>
                        <a:lnTo>
                          <a:pt x="7" y="17"/>
                        </a:lnTo>
                        <a:lnTo>
                          <a:pt x="3" y="13"/>
                        </a:lnTo>
                        <a:lnTo>
                          <a:pt x="0" y="6"/>
                        </a:lnTo>
                        <a:lnTo>
                          <a:pt x="0" y="0"/>
                        </a:lnTo>
                        <a:lnTo>
                          <a:pt x="0"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51" name=""/>
                  <p:cNvSpPr/>
                  <p:nvPr/>
                </p:nvSpPr>
                <p:spPr>
                  <a:xfrm rot="808800">
                    <a:off x="6502680" y="4983120"/>
                    <a:ext cx="3600" cy="2520"/>
                  </a:xfrm>
                  <a:custGeom>
                    <a:avLst/>
                    <a:gdLst/>
                    <a:ahLst/>
                    <a:rect l="l" t="t" r="r" b="b"/>
                    <a:pathLst>
                      <a:path w="4" h="3">
                        <a:moveTo>
                          <a:pt x="2" y="0"/>
                        </a:moveTo>
                        <a:lnTo>
                          <a:pt x="4" y="3"/>
                        </a:lnTo>
                        <a:lnTo>
                          <a:pt x="2" y="3"/>
                        </a:lnTo>
                        <a:lnTo>
                          <a:pt x="0" y="1"/>
                        </a:lnTo>
                        <a:lnTo>
                          <a:pt x="2" y="0"/>
                        </a:lnTo>
                        <a:lnTo>
                          <a:pt x="2"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52" name=""/>
                  <p:cNvSpPr/>
                  <p:nvPr/>
                </p:nvSpPr>
                <p:spPr>
                  <a:xfrm rot="808800">
                    <a:off x="6189840" y="4909320"/>
                    <a:ext cx="6120" cy="13320"/>
                  </a:xfrm>
                  <a:custGeom>
                    <a:avLst/>
                    <a:gdLst/>
                    <a:ahLst/>
                    <a:rect l="l" t="t" r="r" b="b"/>
                    <a:pathLst>
                      <a:path w="7" h="15">
                        <a:moveTo>
                          <a:pt x="3" y="0"/>
                        </a:moveTo>
                        <a:lnTo>
                          <a:pt x="5" y="0"/>
                        </a:lnTo>
                        <a:lnTo>
                          <a:pt x="7" y="3"/>
                        </a:lnTo>
                        <a:lnTo>
                          <a:pt x="6" y="7"/>
                        </a:lnTo>
                        <a:lnTo>
                          <a:pt x="6" y="12"/>
                        </a:lnTo>
                        <a:lnTo>
                          <a:pt x="4" y="14"/>
                        </a:lnTo>
                        <a:lnTo>
                          <a:pt x="3" y="15"/>
                        </a:lnTo>
                        <a:lnTo>
                          <a:pt x="0" y="12"/>
                        </a:lnTo>
                        <a:lnTo>
                          <a:pt x="0" y="5"/>
                        </a:lnTo>
                        <a:lnTo>
                          <a:pt x="0" y="2"/>
                        </a:lnTo>
                        <a:lnTo>
                          <a:pt x="3" y="0"/>
                        </a:lnTo>
                        <a:lnTo>
                          <a:pt x="3" y="0"/>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453" name=""/>
                  <p:cNvSpPr/>
                  <p:nvPr/>
                </p:nvSpPr>
                <p:spPr>
                  <a:xfrm rot="808800">
                    <a:off x="6478920" y="4980600"/>
                    <a:ext cx="5040" cy="14400"/>
                  </a:xfrm>
                  <a:custGeom>
                    <a:avLst/>
                    <a:gdLst/>
                    <a:ahLst/>
                    <a:rect l="l" t="t" r="r" b="b"/>
                    <a:pathLst>
                      <a:path w="6" h="16">
                        <a:moveTo>
                          <a:pt x="4" y="0"/>
                        </a:moveTo>
                        <a:lnTo>
                          <a:pt x="5" y="6"/>
                        </a:lnTo>
                        <a:lnTo>
                          <a:pt x="6" y="11"/>
                        </a:lnTo>
                        <a:lnTo>
                          <a:pt x="5" y="14"/>
                        </a:lnTo>
                        <a:lnTo>
                          <a:pt x="4" y="16"/>
                        </a:lnTo>
                        <a:lnTo>
                          <a:pt x="2" y="15"/>
                        </a:lnTo>
                        <a:lnTo>
                          <a:pt x="1" y="13"/>
                        </a:lnTo>
                        <a:lnTo>
                          <a:pt x="0" y="9"/>
                        </a:lnTo>
                        <a:lnTo>
                          <a:pt x="1" y="5"/>
                        </a:lnTo>
                        <a:lnTo>
                          <a:pt x="2" y="2"/>
                        </a:lnTo>
                        <a:lnTo>
                          <a:pt x="4" y="0"/>
                        </a:lnTo>
                        <a:lnTo>
                          <a:pt x="4"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54" name=""/>
                  <p:cNvSpPr/>
                  <p:nvPr/>
                </p:nvSpPr>
                <p:spPr>
                  <a:xfrm rot="808800">
                    <a:off x="6112440" y="4898880"/>
                    <a:ext cx="7200" cy="12600"/>
                  </a:xfrm>
                  <a:custGeom>
                    <a:avLst/>
                    <a:gdLst/>
                    <a:ahLst/>
                    <a:rect l="l" t="t" r="r" b="b"/>
                    <a:pathLst>
                      <a:path w="8" h="14">
                        <a:moveTo>
                          <a:pt x="3" y="0"/>
                        </a:moveTo>
                        <a:lnTo>
                          <a:pt x="6" y="0"/>
                        </a:lnTo>
                        <a:lnTo>
                          <a:pt x="8" y="3"/>
                        </a:lnTo>
                        <a:lnTo>
                          <a:pt x="7" y="7"/>
                        </a:lnTo>
                        <a:lnTo>
                          <a:pt x="7" y="12"/>
                        </a:lnTo>
                        <a:lnTo>
                          <a:pt x="5" y="13"/>
                        </a:lnTo>
                        <a:lnTo>
                          <a:pt x="3" y="14"/>
                        </a:lnTo>
                        <a:lnTo>
                          <a:pt x="0" y="12"/>
                        </a:lnTo>
                        <a:lnTo>
                          <a:pt x="0" y="6"/>
                        </a:lnTo>
                        <a:lnTo>
                          <a:pt x="0" y="2"/>
                        </a:lnTo>
                        <a:lnTo>
                          <a:pt x="3" y="0"/>
                        </a:lnTo>
                        <a:lnTo>
                          <a:pt x="3" y="0"/>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55" name=""/>
                  <p:cNvSpPr/>
                  <p:nvPr/>
                </p:nvSpPr>
                <p:spPr>
                  <a:xfrm rot="808800">
                    <a:off x="6455160" y="4995360"/>
                    <a:ext cx="23760" cy="24120"/>
                  </a:xfrm>
                  <a:custGeom>
                    <a:avLst/>
                    <a:gdLst/>
                    <a:ahLst/>
                    <a:rect l="l" t="t" r="r" b="b"/>
                    <a:pathLst>
                      <a:path w="27" h="27">
                        <a:moveTo>
                          <a:pt x="10" y="0"/>
                        </a:moveTo>
                        <a:lnTo>
                          <a:pt x="15" y="4"/>
                        </a:lnTo>
                        <a:lnTo>
                          <a:pt x="22" y="6"/>
                        </a:lnTo>
                        <a:lnTo>
                          <a:pt x="24" y="6"/>
                        </a:lnTo>
                        <a:lnTo>
                          <a:pt x="27" y="9"/>
                        </a:lnTo>
                        <a:lnTo>
                          <a:pt x="27" y="13"/>
                        </a:lnTo>
                        <a:lnTo>
                          <a:pt x="27" y="21"/>
                        </a:lnTo>
                        <a:lnTo>
                          <a:pt x="21" y="25"/>
                        </a:lnTo>
                        <a:lnTo>
                          <a:pt x="15" y="27"/>
                        </a:lnTo>
                        <a:lnTo>
                          <a:pt x="7" y="27"/>
                        </a:lnTo>
                        <a:lnTo>
                          <a:pt x="0" y="26"/>
                        </a:lnTo>
                        <a:lnTo>
                          <a:pt x="2" y="18"/>
                        </a:lnTo>
                        <a:lnTo>
                          <a:pt x="4" y="12"/>
                        </a:lnTo>
                        <a:lnTo>
                          <a:pt x="5" y="4"/>
                        </a:lnTo>
                        <a:lnTo>
                          <a:pt x="10" y="0"/>
                        </a:lnTo>
                        <a:lnTo>
                          <a:pt x="10"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56" name=""/>
                  <p:cNvSpPr/>
                  <p:nvPr/>
                </p:nvSpPr>
                <p:spPr>
                  <a:xfrm rot="808800">
                    <a:off x="6060600" y="4909320"/>
                    <a:ext cx="29520" cy="29520"/>
                  </a:xfrm>
                  <a:custGeom>
                    <a:avLst/>
                    <a:gdLst/>
                    <a:ahLst/>
                    <a:rect l="l" t="t" r="r" b="b"/>
                    <a:pathLst>
                      <a:path w="33" h="33">
                        <a:moveTo>
                          <a:pt x="15" y="0"/>
                        </a:moveTo>
                        <a:lnTo>
                          <a:pt x="17" y="0"/>
                        </a:lnTo>
                        <a:lnTo>
                          <a:pt x="22" y="1"/>
                        </a:lnTo>
                        <a:lnTo>
                          <a:pt x="27" y="1"/>
                        </a:lnTo>
                        <a:lnTo>
                          <a:pt x="31" y="2"/>
                        </a:lnTo>
                        <a:lnTo>
                          <a:pt x="33" y="8"/>
                        </a:lnTo>
                        <a:lnTo>
                          <a:pt x="33" y="10"/>
                        </a:lnTo>
                        <a:lnTo>
                          <a:pt x="31" y="12"/>
                        </a:lnTo>
                        <a:lnTo>
                          <a:pt x="29" y="13"/>
                        </a:lnTo>
                        <a:lnTo>
                          <a:pt x="22" y="14"/>
                        </a:lnTo>
                        <a:lnTo>
                          <a:pt x="17" y="18"/>
                        </a:lnTo>
                        <a:lnTo>
                          <a:pt x="22" y="25"/>
                        </a:lnTo>
                        <a:lnTo>
                          <a:pt x="18" y="30"/>
                        </a:lnTo>
                        <a:lnTo>
                          <a:pt x="14" y="31"/>
                        </a:lnTo>
                        <a:lnTo>
                          <a:pt x="10" y="32"/>
                        </a:lnTo>
                        <a:lnTo>
                          <a:pt x="6" y="32"/>
                        </a:lnTo>
                        <a:lnTo>
                          <a:pt x="3" y="33"/>
                        </a:lnTo>
                        <a:lnTo>
                          <a:pt x="0" y="23"/>
                        </a:lnTo>
                        <a:lnTo>
                          <a:pt x="3" y="15"/>
                        </a:lnTo>
                        <a:lnTo>
                          <a:pt x="8" y="7"/>
                        </a:lnTo>
                        <a:lnTo>
                          <a:pt x="15" y="0"/>
                        </a:lnTo>
                        <a:lnTo>
                          <a:pt x="15" y="0"/>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457" name=""/>
                  <p:cNvSpPr/>
                  <p:nvPr/>
                </p:nvSpPr>
                <p:spPr>
                  <a:xfrm rot="808800">
                    <a:off x="6441120" y="5000040"/>
                    <a:ext cx="2520" cy="7920"/>
                  </a:xfrm>
                  <a:custGeom>
                    <a:avLst/>
                    <a:gdLst/>
                    <a:ahLst/>
                    <a:rect l="l" t="t" r="r" b="b"/>
                    <a:pathLst>
                      <a:path w="3" h="9">
                        <a:moveTo>
                          <a:pt x="3" y="0"/>
                        </a:moveTo>
                        <a:lnTo>
                          <a:pt x="2" y="7"/>
                        </a:lnTo>
                        <a:lnTo>
                          <a:pt x="1" y="9"/>
                        </a:lnTo>
                        <a:lnTo>
                          <a:pt x="0" y="7"/>
                        </a:lnTo>
                        <a:lnTo>
                          <a:pt x="3" y="0"/>
                        </a:lnTo>
                        <a:lnTo>
                          <a:pt x="3"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58" name=""/>
                  <p:cNvSpPr/>
                  <p:nvPr/>
                </p:nvSpPr>
                <p:spPr>
                  <a:xfrm rot="808800">
                    <a:off x="6417000" y="5017680"/>
                    <a:ext cx="12240" cy="12240"/>
                  </a:xfrm>
                  <a:custGeom>
                    <a:avLst/>
                    <a:gdLst/>
                    <a:ahLst/>
                    <a:rect l="l" t="t" r="r" b="b"/>
                    <a:pathLst>
                      <a:path w="14" h="14">
                        <a:moveTo>
                          <a:pt x="0" y="0"/>
                        </a:moveTo>
                        <a:lnTo>
                          <a:pt x="7" y="1"/>
                        </a:lnTo>
                        <a:lnTo>
                          <a:pt x="14" y="6"/>
                        </a:lnTo>
                        <a:lnTo>
                          <a:pt x="14" y="8"/>
                        </a:lnTo>
                        <a:lnTo>
                          <a:pt x="14" y="11"/>
                        </a:lnTo>
                        <a:lnTo>
                          <a:pt x="10" y="13"/>
                        </a:lnTo>
                        <a:lnTo>
                          <a:pt x="3" y="14"/>
                        </a:lnTo>
                        <a:lnTo>
                          <a:pt x="1" y="9"/>
                        </a:lnTo>
                        <a:lnTo>
                          <a:pt x="1" y="5"/>
                        </a:lnTo>
                        <a:lnTo>
                          <a:pt x="0" y="2"/>
                        </a:lnTo>
                        <a:lnTo>
                          <a:pt x="0" y="0"/>
                        </a:lnTo>
                        <a:lnTo>
                          <a:pt x="0"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459" name=""/>
                  <p:cNvSpPr/>
                  <p:nvPr/>
                </p:nvSpPr>
                <p:spPr>
                  <a:xfrm rot="808800">
                    <a:off x="6014880" y="4975200"/>
                    <a:ext cx="5040" cy="9720"/>
                  </a:xfrm>
                  <a:custGeom>
                    <a:avLst/>
                    <a:gdLst/>
                    <a:ahLst/>
                    <a:rect l="l" t="t" r="r" b="b"/>
                    <a:pathLst>
                      <a:path w="6" h="11">
                        <a:moveTo>
                          <a:pt x="4" y="0"/>
                        </a:moveTo>
                        <a:lnTo>
                          <a:pt x="5" y="4"/>
                        </a:lnTo>
                        <a:lnTo>
                          <a:pt x="6" y="8"/>
                        </a:lnTo>
                        <a:lnTo>
                          <a:pt x="4" y="10"/>
                        </a:lnTo>
                        <a:lnTo>
                          <a:pt x="3" y="11"/>
                        </a:lnTo>
                        <a:lnTo>
                          <a:pt x="0" y="8"/>
                        </a:lnTo>
                        <a:lnTo>
                          <a:pt x="4" y="0"/>
                        </a:lnTo>
                        <a:lnTo>
                          <a:pt x="4"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0" name=""/>
                  <p:cNvSpPr/>
                  <p:nvPr/>
                </p:nvSpPr>
                <p:spPr>
                  <a:xfrm rot="808800">
                    <a:off x="5882400" y="4950000"/>
                    <a:ext cx="4320" cy="3240"/>
                  </a:xfrm>
                  <a:custGeom>
                    <a:avLst/>
                    <a:gdLst/>
                    <a:ahLst/>
                    <a:rect l="l" t="t" r="r" b="b"/>
                    <a:pathLst>
                      <a:path w="5" h="4">
                        <a:moveTo>
                          <a:pt x="2" y="0"/>
                        </a:moveTo>
                        <a:lnTo>
                          <a:pt x="5" y="2"/>
                        </a:lnTo>
                        <a:lnTo>
                          <a:pt x="2" y="4"/>
                        </a:lnTo>
                        <a:lnTo>
                          <a:pt x="0" y="3"/>
                        </a:lnTo>
                        <a:lnTo>
                          <a:pt x="2" y="0"/>
                        </a:lnTo>
                        <a:lnTo>
                          <a:pt x="2"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61" name=""/>
                  <p:cNvSpPr/>
                  <p:nvPr/>
                </p:nvSpPr>
                <p:spPr>
                  <a:xfrm rot="808800">
                    <a:off x="5920560" y="4961880"/>
                    <a:ext cx="7200" cy="12600"/>
                  </a:xfrm>
                  <a:custGeom>
                    <a:avLst/>
                    <a:gdLst/>
                    <a:ahLst/>
                    <a:rect l="l" t="t" r="r" b="b"/>
                    <a:pathLst>
                      <a:path w="8" h="14">
                        <a:moveTo>
                          <a:pt x="3" y="0"/>
                        </a:moveTo>
                        <a:lnTo>
                          <a:pt x="6" y="0"/>
                        </a:lnTo>
                        <a:lnTo>
                          <a:pt x="8" y="3"/>
                        </a:lnTo>
                        <a:lnTo>
                          <a:pt x="7" y="7"/>
                        </a:lnTo>
                        <a:lnTo>
                          <a:pt x="7" y="11"/>
                        </a:lnTo>
                        <a:lnTo>
                          <a:pt x="5" y="13"/>
                        </a:lnTo>
                        <a:lnTo>
                          <a:pt x="3" y="14"/>
                        </a:lnTo>
                        <a:lnTo>
                          <a:pt x="0" y="11"/>
                        </a:lnTo>
                        <a:lnTo>
                          <a:pt x="0" y="6"/>
                        </a:lnTo>
                        <a:lnTo>
                          <a:pt x="0" y="2"/>
                        </a:lnTo>
                        <a:lnTo>
                          <a:pt x="3" y="0"/>
                        </a:lnTo>
                        <a:lnTo>
                          <a:pt x="3" y="0"/>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62" name=""/>
                  <p:cNvSpPr/>
                  <p:nvPr/>
                </p:nvSpPr>
                <p:spPr>
                  <a:xfrm rot="808800">
                    <a:off x="5931360" y="4980600"/>
                    <a:ext cx="7560" cy="23400"/>
                  </a:xfrm>
                  <a:custGeom>
                    <a:avLst/>
                    <a:gdLst/>
                    <a:ahLst/>
                    <a:rect l="l" t="t" r="r" b="b"/>
                    <a:pathLst>
                      <a:path w="9" h="26">
                        <a:moveTo>
                          <a:pt x="2" y="0"/>
                        </a:moveTo>
                        <a:lnTo>
                          <a:pt x="5" y="0"/>
                        </a:lnTo>
                        <a:lnTo>
                          <a:pt x="8" y="5"/>
                        </a:lnTo>
                        <a:lnTo>
                          <a:pt x="9" y="11"/>
                        </a:lnTo>
                        <a:lnTo>
                          <a:pt x="9" y="18"/>
                        </a:lnTo>
                        <a:lnTo>
                          <a:pt x="7" y="23"/>
                        </a:lnTo>
                        <a:lnTo>
                          <a:pt x="5" y="26"/>
                        </a:lnTo>
                        <a:lnTo>
                          <a:pt x="2" y="25"/>
                        </a:lnTo>
                        <a:lnTo>
                          <a:pt x="0" y="19"/>
                        </a:lnTo>
                        <a:lnTo>
                          <a:pt x="0" y="13"/>
                        </a:lnTo>
                        <a:lnTo>
                          <a:pt x="0" y="8"/>
                        </a:lnTo>
                        <a:lnTo>
                          <a:pt x="0" y="2"/>
                        </a:lnTo>
                        <a:lnTo>
                          <a:pt x="2" y="0"/>
                        </a:lnTo>
                        <a:lnTo>
                          <a:pt x="2" y="0"/>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463" name=""/>
                  <p:cNvSpPr/>
                  <p:nvPr/>
                </p:nvSpPr>
                <p:spPr>
                  <a:xfrm rot="808800">
                    <a:off x="5878080" y="4991400"/>
                    <a:ext cx="11520" cy="18000"/>
                  </a:xfrm>
                  <a:custGeom>
                    <a:avLst/>
                    <a:gdLst/>
                    <a:ahLst/>
                    <a:rect l="l" t="t" r="r" b="b"/>
                    <a:pathLst>
                      <a:path w="13" h="20">
                        <a:moveTo>
                          <a:pt x="8" y="0"/>
                        </a:moveTo>
                        <a:lnTo>
                          <a:pt x="11" y="1"/>
                        </a:lnTo>
                        <a:lnTo>
                          <a:pt x="13" y="4"/>
                        </a:lnTo>
                        <a:lnTo>
                          <a:pt x="13" y="8"/>
                        </a:lnTo>
                        <a:lnTo>
                          <a:pt x="12" y="14"/>
                        </a:lnTo>
                        <a:lnTo>
                          <a:pt x="10" y="17"/>
                        </a:lnTo>
                        <a:lnTo>
                          <a:pt x="6" y="20"/>
                        </a:lnTo>
                        <a:lnTo>
                          <a:pt x="2" y="18"/>
                        </a:lnTo>
                        <a:lnTo>
                          <a:pt x="0" y="14"/>
                        </a:lnTo>
                        <a:lnTo>
                          <a:pt x="0" y="9"/>
                        </a:lnTo>
                        <a:lnTo>
                          <a:pt x="2" y="6"/>
                        </a:lnTo>
                        <a:lnTo>
                          <a:pt x="5" y="2"/>
                        </a:lnTo>
                        <a:lnTo>
                          <a:pt x="8" y="0"/>
                        </a:lnTo>
                        <a:lnTo>
                          <a:pt x="8" y="0"/>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64" name=""/>
                  <p:cNvSpPr/>
                  <p:nvPr/>
                </p:nvSpPr>
                <p:spPr>
                  <a:xfrm rot="808800">
                    <a:off x="5826600" y="5007600"/>
                    <a:ext cx="54360" cy="34200"/>
                  </a:xfrm>
                  <a:custGeom>
                    <a:avLst/>
                    <a:gdLst/>
                    <a:ahLst/>
                    <a:rect l="l" t="t" r="r" b="b"/>
                    <a:pathLst>
                      <a:path w="61" h="38">
                        <a:moveTo>
                          <a:pt x="49" y="0"/>
                        </a:moveTo>
                        <a:lnTo>
                          <a:pt x="53" y="0"/>
                        </a:lnTo>
                        <a:lnTo>
                          <a:pt x="57" y="2"/>
                        </a:lnTo>
                        <a:lnTo>
                          <a:pt x="60" y="4"/>
                        </a:lnTo>
                        <a:lnTo>
                          <a:pt x="61" y="8"/>
                        </a:lnTo>
                        <a:lnTo>
                          <a:pt x="61" y="16"/>
                        </a:lnTo>
                        <a:lnTo>
                          <a:pt x="58" y="24"/>
                        </a:lnTo>
                        <a:lnTo>
                          <a:pt x="51" y="31"/>
                        </a:lnTo>
                        <a:lnTo>
                          <a:pt x="46" y="37"/>
                        </a:lnTo>
                        <a:lnTo>
                          <a:pt x="37" y="38"/>
                        </a:lnTo>
                        <a:lnTo>
                          <a:pt x="29" y="37"/>
                        </a:lnTo>
                        <a:lnTo>
                          <a:pt x="20" y="37"/>
                        </a:lnTo>
                        <a:lnTo>
                          <a:pt x="13" y="34"/>
                        </a:lnTo>
                        <a:lnTo>
                          <a:pt x="7" y="29"/>
                        </a:lnTo>
                        <a:lnTo>
                          <a:pt x="0" y="27"/>
                        </a:lnTo>
                        <a:lnTo>
                          <a:pt x="0" y="23"/>
                        </a:lnTo>
                        <a:lnTo>
                          <a:pt x="2" y="19"/>
                        </a:lnTo>
                        <a:lnTo>
                          <a:pt x="5" y="16"/>
                        </a:lnTo>
                        <a:lnTo>
                          <a:pt x="7" y="14"/>
                        </a:lnTo>
                        <a:lnTo>
                          <a:pt x="11" y="19"/>
                        </a:lnTo>
                        <a:lnTo>
                          <a:pt x="16" y="22"/>
                        </a:lnTo>
                        <a:lnTo>
                          <a:pt x="24" y="24"/>
                        </a:lnTo>
                        <a:lnTo>
                          <a:pt x="31" y="25"/>
                        </a:lnTo>
                        <a:lnTo>
                          <a:pt x="37" y="23"/>
                        </a:lnTo>
                        <a:lnTo>
                          <a:pt x="42" y="19"/>
                        </a:lnTo>
                        <a:lnTo>
                          <a:pt x="46" y="14"/>
                        </a:lnTo>
                        <a:lnTo>
                          <a:pt x="47" y="6"/>
                        </a:lnTo>
                        <a:lnTo>
                          <a:pt x="47" y="2"/>
                        </a:lnTo>
                        <a:lnTo>
                          <a:pt x="49" y="0"/>
                        </a:lnTo>
                        <a:lnTo>
                          <a:pt x="49" y="0"/>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465" name=""/>
                  <p:cNvSpPr/>
                  <p:nvPr/>
                </p:nvSpPr>
                <p:spPr>
                  <a:xfrm rot="808800">
                    <a:off x="5910120" y="5043600"/>
                    <a:ext cx="6840" cy="14400"/>
                  </a:xfrm>
                  <a:custGeom>
                    <a:avLst/>
                    <a:gdLst/>
                    <a:ahLst/>
                    <a:rect l="l" t="t" r="r" b="b"/>
                    <a:pathLst>
                      <a:path w="8" h="16">
                        <a:moveTo>
                          <a:pt x="3" y="0"/>
                        </a:moveTo>
                        <a:lnTo>
                          <a:pt x="6" y="0"/>
                        </a:lnTo>
                        <a:lnTo>
                          <a:pt x="8" y="4"/>
                        </a:lnTo>
                        <a:lnTo>
                          <a:pt x="7" y="8"/>
                        </a:lnTo>
                        <a:lnTo>
                          <a:pt x="7" y="13"/>
                        </a:lnTo>
                        <a:lnTo>
                          <a:pt x="5" y="15"/>
                        </a:lnTo>
                        <a:lnTo>
                          <a:pt x="3" y="16"/>
                        </a:lnTo>
                        <a:lnTo>
                          <a:pt x="0" y="14"/>
                        </a:lnTo>
                        <a:lnTo>
                          <a:pt x="0" y="7"/>
                        </a:lnTo>
                        <a:lnTo>
                          <a:pt x="0" y="2"/>
                        </a:lnTo>
                        <a:lnTo>
                          <a:pt x="3" y="0"/>
                        </a:lnTo>
                        <a:lnTo>
                          <a:pt x="3" y="0"/>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66" name=""/>
                  <p:cNvSpPr/>
                  <p:nvPr/>
                </p:nvSpPr>
                <p:spPr>
                  <a:xfrm rot="808800">
                    <a:off x="6087600" y="4962600"/>
                    <a:ext cx="11520" cy="16920"/>
                  </a:xfrm>
                  <a:custGeom>
                    <a:avLst/>
                    <a:gdLst/>
                    <a:ahLst/>
                    <a:rect l="l" t="t" r="r" b="b"/>
                    <a:pathLst>
                      <a:path w="13" h="19">
                        <a:moveTo>
                          <a:pt x="3" y="0"/>
                        </a:moveTo>
                        <a:lnTo>
                          <a:pt x="7" y="1"/>
                        </a:lnTo>
                        <a:lnTo>
                          <a:pt x="11" y="5"/>
                        </a:lnTo>
                        <a:lnTo>
                          <a:pt x="12" y="10"/>
                        </a:lnTo>
                        <a:lnTo>
                          <a:pt x="13" y="14"/>
                        </a:lnTo>
                        <a:lnTo>
                          <a:pt x="11" y="17"/>
                        </a:lnTo>
                        <a:lnTo>
                          <a:pt x="8" y="19"/>
                        </a:lnTo>
                        <a:lnTo>
                          <a:pt x="5" y="17"/>
                        </a:lnTo>
                        <a:lnTo>
                          <a:pt x="0" y="12"/>
                        </a:lnTo>
                        <a:lnTo>
                          <a:pt x="0" y="8"/>
                        </a:lnTo>
                        <a:lnTo>
                          <a:pt x="1" y="4"/>
                        </a:lnTo>
                        <a:lnTo>
                          <a:pt x="2" y="1"/>
                        </a:lnTo>
                        <a:lnTo>
                          <a:pt x="3" y="0"/>
                        </a:lnTo>
                        <a:lnTo>
                          <a:pt x="3" y="0"/>
                        </a:lnTo>
                        <a:close/>
                      </a:path>
                    </a:pathLst>
                  </a:custGeom>
                  <a:solidFill>
                    <a:srgbClr val="fac7c7"/>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467" name=""/>
                  <p:cNvSpPr/>
                  <p:nvPr/>
                </p:nvSpPr>
                <p:spPr>
                  <a:xfrm rot="808800">
                    <a:off x="6198120" y="4928760"/>
                    <a:ext cx="14040" cy="15840"/>
                  </a:xfrm>
                  <a:custGeom>
                    <a:avLst/>
                    <a:gdLst/>
                    <a:ahLst/>
                    <a:rect l="l" t="t" r="r" b="b"/>
                    <a:pathLst>
                      <a:path w="16" h="18">
                        <a:moveTo>
                          <a:pt x="5" y="0"/>
                        </a:moveTo>
                        <a:lnTo>
                          <a:pt x="9" y="2"/>
                        </a:lnTo>
                        <a:lnTo>
                          <a:pt x="15" y="7"/>
                        </a:lnTo>
                        <a:lnTo>
                          <a:pt x="16" y="12"/>
                        </a:lnTo>
                        <a:lnTo>
                          <a:pt x="11" y="18"/>
                        </a:lnTo>
                        <a:lnTo>
                          <a:pt x="5" y="15"/>
                        </a:lnTo>
                        <a:lnTo>
                          <a:pt x="1" y="10"/>
                        </a:lnTo>
                        <a:lnTo>
                          <a:pt x="0" y="4"/>
                        </a:lnTo>
                        <a:lnTo>
                          <a:pt x="5" y="0"/>
                        </a:lnTo>
                        <a:lnTo>
                          <a:pt x="5" y="0"/>
                        </a:lnTo>
                        <a:close/>
                      </a:path>
                    </a:pathLst>
                  </a:custGeom>
                  <a:solidFill>
                    <a:srgbClr val="fac7c7"/>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68" name=""/>
                  <p:cNvSpPr/>
                  <p:nvPr/>
                </p:nvSpPr>
                <p:spPr>
                  <a:xfrm rot="808800">
                    <a:off x="6442560" y="5024160"/>
                    <a:ext cx="9360" cy="15120"/>
                  </a:xfrm>
                  <a:custGeom>
                    <a:avLst/>
                    <a:gdLst/>
                    <a:ahLst/>
                    <a:rect l="l" t="t" r="r" b="b"/>
                    <a:pathLst>
                      <a:path w="11" h="17">
                        <a:moveTo>
                          <a:pt x="1" y="0"/>
                        </a:moveTo>
                        <a:lnTo>
                          <a:pt x="5" y="2"/>
                        </a:lnTo>
                        <a:lnTo>
                          <a:pt x="11" y="9"/>
                        </a:lnTo>
                        <a:lnTo>
                          <a:pt x="11" y="12"/>
                        </a:lnTo>
                        <a:lnTo>
                          <a:pt x="11" y="15"/>
                        </a:lnTo>
                        <a:lnTo>
                          <a:pt x="8" y="16"/>
                        </a:lnTo>
                        <a:lnTo>
                          <a:pt x="4" y="17"/>
                        </a:lnTo>
                        <a:lnTo>
                          <a:pt x="2" y="12"/>
                        </a:lnTo>
                        <a:lnTo>
                          <a:pt x="1" y="7"/>
                        </a:lnTo>
                        <a:lnTo>
                          <a:pt x="0" y="2"/>
                        </a:lnTo>
                        <a:lnTo>
                          <a:pt x="1" y="0"/>
                        </a:lnTo>
                        <a:lnTo>
                          <a:pt x="1" y="0"/>
                        </a:lnTo>
                        <a:close/>
                      </a:path>
                    </a:pathLst>
                  </a:custGeom>
                  <a:solidFill>
                    <a:srgbClr val="fac7c7"/>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469" name=""/>
                  <p:cNvSpPr/>
                  <p:nvPr/>
                </p:nvSpPr>
                <p:spPr>
                  <a:xfrm rot="808800">
                    <a:off x="6557400" y="4996080"/>
                    <a:ext cx="9360" cy="16920"/>
                  </a:xfrm>
                  <a:custGeom>
                    <a:avLst/>
                    <a:gdLst/>
                    <a:ahLst/>
                    <a:rect l="l" t="t" r="r" b="b"/>
                    <a:pathLst>
                      <a:path w="11" h="19">
                        <a:moveTo>
                          <a:pt x="1" y="0"/>
                        </a:moveTo>
                        <a:lnTo>
                          <a:pt x="6" y="3"/>
                        </a:lnTo>
                        <a:lnTo>
                          <a:pt x="11" y="9"/>
                        </a:lnTo>
                        <a:lnTo>
                          <a:pt x="11" y="12"/>
                        </a:lnTo>
                        <a:lnTo>
                          <a:pt x="10" y="15"/>
                        </a:lnTo>
                        <a:lnTo>
                          <a:pt x="7" y="17"/>
                        </a:lnTo>
                        <a:lnTo>
                          <a:pt x="3" y="19"/>
                        </a:lnTo>
                        <a:lnTo>
                          <a:pt x="1" y="14"/>
                        </a:lnTo>
                        <a:lnTo>
                          <a:pt x="0" y="8"/>
                        </a:lnTo>
                        <a:lnTo>
                          <a:pt x="0" y="3"/>
                        </a:lnTo>
                        <a:lnTo>
                          <a:pt x="1" y="0"/>
                        </a:lnTo>
                        <a:lnTo>
                          <a:pt x="1" y="0"/>
                        </a:lnTo>
                        <a:close/>
                      </a:path>
                    </a:pathLst>
                  </a:custGeom>
                  <a:solidFill>
                    <a:srgbClr val="fac7c7"/>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470" name=""/>
                  <p:cNvSpPr/>
                  <p:nvPr/>
                </p:nvSpPr>
                <p:spPr>
                  <a:xfrm rot="808800">
                    <a:off x="5786280" y="4784040"/>
                    <a:ext cx="972720" cy="309600"/>
                  </a:xfrm>
                  <a:custGeom>
                    <a:avLst/>
                    <a:gdLst/>
                    <a:ahLst/>
                    <a:rect l="l" t="t" r="r" b="b"/>
                    <a:pathLst>
                      <a:path w="1091" h="343">
                        <a:moveTo>
                          <a:pt x="0" y="335"/>
                        </a:moveTo>
                        <a:lnTo>
                          <a:pt x="71" y="211"/>
                        </a:lnTo>
                        <a:lnTo>
                          <a:pt x="160" y="275"/>
                        </a:lnTo>
                        <a:lnTo>
                          <a:pt x="412" y="109"/>
                        </a:lnTo>
                        <a:lnTo>
                          <a:pt x="592" y="15"/>
                        </a:lnTo>
                        <a:lnTo>
                          <a:pt x="701" y="179"/>
                        </a:lnTo>
                        <a:lnTo>
                          <a:pt x="948" y="48"/>
                        </a:lnTo>
                        <a:lnTo>
                          <a:pt x="940" y="0"/>
                        </a:lnTo>
                        <a:lnTo>
                          <a:pt x="1091" y="10"/>
                        </a:lnTo>
                        <a:lnTo>
                          <a:pt x="1084" y="23"/>
                        </a:lnTo>
                        <a:lnTo>
                          <a:pt x="957" y="15"/>
                        </a:lnTo>
                        <a:lnTo>
                          <a:pt x="964" y="53"/>
                        </a:lnTo>
                        <a:lnTo>
                          <a:pt x="698" y="196"/>
                        </a:lnTo>
                        <a:lnTo>
                          <a:pt x="585" y="36"/>
                        </a:lnTo>
                        <a:lnTo>
                          <a:pt x="406" y="131"/>
                        </a:lnTo>
                        <a:lnTo>
                          <a:pt x="158" y="294"/>
                        </a:lnTo>
                        <a:lnTo>
                          <a:pt x="74" y="235"/>
                        </a:lnTo>
                        <a:lnTo>
                          <a:pt x="16" y="343"/>
                        </a:lnTo>
                        <a:lnTo>
                          <a:pt x="0" y="335"/>
                        </a:lnTo>
                        <a:lnTo>
                          <a:pt x="0" y="335"/>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 name=""/>
                  <p:cNvSpPr/>
                  <p:nvPr/>
                </p:nvSpPr>
                <p:spPr>
                  <a:xfrm rot="808800">
                    <a:off x="6571800" y="4885560"/>
                    <a:ext cx="196920" cy="142560"/>
                  </a:xfrm>
                  <a:custGeom>
                    <a:avLst/>
                    <a:gdLst/>
                    <a:ahLst/>
                    <a:rect l="l" t="t" r="r" b="b"/>
                    <a:pathLst>
                      <a:path w="221" h="158">
                        <a:moveTo>
                          <a:pt x="0" y="151"/>
                        </a:moveTo>
                        <a:lnTo>
                          <a:pt x="113" y="73"/>
                        </a:lnTo>
                        <a:lnTo>
                          <a:pt x="142" y="112"/>
                        </a:lnTo>
                        <a:lnTo>
                          <a:pt x="208" y="3"/>
                        </a:lnTo>
                        <a:lnTo>
                          <a:pt x="221" y="0"/>
                        </a:lnTo>
                        <a:lnTo>
                          <a:pt x="150" y="134"/>
                        </a:lnTo>
                        <a:lnTo>
                          <a:pt x="113" y="94"/>
                        </a:lnTo>
                        <a:lnTo>
                          <a:pt x="14" y="158"/>
                        </a:lnTo>
                        <a:lnTo>
                          <a:pt x="0" y="151"/>
                        </a:lnTo>
                        <a:lnTo>
                          <a:pt x="0" y="151"/>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2" name=""/>
                  <p:cNvSpPr/>
                  <p:nvPr/>
                </p:nvSpPr>
                <p:spPr>
                  <a:xfrm rot="808800">
                    <a:off x="6459840" y="4987800"/>
                    <a:ext cx="90720" cy="66600"/>
                  </a:xfrm>
                  <a:custGeom>
                    <a:avLst/>
                    <a:gdLst/>
                    <a:ahLst/>
                    <a:rect l="l" t="t" r="r" b="b"/>
                    <a:pathLst>
                      <a:path w="102" h="74">
                        <a:moveTo>
                          <a:pt x="98" y="0"/>
                        </a:moveTo>
                        <a:lnTo>
                          <a:pt x="0" y="63"/>
                        </a:lnTo>
                        <a:lnTo>
                          <a:pt x="7" y="74"/>
                        </a:lnTo>
                        <a:lnTo>
                          <a:pt x="102" y="16"/>
                        </a:lnTo>
                        <a:lnTo>
                          <a:pt x="98" y="0"/>
                        </a:lnTo>
                        <a:lnTo>
                          <a:pt x="98" y="0"/>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73" name=""/>
                  <p:cNvSpPr/>
                  <p:nvPr/>
                </p:nvSpPr>
                <p:spPr>
                  <a:xfrm rot="808800">
                    <a:off x="6198840" y="4926960"/>
                    <a:ext cx="261000" cy="124560"/>
                  </a:xfrm>
                  <a:custGeom>
                    <a:avLst/>
                    <a:gdLst/>
                    <a:ahLst/>
                    <a:rect l="l" t="t" r="r" b="b"/>
                    <a:pathLst>
                      <a:path w="293" h="138">
                        <a:moveTo>
                          <a:pt x="283" y="93"/>
                        </a:moveTo>
                        <a:lnTo>
                          <a:pt x="239" y="123"/>
                        </a:lnTo>
                        <a:lnTo>
                          <a:pt x="71" y="0"/>
                        </a:lnTo>
                        <a:lnTo>
                          <a:pt x="0" y="40"/>
                        </a:lnTo>
                        <a:lnTo>
                          <a:pt x="10" y="51"/>
                        </a:lnTo>
                        <a:lnTo>
                          <a:pt x="72" y="16"/>
                        </a:lnTo>
                        <a:lnTo>
                          <a:pt x="237" y="138"/>
                        </a:lnTo>
                        <a:lnTo>
                          <a:pt x="293" y="101"/>
                        </a:lnTo>
                        <a:lnTo>
                          <a:pt x="283" y="93"/>
                        </a:lnTo>
                        <a:lnTo>
                          <a:pt x="283" y="93"/>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 name=""/>
                  <p:cNvSpPr/>
                  <p:nvPr/>
                </p:nvSpPr>
                <p:spPr>
                  <a:xfrm rot="808800">
                    <a:off x="5763240" y="4937040"/>
                    <a:ext cx="319320" cy="140760"/>
                  </a:xfrm>
                  <a:custGeom>
                    <a:avLst/>
                    <a:gdLst/>
                    <a:ahLst/>
                    <a:rect l="l" t="t" r="r" b="b"/>
                    <a:pathLst>
                      <a:path w="358" h="156">
                        <a:moveTo>
                          <a:pt x="353" y="0"/>
                        </a:moveTo>
                        <a:lnTo>
                          <a:pt x="158" y="138"/>
                        </a:lnTo>
                        <a:lnTo>
                          <a:pt x="13" y="63"/>
                        </a:lnTo>
                        <a:lnTo>
                          <a:pt x="0" y="79"/>
                        </a:lnTo>
                        <a:lnTo>
                          <a:pt x="162" y="156"/>
                        </a:lnTo>
                        <a:lnTo>
                          <a:pt x="358" y="14"/>
                        </a:lnTo>
                        <a:lnTo>
                          <a:pt x="353" y="0"/>
                        </a:lnTo>
                        <a:lnTo>
                          <a:pt x="353" y="0"/>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808800">
                    <a:off x="6106680" y="4926600"/>
                    <a:ext cx="88200" cy="62280"/>
                  </a:xfrm>
                  <a:custGeom>
                    <a:avLst/>
                    <a:gdLst/>
                    <a:ahLst/>
                    <a:rect l="l" t="t" r="r" b="b"/>
                    <a:pathLst>
                      <a:path w="99" h="69">
                        <a:moveTo>
                          <a:pt x="92" y="0"/>
                        </a:moveTo>
                        <a:lnTo>
                          <a:pt x="0" y="59"/>
                        </a:lnTo>
                        <a:lnTo>
                          <a:pt x="8" y="69"/>
                        </a:lnTo>
                        <a:lnTo>
                          <a:pt x="99" y="10"/>
                        </a:lnTo>
                        <a:lnTo>
                          <a:pt x="92" y="0"/>
                        </a:lnTo>
                        <a:lnTo>
                          <a:pt x="92" y="0"/>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476" name=""/>
                  <p:cNvSpPr/>
                  <p:nvPr/>
                </p:nvSpPr>
                <p:spPr>
                  <a:xfrm rot="808800">
                    <a:off x="5937480" y="4993560"/>
                    <a:ext cx="25560" cy="41400"/>
                  </a:xfrm>
                  <a:custGeom>
                    <a:avLst/>
                    <a:gdLst/>
                    <a:ahLst/>
                    <a:rect l="l" t="t" r="r" b="b"/>
                    <a:pathLst>
                      <a:path w="29" h="46">
                        <a:moveTo>
                          <a:pt x="23" y="46"/>
                        </a:moveTo>
                        <a:lnTo>
                          <a:pt x="0" y="8"/>
                        </a:lnTo>
                        <a:lnTo>
                          <a:pt x="8" y="0"/>
                        </a:lnTo>
                        <a:lnTo>
                          <a:pt x="29" y="36"/>
                        </a:lnTo>
                        <a:lnTo>
                          <a:pt x="23" y="46"/>
                        </a:lnTo>
                        <a:lnTo>
                          <a:pt x="23" y="46"/>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477" name=""/>
                  <p:cNvSpPr/>
                  <p:nvPr/>
                </p:nvSpPr>
                <p:spPr>
                  <a:xfrm rot="808800">
                    <a:off x="5959080" y="4986720"/>
                    <a:ext cx="24840" cy="43200"/>
                  </a:xfrm>
                  <a:custGeom>
                    <a:avLst/>
                    <a:gdLst/>
                    <a:ahLst/>
                    <a:rect l="l" t="t" r="r" b="b"/>
                    <a:pathLst>
                      <a:path w="28" h="48">
                        <a:moveTo>
                          <a:pt x="23" y="48"/>
                        </a:moveTo>
                        <a:lnTo>
                          <a:pt x="0" y="10"/>
                        </a:lnTo>
                        <a:lnTo>
                          <a:pt x="7" y="0"/>
                        </a:lnTo>
                        <a:lnTo>
                          <a:pt x="28" y="37"/>
                        </a:lnTo>
                        <a:lnTo>
                          <a:pt x="23" y="48"/>
                        </a:lnTo>
                        <a:lnTo>
                          <a:pt x="23" y="48"/>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78" name=""/>
                  <p:cNvSpPr/>
                  <p:nvPr/>
                </p:nvSpPr>
                <p:spPr>
                  <a:xfrm rot="808800">
                    <a:off x="5976360" y="4978800"/>
                    <a:ext cx="23760" cy="41400"/>
                  </a:xfrm>
                  <a:custGeom>
                    <a:avLst/>
                    <a:gdLst/>
                    <a:ahLst/>
                    <a:rect l="l" t="t" r="r" b="b"/>
                    <a:pathLst>
                      <a:path w="27" h="46">
                        <a:moveTo>
                          <a:pt x="23" y="46"/>
                        </a:moveTo>
                        <a:lnTo>
                          <a:pt x="0" y="8"/>
                        </a:lnTo>
                        <a:lnTo>
                          <a:pt x="7" y="0"/>
                        </a:lnTo>
                        <a:lnTo>
                          <a:pt x="27" y="35"/>
                        </a:lnTo>
                        <a:lnTo>
                          <a:pt x="23" y="46"/>
                        </a:lnTo>
                        <a:lnTo>
                          <a:pt x="23" y="46"/>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479" name=""/>
                  <p:cNvSpPr/>
                  <p:nvPr/>
                </p:nvSpPr>
                <p:spPr>
                  <a:xfrm rot="808800">
                    <a:off x="5996160" y="4969800"/>
                    <a:ext cx="24120" cy="41400"/>
                  </a:xfrm>
                  <a:custGeom>
                    <a:avLst/>
                    <a:gdLst/>
                    <a:ahLst/>
                    <a:rect l="l" t="t" r="r" b="b"/>
                    <a:pathLst>
                      <a:path w="27" h="46">
                        <a:moveTo>
                          <a:pt x="22" y="46"/>
                        </a:moveTo>
                        <a:lnTo>
                          <a:pt x="0" y="8"/>
                        </a:lnTo>
                        <a:lnTo>
                          <a:pt x="6" y="0"/>
                        </a:lnTo>
                        <a:lnTo>
                          <a:pt x="27" y="35"/>
                        </a:lnTo>
                        <a:lnTo>
                          <a:pt x="22" y="46"/>
                        </a:lnTo>
                        <a:lnTo>
                          <a:pt x="22" y="46"/>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480" name=""/>
                  <p:cNvSpPr/>
                  <p:nvPr/>
                </p:nvSpPr>
                <p:spPr>
                  <a:xfrm rot="808800">
                    <a:off x="6318000" y="4842000"/>
                    <a:ext cx="31680" cy="27000"/>
                  </a:xfrm>
                  <a:custGeom>
                    <a:avLst/>
                    <a:gdLst/>
                    <a:ahLst/>
                    <a:rect l="l" t="t" r="r" b="b"/>
                    <a:pathLst>
                      <a:path w="36" h="30">
                        <a:moveTo>
                          <a:pt x="29" y="0"/>
                        </a:moveTo>
                        <a:lnTo>
                          <a:pt x="0" y="21"/>
                        </a:lnTo>
                        <a:lnTo>
                          <a:pt x="8" y="30"/>
                        </a:lnTo>
                        <a:lnTo>
                          <a:pt x="36" y="11"/>
                        </a:lnTo>
                        <a:lnTo>
                          <a:pt x="29" y="0"/>
                        </a:lnTo>
                        <a:lnTo>
                          <a:pt x="29" y="0"/>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81" name=""/>
                  <p:cNvSpPr/>
                  <p:nvPr/>
                </p:nvSpPr>
                <p:spPr>
                  <a:xfrm rot="808800">
                    <a:off x="6325560" y="4860720"/>
                    <a:ext cx="32760" cy="28800"/>
                  </a:xfrm>
                  <a:custGeom>
                    <a:avLst/>
                    <a:gdLst/>
                    <a:ahLst/>
                    <a:rect l="l" t="t" r="r" b="b"/>
                    <a:pathLst>
                      <a:path w="37" h="32">
                        <a:moveTo>
                          <a:pt x="29" y="0"/>
                        </a:moveTo>
                        <a:lnTo>
                          <a:pt x="0" y="22"/>
                        </a:lnTo>
                        <a:lnTo>
                          <a:pt x="8" y="32"/>
                        </a:lnTo>
                        <a:lnTo>
                          <a:pt x="37" y="12"/>
                        </a:lnTo>
                        <a:lnTo>
                          <a:pt x="29" y="0"/>
                        </a:lnTo>
                        <a:lnTo>
                          <a:pt x="29" y="0"/>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482" name=""/>
                  <p:cNvSpPr/>
                  <p:nvPr/>
                </p:nvSpPr>
                <p:spPr>
                  <a:xfrm rot="808800">
                    <a:off x="6336360" y="4880880"/>
                    <a:ext cx="32040" cy="27720"/>
                  </a:xfrm>
                  <a:custGeom>
                    <a:avLst/>
                    <a:gdLst/>
                    <a:ahLst/>
                    <a:rect l="l" t="t" r="r" b="b"/>
                    <a:pathLst>
                      <a:path w="36" h="31">
                        <a:moveTo>
                          <a:pt x="28" y="0"/>
                        </a:moveTo>
                        <a:lnTo>
                          <a:pt x="0" y="22"/>
                        </a:lnTo>
                        <a:lnTo>
                          <a:pt x="8" y="31"/>
                        </a:lnTo>
                        <a:lnTo>
                          <a:pt x="36" y="12"/>
                        </a:lnTo>
                        <a:lnTo>
                          <a:pt x="28" y="0"/>
                        </a:lnTo>
                        <a:lnTo>
                          <a:pt x="28" y="0"/>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483" name=""/>
                  <p:cNvSpPr/>
                  <p:nvPr/>
                </p:nvSpPr>
                <p:spPr>
                  <a:xfrm rot="808800">
                    <a:off x="6346080" y="4901760"/>
                    <a:ext cx="32040" cy="27720"/>
                  </a:xfrm>
                  <a:custGeom>
                    <a:avLst/>
                    <a:gdLst/>
                    <a:ahLst/>
                    <a:rect l="l" t="t" r="r" b="b"/>
                    <a:pathLst>
                      <a:path w="36" h="31">
                        <a:moveTo>
                          <a:pt x="28" y="0"/>
                        </a:moveTo>
                        <a:lnTo>
                          <a:pt x="0" y="22"/>
                        </a:lnTo>
                        <a:lnTo>
                          <a:pt x="8" y="31"/>
                        </a:lnTo>
                        <a:lnTo>
                          <a:pt x="36" y="11"/>
                        </a:lnTo>
                        <a:lnTo>
                          <a:pt x="28" y="0"/>
                        </a:lnTo>
                        <a:lnTo>
                          <a:pt x="28" y="0"/>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484" name=""/>
                  <p:cNvSpPr/>
                  <p:nvPr/>
                </p:nvSpPr>
                <p:spPr>
                  <a:xfrm rot="808800">
                    <a:off x="6693480" y="4943880"/>
                    <a:ext cx="30240" cy="28800"/>
                  </a:xfrm>
                  <a:custGeom>
                    <a:avLst/>
                    <a:gdLst/>
                    <a:ahLst/>
                    <a:rect l="l" t="t" r="r" b="b"/>
                    <a:pathLst>
                      <a:path w="34" h="32">
                        <a:moveTo>
                          <a:pt x="26" y="32"/>
                        </a:moveTo>
                        <a:lnTo>
                          <a:pt x="0" y="9"/>
                        </a:lnTo>
                        <a:lnTo>
                          <a:pt x="5" y="0"/>
                        </a:lnTo>
                        <a:lnTo>
                          <a:pt x="34" y="22"/>
                        </a:lnTo>
                        <a:lnTo>
                          <a:pt x="26" y="32"/>
                        </a:lnTo>
                        <a:lnTo>
                          <a:pt x="26" y="32"/>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485" name=""/>
                  <p:cNvSpPr/>
                  <p:nvPr/>
                </p:nvSpPr>
                <p:spPr>
                  <a:xfrm rot="808800">
                    <a:off x="6709320" y="4932720"/>
                    <a:ext cx="28440" cy="27720"/>
                  </a:xfrm>
                  <a:custGeom>
                    <a:avLst/>
                    <a:gdLst/>
                    <a:ahLst/>
                    <a:rect l="l" t="t" r="r" b="b"/>
                    <a:pathLst>
                      <a:path w="32" h="31">
                        <a:moveTo>
                          <a:pt x="25" y="31"/>
                        </a:moveTo>
                        <a:lnTo>
                          <a:pt x="0" y="8"/>
                        </a:lnTo>
                        <a:lnTo>
                          <a:pt x="5" y="0"/>
                        </a:lnTo>
                        <a:lnTo>
                          <a:pt x="32" y="20"/>
                        </a:lnTo>
                        <a:lnTo>
                          <a:pt x="25" y="31"/>
                        </a:lnTo>
                        <a:lnTo>
                          <a:pt x="25" y="31"/>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486" name=""/>
                  <p:cNvSpPr/>
                  <p:nvPr/>
                </p:nvSpPr>
                <p:spPr>
                  <a:xfrm rot="808800">
                    <a:off x="6723360" y="4918680"/>
                    <a:ext cx="29520" cy="29520"/>
                  </a:xfrm>
                  <a:custGeom>
                    <a:avLst/>
                    <a:gdLst/>
                    <a:ahLst/>
                    <a:rect l="l" t="t" r="r" b="b"/>
                    <a:pathLst>
                      <a:path w="33" h="33">
                        <a:moveTo>
                          <a:pt x="27" y="33"/>
                        </a:moveTo>
                        <a:lnTo>
                          <a:pt x="0" y="9"/>
                        </a:lnTo>
                        <a:lnTo>
                          <a:pt x="7" y="0"/>
                        </a:lnTo>
                        <a:lnTo>
                          <a:pt x="33" y="23"/>
                        </a:lnTo>
                        <a:lnTo>
                          <a:pt x="27" y="33"/>
                        </a:lnTo>
                        <a:lnTo>
                          <a:pt x="27" y="33"/>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487" name=""/>
                  <p:cNvSpPr/>
                  <p:nvPr/>
                </p:nvSpPr>
                <p:spPr>
                  <a:xfrm rot="808800">
                    <a:off x="6693480" y="4943880"/>
                    <a:ext cx="30240" cy="28800"/>
                  </a:xfrm>
                  <a:custGeom>
                    <a:avLst/>
                    <a:gdLst/>
                    <a:ahLst/>
                    <a:rect l="l" t="t" r="r" b="b"/>
                    <a:pathLst>
                      <a:path w="34" h="32">
                        <a:moveTo>
                          <a:pt x="26" y="32"/>
                        </a:moveTo>
                        <a:lnTo>
                          <a:pt x="0" y="9"/>
                        </a:lnTo>
                        <a:lnTo>
                          <a:pt x="5" y="0"/>
                        </a:lnTo>
                        <a:lnTo>
                          <a:pt x="34" y="22"/>
                        </a:lnTo>
                        <a:lnTo>
                          <a:pt x="26" y="32"/>
                        </a:lnTo>
                        <a:lnTo>
                          <a:pt x="26" y="32"/>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488" name=""/>
                  <p:cNvSpPr/>
                  <p:nvPr/>
                </p:nvSpPr>
                <p:spPr>
                  <a:xfrm rot="808800">
                    <a:off x="6693480" y="4943880"/>
                    <a:ext cx="30240" cy="28800"/>
                  </a:xfrm>
                  <a:custGeom>
                    <a:avLst/>
                    <a:gdLst/>
                    <a:ahLst/>
                    <a:rect l="l" t="t" r="r" b="b"/>
                    <a:pathLst>
                      <a:path w="34" h="32">
                        <a:moveTo>
                          <a:pt x="26" y="32"/>
                        </a:moveTo>
                        <a:lnTo>
                          <a:pt x="0" y="9"/>
                        </a:lnTo>
                        <a:lnTo>
                          <a:pt x="5" y="0"/>
                        </a:lnTo>
                        <a:lnTo>
                          <a:pt x="34" y="22"/>
                        </a:lnTo>
                        <a:lnTo>
                          <a:pt x="26" y="32"/>
                        </a:lnTo>
                        <a:lnTo>
                          <a:pt x="26" y="32"/>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grpSp>
            <p:sp>
              <p:nvSpPr>
                <p:cNvPr id="489" name=""/>
                <p:cNvSpPr/>
                <p:nvPr/>
              </p:nvSpPr>
              <p:spPr>
                <a:xfrm flipV="1">
                  <a:off x="6430320" y="5029200"/>
                  <a:ext cx="41040" cy="12960"/>
                </a:xfrm>
                <a:prstGeom prst="line">
                  <a:avLst/>
                </a:prstGeom>
                <a:ln w="936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490" name=""/>
                <p:cNvSpPr/>
                <p:nvPr/>
              </p:nvSpPr>
              <p:spPr>
                <a:xfrm flipV="1">
                  <a:off x="6435000" y="5033520"/>
                  <a:ext cx="39240" cy="15120"/>
                </a:xfrm>
                <a:prstGeom prst="line">
                  <a:avLst/>
                </a:prstGeom>
                <a:ln w="9360">
                  <a:solidFill>
                    <a:srgbClr val="000000"/>
                  </a:solidFill>
                  <a:miter/>
                </a:ln>
              </p:spPr>
              <p:style>
                <a:lnRef idx="0"/>
                <a:fillRef idx="0"/>
                <a:effectRef idx="0"/>
                <a:fontRef idx="minor"/>
              </p:style>
              <p:txBody>
                <a:bodyPr lIns="90000" rIns="90000" tIns="-31680" bIns="-31680" anchor="ctr">
                  <a:noAutofit/>
                </a:bodyPr>
                <a:p>
                  <a:endParaRPr b="0" lang="en-US" sz="2400" spc="-1" strike="noStrike">
                    <a:solidFill>
                      <a:srgbClr val="000000"/>
                    </a:solidFill>
                    <a:latin typeface="Times New Roman"/>
                  </a:endParaRPr>
                </a:p>
              </p:txBody>
            </p:sp>
            <p:sp>
              <p:nvSpPr>
                <p:cNvPr id="491" name=""/>
                <p:cNvSpPr/>
                <p:nvPr/>
              </p:nvSpPr>
              <p:spPr>
                <a:xfrm flipV="1">
                  <a:off x="6432120" y="5029200"/>
                  <a:ext cx="40680" cy="12960"/>
                </a:xfrm>
                <a:prstGeom prst="line">
                  <a:avLst/>
                </a:prstGeom>
                <a:ln w="936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492" name=""/>
                <p:cNvSpPr/>
                <p:nvPr/>
              </p:nvSpPr>
              <p:spPr>
                <a:xfrm flipV="1">
                  <a:off x="6546240" y="4990680"/>
                  <a:ext cx="39240" cy="15120"/>
                </a:xfrm>
                <a:prstGeom prst="line">
                  <a:avLst/>
                </a:prstGeom>
                <a:ln w="9360">
                  <a:solidFill>
                    <a:srgbClr val="000000"/>
                  </a:solidFill>
                  <a:miter/>
                </a:ln>
              </p:spPr>
              <p:style>
                <a:lnRef idx="0"/>
                <a:fillRef idx="0"/>
                <a:effectRef idx="0"/>
                <a:fontRef idx="minor"/>
              </p:style>
              <p:txBody>
                <a:bodyPr lIns="90000" rIns="90000" tIns="-31680" bIns="-31680" anchor="ctr">
                  <a:noAutofit/>
                </a:bodyPr>
                <a:p>
                  <a:endParaRPr b="0" lang="en-US" sz="2400" spc="-1" strike="noStrike">
                    <a:solidFill>
                      <a:srgbClr val="000000"/>
                    </a:solidFill>
                    <a:latin typeface="Times New Roman"/>
                  </a:endParaRPr>
                </a:p>
              </p:txBody>
            </p:sp>
            <p:sp>
              <p:nvSpPr>
                <p:cNvPr id="493" name=""/>
                <p:cNvSpPr/>
                <p:nvPr/>
              </p:nvSpPr>
              <p:spPr>
                <a:xfrm flipV="1">
                  <a:off x="6536880" y="5000040"/>
                  <a:ext cx="39240" cy="13680"/>
                </a:xfrm>
                <a:prstGeom prst="line">
                  <a:avLst/>
                </a:prstGeom>
                <a:ln w="936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494" name=""/>
                <p:cNvSpPr/>
                <p:nvPr/>
              </p:nvSpPr>
              <p:spPr>
                <a:xfrm flipV="1">
                  <a:off x="6538320" y="4989240"/>
                  <a:ext cx="39240" cy="15120"/>
                </a:xfrm>
                <a:prstGeom prst="line">
                  <a:avLst/>
                </a:prstGeom>
                <a:ln w="9360">
                  <a:solidFill>
                    <a:srgbClr val="000000"/>
                  </a:solidFill>
                  <a:miter/>
                </a:ln>
              </p:spPr>
              <p:style>
                <a:lnRef idx="0"/>
                <a:fillRef idx="0"/>
                <a:effectRef idx="0"/>
                <a:fontRef idx="minor"/>
              </p:style>
              <p:txBody>
                <a:bodyPr lIns="90000" rIns="90000" tIns="-31680" bIns="-31680" anchor="ctr">
                  <a:noAutofit/>
                </a:bodyPr>
                <a:p>
                  <a:endParaRPr b="0" lang="en-US" sz="2400" spc="-1" strike="noStrike">
                    <a:solidFill>
                      <a:srgbClr val="000000"/>
                    </a:solidFill>
                    <a:latin typeface="Times New Roman"/>
                  </a:endParaRPr>
                </a:p>
              </p:txBody>
            </p:sp>
            <p:sp>
              <p:nvSpPr>
                <p:cNvPr id="495" name=""/>
                <p:cNvSpPr/>
                <p:nvPr/>
              </p:nvSpPr>
              <p:spPr>
                <a:xfrm flipV="1">
                  <a:off x="6090840" y="4960800"/>
                  <a:ext cx="40680" cy="12960"/>
                </a:xfrm>
                <a:prstGeom prst="line">
                  <a:avLst/>
                </a:prstGeom>
                <a:ln w="936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496" name=""/>
                <p:cNvSpPr/>
                <p:nvPr/>
              </p:nvSpPr>
              <p:spPr>
                <a:xfrm flipV="1">
                  <a:off x="6081120" y="4971600"/>
                  <a:ext cx="39240" cy="13680"/>
                </a:xfrm>
                <a:prstGeom prst="line">
                  <a:avLst/>
                </a:prstGeom>
                <a:ln w="936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497" name=""/>
                <p:cNvSpPr/>
                <p:nvPr/>
              </p:nvSpPr>
              <p:spPr>
                <a:xfrm flipV="1">
                  <a:off x="6074640" y="4970160"/>
                  <a:ext cx="41040" cy="12600"/>
                </a:xfrm>
                <a:prstGeom prst="line">
                  <a:avLst/>
                </a:prstGeom>
                <a:ln w="936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498" name=""/>
                <p:cNvSpPr/>
                <p:nvPr/>
              </p:nvSpPr>
              <p:spPr>
                <a:xfrm flipV="1">
                  <a:off x="6079680" y="4963680"/>
                  <a:ext cx="37440" cy="15120"/>
                </a:xfrm>
                <a:prstGeom prst="line">
                  <a:avLst/>
                </a:prstGeom>
                <a:ln w="9360">
                  <a:solidFill>
                    <a:srgbClr val="000000"/>
                  </a:solidFill>
                  <a:miter/>
                </a:ln>
              </p:spPr>
              <p:style>
                <a:lnRef idx="0"/>
                <a:fillRef idx="0"/>
                <a:effectRef idx="0"/>
                <a:fontRef idx="minor"/>
              </p:style>
              <p:txBody>
                <a:bodyPr lIns="90000" rIns="90000" tIns="-31680" bIns="-31680" anchor="ctr">
                  <a:noAutofit/>
                </a:bodyPr>
                <a:p>
                  <a:endParaRPr b="0" lang="en-US" sz="2400" spc="-1" strike="noStrike">
                    <a:solidFill>
                      <a:srgbClr val="000000"/>
                    </a:solidFill>
                    <a:latin typeface="Times New Roman"/>
                  </a:endParaRPr>
                </a:p>
              </p:txBody>
            </p:sp>
            <p:sp>
              <p:nvSpPr>
                <p:cNvPr id="499" name=""/>
                <p:cNvSpPr/>
                <p:nvPr/>
              </p:nvSpPr>
              <p:spPr>
                <a:xfrm flipV="1">
                  <a:off x="6185160" y="4932720"/>
                  <a:ext cx="31320" cy="8640"/>
                </a:xfrm>
                <a:prstGeom prst="line">
                  <a:avLst/>
                </a:prstGeom>
                <a:ln w="936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500" name=""/>
                <p:cNvSpPr/>
                <p:nvPr/>
              </p:nvSpPr>
              <p:spPr>
                <a:xfrm flipV="1">
                  <a:off x="6094080" y="4937400"/>
                  <a:ext cx="127800" cy="42480"/>
                </a:xfrm>
                <a:prstGeom prst="line">
                  <a:avLst/>
                </a:prstGeom>
                <a:ln w="9360">
                  <a:solidFill>
                    <a:srgbClr val="000000"/>
                  </a:solidFill>
                  <a:miter/>
                </a:ln>
              </p:spPr>
              <p:style>
                <a:lnRef idx="0"/>
                <a:fillRef idx="0"/>
                <a:effectRef idx="0"/>
                <a:fontRef idx="minor"/>
              </p:style>
              <p:txBody>
                <a:bodyPr lIns="90000" rIns="90000" tIns="-4320" bIns="-4320" anchor="ctr">
                  <a:noAutofit/>
                </a:bodyPr>
                <a:p>
                  <a:endParaRPr b="0" lang="en-US" sz="2400" spc="-1" strike="noStrike">
                    <a:solidFill>
                      <a:srgbClr val="000000"/>
                    </a:solidFill>
                    <a:latin typeface="Times New Roman"/>
                  </a:endParaRPr>
                </a:p>
              </p:txBody>
            </p:sp>
            <p:sp>
              <p:nvSpPr>
                <p:cNvPr id="501" name=""/>
                <p:cNvSpPr/>
                <p:nvPr/>
              </p:nvSpPr>
              <p:spPr>
                <a:xfrm flipV="1">
                  <a:off x="6188400" y="4932720"/>
                  <a:ext cx="31320" cy="8640"/>
                </a:xfrm>
                <a:prstGeom prst="line">
                  <a:avLst/>
                </a:prstGeom>
                <a:ln w="936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grpSp>
          <p:grpSp>
            <p:nvGrpSpPr>
              <p:cNvPr id="502" name=""/>
              <p:cNvGrpSpPr/>
              <p:nvPr/>
            </p:nvGrpSpPr>
            <p:grpSpPr>
              <a:xfrm>
                <a:off x="3860280" y="4573080"/>
                <a:ext cx="966960" cy="683640"/>
                <a:chOff x="3860280" y="4573080"/>
                <a:chExt cx="966960" cy="683640"/>
              </a:xfrm>
            </p:grpSpPr>
            <p:grpSp>
              <p:nvGrpSpPr>
                <p:cNvPr id="503" name=""/>
                <p:cNvGrpSpPr/>
                <p:nvPr/>
              </p:nvGrpSpPr>
              <p:grpSpPr>
                <a:xfrm>
                  <a:off x="3860280" y="4573080"/>
                  <a:ext cx="966960" cy="683640"/>
                  <a:chOff x="3860280" y="4573080"/>
                  <a:chExt cx="966960" cy="683640"/>
                </a:xfrm>
              </p:grpSpPr>
              <p:sp>
                <p:nvSpPr>
                  <p:cNvPr id="504" name=""/>
                  <p:cNvSpPr/>
                  <p:nvPr/>
                </p:nvSpPr>
                <p:spPr>
                  <a:xfrm rot="1050600">
                    <a:off x="3906360" y="4694400"/>
                    <a:ext cx="874800" cy="441000"/>
                  </a:xfrm>
                  <a:custGeom>
                    <a:avLst/>
                    <a:gdLst/>
                    <a:ahLst/>
                    <a:rect l="l" t="t" r="r" b="b"/>
                    <a:pathLst>
                      <a:path w="1118" h="436">
                        <a:moveTo>
                          <a:pt x="74" y="210"/>
                        </a:moveTo>
                        <a:lnTo>
                          <a:pt x="0" y="349"/>
                        </a:lnTo>
                        <a:lnTo>
                          <a:pt x="183" y="436"/>
                        </a:lnTo>
                        <a:lnTo>
                          <a:pt x="422" y="256"/>
                        </a:lnTo>
                        <a:lnTo>
                          <a:pt x="560" y="179"/>
                        </a:lnTo>
                        <a:lnTo>
                          <a:pt x="718" y="301"/>
                        </a:lnTo>
                        <a:lnTo>
                          <a:pt x="994" y="125"/>
                        </a:lnTo>
                        <a:lnTo>
                          <a:pt x="1036" y="168"/>
                        </a:lnTo>
                        <a:lnTo>
                          <a:pt x="1118" y="16"/>
                        </a:lnTo>
                        <a:lnTo>
                          <a:pt x="944" y="0"/>
                        </a:lnTo>
                        <a:lnTo>
                          <a:pt x="950" y="51"/>
                        </a:lnTo>
                        <a:lnTo>
                          <a:pt x="718" y="176"/>
                        </a:lnTo>
                        <a:lnTo>
                          <a:pt x="608" y="14"/>
                        </a:lnTo>
                        <a:lnTo>
                          <a:pt x="410" y="117"/>
                        </a:lnTo>
                        <a:lnTo>
                          <a:pt x="175" y="272"/>
                        </a:lnTo>
                        <a:lnTo>
                          <a:pt x="79" y="202"/>
                        </a:lnTo>
                        <a:lnTo>
                          <a:pt x="74" y="210"/>
                        </a:lnTo>
                        <a:lnTo>
                          <a:pt x="74" y="210"/>
                        </a:lnTo>
                        <a:close/>
                      </a:path>
                    </a:pathLst>
                  </a:custGeom>
                  <a:solidFill>
                    <a:srgbClr val="d9e0e6"/>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5" name=""/>
                  <p:cNvSpPr/>
                  <p:nvPr/>
                </p:nvSpPr>
                <p:spPr>
                  <a:xfrm rot="1050600">
                    <a:off x="3926520" y="4708080"/>
                    <a:ext cx="840240" cy="405360"/>
                  </a:xfrm>
                  <a:custGeom>
                    <a:avLst/>
                    <a:gdLst/>
                    <a:ahLst/>
                    <a:rect l="l" t="t" r="r" b="b"/>
                    <a:pathLst>
                      <a:path w="1074" h="401">
                        <a:moveTo>
                          <a:pt x="67" y="217"/>
                        </a:moveTo>
                        <a:lnTo>
                          <a:pt x="146" y="279"/>
                        </a:lnTo>
                        <a:lnTo>
                          <a:pt x="442" y="92"/>
                        </a:lnTo>
                        <a:lnTo>
                          <a:pt x="577" y="23"/>
                        </a:lnTo>
                        <a:lnTo>
                          <a:pt x="686" y="185"/>
                        </a:lnTo>
                        <a:lnTo>
                          <a:pt x="948" y="46"/>
                        </a:lnTo>
                        <a:lnTo>
                          <a:pt x="936" y="0"/>
                        </a:lnTo>
                        <a:lnTo>
                          <a:pt x="1074" y="15"/>
                        </a:lnTo>
                        <a:lnTo>
                          <a:pt x="1012" y="128"/>
                        </a:lnTo>
                        <a:lnTo>
                          <a:pt x="970" y="92"/>
                        </a:lnTo>
                        <a:lnTo>
                          <a:pt x="703" y="272"/>
                        </a:lnTo>
                        <a:lnTo>
                          <a:pt x="537" y="150"/>
                        </a:lnTo>
                        <a:lnTo>
                          <a:pt x="388" y="235"/>
                        </a:lnTo>
                        <a:lnTo>
                          <a:pt x="149" y="401"/>
                        </a:lnTo>
                        <a:lnTo>
                          <a:pt x="0" y="331"/>
                        </a:lnTo>
                        <a:lnTo>
                          <a:pt x="67" y="217"/>
                        </a:lnTo>
                        <a:lnTo>
                          <a:pt x="67" y="217"/>
                        </a:lnTo>
                        <a:close/>
                      </a:path>
                    </a:pathLst>
                  </a:custGeom>
                  <a:solidFill>
                    <a:srgbClr val="ffcc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6" name=""/>
                  <p:cNvSpPr/>
                  <p:nvPr/>
                </p:nvSpPr>
                <p:spPr>
                  <a:xfrm rot="1050600">
                    <a:off x="4426200" y="4794480"/>
                    <a:ext cx="319320" cy="254880"/>
                  </a:xfrm>
                  <a:custGeom>
                    <a:avLst/>
                    <a:gdLst/>
                    <a:ahLst/>
                    <a:rect l="l" t="t" r="r" b="b"/>
                    <a:pathLst>
                      <a:path w="408" h="252">
                        <a:moveTo>
                          <a:pt x="345" y="0"/>
                        </a:moveTo>
                        <a:lnTo>
                          <a:pt x="351" y="1"/>
                        </a:lnTo>
                        <a:lnTo>
                          <a:pt x="360" y="2"/>
                        </a:lnTo>
                        <a:lnTo>
                          <a:pt x="366" y="2"/>
                        </a:lnTo>
                        <a:lnTo>
                          <a:pt x="375" y="3"/>
                        </a:lnTo>
                        <a:lnTo>
                          <a:pt x="383" y="3"/>
                        </a:lnTo>
                        <a:lnTo>
                          <a:pt x="390" y="3"/>
                        </a:lnTo>
                        <a:lnTo>
                          <a:pt x="399" y="3"/>
                        </a:lnTo>
                        <a:lnTo>
                          <a:pt x="408" y="4"/>
                        </a:lnTo>
                        <a:lnTo>
                          <a:pt x="407" y="11"/>
                        </a:lnTo>
                        <a:lnTo>
                          <a:pt x="407" y="19"/>
                        </a:lnTo>
                        <a:lnTo>
                          <a:pt x="406" y="26"/>
                        </a:lnTo>
                        <a:lnTo>
                          <a:pt x="403" y="34"/>
                        </a:lnTo>
                        <a:lnTo>
                          <a:pt x="402" y="42"/>
                        </a:lnTo>
                        <a:lnTo>
                          <a:pt x="402" y="51"/>
                        </a:lnTo>
                        <a:lnTo>
                          <a:pt x="402" y="59"/>
                        </a:lnTo>
                        <a:lnTo>
                          <a:pt x="403" y="68"/>
                        </a:lnTo>
                        <a:lnTo>
                          <a:pt x="403" y="72"/>
                        </a:lnTo>
                        <a:lnTo>
                          <a:pt x="402" y="76"/>
                        </a:lnTo>
                        <a:lnTo>
                          <a:pt x="399" y="79"/>
                        </a:lnTo>
                        <a:lnTo>
                          <a:pt x="397" y="82"/>
                        </a:lnTo>
                        <a:lnTo>
                          <a:pt x="390" y="83"/>
                        </a:lnTo>
                        <a:lnTo>
                          <a:pt x="384" y="84"/>
                        </a:lnTo>
                        <a:lnTo>
                          <a:pt x="375" y="82"/>
                        </a:lnTo>
                        <a:lnTo>
                          <a:pt x="366" y="80"/>
                        </a:lnTo>
                        <a:lnTo>
                          <a:pt x="360" y="80"/>
                        </a:lnTo>
                        <a:lnTo>
                          <a:pt x="353" y="83"/>
                        </a:lnTo>
                        <a:lnTo>
                          <a:pt x="346" y="74"/>
                        </a:lnTo>
                        <a:lnTo>
                          <a:pt x="337" y="70"/>
                        </a:lnTo>
                        <a:lnTo>
                          <a:pt x="331" y="69"/>
                        </a:lnTo>
                        <a:lnTo>
                          <a:pt x="327" y="71"/>
                        </a:lnTo>
                        <a:lnTo>
                          <a:pt x="325" y="75"/>
                        </a:lnTo>
                        <a:lnTo>
                          <a:pt x="323" y="83"/>
                        </a:lnTo>
                        <a:lnTo>
                          <a:pt x="316" y="83"/>
                        </a:lnTo>
                        <a:lnTo>
                          <a:pt x="311" y="87"/>
                        </a:lnTo>
                        <a:lnTo>
                          <a:pt x="307" y="90"/>
                        </a:lnTo>
                        <a:lnTo>
                          <a:pt x="304" y="96"/>
                        </a:lnTo>
                        <a:lnTo>
                          <a:pt x="299" y="100"/>
                        </a:lnTo>
                        <a:lnTo>
                          <a:pt x="294" y="104"/>
                        </a:lnTo>
                        <a:lnTo>
                          <a:pt x="289" y="107"/>
                        </a:lnTo>
                        <a:lnTo>
                          <a:pt x="285" y="107"/>
                        </a:lnTo>
                        <a:lnTo>
                          <a:pt x="279" y="108"/>
                        </a:lnTo>
                        <a:lnTo>
                          <a:pt x="274" y="109"/>
                        </a:lnTo>
                        <a:lnTo>
                          <a:pt x="269" y="112"/>
                        </a:lnTo>
                        <a:lnTo>
                          <a:pt x="264" y="115"/>
                        </a:lnTo>
                        <a:lnTo>
                          <a:pt x="253" y="120"/>
                        </a:lnTo>
                        <a:lnTo>
                          <a:pt x="245" y="127"/>
                        </a:lnTo>
                        <a:lnTo>
                          <a:pt x="236" y="134"/>
                        </a:lnTo>
                        <a:lnTo>
                          <a:pt x="230" y="144"/>
                        </a:lnTo>
                        <a:lnTo>
                          <a:pt x="227" y="148"/>
                        </a:lnTo>
                        <a:lnTo>
                          <a:pt x="225" y="154"/>
                        </a:lnTo>
                        <a:lnTo>
                          <a:pt x="223" y="160"/>
                        </a:lnTo>
                        <a:lnTo>
                          <a:pt x="223" y="166"/>
                        </a:lnTo>
                        <a:lnTo>
                          <a:pt x="218" y="171"/>
                        </a:lnTo>
                        <a:lnTo>
                          <a:pt x="213" y="176"/>
                        </a:lnTo>
                        <a:lnTo>
                          <a:pt x="207" y="178"/>
                        </a:lnTo>
                        <a:lnTo>
                          <a:pt x="202" y="180"/>
                        </a:lnTo>
                        <a:lnTo>
                          <a:pt x="205" y="170"/>
                        </a:lnTo>
                        <a:lnTo>
                          <a:pt x="209" y="162"/>
                        </a:lnTo>
                        <a:lnTo>
                          <a:pt x="212" y="153"/>
                        </a:lnTo>
                        <a:lnTo>
                          <a:pt x="216" y="146"/>
                        </a:lnTo>
                        <a:lnTo>
                          <a:pt x="219" y="137"/>
                        </a:lnTo>
                        <a:lnTo>
                          <a:pt x="225" y="128"/>
                        </a:lnTo>
                        <a:lnTo>
                          <a:pt x="231" y="121"/>
                        </a:lnTo>
                        <a:lnTo>
                          <a:pt x="239" y="114"/>
                        </a:lnTo>
                        <a:lnTo>
                          <a:pt x="233" y="113"/>
                        </a:lnTo>
                        <a:lnTo>
                          <a:pt x="227" y="113"/>
                        </a:lnTo>
                        <a:lnTo>
                          <a:pt x="219" y="112"/>
                        </a:lnTo>
                        <a:lnTo>
                          <a:pt x="214" y="112"/>
                        </a:lnTo>
                        <a:lnTo>
                          <a:pt x="214" y="117"/>
                        </a:lnTo>
                        <a:lnTo>
                          <a:pt x="214" y="123"/>
                        </a:lnTo>
                        <a:lnTo>
                          <a:pt x="213" y="129"/>
                        </a:lnTo>
                        <a:lnTo>
                          <a:pt x="213" y="136"/>
                        </a:lnTo>
                        <a:lnTo>
                          <a:pt x="209" y="141"/>
                        </a:lnTo>
                        <a:lnTo>
                          <a:pt x="206" y="146"/>
                        </a:lnTo>
                        <a:lnTo>
                          <a:pt x="201" y="148"/>
                        </a:lnTo>
                        <a:lnTo>
                          <a:pt x="196" y="149"/>
                        </a:lnTo>
                        <a:lnTo>
                          <a:pt x="193" y="142"/>
                        </a:lnTo>
                        <a:lnTo>
                          <a:pt x="196" y="137"/>
                        </a:lnTo>
                        <a:lnTo>
                          <a:pt x="200" y="131"/>
                        </a:lnTo>
                        <a:lnTo>
                          <a:pt x="202" y="125"/>
                        </a:lnTo>
                        <a:lnTo>
                          <a:pt x="197" y="126"/>
                        </a:lnTo>
                        <a:lnTo>
                          <a:pt x="193" y="128"/>
                        </a:lnTo>
                        <a:lnTo>
                          <a:pt x="186" y="130"/>
                        </a:lnTo>
                        <a:lnTo>
                          <a:pt x="183" y="133"/>
                        </a:lnTo>
                        <a:lnTo>
                          <a:pt x="183" y="128"/>
                        </a:lnTo>
                        <a:lnTo>
                          <a:pt x="184" y="124"/>
                        </a:lnTo>
                        <a:lnTo>
                          <a:pt x="186" y="118"/>
                        </a:lnTo>
                        <a:lnTo>
                          <a:pt x="189" y="115"/>
                        </a:lnTo>
                        <a:lnTo>
                          <a:pt x="183" y="114"/>
                        </a:lnTo>
                        <a:lnTo>
                          <a:pt x="177" y="116"/>
                        </a:lnTo>
                        <a:lnTo>
                          <a:pt x="173" y="119"/>
                        </a:lnTo>
                        <a:lnTo>
                          <a:pt x="169" y="123"/>
                        </a:lnTo>
                        <a:lnTo>
                          <a:pt x="160" y="129"/>
                        </a:lnTo>
                        <a:lnTo>
                          <a:pt x="153" y="136"/>
                        </a:lnTo>
                        <a:lnTo>
                          <a:pt x="156" y="135"/>
                        </a:lnTo>
                        <a:lnTo>
                          <a:pt x="161" y="135"/>
                        </a:lnTo>
                        <a:lnTo>
                          <a:pt x="167" y="134"/>
                        </a:lnTo>
                        <a:lnTo>
                          <a:pt x="173" y="135"/>
                        </a:lnTo>
                        <a:lnTo>
                          <a:pt x="176" y="135"/>
                        </a:lnTo>
                        <a:lnTo>
                          <a:pt x="179" y="137"/>
                        </a:lnTo>
                        <a:lnTo>
                          <a:pt x="179" y="141"/>
                        </a:lnTo>
                        <a:lnTo>
                          <a:pt x="177" y="148"/>
                        </a:lnTo>
                        <a:lnTo>
                          <a:pt x="179" y="146"/>
                        </a:lnTo>
                        <a:lnTo>
                          <a:pt x="184" y="146"/>
                        </a:lnTo>
                        <a:lnTo>
                          <a:pt x="188" y="146"/>
                        </a:lnTo>
                        <a:lnTo>
                          <a:pt x="192" y="146"/>
                        </a:lnTo>
                        <a:lnTo>
                          <a:pt x="191" y="151"/>
                        </a:lnTo>
                        <a:lnTo>
                          <a:pt x="189" y="155"/>
                        </a:lnTo>
                        <a:lnTo>
                          <a:pt x="185" y="157"/>
                        </a:lnTo>
                        <a:lnTo>
                          <a:pt x="182" y="160"/>
                        </a:lnTo>
                        <a:lnTo>
                          <a:pt x="176" y="161"/>
                        </a:lnTo>
                        <a:lnTo>
                          <a:pt x="172" y="162"/>
                        </a:lnTo>
                        <a:lnTo>
                          <a:pt x="167" y="163"/>
                        </a:lnTo>
                        <a:lnTo>
                          <a:pt x="164" y="165"/>
                        </a:lnTo>
                        <a:lnTo>
                          <a:pt x="166" y="167"/>
                        </a:lnTo>
                        <a:lnTo>
                          <a:pt x="170" y="173"/>
                        </a:lnTo>
                        <a:lnTo>
                          <a:pt x="174" y="173"/>
                        </a:lnTo>
                        <a:lnTo>
                          <a:pt x="181" y="174"/>
                        </a:lnTo>
                        <a:lnTo>
                          <a:pt x="189" y="175"/>
                        </a:lnTo>
                        <a:lnTo>
                          <a:pt x="194" y="177"/>
                        </a:lnTo>
                        <a:lnTo>
                          <a:pt x="190" y="180"/>
                        </a:lnTo>
                        <a:lnTo>
                          <a:pt x="187" y="184"/>
                        </a:lnTo>
                        <a:lnTo>
                          <a:pt x="182" y="185"/>
                        </a:lnTo>
                        <a:lnTo>
                          <a:pt x="177" y="187"/>
                        </a:lnTo>
                        <a:lnTo>
                          <a:pt x="172" y="187"/>
                        </a:lnTo>
                        <a:lnTo>
                          <a:pt x="168" y="188"/>
                        </a:lnTo>
                        <a:lnTo>
                          <a:pt x="162" y="188"/>
                        </a:lnTo>
                        <a:lnTo>
                          <a:pt x="159" y="192"/>
                        </a:lnTo>
                        <a:lnTo>
                          <a:pt x="156" y="196"/>
                        </a:lnTo>
                        <a:lnTo>
                          <a:pt x="157" y="204"/>
                        </a:lnTo>
                        <a:lnTo>
                          <a:pt x="151" y="203"/>
                        </a:lnTo>
                        <a:lnTo>
                          <a:pt x="145" y="203"/>
                        </a:lnTo>
                        <a:lnTo>
                          <a:pt x="140" y="203"/>
                        </a:lnTo>
                        <a:lnTo>
                          <a:pt x="137" y="204"/>
                        </a:lnTo>
                        <a:lnTo>
                          <a:pt x="127" y="209"/>
                        </a:lnTo>
                        <a:lnTo>
                          <a:pt x="119" y="217"/>
                        </a:lnTo>
                        <a:lnTo>
                          <a:pt x="111" y="222"/>
                        </a:lnTo>
                        <a:lnTo>
                          <a:pt x="102" y="228"/>
                        </a:lnTo>
                        <a:lnTo>
                          <a:pt x="98" y="229"/>
                        </a:lnTo>
                        <a:lnTo>
                          <a:pt x="93" y="230"/>
                        </a:lnTo>
                        <a:lnTo>
                          <a:pt x="87" y="230"/>
                        </a:lnTo>
                        <a:lnTo>
                          <a:pt x="81" y="229"/>
                        </a:lnTo>
                        <a:lnTo>
                          <a:pt x="79" y="233"/>
                        </a:lnTo>
                        <a:lnTo>
                          <a:pt x="75" y="241"/>
                        </a:lnTo>
                        <a:lnTo>
                          <a:pt x="70" y="247"/>
                        </a:lnTo>
                        <a:lnTo>
                          <a:pt x="68" y="252"/>
                        </a:lnTo>
                        <a:lnTo>
                          <a:pt x="62" y="248"/>
                        </a:lnTo>
                        <a:lnTo>
                          <a:pt x="59" y="243"/>
                        </a:lnTo>
                        <a:lnTo>
                          <a:pt x="55" y="239"/>
                        </a:lnTo>
                        <a:lnTo>
                          <a:pt x="51" y="235"/>
                        </a:lnTo>
                        <a:lnTo>
                          <a:pt x="46" y="231"/>
                        </a:lnTo>
                        <a:lnTo>
                          <a:pt x="42" y="229"/>
                        </a:lnTo>
                        <a:lnTo>
                          <a:pt x="37" y="227"/>
                        </a:lnTo>
                        <a:lnTo>
                          <a:pt x="32" y="229"/>
                        </a:lnTo>
                        <a:lnTo>
                          <a:pt x="31" y="226"/>
                        </a:lnTo>
                        <a:lnTo>
                          <a:pt x="31" y="222"/>
                        </a:lnTo>
                        <a:lnTo>
                          <a:pt x="32" y="218"/>
                        </a:lnTo>
                        <a:lnTo>
                          <a:pt x="34" y="216"/>
                        </a:lnTo>
                        <a:lnTo>
                          <a:pt x="38" y="217"/>
                        </a:lnTo>
                        <a:lnTo>
                          <a:pt x="42" y="219"/>
                        </a:lnTo>
                        <a:lnTo>
                          <a:pt x="48" y="219"/>
                        </a:lnTo>
                        <a:lnTo>
                          <a:pt x="54" y="220"/>
                        </a:lnTo>
                        <a:lnTo>
                          <a:pt x="58" y="220"/>
                        </a:lnTo>
                        <a:lnTo>
                          <a:pt x="62" y="223"/>
                        </a:lnTo>
                        <a:lnTo>
                          <a:pt x="64" y="228"/>
                        </a:lnTo>
                        <a:lnTo>
                          <a:pt x="66" y="236"/>
                        </a:lnTo>
                        <a:lnTo>
                          <a:pt x="68" y="227"/>
                        </a:lnTo>
                        <a:lnTo>
                          <a:pt x="67" y="219"/>
                        </a:lnTo>
                        <a:lnTo>
                          <a:pt x="65" y="214"/>
                        </a:lnTo>
                        <a:lnTo>
                          <a:pt x="66" y="211"/>
                        </a:lnTo>
                        <a:lnTo>
                          <a:pt x="68" y="208"/>
                        </a:lnTo>
                        <a:lnTo>
                          <a:pt x="74" y="208"/>
                        </a:lnTo>
                        <a:lnTo>
                          <a:pt x="71" y="208"/>
                        </a:lnTo>
                        <a:lnTo>
                          <a:pt x="67" y="208"/>
                        </a:lnTo>
                        <a:lnTo>
                          <a:pt x="63" y="208"/>
                        </a:lnTo>
                        <a:lnTo>
                          <a:pt x="61" y="208"/>
                        </a:lnTo>
                        <a:lnTo>
                          <a:pt x="60" y="205"/>
                        </a:lnTo>
                        <a:lnTo>
                          <a:pt x="58" y="203"/>
                        </a:lnTo>
                        <a:lnTo>
                          <a:pt x="55" y="198"/>
                        </a:lnTo>
                        <a:lnTo>
                          <a:pt x="54" y="197"/>
                        </a:lnTo>
                        <a:lnTo>
                          <a:pt x="46" y="203"/>
                        </a:lnTo>
                        <a:lnTo>
                          <a:pt x="39" y="206"/>
                        </a:lnTo>
                        <a:lnTo>
                          <a:pt x="34" y="206"/>
                        </a:lnTo>
                        <a:lnTo>
                          <a:pt x="31" y="209"/>
                        </a:lnTo>
                        <a:lnTo>
                          <a:pt x="28" y="212"/>
                        </a:lnTo>
                        <a:lnTo>
                          <a:pt x="27" y="219"/>
                        </a:lnTo>
                        <a:lnTo>
                          <a:pt x="23" y="219"/>
                        </a:lnTo>
                        <a:lnTo>
                          <a:pt x="19" y="219"/>
                        </a:lnTo>
                        <a:lnTo>
                          <a:pt x="18" y="212"/>
                        </a:lnTo>
                        <a:lnTo>
                          <a:pt x="16" y="207"/>
                        </a:lnTo>
                        <a:lnTo>
                          <a:pt x="11" y="203"/>
                        </a:lnTo>
                        <a:lnTo>
                          <a:pt x="7" y="201"/>
                        </a:lnTo>
                        <a:lnTo>
                          <a:pt x="3" y="196"/>
                        </a:lnTo>
                        <a:lnTo>
                          <a:pt x="1" y="192"/>
                        </a:lnTo>
                        <a:lnTo>
                          <a:pt x="0" y="186"/>
                        </a:lnTo>
                        <a:lnTo>
                          <a:pt x="4" y="180"/>
                        </a:lnTo>
                        <a:lnTo>
                          <a:pt x="7" y="177"/>
                        </a:lnTo>
                        <a:lnTo>
                          <a:pt x="12" y="179"/>
                        </a:lnTo>
                        <a:lnTo>
                          <a:pt x="15" y="182"/>
                        </a:lnTo>
                        <a:lnTo>
                          <a:pt x="18" y="187"/>
                        </a:lnTo>
                        <a:lnTo>
                          <a:pt x="21" y="191"/>
                        </a:lnTo>
                        <a:lnTo>
                          <a:pt x="23" y="195"/>
                        </a:lnTo>
                        <a:lnTo>
                          <a:pt x="27" y="196"/>
                        </a:lnTo>
                        <a:lnTo>
                          <a:pt x="34" y="195"/>
                        </a:lnTo>
                        <a:lnTo>
                          <a:pt x="32" y="185"/>
                        </a:lnTo>
                        <a:lnTo>
                          <a:pt x="37" y="180"/>
                        </a:lnTo>
                        <a:lnTo>
                          <a:pt x="43" y="176"/>
                        </a:lnTo>
                        <a:lnTo>
                          <a:pt x="52" y="175"/>
                        </a:lnTo>
                        <a:lnTo>
                          <a:pt x="61" y="176"/>
                        </a:lnTo>
                        <a:lnTo>
                          <a:pt x="68" y="180"/>
                        </a:lnTo>
                        <a:lnTo>
                          <a:pt x="73" y="185"/>
                        </a:lnTo>
                        <a:lnTo>
                          <a:pt x="76" y="195"/>
                        </a:lnTo>
                        <a:lnTo>
                          <a:pt x="79" y="195"/>
                        </a:lnTo>
                        <a:lnTo>
                          <a:pt x="81" y="195"/>
                        </a:lnTo>
                        <a:lnTo>
                          <a:pt x="82" y="186"/>
                        </a:lnTo>
                        <a:lnTo>
                          <a:pt x="86" y="181"/>
                        </a:lnTo>
                        <a:lnTo>
                          <a:pt x="91" y="176"/>
                        </a:lnTo>
                        <a:lnTo>
                          <a:pt x="97" y="172"/>
                        </a:lnTo>
                        <a:lnTo>
                          <a:pt x="102" y="168"/>
                        </a:lnTo>
                        <a:lnTo>
                          <a:pt x="109" y="165"/>
                        </a:lnTo>
                        <a:lnTo>
                          <a:pt x="114" y="159"/>
                        </a:lnTo>
                        <a:lnTo>
                          <a:pt x="119" y="154"/>
                        </a:lnTo>
                        <a:lnTo>
                          <a:pt x="124" y="147"/>
                        </a:lnTo>
                        <a:lnTo>
                          <a:pt x="129" y="142"/>
                        </a:lnTo>
                        <a:lnTo>
                          <a:pt x="135" y="136"/>
                        </a:lnTo>
                        <a:lnTo>
                          <a:pt x="140" y="131"/>
                        </a:lnTo>
                        <a:lnTo>
                          <a:pt x="145" y="126"/>
                        </a:lnTo>
                        <a:lnTo>
                          <a:pt x="151" y="120"/>
                        </a:lnTo>
                        <a:lnTo>
                          <a:pt x="156" y="115"/>
                        </a:lnTo>
                        <a:lnTo>
                          <a:pt x="162" y="111"/>
                        </a:lnTo>
                        <a:lnTo>
                          <a:pt x="168" y="107"/>
                        </a:lnTo>
                        <a:lnTo>
                          <a:pt x="174" y="103"/>
                        </a:lnTo>
                        <a:lnTo>
                          <a:pt x="179" y="100"/>
                        </a:lnTo>
                        <a:lnTo>
                          <a:pt x="186" y="98"/>
                        </a:lnTo>
                        <a:lnTo>
                          <a:pt x="193" y="95"/>
                        </a:lnTo>
                        <a:lnTo>
                          <a:pt x="200" y="95"/>
                        </a:lnTo>
                        <a:lnTo>
                          <a:pt x="208" y="94"/>
                        </a:lnTo>
                        <a:lnTo>
                          <a:pt x="216" y="96"/>
                        </a:lnTo>
                        <a:lnTo>
                          <a:pt x="223" y="92"/>
                        </a:lnTo>
                        <a:lnTo>
                          <a:pt x="233" y="89"/>
                        </a:lnTo>
                        <a:lnTo>
                          <a:pt x="238" y="88"/>
                        </a:lnTo>
                        <a:lnTo>
                          <a:pt x="243" y="89"/>
                        </a:lnTo>
                        <a:lnTo>
                          <a:pt x="246" y="91"/>
                        </a:lnTo>
                        <a:lnTo>
                          <a:pt x="250" y="97"/>
                        </a:lnTo>
                        <a:lnTo>
                          <a:pt x="251" y="91"/>
                        </a:lnTo>
                        <a:lnTo>
                          <a:pt x="254" y="89"/>
                        </a:lnTo>
                        <a:lnTo>
                          <a:pt x="257" y="89"/>
                        </a:lnTo>
                        <a:lnTo>
                          <a:pt x="262" y="89"/>
                        </a:lnTo>
                        <a:lnTo>
                          <a:pt x="269" y="88"/>
                        </a:lnTo>
                        <a:lnTo>
                          <a:pt x="276" y="83"/>
                        </a:lnTo>
                        <a:lnTo>
                          <a:pt x="272" y="81"/>
                        </a:lnTo>
                        <a:lnTo>
                          <a:pt x="270" y="77"/>
                        </a:lnTo>
                        <a:lnTo>
                          <a:pt x="269" y="72"/>
                        </a:lnTo>
                        <a:lnTo>
                          <a:pt x="270" y="70"/>
                        </a:lnTo>
                        <a:lnTo>
                          <a:pt x="275" y="68"/>
                        </a:lnTo>
                        <a:lnTo>
                          <a:pt x="280" y="65"/>
                        </a:lnTo>
                        <a:lnTo>
                          <a:pt x="286" y="62"/>
                        </a:lnTo>
                        <a:lnTo>
                          <a:pt x="291" y="60"/>
                        </a:lnTo>
                        <a:lnTo>
                          <a:pt x="297" y="57"/>
                        </a:lnTo>
                        <a:lnTo>
                          <a:pt x="303" y="57"/>
                        </a:lnTo>
                        <a:lnTo>
                          <a:pt x="308" y="56"/>
                        </a:lnTo>
                        <a:lnTo>
                          <a:pt x="316" y="58"/>
                        </a:lnTo>
                        <a:lnTo>
                          <a:pt x="316" y="50"/>
                        </a:lnTo>
                        <a:lnTo>
                          <a:pt x="318" y="42"/>
                        </a:lnTo>
                        <a:lnTo>
                          <a:pt x="320" y="33"/>
                        </a:lnTo>
                        <a:lnTo>
                          <a:pt x="324" y="26"/>
                        </a:lnTo>
                        <a:lnTo>
                          <a:pt x="327" y="18"/>
                        </a:lnTo>
                        <a:lnTo>
                          <a:pt x="331" y="12"/>
                        </a:lnTo>
                        <a:lnTo>
                          <a:pt x="337" y="5"/>
                        </a:lnTo>
                        <a:lnTo>
                          <a:pt x="345" y="0"/>
                        </a:lnTo>
                        <a:lnTo>
                          <a:pt x="345" y="0"/>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7" name=""/>
                  <p:cNvSpPr/>
                  <p:nvPr/>
                </p:nvSpPr>
                <p:spPr>
                  <a:xfrm rot="1050600">
                    <a:off x="4586400" y="4906080"/>
                    <a:ext cx="10800" cy="2880"/>
                  </a:xfrm>
                  <a:custGeom>
                    <a:avLst/>
                    <a:gdLst/>
                    <a:ahLst/>
                    <a:rect l="l" t="t" r="r" b="b"/>
                    <a:pathLst>
                      <a:path w="14" h="3">
                        <a:moveTo>
                          <a:pt x="14" y="3"/>
                        </a:moveTo>
                        <a:lnTo>
                          <a:pt x="7" y="0"/>
                        </a:lnTo>
                        <a:lnTo>
                          <a:pt x="2" y="1"/>
                        </a:lnTo>
                        <a:lnTo>
                          <a:pt x="0" y="2"/>
                        </a:lnTo>
                        <a:lnTo>
                          <a:pt x="2" y="3"/>
                        </a:lnTo>
                        <a:lnTo>
                          <a:pt x="5" y="3"/>
                        </a:lnTo>
                        <a:lnTo>
                          <a:pt x="14" y="3"/>
                        </a:lnTo>
                        <a:lnTo>
                          <a:pt x="14" y="3"/>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08" name=""/>
                  <p:cNvSpPr/>
                  <p:nvPr/>
                </p:nvSpPr>
                <p:spPr>
                  <a:xfrm rot="1050600">
                    <a:off x="4719600" y="4858200"/>
                    <a:ext cx="29520" cy="21960"/>
                  </a:xfrm>
                  <a:custGeom>
                    <a:avLst/>
                    <a:gdLst/>
                    <a:ahLst/>
                    <a:rect l="l" t="t" r="r" b="b"/>
                    <a:pathLst>
                      <a:path w="38" h="22">
                        <a:moveTo>
                          <a:pt x="10" y="0"/>
                        </a:moveTo>
                        <a:lnTo>
                          <a:pt x="16" y="2"/>
                        </a:lnTo>
                        <a:lnTo>
                          <a:pt x="23" y="2"/>
                        </a:lnTo>
                        <a:lnTo>
                          <a:pt x="30" y="1"/>
                        </a:lnTo>
                        <a:lnTo>
                          <a:pt x="38" y="3"/>
                        </a:lnTo>
                        <a:lnTo>
                          <a:pt x="30" y="7"/>
                        </a:lnTo>
                        <a:lnTo>
                          <a:pt x="23" y="11"/>
                        </a:lnTo>
                        <a:lnTo>
                          <a:pt x="15" y="15"/>
                        </a:lnTo>
                        <a:lnTo>
                          <a:pt x="7" y="22"/>
                        </a:lnTo>
                        <a:lnTo>
                          <a:pt x="5" y="18"/>
                        </a:lnTo>
                        <a:lnTo>
                          <a:pt x="2" y="13"/>
                        </a:lnTo>
                        <a:lnTo>
                          <a:pt x="0" y="9"/>
                        </a:lnTo>
                        <a:lnTo>
                          <a:pt x="0" y="6"/>
                        </a:lnTo>
                        <a:lnTo>
                          <a:pt x="2" y="4"/>
                        </a:lnTo>
                        <a:lnTo>
                          <a:pt x="5" y="2"/>
                        </a:lnTo>
                        <a:lnTo>
                          <a:pt x="7" y="0"/>
                        </a:lnTo>
                        <a:lnTo>
                          <a:pt x="10" y="0"/>
                        </a:lnTo>
                        <a:lnTo>
                          <a:pt x="10"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509" name=""/>
                  <p:cNvSpPr/>
                  <p:nvPr/>
                </p:nvSpPr>
                <p:spPr>
                  <a:xfrm rot="1050600">
                    <a:off x="4704120" y="4863960"/>
                    <a:ext cx="4680" cy="18000"/>
                  </a:xfrm>
                  <a:custGeom>
                    <a:avLst/>
                    <a:gdLst/>
                    <a:ahLst/>
                    <a:rect l="l" t="t" r="r" b="b"/>
                    <a:pathLst>
                      <a:path w="6" h="18">
                        <a:moveTo>
                          <a:pt x="6" y="0"/>
                        </a:moveTo>
                        <a:lnTo>
                          <a:pt x="6" y="3"/>
                        </a:lnTo>
                        <a:lnTo>
                          <a:pt x="6" y="8"/>
                        </a:lnTo>
                        <a:lnTo>
                          <a:pt x="5" y="12"/>
                        </a:lnTo>
                        <a:lnTo>
                          <a:pt x="4" y="16"/>
                        </a:lnTo>
                        <a:lnTo>
                          <a:pt x="1" y="18"/>
                        </a:lnTo>
                        <a:lnTo>
                          <a:pt x="0" y="18"/>
                        </a:lnTo>
                        <a:lnTo>
                          <a:pt x="0" y="15"/>
                        </a:lnTo>
                        <a:lnTo>
                          <a:pt x="3" y="8"/>
                        </a:lnTo>
                        <a:lnTo>
                          <a:pt x="4" y="2"/>
                        </a:lnTo>
                        <a:lnTo>
                          <a:pt x="6" y="0"/>
                        </a:lnTo>
                        <a:lnTo>
                          <a:pt x="6"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10" name=""/>
                  <p:cNvSpPr/>
                  <p:nvPr/>
                </p:nvSpPr>
                <p:spPr>
                  <a:xfrm rot="1050600">
                    <a:off x="4722120" y="4876560"/>
                    <a:ext cx="27000" cy="32040"/>
                  </a:xfrm>
                  <a:custGeom>
                    <a:avLst/>
                    <a:gdLst/>
                    <a:ahLst/>
                    <a:rect l="l" t="t" r="r" b="b"/>
                    <a:pathLst>
                      <a:path w="35" h="32">
                        <a:moveTo>
                          <a:pt x="31" y="0"/>
                        </a:moveTo>
                        <a:lnTo>
                          <a:pt x="35" y="8"/>
                        </a:lnTo>
                        <a:lnTo>
                          <a:pt x="35" y="16"/>
                        </a:lnTo>
                        <a:lnTo>
                          <a:pt x="32" y="22"/>
                        </a:lnTo>
                        <a:lnTo>
                          <a:pt x="29" y="28"/>
                        </a:lnTo>
                        <a:lnTo>
                          <a:pt x="22" y="31"/>
                        </a:lnTo>
                        <a:lnTo>
                          <a:pt x="16" y="32"/>
                        </a:lnTo>
                        <a:lnTo>
                          <a:pt x="8" y="32"/>
                        </a:lnTo>
                        <a:lnTo>
                          <a:pt x="2" y="31"/>
                        </a:lnTo>
                        <a:lnTo>
                          <a:pt x="0" y="24"/>
                        </a:lnTo>
                        <a:lnTo>
                          <a:pt x="0" y="19"/>
                        </a:lnTo>
                        <a:lnTo>
                          <a:pt x="7" y="13"/>
                        </a:lnTo>
                        <a:lnTo>
                          <a:pt x="16" y="9"/>
                        </a:lnTo>
                        <a:lnTo>
                          <a:pt x="23" y="5"/>
                        </a:lnTo>
                        <a:lnTo>
                          <a:pt x="31" y="0"/>
                        </a:lnTo>
                        <a:lnTo>
                          <a:pt x="31"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11" name=""/>
                  <p:cNvSpPr/>
                  <p:nvPr/>
                </p:nvSpPr>
                <p:spPr>
                  <a:xfrm rot="1050600">
                    <a:off x="3951360" y="4719240"/>
                    <a:ext cx="492840" cy="340560"/>
                  </a:xfrm>
                  <a:custGeom>
                    <a:avLst/>
                    <a:gdLst/>
                    <a:ahLst/>
                    <a:rect l="l" t="t" r="r" b="b"/>
                    <a:pathLst>
                      <a:path w="630" h="337">
                        <a:moveTo>
                          <a:pt x="470" y="3"/>
                        </a:moveTo>
                        <a:lnTo>
                          <a:pt x="474" y="0"/>
                        </a:lnTo>
                        <a:lnTo>
                          <a:pt x="481" y="1"/>
                        </a:lnTo>
                        <a:lnTo>
                          <a:pt x="486" y="3"/>
                        </a:lnTo>
                        <a:lnTo>
                          <a:pt x="493" y="7"/>
                        </a:lnTo>
                        <a:lnTo>
                          <a:pt x="496" y="9"/>
                        </a:lnTo>
                        <a:lnTo>
                          <a:pt x="497" y="12"/>
                        </a:lnTo>
                        <a:lnTo>
                          <a:pt x="496" y="13"/>
                        </a:lnTo>
                        <a:lnTo>
                          <a:pt x="493" y="14"/>
                        </a:lnTo>
                        <a:lnTo>
                          <a:pt x="489" y="15"/>
                        </a:lnTo>
                        <a:lnTo>
                          <a:pt x="485" y="16"/>
                        </a:lnTo>
                        <a:lnTo>
                          <a:pt x="478" y="18"/>
                        </a:lnTo>
                        <a:lnTo>
                          <a:pt x="472" y="26"/>
                        </a:lnTo>
                        <a:lnTo>
                          <a:pt x="470" y="33"/>
                        </a:lnTo>
                        <a:lnTo>
                          <a:pt x="474" y="41"/>
                        </a:lnTo>
                        <a:lnTo>
                          <a:pt x="473" y="32"/>
                        </a:lnTo>
                        <a:lnTo>
                          <a:pt x="478" y="28"/>
                        </a:lnTo>
                        <a:lnTo>
                          <a:pt x="484" y="27"/>
                        </a:lnTo>
                        <a:lnTo>
                          <a:pt x="488" y="33"/>
                        </a:lnTo>
                        <a:lnTo>
                          <a:pt x="492" y="28"/>
                        </a:lnTo>
                        <a:lnTo>
                          <a:pt x="496" y="24"/>
                        </a:lnTo>
                        <a:lnTo>
                          <a:pt x="500" y="18"/>
                        </a:lnTo>
                        <a:lnTo>
                          <a:pt x="504" y="13"/>
                        </a:lnTo>
                        <a:lnTo>
                          <a:pt x="506" y="8"/>
                        </a:lnTo>
                        <a:lnTo>
                          <a:pt x="510" y="6"/>
                        </a:lnTo>
                        <a:lnTo>
                          <a:pt x="516" y="4"/>
                        </a:lnTo>
                        <a:lnTo>
                          <a:pt x="523" y="6"/>
                        </a:lnTo>
                        <a:lnTo>
                          <a:pt x="530" y="4"/>
                        </a:lnTo>
                        <a:lnTo>
                          <a:pt x="538" y="6"/>
                        </a:lnTo>
                        <a:lnTo>
                          <a:pt x="544" y="8"/>
                        </a:lnTo>
                        <a:lnTo>
                          <a:pt x="551" y="12"/>
                        </a:lnTo>
                        <a:lnTo>
                          <a:pt x="557" y="15"/>
                        </a:lnTo>
                        <a:lnTo>
                          <a:pt x="563" y="19"/>
                        </a:lnTo>
                        <a:lnTo>
                          <a:pt x="570" y="21"/>
                        </a:lnTo>
                        <a:lnTo>
                          <a:pt x="579" y="23"/>
                        </a:lnTo>
                        <a:lnTo>
                          <a:pt x="581" y="31"/>
                        </a:lnTo>
                        <a:lnTo>
                          <a:pt x="583" y="42"/>
                        </a:lnTo>
                        <a:lnTo>
                          <a:pt x="583" y="51"/>
                        </a:lnTo>
                        <a:lnTo>
                          <a:pt x="584" y="62"/>
                        </a:lnTo>
                        <a:lnTo>
                          <a:pt x="583" y="66"/>
                        </a:lnTo>
                        <a:lnTo>
                          <a:pt x="583" y="71"/>
                        </a:lnTo>
                        <a:lnTo>
                          <a:pt x="582" y="77"/>
                        </a:lnTo>
                        <a:lnTo>
                          <a:pt x="582" y="83"/>
                        </a:lnTo>
                        <a:lnTo>
                          <a:pt x="581" y="87"/>
                        </a:lnTo>
                        <a:lnTo>
                          <a:pt x="581" y="92"/>
                        </a:lnTo>
                        <a:lnTo>
                          <a:pt x="581" y="98"/>
                        </a:lnTo>
                        <a:lnTo>
                          <a:pt x="581" y="104"/>
                        </a:lnTo>
                        <a:lnTo>
                          <a:pt x="578" y="105"/>
                        </a:lnTo>
                        <a:lnTo>
                          <a:pt x="575" y="107"/>
                        </a:lnTo>
                        <a:lnTo>
                          <a:pt x="584" y="104"/>
                        </a:lnTo>
                        <a:lnTo>
                          <a:pt x="595" y="107"/>
                        </a:lnTo>
                        <a:lnTo>
                          <a:pt x="600" y="108"/>
                        </a:lnTo>
                        <a:lnTo>
                          <a:pt x="605" y="110"/>
                        </a:lnTo>
                        <a:lnTo>
                          <a:pt x="610" y="108"/>
                        </a:lnTo>
                        <a:lnTo>
                          <a:pt x="615" y="104"/>
                        </a:lnTo>
                        <a:lnTo>
                          <a:pt x="608" y="103"/>
                        </a:lnTo>
                        <a:lnTo>
                          <a:pt x="605" y="98"/>
                        </a:lnTo>
                        <a:lnTo>
                          <a:pt x="605" y="92"/>
                        </a:lnTo>
                        <a:lnTo>
                          <a:pt x="608" y="87"/>
                        </a:lnTo>
                        <a:lnTo>
                          <a:pt x="610" y="84"/>
                        </a:lnTo>
                        <a:lnTo>
                          <a:pt x="615" y="83"/>
                        </a:lnTo>
                        <a:lnTo>
                          <a:pt x="617" y="83"/>
                        </a:lnTo>
                        <a:lnTo>
                          <a:pt x="619" y="85"/>
                        </a:lnTo>
                        <a:lnTo>
                          <a:pt x="621" y="87"/>
                        </a:lnTo>
                        <a:lnTo>
                          <a:pt x="624" y="93"/>
                        </a:lnTo>
                        <a:lnTo>
                          <a:pt x="628" y="97"/>
                        </a:lnTo>
                        <a:lnTo>
                          <a:pt x="630" y="102"/>
                        </a:lnTo>
                        <a:lnTo>
                          <a:pt x="630" y="107"/>
                        </a:lnTo>
                        <a:lnTo>
                          <a:pt x="630" y="113"/>
                        </a:lnTo>
                        <a:lnTo>
                          <a:pt x="628" y="119"/>
                        </a:lnTo>
                        <a:lnTo>
                          <a:pt x="627" y="124"/>
                        </a:lnTo>
                        <a:lnTo>
                          <a:pt x="627" y="130"/>
                        </a:lnTo>
                        <a:lnTo>
                          <a:pt x="628" y="137"/>
                        </a:lnTo>
                        <a:lnTo>
                          <a:pt x="622" y="137"/>
                        </a:lnTo>
                        <a:lnTo>
                          <a:pt x="618" y="137"/>
                        </a:lnTo>
                        <a:lnTo>
                          <a:pt x="616" y="133"/>
                        </a:lnTo>
                        <a:lnTo>
                          <a:pt x="612" y="128"/>
                        </a:lnTo>
                        <a:lnTo>
                          <a:pt x="606" y="124"/>
                        </a:lnTo>
                        <a:lnTo>
                          <a:pt x="603" y="123"/>
                        </a:lnTo>
                        <a:lnTo>
                          <a:pt x="598" y="124"/>
                        </a:lnTo>
                        <a:lnTo>
                          <a:pt x="595" y="127"/>
                        </a:lnTo>
                        <a:lnTo>
                          <a:pt x="592" y="131"/>
                        </a:lnTo>
                        <a:lnTo>
                          <a:pt x="592" y="136"/>
                        </a:lnTo>
                        <a:lnTo>
                          <a:pt x="591" y="141"/>
                        </a:lnTo>
                        <a:lnTo>
                          <a:pt x="591" y="145"/>
                        </a:lnTo>
                        <a:lnTo>
                          <a:pt x="591" y="150"/>
                        </a:lnTo>
                        <a:lnTo>
                          <a:pt x="591" y="156"/>
                        </a:lnTo>
                        <a:lnTo>
                          <a:pt x="583" y="157"/>
                        </a:lnTo>
                        <a:lnTo>
                          <a:pt x="578" y="159"/>
                        </a:lnTo>
                        <a:lnTo>
                          <a:pt x="575" y="153"/>
                        </a:lnTo>
                        <a:lnTo>
                          <a:pt x="572" y="148"/>
                        </a:lnTo>
                        <a:lnTo>
                          <a:pt x="568" y="143"/>
                        </a:lnTo>
                        <a:lnTo>
                          <a:pt x="565" y="140"/>
                        </a:lnTo>
                        <a:lnTo>
                          <a:pt x="557" y="132"/>
                        </a:lnTo>
                        <a:lnTo>
                          <a:pt x="549" y="125"/>
                        </a:lnTo>
                        <a:lnTo>
                          <a:pt x="541" y="117"/>
                        </a:lnTo>
                        <a:lnTo>
                          <a:pt x="535" y="109"/>
                        </a:lnTo>
                        <a:lnTo>
                          <a:pt x="532" y="104"/>
                        </a:lnTo>
                        <a:lnTo>
                          <a:pt x="531" y="100"/>
                        </a:lnTo>
                        <a:lnTo>
                          <a:pt x="531" y="95"/>
                        </a:lnTo>
                        <a:lnTo>
                          <a:pt x="532" y="90"/>
                        </a:lnTo>
                        <a:lnTo>
                          <a:pt x="527" y="87"/>
                        </a:lnTo>
                        <a:lnTo>
                          <a:pt x="523" y="85"/>
                        </a:lnTo>
                        <a:lnTo>
                          <a:pt x="524" y="80"/>
                        </a:lnTo>
                        <a:lnTo>
                          <a:pt x="526" y="74"/>
                        </a:lnTo>
                        <a:lnTo>
                          <a:pt x="529" y="68"/>
                        </a:lnTo>
                        <a:lnTo>
                          <a:pt x="532" y="63"/>
                        </a:lnTo>
                        <a:lnTo>
                          <a:pt x="535" y="57"/>
                        </a:lnTo>
                        <a:lnTo>
                          <a:pt x="538" y="51"/>
                        </a:lnTo>
                        <a:lnTo>
                          <a:pt x="541" y="47"/>
                        </a:lnTo>
                        <a:lnTo>
                          <a:pt x="546" y="42"/>
                        </a:lnTo>
                        <a:lnTo>
                          <a:pt x="541" y="35"/>
                        </a:lnTo>
                        <a:lnTo>
                          <a:pt x="534" y="32"/>
                        </a:lnTo>
                        <a:lnTo>
                          <a:pt x="526" y="33"/>
                        </a:lnTo>
                        <a:lnTo>
                          <a:pt x="522" y="39"/>
                        </a:lnTo>
                        <a:lnTo>
                          <a:pt x="523" y="40"/>
                        </a:lnTo>
                        <a:lnTo>
                          <a:pt x="527" y="43"/>
                        </a:lnTo>
                        <a:lnTo>
                          <a:pt x="529" y="47"/>
                        </a:lnTo>
                        <a:lnTo>
                          <a:pt x="532" y="51"/>
                        </a:lnTo>
                        <a:lnTo>
                          <a:pt x="523" y="49"/>
                        </a:lnTo>
                        <a:lnTo>
                          <a:pt x="520" y="53"/>
                        </a:lnTo>
                        <a:lnTo>
                          <a:pt x="518" y="61"/>
                        </a:lnTo>
                        <a:lnTo>
                          <a:pt x="518" y="70"/>
                        </a:lnTo>
                        <a:lnTo>
                          <a:pt x="516" y="79"/>
                        </a:lnTo>
                        <a:lnTo>
                          <a:pt x="513" y="86"/>
                        </a:lnTo>
                        <a:lnTo>
                          <a:pt x="510" y="88"/>
                        </a:lnTo>
                        <a:lnTo>
                          <a:pt x="507" y="91"/>
                        </a:lnTo>
                        <a:lnTo>
                          <a:pt x="503" y="91"/>
                        </a:lnTo>
                        <a:lnTo>
                          <a:pt x="498" y="91"/>
                        </a:lnTo>
                        <a:lnTo>
                          <a:pt x="488" y="90"/>
                        </a:lnTo>
                        <a:lnTo>
                          <a:pt x="479" y="90"/>
                        </a:lnTo>
                        <a:lnTo>
                          <a:pt x="469" y="90"/>
                        </a:lnTo>
                        <a:lnTo>
                          <a:pt x="461" y="90"/>
                        </a:lnTo>
                        <a:lnTo>
                          <a:pt x="460" y="85"/>
                        </a:lnTo>
                        <a:lnTo>
                          <a:pt x="460" y="82"/>
                        </a:lnTo>
                        <a:lnTo>
                          <a:pt x="460" y="77"/>
                        </a:lnTo>
                        <a:lnTo>
                          <a:pt x="460" y="75"/>
                        </a:lnTo>
                        <a:lnTo>
                          <a:pt x="453" y="76"/>
                        </a:lnTo>
                        <a:lnTo>
                          <a:pt x="452" y="80"/>
                        </a:lnTo>
                        <a:lnTo>
                          <a:pt x="454" y="85"/>
                        </a:lnTo>
                        <a:lnTo>
                          <a:pt x="457" y="91"/>
                        </a:lnTo>
                        <a:lnTo>
                          <a:pt x="458" y="95"/>
                        </a:lnTo>
                        <a:lnTo>
                          <a:pt x="459" y="99"/>
                        </a:lnTo>
                        <a:lnTo>
                          <a:pt x="456" y="102"/>
                        </a:lnTo>
                        <a:lnTo>
                          <a:pt x="449" y="102"/>
                        </a:lnTo>
                        <a:lnTo>
                          <a:pt x="447" y="93"/>
                        </a:lnTo>
                        <a:lnTo>
                          <a:pt x="444" y="90"/>
                        </a:lnTo>
                        <a:lnTo>
                          <a:pt x="440" y="90"/>
                        </a:lnTo>
                        <a:lnTo>
                          <a:pt x="437" y="94"/>
                        </a:lnTo>
                        <a:lnTo>
                          <a:pt x="432" y="97"/>
                        </a:lnTo>
                        <a:lnTo>
                          <a:pt x="428" y="101"/>
                        </a:lnTo>
                        <a:lnTo>
                          <a:pt x="425" y="103"/>
                        </a:lnTo>
                        <a:lnTo>
                          <a:pt x="421" y="104"/>
                        </a:lnTo>
                        <a:lnTo>
                          <a:pt x="420" y="100"/>
                        </a:lnTo>
                        <a:lnTo>
                          <a:pt x="420" y="96"/>
                        </a:lnTo>
                        <a:lnTo>
                          <a:pt x="420" y="91"/>
                        </a:lnTo>
                        <a:lnTo>
                          <a:pt x="421" y="90"/>
                        </a:lnTo>
                        <a:lnTo>
                          <a:pt x="412" y="90"/>
                        </a:lnTo>
                        <a:lnTo>
                          <a:pt x="407" y="92"/>
                        </a:lnTo>
                        <a:lnTo>
                          <a:pt x="402" y="95"/>
                        </a:lnTo>
                        <a:lnTo>
                          <a:pt x="399" y="101"/>
                        </a:lnTo>
                        <a:lnTo>
                          <a:pt x="396" y="105"/>
                        </a:lnTo>
                        <a:lnTo>
                          <a:pt x="395" y="112"/>
                        </a:lnTo>
                        <a:lnTo>
                          <a:pt x="394" y="119"/>
                        </a:lnTo>
                        <a:lnTo>
                          <a:pt x="395" y="127"/>
                        </a:lnTo>
                        <a:lnTo>
                          <a:pt x="386" y="130"/>
                        </a:lnTo>
                        <a:lnTo>
                          <a:pt x="379" y="126"/>
                        </a:lnTo>
                        <a:lnTo>
                          <a:pt x="377" y="118"/>
                        </a:lnTo>
                        <a:lnTo>
                          <a:pt x="382" y="112"/>
                        </a:lnTo>
                        <a:lnTo>
                          <a:pt x="379" y="109"/>
                        </a:lnTo>
                        <a:lnTo>
                          <a:pt x="377" y="106"/>
                        </a:lnTo>
                        <a:lnTo>
                          <a:pt x="371" y="109"/>
                        </a:lnTo>
                        <a:lnTo>
                          <a:pt x="369" y="113"/>
                        </a:lnTo>
                        <a:lnTo>
                          <a:pt x="369" y="117"/>
                        </a:lnTo>
                        <a:lnTo>
                          <a:pt x="371" y="123"/>
                        </a:lnTo>
                        <a:lnTo>
                          <a:pt x="377" y="131"/>
                        </a:lnTo>
                        <a:lnTo>
                          <a:pt x="379" y="142"/>
                        </a:lnTo>
                        <a:lnTo>
                          <a:pt x="385" y="139"/>
                        </a:lnTo>
                        <a:lnTo>
                          <a:pt x="391" y="136"/>
                        </a:lnTo>
                        <a:lnTo>
                          <a:pt x="397" y="130"/>
                        </a:lnTo>
                        <a:lnTo>
                          <a:pt x="403" y="125"/>
                        </a:lnTo>
                        <a:lnTo>
                          <a:pt x="408" y="120"/>
                        </a:lnTo>
                        <a:lnTo>
                          <a:pt x="413" y="116"/>
                        </a:lnTo>
                        <a:lnTo>
                          <a:pt x="419" y="112"/>
                        </a:lnTo>
                        <a:lnTo>
                          <a:pt x="428" y="112"/>
                        </a:lnTo>
                        <a:lnTo>
                          <a:pt x="433" y="107"/>
                        </a:lnTo>
                        <a:lnTo>
                          <a:pt x="440" y="104"/>
                        </a:lnTo>
                        <a:lnTo>
                          <a:pt x="444" y="106"/>
                        </a:lnTo>
                        <a:lnTo>
                          <a:pt x="449" y="111"/>
                        </a:lnTo>
                        <a:lnTo>
                          <a:pt x="442" y="117"/>
                        </a:lnTo>
                        <a:lnTo>
                          <a:pt x="435" y="122"/>
                        </a:lnTo>
                        <a:lnTo>
                          <a:pt x="428" y="125"/>
                        </a:lnTo>
                        <a:lnTo>
                          <a:pt x="420" y="129"/>
                        </a:lnTo>
                        <a:lnTo>
                          <a:pt x="412" y="132"/>
                        </a:lnTo>
                        <a:lnTo>
                          <a:pt x="406" y="138"/>
                        </a:lnTo>
                        <a:lnTo>
                          <a:pt x="399" y="143"/>
                        </a:lnTo>
                        <a:lnTo>
                          <a:pt x="394" y="153"/>
                        </a:lnTo>
                        <a:lnTo>
                          <a:pt x="386" y="156"/>
                        </a:lnTo>
                        <a:lnTo>
                          <a:pt x="378" y="157"/>
                        </a:lnTo>
                        <a:lnTo>
                          <a:pt x="370" y="157"/>
                        </a:lnTo>
                        <a:lnTo>
                          <a:pt x="362" y="158"/>
                        </a:lnTo>
                        <a:lnTo>
                          <a:pt x="353" y="158"/>
                        </a:lnTo>
                        <a:lnTo>
                          <a:pt x="347" y="160"/>
                        </a:lnTo>
                        <a:lnTo>
                          <a:pt x="339" y="164"/>
                        </a:lnTo>
                        <a:lnTo>
                          <a:pt x="334" y="173"/>
                        </a:lnTo>
                        <a:lnTo>
                          <a:pt x="329" y="178"/>
                        </a:lnTo>
                        <a:lnTo>
                          <a:pt x="323" y="183"/>
                        </a:lnTo>
                        <a:lnTo>
                          <a:pt x="316" y="188"/>
                        </a:lnTo>
                        <a:lnTo>
                          <a:pt x="311" y="193"/>
                        </a:lnTo>
                        <a:lnTo>
                          <a:pt x="304" y="195"/>
                        </a:lnTo>
                        <a:lnTo>
                          <a:pt x="297" y="195"/>
                        </a:lnTo>
                        <a:lnTo>
                          <a:pt x="291" y="193"/>
                        </a:lnTo>
                        <a:lnTo>
                          <a:pt x="284" y="190"/>
                        </a:lnTo>
                        <a:lnTo>
                          <a:pt x="279" y="192"/>
                        </a:lnTo>
                        <a:lnTo>
                          <a:pt x="276" y="194"/>
                        </a:lnTo>
                        <a:lnTo>
                          <a:pt x="277" y="196"/>
                        </a:lnTo>
                        <a:lnTo>
                          <a:pt x="282" y="200"/>
                        </a:lnTo>
                        <a:lnTo>
                          <a:pt x="285" y="205"/>
                        </a:lnTo>
                        <a:lnTo>
                          <a:pt x="288" y="210"/>
                        </a:lnTo>
                        <a:lnTo>
                          <a:pt x="279" y="210"/>
                        </a:lnTo>
                        <a:lnTo>
                          <a:pt x="272" y="215"/>
                        </a:lnTo>
                        <a:lnTo>
                          <a:pt x="265" y="220"/>
                        </a:lnTo>
                        <a:lnTo>
                          <a:pt x="259" y="228"/>
                        </a:lnTo>
                        <a:lnTo>
                          <a:pt x="253" y="235"/>
                        </a:lnTo>
                        <a:lnTo>
                          <a:pt x="247" y="240"/>
                        </a:lnTo>
                        <a:lnTo>
                          <a:pt x="239" y="244"/>
                        </a:lnTo>
                        <a:lnTo>
                          <a:pt x="232" y="246"/>
                        </a:lnTo>
                        <a:lnTo>
                          <a:pt x="223" y="247"/>
                        </a:lnTo>
                        <a:lnTo>
                          <a:pt x="219" y="254"/>
                        </a:lnTo>
                        <a:lnTo>
                          <a:pt x="216" y="257"/>
                        </a:lnTo>
                        <a:lnTo>
                          <a:pt x="213" y="260"/>
                        </a:lnTo>
                        <a:lnTo>
                          <a:pt x="208" y="262"/>
                        </a:lnTo>
                        <a:lnTo>
                          <a:pt x="204" y="261"/>
                        </a:lnTo>
                        <a:lnTo>
                          <a:pt x="203" y="267"/>
                        </a:lnTo>
                        <a:lnTo>
                          <a:pt x="200" y="271"/>
                        </a:lnTo>
                        <a:lnTo>
                          <a:pt x="196" y="273"/>
                        </a:lnTo>
                        <a:lnTo>
                          <a:pt x="192" y="275"/>
                        </a:lnTo>
                        <a:lnTo>
                          <a:pt x="187" y="276"/>
                        </a:lnTo>
                        <a:lnTo>
                          <a:pt x="184" y="278"/>
                        </a:lnTo>
                        <a:lnTo>
                          <a:pt x="182" y="282"/>
                        </a:lnTo>
                        <a:lnTo>
                          <a:pt x="185" y="290"/>
                        </a:lnTo>
                        <a:lnTo>
                          <a:pt x="181" y="298"/>
                        </a:lnTo>
                        <a:lnTo>
                          <a:pt x="176" y="306"/>
                        </a:lnTo>
                        <a:lnTo>
                          <a:pt x="167" y="311"/>
                        </a:lnTo>
                        <a:lnTo>
                          <a:pt x="160" y="314"/>
                        </a:lnTo>
                        <a:lnTo>
                          <a:pt x="149" y="315"/>
                        </a:lnTo>
                        <a:lnTo>
                          <a:pt x="140" y="316"/>
                        </a:lnTo>
                        <a:lnTo>
                          <a:pt x="131" y="315"/>
                        </a:lnTo>
                        <a:lnTo>
                          <a:pt x="124" y="315"/>
                        </a:lnTo>
                        <a:lnTo>
                          <a:pt x="122" y="316"/>
                        </a:lnTo>
                        <a:lnTo>
                          <a:pt x="120" y="318"/>
                        </a:lnTo>
                        <a:lnTo>
                          <a:pt x="124" y="320"/>
                        </a:lnTo>
                        <a:lnTo>
                          <a:pt x="125" y="324"/>
                        </a:lnTo>
                        <a:lnTo>
                          <a:pt x="125" y="328"/>
                        </a:lnTo>
                        <a:lnTo>
                          <a:pt x="124" y="333"/>
                        </a:lnTo>
                        <a:lnTo>
                          <a:pt x="118" y="337"/>
                        </a:lnTo>
                        <a:lnTo>
                          <a:pt x="110" y="336"/>
                        </a:lnTo>
                        <a:lnTo>
                          <a:pt x="106" y="329"/>
                        </a:lnTo>
                        <a:lnTo>
                          <a:pt x="105" y="322"/>
                        </a:lnTo>
                        <a:lnTo>
                          <a:pt x="105" y="314"/>
                        </a:lnTo>
                        <a:lnTo>
                          <a:pt x="105" y="307"/>
                        </a:lnTo>
                        <a:lnTo>
                          <a:pt x="105" y="298"/>
                        </a:lnTo>
                        <a:lnTo>
                          <a:pt x="107" y="291"/>
                        </a:lnTo>
                        <a:lnTo>
                          <a:pt x="109" y="283"/>
                        </a:lnTo>
                        <a:lnTo>
                          <a:pt x="111" y="277"/>
                        </a:lnTo>
                        <a:lnTo>
                          <a:pt x="114" y="276"/>
                        </a:lnTo>
                        <a:lnTo>
                          <a:pt x="117" y="274"/>
                        </a:lnTo>
                        <a:lnTo>
                          <a:pt x="108" y="269"/>
                        </a:lnTo>
                        <a:lnTo>
                          <a:pt x="100" y="267"/>
                        </a:lnTo>
                        <a:lnTo>
                          <a:pt x="92" y="265"/>
                        </a:lnTo>
                        <a:lnTo>
                          <a:pt x="84" y="263"/>
                        </a:lnTo>
                        <a:lnTo>
                          <a:pt x="86" y="259"/>
                        </a:lnTo>
                        <a:lnTo>
                          <a:pt x="89" y="257"/>
                        </a:lnTo>
                        <a:lnTo>
                          <a:pt x="93" y="254"/>
                        </a:lnTo>
                        <a:lnTo>
                          <a:pt x="98" y="254"/>
                        </a:lnTo>
                        <a:lnTo>
                          <a:pt x="98" y="247"/>
                        </a:lnTo>
                        <a:lnTo>
                          <a:pt x="98" y="240"/>
                        </a:lnTo>
                        <a:lnTo>
                          <a:pt x="95" y="235"/>
                        </a:lnTo>
                        <a:lnTo>
                          <a:pt x="89" y="236"/>
                        </a:lnTo>
                        <a:lnTo>
                          <a:pt x="89" y="242"/>
                        </a:lnTo>
                        <a:lnTo>
                          <a:pt x="87" y="248"/>
                        </a:lnTo>
                        <a:lnTo>
                          <a:pt x="79" y="251"/>
                        </a:lnTo>
                        <a:lnTo>
                          <a:pt x="73" y="254"/>
                        </a:lnTo>
                        <a:lnTo>
                          <a:pt x="65" y="256"/>
                        </a:lnTo>
                        <a:lnTo>
                          <a:pt x="60" y="260"/>
                        </a:lnTo>
                        <a:lnTo>
                          <a:pt x="57" y="263"/>
                        </a:lnTo>
                        <a:lnTo>
                          <a:pt x="57" y="267"/>
                        </a:lnTo>
                        <a:lnTo>
                          <a:pt x="57" y="271"/>
                        </a:lnTo>
                        <a:lnTo>
                          <a:pt x="61" y="277"/>
                        </a:lnTo>
                        <a:lnTo>
                          <a:pt x="66" y="276"/>
                        </a:lnTo>
                        <a:lnTo>
                          <a:pt x="68" y="273"/>
                        </a:lnTo>
                        <a:lnTo>
                          <a:pt x="69" y="269"/>
                        </a:lnTo>
                        <a:lnTo>
                          <a:pt x="70" y="265"/>
                        </a:lnTo>
                        <a:lnTo>
                          <a:pt x="70" y="261"/>
                        </a:lnTo>
                        <a:lnTo>
                          <a:pt x="71" y="258"/>
                        </a:lnTo>
                        <a:lnTo>
                          <a:pt x="74" y="257"/>
                        </a:lnTo>
                        <a:lnTo>
                          <a:pt x="80" y="258"/>
                        </a:lnTo>
                        <a:lnTo>
                          <a:pt x="83" y="267"/>
                        </a:lnTo>
                        <a:lnTo>
                          <a:pt x="83" y="274"/>
                        </a:lnTo>
                        <a:lnTo>
                          <a:pt x="79" y="278"/>
                        </a:lnTo>
                        <a:lnTo>
                          <a:pt x="75" y="284"/>
                        </a:lnTo>
                        <a:lnTo>
                          <a:pt x="69" y="287"/>
                        </a:lnTo>
                        <a:lnTo>
                          <a:pt x="62" y="290"/>
                        </a:lnTo>
                        <a:lnTo>
                          <a:pt x="56" y="293"/>
                        </a:lnTo>
                        <a:lnTo>
                          <a:pt x="50" y="295"/>
                        </a:lnTo>
                        <a:lnTo>
                          <a:pt x="48" y="297"/>
                        </a:lnTo>
                        <a:lnTo>
                          <a:pt x="44" y="301"/>
                        </a:lnTo>
                        <a:lnTo>
                          <a:pt x="39" y="303"/>
                        </a:lnTo>
                        <a:lnTo>
                          <a:pt x="38" y="305"/>
                        </a:lnTo>
                        <a:lnTo>
                          <a:pt x="31" y="298"/>
                        </a:lnTo>
                        <a:lnTo>
                          <a:pt x="29" y="293"/>
                        </a:lnTo>
                        <a:lnTo>
                          <a:pt x="30" y="287"/>
                        </a:lnTo>
                        <a:lnTo>
                          <a:pt x="33" y="281"/>
                        </a:lnTo>
                        <a:lnTo>
                          <a:pt x="34" y="275"/>
                        </a:lnTo>
                        <a:lnTo>
                          <a:pt x="38" y="269"/>
                        </a:lnTo>
                        <a:lnTo>
                          <a:pt x="37" y="263"/>
                        </a:lnTo>
                        <a:lnTo>
                          <a:pt x="34" y="259"/>
                        </a:lnTo>
                        <a:lnTo>
                          <a:pt x="39" y="258"/>
                        </a:lnTo>
                        <a:lnTo>
                          <a:pt x="44" y="263"/>
                        </a:lnTo>
                        <a:lnTo>
                          <a:pt x="46" y="257"/>
                        </a:lnTo>
                        <a:lnTo>
                          <a:pt x="48" y="253"/>
                        </a:lnTo>
                        <a:lnTo>
                          <a:pt x="53" y="248"/>
                        </a:lnTo>
                        <a:lnTo>
                          <a:pt x="58" y="245"/>
                        </a:lnTo>
                        <a:lnTo>
                          <a:pt x="62" y="240"/>
                        </a:lnTo>
                        <a:lnTo>
                          <a:pt x="66" y="237"/>
                        </a:lnTo>
                        <a:lnTo>
                          <a:pt x="66" y="232"/>
                        </a:lnTo>
                        <a:lnTo>
                          <a:pt x="66" y="226"/>
                        </a:lnTo>
                        <a:lnTo>
                          <a:pt x="66" y="220"/>
                        </a:lnTo>
                        <a:lnTo>
                          <a:pt x="68" y="216"/>
                        </a:lnTo>
                        <a:lnTo>
                          <a:pt x="61" y="212"/>
                        </a:lnTo>
                        <a:lnTo>
                          <a:pt x="56" y="211"/>
                        </a:lnTo>
                        <a:lnTo>
                          <a:pt x="48" y="212"/>
                        </a:lnTo>
                        <a:lnTo>
                          <a:pt x="44" y="215"/>
                        </a:lnTo>
                        <a:lnTo>
                          <a:pt x="38" y="218"/>
                        </a:lnTo>
                        <a:lnTo>
                          <a:pt x="34" y="223"/>
                        </a:lnTo>
                        <a:lnTo>
                          <a:pt x="32" y="229"/>
                        </a:lnTo>
                        <a:lnTo>
                          <a:pt x="34" y="237"/>
                        </a:lnTo>
                        <a:lnTo>
                          <a:pt x="36" y="231"/>
                        </a:lnTo>
                        <a:lnTo>
                          <a:pt x="39" y="230"/>
                        </a:lnTo>
                        <a:lnTo>
                          <a:pt x="44" y="231"/>
                        </a:lnTo>
                        <a:lnTo>
                          <a:pt x="48" y="235"/>
                        </a:lnTo>
                        <a:lnTo>
                          <a:pt x="48" y="237"/>
                        </a:lnTo>
                        <a:lnTo>
                          <a:pt x="48" y="241"/>
                        </a:lnTo>
                        <a:lnTo>
                          <a:pt x="46" y="242"/>
                        </a:lnTo>
                        <a:lnTo>
                          <a:pt x="39" y="242"/>
                        </a:lnTo>
                        <a:lnTo>
                          <a:pt x="34" y="242"/>
                        </a:lnTo>
                        <a:lnTo>
                          <a:pt x="30" y="242"/>
                        </a:lnTo>
                        <a:lnTo>
                          <a:pt x="25" y="241"/>
                        </a:lnTo>
                        <a:lnTo>
                          <a:pt x="23" y="240"/>
                        </a:lnTo>
                        <a:lnTo>
                          <a:pt x="16" y="245"/>
                        </a:lnTo>
                        <a:lnTo>
                          <a:pt x="12" y="251"/>
                        </a:lnTo>
                        <a:lnTo>
                          <a:pt x="10" y="257"/>
                        </a:lnTo>
                        <a:lnTo>
                          <a:pt x="10" y="265"/>
                        </a:lnTo>
                        <a:lnTo>
                          <a:pt x="11" y="272"/>
                        </a:lnTo>
                        <a:lnTo>
                          <a:pt x="14" y="278"/>
                        </a:lnTo>
                        <a:lnTo>
                          <a:pt x="19" y="284"/>
                        </a:lnTo>
                        <a:lnTo>
                          <a:pt x="25" y="291"/>
                        </a:lnTo>
                        <a:lnTo>
                          <a:pt x="18" y="291"/>
                        </a:lnTo>
                        <a:lnTo>
                          <a:pt x="13" y="291"/>
                        </a:lnTo>
                        <a:lnTo>
                          <a:pt x="6" y="286"/>
                        </a:lnTo>
                        <a:lnTo>
                          <a:pt x="2" y="281"/>
                        </a:lnTo>
                        <a:lnTo>
                          <a:pt x="0" y="274"/>
                        </a:lnTo>
                        <a:lnTo>
                          <a:pt x="0" y="267"/>
                        </a:lnTo>
                        <a:lnTo>
                          <a:pt x="0" y="258"/>
                        </a:lnTo>
                        <a:lnTo>
                          <a:pt x="0" y="251"/>
                        </a:lnTo>
                        <a:lnTo>
                          <a:pt x="0" y="243"/>
                        </a:lnTo>
                        <a:lnTo>
                          <a:pt x="1" y="237"/>
                        </a:lnTo>
                        <a:lnTo>
                          <a:pt x="4" y="228"/>
                        </a:lnTo>
                        <a:lnTo>
                          <a:pt x="10" y="220"/>
                        </a:lnTo>
                        <a:lnTo>
                          <a:pt x="15" y="214"/>
                        </a:lnTo>
                        <a:lnTo>
                          <a:pt x="24" y="209"/>
                        </a:lnTo>
                        <a:lnTo>
                          <a:pt x="30" y="204"/>
                        </a:lnTo>
                        <a:lnTo>
                          <a:pt x="39" y="201"/>
                        </a:lnTo>
                        <a:lnTo>
                          <a:pt x="48" y="199"/>
                        </a:lnTo>
                        <a:lnTo>
                          <a:pt x="57" y="197"/>
                        </a:lnTo>
                        <a:lnTo>
                          <a:pt x="62" y="198"/>
                        </a:lnTo>
                        <a:lnTo>
                          <a:pt x="69" y="201"/>
                        </a:lnTo>
                        <a:lnTo>
                          <a:pt x="75" y="205"/>
                        </a:lnTo>
                        <a:lnTo>
                          <a:pt x="83" y="211"/>
                        </a:lnTo>
                        <a:lnTo>
                          <a:pt x="87" y="215"/>
                        </a:lnTo>
                        <a:lnTo>
                          <a:pt x="93" y="219"/>
                        </a:lnTo>
                        <a:lnTo>
                          <a:pt x="100" y="223"/>
                        </a:lnTo>
                        <a:lnTo>
                          <a:pt x="108" y="226"/>
                        </a:lnTo>
                        <a:lnTo>
                          <a:pt x="105" y="231"/>
                        </a:lnTo>
                        <a:lnTo>
                          <a:pt x="106" y="236"/>
                        </a:lnTo>
                        <a:lnTo>
                          <a:pt x="108" y="240"/>
                        </a:lnTo>
                        <a:lnTo>
                          <a:pt x="113" y="245"/>
                        </a:lnTo>
                        <a:lnTo>
                          <a:pt x="117" y="247"/>
                        </a:lnTo>
                        <a:lnTo>
                          <a:pt x="123" y="249"/>
                        </a:lnTo>
                        <a:lnTo>
                          <a:pt x="127" y="249"/>
                        </a:lnTo>
                        <a:lnTo>
                          <a:pt x="133" y="248"/>
                        </a:lnTo>
                        <a:lnTo>
                          <a:pt x="132" y="252"/>
                        </a:lnTo>
                        <a:lnTo>
                          <a:pt x="133" y="257"/>
                        </a:lnTo>
                        <a:lnTo>
                          <a:pt x="135" y="262"/>
                        </a:lnTo>
                        <a:lnTo>
                          <a:pt x="138" y="268"/>
                        </a:lnTo>
                        <a:lnTo>
                          <a:pt x="138" y="273"/>
                        </a:lnTo>
                        <a:lnTo>
                          <a:pt x="138" y="277"/>
                        </a:lnTo>
                        <a:lnTo>
                          <a:pt x="134" y="281"/>
                        </a:lnTo>
                        <a:lnTo>
                          <a:pt x="128" y="285"/>
                        </a:lnTo>
                        <a:lnTo>
                          <a:pt x="125" y="289"/>
                        </a:lnTo>
                        <a:lnTo>
                          <a:pt x="124" y="296"/>
                        </a:lnTo>
                        <a:lnTo>
                          <a:pt x="124" y="303"/>
                        </a:lnTo>
                        <a:lnTo>
                          <a:pt x="124" y="308"/>
                        </a:lnTo>
                        <a:lnTo>
                          <a:pt x="128" y="303"/>
                        </a:lnTo>
                        <a:lnTo>
                          <a:pt x="137" y="304"/>
                        </a:lnTo>
                        <a:lnTo>
                          <a:pt x="140" y="304"/>
                        </a:lnTo>
                        <a:lnTo>
                          <a:pt x="143" y="304"/>
                        </a:lnTo>
                        <a:lnTo>
                          <a:pt x="145" y="302"/>
                        </a:lnTo>
                        <a:lnTo>
                          <a:pt x="147" y="298"/>
                        </a:lnTo>
                        <a:lnTo>
                          <a:pt x="143" y="297"/>
                        </a:lnTo>
                        <a:lnTo>
                          <a:pt x="138" y="297"/>
                        </a:lnTo>
                        <a:lnTo>
                          <a:pt x="132" y="297"/>
                        </a:lnTo>
                        <a:lnTo>
                          <a:pt x="129" y="297"/>
                        </a:lnTo>
                        <a:lnTo>
                          <a:pt x="129" y="290"/>
                        </a:lnTo>
                        <a:lnTo>
                          <a:pt x="133" y="285"/>
                        </a:lnTo>
                        <a:lnTo>
                          <a:pt x="138" y="281"/>
                        </a:lnTo>
                        <a:lnTo>
                          <a:pt x="143" y="281"/>
                        </a:lnTo>
                        <a:lnTo>
                          <a:pt x="149" y="282"/>
                        </a:lnTo>
                        <a:lnTo>
                          <a:pt x="155" y="285"/>
                        </a:lnTo>
                        <a:lnTo>
                          <a:pt x="160" y="289"/>
                        </a:lnTo>
                        <a:lnTo>
                          <a:pt x="164" y="295"/>
                        </a:lnTo>
                        <a:lnTo>
                          <a:pt x="168" y="293"/>
                        </a:lnTo>
                        <a:lnTo>
                          <a:pt x="171" y="291"/>
                        </a:lnTo>
                        <a:lnTo>
                          <a:pt x="171" y="288"/>
                        </a:lnTo>
                        <a:lnTo>
                          <a:pt x="170" y="286"/>
                        </a:lnTo>
                        <a:lnTo>
                          <a:pt x="164" y="281"/>
                        </a:lnTo>
                        <a:lnTo>
                          <a:pt x="160" y="282"/>
                        </a:lnTo>
                        <a:lnTo>
                          <a:pt x="157" y="276"/>
                        </a:lnTo>
                        <a:lnTo>
                          <a:pt x="158" y="273"/>
                        </a:lnTo>
                        <a:lnTo>
                          <a:pt x="161" y="270"/>
                        </a:lnTo>
                        <a:lnTo>
                          <a:pt x="164" y="269"/>
                        </a:lnTo>
                        <a:lnTo>
                          <a:pt x="168" y="267"/>
                        </a:lnTo>
                        <a:lnTo>
                          <a:pt x="171" y="265"/>
                        </a:lnTo>
                        <a:lnTo>
                          <a:pt x="173" y="262"/>
                        </a:lnTo>
                        <a:lnTo>
                          <a:pt x="173" y="258"/>
                        </a:lnTo>
                        <a:lnTo>
                          <a:pt x="170" y="258"/>
                        </a:lnTo>
                        <a:lnTo>
                          <a:pt x="166" y="260"/>
                        </a:lnTo>
                        <a:lnTo>
                          <a:pt x="162" y="262"/>
                        </a:lnTo>
                        <a:lnTo>
                          <a:pt x="158" y="263"/>
                        </a:lnTo>
                        <a:lnTo>
                          <a:pt x="158" y="258"/>
                        </a:lnTo>
                        <a:lnTo>
                          <a:pt x="161" y="255"/>
                        </a:lnTo>
                        <a:lnTo>
                          <a:pt x="163" y="251"/>
                        </a:lnTo>
                        <a:lnTo>
                          <a:pt x="166" y="249"/>
                        </a:lnTo>
                        <a:lnTo>
                          <a:pt x="158" y="244"/>
                        </a:lnTo>
                        <a:lnTo>
                          <a:pt x="152" y="237"/>
                        </a:lnTo>
                        <a:lnTo>
                          <a:pt x="145" y="229"/>
                        </a:lnTo>
                        <a:lnTo>
                          <a:pt x="139" y="223"/>
                        </a:lnTo>
                        <a:lnTo>
                          <a:pt x="141" y="218"/>
                        </a:lnTo>
                        <a:lnTo>
                          <a:pt x="145" y="216"/>
                        </a:lnTo>
                        <a:lnTo>
                          <a:pt x="150" y="215"/>
                        </a:lnTo>
                        <a:lnTo>
                          <a:pt x="155" y="216"/>
                        </a:lnTo>
                        <a:lnTo>
                          <a:pt x="159" y="217"/>
                        </a:lnTo>
                        <a:lnTo>
                          <a:pt x="162" y="220"/>
                        </a:lnTo>
                        <a:lnTo>
                          <a:pt x="163" y="224"/>
                        </a:lnTo>
                        <a:lnTo>
                          <a:pt x="163" y="231"/>
                        </a:lnTo>
                        <a:lnTo>
                          <a:pt x="166" y="230"/>
                        </a:lnTo>
                        <a:lnTo>
                          <a:pt x="171" y="229"/>
                        </a:lnTo>
                        <a:lnTo>
                          <a:pt x="176" y="228"/>
                        </a:lnTo>
                        <a:lnTo>
                          <a:pt x="180" y="228"/>
                        </a:lnTo>
                        <a:lnTo>
                          <a:pt x="173" y="219"/>
                        </a:lnTo>
                        <a:lnTo>
                          <a:pt x="174" y="210"/>
                        </a:lnTo>
                        <a:lnTo>
                          <a:pt x="178" y="200"/>
                        </a:lnTo>
                        <a:lnTo>
                          <a:pt x="185" y="194"/>
                        </a:lnTo>
                        <a:lnTo>
                          <a:pt x="189" y="190"/>
                        </a:lnTo>
                        <a:lnTo>
                          <a:pt x="194" y="187"/>
                        </a:lnTo>
                        <a:lnTo>
                          <a:pt x="191" y="193"/>
                        </a:lnTo>
                        <a:lnTo>
                          <a:pt x="191" y="200"/>
                        </a:lnTo>
                        <a:lnTo>
                          <a:pt x="191" y="208"/>
                        </a:lnTo>
                        <a:lnTo>
                          <a:pt x="192" y="216"/>
                        </a:lnTo>
                        <a:lnTo>
                          <a:pt x="192" y="222"/>
                        </a:lnTo>
                        <a:lnTo>
                          <a:pt x="192" y="229"/>
                        </a:lnTo>
                        <a:lnTo>
                          <a:pt x="189" y="236"/>
                        </a:lnTo>
                        <a:lnTo>
                          <a:pt x="186" y="242"/>
                        </a:lnTo>
                        <a:lnTo>
                          <a:pt x="185" y="245"/>
                        </a:lnTo>
                        <a:lnTo>
                          <a:pt x="187" y="250"/>
                        </a:lnTo>
                        <a:lnTo>
                          <a:pt x="189" y="255"/>
                        </a:lnTo>
                        <a:lnTo>
                          <a:pt x="192" y="258"/>
                        </a:lnTo>
                        <a:lnTo>
                          <a:pt x="189" y="249"/>
                        </a:lnTo>
                        <a:lnTo>
                          <a:pt x="195" y="244"/>
                        </a:lnTo>
                        <a:lnTo>
                          <a:pt x="198" y="243"/>
                        </a:lnTo>
                        <a:lnTo>
                          <a:pt x="201" y="245"/>
                        </a:lnTo>
                        <a:lnTo>
                          <a:pt x="204" y="247"/>
                        </a:lnTo>
                        <a:lnTo>
                          <a:pt x="203" y="244"/>
                        </a:lnTo>
                        <a:lnTo>
                          <a:pt x="202" y="239"/>
                        </a:lnTo>
                        <a:lnTo>
                          <a:pt x="204" y="235"/>
                        </a:lnTo>
                        <a:lnTo>
                          <a:pt x="204" y="230"/>
                        </a:lnTo>
                        <a:lnTo>
                          <a:pt x="207" y="229"/>
                        </a:lnTo>
                        <a:lnTo>
                          <a:pt x="209" y="230"/>
                        </a:lnTo>
                        <a:lnTo>
                          <a:pt x="214" y="237"/>
                        </a:lnTo>
                        <a:lnTo>
                          <a:pt x="215" y="231"/>
                        </a:lnTo>
                        <a:lnTo>
                          <a:pt x="216" y="225"/>
                        </a:lnTo>
                        <a:lnTo>
                          <a:pt x="215" y="219"/>
                        </a:lnTo>
                        <a:lnTo>
                          <a:pt x="214" y="215"/>
                        </a:lnTo>
                        <a:lnTo>
                          <a:pt x="211" y="209"/>
                        </a:lnTo>
                        <a:lnTo>
                          <a:pt x="210" y="204"/>
                        </a:lnTo>
                        <a:lnTo>
                          <a:pt x="209" y="199"/>
                        </a:lnTo>
                        <a:lnTo>
                          <a:pt x="211" y="194"/>
                        </a:lnTo>
                        <a:lnTo>
                          <a:pt x="206" y="189"/>
                        </a:lnTo>
                        <a:lnTo>
                          <a:pt x="201" y="184"/>
                        </a:lnTo>
                        <a:lnTo>
                          <a:pt x="196" y="180"/>
                        </a:lnTo>
                        <a:lnTo>
                          <a:pt x="194" y="177"/>
                        </a:lnTo>
                        <a:lnTo>
                          <a:pt x="198" y="173"/>
                        </a:lnTo>
                        <a:lnTo>
                          <a:pt x="204" y="169"/>
                        </a:lnTo>
                        <a:lnTo>
                          <a:pt x="209" y="171"/>
                        </a:lnTo>
                        <a:lnTo>
                          <a:pt x="214" y="176"/>
                        </a:lnTo>
                        <a:lnTo>
                          <a:pt x="217" y="181"/>
                        </a:lnTo>
                        <a:lnTo>
                          <a:pt x="220" y="187"/>
                        </a:lnTo>
                        <a:lnTo>
                          <a:pt x="222" y="193"/>
                        </a:lnTo>
                        <a:lnTo>
                          <a:pt x="225" y="199"/>
                        </a:lnTo>
                        <a:lnTo>
                          <a:pt x="227" y="206"/>
                        </a:lnTo>
                        <a:lnTo>
                          <a:pt x="231" y="213"/>
                        </a:lnTo>
                        <a:lnTo>
                          <a:pt x="233" y="208"/>
                        </a:lnTo>
                        <a:lnTo>
                          <a:pt x="238" y="203"/>
                        </a:lnTo>
                        <a:lnTo>
                          <a:pt x="242" y="198"/>
                        </a:lnTo>
                        <a:lnTo>
                          <a:pt x="246" y="195"/>
                        </a:lnTo>
                        <a:lnTo>
                          <a:pt x="247" y="197"/>
                        </a:lnTo>
                        <a:lnTo>
                          <a:pt x="250" y="201"/>
                        </a:lnTo>
                        <a:lnTo>
                          <a:pt x="253" y="205"/>
                        </a:lnTo>
                        <a:lnTo>
                          <a:pt x="256" y="208"/>
                        </a:lnTo>
                        <a:lnTo>
                          <a:pt x="256" y="203"/>
                        </a:lnTo>
                        <a:lnTo>
                          <a:pt x="257" y="197"/>
                        </a:lnTo>
                        <a:lnTo>
                          <a:pt x="257" y="189"/>
                        </a:lnTo>
                        <a:lnTo>
                          <a:pt x="258" y="184"/>
                        </a:lnTo>
                        <a:lnTo>
                          <a:pt x="254" y="183"/>
                        </a:lnTo>
                        <a:lnTo>
                          <a:pt x="249" y="183"/>
                        </a:lnTo>
                        <a:lnTo>
                          <a:pt x="243" y="183"/>
                        </a:lnTo>
                        <a:lnTo>
                          <a:pt x="239" y="184"/>
                        </a:lnTo>
                        <a:lnTo>
                          <a:pt x="235" y="180"/>
                        </a:lnTo>
                        <a:lnTo>
                          <a:pt x="231" y="176"/>
                        </a:lnTo>
                        <a:lnTo>
                          <a:pt x="238" y="171"/>
                        </a:lnTo>
                        <a:lnTo>
                          <a:pt x="245" y="166"/>
                        </a:lnTo>
                        <a:lnTo>
                          <a:pt x="252" y="160"/>
                        </a:lnTo>
                        <a:lnTo>
                          <a:pt x="259" y="156"/>
                        </a:lnTo>
                        <a:lnTo>
                          <a:pt x="258" y="158"/>
                        </a:lnTo>
                        <a:lnTo>
                          <a:pt x="257" y="162"/>
                        </a:lnTo>
                        <a:lnTo>
                          <a:pt x="255" y="166"/>
                        </a:lnTo>
                        <a:lnTo>
                          <a:pt x="253" y="169"/>
                        </a:lnTo>
                        <a:lnTo>
                          <a:pt x="257" y="167"/>
                        </a:lnTo>
                        <a:lnTo>
                          <a:pt x="261" y="168"/>
                        </a:lnTo>
                        <a:lnTo>
                          <a:pt x="264" y="171"/>
                        </a:lnTo>
                        <a:lnTo>
                          <a:pt x="267" y="176"/>
                        </a:lnTo>
                        <a:lnTo>
                          <a:pt x="270" y="179"/>
                        </a:lnTo>
                        <a:lnTo>
                          <a:pt x="273" y="181"/>
                        </a:lnTo>
                        <a:lnTo>
                          <a:pt x="276" y="181"/>
                        </a:lnTo>
                        <a:lnTo>
                          <a:pt x="283" y="180"/>
                        </a:lnTo>
                        <a:lnTo>
                          <a:pt x="286" y="179"/>
                        </a:lnTo>
                        <a:lnTo>
                          <a:pt x="292" y="179"/>
                        </a:lnTo>
                        <a:lnTo>
                          <a:pt x="297" y="179"/>
                        </a:lnTo>
                        <a:lnTo>
                          <a:pt x="302" y="180"/>
                        </a:lnTo>
                        <a:lnTo>
                          <a:pt x="299" y="172"/>
                        </a:lnTo>
                        <a:lnTo>
                          <a:pt x="300" y="166"/>
                        </a:lnTo>
                        <a:lnTo>
                          <a:pt x="302" y="161"/>
                        </a:lnTo>
                        <a:lnTo>
                          <a:pt x="305" y="158"/>
                        </a:lnTo>
                        <a:lnTo>
                          <a:pt x="312" y="150"/>
                        </a:lnTo>
                        <a:lnTo>
                          <a:pt x="310" y="145"/>
                        </a:lnTo>
                        <a:lnTo>
                          <a:pt x="306" y="145"/>
                        </a:lnTo>
                        <a:lnTo>
                          <a:pt x="303" y="142"/>
                        </a:lnTo>
                        <a:lnTo>
                          <a:pt x="302" y="137"/>
                        </a:lnTo>
                        <a:lnTo>
                          <a:pt x="301" y="131"/>
                        </a:lnTo>
                        <a:lnTo>
                          <a:pt x="303" y="128"/>
                        </a:lnTo>
                        <a:lnTo>
                          <a:pt x="307" y="126"/>
                        </a:lnTo>
                        <a:lnTo>
                          <a:pt x="314" y="129"/>
                        </a:lnTo>
                        <a:lnTo>
                          <a:pt x="314" y="137"/>
                        </a:lnTo>
                        <a:lnTo>
                          <a:pt x="321" y="139"/>
                        </a:lnTo>
                        <a:lnTo>
                          <a:pt x="327" y="134"/>
                        </a:lnTo>
                        <a:lnTo>
                          <a:pt x="330" y="127"/>
                        </a:lnTo>
                        <a:lnTo>
                          <a:pt x="333" y="122"/>
                        </a:lnTo>
                        <a:lnTo>
                          <a:pt x="333" y="114"/>
                        </a:lnTo>
                        <a:lnTo>
                          <a:pt x="334" y="107"/>
                        </a:lnTo>
                        <a:lnTo>
                          <a:pt x="336" y="100"/>
                        </a:lnTo>
                        <a:lnTo>
                          <a:pt x="339" y="94"/>
                        </a:lnTo>
                        <a:lnTo>
                          <a:pt x="344" y="88"/>
                        </a:lnTo>
                        <a:lnTo>
                          <a:pt x="348" y="87"/>
                        </a:lnTo>
                        <a:lnTo>
                          <a:pt x="350" y="88"/>
                        </a:lnTo>
                        <a:lnTo>
                          <a:pt x="352" y="93"/>
                        </a:lnTo>
                        <a:lnTo>
                          <a:pt x="352" y="98"/>
                        </a:lnTo>
                        <a:lnTo>
                          <a:pt x="352" y="104"/>
                        </a:lnTo>
                        <a:lnTo>
                          <a:pt x="352" y="108"/>
                        </a:lnTo>
                        <a:lnTo>
                          <a:pt x="352" y="114"/>
                        </a:lnTo>
                        <a:lnTo>
                          <a:pt x="357" y="114"/>
                        </a:lnTo>
                        <a:lnTo>
                          <a:pt x="362" y="114"/>
                        </a:lnTo>
                        <a:lnTo>
                          <a:pt x="360" y="107"/>
                        </a:lnTo>
                        <a:lnTo>
                          <a:pt x="362" y="103"/>
                        </a:lnTo>
                        <a:lnTo>
                          <a:pt x="366" y="99"/>
                        </a:lnTo>
                        <a:lnTo>
                          <a:pt x="372" y="96"/>
                        </a:lnTo>
                        <a:lnTo>
                          <a:pt x="378" y="93"/>
                        </a:lnTo>
                        <a:lnTo>
                          <a:pt x="384" y="90"/>
                        </a:lnTo>
                        <a:lnTo>
                          <a:pt x="389" y="87"/>
                        </a:lnTo>
                        <a:lnTo>
                          <a:pt x="394" y="85"/>
                        </a:lnTo>
                        <a:lnTo>
                          <a:pt x="402" y="83"/>
                        </a:lnTo>
                        <a:lnTo>
                          <a:pt x="410" y="80"/>
                        </a:lnTo>
                        <a:lnTo>
                          <a:pt x="418" y="74"/>
                        </a:lnTo>
                        <a:lnTo>
                          <a:pt x="426" y="69"/>
                        </a:lnTo>
                        <a:lnTo>
                          <a:pt x="419" y="64"/>
                        </a:lnTo>
                        <a:lnTo>
                          <a:pt x="418" y="60"/>
                        </a:lnTo>
                        <a:lnTo>
                          <a:pt x="421" y="57"/>
                        </a:lnTo>
                        <a:lnTo>
                          <a:pt x="427" y="54"/>
                        </a:lnTo>
                        <a:lnTo>
                          <a:pt x="432" y="50"/>
                        </a:lnTo>
                        <a:lnTo>
                          <a:pt x="439" y="47"/>
                        </a:lnTo>
                        <a:lnTo>
                          <a:pt x="445" y="45"/>
                        </a:lnTo>
                        <a:lnTo>
                          <a:pt x="448" y="42"/>
                        </a:lnTo>
                        <a:lnTo>
                          <a:pt x="449" y="44"/>
                        </a:lnTo>
                        <a:lnTo>
                          <a:pt x="452" y="48"/>
                        </a:lnTo>
                        <a:lnTo>
                          <a:pt x="454" y="52"/>
                        </a:lnTo>
                        <a:lnTo>
                          <a:pt x="457" y="55"/>
                        </a:lnTo>
                        <a:lnTo>
                          <a:pt x="459" y="53"/>
                        </a:lnTo>
                        <a:lnTo>
                          <a:pt x="462" y="51"/>
                        </a:lnTo>
                        <a:lnTo>
                          <a:pt x="455" y="47"/>
                        </a:lnTo>
                        <a:lnTo>
                          <a:pt x="453" y="44"/>
                        </a:lnTo>
                        <a:lnTo>
                          <a:pt x="454" y="39"/>
                        </a:lnTo>
                        <a:lnTo>
                          <a:pt x="457" y="34"/>
                        </a:lnTo>
                        <a:lnTo>
                          <a:pt x="463" y="24"/>
                        </a:lnTo>
                        <a:lnTo>
                          <a:pt x="464" y="15"/>
                        </a:lnTo>
                        <a:lnTo>
                          <a:pt x="465" y="11"/>
                        </a:lnTo>
                        <a:lnTo>
                          <a:pt x="466" y="8"/>
                        </a:lnTo>
                        <a:lnTo>
                          <a:pt x="468" y="4"/>
                        </a:lnTo>
                        <a:lnTo>
                          <a:pt x="470" y="3"/>
                        </a:lnTo>
                        <a:lnTo>
                          <a:pt x="470" y="3"/>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2" name=""/>
                  <p:cNvSpPr/>
                  <p:nvPr/>
                </p:nvSpPr>
                <p:spPr>
                  <a:xfrm rot="1050600">
                    <a:off x="4228920" y="4857840"/>
                    <a:ext cx="20880" cy="21240"/>
                  </a:xfrm>
                  <a:custGeom>
                    <a:avLst/>
                    <a:gdLst/>
                    <a:ahLst/>
                    <a:rect l="l" t="t" r="r" b="b"/>
                    <a:pathLst>
                      <a:path w="27" h="21">
                        <a:moveTo>
                          <a:pt x="27" y="1"/>
                        </a:moveTo>
                        <a:lnTo>
                          <a:pt x="19" y="2"/>
                        </a:lnTo>
                        <a:lnTo>
                          <a:pt x="12" y="3"/>
                        </a:lnTo>
                        <a:lnTo>
                          <a:pt x="6" y="1"/>
                        </a:lnTo>
                        <a:lnTo>
                          <a:pt x="0" y="0"/>
                        </a:lnTo>
                        <a:lnTo>
                          <a:pt x="2" y="3"/>
                        </a:lnTo>
                        <a:lnTo>
                          <a:pt x="5" y="10"/>
                        </a:lnTo>
                        <a:lnTo>
                          <a:pt x="6" y="16"/>
                        </a:lnTo>
                        <a:lnTo>
                          <a:pt x="8" y="21"/>
                        </a:lnTo>
                        <a:lnTo>
                          <a:pt x="15" y="20"/>
                        </a:lnTo>
                        <a:lnTo>
                          <a:pt x="20" y="16"/>
                        </a:lnTo>
                        <a:lnTo>
                          <a:pt x="23" y="8"/>
                        </a:lnTo>
                        <a:lnTo>
                          <a:pt x="27" y="1"/>
                        </a:lnTo>
                        <a:lnTo>
                          <a:pt x="27" y="1"/>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513" name=""/>
                  <p:cNvSpPr/>
                  <p:nvPr/>
                </p:nvSpPr>
                <p:spPr>
                  <a:xfrm rot="1050600">
                    <a:off x="4391280" y="4787280"/>
                    <a:ext cx="9360" cy="11880"/>
                  </a:xfrm>
                  <a:custGeom>
                    <a:avLst/>
                    <a:gdLst/>
                    <a:ahLst/>
                    <a:rect l="l" t="t" r="r" b="b"/>
                    <a:pathLst>
                      <a:path w="12" h="12">
                        <a:moveTo>
                          <a:pt x="3" y="0"/>
                        </a:moveTo>
                        <a:lnTo>
                          <a:pt x="8" y="3"/>
                        </a:lnTo>
                        <a:lnTo>
                          <a:pt x="12" y="10"/>
                        </a:lnTo>
                        <a:lnTo>
                          <a:pt x="12" y="11"/>
                        </a:lnTo>
                        <a:lnTo>
                          <a:pt x="11" y="12"/>
                        </a:lnTo>
                        <a:lnTo>
                          <a:pt x="7" y="11"/>
                        </a:lnTo>
                        <a:lnTo>
                          <a:pt x="0" y="8"/>
                        </a:lnTo>
                        <a:lnTo>
                          <a:pt x="1" y="2"/>
                        </a:lnTo>
                        <a:lnTo>
                          <a:pt x="3" y="0"/>
                        </a:lnTo>
                        <a:lnTo>
                          <a:pt x="3"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514" name=""/>
                  <p:cNvSpPr/>
                  <p:nvPr/>
                </p:nvSpPr>
                <p:spPr>
                  <a:xfrm rot="1050600">
                    <a:off x="4404600" y="4813200"/>
                    <a:ext cx="19440" cy="53640"/>
                  </a:xfrm>
                  <a:custGeom>
                    <a:avLst/>
                    <a:gdLst/>
                    <a:ahLst/>
                    <a:rect l="l" t="t" r="r" b="b"/>
                    <a:pathLst>
                      <a:path w="25" h="53">
                        <a:moveTo>
                          <a:pt x="13" y="0"/>
                        </a:moveTo>
                        <a:lnTo>
                          <a:pt x="18" y="3"/>
                        </a:lnTo>
                        <a:lnTo>
                          <a:pt x="23" y="10"/>
                        </a:lnTo>
                        <a:lnTo>
                          <a:pt x="24" y="16"/>
                        </a:lnTo>
                        <a:lnTo>
                          <a:pt x="25" y="25"/>
                        </a:lnTo>
                        <a:lnTo>
                          <a:pt x="22" y="33"/>
                        </a:lnTo>
                        <a:lnTo>
                          <a:pt x="20" y="40"/>
                        </a:lnTo>
                        <a:lnTo>
                          <a:pt x="15" y="47"/>
                        </a:lnTo>
                        <a:lnTo>
                          <a:pt x="12" y="53"/>
                        </a:lnTo>
                        <a:lnTo>
                          <a:pt x="9" y="50"/>
                        </a:lnTo>
                        <a:lnTo>
                          <a:pt x="5" y="48"/>
                        </a:lnTo>
                        <a:lnTo>
                          <a:pt x="1" y="45"/>
                        </a:lnTo>
                        <a:lnTo>
                          <a:pt x="0" y="44"/>
                        </a:lnTo>
                        <a:lnTo>
                          <a:pt x="6" y="41"/>
                        </a:lnTo>
                        <a:lnTo>
                          <a:pt x="9" y="37"/>
                        </a:lnTo>
                        <a:lnTo>
                          <a:pt x="9" y="31"/>
                        </a:lnTo>
                        <a:lnTo>
                          <a:pt x="9" y="25"/>
                        </a:lnTo>
                        <a:lnTo>
                          <a:pt x="7" y="17"/>
                        </a:lnTo>
                        <a:lnTo>
                          <a:pt x="8" y="11"/>
                        </a:lnTo>
                        <a:lnTo>
                          <a:pt x="9" y="4"/>
                        </a:lnTo>
                        <a:lnTo>
                          <a:pt x="13" y="0"/>
                        </a:lnTo>
                        <a:lnTo>
                          <a:pt x="13"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515" name=""/>
                  <p:cNvSpPr/>
                  <p:nvPr/>
                </p:nvSpPr>
                <p:spPr>
                  <a:xfrm rot="1050600">
                    <a:off x="4346640" y="4809600"/>
                    <a:ext cx="28800" cy="30960"/>
                  </a:xfrm>
                  <a:custGeom>
                    <a:avLst/>
                    <a:gdLst/>
                    <a:ahLst/>
                    <a:rect l="l" t="t" r="r" b="b"/>
                    <a:pathLst>
                      <a:path w="37" h="31">
                        <a:moveTo>
                          <a:pt x="18" y="0"/>
                        </a:moveTo>
                        <a:lnTo>
                          <a:pt x="18" y="1"/>
                        </a:lnTo>
                        <a:lnTo>
                          <a:pt x="19" y="5"/>
                        </a:lnTo>
                        <a:lnTo>
                          <a:pt x="19" y="10"/>
                        </a:lnTo>
                        <a:lnTo>
                          <a:pt x="21" y="15"/>
                        </a:lnTo>
                        <a:lnTo>
                          <a:pt x="23" y="12"/>
                        </a:lnTo>
                        <a:lnTo>
                          <a:pt x="28" y="8"/>
                        </a:lnTo>
                        <a:lnTo>
                          <a:pt x="32" y="4"/>
                        </a:lnTo>
                        <a:lnTo>
                          <a:pt x="34" y="3"/>
                        </a:lnTo>
                        <a:lnTo>
                          <a:pt x="35" y="9"/>
                        </a:lnTo>
                        <a:lnTo>
                          <a:pt x="37" y="16"/>
                        </a:lnTo>
                        <a:lnTo>
                          <a:pt x="35" y="22"/>
                        </a:lnTo>
                        <a:lnTo>
                          <a:pt x="33" y="26"/>
                        </a:lnTo>
                        <a:lnTo>
                          <a:pt x="27" y="29"/>
                        </a:lnTo>
                        <a:lnTo>
                          <a:pt x="22" y="31"/>
                        </a:lnTo>
                        <a:lnTo>
                          <a:pt x="15" y="30"/>
                        </a:lnTo>
                        <a:lnTo>
                          <a:pt x="9" y="29"/>
                        </a:lnTo>
                        <a:lnTo>
                          <a:pt x="3" y="25"/>
                        </a:lnTo>
                        <a:lnTo>
                          <a:pt x="0" y="22"/>
                        </a:lnTo>
                        <a:lnTo>
                          <a:pt x="4" y="22"/>
                        </a:lnTo>
                        <a:lnTo>
                          <a:pt x="8" y="21"/>
                        </a:lnTo>
                        <a:lnTo>
                          <a:pt x="9" y="17"/>
                        </a:lnTo>
                        <a:lnTo>
                          <a:pt x="10" y="13"/>
                        </a:lnTo>
                        <a:lnTo>
                          <a:pt x="10" y="8"/>
                        </a:lnTo>
                        <a:lnTo>
                          <a:pt x="11" y="3"/>
                        </a:lnTo>
                        <a:lnTo>
                          <a:pt x="13" y="1"/>
                        </a:lnTo>
                        <a:lnTo>
                          <a:pt x="18" y="0"/>
                        </a:lnTo>
                        <a:lnTo>
                          <a:pt x="18"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516" name=""/>
                  <p:cNvSpPr/>
                  <p:nvPr/>
                </p:nvSpPr>
                <p:spPr>
                  <a:xfrm rot="1050600">
                    <a:off x="4322160" y="4809240"/>
                    <a:ext cx="6840" cy="18000"/>
                  </a:xfrm>
                  <a:custGeom>
                    <a:avLst/>
                    <a:gdLst/>
                    <a:ahLst/>
                    <a:rect l="l" t="t" r="r" b="b"/>
                    <a:pathLst>
                      <a:path w="9" h="18">
                        <a:moveTo>
                          <a:pt x="5" y="0"/>
                        </a:moveTo>
                        <a:lnTo>
                          <a:pt x="8" y="6"/>
                        </a:lnTo>
                        <a:lnTo>
                          <a:pt x="9" y="11"/>
                        </a:lnTo>
                        <a:lnTo>
                          <a:pt x="7" y="15"/>
                        </a:lnTo>
                        <a:lnTo>
                          <a:pt x="5" y="18"/>
                        </a:lnTo>
                        <a:lnTo>
                          <a:pt x="2" y="18"/>
                        </a:lnTo>
                        <a:lnTo>
                          <a:pt x="0" y="16"/>
                        </a:lnTo>
                        <a:lnTo>
                          <a:pt x="0" y="12"/>
                        </a:lnTo>
                        <a:lnTo>
                          <a:pt x="4" y="7"/>
                        </a:lnTo>
                        <a:lnTo>
                          <a:pt x="4" y="3"/>
                        </a:lnTo>
                        <a:lnTo>
                          <a:pt x="5" y="0"/>
                        </a:lnTo>
                        <a:lnTo>
                          <a:pt x="5"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17" name=""/>
                  <p:cNvSpPr/>
                  <p:nvPr/>
                </p:nvSpPr>
                <p:spPr>
                  <a:xfrm rot="1050600">
                    <a:off x="4290120" y="4801320"/>
                    <a:ext cx="6120" cy="15120"/>
                  </a:xfrm>
                  <a:custGeom>
                    <a:avLst/>
                    <a:gdLst/>
                    <a:ahLst/>
                    <a:rect l="l" t="t" r="r" b="b"/>
                    <a:pathLst>
                      <a:path w="8" h="15">
                        <a:moveTo>
                          <a:pt x="3" y="0"/>
                        </a:moveTo>
                        <a:lnTo>
                          <a:pt x="6" y="0"/>
                        </a:lnTo>
                        <a:lnTo>
                          <a:pt x="8" y="3"/>
                        </a:lnTo>
                        <a:lnTo>
                          <a:pt x="7" y="8"/>
                        </a:lnTo>
                        <a:lnTo>
                          <a:pt x="7" y="12"/>
                        </a:lnTo>
                        <a:lnTo>
                          <a:pt x="5" y="14"/>
                        </a:lnTo>
                        <a:lnTo>
                          <a:pt x="3" y="15"/>
                        </a:lnTo>
                        <a:lnTo>
                          <a:pt x="0" y="12"/>
                        </a:lnTo>
                        <a:lnTo>
                          <a:pt x="0" y="6"/>
                        </a:lnTo>
                        <a:lnTo>
                          <a:pt x="1" y="2"/>
                        </a:lnTo>
                        <a:lnTo>
                          <a:pt x="3" y="0"/>
                        </a:lnTo>
                        <a:lnTo>
                          <a:pt x="3" y="0"/>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518" name=""/>
                  <p:cNvSpPr/>
                  <p:nvPr/>
                </p:nvSpPr>
                <p:spPr>
                  <a:xfrm rot="1050600">
                    <a:off x="4267440" y="4806720"/>
                    <a:ext cx="4320" cy="15840"/>
                  </a:xfrm>
                  <a:custGeom>
                    <a:avLst/>
                    <a:gdLst/>
                    <a:ahLst/>
                    <a:rect l="l" t="t" r="r" b="b"/>
                    <a:pathLst>
                      <a:path w="6" h="16">
                        <a:moveTo>
                          <a:pt x="1" y="0"/>
                        </a:moveTo>
                        <a:lnTo>
                          <a:pt x="4" y="0"/>
                        </a:lnTo>
                        <a:lnTo>
                          <a:pt x="6" y="3"/>
                        </a:lnTo>
                        <a:lnTo>
                          <a:pt x="5" y="7"/>
                        </a:lnTo>
                        <a:lnTo>
                          <a:pt x="5" y="12"/>
                        </a:lnTo>
                        <a:lnTo>
                          <a:pt x="3" y="15"/>
                        </a:lnTo>
                        <a:lnTo>
                          <a:pt x="1" y="16"/>
                        </a:lnTo>
                        <a:lnTo>
                          <a:pt x="0" y="13"/>
                        </a:lnTo>
                        <a:lnTo>
                          <a:pt x="0" y="6"/>
                        </a:lnTo>
                        <a:lnTo>
                          <a:pt x="0" y="2"/>
                        </a:lnTo>
                        <a:lnTo>
                          <a:pt x="1" y="0"/>
                        </a:lnTo>
                        <a:lnTo>
                          <a:pt x="1" y="0"/>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19" name=""/>
                  <p:cNvSpPr/>
                  <p:nvPr/>
                </p:nvSpPr>
                <p:spPr>
                  <a:xfrm rot="1050600">
                    <a:off x="4386600" y="4880880"/>
                    <a:ext cx="27720" cy="39240"/>
                  </a:xfrm>
                  <a:custGeom>
                    <a:avLst/>
                    <a:gdLst/>
                    <a:ahLst/>
                    <a:rect l="l" t="t" r="r" b="b"/>
                    <a:pathLst>
                      <a:path w="36" h="39">
                        <a:moveTo>
                          <a:pt x="0" y="0"/>
                        </a:moveTo>
                        <a:lnTo>
                          <a:pt x="4" y="5"/>
                        </a:lnTo>
                        <a:lnTo>
                          <a:pt x="9" y="9"/>
                        </a:lnTo>
                        <a:lnTo>
                          <a:pt x="14" y="13"/>
                        </a:lnTo>
                        <a:lnTo>
                          <a:pt x="21" y="18"/>
                        </a:lnTo>
                        <a:lnTo>
                          <a:pt x="25" y="22"/>
                        </a:lnTo>
                        <a:lnTo>
                          <a:pt x="30" y="26"/>
                        </a:lnTo>
                        <a:lnTo>
                          <a:pt x="33" y="32"/>
                        </a:lnTo>
                        <a:lnTo>
                          <a:pt x="36" y="39"/>
                        </a:lnTo>
                        <a:lnTo>
                          <a:pt x="31" y="33"/>
                        </a:lnTo>
                        <a:lnTo>
                          <a:pt x="25" y="29"/>
                        </a:lnTo>
                        <a:lnTo>
                          <a:pt x="18" y="25"/>
                        </a:lnTo>
                        <a:lnTo>
                          <a:pt x="13" y="22"/>
                        </a:lnTo>
                        <a:lnTo>
                          <a:pt x="7" y="17"/>
                        </a:lnTo>
                        <a:lnTo>
                          <a:pt x="3" y="13"/>
                        </a:lnTo>
                        <a:lnTo>
                          <a:pt x="0" y="6"/>
                        </a:lnTo>
                        <a:lnTo>
                          <a:pt x="0" y="0"/>
                        </a:lnTo>
                        <a:lnTo>
                          <a:pt x="0"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520" name=""/>
                  <p:cNvSpPr/>
                  <p:nvPr/>
                </p:nvSpPr>
                <p:spPr>
                  <a:xfrm rot="1050600">
                    <a:off x="4553280" y="4930200"/>
                    <a:ext cx="2880" cy="2880"/>
                  </a:xfrm>
                  <a:custGeom>
                    <a:avLst/>
                    <a:gdLst/>
                    <a:ahLst/>
                    <a:rect l="l" t="t" r="r" b="b"/>
                    <a:pathLst>
                      <a:path w="4" h="3">
                        <a:moveTo>
                          <a:pt x="2" y="0"/>
                        </a:moveTo>
                        <a:lnTo>
                          <a:pt x="4" y="3"/>
                        </a:lnTo>
                        <a:lnTo>
                          <a:pt x="2" y="3"/>
                        </a:lnTo>
                        <a:lnTo>
                          <a:pt x="0" y="1"/>
                        </a:lnTo>
                        <a:lnTo>
                          <a:pt x="2" y="0"/>
                        </a:lnTo>
                        <a:lnTo>
                          <a:pt x="2"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21" name=""/>
                  <p:cNvSpPr/>
                  <p:nvPr/>
                </p:nvSpPr>
                <p:spPr>
                  <a:xfrm rot="1050600">
                    <a:off x="4283280" y="4847040"/>
                    <a:ext cx="5400" cy="15120"/>
                  </a:xfrm>
                  <a:custGeom>
                    <a:avLst/>
                    <a:gdLst/>
                    <a:ahLst/>
                    <a:rect l="l" t="t" r="r" b="b"/>
                    <a:pathLst>
                      <a:path w="7" h="15">
                        <a:moveTo>
                          <a:pt x="3" y="0"/>
                        </a:moveTo>
                        <a:lnTo>
                          <a:pt x="5" y="0"/>
                        </a:lnTo>
                        <a:lnTo>
                          <a:pt x="7" y="3"/>
                        </a:lnTo>
                        <a:lnTo>
                          <a:pt x="6" y="7"/>
                        </a:lnTo>
                        <a:lnTo>
                          <a:pt x="6" y="12"/>
                        </a:lnTo>
                        <a:lnTo>
                          <a:pt x="4" y="14"/>
                        </a:lnTo>
                        <a:lnTo>
                          <a:pt x="3" y="15"/>
                        </a:lnTo>
                        <a:lnTo>
                          <a:pt x="0" y="12"/>
                        </a:lnTo>
                        <a:lnTo>
                          <a:pt x="0" y="5"/>
                        </a:lnTo>
                        <a:lnTo>
                          <a:pt x="0" y="2"/>
                        </a:lnTo>
                        <a:lnTo>
                          <a:pt x="3" y="0"/>
                        </a:lnTo>
                        <a:lnTo>
                          <a:pt x="3" y="0"/>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522" name=""/>
                  <p:cNvSpPr/>
                  <p:nvPr/>
                </p:nvSpPr>
                <p:spPr>
                  <a:xfrm rot="1050600">
                    <a:off x="4531680" y="4927320"/>
                    <a:ext cx="4320" cy="16200"/>
                  </a:xfrm>
                  <a:custGeom>
                    <a:avLst/>
                    <a:gdLst/>
                    <a:ahLst/>
                    <a:rect l="l" t="t" r="r" b="b"/>
                    <a:pathLst>
                      <a:path w="6" h="16">
                        <a:moveTo>
                          <a:pt x="4" y="0"/>
                        </a:moveTo>
                        <a:lnTo>
                          <a:pt x="5" y="6"/>
                        </a:lnTo>
                        <a:lnTo>
                          <a:pt x="6" y="11"/>
                        </a:lnTo>
                        <a:lnTo>
                          <a:pt x="5" y="14"/>
                        </a:lnTo>
                        <a:lnTo>
                          <a:pt x="4" y="16"/>
                        </a:lnTo>
                        <a:lnTo>
                          <a:pt x="2" y="15"/>
                        </a:lnTo>
                        <a:lnTo>
                          <a:pt x="1" y="13"/>
                        </a:lnTo>
                        <a:lnTo>
                          <a:pt x="0" y="9"/>
                        </a:lnTo>
                        <a:lnTo>
                          <a:pt x="1" y="5"/>
                        </a:lnTo>
                        <a:lnTo>
                          <a:pt x="2" y="2"/>
                        </a:lnTo>
                        <a:lnTo>
                          <a:pt x="4" y="0"/>
                        </a:lnTo>
                        <a:lnTo>
                          <a:pt x="4"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523" name=""/>
                  <p:cNvSpPr/>
                  <p:nvPr/>
                </p:nvSpPr>
                <p:spPr>
                  <a:xfrm rot="1050600">
                    <a:off x="4215600" y="4834800"/>
                    <a:ext cx="6120" cy="14040"/>
                  </a:xfrm>
                  <a:custGeom>
                    <a:avLst/>
                    <a:gdLst/>
                    <a:ahLst/>
                    <a:rect l="l" t="t" r="r" b="b"/>
                    <a:pathLst>
                      <a:path w="8" h="14">
                        <a:moveTo>
                          <a:pt x="3" y="0"/>
                        </a:moveTo>
                        <a:lnTo>
                          <a:pt x="6" y="0"/>
                        </a:lnTo>
                        <a:lnTo>
                          <a:pt x="8" y="3"/>
                        </a:lnTo>
                        <a:lnTo>
                          <a:pt x="7" y="7"/>
                        </a:lnTo>
                        <a:lnTo>
                          <a:pt x="7" y="12"/>
                        </a:lnTo>
                        <a:lnTo>
                          <a:pt x="5" y="13"/>
                        </a:lnTo>
                        <a:lnTo>
                          <a:pt x="3" y="14"/>
                        </a:lnTo>
                        <a:lnTo>
                          <a:pt x="0" y="12"/>
                        </a:lnTo>
                        <a:lnTo>
                          <a:pt x="0" y="6"/>
                        </a:lnTo>
                        <a:lnTo>
                          <a:pt x="0" y="2"/>
                        </a:lnTo>
                        <a:lnTo>
                          <a:pt x="3" y="0"/>
                        </a:lnTo>
                        <a:lnTo>
                          <a:pt x="3" y="0"/>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524" name=""/>
                  <p:cNvSpPr/>
                  <p:nvPr/>
                </p:nvSpPr>
                <p:spPr>
                  <a:xfrm rot="1050600">
                    <a:off x="4507920" y="4943520"/>
                    <a:ext cx="20880" cy="27000"/>
                  </a:xfrm>
                  <a:custGeom>
                    <a:avLst/>
                    <a:gdLst/>
                    <a:ahLst/>
                    <a:rect l="l" t="t" r="r" b="b"/>
                    <a:pathLst>
                      <a:path w="27" h="27">
                        <a:moveTo>
                          <a:pt x="10" y="0"/>
                        </a:moveTo>
                        <a:lnTo>
                          <a:pt x="15" y="4"/>
                        </a:lnTo>
                        <a:lnTo>
                          <a:pt x="22" y="6"/>
                        </a:lnTo>
                        <a:lnTo>
                          <a:pt x="24" y="6"/>
                        </a:lnTo>
                        <a:lnTo>
                          <a:pt x="27" y="9"/>
                        </a:lnTo>
                        <a:lnTo>
                          <a:pt x="27" y="13"/>
                        </a:lnTo>
                        <a:lnTo>
                          <a:pt x="27" y="21"/>
                        </a:lnTo>
                        <a:lnTo>
                          <a:pt x="21" y="25"/>
                        </a:lnTo>
                        <a:lnTo>
                          <a:pt x="15" y="27"/>
                        </a:lnTo>
                        <a:lnTo>
                          <a:pt x="7" y="27"/>
                        </a:lnTo>
                        <a:lnTo>
                          <a:pt x="0" y="26"/>
                        </a:lnTo>
                        <a:lnTo>
                          <a:pt x="2" y="18"/>
                        </a:lnTo>
                        <a:lnTo>
                          <a:pt x="4" y="12"/>
                        </a:lnTo>
                        <a:lnTo>
                          <a:pt x="5" y="4"/>
                        </a:lnTo>
                        <a:lnTo>
                          <a:pt x="10" y="0"/>
                        </a:lnTo>
                        <a:lnTo>
                          <a:pt x="10"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25" name=""/>
                  <p:cNvSpPr/>
                  <p:nvPr/>
                </p:nvSpPr>
                <p:spPr>
                  <a:xfrm rot="1050600">
                    <a:off x="4167360" y="4845960"/>
                    <a:ext cx="25560" cy="33120"/>
                  </a:xfrm>
                  <a:custGeom>
                    <a:avLst/>
                    <a:gdLst/>
                    <a:ahLst/>
                    <a:rect l="l" t="t" r="r" b="b"/>
                    <a:pathLst>
                      <a:path w="33" h="33">
                        <a:moveTo>
                          <a:pt x="15" y="0"/>
                        </a:moveTo>
                        <a:lnTo>
                          <a:pt x="17" y="0"/>
                        </a:lnTo>
                        <a:lnTo>
                          <a:pt x="22" y="1"/>
                        </a:lnTo>
                        <a:lnTo>
                          <a:pt x="27" y="1"/>
                        </a:lnTo>
                        <a:lnTo>
                          <a:pt x="31" y="2"/>
                        </a:lnTo>
                        <a:lnTo>
                          <a:pt x="33" y="8"/>
                        </a:lnTo>
                        <a:lnTo>
                          <a:pt x="33" y="10"/>
                        </a:lnTo>
                        <a:lnTo>
                          <a:pt x="31" y="12"/>
                        </a:lnTo>
                        <a:lnTo>
                          <a:pt x="29" y="13"/>
                        </a:lnTo>
                        <a:lnTo>
                          <a:pt x="22" y="14"/>
                        </a:lnTo>
                        <a:lnTo>
                          <a:pt x="17" y="18"/>
                        </a:lnTo>
                        <a:lnTo>
                          <a:pt x="22" y="25"/>
                        </a:lnTo>
                        <a:lnTo>
                          <a:pt x="18" y="30"/>
                        </a:lnTo>
                        <a:lnTo>
                          <a:pt x="14" y="31"/>
                        </a:lnTo>
                        <a:lnTo>
                          <a:pt x="10" y="32"/>
                        </a:lnTo>
                        <a:lnTo>
                          <a:pt x="6" y="32"/>
                        </a:lnTo>
                        <a:lnTo>
                          <a:pt x="3" y="33"/>
                        </a:lnTo>
                        <a:lnTo>
                          <a:pt x="0" y="23"/>
                        </a:lnTo>
                        <a:lnTo>
                          <a:pt x="3" y="15"/>
                        </a:lnTo>
                        <a:lnTo>
                          <a:pt x="8" y="7"/>
                        </a:lnTo>
                        <a:lnTo>
                          <a:pt x="15" y="0"/>
                        </a:lnTo>
                        <a:lnTo>
                          <a:pt x="15" y="0"/>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526" name=""/>
                  <p:cNvSpPr/>
                  <p:nvPr/>
                </p:nvSpPr>
                <p:spPr>
                  <a:xfrm rot="1050600">
                    <a:off x="4496400" y="4948560"/>
                    <a:ext cx="2160" cy="9000"/>
                  </a:xfrm>
                  <a:custGeom>
                    <a:avLst/>
                    <a:gdLst/>
                    <a:ahLst/>
                    <a:rect l="l" t="t" r="r" b="b"/>
                    <a:pathLst>
                      <a:path w="3" h="9">
                        <a:moveTo>
                          <a:pt x="3" y="0"/>
                        </a:moveTo>
                        <a:lnTo>
                          <a:pt x="2" y="7"/>
                        </a:lnTo>
                        <a:lnTo>
                          <a:pt x="1" y="9"/>
                        </a:lnTo>
                        <a:lnTo>
                          <a:pt x="0" y="7"/>
                        </a:lnTo>
                        <a:lnTo>
                          <a:pt x="3" y="0"/>
                        </a:lnTo>
                        <a:lnTo>
                          <a:pt x="3"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27" name=""/>
                  <p:cNvSpPr/>
                  <p:nvPr/>
                </p:nvSpPr>
                <p:spPr>
                  <a:xfrm rot="1050600">
                    <a:off x="4471920" y="4968000"/>
                    <a:ext cx="10800" cy="13680"/>
                  </a:xfrm>
                  <a:custGeom>
                    <a:avLst/>
                    <a:gdLst/>
                    <a:ahLst/>
                    <a:rect l="l" t="t" r="r" b="b"/>
                    <a:pathLst>
                      <a:path w="14" h="14">
                        <a:moveTo>
                          <a:pt x="0" y="0"/>
                        </a:moveTo>
                        <a:lnTo>
                          <a:pt x="7" y="1"/>
                        </a:lnTo>
                        <a:lnTo>
                          <a:pt x="14" y="6"/>
                        </a:lnTo>
                        <a:lnTo>
                          <a:pt x="14" y="8"/>
                        </a:lnTo>
                        <a:lnTo>
                          <a:pt x="14" y="11"/>
                        </a:lnTo>
                        <a:lnTo>
                          <a:pt x="10" y="13"/>
                        </a:lnTo>
                        <a:lnTo>
                          <a:pt x="3" y="14"/>
                        </a:lnTo>
                        <a:lnTo>
                          <a:pt x="1" y="9"/>
                        </a:lnTo>
                        <a:lnTo>
                          <a:pt x="1" y="5"/>
                        </a:lnTo>
                        <a:lnTo>
                          <a:pt x="0" y="2"/>
                        </a:lnTo>
                        <a:lnTo>
                          <a:pt x="0" y="0"/>
                        </a:lnTo>
                        <a:lnTo>
                          <a:pt x="0"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528" name=""/>
                  <p:cNvSpPr/>
                  <p:nvPr/>
                </p:nvSpPr>
                <p:spPr>
                  <a:xfrm rot="1050600">
                    <a:off x="4119120" y="4917960"/>
                    <a:ext cx="4320" cy="10800"/>
                  </a:xfrm>
                  <a:custGeom>
                    <a:avLst/>
                    <a:gdLst/>
                    <a:ahLst/>
                    <a:rect l="l" t="t" r="r" b="b"/>
                    <a:pathLst>
                      <a:path w="6" h="11">
                        <a:moveTo>
                          <a:pt x="4" y="0"/>
                        </a:moveTo>
                        <a:lnTo>
                          <a:pt x="5" y="4"/>
                        </a:lnTo>
                        <a:lnTo>
                          <a:pt x="6" y="8"/>
                        </a:lnTo>
                        <a:lnTo>
                          <a:pt x="4" y="10"/>
                        </a:lnTo>
                        <a:lnTo>
                          <a:pt x="3" y="11"/>
                        </a:lnTo>
                        <a:lnTo>
                          <a:pt x="0" y="8"/>
                        </a:lnTo>
                        <a:lnTo>
                          <a:pt x="4" y="0"/>
                        </a:lnTo>
                        <a:lnTo>
                          <a:pt x="4"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29" name=""/>
                  <p:cNvSpPr/>
                  <p:nvPr/>
                </p:nvSpPr>
                <p:spPr>
                  <a:xfrm rot="1050600">
                    <a:off x="4004280" y="4888800"/>
                    <a:ext cx="3600" cy="3600"/>
                  </a:xfrm>
                  <a:custGeom>
                    <a:avLst/>
                    <a:gdLst/>
                    <a:ahLst/>
                    <a:rect l="l" t="t" r="r" b="b"/>
                    <a:pathLst>
                      <a:path w="5" h="4">
                        <a:moveTo>
                          <a:pt x="2" y="0"/>
                        </a:moveTo>
                        <a:lnTo>
                          <a:pt x="5" y="2"/>
                        </a:lnTo>
                        <a:lnTo>
                          <a:pt x="2" y="4"/>
                        </a:lnTo>
                        <a:lnTo>
                          <a:pt x="0" y="3"/>
                        </a:lnTo>
                        <a:lnTo>
                          <a:pt x="2" y="0"/>
                        </a:lnTo>
                        <a:lnTo>
                          <a:pt x="2"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530" name=""/>
                  <p:cNvSpPr/>
                  <p:nvPr/>
                </p:nvSpPr>
                <p:spPr>
                  <a:xfrm rot="1050600">
                    <a:off x="4035960" y="4902480"/>
                    <a:ext cx="6120" cy="14040"/>
                  </a:xfrm>
                  <a:custGeom>
                    <a:avLst/>
                    <a:gdLst/>
                    <a:ahLst/>
                    <a:rect l="l" t="t" r="r" b="b"/>
                    <a:pathLst>
                      <a:path w="8" h="14">
                        <a:moveTo>
                          <a:pt x="3" y="0"/>
                        </a:moveTo>
                        <a:lnTo>
                          <a:pt x="6" y="0"/>
                        </a:lnTo>
                        <a:lnTo>
                          <a:pt x="8" y="3"/>
                        </a:lnTo>
                        <a:lnTo>
                          <a:pt x="7" y="7"/>
                        </a:lnTo>
                        <a:lnTo>
                          <a:pt x="7" y="11"/>
                        </a:lnTo>
                        <a:lnTo>
                          <a:pt x="5" y="13"/>
                        </a:lnTo>
                        <a:lnTo>
                          <a:pt x="3" y="14"/>
                        </a:lnTo>
                        <a:lnTo>
                          <a:pt x="0" y="11"/>
                        </a:lnTo>
                        <a:lnTo>
                          <a:pt x="0" y="6"/>
                        </a:lnTo>
                        <a:lnTo>
                          <a:pt x="0" y="2"/>
                        </a:lnTo>
                        <a:lnTo>
                          <a:pt x="3" y="0"/>
                        </a:lnTo>
                        <a:lnTo>
                          <a:pt x="3" y="0"/>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531" name=""/>
                  <p:cNvSpPr/>
                  <p:nvPr/>
                </p:nvSpPr>
                <p:spPr>
                  <a:xfrm rot="1050600">
                    <a:off x="4042440" y="4923360"/>
                    <a:ext cx="6840" cy="26280"/>
                  </a:xfrm>
                  <a:custGeom>
                    <a:avLst/>
                    <a:gdLst/>
                    <a:ahLst/>
                    <a:rect l="l" t="t" r="r" b="b"/>
                    <a:pathLst>
                      <a:path w="9" h="26">
                        <a:moveTo>
                          <a:pt x="2" y="0"/>
                        </a:moveTo>
                        <a:lnTo>
                          <a:pt x="5" y="0"/>
                        </a:lnTo>
                        <a:lnTo>
                          <a:pt x="8" y="5"/>
                        </a:lnTo>
                        <a:lnTo>
                          <a:pt x="9" y="11"/>
                        </a:lnTo>
                        <a:lnTo>
                          <a:pt x="9" y="18"/>
                        </a:lnTo>
                        <a:lnTo>
                          <a:pt x="7" y="23"/>
                        </a:lnTo>
                        <a:lnTo>
                          <a:pt x="5" y="26"/>
                        </a:lnTo>
                        <a:lnTo>
                          <a:pt x="2" y="25"/>
                        </a:lnTo>
                        <a:lnTo>
                          <a:pt x="0" y="19"/>
                        </a:lnTo>
                        <a:lnTo>
                          <a:pt x="0" y="13"/>
                        </a:lnTo>
                        <a:lnTo>
                          <a:pt x="0" y="8"/>
                        </a:lnTo>
                        <a:lnTo>
                          <a:pt x="0" y="2"/>
                        </a:lnTo>
                        <a:lnTo>
                          <a:pt x="2" y="0"/>
                        </a:lnTo>
                        <a:lnTo>
                          <a:pt x="2" y="0"/>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532" name=""/>
                  <p:cNvSpPr/>
                  <p:nvPr/>
                </p:nvSpPr>
                <p:spPr>
                  <a:xfrm rot="1050600">
                    <a:off x="3993840" y="4934520"/>
                    <a:ext cx="10080" cy="20160"/>
                  </a:xfrm>
                  <a:custGeom>
                    <a:avLst/>
                    <a:gdLst/>
                    <a:ahLst/>
                    <a:rect l="l" t="t" r="r" b="b"/>
                    <a:pathLst>
                      <a:path w="13" h="20">
                        <a:moveTo>
                          <a:pt x="8" y="0"/>
                        </a:moveTo>
                        <a:lnTo>
                          <a:pt x="11" y="1"/>
                        </a:lnTo>
                        <a:lnTo>
                          <a:pt x="13" y="4"/>
                        </a:lnTo>
                        <a:lnTo>
                          <a:pt x="13" y="8"/>
                        </a:lnTo>
                        <a:lnTo>
                          <a:pt x="12" y="14"/>
                        </a:lnTo>
                        <a:lnTo>
                          <a:pt x="10" y="17"/>
                        </a:lnTo>
                        <a:lnTo>
                          <a:pt x="6" y="20"/>
                        </a:lnTo>
                        <a:lnTo>
                          <a:pt x="2" y="18"/>
                        </a:lnTo>
                        <a:lnTo>
                          <a:pt x="0" y="14"/>
                        </a:lnTo>
                        <a:lnTo>
                          <a:pt x="0" y="9"/>
                        </a:lnTo>
                        <a:lnTo>
                          <a:pt x="2" y="6"/>
                        </a:lnTo>
                        <a:lnTo>
                          <a:pt x="5" y="2"/>
                        </a:lnTo>
                        <a:lnTo>
                          <a:pt x="8" y="0"/>
                        </a:lnTo>
                        <a:lnTo>
                          <a:pt x="8" y="0"/>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533" name=""/>
                  <p:cNvSpPr/>
                  <p:nvPr/>
                </p:nvSpPr>
                <p:spPr>
                  <a:xfrm rot="1050600">
                    <a:off x="3945240" y="4952160"/>
                    <a:ext cx="47520" cy="38520"/>
                  </a:xfrm>
                  <a:custGeom>
                    <a:avLst/>
                    <a:gdLst/>
                    <a:ahLst/>
                    <a:rect l="l" t="t" r="r" b="b"/>
                    <a:pathLst>
                      <a:path w="61" h="38">
                        <a:moveTo>
                          <a:pt x="49" y="0"/>
                        </a:moveTo>
                        <a:lnTo>
                          <a:pt x="53" y="0"/>
                        </a:lnTo>
                        <a:lnTo>
                          <a:pt x="57" y="2"/>
                        </a:lnTo>
                        <a:lnTo>
                          <a:pt x="60" y="4"/>
                        </a:lnTo>
                        <a:lnTo>
                          <a:pt x="61" y="8"/>
                        </a:lnTo>
                        <a:lnTo>
                          <a:pt x="61" y="16"/>
                        </a:lnTo>
                        <a:lnTo>
                          <a:pt x="58" y="24"/>
                        </a:lnTo>
                        <a:lnTo>
                          <a:pt x="51" y="31"/>
                        </a:lnTo>
                        <a:lnTo>
                          <a:pt x="46" y="37"/>
                        </a:lnTo>
                        <a:lnTo>
                          <a:pt x="37" y="38"/>
                        </a:lnTo>
                        <a:lnTo>
                          <a:pt x="29" y="37"/>
                        </a:lnTo>
                        <a:lnTo>
                          <a:pt x="20" y="37"/>
                        </a:lnTo>
                        <a:lnTo>
                          <a:pt x="13" y="34"/>
                        </a:lnTo>
                        <a:lnTo>
                          <a:pt x="7" y="29"/>
                        </a:lnTo>
                        <a:lnTo>
                          <a:pt x="0" y="27"/>
                        </a:lnTo>
                        <a:lnTo>
                          <a:pt x="0" y="23"/>
                        </a:lnTo>
                        <a:lnTo>
                          <a:pt x="2" y="19"/>
                        </a:lnTo>
                        <a:lnTo>
                          <a:pt x="5" y="16"/>
                        </a:lnTo>
                        <a:lnTo>
                          <a:pt x="7" y="14"/>
                        </a:lnTo>
                        <a:lnTo>
                          <a:pt x="11" y="19"/>
                        </a:lnTo>
                        <a:lnTo>
                          <a:pt x="16" y="22"/>
                        </a:lnTo>
                        <a:lnTo>
                          <a:pt x="24" y="24"/>
                        </a:lnTo>
                        <a:lnTo>
                          <a:pt x="31" y="25"/>
                        </a:lnTo>
                        <a:lnTo>
                          <a:pt x="37" y="23"/>
                        </a:lnTo>
                        <a:lnTo>
                          <a:pt x="42" y="19"/>
                        </a:lnTo>
                        <a:lnTo>
                          <a:pt x="46" y="14"/>
                        </a:lnTo>
                        <a:lnTo>
                          <a:pt x="47" y="6"/>
                        </a:lnTo>
                        <a:lnTo>
                          <a:pt x="47" y="2"/>
                        </a:lnTo>
                        <a:lnTo>
                          <a:pt x="49" y="0"/>
                        </a:lnTo>
                        <a:lnTo>
                          <a:pt x="49" y="0"/>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534" name=""/>
                  <p:cNvSpPr/>
                  <p:nvPr/>
                </p:nvSpPr>
                <p:spPr>
                  <a:xfrm rot="1050600">
                    <a:off x="4015440" y="4992840"/>
                    <a:ext cx="6120" cy="16200"/>
                  </a:xfrm>
                  <a:custGeom>
                    <a:avLst/>
                    <a:gdLst/>
                    <a:ahLst/>
                    <a:rect l="l" t="t" r="r" b="b"/>
                    <a:pathLst>
                      <a:path w="8" h="16">
                        <a:moveTo>
                          <a:pt x="3" y="0"/>
                        </a:moveTo>
                        <a:lnTo>
                          <a:pt x="6" y="0"/>
                        </a:lnTo>
                        <a:lnTo>
                          <a:pt x="8" y="4"/>
                        </a:lnTo>
                        <a:lnTo>
                          <a:pt x="7" y="8"/>
                        </a:lnTo>
                        <a:lnTo>
                          <a:pt x="7" y="13"/>
                        </a:lnTo>
                        <a:lnTo>
                          <a:pt x="5" y="15"/>
                        </a:lnTo>
                        <a:lnTo>
                          <a:pt x="3" y="16"/>
                        </a:lnTo>
                        <a:lnTo>
                          <a:pt x="0" y="14"/>
                        </a:lnTo>
                        <a:lnTo>
                          <a:pt x="0" y="7"/>
                        </a:lnTo>
                        <a:lnTo>
                          <a:pt x="0" y="2"/>
                        </a:lnTo>
                        <a:lnTo>
                          <a:pt x="3" y="0"/>
                        </a:lnTo>
                        <a:lnTo>
                          <a:pt x="3" y="0"/>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535" name=""/>
                  <p:cNvSpPr/>
                  <p:nvPr/>
                </p:nvSpPr>
                <p:spPr>
                  <a:xfrm rot="1050600">
                    <a:off x="4185000" y="4904280"/>
                    <a:ext cx="10080" cy="19080"/>
                  </a:xfrm>
                  <a:custGeom>
                    <a:avLst/>
                    <a:gdLst/>
                    <a:ahLst/>
                    <a:rect l="l" t="t" r="r" b="b"/>
                    <a:pathLst>
                      <a:path w="13" h="19">
                        <a:moveTo>
                          <a:pt x="3" y="0"/>
                        </a:moveTo>
                        <a:lnTo>
                          <a:pt x="7" y="1"/>
                        </a:lnTo>
                        <a:lnTo>
                          <a:pt x="11" y="5"/>
                        </a:lnTo>
                        <a:lnTo>
                          <a:pt x="12" y="10"/>
                        </a:lnTo>
                        <a:lnTo>
                          <a:pt x="13" y="14"/>
                        </a:lnTo>
                        <a:lnTo>
                          <a:pt x="11" y="17"/>
                        </a:lnTo>
                        <a:lnTo>
                          <a:pt x="8" y="19"/>
                        </a:lnTo>
                        <a:lnTo>
                          <a:pt x="5" y="17"/>
                        </a:lnTo>
                        <a:lnTo>
                          <a:pt x="0" y="12"/>
                        </a:lnTo>
                        <a:lnTo>
                          <a:pt x="0" y="8"/>
                        </a:lnTo>
                        <a:lnTo>
                          <a:pt x="1" y="4"/>
                        </a:lnTo>
                        <a:lnTo>
                          <a:pt x="2" y="1"/>
                        </a:lnTo>
                        <a:lnTo>
                          <a:pt x="3" y="0"/>
                        </a:lnTo>
                        <a:lnTo>
                          <a:pt x="3" y="0"/>
                        </a:lnTo>
                        <a:close/>
                      </a:path>
                    </a:pathLst>
                  </a:custGeom>
                  <a:solidFill>
                    <a:srgbClr val="fac7c7"/>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36" name=""/>
                  <p:cNvSpPr/>
                  <p:nvPr/>
                </p:nvSpPr>
                <p:spPr>
                  <a:xfrm rot="1050600">
                    <a:off x="4287600" y="4868280"/>
                    <a:ext cx="12240" cy="18000"/>
                  </a:xfrm>
                  <a:custGeom>
                    <a:avLst/>
                    <a:gdLst/>
                    <a:ahLst/>
                    <a:rect l="l" t="t" r="r" b="b"/>
                    <a:pathLst>
                      <a:path w="16" h="18">
                        <a:moveTo>
                          <a:pt x="5" y="0"/>
                        </a:moveTo>
                        <a:lnTo>
                          <a:pt x="9" y="2"/>
                        </a:lnTo>
                        <a:lnTo>
                          <a:pt x="15" y="7"/>
                        </a:lnTo>
                        <a:lnTo>
                          <a:pt x="16" y="12"/>
                        </a:lnTo>
                        <a:lnTo>
                          <a:pt x="11" y="18"/>
                        </a:lnTo>
                        <a:lnTo>
                          <a:pt x="5" y="15"/>
                        </a:lnTo>
                        <a:lnTo>
                          <a:pt x="1" y="10"/>
                        </a:lnTo>
                        <a:lnTo>
                          <a:pt x="0" y="4"/>
                        </a:lnTo>
                        <a:lnTo>
                          <a:pt x="5" y="0"/>
                        </a:lnTo>
                        <a:lnTo>
                          <a:pt x="5" y="0"/>
                        </a:lnTo>
                        <a:close/>
                      </a:path>
                    </a:pathLst>
                  </a:custGeom>
                  <a:solidFill>
                    <a:srgbClr val="fac7c7"/>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37" name=""/>
                  <p:cNvSpPr/>
                  <p:nvPr/>
                </p:nvSpPr>
                <p:spPr>
                  <a:xfrm rot="1050600">
                    <a:off x="4493880" y="4975200"/>
                    <a:ext cx="8280" cy="16920"/>
                  </a:xfrm>
                  <a:custGeom>
                    <a:avLst/>
                    <a:gdLst/>
                    <a:ahLst/>
                    <a:rect l="l" t="t" r="r" b="b"/>
                    <a:pathLst>
                      <a:path w="11" h="17">
                        <a:moveTo>
                          <a:pt x="1" y="0"/>
                        </a:moveTo>
                        <a:lnTo>
                          <a:pt x="5" y="2"/>
                        </a:lnTo>
                        <a:lnTo>
                          <a:pt x="11" y="9"/>
                        </a:lnTo>
                        <a:lnTo>
                          <a:pt x="11" y="12"/>
                        </a:lnTo>
                        <a:lnTo>
                          <a:pt x="11" y="15"/>
                        </a:lnTo>
                        <a:lnTo>
                          <a:pt x="8" y="16"/>
                        </a:lnTo>
                        <a:lnTo>
                          <a:pt x="4" y="17"/>
                        </a:lnTo>
                        <a:lnTo>
                          <a:pt x="2" y="12"/>
                        </a:lnTo>
                        <a:lnTo>
                          <a:pt x="1" y="7"/>
                        </a:lnTo>
                        <a:lnTo>
                          <a:pt x="0" y="2"/>
                        </a:lnTo>
                        <a:lnTo>
                          <a:pt x="1" y="0"/>
                        </a:lnTo>
                        <a:lnTo>
                          <a:pt x="1" y="0"/>
                        </a:lnTo>
                        <a:close/>
                      </a:path>
                    </a:pathLst>
                  </a:custGeom>
                  <a:solidFill>
                    <a:srgbClr val="fac7c7"/>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538" name=""/>
                  <p:cNvSpPr/>
                  <p:nvPr/>
                </p:nvSpPr>
                <p:spPr>
                  <a:xfrm rot="1050600">
                    <a:off x="4599720" y="4945320"/>
                    <a:ext cx="8280" cy="18720"/>
                  </a:xfrm>
                  <a:custGeom>
                    <a:avLst/>
                    <a:gdLst/>
                    <a:ahLst/>
                    <a:rect l="l" t="t" r="r" b="b"/>
                    <a:pathLst>
                      <a:path w="11" h="19">
                        <a:moveTo>
                          <a:pt x="1" y="0"/>
                        </a:moveTo>
                        <a:lnTo>
                          <a:pt x="6" y="3"/>
                        </a:lnTo>
                        <a:lnTo>
                          <a:pt x="11" y="9"/>
                        </a:lnTo>
                        <a:lnTo>
                          <a:pt x="11" y="12"/>
                        </a:lnTo>
                        <a:lnTo>
                          <a:pt x="10" y="15"/>
                        </a:lnTo>
                        <a:lnTo>
                          <a:pt x="7" y="17"/>
                        </a:lnTo>
                        <a:lnTo>
                          <a:pt x="3" y="19"/>
                        </a:lnTo>
                        <a:lnTo>
                          <a:pt x="1" y="14"/>
                        </a:lnTo>
                        <a:lnTo>
                          <a:pt x="0" y="8"/>
                        </a:lnTo>
                        <a:lnTo>
                          <a:pt x="0" y="3"/>
                        </a:lnTo>
                        <a:lnTo>
                          <a:pt x="1" y="0"/>
                        </a:lnTo>
                        <a:lnTo>
                          <a:pt x="1" y="0"/>
                        </a:lnTo>
                        <a:close/>
                      </a:path>
                    </a:pathLst>
                  </a:custGeom>
                  <a:solidFill>
                    <a:srgbClr val="fac7c7"/>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539" name=""/>
                  <p:cNvSpPr/>
                  <p:nvPr/>
                </p:nvSpPr>
                <p:spPr>
                  <a:xfrm rot="1050600">
                    <a:off x="3927600" y="4707000"/>
                    <a:ext cx="853560" cy="346680"/>
                  </a:xfrm>
                  <a:custGeom>
                    <a:avLst/>
                    <a:gdLst/>
                    <a:ahLst/>
                    <a:rect l="l" t="t" r="r" b="b"/>
                    <a:pathLst>
                      <a:path w="1091" h="343">
                        <a:moveTo>
                          <a:pt x="0" y="335"/>
                        </a:moveTo>
                        <a:lnTo>
                          <a:pt x="71" y="211"/>
                        </a:lnTo>
                        <a:lnTo>
                          <a:pt x="160" y="275"/>
                        </a:lnTo>
                        <a:lnTo>
                          <a:pt x="412" y="109"/>
                        </a:lnTo>
                        <a:lnTo>
                          <a:pt x="592" y="15"/>
                        </a:lnTo>
                        <a:lnTo>
                          <a:pt x="701" y="179"/>
                        </a:lnTo>
                        <a:lnTo>
                          <a:pt x="948" y="48"/>
                        </a:lnTo>
                        <a:lnTo>
                          <a:pt x="940" y="0"/>
                        </a:lnTo>
                        <a:lnTo>
                          <a:pt x="1091" y="10"/>
                        </a:lnTo>
                        <a:lnTo>
                          <a:pt x="1084" y="23"/>
                        </a:lnTo>
                        <a:lnTo>
                          <a:pt x="957" y="15"/>
                        </a:lnTo>
                        <a:lnTo>
                          <a:pt x="964" y="53"/>
                        </a:lnTo>
                        <a:lnTo>
                          <a:pt x="698" y="196"/>
                        </a:lnTo>
                        <a:lnTo>
                          <a:pt x="585" y="36"/>
                        </a:lnTo>
                        <a:lnTo>
                          <a:pt x="406" y="131"/>
                        </a:lnTo>
                        <a:lnTo>
                          <a:pt x="158" y="294"/>
                        </a:lnTo>
                        <a:lnTo>
                          <a:pt x="74" y="235"/>
                        </a:lnTo>
                        <a:lnTo>
                          <a:pt x="16" y="343"/>
                        </a:lnTo>
                        <a:lnTo>
                          <a:pt x="0" y="335"/>
                        </a:lnTo>
                        <a:lnTo>
                          <a:pt x="0" y="335"/>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0" name=""/>
                  <p:cNvSpPr/>
                  <p:nvPr/>
                </p:nvSpPr>
                <p:spPr>
                  <a:xfrm rot="1050600">
                    <a:off x="4620240" y="4822920"/>
                    <a:ext cx="172800" cy="159840"/>
                  </a:xfrm>
                  <a:custGeom>
                    <a:avLst/>
                    <a:gdLst/>
                    <a:ahLst/>
                    <a:rect l="l" t="t" r="r" b="b"/>
                    <a:pathLst>
                      <a:path w="221" h="158">
                        <a:moveTo>
                          <a:pt x="0" y="151"/>
                        </a:moveTo>
                        <a:lnTo>
                          <a:pt x="113" y="73"/>
                        </a:lnTo>
                        <a:lnTo>
                          <a:pt x="142" y="112"/>
                        </a:lnTo>
                        <a:lnTo>
                          <a:pt x="208" y="3"/>
                        </a:lnTo>
                        <a:lnTo>
                          <a:pt x="221" y="0"/>
                        </a:lnTo>
                        <a:lnTo>
                          <a:pt x="150" y="134"/>
                        </a:lnTo>
                        <a:lnTo>
                          <a:pt x="113" y="94"/>
                        </a:lnTo>
                        <a:lnTo>
                          <a:pt x="14" y="158"/>
                        </a:lnTo>
                        <a:lnTo>
                          <a:pt x="0" y="151"/>
                        </a:lnTo>
                        <a:lnTo>
                          <a:pt x="0" y="151"/>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1" name=""/>
                  <p:cNvSpPr/>
                  <p:nvPr/>
                </p:nvSpPr>
                <p:spPr>
                  <a:xfrm rot="1050600">
                    <a:off x="4511160" y="4935240"/>
                    <a:ext cx="79560" cy="74520"/>
                  </a:xfrm>
                  <a:custGeom>
                    <a:avLst/>
                    <a:gdLst/>
                    <a:ahLst/>
                    <a:rect l="l" t="t" r="r" b="b"/>
                    <a:pathLst>
                      <a:path w="102" h="74">
                        <a:moveTo>
                          <a:pt x="98" y="0"/>
                        </a:moveTo>
                        <a:lnTo>
                          <a:pt x="0" y="63"/>
                        </a:lnTo>
                        <a:lnTo>
                          <a:pt x="7" y="74"/>
                        </a:lnTo>
                        <a:lnTo>
                          <a:pt x="102" y="16"/>
                        </a:lnTo>
                        <a:lnTo>
                          <a:pt x="98" y="0"/>
                        </a:lnTo>
                        <a:lnTo>
                          <a:pt x="98" y="0"/>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42" name=""/>
                  <p:cNvSpPr/>
                  <p:nvPr/>
                </p:nvSpPr>
                <p:spPr>
                  <a:xfrm rot="1050600">
                    <a:off x="4283280" y="4866120"/>
                    <a:ext cx="228960" cy="139680"/>
                  </a:xfrm>
                  <a:custGeom>
                    <a:avLst/>
                    <a:gdLst/>
                    <a:ahLst/>
                    <a:rect l="l" t="t" r="r" b="b"/>
                    <a:pathLst>
                      <a:path w="293" h="138">
                        <a:moveTo>
                          <a:pt x="283" y="93"/>
                        </a:moveTo>
                        <a:lnTo>
                          <a:pt x="239" y="123"/>
                        </a:lnTo>
                        <a:lnTo>
                          <a:pt x="71" y="0"/>
                        </a:lnTo>
                        <a:lnTo>
                          <a:pt x="0" y="40"/>
                        </a:lnTo>
                        <a:lnTo>
                          <a:pt x="10" y="51"/>
                        </a:lnTo>
                        <a:lnTo>
                          <a:pt x="72" y="16"/>
                        </a:lnTo>
                        <a:lnTo>
                          <a:pt x="237" y="138"/>
                        </a:lnTo>
                        <a:lnTo>
                          <a:pt x="293" y="101"/>
                        </a:lnTo>
                        <a:lnTo>
                          <a:pt x="283" y="93"/>
                        </a:lnTo>
                        <a:lnTo>
                          <a:pt x="283" y="93"/>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3" name=""/>
                  <p:cNvSpPr/>
                  <p:nvPr/>
                </p:nvSpPr>
                <p:spPr>
                  <a:xfrm rot="1050600">
                    <a:off x="3893040" y="4874040"/>
                    <a:ext cx="280080" cy="157680"/>
                  </a:xfrm>
                  <a:custGeom>
                    <a:avLst/>
                    <a:gdLst/>
                    <a:ahLst/>
                    <a:rect l="l" t="t" r="r" b="b"/>
                    <a:pathLst>
                      <a:path w="358" h="156">
                        <a:moveTo>
                          <a:pt x="353" y="0"/>
                        </a:moveTo>
                        <a:lnTo>
                          <a:pt x="158" y="138"/>
                        </a:lnTo>
                        <a:lnTo>
                          <a:pt x="13" y="63"/>
                        </a:lnTo>
                        <a:lnTo>
                          <a:pt x="0" y="79"/>
                        </a:lnTo>
                        <a:lnTo>
                          <a:pt x="162" y="156"/>
                        </a:lnTo>
                        <a:lnTo>
                          <a:pt x="358" y="14"/>
                        </a:lnTo>
                        <a:lnTo>
                          <a:pt x="353" y="0"/>
                        </a:lnTo>
                        <a:lnTo>
                          <a:pt x="353" y="0"/>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4" name=""/>
                  <p:cNvSpPr/>
                  <p:nvPr/>
                </p:nvSpPr>
                <p:spPr>
                  <a:xfrm rot="1050600">
                    <a:off x="4204080" y="4865400"/>
                    <a:ext cx="77400" cy="69480"/>
                  </a:xfrm>
                  <a:custGeom>
                    <a:avLst/>
                    <a:gdLst/>
                    <a:ahLst/>
                    <a:rect l="l" t="t" r="r" b="b"/>
                    <a:pathLst>
                      <a:path w="99" h="69">
                        <a:moveTo>
                          <a:pt x="92" y="0"/>
                        </a:moveTo>
                        <a:lnTo>
                          <a:pt x="0" y="59"/>
                        </a:lnTo>
                        <a:lnTo>
                          <a:pt x="8" y="69"/>
                        </a:lnTo>
                        <a:lnTo>
                          <a:pt x="99" y="10"/>
                        </a:lnTo>
                        <a:lnTo>
                          <a:pt x="92" y="0"/>
                        </a:lnTo>
                        <a:lnTo>
                          <a:pt x="92" y="0"/>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545" name=""/>
                  <p:cNvSpPr/>
                  <p:nvPr/>
                </p:nvSpPr>
                <p:spPr>
                  <a:xfrm rot="1050600">
                    <a:off x="4044960" y="4937400"/>
                    <a:ext cx="22680" cy="46440"/>
                  </a:xfrm>
                  <a:custGeom>
                    <a:avLst/>
                    <a:gdLst/>
                    <a:ahLst/>
                    <a:rect l="l" t="t" r="r" b="b"/>
                    <a:pathLst>
                      <a:path w="29" h="46">
                        <a:moveTo>
                          <a:pt x="23" y="46"/>
                        </a:moveTo>
                        <a:lnTo>
                          <a:pt x="0" y="8"/>
                        </a:lnTo>
                        <a:lnTo>
                          <a:pt x="8" y="0"/>
                        </a:lnTo>
                        <a:lnTo>
                          <a:pt x="29" y="36"/>
                        </a:lnTo>
                        <a:lnTo>
                          <a:pt x="23" y="46"/>
                        </a:lnTo>
                        <a:lnTo>
                          <a:pt x="23" y="46"/>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546" name=""/>
                  <p:cNvSpPr/>
                  <p:nvPr/>
                </p:nvSpPr>
                <p:spPr>
                  <a:xfrm rot="1050600">
                    <a:off x="4065120" y="4929840"/>
                    <a:ext cx="21600" cy="48240"/>
                  </a:xfrm>
                  <a:custGeom>
                    <a:avLst/>
                    <a:gdLst/>
                    <a:ahLst/>
                    <a:rect l="l" t="t" r="r" b="b"/>
                    <a:pathLst>
                      <a:path w="28" h="48">
                        <a:moveTo>
                          <a:pt x="23" y="48"/>
                        </a:moveTo>
                        <a:lnTo>
                          <a:pt x="0" y="10"/>
                        </a:lnTo>
                        <a:lnTo>
                          <a:pt x="7" y="0"/>
                        </a:lnTo>
                        <a:lnTo>
                          <a:pt x="28" y="37"/>
                        </a:lnTo>
                        <a:lnTo>
                          <a:pt x="23" y="48"/>
                        </a:lnTo>
                        <a:lnTo>
                          <a:pt x="23" y="48"/>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547" name=""/>
                  <p:cNvSpPr/>
                  <p:nvPr/>
                </p:nvSpPr>
                <p:spPr>
                  <a:xfrm rot="1050600">
                    <a:off x="4082040" y="4921200"/>
                    <a:ext cx="20880" cy="46440"/>
                  </a:xfrm>
                  <a:custGeom>
                    <a:avLst/>
                    <a:gdLst/>
                    <a:ahLst/>
                    <a:rect l="l" t="t" r="r" b="b"/>
                    <a:pathLst>
                      <a:path w="27" h="46">
                        <a:moveTo>
                          <a:pt x="23" y="46"/>
                        </a:moveTo>
                        <a:lnTo>
                          <a:pt x="0" y="8"/>
                        </a:lnTo>
                        <a:lnTo>
                          <a:pt x="7" y="0"/>
                        </a:lnTo>
                        <a:lnTo>
                          <a:pt x="27" y="35"/>
                        </a:lnTo>
                        <a:lnTo>
                          <a:pt x="23" y="46"/>
                        </a:lnTo>
                        <a:lnTo>
                          <a:pt x="23" y="46"/>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548" name=""/>
                  <p:cNvSpPr/>
                  <p:nvPr/>
                </p:nvSpPr>
                <p:spPr>
                  <a:xfrm rot="1050600">
                    <a:off x="4100760" y="4911120"/>
                    <a:ext cx="21240" cy="46440"/>
                  </a:xfrm>
                  <a:custGeom>
                    <a:avLst/>
                    <a:gdLst/>
                    <a:ahLst/>
                    <a:rect l="l" t="t" r="r" b="b"/>
                    <a:pathLst>
                      <a:path w="27" h="46">
                        <a:moveTo>
                          <a:pt x="22" y="46"/>
                        </a:moveTo>
                        <a:lnTo>
                          <a:pt x="0" y="8"/>
                        </a:lnTo>
                        <a:lnTo>
                          <a:pt x="6" y="0"/>
                        </a:lnTo>
                        <a:lnTo>
                          <a:pt x="27" y="35"/>
                        </a:lnTo>
                        <a:lnTo>
                          <a:pt x="22" y="46"/>
                        </a:lnTo>
                        <a:lnTo>
                          <a:pt x="22" y="46"/>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549" name=""/>
                  <p:cNvSpPr/>
                  <p:nvPr/>
                </p:nvSpPr>
                <p:spPr>
                  <a:xfrm rot="1050600">
                    <a:off x="4405320" y="4773600"/>
                    <a:ext cx="27720" cy="30240"/>
                  </a:xfrm>
                  <a:custGeom>
                    <a:avLst/>
                    <a:gdLst/>
                    <a:ahLst/>
                    <a:rect l="l" t="t" r="r" b="b"/>
                    <a:pathLst>
                      <a:path w="36" h="30">
                        <a:moveTo>
                          <a:pt x="29" y="0"/>
                        </a:moveTo>
                        <a:lnTo>
                          <a:pt x="0" y="21"/>
                        </a:lnTo>
                        <a:lnTo>
                          <a:pt x="8" y="30"/>
                        </a:lnTo>
                        <a:lnTo>
                          <a:pt x="36" y="11"/>
                        </a:lnTo>
                        <a:lnTo>
                          <a:pt x="29" y="0"/>
                        </a:lnTo>
                        <a:lnTo>
                          <a:pt x="29" y="0"/>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50" name=""/>
                  <p:cNvSpPr/>
                  <p:nvPr/>
                </p:nvSpPr>
                <p:spPr>
                  <a:xfrm rot="1050600">
                    <a:off x="4410360" y="4794120"/>
                    <a:ext cx="28800" cy="32040"/>
                  </a:xfrm>
                  <a:custGeom>
                    <a:avLst/>
                    <a:gdLst/>
                    <a:ahLst/>
                    <a:rect l="l" t="t" r="r" b="b"/>
                    <a:pathLst>
                      <a:path w="37" h="32">
                        <a:moveTo>
                          <a:pt x="29" y="0"/>
                        </a:moveTo>
                        <a:lnTo>
                          <a:pt x="0" y="22"/>
                        </a:lnTo>
                        <a:lnTo>
                          <a:pt x="8" y="32"/>
                        </a:lnTo>
                        <a:lnTo>
                          <a:pt x="37" y="12"/>
                        </a:lnTo>
                        <a:lnTo>
                          <a:pt x="29" y="0"/>
                        </a:lnTo>
                        <a:lnTo>
                          <a:pt x="29" y="0"/>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51" name=""/>
                  <p:cNvSpPr/>
                  <p:nvPr/>
                </p:nvSpPr>
                <p:spPr>
                  <a:xfrm rot="1050600">
                    <a:off x="4417200" y="4816440"/>
                    <a:ext cx="28080" cy="31320"/>
                  </a:xfrm>
                  <a:custGeom>
                    <a:avLst/>
                    <a:gdLst/>
                    <a:ahLst/>
                    <a:rect l="l" t="t" r="r" b="b"/>
                    <a:pathLst>
                      <a:path w="36" h="31">
                        <a:moveTo>
                          <a:pt x="28" y="0"/>
                        </a:moveTo>
                        <a:lnTo>
                          <a:pt x="0" y="22"/>
                        </a:lnTo>
                        <a:lnTo>
                          <a:pt x="8" y="31"/>
                        </a:lnTo>
                        <a:lnTo>
                          <a:pt x="36" y="12"/>
                        </a:lnTo>
                        <a:lnTo>
                          <a:pt x="28" y="0"/>
                        </a:lnTo>
                        <a:lnTo>
                          <a:pt x="28" y="0"/>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552" name=""/>
                  <p:cNvSpPr/>
                  <p:nvPr/>
                </p:nvSpPr>
                <p:spPr>
                  <a:xfrm rot="1050600">
                    <a:off x="4423320" y="4839840"/>
                    <a:ext cx="28080" cy="31320"/>
                  </a:xfrm>
                  <a:custGeom>
                    <a:avLst/>
                    <a:gdLst/>
                    <a:ahLst/>
                    <a:rect l="l" t="t" r="r" b="b"/>
                    <a:pathLst>
                      <a:path w="36" h="31">
                        <a:moveTo>
                          <a:pt x="28" y="0"/>
                        </a:moveTo>
                        <a:lnTo>
                          <a:pt x="0" y="22"/>
                        </a:lnTo>
                        <a:lnTo>
                          <a:pt x="8" y="31"/>
                        </a:lnTo>
                        <a:lnTo>
                          <a:pt x="36" y="11"/>
                        </a:lnTo>
                        <a:lnTo>
                          <a:pt x="28" y="0"/>
                        </a:lnTo>
                        <a:lnTo>
                          <a:pt x="28" y="0"/>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553" name=""/>
                  <p:cNvSpPr/>
                  <p:nvPr/>
                </p:nvSpPr>
                <p:spPr>
                  <a:xfrm rot="1050600">
                    <a:off x="4727160" y="4888440"/>
                    <a:ext cx="26280" cy="32040"/>
                  </a:xfrm>
                  <a:custGeom>
                    <a:avLst/>
                    <a:gdLst/>
                    <a:ahLst/>
                    <a:rect l="l" t="t" r="r" b="b"/>
                    <a:pathLst>
                      <a:path w="34" h="32">
                        <a:moveTo>
                          <a:pt x="26" y="32"/>
                        </a:moveTo>
                        <a:lnTo>
                          <a:pt x="0" y="9"/>
                        </a:lnTo>
                        <a:lnTo>
                          <a:pt x="5" y="0"/>
                        </a:lnTo>
                        <a:lnTo>
                          <a:pt x="34" y="22"/>
                        </a:lnTo>
                        <a:lnTo>
                          <a:pt x="26" y="32"/>
                        </a:lnTo>
                        <a:lnTo>
                          <a:pt x="26" y="32"/>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54" name=""/>
                  <p:cNvSpPr/>
                  <p:nvPr/>
                </p:nvSpPr>
                <p:spPr>
                  <a:xfrm rot="1050600">
                    <a:off x="4743000" y="4876560"/>
                    <a:ext cx="24840" cy="31320"/>
                  </a:xfrm>
                  <a:custGeom>
                    <a:avLst/>
                    <a:gdLst/>
                    <a:ahLst/>
                    <a:rect l="l" t="t" r="r" b="b"/>
                    <a:pathLst>
                      <a:path w="32" h="31">
                        <a:moveTo>
                          <a:pt x="25" y="31"/>
                        </a:moveTo>
                        <a:lnTo>
                          <a:pt x="0" y="8"/>
                        </a:lnTo>
                        <a:lnTo>
                          <a:pt x="5" y="0"/>
                        </a:lnTo>
                        <a:lnTo>
                          <a:pt x="32" y="20"/>
                        </a:lnTo>
                        <a:lnTo>
                          <a:pt x="25" y="31"/>
                        </a:lnTo>
                        <a:lnTo>
                          <a:pt x="25" y="31"/>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555" name=""/>
                  <p:cNvSpPr/>
                  <p:nvPr/>
                </p:nvSpPr>
                <p:spPr>
                  <a:xfrm rot="1050600">
                    <a:off x="4757400" y="4861080"/>
                    <a:ext cx="25560" cy="33120"/>
                  </a:xfrm>
                  <a:custGeom>
                    <a:avLst/>
                    <a:gdLst/>
                    <a:ahLst/>
                    <a:rect l="l" t="t" r="r" b="b"/>
                    <a:pathLst>
                      <a:path w="33" h="33">
                        <a:moveTo>
                          <a:pt x="27" y="33"/>
                        </a:moveTo>
                        <a:lnTo>
                          <a:pt x="0" y="9"/>
                        </a:lnTo>
                        <a:lnTo>
                          <a:pt x="7" y="0"/>
                        </a:lnTo>
                        <a:lnTo>
                          <a:pt x="33" y="23"/>
                        </a:lnTo>
                        <a:lnTo>
                          <a:pt x="27" y="33"/>
                        </a:lnTo>
                        <a:lnTo>
                          <a:pt x="27" y="33"/>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556" name=""/>
                  <p:cNvSpPr/>
                  <p:nvPr/>
                </p:nvSpPr>
                <p:spPr>
                  <a:xfrm rot="1050600">
                    <a:off x="4727160" y="4888440"/>
                    <a:ext cx="26280" cy="32040"/>
                  </a:xfrm>
                  <a:custGeom>
                    <a:avLst/>
                    <a:gdLst/>
                    <a:ahLst/>
                    <a:rect l="l" t="t" r="r" b="b"/>
                    <a:pathLst>
                      <a:path w="34" h="32">
                        <a:moveTo>
                          <a:pt x="26" y="32"/>
                        </a:moveTo>
                        <a:lnTo>
                          <a:pt x="0" y="9"/>
                        </a:lnTo>
                        <a:lnTo>
                          <a:pt x="5" y="0"/>
                        </a:lnTo>
                        <a:lnTo>
                          <a:pt x="34" y="22"/>
                        </a:lnTo>
                        <a:lnTo>
                          <a:pt x="26" y="32"/>
                        </a:lnTo>
                        <a:lnTo>
                          <a:pt x="26" y="32"/>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57" name=""/>
                  <p:cNvSpPr/>
                  <p:nvPr/>
                </p:nvSpPr>
                <p:spPr>
                  <a:xfrm rot="1050600">
                    <a:off x="4727160" y="4888440"/>
                    <a:ext cx="26280" cy="32040"/>
                  </a:xfrm>
                  <a:custGeom>
                    <a:avLst/>
                    <a:gdLst/>
                    <a:ahLst/>
                    <a:rect l="l" t="t" r="r" b="b"/>
                    <a:pathLst>
                      <a:path w="34" h="32">
                        <a:moveTo>
                          <a:pt x="26" y="32"/>
                        </a:moveTo>
                        <a:lnTo>
                          <a:pt x="0" y="9"/>
                        </a:lnTo>
                        <a:lnTo>
                          <a:pt x="5" y="0"/>
                        </a:lnTo>
                        <a:lnTo>
                          <a:pt x="34" y="22"/>
                        </a:lnTo>
                        <a:lnTo>
                          <a:pt x="26" y="32"/>
                        </a:lnTo>
                        <a:lnTo>
                          <a:pt x="26" y="32"/>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grpSp>
            <p:sp>
              <p:nvSpPr>
                <p:cNvPr id="558" name=""/>
                <p:cNvSpPr/>
                <p:nvPr/>
              </p:nvSpPr>
              <p:spPr>
                <a:xfrm flipV="1">
                  <a:off x="4481280" y="4978800"/>
                  <a:ext cx="38520" cy="16200"/>
                </a:xfrm>
                <a:prstGeom prst="line">
                  <a:avLst/>
                </a:prstGeom>
                <a:ln w="9360">
                  <a:solidFill>
                    <a:srgbClr val="000000"/>
                  </a:solidFill>
                  <a:miter/>
                </a:ln>
              </p:spPr>
              <p:style>
                <a:lnRef idx="0"/>
                <a:fillRef idx="0"/>
                <a:effectRef idx="0"/>
                <a:fontRef idx="minor"/>
              </p:style>
              <p:txBody>
                <a:bodyPr lIns="90000" rIns="90000" tIns="-30600" bIns="-30600" anchor="ctr">
                  <a:noAutofit/>
                </a:bodyPr>
                <a:p>
                  <a:endParaRPr b="0" lang="en-US" sz="2400" spc="-1" strike="noStrike">
                    <a:solidFill>
                      <a:srgbClr val="000000"/>
                    </a:solidFill>
                    <a:latin typeface="Times New Roman"/>
                  </a:endParaRPr>
                </a:p>
              </p:txBody>
            </p:sp>
            <p:sp>
              <p:nvSpPr>
                <p:cNvPr id="559" name=""/>
                <p:cNvSpPr/>
                <p:nvPr/>
              </p:nvSpPr>
              <p:spPr>
                <a:xfrm flipV="1">
                  <a:off x="4484520" y="4984920"/>
                  <a:ext cx="38160" cy="16200"/>
                </a:xfrm>
                <a:prstGeom prst="line">
                  <a:avLst/>
                </a:prstGeom>
                <a:ln w="9360">
                  <a:solidFill>
                    <a:srgbClr val="000000"/>
                  </a:solidFill>
                  <a:miter/>
                </a:ln>
              </p:spPr>
              <p:style>
                <a:lnRef idx="0"/>
                <a:fillRef idx="0"/>
                <a:effectRef idx="0"/>
                <a:fontRef idx="minor"/>
              </p:style>
              <p:txBody>
                <a:bodyPr lIns="90000" rIns="90000" tIns="-30600" bIns="-30600" anchor="ctr">
                  <a:noAutofit/>
                </a:bodyPr>
                <a:p>
                  <a:endParaRPr b="0" lang="en-US" sz="2400" spc="-1" strike="noStrike">
                    <a:solidFill>
                      <a:srgbClr val="000000"/>
                    </a:solidFill>
                    <a:latin typeface="Times New Roman"/>
                  </a:endParaRPr>
                </a:p>
              </p:txBody>
            </p:sp>
            <p:sp>
              <p:nvSpPr>
                <p:cNvPr id="560" name=""/>
                <p:cNvSpPr/>
                <p:nvPr/>
              </p:nvSpPr>
              <p:spPr>
                <a:xfrm flipV="1">
                  <a:off x="4483080" y="4980240"/>
                  <a:ext cx="38160" cy="16200"/>
                </a:xfrm>
                <a:prstGeom prst="line">
                  <a:avLst/>
                </a:prstGeom>
                <a:ln w="9360">
                  <a:solidFill>
                    <a:srgbClr val="000000"/>
                  </a:solidFill>
                  <a:miter/>
                </a:ln>
              </p:spPr>
              <p:style>
                <a:lnRef idx="0"/>
                <a:fillRef idx="0"/>
                <a:effectRef idx="0"/>
                <a:fontRef idx="minor"/>
              </p:style>
              <p:txBody>
                <a:bodyPr lIns="90000" rIns="90000" tIns="-30600" bIns="-30600" anchor="ctr">
                  <a:noAutofit/>
                </a:bodyPr>
                <a:p>
                  <a:endParaRPr b="0" lang="en-US" sz="2400" spc="-1" strike="noStrike">
                    <a:solidFill>
                      <a:srgbClr val="000000"/>
                    </a:solidFill>
                    <a:latin typeface="Times New Roman"/>
                  </a:endParaRPr>
                </a:p>
              </p:txBody>
            </p:sp>
            <p:sp>
              <p:nvSpPr>
                <p:cNvPr id="561" name=""/>
                <p:cNvSpPr/>
                <p:nvPr/>
              </p:nvSpPr>
              <p:spPr>
                <a:xfrm flipV="1">
                  <a:off x="4589640" y="4941000"/>
                  <a:ext cx="37800" cy="14400"/>
                </a:xfrm>
                <a:prstGeom prst="line">
                  <a:avLst/>
                </a:prstGeom>
                <a:ln w="936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62" name=""/>
                <p:cNvSpPr/>
                <p:nvPr/>
              </p:nvSpPr>
              <p:spPr>
                <a:xfrm flipV="1">
                  <a:off x="4579920" y="4948560"/>
                  <a:ext cx="38160" cy="16200"/>
                </a:xfrm>
                <a:prstGeom prst="line">
                  <a:avLst/>
                </a:prstGeom>
                <a:ln w="9360">
                  <a:solidFill>
                    <a:srgbClr val="000000"/>
                  </a:solidFill>
                  <a:miter/>
                </a:ln>
              </p:spPr>
              <p:style>
                <a:lnRef idx="0"/>
                <a:fillRef idx="0"/>
                <a:effectRef idx="0"/>
                <a:fontRef idx="minor"/>
              </p:style>
              <p:txBody>
                <a:bodyPr lIns="90000" rIns="90000" tIns="-30600" bIns="-30600" anchor="ctr">
                  <a:noAutofit/>
                </a:bodyPr>
                <a:p>
                  <a:endParaRPr b="0" lang="en-US" sz="2400" spc="-1" strike="noStrike">
                    <a:solidFill>
                      <a:srgbClr val="000000"/>
                    </a:solidFill>
                    <a:latin typeface="Times New Roman"/>
                  </a:endParaRPr>
                </a:p>
              </p:txBody>
            </p:sp>
            <p:sp>
              <p:nvSpPr>
                <p:cNvPr id="563" name=""/>
                <p:cNvSpPr/>
                <p:nvPr/>
              </p:nvSpPr>
              <p:spPr>
                <a:xfrm flipV="1">
                  <a:off x="4583520" y="4937400"/>
                  <a:ext cx="37800" cy="14760"/>
                </a:xfrm>
                <a:prstGeom prst="line">
                  <a:avLst/>
                </a:prstGeom>
                <a:ln w="9360">
                  <a:solidFill>
                    <a:srgbClr val="000000"/>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Times New Roman"/>
                  </a:endParaRPr>
                </a:p>
              </p:txBody>
            </p:sp>
            <p:sp>
              <p:nvSpPr>
                <p:cNvPr id="564" name=""/>
                <p:cNvSpPr/>
                <p:nvPr/>
              </p:nvSpPr>
              <p:spPr>
                <a:xfrm flipV="1">
                  <a:off x="4187880" y="4901040"/>
                  <a:ext cx="38160" cy="16200"/>
                </a:xfrm>
                <a:prstGeom prst="line">
                  <a:avLst/>
                </a:prstGeom>
                <a:ln w="9360">
                  <a:solidFill>
                    <a:srgbClr val="000000"/>
                  </a:solidFill>
                  <a:miter/>
                </a:ln>
              </p:spPr>
              <p:style>
                <a:lnRef idx="0"/>
                <a:fillRef idx="0"/>
                <a:effectRef idx="0"/>
                <a:fontRef idx="minor"/>
              </p:style>
              <p:txBody>
                <a:bodyPr lIns="90000" rIns="90000" tIns="-30600" bIns="-30600" anchor="ctr">
                  <a:noAutofit/>
                </a:bodyPr>
                <a:p>
                  <a:endParaRPr b="0" lang="en-US" sz="2400" spc="-1" strike="noStrike">
                    <a:solidFill>
                      <a:srgbClr val="000000"/>
                    </a:solidFill>
                    <a:latin typeface="Times New Roman"/>
                  </a:endParaRPr>
                </a:p>
              </p:txBody>
            </p:sp>
            <p:sp>
              <p:nvSpPr>
                <p:cNvPr id="565" name=""/>
                <p:cNvSpPr/>
                <p:nvPr/>
              </p:nvSpPr>
              <p:spPr>
                <a:xfrm flipV="1">
                  <a:off x="4178160" y="4913640"/>
                  <a:ext cx="38160" cy="16200"/>
                </a:xfrm>
                <a:prstGeom prst="line">
                  <a:avLst/>
                </a:prstGeom>
                <a:ln w="9360">
                  <a:solidFill>
                    <a:srgbClr val="000000"/>
                  </a:solidFill>
                  <a:miter/>
                </a:ln>
              </p:spPr>
              <p:style>
                <a:lnRef idx="0"/>
                <a:fillRef idx="0"/>
                <a:effectRef idx="0"/>
                <a:fontRef idx="minor"/>
              </p:style>
              <p:txBody>
                <a:bodyPr lIns="90000" rIns="90000" tIns="-30600" bIns="-30600" anchor="ctr">
                  <a:noAutofit/>
                </a:bodyPr>
                <a:p>
                  <a:endParaRPr b="0" lang="en-US" sz="2400" spc="-1" strike="noStrike">
                    <a:solidFill>
                      <a:srgbClr val="000000"/>
                    </a:solidFill>
                    <a:latin typeface="Times New Roman"/>
                  </a:endParaRPr>
                </a:p>
              </p:txBody>
            </p:sp>
            <p:sp>
              <p:nvSpPr>
                <p:cNvPr id="566" name=""/>
                <p:cNvSpPr/>
                <p:nvPr/>
              </p:nvSpPr>
              <p:spPr>
                <a:xfrm flipV="1">
                  <a:off x="4172040" y="4911840"/>
                  <a:ext cx="38160" cy="16200"/>
                </a:xfrm>
                <a:prstGeom prst="line">
                  <a:avLst/>
                </a:prstGeom>
                <a:ln w="9360">
                  <a:solidFill>
                    <a:srgbClr val="000000"/>
                  </a:solidFill>
                  <a:miter/>
                </a:ln>
              </p:spPr>
              <p:style>
                <a:lnRef idx="0"/>
                <a:fillRef idx="0"/>
                <a:effectRef idx="0"/>
                <a:fontRef idx="minor"/>
              </p:style>
              <p:txBody>
                <a:bodyPr lIns="90000" rIns="90000" tIns="-30600" bIns="-30600" anchor="ctr">
                  <a:noAutofit/>
                </a:bodyPr>
                <a:p>
                  <a:endParaRPr b="0" lang="en-US" sz="2400" spc="-1" strike="noStrike">
                    <a:solidFill>
                      <a:srgbClr val="000000"/>
                    </a:solidFill>
                    <a:latin typeface="Times New Roman"/>
                  </a:endParaRPr>
                </a:p>
              </p:txBody>
            </p:sp>
            <p:sp>
              <p:nvSpPr>
                <p:cNvPr id="567" name=""/>
                <p:cNvSpPr/>
                <p:nvPr/>
              </p:nvSpPr>
              <p:spPr>
                <a:xfrm flipV="1">
                  <a:off x="4176720" y="4905360"/>
                  <a:ext cx="36720" cy="16920"/>
                </a:xfrm>
                <a:prstGeom prst="line">
                  <a:avLst/>
                </a:prstGeom>
                <a:ln w="9360">
                  <a:solidFill>
                    <a:srgbClr val="000000"/>
                  </a:solidFill>
                  <a:miter/>
                </a:ln>
              </p:spPr>
              <p:style>
                <a:lnRef idx="0"/>
                <a:fillRef idx="0"/>
                <a:effectRef idx="0"/>
                <a:fontRef idx="minor"/>
              </p:style>
              <p:txBody>
                <a:bodyPr lIns="90000" rIns="90000" tIns="-29880" bIns="-29880" anchor="ctr">
                  <a:noAutofit/>
                </a:bodyPr>
                <a:p>
                  <a:endParaRPr b="0" lang="en-US" sz="2400" spc="-1" strike="noStrike">
                    <a:solidFill>
                      <a:srgbClr val="000000"/>
                    </a:solidFill>
                    <a:latin typeface="Times New Roman"/>
                  </a:endParaRPr>
                </a:p>
              </p:txBody>
            </p:sp>
            <p:sp>
              <p:nvSpPr>
                <p:cNvPr id="568" name=""/>
                <p:cNvSpPr/>
                <p:nvPr/>
              </p:nvSpPr>
              <p:spPr>
                <a:xfrm flipV="1">
                  <a:off x="4276080" y="4871160"/>
                  <a:ext cx="29880" cy="10440"/>
                </a:xfrm>
                <a:prstGeom prst="line">
                  <a:avLst/>
                </a:prstGeom>
                <a:ln w="9360">
                  <a:solidFill>
                    <a:srgbClr val="000000"/>
                  </a:solidFill>
                  <a:miter/>
                </a:ln>
              </p:spPr>
              <p:style>
                <a:lnRef idx="0"/>
                <a:fillRef idx="0"/>
                <a:effectRef idx="0"/>
                <a:fontRef idx="minor"/>
              </p:style>
              <p:txBody>
                <a:bodyPr lIns="90000" rIns="90000" tIns="-36360" bIns="-36360" anchor="ctr">
                  <a:noAutofit/>
                </a:bodyPr>
                <a:p>
                  <a:endParaRPr b="0" lang="en-US" sz="2400" spc="-1" strike="noStrike">
                    <a:solidFill>
                      <a:srgbClr val="000000"/>
                    </a:solidFill>
                    <a:latin typeface="Times New Roman"/>
                  </a:endParaRPr>
                </a:p>
              </p:txBody>
            </p:sp>
            <p:sp>
              <p:nvSpPr>
                <p:cNvPr id="569" name=""/>
                <p:cNvSpPr/>
                <p:nvPr/>
              </p:nvSpPr>
              <p:spPr>
                <a:xfrm flipV="1">
                  <a:off x="4189680" y="4878000"/>
                  <a:ext cx="118800" cy="43920"/>
                </a:xfrm>
                <a:prstGeom prst="line">
                  <a:avLst/>
                </a:prstGeom>
                <a:ln w="9360">
                  <a:solidFill>
                    <a:srgbClr val="00000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570" name=""/>
                <p:cNvSpPr/>
                <p:nvPr/>
              </p:nvSpPr>
              <p:spPr>
                <a:xfrm flipV="1">
                  <a:off x="4279320" y="4872960"/>
                  <a:ext cx="29880" cy="10440"/>
                </a:xfrm>
                <a:prstGeom prst="line">
                  <a:avLst/>
                </a:prstGeom>
                <a:ln w="9360">
                  <a:solidFill>
                    <a:srgbClr val="000000"/>
                  </a:solidFill>
                  <a:miter/>
                </a:ln>
              </p:spPr>
              <p:style>
                <a:lnRef idx="0"/>
                <a:fillRef idx="0"/>
                <a:effectRef idx="0"/>
                <a:fontRef idx="minor"/>
              </p:style>
              <p:txBody>
                <a:bodyPr lIns="90000" rIns="90000" tIns="-36360" bIns="-36360" anchor="ctr">
                  <a:noAutofit/>
                </a:bodyPr>
                <a:p>
                  <a:endParaRPr b="0" lang="en-US" sz="2400" spc="-1" strike="noStrike">
                    <a:solidFill>
                      <a:srgbClr val="000000"/>
                    </a:solidFill>
                    <a:latin typeface="Times New Roman"/>
                  </a:endParaRPr>
                </a:p>
              </p:txBody>
            </p:sp>
          </p:grpSp>
          <p:pic>
            <p:nvPicPr>
              <p:cNvPr id="571" name="" descr=""/>
              <p:cNvPicPr/>
              <p:nvPr/>
            </p:nvPicPr>
            <p:blipFill>
              <a:blip r:embed="rId14"/>
              <a:stretch/>
            </p:blipFill>
            <p:spPr>
              <a:xfrm>
                <a:off x="6162840" y="5143680"/>
                <a:ext cx="501480" cy="569880"/>
              </a:xfrm>
              <a:prstGeom prst="rect">
                <a:avLst/>
              </a:prstGeom>
              <a:ln w="9360">
                <a:solidFill>
                  <a:srgbClr val="000000"/>
                </a:solidFill>
                <a:miter/>
              </a:ln>
              <a:effectLst>
                <a:outerShdw dist="17819" dir="2700000" blurRad="0" rotWithShape="0">
                  <a:srgbClr val="808080"/>
                </a:outerShdw>
              </a:effectLst>
            </p:spPr>
          </p:pic>
          <p:pic>
            <p:nvPicPr>
              <p:cNvPr id="572" name="" descr=""/>
              <p:cNvPicPr/>
              <p:nvPr/>
            </p:nvPicPr>
            <p:blipFill>
              <a:blip r:embed="rId15"/>
              <a:stretch/>
            </p:blipFill>
            <p:spPr>
              <a:xfrm>
                <a:off x="4133880" y="5102280"/>
                <a:ext cx="501480" cy="569880"/>
              </a:xfrm>
              <a:prstGeom prst="rect">
                <a:avLst/>
              </a:prstGeom>
              <a:ln w="9360">
                <a:solidFill>
                  <a:srgbClr val="000000"/>
                </a:solidFill>
                <a:miter/>
              </a:ln>
              <a:effectLst>
                <a:outerShdw dist="17819" dir="2700000" blurRad="0" rotWithShape="0">
                  <a:srgbClr val="808080"/>
                </a:outerShdw>
              </a:effectLst>
            </p:spPr>
          </p:pic>
        </p:grpSp>
        <p:sp>
          <p:nvSpPr>
            <p:cNvPr id="573" name=""/>
            <p:cNvSpPr/>
            <p:nvPr/>
          </p:nvSpPr>
          <p:spPr>
            <a:xfrm>
              <a:off x="4775040" y="4226040"/>
              <a:ext cx="1449720" cy="1292040"/>
            </a:xfrm>
            <a:prstGeom prst="flowChartDecision">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ea typeface="ＭＳ Ｐゴシック"/>
                </a:rPr>
                <a:t>Complian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cxnSp>
        <p:nvCxnSpPr>
          <p:cNvPr id="574" name=""/>
          <p:cNvCxnSpPr>
            <a:endCxn id="101" idx="0"/>
          </p:cNvCxnSpPr>
          <p:nvPr/>
        </p:nvCxnSpPr>
        <p:spPr>
          <a:xfrm flipH="1">
            <a:off x="1099440" y="5467320"/>
            <a:ext cx="4382280" cy="712080"/>
          </a:xfrm>
          <a:prstGeom prst="bentConnector5">
            <a:avLst>
              <a:gd name="adj1" fmla="val -32"/>
              <a:gd name="adj2" fmla="val 64036"/>
              <a:gd name="adj3" fmla="val -32"/>
            </a:avLst>
          </a:prstGeom>
          <a:ln w="63360">
            <a:solidFill>
              <a:srgbClr val="000080"/>
            </a:solidFill>
            <a:miter/>
          </a:ln>
        </p:spPr>
      </p:cxnSp>
      <p:sp>
        <p:nvSpPr>
          <p:cNvPr id="575" name=""/>
          <p:cNvSpPr/>
          <p:nvPr/>
        </p:nvSpPr>
        <p:spPr>
          <a:xfrm>
            <a:off x="4762440" y="4224240"/>
            <a:ext cx="1449360" cy="1292400"/>
          </a:xfrm>
          <a:prstGeom prst="flowChartDecision">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ea typeface="ＭＳ Ｐゴシック"/>
              </a:rPr>
              <a:t>Complian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9" name=""/>
          <p:cNvSpPr/>
          <p:nvPr/>
        </p:nvSpPr>
        <p:spPr>
          <a:xfrm>
            <a:off x="6753240" y="4556160"/>
            <a:ext cx="1365120" cy="642600"/>
          </a:xfrm>
          <a:prstGeom prst="rect">
            <a:avLst/>
          </a:prstGeom>
          <a:solidFill>
            <a:srgbClr val="ffffcc"/>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Implement Change</a:t>
            </a:r>
            <a:endParaRPr b="0" lang="en-US" sz="1800" spc="-1" strike="noStrike">
              <a:solidFill>
                <a:srgbClr val="000000"/>
              </a:solidFill>
              <a:latin typeface="Times New Roman"/>
            </a:endParaRPr>
          </a:p>
        </p:txBody>
      </p:sp>
      <p:sp>
        <p:nvSpPr>
          <p:cNvPr id="576" name="PlaceHolder 1"/>
          <p:cNvSpPr>
            <a:spLocks noGrp="1"/>
          </p:cNvSpPr>
          <p:nvPr>
            <p:ph type="title"/>
          </p:nvPr>
        </p:nvSpPr>
        <p:spPr>
          <a:xfrm>
            <a:off x="0" y="193680"/>
            <a:ext cx="9144000" cy="822240"/>
          </a:xfrm>
          <a:prstGeom prst="rect">
            <a:avLst/>
          </a:prstGeom>
          <a:noFill/>
          <a:ln w="0">
            <a:noFill/>
          </a:ln>
        </p:spPr>
        <p:txBody>
          <a:bodyPr lIns="90360" rIns="90360" tIns="44280" bIns="44280" anchor="ctr">
            <a:noAutofit/>
          </a:bodyPr>
          <a:p>
            <a:pPr indent="0">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law Management</a:t>
            </a:r>
            <a:br>
              <a:rPr sz="3000"/>
            </a:br>
            <a:r>
              <a:rPr b="1" lang="en-US" sz="1800" spc="-1" strike="noStrike">
                <a:solidFill>
                  <a:srgbClr val="000000"/>
                </a:solidFill>
                <a:latin typeface="Arial"/>
              </a:rPr>
              <a:t>How most vulnerability, patch, and configuration management processes are applied to systems today</a:t>
            </a:r>
            <a:endParaRPr b="1" lang="en-US" sz="1800" spc="-1" strike="noStrike">
              <a:solidFill>
                <a:srgbClr val="000000"/>
              </a:solidFill>
              <a:latin typeface="Arial"/>
            </a:endParaRPr>
          </a:p>
        </p:txBody>
      </p:sp>
      <p:grpSp>
        <p:nvGrpSpPr>
          <p:cNvPr id="577" name=""/>
          <p:cNvGrpSpPr/>
          <p:nvPr/>
        </p:nvGrpSpPr>
        <p:grpSpPr>
          <a:xfrm>
            <a:off x="2033640" y="2579760"/>
            <a:ext cx="2665440" cy="1890720"/>
            <a:chOff x="2033640" y="2579760"/>
            <a:chExt cx="2665440" cy="1890720"/>
          </a:xfrm>
        </p:grpSpPr>
        <p:sp>
          <p:nvSpPr>
            <p:cNvPr id="578" name=""/>
            <p:cNvSpPr/>
            <p:nvPr/>
          </p:nvSpPr>
          <p:spPr>
            <a:xfrm>
              <a:off x="2033640" y="2647800"/>
              <a:ext cx="2398680" cy="1822680"/>
            </a:xfrm>
            <a:custGeom>
              <a:avLst/>
              <a:gdLst/>
              <a:ahLst/>
              <a:rect l="l" t="t" r="r" b="b"/>
              <a:pathLst>
                <a:path w="1511" h="1148">
                  <a:moveTo>
                    <a:pt x="41" y="40"/>
                  </a:moveTo>
                  <a:lnTo>
                    <a:pt x="1397" y="0"/>
                  </a:lnTo>
                  <a:cubicBezTo>
                    <a:pt x="1165" y="1011"/>
                    <a:pt x="1511" y="1010"/>
                    <a:pt x="1160" y="1010"/>
                  </a:cubicBezTo>
                  <a:cubicBezTo>
                    <a:pt x="1014" y="1050"/>
                    <a:pt x="1066" y="1050"/>
                    <a:pt x="1010" y="1050"/>
                  </a:cubicBezTo>
                  <a:lnTo>
                    <a:pt x="671" y="1071"/>
                  </a:lnTo>
                  <a:cubicBezTo>
                    <a:pt x="11" y="1036"/>
                    <a:pt x="105" y="1148"/>
                    <a:pt x="0" y="976"/>
                  </a:cubicBezTo>
                  <a:lnTo>
                    <a:pt x="41" y="40"/>
                  </a:lnTo>
                  <a:close/>
                </a:path>
              </a:pathLst>
            </a:custGeom>
            <a:solidFill>
              <a:srgbClr val="ffffff"/>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579" name=""/>
            <p:cNvGrpSpPr/>
            <p:nvPr/>
          </p:nvGrpSpPr>
          <p:grpSpPr>
            <a:xfrm>
              <a:off x="2311560" y="2579760"/>
              <a:ext cx="2387520" cy="1785240"/>
              <a:chOff x="2311560" y="2579760"/>
              <a:chExt cx="2387520" cy="1785240"/>
            </a:xfrm>
          </p:grpSpPr>
          <p:grpSp>
            <p:nvGrpSpPr>
              <p:cNvPr id="580" name=""/>
              <p:cNvGrpSpPr/>
              <p:nvPr/>
            </p:nvGrpSpPr>
            <p:grpSpPr>
              <a:xfrm>
                <a:off x="3427560" y="2797200"/>
                <a:ext cx="836280" cy="1567800"/>
                <a:chOff x="3427560" y="2797200"/>
                <a:chExt cx="836280" cy="1567800"/>
              </a:xfrm>
            </p:grpSpPr>
            <p:pic>
              <p:nvPicPr>
                <p:cNvPr id="581" name="" descr=""/>
                <p:cNvPicPr/>
                <p:nvPr/>
              </p:nvPicPr>
              <p:blipFill>
                <a:blip r:embed="rId16"/>
                <a:stretch/>
              </p:blipFill>
              <p:spPr>
                <a:xfrm>
                  <a:off x="3718080" y="2797200"/>
                  <a:ext cx="545760" cy="610560"/>
                </a:xfrm>
                <a:prstGeom prst="rect">
                  <a:avLst/>
                </a:prstGeom>
                <a:ln w="0">
                  <a:noFill/>
                </a:ln>
              </p:spPr>
            </p:pic>
            <p:pic>
              <p:nvPicPr>
                <p:cNvPr id="582" name="" descr=""/>
                <p:cNvPicPr/>
                <p:nvPr/>
              </p:nvPicPr>
              <p:blipFill>
                <a:blip r:embed="rId17"/>
                <a:stretch/>
              </p:blipFill>
              <p:spPr>
                <a:xfrm>
                  <a:off x="3572640" y="3276000"/>
                  <a:ext cx="545760" cy="610560"/>
                </a:xfrm>
                <a:prstGeom prst="rect">
                  <a:avLst/>
                </a:prstGeom>
                <a:ln w="0">
                  <a:noFill/>
                </a:ln>
              </p:spPr>
            </p:pic>
            <p:pic>
              <p:nvPicPr>
                <p:cNvPr id="583" name="" descr=""/>
                <p:cNvPicPr/>
                <p:nvPr/>
              </p:nvPicPr>
              <p:blipFill>
                <a:blip r:embed="rId18"/>
                <a:stretch/>
              </p:blipFill>
              <p:spPr>
                <a:xfrm>
                  <a:off x="3427560" y="3754800"/>
                  <a:ext cx="545400" cy="610200"/>
                </a:xfrm>
                <a:prstGeom prst="rect">
                  <a:avLst/>
                </a:prstGeom>
                <a:ln w="0">
                  <a:noFill/>
                </a:ln>
              </p:spPr>
            </p:pic>
          </p:grpSp>
          <p:sp>
            <p:nvSpPr>
              <p:cNvPr id="584" name=""/>
              <p:cNvSpPr/>
              <p:nvPr/>
            </p:nvSpPr>
            <p:spPr>
              <a:xfrm>
                <a:off x="2311560" y="2579760"/>
                <a:ext cx="2387520" cy="1736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Arial"/>
                    <a:ea typeface="ＭＳ Ｐゴシック"/>
                  </a:rPr>
                  <a:t>Scanning tools</a:t>
                </a:r>
                <a:r>
                  <a:rPr b="1" lang="en-US" sz="1200" spc="-1" strike="noStrike">
                    <a:solidFill>
                      <a:srgbClr val="ff3300"/>
                    </a:solidFill>
                    <a:latin typeface="Arial"/>
                    <a:ea typeface="ＭＳ Ｐゴシック"/>
                  </a:rPr>
                  <a:t> </a:t>
                </a:r>
                <a:r>
                  <a:rPr b="1" lang="en-US" sz="1200" spc="-1" strike="noStrike">
                    <a:solidFill>
                      <a:srgbClr val="fc0128"/>
                    </a:solidFill>
                    <a:latin typeface="Arial"/>
                    <a:ea typeface="ＭＳ Ｐゴシック"/>
                  </a:rPr>
                  <a:t>impor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128"/>
                    </a:solidFill>
                    <a:latin typeface="Arial"/>
                    <a:ea typeface="ＭＳ Ｐゴシック"/>
                  </a:rPr>
                  <a:t>OVAL definitions</a:t>
                </a:r>
                <a:r>
                  <a:rPr b="0" lang="en-US" sz="1200" spc="-1" strike="noStrike">
                    <a:solidFill>
                      <a:srgbClr val="ff3300"/>
                    </a:solidFill>
                    <a:latin typeface="Arial"/>
                    <a:ea typeface="ＭＳ Ｐゴシック"/>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Arial"/>
                    <a:ea typeface="ＭＳ Ｐゴシック"/>
                  </a:rPr>
                  <a:t>to their existing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Arial"/>
                    <a:ea typeface="ＭＳ Ｐゴシック"/>
                  </a:rPr>
                  <a:t>set of system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Arial"/>
                    <a:ea typeface="ＭＳ Ｐゴシック"/>
                  </a:rPr>
                  <a:t>scan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Arial"/>
                    <a:ea typeface="ＭＳ Ｐゴシック"/>
                  </a:rPr>
                  <a:t>“</a:t>
                </a:r>
                <a:r>
                  <a:rPr b="0" lang="en-US" sz="1200" spc="-1" strike="noStrike">
                    <a:solidFill>
                      <a:srgbClr val="ff3300"/>
                    </a:solidFill>
                    <a:latin typeface="Arial"/>
                    <a:ea typeface="ＭＳ Ｐゴシック"/>
                  </a:rPr>
                  <a:t>signature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Arial"/>
                    <a:ea typeface="ＭＳ Ｐゴシック"/>
                  </a:rPr>
                  <a:t>and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128"/>
                    </a:solidFill>
                    <a:latin typeface="Arial"/>
                    <a:ea typeface="ＭＳ Ｐゴシック"/>
                  </a:rPr>
                  <a:t>OVAL Result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128"/>
                    </a:solidFill>
                    <a:latin typeface="Arial"/>
                    <a:ea typeface="ＭＳ Ｐゴシック"/>
                  </a:rPr>
                  <a:t>format</a:t>
                </a:r>
                <a:r>
                  <a:rPr b="0" lang="en-US" sz="1200" spc="-1" strike="noStrike">
                    <a:solidFill>
                      <a:srgbClr val="2e4646"/>
                    </a:solidFill>
                    <a:latin typeface="Arial"/>
                    <a:ea typeface="ＭＳ Ｐゴシック"/>
                  </a:rPr>
                  <a:t> </a:t>
                </a:r>
                <a:endParaRPr b="0" lang="en-US" sz="1200" spc="-1" strike="noStrike">
                  <a:solidFill>
                    <a:srgbClr val="000000"/>
                  </a:solidFill>
                  <a:latin typeface="Times New Roman"/>
                </a:endParaRPr>
              </a:p>
            </p:txBody>
          </p:sp>
        </p:grpSp>
      </p:grpSp>
      <p:grpSp>
        <p:nvGrpSpPr>
          <p:cNvPr id="585" name=""/>
          <p:cNvGrpSpPr/>
          <p:nvPr/>
        </p:nvGrpSpPr>
        <p:grpSpPr>
          <a:xfrm>
            <a:off x="6705720" y="2836800"/>
            <a:ext cx="2465280" cy="4162320"/>
            <a:chOff x="6705720" y="2836800"/>
            <a:chExt cx="2465280" cy="4162320"/>
          </a:xfrm>
        </p:grpSpPr>
        <p:sp>
          <p:nvSpPr>
            <p:cNvPr id="586" name=""/>
            <p:cNvSpPr/>
            <p:nvPr/>
          </p:nvSpPr>
          <p:spPr>
            <a:xfrm>
              <a:off x="6705720" y="2836800"/>
              <a:ext cx="2465280" cy="4162320"/>
            </a:xfrm>
            <a:custGeom>
              <a:avLst/>
              <a:gdLst/>
              <a:ahLst/>
              <a:rect l="l" t="t" r="r" b="b"/>
              <a:pathLst>
                <a:path w="1553" h="2622">
                  <a:moveTo>
                    <a:pt x="0" y="965"/>
                  </a:moveTo>
                  <a:cubicBezTo>
                    <a:pt x="25" y="1073"/>
                    <a:pt x="115" y="1049"/>
                    <a:pt x="183" y="1060"/>
                  </a:cubicBezTo>
                  <a:cubicBezTo>
                    <a:pt x="251" y="1071"/>
                    <a:pt x="272" y="1035"/>
                    <a:pt x="406" y="1033"/>
                  </a:cubicBezTo>
                  <a:cubicBezTo>
                    <a:pt x="540" y="1031"/>
                    <a:pt x="900" y="985"/>
                    <a:pt x="989" y="1047"/>
                  </a:cubicBezTo>
                  <a:cubicBezTo>
                    <a:pt x="948" y="1408"/>
                    <a:pt x="1069" y="1406"/>
                    <a:pt x="942" y="1406"/>
                  </a:cubicBezTo>
                  <a:lnTo>
                    <a:pt x="867" y="1548"/>
                  </a:lnTo>
                  <a:lnTo>
                    <a:pt x="725" y="1582"/>
                  </a:lnTo>
                  <a:cubicBezTo>
                    <a:pt x="956" y="2451"/>
                    <a:pt x="656" y="2450"/>
                    <a:pt x="962" y="2450"/>
                  </a:cubicBezTo>
                  <a:cubicBezTo>
                    <a:pt x="1439" y="2464"/>
                    <a:pt x="1437" y="2622"/>
                    <a:pt x="1437" y="2457"/>
                  </a:cubicBezTo>
                  <a:cubicBezTo>
                    <a:pt x="1553" y="2326"/>
                    <a:pt x="1502" y="1940"/>
                    <a:pt x="1518" y="1799"/>
                  </a:cubicBezTo>
                  <a:cubicBezTo>
                    <a:pt x="1534" y="1658"/>
                    <a:pt x="1528" y="1758"/>
                    <a:pt x="1532" y="1609"/>
                  </a:cubicBezTo>
                  <a:lnTo>
                    <a:pt x="1545" y="904"/>
                  </a:lnTo>
                  <a:cubicBezTo>
                    <a:pt x="1429" y="717"/>
                    <a:pt x="1391" y="362"/>
                    <a:pt x="1172" y="362"/>
                  </a:cubicBezTo>
                  <a:cubicBezTo>
                    <a:pt x="45" y="376"/>
                    <a:pt x="47" y="0"/>
                    <a:pt x="47" y="382"/>
                  </a:cubicBezTo>
                  <a:lnTo>
                    <a:pt x="0" y="965"/>
                  </a:lnTo>
                  <a:close/>
                </a:path>
              </a:pathLst>
            </a:custGeom>
            <a:solidFill>
              <a:srgbClr val="ffffff"/>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587" name=""/>
            <p:cNvGrpSpPr/>
            <p:nvPr/>
          </p:nvGrpSpPr>
          <p:grpSpPr>
            <a:xfrm>
              <a:off x="7018200" y="3346560"/>
              <a:ext cx="2125800" cy="2466360"/>
              <a:chOff x="7018200" y="3346560"/>
              <a:chExt cx="2125800" cy="2466360"/>
            </a:xfrm>
          </p:grpSpPr>
          <p:sp>
            <p:nvSpPr>
              <p:cNvPr id="588" name=""/>
              <p:cNvSpPr/>
              <p:nvPr/>
            </p:nvSpPr>
            <p:spPr>
              <a:xfrm>
                <a:off x="7018200" y="3346560"/>
                <a:ext cx="2125800" cy="11890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Arial"/>
                    <a:ea typeface="ＭＳ Ｐゴシック"/>
                  </a:rPr>
                  <a:t>Remediation management tools read in </a:t>
                </a:r>
                <a:r>
                  <a:rPr b="1" lang="en-US" sz="1200" spc="-1" strike="noStrike">
                    <a:solidFill>
                      <a:srgbClr val="fc0128"/>
                    </a:solidFill>
                    <a:latin typeface="Arial"/>
                    <a:ea typeface="ＭＳ Ｐゴシック"/>
                  </a:rPr>
                  <a:t>OVAL Results</a:t>
                </a:r>
                <a:r>
                  <a:rPr b="1" lang="en-US" sz="1200" spc="-1" strike="noStrike">
                    <a:solidFill>
                      <a:srgbClr val="ff3300"/>
                    </a:solidFill>
                    <a:latin typeface="Arial"/>
                    <a:ea typeface="ＭＳ Ｐゴシック"/>
                  </a:rPr>
                  <a:t> with its machine readable list</a:t>
                </a:r>
                <a:r>
                  <a:rPr b="0" lang="en-US" sz="1200" spc="-1" strike="noStrike">
                    <a:solidFill>
                      <a:srgbClr val="ff3300"/>
                    </a:solidFill>
                    <a:latin typeface="Arial"/>
                    <a:ea typeface="ＭＳ Ｐゴシック"/>
                  </a:rPr>
                  <a:t> of system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Arial"/>
                    <a:ea typeface="ＭＳ Ｐゴシック"/>
                  </a:rPr>
                  <a:t>to remediate</a:t>
                </a:r>
                <a:r>
                  <a:rPr b="0" lang="en-US" sz="1200" spc="-1" strike="noStrike">
                    <a:solidFill>
                      <a:srgbClr val="2e4646"/>
                    </a:solidFill>
                    <a:latin typeface="Arial"/>
                    <a:ea typeface="ＭＳ Ｐゴシック"/>
                  </a:rPr>
                  <a:t> </a:t>
                </a:r>
                <a:endParaRPr b="0" lang="en-US" sz="1200" spc="-1" strike="noStrike">
                  <a:solidFill>
                    <a:srgbClr val="000000"/>
                  </a:solidFill>
                  <a:latin typeface="Times New Roman"/>
                </a:endParaRPr>
              </a:p>
            </p:txBody>
          </p:sp>
          <p:grpSp>
            <p:nvGrpSpPr>
              <p:cNvPr id="589" name=""/>
              <p:cNvGrpSpPr/>
              <p:nvPr/>
            </p:nvGrpSpPr>
            <p:grpSpPr>
              <a:xfrm>
                <a:off x="8263440" y="4246560"/>
                <a:ext cx="836280" cy="1566360"/>
                <a:chOff x="8263440" y="4246560"/>
                <a:chExt cx="836280" cy="1566360"/>
              </a:xfrm>
            </p:grpSpPr>
            <p:pic>
              <p:nvPicPr>
                <p:cNvPr id="590" name="" descr=""/>
                <p:cNvPicPr/>
                <p:nvPr/>
              </p:nvPicPr>
              <p:blipFill>
                <a:blip r:embed="rId19"/>
                <a:stretch/>
              </p:blipFill>
              <p:spPr>
                <a:xfrm flipH="1">
                  <a:off x="8263440" y="4246560"/>
                  <a:ext cx="545760" cy="610200"/>
                </a:xfrm>
                <a:prstGeom prst="rect">
                  <a:avLst/>
                </a:prstGeom>
                <a:ln w="0">
                  <a:noFill/>
                </a:ln>
              </p:spPr>
            </p:pic>
            <p:pic>
              <p:nvPicPr>
                <p:cNvPr id="591" name="" descr=""/>
                <p:cNvPicPr/>
                <p:nvPr/>
              </p:nvPicPr>
              <p:blipFill>
                <a:blip r:embed="rId20"/>
                <a:stretch/>
              </p:blipFill>
              <p:spPr>
                <a:xfrm flipH="1">
                  <a:off x="8408880" y="4724640"/>
                  <a:ext cx="545760" cy="610200"/>
                </a:xfrm>
                <a:prstGeom prst="rect">
                  <a:avLst/>
                </a:prstGeom>
                <a:ln w="0">
                  <a:noFill/>
                </a:ln>
              </p:spPr>
            </p:pic>
            <p:pic>
              <p:nvPicPr>
                <p:cNvPr id="592" name="" descr=""/>
                <p:cNvPicPr/>
                <p:nvPr/>
              </p:nvPicPr>
              <p:blipFill>
                <a:blip r:embed="rId21"/>
                <a:stretch/>
              </p:blipFill>
              <p:spPr>
                <a:xfrm flipH="1">
                  <a:off x="8554320" y="5203080"/>
                  <a:ext cx="545400" cy="609840"/>
                </a:xfrm>
                <a:prstGeom prst="rect">
                  <a:avLst/>
                </a:prstGeom>
                <a:ln w="0">
                  <a:noFill/>
                </a:ln>
              </p:spPr>
            </p:pic>
          </p:grpSp>
        </p:grpSp>
      </p:grpSp>
      <p:grpSp>
        <p:nvGrpSpPr>
          <p:cNvPr id="593" name=""/>
          <p:cNvGrpSpPr/>
          <p:nvPr/>
        </p:nvGrpSpPr>
        <p:grpSpPr>
          <a:xfrm>
            <a:off x="0" y="0"/>
            <a:ext cx="9144000" cy="1103040"/>
            <a:chOff x="0" y="0"/>
            <a:chExt cx="9144000" cy="1103040"/>
          </a:xfrm>
        </p:grpSpPr>
        <p:sp>
          <p:nvSpPr>
            <p:cNvPr id="594" name=""/>
            <p:cNvSpPr/>
            <p:nvPr/>
          </p:nvSpPr>
          <p:spPr>
            <a:xfrm>
              <a:off x="0" y="0"/>
              <a:ext cx="8986680" cy="1076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0" y="0"/>
              <a:ext cx="9144000" cy="1103040"/>
            </a:xfrm>
            <a:prstGeom prst="rect">
              <a:avLst/>
            </a:prstGeom>
            <a:noFill/>
            <a:ln w="0">
              <a:noFill/>
            </a:ln>
          </p:spPr>
          <p:style>
            <a:lnRef idx="0"/>
            <a:fillRef idx="0"/>
            <a:effectRef idx="0"/>
            <a:fontRef idx="minor"/>
          </p:style>
          <p:txBody>
            <a:bodyPr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ea typeface="ＭＳ Ｐゴシック"/>
                </a:rPr>
                <a:t>Use Standards to Provide Flexible, End-to-End Automated Flaw Management</a:t>
              </a:r>
              <a:br>
                <a:rPr sz="3000"/>
              </a:br>
              <a:r>
                <a:rPr b="1" lang="en-US" sz="1800" spc="-1" strike="noStrike">
                  <a:solidFill>
                    <a:srgbClr val="fc0128"/>
                  </a:solidFill>
                  <a:latin typeface="Arial"/>
                  <a:ea typeface="ＭＳ Ｐゴシック"/>
                </a:rPr>
                <a:t>An OVAL-enabled process</a:t>
              </a:r>
              <a:endParaRPr b="0" lang="en-US" sz="1800" spc="-1" strike="noStrike">
                <a:solidFill>
                  <a:srgbClr val="000000"/>
                </a:solidFill>
                <a:latin typeface="Times New Roman"/>
              </a:endParaRPr>
            </a:p>
          </p:txBody>
        </p:sp>
      </p:grpSp>
      <p:grpSp>
        <p:nvGrpSpPr>
          <p:cNvPr id="596" name=""/>
          <p:cNvGrpSpPr/>
          <p:nvPr/>
        </p:nvGrpSpPr>
        <p:grpSpPr>
          <a:xfrm>
            <a:off x="0" y="1528920"/>
            <a:ext cx="2774880" cy="3297960"/>
            <a:chOff x="0" y="1528920"/>
            <a:chExt cx="2774880" cy="3297960"/>
          </a:xfrm>
        </p:grpSpPr>
        <p:grpSp>
          <p:nvGrpSpPr>
            <p:cNvPr id="597" name=""/>
            <p:cNvGrpSpPr/>
            <p:nvPr/>
          </p:nvGrpSpPr>
          <p:grpSpPr>
            <a:xfrm>
              <a:off x="0" y="1528920"/>
              <a:ext cx="2774880" cy="3297960"/>
              <a:chOff x="0" y="1528920"/>
              <a:chExt cx="2774880" cy="3297960"/>
            </a:xfrm>
          </p:grpSpPr>
          <p:sp>
            <p:nvSpPr>
              <p:cNvPr id="598" name=""/>
              <p:cNvSpPr/>
              <p:nvPr/>
            </p:nvSpPr>
            <p:spPr>
              <a:xfrm>
                <a:off x="42840" y="1528920"/>
                <a:ext cx="2023920" cy="3281040"/>
              </a:xfrm>
              <a:custGeom>
                <a:avLst/>
                <a:gdLst/>
                <a:ahLst/>
                <a:rect l="l" t="t" r="r" b="b"/>
                <a:pathLst>
                  <a:path w="1275" h="2067">
                    <a:moveTo>
                      <a:pt x="1180" y="2067"/>
                    </a:moveTo>
                    <a:lnTo>
                      <a:pt x="1227" y="1999"/>
                    </a:lnTo>
                    <a:cubicBezTo>
                      <a:pt x="1275" y="1814"/>
                      <a:pt x="1275" y="1879"/>
                      <a:pt x="1275" y="1810"/>
                    </a:cubicBezTo>
                    <a:lnTo>
                      <a:pt x="1003" y="1267"/>
                    </a:lnTo>
                    <a:lnTo>
                      <a:pt x="1187" y="949"/>
                    </a:lnTo>
                    <a:lnTo>
                      <a:pt x="895" y="549"/>
                    </a:lnTo>
                    <a:lnTo>
                      <a:pt x="942" y="0"/>
                    </a:lnTo>
                    <a:lnTo>
                      <a:pt x="0" y="20"/>
                    </a:lnTo>
                    <a:lnTo>
                      <a:pt x="0" y="711"/>
                    </a:lnTo>
                    <a:cubicBezTo>
                      <a:pt x="251" y="1412"/>
                      <a:pt x="3" y="1410"/>
                      <a:pt x="258" y="1410"/>
                    </a:cubicBezTo>
                    <a:lnTo>
                      <a:pt x="915" y="1715"/>
                    </a:lnTo>
                    <a:lnTo>
                      <a:pt x="1037" y="1803"/>
                    </a:lnTo>
                    <a:lnTo>
                      <a:pt x="1037" y="1945"/>
                    </a:lnTo>
                    <a:lnTo>
                      <a:pt x="1092" y="2054"/>
                    </a:lnTo>
                    <a:lnTo>
                      <a:pt x="1180" y="2067"/>
                    </a:lnTo>
                    <a:close/>
                  </a:path>
                </a:pathLst>
              </a:custGeom>
              <a:solidFill>
                <a:srgbClr val="ffffff"/>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599" name=""/>
              <p:cNvGrpSpPr/>
              <p:nvPr/>
            </p:nvGrpSpPr>
            <p:grpSpPr>
              <a:xfrm>
                <a:off x="0" y="1636560"/>
                <a:ext cx="2774880" cy="3190320"/>
                <a:chOff x="0" y="1636560"/>
                <a:chExt cx="2774880" cy="3190320"/>
              </a:xfrm>
            </p:grpSpPr>
            <p:sp>
              <p:nvSpPr>
                <p:cNvPr id="600" name=""/>
                <p:cNvSpPr/>
                <p:nvPr/>
              </p:nvSpPr>
              <p:spPr>
                <a:xfrm>
                  <a:off x="0" y="1636560"/>
                  <a:ext cx="2774880" cy="246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Arial"/>
                      <a:ea typeface="ＭＳ Ｐゴシック"/>
                    </a:rPr>
                    <a:t>Vendor Advisories and Bulletins distributed to customers and public in standard, </a:t>
                  </a:r>
                  <a:r>
                    <a:rPr b="1" lang="en-US" sz="1200" spc="-1" strike="noStrike">
                      <a:solidFill>
                        <a:srgbClr val="ff3300"/>
                      </a:solidFill>
                      <a:latin typeface="Arial"/>
                      <a:ea typeface="ＭＳ Ｐゴシック"/>
                    </a:rPr>
                    <a:t>machine readable format</a:t>
                  </a:r>
                  <a:r>
                    <a:rPr b="0" lang="en-US" sz="1200" spc="-1" strike="noStrike">
                      <a:solidFill>
                        <a:srgbClr val="ff3300"/>
                      </a:solidFill>
                      <a:latin typeface="Arial"/>
                      <a:ea typeface="ＭＳ Ｐゴシック"/>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Arial"/>
                      <a:ea typeface="ＭＳ Ｐゴシック"/>
                    </a:rPr>
                    <a:t>with uniqu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128"/>
                      </a:solidFill>
                      <a:latin typeface="Arial"/>
                      <a:ea typeface="ＭＳ Ｐゴシック"/>
                    </a:rPr>
                    <a:t>CV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128"/>
                      </a:solidFill>
                      <a:latin typeface="Arial"/>
                      <a:ea typeface="ＭＳ Ｐゴシック"/>
                    </a:rPr>
                    <a:t>Names</a:t>
                  </a:r>
                  <a:r>
                    <a:rPr b="0" lang="en-US" sz="1200" spc="-1" strike="noStrike">
                      <a:solidFill>
                        <a:srgbClr val="ff3300"/>
                      </a:solidFill>
                      <a:latin typeface="Arial"/>
                      <a:ea typeface="ＭＳ Ｐゴシック"/>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Arial"/>
                      <a:ea typeface="ＭＳ Ｐゴシック"/>
                    </a:rPr>
                    <a:t>and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Arial"/>
                      <a:ea typeface="ＭＳ Ｐゴシック"/>
                    </a:rPr>
                    <a:t>standardized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128"/>
                      </a:solidFill>
                      <a:latin typeface="Arial"/>
                      <a:ea typeface="ＭＳ Ｐゴシック"/>
                    </a:rPr>
                    <a:t>OVAL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128"/>
                      </a:solidFill>
                      <a:latin typeface="Arial"/>
                      <a:ea typeface="ＭＳ Ｐゴシック"/>
                    </a:rPr>
                    <a:t>definitions</a:t>
                  </a:r>
                  <a:r>
                    <a:rPr b="0" lang="en-US" sz="1200" spc="-1" strike="noStrike">
                      <a:solidFill>
                        <a:srgbClr val="2e4646"/>
                      </a:solidFill>
                      <a:latin typeface="Arial"/>
                      <a:ea typeface="ＭＳ Ｐゴシック"/>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Arial"/>
                      <a:ea typeface="ＭＳ Ｐゴシック"/>
                    </a:rPr>
                    <a:t>for patch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Arial"/>
                      <a:ea typeface="ＭＳ Ｐゴシック"/>
                    </a:rPr>
                    <a:t>vulnerabiliti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Arial"/>
                      <a:ea typeface="ＭＳ Ｐゴシック"/>
                    </a:rPr>
                    <a:t>configuration settings</a:t>
                  </a:r>
                  <a:endParaRPr b="0" lang="en-US" sz="1200" spc="-1" strike="noStrike">
                    <a:solidFill>
                      <a:srgbClr val="000000"/>
                    </a:solidFill>
                    <a:latin typeface="Times New Roman"/>
                  </a:endParaRPr>
                </a:p>
              </p:txBody>
            </p:sp>
            <p:sp>
              <p:nvSpPr>
                <p:cNvPr id="601" name=""/>
                <p:cNvSpPr/>
                <p:nvPr/>
              </p:nvSpPr>
              <p:spPr>
                <a:xfrm>
                  <a:off x="963720" y="3298680"/>
                  <a:ext cx="123012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New</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a:t>
                  </a:r>
                  <a:r>
                    <a:rPr b="1" lang="en-US" sz="1200" spc="-1" strike="noStrike">
                      <a:solidFill>
                        <a:srgbClr val="000000"/>
                      </a:solidFill>
                      <a:latin typeface="Arial"/>
                      <a:ea typeface="ＭＳ Ｐゴシック"/>
                    </a:rPr>
                    <a:t>Vuln” Requirement</a:t>
                  </a:r>
                  <a:endParaRPr b="0" lang="en-US" sz="1200" spc="-1" strike="noStrike">
                    <a:solidFill>
                      <a:srgbClr val="000000"/>
                    </a:solidFill>
                    <a:latin typeface="Times New Roman"/>
                  </a:endParaRPr>
                </a:p>
              </p:txBody>
            </p:sp>
            <p:grpSp>
              <p:nvGrpSpPr>
                <p:cNvPr id="602" name=""/>
                <p:cNvGrpSpPr/>
                <p:nvPr/>
              </p:nvGrpSpPr>
              <p:grpSpPr>
                <a:xfrm>
                  <a:off x="1551960" y="3852360"/>
                  <a:ext cx="631800" cy="974520"/>
                  <a:chOff x="1551960" y="3852360"/>
                  <a:chExt cx="631800" cy="974520"/>
                </a:xfrm>
              </p:grpSpPr>
              <p:grpSp>
                <p:nvGrpSpPr>
                  <p:cNvPr id="603" name=""/>
                  <p:cNvGrpSpPr/>
                  <p:nvPr/>
                </p:nvGrpSpPr>
                <p:grpSpPr>
                  <a:xfrm>
                    <a:off x="1551960" y="3852360"/>
                    <a:ext cx="631800" cy="974520"/>
                    <a:chOff x="1551960" y="3852360"/>
                    <a:chExt cx="631800" cy="974520"/>
                  </a:xfrm>
                </p:grpSpPr>
                <p:sp>
                  <p:nvSpPr>
                    <p:cNvPr id="604" name=""/>
                    <p:cNvSpPr/>
                    <p:nvPr/>
                  </p:nvSpPr>
                  <p:spPr>
                    <a:xfrm rot="4410000">
                      <a:off x="1417680" y="4143240"/>
                      <a:ext cx="900000" cy="392400"/>
                    </a:xfrm>
                    <a:custGeom>
                      <a:avLst/>
                      <a:gdLst/>
                      <a:ahLst/>
                      <a:rect l="l" t="t" r="r" b="b"/>
                      <a:pathLst>
                        <a:path w="1118" h="436">
                          <a:moveTo>
                            <a:pt x="74" y="210"/>
                          </a:moveTo>
                          <a:lnTo>
                            <a:pt x="0" y="349"/>
                          </a:lnTo>
                          <a:lnTo>
                            <a:pt x="183" y="436"/>
                          </a:lnTo>
                          <a:lnTo>
                            <a:pt x="422" y="256"/>
                          </a:lnTo>
                          <a:lnTo>
                            <a:pt x="560" y="179"/>
                          </a:lnTo>
                          <a:lnTo>
                            <a:pt x="718" y="301"/>
                          </a:lnTo>
                          <a:lnTo>
                            <a:pt x="994" y="125"/>
                          </a:lnTo>
                          <a:lnTo>
                            <a:pt x="1036" y="168"/>
                          </a:lnTo>
                          <a:lnTo>
                            <a:pt x="1118" y="16"/>
                          </a:lnTo>
                          <a:lnTo>
                            <a:pt x="944" y="0"/>
                          </a:lnTo>
                          <a:lnTo>
                            <a:pt x="950" y="51"/>
                          </a:lnTo>
                          <a:lnTo>
                            <a:pt x="718" y="176"/>
                          </a:lnTo>
                          <a:lnTo>
                            <a:pt x="608" y="14"/>
                          </a:lnTo>
                          <a:lnTo>
                            <a:pt x="410" y="117"/>
                          </a:lnTo>
                          <a:lnTo>
                            <a:pt x="175" y="272"/>
                          </a:lnTo>
                          <a:lnTo>
                            <a:pt x="79" y="202"/>
                          </a:lnTo>
                          <a:lnTo>
                            <a:pt x="74" y="210"/>
                          </a:lnTo>
                          <a:lnTo>
                            <a:pt x="74" y="210"/>
                          </a:lnTo>
                          <a:close/>
                        </a:path>
                      </a:pathLst>
                    </a:custGeom>
                    <a:solidFill>
                      <a:srgbClr val="d9e0e6"/>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5" name=""/>
                    <p:cNvSpPr/>
                    <p:nvPr/>
                  </p:nvSpPr>
                  <p:spPr>
                    <a:xfrm rot="4410000">
                      <a:off x="1439640" y="4159080"/>
                      <a:ext cx="864720" cy="360720"/>
                    </a:xfrm>
                    <a:custGeom>
                      <a:avLst/>
                      <a:gdLst/>
                      <a:ahLst/>
                      <a:rect l="l" t="t" r="r" b="b"/>
                      <a:pathLst>
                        <a:path w="1074" h="401">
                          <a:moveTo>
                            <a:pt x="67" y="217"/>
                          </a:moveTo>
                          <a:lnTo>
                            <a:pt x="146" y="279"/>
                          </a:lnTo>
                          <a:lnTo>
                            <a:pt x="442" y="92"/>
                          </a:lnTo>
                          <a:lnTo>
                            <a:pt x="577" y="23"/>
                          </a:lnTo>
                          <a:lnTo>
                            <a:pt x="686" y="185"/>
                          </a:lnTo>
                          <a:lnTo>
                            <a:pt x="948" y="46"/>
                          </a:lnTo>
                          <a:lnTo>
                            <a:pt x="936" y="0"/>
                          </a:lnTo>
                          <a:lnTo>
                            <a:pt x="1074" y="15"/>
                          </a:lnTo>
                          <a:lnTo>
                            <a:pt x="1012" y="128"/>
                          </a:lnTo>
                          <a:lnTo>
                            <a:pt x="970" y="92"/>
                          </a:lnTo>
                          <a:lnTo>
                            <a:pt x="703" y="272"/>
                          </a:lnTo>
                          <a:lnTo>
                            <a:pt x="537" y="150"/>
                          </a:lnTo>
                          <a:lnTo>
                            <a:pt x="388" y="235"/>
                          </a:lnTo>
                          <a:lnTo>
                            <a:pt x="149" y="401"/>
                          </a:lnTo>
                          <a:lnTo>
                            <a:pt x="0" y="331"/>
                          </a:lnTo>
                          <a:lnTo>
                            <a:pt x="67" y="217"/>
                          </a:lnTo>
                          <a:lnTo>
                            <a:pt x="67" y="217"/>
                          </a:lnTo>
                          <a:close/>
                        </a:path>
                      </a:pathLst>
                    </a:custGeom>
                    <a:solidFill>
                      <a:srgbClr val="ffcc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6" name=""/>
                    <p:cNvSpPr/>
                    <p:nvPr/>
                  </p:nvSpPr>
                  <p:spPr>
                    <a:xfrm rot="4410000">
                      <a:off x="1827720" y="4439160"/>
                      <a:ext cx="328320" cy="226800"/>
                    </a:xfrm>
                    <a:custGeom>
                      <a:avLst/>
                      <a:gdLst/>
                      <a:ahLst/>
                      <a:rect l="l" t="t" r="r" b="b"/>
                      <a:pathLst>
                        <a:path w="408" h="252">
                          <a:moveTo>
                            <a:pt x="345" y="0"/>
                          </a:moveTo>
                          <a:lnTo>
                            <a:pt x="351" y="1"/>
                          </a:lnTo>
                          <a:lnTo>
                            <a:pt x="360" y="2"/>
                          </a:lnTo>
                          <a:lnTo>
                            <a:pt x="366" y="2"/>
                          </a:lnTo>
                          <a:lnTo>
                            <a:pt x="375" y="3"/>
                          </a:lnTo>
                          <a:lnTo>
                            <a:pt x="383" y="3"/>
                          </a:lnTo>
                          <a:lnTo>
                            <a:pt x="390" y="3"/>
                          </a:lnTo>
                          <a:lnTo>
                            <a:pt x="399" y="3"/>
                          </a:lnTo>
                          <a:lnTo>
                            <a:pt x="408" y="4"/>
                          </a:lnTo>
                          <a:lnTo>
                            <a:pt x="407" y="11"/>
                          </a:lnTo>
                          <a:lnTo>
                            <a:pt x="407" y="19"/>
                          </a:lnTo>
                          <a:lnTo>
                            <a:pt x="406" y="26"/>
                          </a:lnTo>
                          <a:lnTo>
                            <a:pt x="403" y="34"/>
                          </a:lnTo>
                          <a:lnTo>
                            <a:pt x="402" y="42"/>
                          </a:lnTo>
                          <a:lnTo>
                            <a:pt x="402" y="51"/>
                          </a:lnTo>
                          <a:lnTo>
                            <a:pt x="402" y="59"/>
                          </a:lnTo>
                          <a:lnTo>
                            <a:pt x="403" y="68"/>
                          </a:lnTo>
                          <a:lnTo>
                            <a:pt x="403" y="72"/>
                          </a:lnTo>
                          <a:lnTo>
                            <a:pt x="402" y="76"/>
                          </a:lnTo>
                          <a:lnTo>
                            <a:pt x="399" y="79"/>
                          </a:lnTo>
                          <a:lnTo>
                            <a:pt x="397" y="82"/>
                          </a:lnTo>
                          <a:lnTo>
                            <a:pt x="390" y="83"/>
                          </a:lnTo>
                          <a:lnTo>
                            <a:pt x="384" y="84"/>
                          </a:lnTo>
                          <a:lnTo>
                            <a:pt x="375" y="82"/>
                          </a:lnTo>
                          <a:lnTo>
                            <a:pt x="366" y="80"/>
                          </a:lnTo>
                          <a:lnTo>
                            <a:pt x="360" y="80"/>
                          </a:lnTo>
                          <a:lnTo>
                            <a:pt x="353" y="83"/>
                          </a:lnTo>
                          <a:lnTo>
                            <a:pt x="346" y="74"/>
                          </a:lnTo>
                          <a:lnTo>
                            <a:pt x="337" y="70"/>
                          </a:lnTo>
                          <a:lnTo>
                            <a:pt x="331" y="69"/>
                          </a:lnTo>
                          <a:lnTo>
                            <a:pt x="327" y="71"/>
                          </a:lnTo>
                          <a:lnTo>
                            <a:pt x="325" y="75"/>
                          </a:lnTo>
                          <a:lnTo>
                            <a:pt x="323" y="83"/>
                          </a:lnTo>
                          <a:lnTo>
                            <a:pt x="316" y="83"/>
                          </a:lnTo>
                          <a:lnTo>
                            <a:pt x="311" y="87"/>
                          </a:lnTo>
                          <a:lnTo>
                            <a:pt x="307" y="90"/>
                          </a:lnTo>
                          <a:lnTo>
                            <a:pt x="304" y="96"/>
                          </a:lnTo>
                          <a:lnTo>
                            <a:pt x="299" y="100"/>
                          </a:lnTo>
                          <a:lnTo>
                            <a:pt x="294" y="104"/>
                          </a:lnTo>
                          <a:lnTo>
                            <a:pt x="289" y="107"/>
                          </a:lnTo>
                          <a:lnTo>
                            <a:pt x="285" y="107"/>
                          </a:lnTo>
                          <a:lnTo>
                            <a:pt x="279" y="108"/>
                          </a:lnTo>
                          <a:lnTo>
                            <a:pt x="274" y="109"/>
                          </a:lnTo>
                          <a:lnTo>
                            <a:pt x="269" y="112"/>
                          </a:lnTo>
                          <a:lnTo>
                            <a:pt x="264" y="115"/>
                          </a:lnTo>
                          <a:lnTo>
                            <a:pt x="253" y="120"/>
                          </a:lnTo>
                          <a:lnTo>
                            <a:pt x="245" y="127"/>
                          </a:lnTo>
                          <a:lnTo>
                            <a:pt x="236" y="134"/>
                          </a:lnTo>
                          <a:lnTo>
                            <a:pt x="230" y="144"/>
                          </a:lnTo>
                          <a:lnTo>
                            <a:pt x="227" y="148"/>
                          </a:lnTo>
                          <a:lnTo>
                            <a:pt x="225" y="154"/>
                          </a:lnTo>
                          <a:lnTo>
                            <a:pt x="223" y="160"/>
                          </a:lnTo>
                          <a:lnTo>
                            <a:pt x="223" y="166"/>
                          </a:lnTo>
                          <a:lnTo>
                            <a:pt x="218" y="171"/>
                          </a:lnTo>
                          <a:lnTo>
                            <a:pt x="213" y="176"/>
                          </a:lnTo>
                          <a:lnTo>
                            <a:pt x="207" y="178"/>
                          </a:lnTo>
                          <a:lnTo>
                            <a:pt x="202" y="180"/>
                          </a:lnTo>
                          <a:lnTo>
                            <a:pt x="205" y="170"/>
                          </a:lnTo>
                          <a:lnTo>
                            <a:pt x="209" y="162"/>
                          </a:lnTo>
                          <a:lnTo>
                            <a:pt x="212" y="153"/>
                          </a:lnTo>
                          <a:lnTo>
                            <a:pt x="216" y="146"/>
                          </a:lnTo>
                          <a:lnTo>
                            <a:pt x="219" y="137"/>
                          </a:lnTo>
                          <a:lnTo>
                            <a:pt x="225" y="128"/>
                          </a:lnTo>
                          <a:lnTo>
                            <a:pt x="231" y="121"/>
                          </a:lnTo>
                          <a:lnTo>
                            <a:pt x="239" y="114"/>
                          </a:lnTo>
                          <a:lnTo>
                            <a:pt x="233" y="113"/>
                          </a:lnTo>
                          <a:lnTo>
                            <a:pt x="227" y="113"/>
                          </a:lnTo>
                          <a:lnTo>
                            <a:pt x="219" y="112"/>
                          </a:lnTo>
                          <a:lnTo>
                            <a:pt x="214" y="112"/>
                          </a:lnTo>
                          <a:lnTo>
                            <a:pt x="214" y="117"/>
                          </a:lnTo>
                          <a:lnTo>
                            <a:pt x="214" y="123"/>
                          </a:lnTo>
                          <a:lnTo>
                            <a:pt x="213" y="129"/>
                          </a:lnTo>
                          <a:lnTo>
                            <a:pt x="213" y="136"/>
                          </a:lnTo>
                          <a:lnTo>
                            <a:pt x="209" y="141"/>
                          </a:lnTo>
                          <a:lnTo>
                            <a:pt x="206" y="146"/>
                          </a:lnTo>
                          <a:lnTo>
                            <a:pt x="201" y="148"/>
                          </a:lnTo>
                          <a:lnTo>
                            <a:pt x="196" y="149"/>
                          </a:lnTo>
                          <a:lnTo>
                            <a:pt x="193" y="142"/>
                          </a:lnTo>
                          <a:lnTo>
                            <a:pt x="196" y="137"/>
                          </a:lnTo>
                          <a:lnTo>
                            <a:pt x="200" y="131"/>
                          </a:lnTo>
                          <a:lnTo>
                            <a:pt x="202" y="125"/>
                          </a:lnTo>
                          <a:lnTo>
                            <a:pt x="197" y="126"/>
                          </a:lnTo>
                          <a:lnTo>
                            <a:pt x="193" y="128"/>
                          </a:lnTo>
                          <a:lnTo>
                            <a:pt x="186" y="130"/>
                          </a:lnTo>
                          <a:lnTo>
                            <a:pt x="183" y="133"/>
                          </a:lnTo>
                          <a:lnTo>
                            <a:pt x="183" y="128"/>
                          </a:lnTo>
                          <a:lnTo>
                            <a:pt x="184" y="124"/>
                          </a:lnTo>
                          <a:lnTo>
                            <a:pt x="186" y="118"/>
                          </a:lnTo>
                          <a:lnTo>
                            <a:pt x="189" y="115"/>
                          </a:lnTo>
                          <a:lnTo>
                            <a:pt x="183" y="114"/>
                          </a:lnTo>
                          <a:lnTo>
                            <a:pt x="177" y="116"/>
                          </a:lnTo>
                          <a:lnTo>
                            <a:pt x="173" y="119"/>
                          </a:lnTo>
                          <a:lnTo>
                            <a:pt x="169" y="123"/>
                          </a:lnTo>
                          <a:lnTo>
                            <a:pt x="160" y="129"/>
                          </a:lnTo>
                          <a:lnTo>
                            <a:pt x="153" y="136"/>
                          </a:lnTo>
                          <a:lnTo>
                            <a:pt x="156" y="135"/>
                          </a:lnTo>
                          <a:lnTo>
                            <a:pt x="161" y="135"/>
                          </a:lnTo>
                          <a:lnTo>
                            <a:pt x="167" y="134"/>
                          </a:lnTo>
                          <a:lnTo>
                            <a:pt x="173" y="135"/>
                          </a:lnTo>
                          <a:lnTo>
                            <a:pt x="176" y="135"/>
                          </a:lnTo>
                          <a:lnTo>
                            <a:pt x="179" y="137"/>
                          </a:lnTo>
                          <a:lnTo>
                            <a:pt x="179" y="141"/>
                          </a:lnTo>
                          <a:lnTo>
                            <a:pt x="177" y="148"/>
                          </a:lnTo>
                          <a:lnTo>
                            <a:pt x="179" y="146"/>
                          </a:lnTo>
                          <a:lnTo>
                            <a:pt x="184" y="146"/>
                          </a:lnTo>
                          <a:lnTo>
                            <a:pt x="188" y="146"/>
                          </a:lnTo>
                          <a:lnTo>
                            <a:pt x="192" y="146"/>
                          </a:lnTo>
                          <a:lnTo>
                            <a:pt x="191" y="151"/>
                          </a:lnTo>
                          <a:lnTo>
                            <a:pt x="189" y="155"/>
                          </a:lnTo>
                          <a:lnTo>
                            <a:pt x="185" y="157"/>
                          </a:lnTo>
                          <a:lnTo>
                            <a:pt x="182" y="160"/>
                          </a:lnTo>
                          <a:lnTo>
                            <a:pt x="176" y="161"/>
                          </a:lnTo>
                          <a:lnTo>
                            <a:pt x="172" y="162"/>
                          </a:lnTo>
                          <a:lnTo>
                            <a:pt x="167" y="163"/>
                          </a:lnTo>
                          <a:lnTo>
                            <a:pt x="164" y="165"/>
                          </a:lnTo>
                          <a:lnTo>
                            <a:pt x="166" y="167"/>
                          </a:lnTo>
                          <a:lnTo>
                            <a:pt x="170" y="173"/>
                          </a:lnTo>
                          <a:lnTo>
                            <a:pt x="174" y="173"/>
                          </a:lnTo>
                          <a:lnTo>
                            <a:pt x="181" y="174"/>
                          </a:lnTo>
                          <a:lnTo>
                            <a:pt x="189" y="175"/>
                          </a:lnTo>
                          <a:lnTo>
                            <a:pt x="194" y="177"/>
                          </a:lnTo>
                          <a:lnTo>
                            <a:pt x="190" y="180"/>
                          </a:lnTo>
                          <a:lnTo>
                            <a:pt x="187" y="184"/>
                          </a:lnTo>
                          <a:lnTo>
                            <a:pt x="182" y="185"/>
                          </a:lnTo>
                          <a:lnTo>
                            <a:pt x="177" y="187"/>
                          </a:lnTo>
                          <a:lnTo>
                            <a:pt x="172" y="187"/>
                          </a:lnTo>
                          <a:lnTo>
                            <a:pt x="168" y="188"/>
                          </a:lnTo>
                          <a:lnTo>
                            <a:pt x="162" y="188"/>
                          </a:lnTo>
                          <a:lnTo>
                            <a:pt x="159" y="192"/>
                          </a:lnTo>
                          <a:lnTo>
                            <a:pt x="156" y="196"/>
                          </a:lnTo>
                          <a:lnTo>
                            <a:pt x="157" y="204"/>
                          </a:lnTo>
                          <a:lnTo>
                            <a:pt x="151" y="203"/>
                          </a:lnTo>
                          <a:lnTo>
                            <a:pt x="145" y="203"/>
                          </a:lnTo>
                          <a:lnTo>
                            <a:pt x="140" y="203"/>
                          </a:lnTo>
                          <a:lnTo>
                            <a:pt x="137" y="204"/>
                          </a:lnTo>
                          <a:lnTo>
                            <a:pt x="127" y="209"/>
                          </a:lnTo>
                          <a:lnTo>
                            <a:pt x="119" y="217"/>
                          </a:lnTo>
                          <a:lnTo>
                            <a:pt x="111" y="222"/>
                          </a:lnTo>
                          <a:lnTo>
                            <a:pt x="102" y="228"/>
                          </a:lnTo>
                          <a:lnTo>
                            <a:pt x="98" y="229"/>
                          </a:lnTo>
                          <a:lnTo>
                            <a:pt x="93" y="230"/>
                          </a:lnTo>
                          <a:lnTo>
                            <a:pt x="87" y="230"/>
                          </a:lnTo>
                          <a:lnTo>
                            <a:pt x="81" y="229"/>
                          </a:lnTo>
                          <a:lnTo>
                            <a:pt x="79" y="233"/>
                          </a:lnTo>
                          <a:lnTo>
                            <a:pt x="75" y="241"/>
                          </a:lnTo>
                          <a:lnTo>
                            <a:pt x="70" y="247"/>
                          </a:lnTo>
                          <a:lnTo>
                            <a:pt x="68" y="252"/>
                          </a:lnTo>
                          <a:lnTo>
                            <a:pt x="62" y="248"/>
                          </a:lnTo>
                          <a:lnTo>
                            <a:pt x="59" y="243"/>
                          </a:lnTo>
                          <a:lnTo>
                            <a:pt x="55" y="239"/>
                          </a:lnTo>
                          <a:lnTo>
                            <a:pt x="51" y="235"/>
                          </a:lnTo>
                          <a:lnTo>
                            <a:pt x="46" y="231"/>
                          </a:lnTo>
                          <a:lnTo>
                            <a:pt x="42" y="229"/>
                          </a:lnTo>
                          <a:lnTo>
                            <a:pt x="37" y="227"/>
                          </a:lnTo>
                          <a:lnTo>
                            <a:pt x="32" y="229"/>
                          </a:lnTo>
                          <a:lnTo>
                            <a:pt x="31" y="226"/>
                          </a:lnTo>
                          <a:lnTo>
                            <a:pt x="31" y="222"/>
                          </a:lnTo>
                          <a:lnTo>
                            <a:pt x="32" y="218"/>
                          </a:lnTo>
                          <a:lnTo>
                            <a:pt x="34" y="216"/>
                          </a:lnTo>
                          <a:lnTo>
                            <a:pt x="38" y="217"/>
                          </a:lnTo>
                          <a:lnTo>
                            <a:pt x="42" y="219"/>
                          </a:lnTo>
                          <a:lnTo>
                            <a:pt x="48" y="219"/>
                          </a:lnTo>
                          <a:lnTo>
                            <a:pt x="54" y="220"/>
                          </a:lnTo>
                          <a:lnTo>
                            <a:pt x="58" y="220"/>
                          </a:lnTo>
                          <a:lnTo>
                            <a:pt x="62" y="223"/>
                          </a:lnTo>
                          <a:lnTo>
                            <a:pt x="64" y="228"/>
                          </a:lnTo>
                          <a:lnTo>
                            <a:pt x="66" y="236"/>
                          </a:lnTo>
                          <a:lnTo>
                            <a:pt x="68" y="227"/>
                          </a:lnTo>
                          <a:lnTo>
                            <a:pt x="67" y="219"/>
                          </a:lnTo>
                          <a:lnTo>
                            <a:pt x="65" y="214"/>
                          </a:lnTo>
                          <a:lnTo>
                            <a:pt x="66" y="211"/>
                          </a:lnTo>
                          <a:lnTo>
                            <a:pt x="68" y="208"/>
                          </a:lnTo>
                          <a:lnTo>
                            <a:pt x="74" y="208"/>
                          </a:lnTo>
                          <a:lnTo>
                            <a:pt x="71" y="208"/>
                          </a:lnTo>
                          <a:lnTo>
                            <a:pt x="67" y="208"/>
                          </a:lnTo>
                          <a:lnTo>
                            <a:pt x="63" y="208"/>
                          </a:lnTo>
                          <a:lnTo>
                            <a:pt x="61" y="208"/>
                          </a:lnTo>
                          <a:lnTo>
                            <a:pt x="60" y="205"/>
                          </a:lnTo>
                          <a:lnTo>
                            <a:pt x="58" y="203"/>
                          </a:lnTo>
                          <a:lnTo>
                            <a:pt x="55" y="198"/>
                          </a:lnTo>
                          <a:lnTo>
                            <a:pt x="54" y="197"/>
                          </a:lnTo>
                          <a:lnTo>
                            <a:pt x="46" y="203"/>
                          </a:lnTo>
                          <a:lnTo>
                            <a:pt x="39" y="206"/>
                          </a:lnTo>
                          <a:lnTo>
                            <a:pt x="34" y="206"/>
                          </a:lnTo>
                          <a:lnTo>
                            <a:pt x="31" y="209"/>
                          </a:lnTo>
                          <a:lnTo>
                            <a:pt x="28" y="212"/>
                          </a:lnTo>
                          <a:lnTo>
                            <a:pt x="27" y="219"/>
                          </a:lnTo>
                          <a:lnTo>
                            <a:pt x="23" y="219"/>
                          </a:lnTo>
                          <a:lnTo>
                            <a:pt x="19" y="219"/>
                          </a:lnTo>
                          <a:lnTo>
                            <a:pt x="18" y="212"/>
                          </a:lnTo>
                          <a:lnTo>
                            <a:pt x="16" y="207"/>
                          </a:lnTo>
                          <a:lnTo>
                            <a:pt x="11" y="203"/>
                          </a:lnTo>
                          <a:lnTo>
                            <a:pt x="7" y="201"/>
                          </a:lnTo>
                          <a:lnTo>
                            <a:pt x="3" y="196"/>
                          </a:lnTo>
                          <a:lnTo>
                            <a:pt x="1" y="192"/>
                          </a:lnTo>
                          <a:lnTo>
                            <a:pt x="0" y="186"/>
                          </a:lnTo>
                          <a:lnTo>
                            <a:pt x="4" y="180"/>
                          </a:lnTo>
                          <a:lnTo>
                            <a:pt x="7" y="177"/>
                          </a:lnTo>
                          <a:lnTo>
                            <a:pt x="12" y="179"/>
                          </a:lnTo>
                          <a:lnTo>
                            <a:pt x="15" y="182"/>
                          </a:lnTo>
                          <a:lnTo>
                            <a:pt x="18" y="187"/>
                          </a:lnTo>
                          <a:lnTo>
                            <a:pt x="21" y="191"/>
                          </a:lnTo>
                          <a:lnTo>
                            <a:pt x="23" y="195"/>
                          </a:lnTo>
                          <a:lnTo>
                            <a:pt x="27" y="196"/>
                          </a:lnTo>
                          <a:lnTo>
                            <a:pt x="34" y="195"/>
                          </a:lnTo>
                          <a:lnTo>
                            <a:pt x="32" y="185"/>
                          </a:lnTo>
                          <a:lnTo>
                            <a:pt x="37" y="180"/>
                          </a:lnTo>
                          <a:lnTo>
                            <a:pt x="43" y="176"/>
                          </a:lnTo>
                          <a:lnTo>
                            <a:pt x="52" y="175"/>
                          </a:lnTo>
                          <a:lnTo>
                            <a:pt x="61" y="176"/>
                          </a:lnTo>
                          <a:lnTo>
                            <a:pt x="68" y="180"/>
                          </a:lnTo>
                          <a:lnTo>
                            <a:pt x="73" y="185"/>
                          </a:lnTo>
                          <a:lnTo>
                            <a:pt x="76" y="195"/>
                          </a:lnTo>
                          <a:lnTo>
                            <a:pt x="79" y="195"/>
                          </a:lnTo>
                          <a:lnTo>
                            <a:pt x="81" y="195"/>
                          </a:lnTo>
                          <a:lnTo>
                            <a:pt x="82" y="186"/>
                          </a:lnTo>
                          <a:lnTo>
                            <a:pt x="86" y="181"/>
                          </a:lnTo>
                          <a:lnTo>
                            <a:pt x="91" y="176"/>
                          </a:lnTo>
                          <a:lnTo>
                            <a:pt x="97" y="172"/>
                          </a:lnTo>
                          <a:lnTo>
                            <a:pt x="102" y="168"/>
                          </a:lnTo>
                          <a:lnTo>
                            <a:pt x="109" y="165"/>
                          </a:lnTo>
                          <a:lnTo>
                            <a:pt x="114" y="159"/>
                          </a:lnTo>
                          <a:lnTo>
                            <a:pt x="119" y="154"/>
                          </a:lnTo>
                          <a:lnTo>
                            <a:pt x="124" y="147"/>
                          </a:lnTo>
                          <a:lnTo>
                            <a:pt x="129" y="142"/>
                          </a:lnTo>
                          <a:lnTo>
                            <a:pt x="135" y="136"/>
                          </a:lnTo>
                          <a:lnTo>
                            <a:pt x="140" y="131"/>
                          </a:lnTo>
                          <a:lnTo>
                            <a:pt x="145" y="126"/>
                          </a:lnTo>
                          <a:lnTo>
                            <a:pt x="151" y="120"/>
                          </a:lnTo>
                          <a:lnTo>
                            <a:pt x="156" y="115"/>
                          </a:lnTo>
                          <a:lnTo>
                            <a:pt x="162" y="111"/>
                          </a:lnTo>
                          <a:lnTo>
                            <a:pt x="168" y="107"/>
                          </a:lnTo>
                          <a:lnTo>
                            <a:pt x="174" y="103"/>
                          </a:lnTo>
                          <a:lnTo>
                            <a:pt x="179" y="100"/>
                          </a:lnTo>
                          <a:lnTo>
                            <a:pt x="186" y="98"/>
                          </a:lnTo>
                          <a:lnTo>
                            <a:pt x="193" y="95"/>
                          </a:lnTo>
                          <a:lnTo>
                            <a:pt x="200" y="95"/>
                          </a:lnTo>
                          <a:lnTo>
                            <a:pt x="208" y="94"/>
                          </a:lnTo>
                          <a:lnTo>
                            <a:pt x="216" y="96"/>
                          </a:lnTo>
                          <a:lnTo>
                            <a:pt x="223" y="92"/>
                          </a:lnTo>
                          <a:lnTo>
                            <a:pt x="233" y="89"/>
                          </a:lnTo>
                          <a:lnTo>
                            <a:pt x="238" y="88"/>
                          </a:lnTo>
                          <a:lnTo>
                            <a:pt x="243" y="89"/>
                          </a:lnTo>
                          <a:lnTo>
                            <a:pt x="246" y="91"/>
                          </a:lnTo>
                          <a:lnTo>
                            <a:pt x="250" y="97"/>
                          </a:lnTo>
                          <a:lnTo>
                            <a:pt x="251" y="91"/>
                          </a:lnTo>
                          <a:lnTo>
                            <a:pt x="254" y="89"/>
                          </a:lnTo>
                          <a:lnTo>
                            <a:pt x="257" y="89"/>
                          </a:lnTo>
                          <a:lnTo>
                            <a:pt x="262" y="89"/>
                          </a:lnTo>
                          <a:lnTo>
                            <a:pt x="269" y="88"/>
                          </a:lnTo>
                          <a:lnTo>
                            <a:pt x="276" y="83"/>
                          </a:lnTo>
                          <a:lnTo>
                            <a:pt x="272" y="81"/>
                          </a:lnTo>
                          <a:lnTo>
                            <a:pt x="270" y="77"/>
                          </a:lnTo>
                          <a:lnTo>
                            <a:pt x="269" y="72"/>
                          </a:lnTo>
                          <a:lnTo>
                            <a:pt x="270" y="70"/>
                          </a:lnTo>
                          <a:lnTo>
                            <a:pt x="275" y="68"/>
                          </a:lnTo>
                          <a:lnTo>
                            <a:pt x="280" y="65"/>
                          </a:lnTo>
                          <a:lnTo>
                            <a:pt x="286" y="62"/>
                          </a:lnTo>
                          <a:lnTo>
                            <a:pt x="291" y="60"/>
                          </a:lnTo>
                          <a:lnTo>
                            <a:pt x="297" y="57"/>
                          </a:lnTo>
                          <a:lnTo>
                            <a:pt x="303" y="57"/>
                          </a:lnTo>
                          <a:lnTo>
                            <a:pt x="308" y="56"/>
                          </a:lnTo>
                          <a:lnTo>
                            <a:pt x="316" y="58"/>
                          </a:lnTo>
                          <a:lnTo>
                            <a:pt x="316" y="50"/>
                          </a:lnTo>
                          <a:lnTo>
                            <a:pt x="318" y="42"/>
                          </a:lnTo>
                          <a:lnTo>
                            <a:pt x="320" y="33"/>
                          </a:lnTo>
                          <a:lnTo>
                            <a:pt x="324" y="26"/>
                          </a:lnTo>
                          <a:lnTo>
                            <a:pt x="327" y="18"/>
                          </a:lnTo>
                          <a:lnTo>
                            <a:pt x="331" y="12"/>
                          </a:lnTo>
                          <a:lnTo>
                            <a:pt x="337" y="5"/>
                          </a:lnTo>
                          <a:lnTo>
                            <a:pt x="345" y="0"/>
                          </a:lnTo>
                          <a:lnTo>
                            <a:pt x="345" y="0"/>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7" name=""/>
                    <p:cNvSpPr/>
                    <p:nvPr/>
                  </p:nvSpPr>
                  <p:spPr>
                    <a:xfrm rot="4410000">
                      <a:off x="1999800" y="4547880"/>
                      <a:ext cx="10800" cy="2520"/>
                    </a:xfrm>
                    <a:custGeom>
                      <a:avLst/>
                      <a:gdLst/>
                      <a:ahLst/>
                      <a:rect l="l" t="t" r="r" b="b"/>
                      <a:pathLst>
                        <a:path w="14" h="3">
                          <a:moveTo>
                            <a:pt x="14" y="3"/>
                          </a:moveTo>
                          <a:lnTo>
                            <a:pt x="7" y="0"/>
                          </a:lnTo>
                          <a:lnTo>
                            <a:pt x="2" y="1"/>
                          </a:lnTo>
                          <a:lnTo>
                            <a:pt x="0" y="2"/>
                          </a:lnTo>
                          <a:lnTo>
                            <a:pt x="2" y="3"/>
                          </a:lnTo>
                          <a:lnTo>
                            <a:pt x="5" y="3"/>
                          </a:lnTo>
                          <a:lnTo>
                            <a:pt x="14" y="3"/>
                          </a:lnTo>
                          <a:lnTo>
                            <a:pt x="14" y="3"/>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608" name=""/>
                    <p:cNvSpPr/>
                    <p:nvPr/>
                  </p:nvSpPr>
                  <p:spPr>
                    <a:xfrm rot="4410000">
                      <a:off x="2094480" y="4643280"/>
                      <a:ext cx="30600" cy="19800"/>
                    </a:xfrm>
                    <a:custGeom>
                      <a:avLst/>
                      <a:gdLst/>
                      <a:ahLst/>
                      <a:rect l="l" t="t" r="r" b="b"/>
                      <a:pathLst>
                        <a:path w="38" h="22">
                          <a:moveTo>
                            <a:pt x="10" y="0"/>
                          </a:moveTo>
                          <a:lnTo>
                            <a:pt x="16" y="2"/>
                          </a:lnTo>
                          <a:lnTo>
                            <a:pt x="23" y="2"/>
                          </a:lnTo>
                          <a:lnTo>
                            <a:pt x="30" y="1"/>
                          </a:lnTo>
                          <a:lnTo>
                            <a:pt x="38" y="3"/>
                          </a:lnTo>
                          <a:lnTo>
                            <a:pt x="30" y="7"/>
                          </a:lnTo>
                          <a:lnTo>
                            <a:pt x="23" y="11"/>
                          </a:lnTo>
                          <a:lnTo>
                            <a:pt x="15" y="15"/>
                          </a:lnTo>
                          <a:lnTo>
                            <a:pt x="7" y="22"/>
                          </a:lnTo>
                          <a:lnTo>
                            <a:pt x="5" y="18"/>
                          </a:lnTo>
                          <a:lnTo>
                            <a:pt x="2" y="13"/>
                          </a:lnTo>
                          <a:lnTo>
                            <a:pt x="0" y="9"/>
                          </a:lnTo>
                          <a:lnTo>
                            <a:pt x="0" y="6"/>
                          </a:lnTo>
                          <a:lnTo>
                            <a:pt x="2" y="4"/>
                          </a:lnTo>
                          <a:lnTo>
                            <a:pt x="5" y="2"/>
                          </a:lnTo>
                          <a:lnTo>
                            <a:pt x="7" y="0"/>
                          </a:lnTo>
                          <a:lnTo>
                            <a:pt x="10" y="0"/>
                          </a:lnTo>
                          <a:lnTo>
                            <a:pt x="10"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09" name=""/>
                    <p:cNvSpPr/>
                    <p:nvPr/>
                  </p:nvSpPr>
                  <p:spPr>
                    <a:xfrm rot="4410000">
                      <a:off x="2089800" y="4622400"/>
                      <a:ext cx="4680" cy="15840"/>
                    </a:xfrm>
                    <a:custGeom>
                      <a:avLst/>
                      <a:gdLst/>
                      <a:ahLst/>
                      <a:rect l="l" t="t" r="r" b="b"/>
                      <a:pathLst>
                        <a:path w="6" h="18">
                          <a:moveTo>
                            <a:pt x="6" y="0"/>
                          </a:moveTo>
                          <a:lnTo>
                            <a:pt x="6" y="3"/>
                          </a:lnTo>
                          <a:lnTo>
                            <a:pt x="6" y="8"/>
                          </a:lnTo>
                          <a:lnTo>
                            <a:pt x="5" y="12"/>
                          </a:lnTo>
                          <a:lnTo>
                            <a:pt x="4" y="16"/>
                          </a:lnTo>
                          <a:lnTo>
                            <a:pt x="1" y="18"/>
                          </a:lnTo>
                          <a:lnTo>
                            <a:pt x="0" y="18"/>
                          </a:lnTo>
                          <a:lnTo>
                            <a:pt x="0" y="15"/>
                          </a:lnTo>
                          <a:lnTo>
                            <a:pt x="3" y="8"/>
                          </a:lnTo>
                          <a:lnTo>
                            <a:pt x="4" y="2"/>
                          </a:lnTo>
                          <a:lnTo>
                            <a:pt x="6" y="0"/>
                          </a:lnTo>
                          <a:lnTo>
                            <a:pt x="6"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610" name=""/>
                    <p:cNvSpPr/>
                    <p:nvPr/>
                  </p:nvSpPr>
                  <p:spPr>
                    <a:xfrm rot="4410000">
                      <a:off x="2079360" y="4652640"/>
                      <a:ext cx="28080" cy="28440"/>
                    </a:xfrm>
                    <a:custGeom>
                      <a:avLst/>
                      <a:gdLst/>
                      <a:ahLst/>
                      <a:rect l="l" t="t" r="r" b="b"/>
                      <a:pathLst>
                        <a:path w="35" h="32">
                          <a:moveTo>
                            <a:pt x="31" y="0"/>
                          </a:moveTo>
                          <a:lnTo>
                            <a:pt x="35" y="8"/>
                          </a:lnTo>
                          <a:lnTo>
                            <a:pt x="35" y="16"/>
                          </a:lnTo>
                          <a:lnTo>
                            <a:pt x="32" y="22"/>
                          </a:lnTo>
                          <a:lnTo>
                            <a:pt x="29" y="28"/>
                          </a:lnTo>
                          <a:lnTo>
                            <a:pt x="22" y="31"/>
                          </a:lnTo>
                          <a:lnTo>
                            <a:pt x="16" y="32"/>
                          </a:lnTo>
                          <a:lnTo>
                            <a:pt x="8" y="32"/>
                          </a:lnTo>
                          <a:lnTo>
                            <a:pt x="2" y="31"/>
                          </a:lnTo>
                          <a:lnTo>
                            <a:pt x="0" y="24"/>
                          </a:lnTo>
                          <a:lnTo>
                            <a:pt x="0" y="19"/>
                          </a:lnTo>
                          <a:lnTo>
                            <a:pt x="7" y="13"/>
                          </a:lnTo>
                          <a:lnTo>
                            <a:pt x="16" y="9"/>
                          </a:lnTo>
                          <a:lnTo>
                            <a:pt x="23" y="5"/>
                          </a:lnTo>
                          <a:lnTo>
                            <a:pt x="31" y="0"/>
                          </a:lnTo>
                          <a:lnTo>
                            <a:pt x="31"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611" name=""/>
                    <p:cNvSpPr/>
                    <p:nvPr/>
                  </p:nvSpPr>
                  <p:spPr>
                    <a:xfrm rot="4410000">
                      <a:off x="1554840" y="4047840"/>
                      <a:ext cx="506880" cy="303120"/>
                    </a:xfrm>
                    <a:custGeom>
                      <a:avLst/>
                      <a:gdLst/>
                      <a:ahLst/>
                      <a:rect l="l" t="t" r="r" b="b"/>
                      <a:pathLst>
                        <a:path w="630" h="337">
                          <a:moveTo>
                            <a:pt x="470" y="3"/>
                          </a:moveTo>
                          <a:lnTo>
                            <a:pt x="474" y="0"/>
                          </a:lnTo>
                          <a:lnTo>
                            <a:pt x="481" y="1"/>
                          </a:lnTo>
                          <a:lnTo>
                            <a:pt x="486" y="3"/>
                          </a:lnTo>
                          <a:lnTo>
                            <a:pt x="493" y="7"/>
                          </a:lnTo>
                          <a:lnTo>
                            <a:pt x="496" y="9"/>
                          </a:lnTo>
                          <a:lnTo>
                            <a:pt x="497" y="12"/>
                          </a:lnTo>
                          <a:lnTo>
                            <a:pt x="496" y="13"/>
                          </a:lnTo>
                          <a:lnTo>
                            <a:pt x="493" y="14"/>
                          </a:lnTo>
                          <a:lnTo>
                            <a:pt x="489" y="15"/>
                          </a:lnTo>
                          <a:lnTo>
                            <a:pt x="485" y="16"/>
                          </a:lnTo>
                          <a:lnTo>
                            <a:pt x="478" y="18"/>
                          </a:lnTo>
                          <a:lnTo>
                            <a:pt x="472" y="26"/>
                          </a:lnTo>
                          <a:lnTo>
                            <a:pt x="470" y="33"/>
                          </a:lnTo>
                          <a:lnTo>
                            <a:pt x="474" y="41"/>
                          </a:lnTo>
                          <a:lnTo>
                            <a:pt x="473" y="32"/>
                          </a:lnTo>
                          <a:lnTo>
                            <a:pt x="478" y="28"/>
                          </a:lnTo>
                          <a:lnTo>
                            <a:pt x="484" y="27"/>
                          </a:lnTo>
                          <a:lnTo>
                            <a:pt x="488" y="33"/>
                          </a:lnTo>
                          <a:lnTo>
                            <a:pt x="492" y="28"/>
                          </a:lnTo>
                          <a:lnTo>
                            <a:pt x="496" y="24"/>
                          </a:lnTo>
                          <a:lnTo>
                            <a:pt x="500" y="18"/>
                          </a:lnTo>
                          <a:lnTo>
                            <a:pt x="504" y="13"/>
                          </a:lnTo>
                          <a:lnTo>
                            <a:pt x="506" y="8"/>
                          </a:lnTo>
                          <a:lnTo>
                            <a:pt x="510" y="6"/>
                          </a:lnTo>
                          <a:lnTo>
                            <a:pt x="516" y="4"/>
                          </a:lnTo>
                          <a:lnTo>
                            <a:pt x="523" y="6"/>
                          </a:lnTo>
                          <a:lnTo>
                            <a:pt x="530" y="4"/>
                          </a:lnTo>
                          <a:lnTo>
                            <a:pt x="538" y="6"/>
                          </a:lnTo>
                          <a:lnTo>
                            <a:pt x="544" y="8"/>
                          </a:lnTo>
                          <a:lnTo>
                            <a:pt x="551" y="12"/>
                          </a:lnTo>
                          <a:lnTo>
                            <a:pt x="557" y="15"/>
                          </a:lnTo>
                          <a:lnTo>
                            <a:pt x="563" y="19"/>
                          </a:lnTo>
                          <a:lnTo>
                            <a:pt x="570" y="21"/>
                          </a:lnTo>
                          <a:lnTo>
                            <a:pt x="579" y="23"/>
                          </a:lnTo>
                          <a:lnTo>
                            <a:pt x="581" y="31"/>
                          </a:lnTo>
                          <a:lnTo>
                            <a:pt x="583" y="42"/>
                          </a:lnTo>
                          <a:lnTo>
                            <a:pt x="583" y="51"/>
                          </a:lnTo>
                          <a:lnTo>
                            <a:pt x="584" y="62"/>
                          </a:lnTo>
                          <a:lnTo>
                            <a:pt x="583" y="66"/>
                          </a:lnTo>
                          <a:lnTo>
                            <a:pt x="583" y="71"/>
                          </a:lnTo>
                          <a:lnTo>
                            <a:pt x="582" y="77"/>
                          </a:lnTo>
                          <a:lnTo>
                            <a:pt x="582" y="83"/>
                          </a:lnTo>
                          <a:lnTo>
                            <a:pt x="581" y="87"/>
                          </a:lnTo>
                          <a:lnTo>
                            <a:pt x="581" y="92"/>
                          </a:lnTo>
                          <a:lnTo>
                            <a:pt x="581" y="98"/>
                          </a:lnTo>
                          <a:lnTo>
                            <a:pt x="581" y="104"/>
                          </a:lnTo>
                          <a:lnTo>
                            <a:pt x="578" y="105"/>
                          </a:lnTo>
                          <a:lnTo>
                            <a:pt x="575" y="107"/>
                          </a:lnTo>
                          <a:lnTo>
                            <a:pt x="584" y="104"/>
                          </a:lnTo>
                          <a:lnTo>
                            <a:pt x="595" y="107"/>
                          </a:lnTo>
                          <a:lnTo>
                            <a:pt x="600" y="108"/>
                          </a:lnTo>
                          <a:lnTo>
                            <a:pt x="605" y="110"/>
                          </a:lnTo>
                          <a:lnTo>
                            <a:pt x="610" y="108"/>
                          </a:lnTo>
                          <a:lnTo>
                            <a:pt x="615" y="104"/>
                          </a:lnTo>
                          <a:lnTo>
                            <a:pt x="608" y="103"/>
                          </a:lnTo>
                          <a:lnTo>
                            <a:pt x="605" y="98"/>
                          </a:lnTo>
                          <a:lnTo>
                            <a:pt x="605" y="92"/>
                          </a:lnTo>
                          <a:lnTo>
                            <a:pt x="608" y="87"/>
                          </a:lnTo>
                          <a:lnTo>
                            <a:pt x="610" y="84"/>
                          </a:lnTo>
                          <a:lnTo>
                            <a:pt x="615" y="83"/>
                          </a:lnTo>
                          <a:lnTo>
                            <a:pt x="617" y="83"/>
                          </a:lnTo>
                          <a:lnTo>
                            <a:pt x="619" y="85"/>
                          </a:lnTo>
                          <a:lnTo>
                            <a:pt x="621" y="87"/>
                          </a:lnTo>
                          <a:lnTo>
                            <a:pt x="624" y="93"/>
                          </a:lnTo>
                          <a:lnTo>
                            <a:pt x="628" y="97"/>
                          </a:lnTo>
                          <a:lnTo>
                            <a:pt x="630" y="102"/>
                          </a:lnTo>
                          <a:lnTo>
                            <a:pt x="630" y="107"/>
                          </a:lnTo>
                          <a:lnTo>
                            <a:pt x="630" y="113"/>
                          </a:lnTo>
                          <a:lnTo>
                            <a:pt x="628" y="119"/>
                          </a:lnTo>
                          <a:lnTo>
                            <a:pt x="627" y="124"/>
                          </a:lnTo>
                          <a:lnTo>
                            <a:pt x="627" y="130"/>
                          </a:lnTo>
                          <a:lnTo>
                            <a:pt x="628" y="137"/>
                          </a:lnTo>
                          <a:lnTo>
                            <a:pt x="622" y="137"/>
                          </a:lnTo>
                          <a:lnTo>
                            <a:pt x="618" y="137"/>
                          </a:lnTo>
                          <a:lnTo>
                            <a:pt x="616" y="133"/>
                          </a:lnTo>
                          <a:lnTo>
                            <a:pt x="612" y="128"/>
                          </a:lnTo>
                          <a:lnTo>
                            <a:pt x="606" y="124"/>
                          </a:lnTo>
                          <a:lnTo>
                            <a:pt x="603" y="123"/>
                          </a:lnTo>
                          <a:lnTo>
                            <a:pt x="598" y="124"/>
                          </a:lnTo>
                          <a:lnTo>
                            <a:pt x="595" y="127"/>
                          </a:lnTo>
                          <a:lnTo>
                            <a:pt x="592" y="131"/>
                          </a:lnTo>
                          <a:lnTo>
                            <a:pt x="592" y="136"/>
                          </a:lnTo>
                          <a:lnTo>
                            <a:pt x="591" y="141"/>
                          </a:lnTo>
                          <a:lnTo>
                            <a:pt x="591" y="145"/>
                          </a:lnTo>
                          <a:lnTo>
                            <a:pt x="591" y="150"/>
                          </a:lnTo>
                          <a:lnTo>
                            <a:pt x="591" y="156"/>
                          </a:lnTo>
                          <a:lnTo>
                            <a:pt x="583" y="157"/>
                          </a:lnTo>
                          <a:lnTo>
                            <a:pt x="578" y="159"/>
                          </a:lnTo>
                          <a:lnTo>
                            <a:pt x="575" y="153"/>
                          </a:lnTo>
                          <a:lnTo>
                            <a:pt x="572" y="148"/>
                          </a:lnTo>
                          <a:lnTo>
                            <a:pt x="568" y="143"/>
                          </a:lnTo>
                          <a:lnTo>
                            <a:pt x="565" y="140"/>
                          </a:lnTo>
                          <a:lnTo>
                            <a:pt x="557" y="132"/>
                          </a:lnTo>
                          <a:lnTo>
                            <a:pt x="549" y="125"/>
                          </a:lnTo>
                          <a:lnTo>
                            <a:pt x="541" y="117"/>
                          </a:lnTo>
                          <a:lnTo>
                            <a:pt x="535" y="109"/>
                          </a:lnTo>
                          <a:lnTo>
                            <a:pt x="532" y="104"/>
                          </a:lnTo>
                          <a:lnTo>
                            <a:pt x="531" y="100"/>
                          </a:lnTo>
                          <a:lnTo>
                            <a:pt x="531" y="95"/>
                          </a:lnTo>
                          <a:lnTo>
                            <a:pt x="532" y="90"/>
                          </a:lnTo>
                          <a:lnTo>
                            <a:pt x="527" y="87"/>
                          </a:lnTo>
                          <a:lnTo>
                            <a:pt x="523" y="85"/>
                          </a:lnTo>
                          <a:lnTo>
                            <a:pt x="524" y="80"/>
                          </a:lnTo>
                          <a:lnTo>
                            <a:pt x="526" y="74"/>
                          </a:lnTo>
                          <a:lnTo>
                            <a:pt x="529" y="68"/>
                          </a:lnTo>
                          <a:lnTo>
                            <a:pt x="532" y="63"/>
                          </a:lnTo>
                          <a:lnTo>
                            <a:pt x="535" y="57"/>
                          </a:lnTo>
                          <a:lnTo>
                            <a:pt x="538" y="51"/>
                          </a:lnTo>
                          <a:lnTo>
                            <a:pt x="541" y="47"/>
                          </a:lnTo>
                          <a:lnTo>
                            <a:pt x="546" y="42"/>
                          </a:lnTo>
                          <a:lnTo>
                            <a:pt x="541" y="35"/>
                          </a:lnTo>
                          <a:lnTo>
                            <a:pt x="534" y="32"/>
                          </a:lnTo>
                          <a:lnTo>
                            <a:pt x="526" y="33"/>
                          </a:lnTo>
                          <a:lnTo>
                            <a:pt x="522" y="39"/>
                          </a:lnTo>
                          <a:lnTo>
                            <a:pt x="523" y="40"/>
                          </a:lnTo>
                          <a:lnTo>
                            <a:pt x="527" y="43"/>
                          </a:lnTo>
                          <a:lnTo>
                            <a:pt x="529" y="47"/>
                          </a:lnTo>
                          <a:lnTo>
                            <a:pt x="532" y="51"/>
                          </a:lnTo>
                          <a:lnTo>
                            <a:pt x="523" y="49"/>
                          </a:lnTo>
                          <a:lnTo>
                            <a:pt x="520" y="53"/>
                          </a:lnTo>
                          <a:lnTo>
                            <a:pt x="518" y="61"/>
                          </a:lnTo>
                          <a:lnTo>
                            <a:pt x="518" y="70"/>
                          </a:lnTo>
                          <a:lnTo>
                            <a:pt x="516" y="79"/>
                          </a:lnTo>
                          <a:lnTo>
                            <a:pt x="513" y="86"/>
                          </a:lnTo>
                          <a:lnTo>
                            <a:pt x="510" y="88"/>
                          </a:lnTo>
                          <a:lnTo>
                            <a:pt x="507" y="91"/>
                          </a:lnTo>
                          <a:lnTo>
                            <a:pt x="503" y="91"/>
                          </a:lnTo>
                          <a:lnTo>
                            <a:pt x="498" y="91"/>
                          </a:lnTo>
                          <a:lnTo>
                            <a:pt x="488" y="90"/>
                          </a:lnTo>
                          <a:lnTo>
                            <a:pt x="479" y="90"/>
                          </a:lnTo>
                          <a:lnTo>
                            <a:pt x="469" y="90"/>
                          </a:lnTo>
                          <a:lnTo>
                            <a:pt x="461" y="90"/>
                          </a:lnTo>
                          <a:lnTo>
                            <a:pt x="460" y="85"/>
                          </a:lnTo>
                          <a:lnTo>
                            <a:pt x="460" y="82"/>
                          </a:lnTo>
                          <a:lnTo>
                            <a:pt x="460" y="77"/>
                          </a:lnTo>
                          <a:lnTo>
                            <a:pt x="460" y="75"/>
                          </a:lnTo>
                          <a:lnTo>
                            <a:pt x="453" y="76"/>
                          </a:lnTo>
                          <a:lnTo>
                            <a:pt x="452" y="80"/>
                          </a:lnTo>
                          <a:lnTo>
                            <a:pt x="454" y="85"/>
                          </a:lnTo>
                          <a:lnTo>
                            <a:pt x="457" y="91"/>
                          </a:lnTo>
                          <a:lnTo>
                            <a:pt x="458" y="95"/>
                          </a:lnTo>
                          <a:lnTo>
                            <a:pt x="459" y="99"/>
                          </a:lnTo>
                          <a:lnTo>
                            <a:pt x="456" y="102"/>
                          </a:lnTo>
                          <a:lnTo>
                            <a:pt x="449" y="102"/>
                          </a:lnTo>
                          <a:lnTo>
                            <a:pt x="447" y="93"/>
                          </a:lnTo>
                          <a:lnTo>
                            <a:pt x="444" y="90"/>
                          </a:lnTo>
                          <a:lnTo>
                            <a:pt x="440" y="90"/>
                          </a:lnTo>
                          <a:lnTo>
                            <a:pt x="437" y="94"/>
                          </a:lnTo>
                          <a:lnTo>
                            <a:pt x="432" y="97"/>
                          </a:lnTo>
                          <a:lnTo>
                            <a:pt x="428" y="101"/>
                          </a:lnTo>
                          <a:lnTo>
                            <a:pt x="425" y="103"/>
                          </a:lnTo>
                          <a:lnTo>
                            <a:pt x="421" y="104"/>
                          </a:lnTo>
                          <a:lnTo>
                            <a:pt x="420" y="100"/>
                          </a:lnTo>
                          <a:lnTo>
                            <a:pt x="420" y="96"/>
                          </a:lnTo>
                          <a:lnTo>
                            <a:pt x="420" y="91"/>
                          </a:lnTo>
                          <a:lnTo>
                            <a:pt x="421" y="90"/>
                          </a:lnTo>
                          <a:lnTo>
                            <a:pt x="412" y="90"/>
                          </a:lnTo>
                          <a:lnTo>
                            <a:pt x="407" y="92"/>
                          </a:lnTo>
                          <a:lnTo>
                            <a:pt x="402" y="95"/>
                          </a:lnTo>
                          <a:lnTo>
                            <a:pt x="399" y="101"/>
                          </a:lnTo>
                          <a:lnTo>
                            <a:pt x="396" y="105"/>
                          </a:lnTo>
                          <a:lnTo>
                            <a:pt x="395" y="112"/>
                          </a:lnTo>
                          <a:lnTo>
                            <a:pt x="394" y="119"/>
                          </a:lnTo>
                          <a:lnTo>
                            <a:pt x="395" y="127"/>
                          </a:lnTo>
                          <a:lnTo>
                            <a:pt x="386" y="130"/>
                          </a:lnTo>
                          <a:lnTo>
                            <a:pt x="379" y="126"/>
                          </a:lnTo>
                          <a:lnTo>
                            <a:pt x="377" y="118"/>
                          </a:lnTo>
                          <a:lnTo>
                            <a:pt x="382" y="112"/>
                          </a:lnTo>
                          <a:lnTo>
                            <a:pt x="379" y="109"/>
                          </a:lnTo>
                          <a:lnTo>
                            <a:pt x="377" y="106"/>
                          </a:lnTo>
                          <a:lnTo>
                            <a:pt x="371" y="109"/>
                          </a:lnTo>
                          <a:lnTo>
                            <a:pt x="369" y="113"/>
                          </a:lnTo>
                          <a:lnTo>
                            <a:pt x="369" y="117"/>
                          </a:lnTo>
                          <a:lnTo>
                            <a:pt x="371" y="123"/>
                          </a:lnTo>
                          <a:lnTo>
                            <a:pt x="377" y="131"/>
                          </a:lnTo>
                          <a:lnTo>
                            <a:pt x="379" y="142"/>
                          </a:lnTo>
                          <a:lnTo>
                            <a:pt x="385" y="139"/>
                          </a:lnTo>
                          <a:lnTo>
                            <a:pt x="391" y="136"/>
                          </a:lnTo>
                          <a:lnTo>
                            <a:pt x="397" y="130"/>
                          </a:lnTo>
                          <a:lnTo>
                            <a:pt x="403" y="125"/>
                          </a:lnTo>
                          <a:lnTo>
                            <a:pt x="408" y="120"/>
                          </a:lnTo>
                          <a:lnTo>
                            <a:pt x="413" y="116"/>
                          </a:lnTo>
                          <a:lnTo>
                            <a:pt x="419" y="112"/>
                          </a:lnTo>
                          <a:lnTo>
                            <a:pt x="428" y="112"/>
                          </a:lnTo>
                          <a:lnTo>
                            <a:pt x="433" y="107"/>
                          </a:lnTo>
                          <a:lnTo>
                            <a:pt x="440" y="104"/>
                          </a:lnTo>
                          <a:lnTo>
                            <a:pt x="444" y="106"/>
                          </a:lnTo>
                          <a:lnTo>
                            <a:pt x="449" y="111"/>
                          </a:lnTo>
                          <a:lnTo>
                            <a:pt x="442" y="117"/>
                          </a:lnTo>
                          <a:lnTo>
                            <a:pt x="435" y="122"/>
                          </a:lnTo>
                          <a:lnTo>
                            <a:pt x="428" y="125"/>
                          </a:lnTo>
                          <a:lnTo>
                            <a:pt x="420" y="129"/>
                          </a:lnTo>
                          <a:lnTo>
                            <a:pt x="412" y="132"/>
                          </a:lnTo>
                          <a:lnTo>
                            <a:pt x="406" y="138"/>
                          </a:lnTo>
                          <a:lnTo>
                            <a:pt x="399" y="143"/>
                          </a:lnTo>
                          <a:lnTo>
                            <a:pt x="394" y="153"/>
                          </a:lnTo>
                          <a:lnTo>
                            <a:pt x="386" y="156"/>
                          </a:lnTo>
                          <a:lnTo>
                            <a:pt x="378" y="157"/>
                          </a:lnTo>
                          <a:lnTo>
                            <a:pt x="370" y="157"/>
                          </a:lnTo>
                          <a:lnTo>
                            <a:pt x="362" y="158"/>
                          </a:lnTo>
                          <a:lnTo>
                            <a:pt x="353" y="158"/>
                          </a:lnTo>
                          <a:lnTo>
                            <a:pt x="347" y="160"/>
                          </a:lnTo>
                          <a:lnTo>
                            <a:pt x="339" y="164"/>
                          </a:lnTo>
                          <a:lnTo>
                            <a:pt x="334" y="173"/>
                          </a:lnTo>
                          <a:lnTo>
                            <a:pt x="329" y="178"/>
                          </a:lnTo>
                          <a:lnTo>
                            <a:pt x="323" y="183"/>
                          </a:lnTo>
                          <a:lnTo>
                            <a:pt x="316" y="188"/>
                          </a:lnTo>
                          <a:lnTo>
                            <a:pt x="311" y="193"/>
                          </a:lnTo>
                          <a:lnTo>
                            <a:pt x="304" y="195"/>
                          </a:lnTo>
                          <a:lnTo>
                            <a:pt x="297" y="195"/>
                          </a:lnTo>
                          <a:lnTo>
                            <a:pt x="291" y="193"/>
                          </a:lnTo>
                          <a:lnTo>
                            <a:pt x="284" y="190"/>
                          </a:lnTo>
                          <a:lnTo>
                            <a:pt x="279" y="192"/>
                          </a:lnTo>
                          <a:lnTo>
                            <a:pt x="276" y="194"/>
                          </a:lnTo>
                          <a:lnTo>
                            <a:pt x="277" y="196"/>
                          </a:lnTo>
                          <a:lnTo>
                            <a:pt x="282" y="200"/>
                          </a:lnTo>
                          <a:lnTo>
                            <a:pt x="285" y="205"/>
                          </a:lnTo>
                          <a:lnTo>
                            <a:pt x="288" y="210"/>
                          </a:lnTo>
                          <a:lnTo>
                            <a:pt x="279" y="210"/>
                          </a:lnTo>
                          <a:lnTo>
                            <a:pt x="272" y="215"/>
                          </a:lnTo>
                          <a:lnTo>
                            <a:pt x="265" y="220"/>
                          </a:lnTo>
                          <a:lnTo>
                            <a:pt x="259" y="228"/>
                          </a:lnTo>
                          <a:lnTo>
                            <a:pt x="253" y="235"/>
                          </a:lnTo>
                          <a:lnTo>
                            <a:pt x="247" y="240"/>
                          </a:lnTo>
                          <a:lnTo>
                            <a:pt x="239" y="244"/>
                          </a:lnTo>
                          <a:lnTo>
                            <a:pt x="232" y="246"/>
                          </a:lnTo>
                          <a:lnTo>
                            <a:pt x="223" y="247"/>
                          </a:lnTo>
                          <a:lnTo>
                            <a:pt x="219" y="254"/>
                          </a:lnTo>
                          <a:lnTo>
                            <a:pt x="216" y="257"/>
                          </a:lnTo>
                          <a:lnTo>
                            <a:pt x="213" y="260"/>
                          </a:lnTo>
                          <a:lnTo>
                            <a:pt x="208" y="262"/>
                          </a:lnTo>
                          <a:lnTo>
                            <a:pt x="204" y="261"/>
                          </a:lnTo>
                          <a:lnTo>
                            <a:pt x="203" y="267"/>
                          </a:lnTo>
                          <a:lnTo>
                            <a:pt x="200" y="271"/>
                          </a:lnTo>
                          <a:lnTo>
                            <a:pt x="196" y="273"/>
                          </a:lnTo>
                          <a:lnTo>
                            <a:pt x="192" y="275"/>
                          </a:lnTo>
                          <a:lnTo>
                            <a:pt x="187" y="276"/>
                          </a:lnTo>
                          <a:lnTo>
                            <a:pt x="184" y="278"/>
                          </a:lnTo>
                          <a:lnTo>
                            <a:pt x="182" y="282"/>
                          </a:lnTo>
                          <a:lnTo>
                            <a:pt x="185" y="290"/>
                          </a:lnTo>
                          <a:lnTo>
                            <a:pt x="181" y="298"/>
                          </a:lnTo>
                          <a:lnTo>
                            <a:pt x="176" y="306"/>
                          </a:lnTo>
                          <a:lnTo>
                            <a:pt x="167" y="311"/>
                          </a:lnTo>
                          <a:lnTo>
                            <a:pt x="160" y="314"/>
                          </a:lnTo>
                          <a:lnTo>
                            <a:pt x="149" y="315"/>
                          </a:lnTo>
                          <a:lnTo>
                            <a:pt x="140" y="316"/>
                          </a:lnTo>
                          <a:lnTo>
                            <a:pt x="131" y="315"/>
                          </a:lnTo>
                          <a:lnTo>
                            <a:pt x="124" y="315"/>
                          </a:lnTo>
                          <a:lnTo>
                            <a:pt x="122" y="316"/>
                          </a:lnTo>
                          <a:lnTo>
                            <a:pt x="120" y="318"/>
                          </a:lnTo>
                          <a:lnTo>
                            <a:pt x="124" y="320"/>
                          </a:lnTo>
                          <a:lnTo>
                            <a:pt x="125" y="324"/>
                          </a:lnTo>
                          <a:lnTo>
                            <a:pt x="125" y="328"/>
                          </a:lnTo>
                          <a:lnTo>
                            <a:pt x="124" y="333"/>
                          </a:lnTo>
                          <a:lnTo>
                            <a:pt x="118" y="337"/>
                          </a:lnTo>
                          <a:lnTo>
                            <a:pt x="110" y="336"/>
                          </a:lnTo>
                          <a:lnTo>
                            <a:pt x="106" y="329"/>
                          </a:lnTo>
                          <a:lnTo>
                            <a:pt x="105" y="322"/>
                          </a:lnTo>
                          <a:lnTo>
                            <a:pt x="105" y="314"/>
                          </a:lnTo>
                          <a:lnTo>
                            <a:pt x="105" y="307"/>
                          </a:lnTo>
                          <a:lnTo>
                            <a:pt x="105" y="298"/>
                          </a:lnTo>
                          <a:lnTo>
                            <a:pt x="107" y="291"/>
                          </a:lnTo>
                          <a:lnTo>
                            <a:pt x="109" y="283"/>
                          </a:lnTo>
                          <a:lnTo>
                            <a:pt x="111" y="277"/>
                          </a:lnTo>
                          <a:lnTo>
                            <a:pt x="114" y="276"/>
                          </a:lnTo>
                          <a:lnTo>
                            <a:pt x="117" y="274"/>
                          </a:lnTo>
                          <a:lnTo>
                            <a:pt x="108" y="269"/>
                          </a:lnTo>
                          <a:lnTo>
                            <a:pt x="100" y="267"/>
                          </a:lnTo>
                          <a:lnTo>
                            <a:pt x="92" y="265"/>
                          </a:lnTo>
                          <a:lnTo>
                            <a:pt x="84" y="263"/>
                          </a:lnTo>
                          <a:lnTo>
                            <a:pt x="86" y="259"/>
                          </a:lnTo>
                          <a:lnTo>
                            <a:pt x="89" y="257"/>
                          </a:lnTo>
                          <a:lnTo>
                            <a:pt x="93" y="254"/>
                          </a:lnTo>
                          <a:lnTo>
                            <a:pt x="98" y="254"/>
                          </a:lnTo>
                          <a:lnTo>
                            <a:pt x="98" y="247"/>
                          </a:lnTo>
                          <a:lnTo>
                            <a:pt x="98" y="240"/>
                          </a:lnTo>
                          <a:lnTo>
                            <a:pt x="95" y="235"/>
                          </a:lnTo>
                          <a:lnTo>
                            <a:pt x="89" y="236"/>
                          </a:lnTo>
                          <a:lnTo>
                            <a:pt x="89" y="242"/>
                          </a:lnTo>
                          <a:lnTo>
                            <a:pt x="87" y="248"/>
                          </a:lnTo>
                          <a:lnTo>
                            <a:pt x="79" y="251"/>
                          </a:lnTo>
                          <a:lnTo>
                            <a:pt x="73" y="254"/>
                          </a:lnTo>
                          <a:lnTo>
                            <a:pt x="65" y="256"/>
                          </a:lnTo>
                          <a:lnTo>
                            <a:pt x="60" y="260"/>
                          </a:lnTo>
                          <a:lnTo>
                            <a:pt x="57" y="263"/>
                          </a:lnTo>
                          <a:lnTo>
                            <a:pt x="57" y="267"/>
                          </a:lnTo>
                          <a:lnTo>
                            <a:pt x="57" y="271"/>
                          </a:lnTo>
                          <a:lnTo>
                            <a:pt x="61" y="277"/>
                          </a:lnTo>
                          <a:lnTo>
                            <a:pt x="66" y="276"/>
                          </a:lnTo>
                          <a:lnTo>
                            <a:pt x="68" y="273"/>
                          </a:lnTo>
                          <a:lnTo>
                            <a:pt x="69" y="269"/>
                          </a:lnTo>
                          <a:lnTo>
                            <a:pt x="70" y="265"/>
                          </a:lnTo>
                          <a:lnTo>
                            <a:pt x="70" y="261"/>
                          </a:lnTo>
                          <a:lnTo>
                            <a:pt x="71" y="258"/>
                          </a:lnTo>
                          <a:lnTo>
                            <a:pt x="74" y="257"/>
                          </a:lnTo>
                          <a:lnTo>
                            <a:pt x="80" y="258"/>
                          </a:lnTo>
                          <a:lnTo>
                            <a:pt x="83" y="267"/>
                          </a:lnTo>
                          <a:lnTo>
                            <a:pt x="83" y="274"/>
                          </a:lnTo>
                          <a:lnTo>
                            <a:pt x="79" y="278"/>
                          </a:lnTo>
                          <a:lnTo>
                            <a:pt x="75" y="284"/>
                          </a:lnTo>
                          <a:lnTo>
                            <a:pt x="69" y="287"/>
                          </a:lnTo>
                          <a:lnTo>
                            <a:pt x="62" y="290"/>
                          </a:lnTo>
                          <a:lnTo>
                            <a:pt x="56" y="293"/>
                          </a:lnTo>
                          <a:lnTo>
                            <a:pt x="50" y="295"/>
                          </a:lnTo>
                          <a:lnTo>
                            <a:pt x="48" y="297"/>
                          </a:lnTo>
                          <a:lnTo>
                            <a:pt x="44" y="301"/>
                          </a:lnTo>
                          <a:lnTo>
                            <a:pt x="39" y="303"/>
                          </a:lnTo>
                          <a:lnTo>
                            <a:pt x="38" y="305"/>
                          </a:lnTo>
                          <a:lnTo>
                            <a:pt x="31" y="298"/>
                          </a:lnTo>
                          <a:lnTo>
                            <a:pt x="29" y="293"/>
                          </a:lnTo>
                          <a:lnTo>
                            <a:pt x="30" y="287"/>
                          </a:lnTo>
                          <a:lnTo>
                            <a:pt x="33" y="281"/>
                          </a:lnTo>
                          <a:lnTo>
                            <a:pt x="34" y="275"/>
                          </a:lnTo>
                          <a:lnTo>
                            <a:pt x="38" y="269"/>
                          </a:lnTo>
                          <a:lnTo>
                            <a:pt x="37" y="263"/>
                          </a:lnTo>
                          <a:lnTo>
                            <a:pt x="34" y="259"/>
                          </a:lnTo>
                          <a:lnTo>
                            <a:pt x="39" y="258"/>
                          </a:lnTo>
                          <a:lnTo>
                            <a:pt x="44" y="263"/>
                          </a:lnTo>
                          <a:lnTo>
                            <a:pt x="46" y="257"/>
                          </a:lnTo>
                          <a:lnTo>
                            <a:pt x="48" y="253"/>
                          </a:lnTo>
                          <a:lnTo>
                            <a:pt x="53" y="248"/>
                          </a:lnTo>
                          <a:lnTo>
                            <a:pt x="58" y="245"/>
                          </a:lnTo>
                          <a:lnTo>
                            <a:pt x="62" y="240"/>
                          </a:lnTo>
                          <a:lnTo>
                            <a:pt x="66" y="237"/>
                          </a:lnTo>
                          <a:lnTo>
                            <a:pt x="66" y="232"/>
                          </a:lnTo>
                          <a:lnTo>
                            <a:pt x="66" y="226"/>
                          </a:lnTo>
                          <a:lnTo>
                            <a:pt x="66" y="220"/>
                          </a:lnTo>
                          <a:lnTo>
                            <a:pt x="68" y="216"/>
                          </a:lnTo>
                          <a:lnTo>
                            <a:pt x="61" y="212"/>
                          </a:lnTo>
                          <a:lnTo>
                            <a:pt x="56" y="211"/>
                          </a:lnTo>
                          <a:lnTo>
                            <a:pt x="48" y="212"/>
                          </a:lnTo>
                          <a:lnTo>
                            <a:pt x="44" y="215"/>
                          </a:lnTo>
                          <a:lnTo>
                            <a:pt x="38" y="218"/>
                          </a:lnTo>
                          <a:lnTo>
                            <a:pt x="34" y="223"/>
                          </a:lnTo>
                          <a:lnTo>
                            <a:pt x="32" y="229"/>
                          </a:lnTo>
                          <a:lnTo>
                            <a:pt x="34" y="237"/>
                          </a:lnTo>
                          <a:lnTo>
                            <a:pt x="36" y="231"/>
                          </a:lnTo>
                          <a:lnTo>
                            <a:pt x="39" y="230"/>
                          </a:lnTo>
                          <a:lnTo>
                            <a:pt x="44" y="231"/>
                          </a:lnTo>
                          <a:lnTo>
                            <a:pt x="48" y="235"/>
                          </a:lnTo>
                          <a:lnTo>
                            <a:pt x="48" y="237"/>
                          </a:lnTo>
                          <a:lnTo>
                            <a:pt x="48" y="241"/>
                          </a:lnTo>
                          <a:lnTo>
                            <a:pt x="46" y="242"/>
                          </a:lnTo>
                          <a:lnTo>
                            <a:pt x="39" y="242"/>
                          </a:lnTo>
                          <a:lnTo>
                            <a:pt x="34" y="242"/>
                          </a:lnTo>
                          <a:lnTo>
                            <a:pt x="30" y="242"/>
                          </a:lnTo>
                          <a:lnTo>
                            <a:pt x="25" y="241"/>
                          </a:lnTo>
                          <a:lnTo>
                            <a:pt x="23" y="240"/>
                          </a:lnTo>
                          <a:lnTo>
                            <a:pt x="16" y="245"/>
                          </a:lnTo>
                          <a:lnTo>
                            <a:pt x="12" y="251"/>
                          </a:lnTo>
                          <a:lnTo>
                            <a:pt x="10" y="257"/>
                          </a:lnTo>
                          <a:lnTo>
                            <a:pt x="10" y="265"/>
                          </a:lnTo>
                          <a:lnTo>
                            <a:pt x="11" y="272"/>
                          </a:lnTo>
                          <a:lnTo>
                            <a:pt x="14" y="278"/>
                          </a:lnTo>
                          <a:lnTo>
                            <a:pt x="19" y="284"/>
                          </a:lnTo>
                          <a:lnTo>
                            <a:pt x="25" y="291"/>
                          </a:lnTo>
                          <a:lnTo>
                            <a:pt x="18" y="291"/>
                          </a:lnTo>
                          <a:lnTo>
                            <a:pt x="13" y="291"/>
                          </a:lnTo>
                          <a:lnTo>
                            <a:pt x="6" y="286"/>
                          </a:lnTo>
                          <a:lnTo>
                            <a:pt x="2" y="281"/>
                          </a:lnTo>
                          <a:lnTo>
                            <a:pt x="0" y="274"/>
                          </a:lnTo>
                          <a:lnTo>
                            <a:pt x="0" y="267"/>
                          </a:lnTo>
                          <a:lnTo>
                            <a:pt x="0" y="258"/>
                          </a:lnTo>
                          <a:lnTo>
                            <a:pt x="0" y="251"/>
                          </a:lnTo>
                          <a:lnTo>
                            <a:pt x="0" y="243"/>
                          </a:lnTo>
                          <a:lnTo>
                            <a:pt x="1" y="237"/>
                          </a:lnTo>
                          <a:lnTo>
                            <a:pt x="4" y="228"/>
                          </a:lnTo>
                          <a:lnTo>
                            <a:pt x="10" y="220"/>
                          </a:lnTo>
                          <a:lnTo>
                            <a:pt x="15" y="214"/>
                          </a:lnTo>
                          <a:lnTo>
                            <a:pt x="24" y="209"/>
                          </a:lnTo>
                          <a:lnTo>
                            <a:pt x="30" y="204"/>
                          </a:lnTo>
                          <a:lnTo>
                            <a:pt x="39" y="201"/>
                          </a:lnTo>
                          <a:lnTo>
                            <a:pt x="48" y="199"/>
                          </a:lnTo>
                          <a:lnTo>
                            <a:pt x="57" y="197"/>
                          </a:lnTo>
                          <a:lnTo>
                            <a:pt x="62" y="198"/>
                          </a:lnTo>
                          <a:lnTo>
                            <a:pt x="69" y="201"/>
                          </a:lnTo>
                          <a:lnTo>
                            <a:pt x="75" y="205"/>
                          </a:lnTo>
                          <a:lnTo>
                            <a:pt x="83" y="211"/>
                          </a:lnTo>
                          <a:lnTo>
                            <a:pt x="87" y="215"/>
                          </a:lnTo>
                          <a:lnTo>
                            <a:pt x="93" y="219"/>
                          </a:lnTo>
                          <a:lnTo>
                            <a:pt x="100" y="223"/>
                          </a:lnTo>
                          <a:lnTo>
                            <a:pt x="108" y="226"/>
                          </a:lnTo>
                          <a:lnTo>
                            <a:pt x="105" y="231"/>
                          </a:lnTo>
                          <a:lnTo>
                            <a:pt x="106" y="236"/>
                          </a:lnTo>
                          <a:lnTo>
                            <a:pt x="108" y="240"/>
                          </a:lnTo>
                          <a:lnTo>
                            <a:pt x="113" y="245"/>
                          </a:lnTo>
                          <a:lnTo>
                            <a:pt x="117" y="247"/>
                          </a:lnTo>
                          <a:lnTo>
                            <a:pt x="123" y="249"/>
                          </a:lnTo>
                          <a:lnTo>
                            <a:pt x="127" y="249"/>
                          </a:lnTo>
                          <a:lnTo>
                            <a:pt x="133" y="248"/>
                          </a:lnTo>
                          <a:lnTo>
                            <a:pt x="132" y="252"/>
                          </a:lnTo>
                          <a:lnTo>
                            <a:pt x="133" y="257"/>
                          </a:lnTo>
                          <a:lnTo>
                            <a:pt x="135" y="262"/>
                          </a:lnTo>
                          <a:lnTo>
                            <a:pt x="138" y="268"/>
                          </a:lnTo>
                          <a:lnTo>
                            <a:pt x="138" y="273"/>
                          </a:lnTo>
                          <a:lnTo>
                            <a:pt x="138" y="277"/>
                          </a:lnTo>
                          <a:lnTo>
                            <a:pt x="134" y="281"/>
                          </a:lnTo>
                          <a:lnTo>
                            <a:pt x="128" y="285"/>
                          </a:lnTo>
                          <a:lnTo>
                            <a:pt x="125" y="289"/>
                          </a:lnTo>
                          <a:lnTo>
                            <a:pt x="124" y="296"/>
                          </a:lnTo>
                          <a:lnTo>
                            <a:pt x="124" y="303"/>
                          </a:lnTo>
                          <a:lnTo>
                            <a:pt x="124" y="308"/>
                          </a:lnTo>
                          <a:lnTo>
                            <a:pt x="128" y="303"/>
                          </a:lnTo>
                          <a:lnTo>
                            <a:pt x="137" y="304"/>
                          </a:lnTo>
                          <a:lnTo>
                            <a:pt x="140" y="304"/>
                          </a:lnTo>
                          <a:lnTo>
                            <a:pt x="143" y="304"/>
                          </a:lnTo>
                          <a:lnTo>
                            <a:pt x="145" y="302"/>
                          </a:lnTo>
                          <a:lnTo>
                            <a:pt x="147" y="298"/>
                          </a:lnTo>
                          <a:lnTo>
                            <a:pt x="143" y="297"/>
                          </a:lnTo>
                          <a:lnTo>
                            <a:pt x="138" y="297"/>
                          </a:lnTo>
                          <a:lnTo>
                            <a:pt x="132" y="297"/>
                          </a:lnTo>
                          <a:lnTo>
                            <a:pt x="129" y="297"/>
                          </a:lnTo>
                          <a:lnTo>
                            <a:pt x="129" y="290"/>
                          </a:lnTo>
                          <a:lnTo>
                            <a:pt x="133" y="285"/>
                          </a:lnTo>
                          <a:lnTo>
                            <a:pt x="138" y="281"/>
                          </a:lnTo>
                          <a:lnTo>
                            <a:pt x="143" y="281"/>
                          </a:lnTo>
                          <a:lnTo>
                            <a:pt x="149" y="282"/>
                          </a:lnTo>
                          <a:lnTo>
                            <a:pt x="155" y="285"/>
                          </a:lnTo>
                          <a:lnTo>
                            <a:pt x="160" y="289"/>
                          </a:lnTo>
                          <a:lnTo>
                            <a:pt x="164" y="295"/>
                          </a:lnTo>
                          <a:lnTo>
                            <a:pt x="168" y="293"/>
                          </a:lnTo>
                          <a:lnTo>
                            <a:pt x="171" y="291"/>
                          </a:lnTo>
                          <a:lnTo>
                            <a:pt x="171" y="288"/>
                          </a:lnTo>
                          <a:lnTo>
                            <a:pt x="170" y="286"/>
                          </a:lnTo>
                          <a:lnTo>
                            <a:pt x="164" y="281"/>
                          </a:lnTo>
                          <a:lnTo>
                            <a:pt x="160" y="282"/>
                          </a:lnTo>
                          <a:lnTo>
                            <a:pt x="157" y="276"/>
                          </a:lnTo>
                          <a:lnTo>
                            <a:pt x="158" y="273"/>
                          </a:lnTo>
                          <a:lnTo>
                            <a:pt x="161" y="270"/>
                          </a:lnTo>
                          <a:lnTo>
                            <a:pt x="164" y="269"/>
                          </a:lnTo>
                          <a:lnTo>
                            <a:pt x="168" y="267"/>
                          </a:lnTo>
                          <a:lnTo>
                            <a:pt x="171" y="265"/>
                          </a:lnTo>
                          <a:lnTo>
                            <a:pt x="173" y="262"/>
                          </a:lnTo>
                          <a:lnTo>
                            <a:pt x="173" y="258"/>
                          </a:lnTo>
                          <a:lnTo>
                            <a:pt x="170" y="258"/>
                          </a:lnTo>
                          <a:lnTo>
                            <a:pt x="166" y="260"/>
                          </a:lnTo>
                          <a:lnTo>
                            <a:pt x="162" y="262"/>
                          </a:lnTo>
                          <a:lnTo>
                            <a:pt x="158" y="263"/>
                          </a:lnTo>
                          <a:lnTo>
                            <a:pt x="158" y="258"/>
                          </a:lnTo>
                          <a:lnTo>
                            <a:pt x="161" y="255"/>
                          </a:lnTo>
                          <a:lnTo>
                            <a:pt x="163" y="251"/>
                          </a:lnTo>
                          <a:lnTo>
                            <a:pt x="166" y="249"/>
                          </a:lnTo>
                          <a:lnTo>
                            <a:pt x="158" y="244"/>
                          </a:lnTo>
                          <a:lnTo>
                            <a:pt x="152" y="237"/>
                          </a:lnTo>
                          <a:lnTo>
                            <a:pt x="145" y="229"/>
                          </a:lnTo>
                          <a:lnTo>
                            <a:pt x="139" y="223"/>
                          </a:lnTo>
                          <a:lnTo>
                            <a:pt x="141" y="218"/>
                          </a:lnTo>
                          <a:lnTo>
                            <a:pt x="145" y="216"/>
                          </a:lnTo>
                          <a:lnTo>
                            <a:pt x="150" y="215"/>
                          </a:lnTo>
                          <a:lnTo>
                            <a:pt x="155" y="216"/>
                          </a:lnTo>
                          <a:lnTo>
                            <a:pt x="159" y="217"/>
                          </a:lnTo>
                          <a:lnTo>
                            <a:pt x="162" y="220"/>
                          </a:lnTo>
                          <a:lnTo>
                            <a:pt x="163" y="224"/>
                          </a:lnTo>
                          <a:lnTo>
                            <a:pt x="163" y="231"/>
                          </a:lnTo>
                          <a:lnTo>
                            <a:pt x="166" y="230"/>
                          </a:lnTo>
                          <a:lnTo>
                            <a:pt x="171" y="229"/>
                          </a:lnTo>
                          <a:lnTo>
                            <a:pt x="176" y="228"/>
                          </a:lnTo>
                          <a:lnTo>
                            <a:pt x="180" y="228"/>
                          </a:lnTo>
                          <a:lnTo>
                            <a:pt x="173" y="219"/>
                          </a:lnTo>
                          <a:lnTo>
                            <a:pt x="174" y="210"/>
                          </a:lnTo>
                          <a:lnTo>
                            <a:pt x="178" y="200"/>
                          </a:lnTo>
                          <a:lnTo>
                            <a:pt x="185" y="194"/>
                          </a:lnTo>
                          <a:lnTo>
                            <a:pt x="189" y="190"/>
                          </a:lnTo>
                          <a:lnTo>
                            <a:pt x="194" y="187"/>
                          </a:lnTo>
                          <a:lnTo>
                            <a:pt x="191" y="193"/>
                          </a:lnTo>
                          <a:lnTo>
                            <a:pt x="191" y="200"/>
                          </a:lnTo>
                          <a:lnTo>
                            <a:pt x="191" y="208"/>
                          </a:lnTo>
                          <a:lnTo>
                            <a:pt x="192" y="216"/>
                          </a:lnTo>
                          <a:lnTo>
                            <a:pt x="192" y="222"/>
                          </a:lnTo>
                          <a:lnTo>
                            <a:pt x="192" y="229"/>
                          </a:lnTo>
                          <a:lnTo>
                            <a:pt x="189" y="236"/>
                          </a:lnTo>
                          <a:lnTo>
                            <a:pt x="186" y="242"/>
                          </a:lnTo>
                          <a:lnTo>
                            <a:pt x="185" y="245"/>
                          </a:lnTo>
                          <a:lnTo>
                            <a:pt x="187" y="250"/>
                          </a:lnTo>
                          <a:lnTo>
                            <a:pt x="189" y="255"/>
                          </a:lnTo>
                          <a:lnTo>
                            <a:pt x="192" y="258"/>
                          </a:lnTo>
                          <a:lnTo>
                            <a:pt x="189" y="249"/>
                          </a:lnTo>
                          <a:lnTo>
                            <a:pt x="195" y="244"/>
                          </a:lnTo>
                          <a:lnTo>
                            <a:pt x="198" y="243"/>
                          </a:lnTo>
                          <a:lnTo>
                            <a:pt x="201" y="245"/>
                          </a:lnTo>
                          <a:lnTo>
                            <a:pt x="204" y="247"/>
                          </a:lnTo>
                          <a:lnTo>
                            <a:pt x="203" y="244"/>
                          </a:lnTo>
                          <a:lnTo>
                            <a:pt x="202" y="239"/>
                          </a:lnTo>
                          <a:lnTo>
                            <a:pt x="204" y="235"/>
                          </a:lnTo>
                          <a:lnTo>
                            <a:pt x="204" y="230"/>
                          </a:lnTo>
                          <a:lnTo>
                            <a:pt x="207" y="229"/>
                          </a:lnTo>
                          <a:lnTo>
                            <a:pt x="209" y="230"/>
                          </a:lnTo>
                          <a:lnTo>
                            <a:pt x="214" y="237"/>
                          </a:lnTo>
                          <a:lnTo>
                            <a:pt x="215" y="231"/>
                          </a:lnTo>
                          <a:lnTo>
                            <a:pt x="216" y="225"/>
                          </a:lnTo>
                          <a:lnTo>
                            <a:pt x="215" y="219"/>
                          </a:lnTo>
                          <a:lnTo>
                            <a:pt x="214" y="215"/>
                          </a:lnTo>
                          <a:lnTo>
                            <a:pt x="211" y="209"/>
                          </a:lnTo>
                          <a:lnTo>
                            <a:pt x="210" y="204"/>
                          </a:lnTo>
                          <a:lnTo>
                            <a:pt x="209" y="199"/>
                          </a:lnTo>
                          <a:lnTo>
                            <a:pt x="211" y="194"/>
                          </a:lnTo>
                          <a:lnTo>
                            <a:pt x="206" y="189"/>
                          </a:lnTo>
                          <a:lnTo>
                            <a:pt x="201" y="184"/>
                          </a:lnTo>
                          <a:lnTo>
                            <a:pt x="196" y="180"/>
                          </a:lnTo>
                          <a:lnTo>
                            <a:pt x="194" y="177"/>
                          </a:lnTo>
                          <a:lnTo>
                            <a:pt x="198" y="173"/>
                          </a:lnTo>
                          <a:lnTo>
                            <a:pt x="204" y="169"/>
                          </a:lnTo>
                          <a:lnTo>
                            <a:pt x="209" y="171"/>
                          </a:lnTo>
                          <a:lnTo>
                            <a:pt x="214" y="176"/>
                          </a:lnTo>
                          <a:lnTo>
                            <a:pt x="217" y="181"/>
                          </a:lnTo>
                          <a:lnTo>
                            <a:pt x="220" y="187"/>
                          </a:lnTo>
                          <a:lnTo>
                            <a:pt x="222" y="193"/>
                          </a:lnTo>
                          <a:lnTo>
                            <a:pt x="225" y="199"/>
                          </a:lnTo>
                          <a:lnTo>
                            <a:pt x="227" y="206"/>
                          </a:lnTo>
                          <a:lnTo>
                            <a:pt x="231" y="213"/>
                          </a:lnTo>
                          <a:lnTo>
                            <a:pt x="233" y="208"/>
                          </a:lnTo>
                          <a:lnTo>
                            <a:pt x="238" y="203"/>
                          </a:lnTo>
                          <a:lnTo>
                            <a:pt x="242" y="198"/>
                          </a:lnTo>
                          <a:lnTo>
                            <a:pt x="246" y="195"/>
                          </a:lnTo>
                          <a:lnTo>
                            <a:pt x="247" y="197"/>
                          </a:lnTo>
                          <a:lnTo>
                            <a:pt x="250" y="201"/>
                          </a:lnTo>
                          <a:lnTo>
                            <a:pt x="253" y="205"/>
                          </a:lnTo>
                          <a:lnTo>
                            <a:pt x="256" y="208"/>
                          </a:lnTo>
                          <a:lnTo>
                            <a:pt x="256" y="203"/>
                          </a:lnTo>
                          <a:lnTo>
                            <a:pt x="257" y="197"/>
                          </a:lnTo>
                          <a:lnTo>
                            <a:pt x="257" y="189"/>
                          </a:lnTo>
                          <a:lnTo>
                            <a:pt x="258" y="184"/>
                          </a:lnTo>
                          <a:lnTo>
                            <a:pt x="254" y="183"/>
                          </a:lnTo>
                          <a:lnTo>
                            <a:pt x="249" y="183"/>
                          </a:lnTo>
                          <a:lnTo>
                            <a:pt x="243" y="183"/>
                          </a:lnTo>
                          <a:lnTo>
                            <a:pt x="239" y="184"/>
                          </a:lnTo>
                          <a:lnTo>
                            <a:pt x="235" y="180"/>
                          </a:lnTo>
                          <a:lnTo>
                            <a:pt x="231" y="176"/>
                          </a:lnTo>
                          <a:lnTo>
                            <a:pt x="238" y="171"/>
                          </a:lnTo>
                          <a:lnTo>
                            <a:pt x="245" y="166"/>
                          </a:lnTo>
                          <a:lnTo>
                            <a:pt x="252" y="160"/>
                          </a:lnTo>
                          <a:lnTo>
                            <a:pt x="259" y="156"/>
                          </a:lnTo>
                          <a:lnTo>
                            <a:pt x="258" y="158"/>
                          </a:lnTo>
                          <a:lnTo>
                            <a:pt x="257" y="162"/>
                          </a:lnTo>
                          <a:lnTo>
                            <a:pt x="255" y="166"/>
                          </a:lnTo>
                          <a:lnTo>
                            <a:pt x="253" y="169"/>
                          </a:lnTo>
                          <a:lnTo>
                            <a:pt x="257" y="167"/>
                          </a:lnTo>
                          <a:lnTo>
                            <a:pt x="261" y="168"/>
                          </a:lnTo>
                          <a:lnTo>
                            <a:pt x="264" y="171"/>
                          </a:lnTo>
                          <a:lnTo>
                            <a:pt x="267" y="176"/>
                          </a:lnTo>
                          <a:lnTo>
                            <a:pt x="270" y="179"/>
                          </a:lnTo>
                          <a:lnTo>
                            <a:pt x="273" y="181"/>
                          </a:lnTo>
                          <a:lnTo>
                            <a:pt x="276" y="181"/>
                          </a:lnTo>
                          <a:lnTo>
                            <a:pt x="283" y="180"/>
                          </a:lnTo>
                          <a:lnTo>
                            <a:pt x="286" y="179"/>
                          </a:lnTo>
                          <a:lnTo>
                            <a:pt x="292" y="179"/>
                          </a:lnTo>
                          <a:lnTo>
                            <a:pt x="297" y="179"/>
                          </a:lnTo>
                          <a:lnTo>
                            <a:pt x="302" y="180"/>
                          </a:lnTo>
                          <a:lnTo>
                            <a:pt x="299" y="172"/>
                          </a:lnTo>
                          <a:lnTo>
                            <a:pt x="300" y="166"/>
                          </a:lnTo>
                          <a:lnTo>
                            <a:pt x="302" y="161"/>
                          </a:lnTo>
                          <a:lnTo>
                            <a:pt x="305" y="158"/>
                          </a:lnTo>
                          <a:lnTo>
                            <a:pt x="312" y="150"/>
                          </a:lnTo>
                          <a:lnTo>
                            <a:pt x="310" y="145"/>
                          </a:lnTo>
                          <a:lnTo>
                            <a:pt x="306" y="145"/>
                          </a:lnTo>
                          <a:lnTo>
                            <a:pt x="303" y="142"/>
                          </a:lnTo>
                          <a:lnTo>
                            <a:pt x="302" y="137"/>
                          </a:lnTo>
                          <a:lnTo>
                            <a:pt x="301" y="131"/>
                          </a:lnTo>
                          <a:lnTo>
                            <a:pt x="303" y="128"/>
                          </a:lnTo>
                          <a:lnTo>
                            <a:pt x="307" y="126"/>
                          </a:lnTo>
                          <a:lnTo>
                            <a:pt x="314" y="129"/>
                          </a:lnTo>
                          <a:lnTo>
                            <a:pt x="314" y="137"/>
                          </a:lnTo>
                          <a:lnTo>
                            <a:pt x="321" y="139"/>
                          </a:lnTo>
                          <a:lnTo>
                            <a:pt x="327" y="134"/>
                          </a:lnTo>
                          <a:lnTo>
                            <a:pt x="330" y="127"/>
                          </a:lnTo>
                          <a:lnTo>
                            <a:pt x="333" y="122"/>
                          </a:lnTo>
                          <a:lnTo>
                            <a:pt x="333" y="114"/>
                          </a:lnTo>
                          <a:lnTo>
                            <a:pt x="334" y="107"/>
                          </a:lnTo>
                          <a:lnTo>
                            <a:pt x="336" y="100"/>
                          </a:lnTo>
                          <a:lnTo>
                            <a:pt x="339" y="94"/>
                          </a:lnTo>
                          <a:lnTo>
                            <a:pt x="344" y="88"/>
                          </a:lnTo>
                          <a:lnTo>
                            <a:pt x="348" y="87"/>
                          </a:lnTo>
                          <a:lnTo>
                            <a:pt x="350" y="88"/>
                          </a:lnTo>
                          <a:lnTo>
                            <a:pt x="352" y="93"/>
                          </a:lnTo>
                          <a:lnTo>
                            <a:pt x="352" y="98"/>
                          </a:lnTo>
                          <a:lnTo>
                            <a:pt x="352" y="104"/>
                          </a:lnTo>
                          <a:lnTo>
                            <a:pt x="352" y="108"/>
                          </a:lnTo>
                          <a:lnTo>
                            <a:pt x="352" y="114"/>
                          </a:lnTo>
                          <a:lnTo>
                            <a:pt x="357" y="114"/>
                          </a:lnTo>
                          <a:lnTo>
                            <a:pt x="362" y="114"/>
                          </a:lnTo>
                          <a:lnTo>
                            <a:pt x="360" y="107"/>
                          </a:lnTo>
                          <a:lnTo>
                            <a:pt x="362" y="103"/>
                          </a:lnTo>
                          <a:lnTo>
                            <a:pt x="366" y="99"/>
                          </a:lnTo>
                          <a:lnTo>
                            <a:pt x="372" y="96"/>
                          </a:lnTo>
                          <a:lnTo>
                            <a:pt x="378" y="93"/>
                          </a:lnTo>
                          <a:lnTo>
                            <a:pt x="384" y="90"/>
                          </a:lnTo>
                          <a:lnTo>
                            <a:pt x="389" y="87"/>
                          </a:lnTo>
                          <a:lnTo>
                            <a:pt x="394" y="85"/>
                          </a:lnTo>
                          <a:lnTo>
                            <a:pt x="402" y="83"/>
                          </a:lnTo>
                          <a:lnTo>
                            <a:pt x="410" y="80"/>
                          </a:lnTo>
                          <a:lnTo>
                            <a:pt x="418" y="74"/>
                          </a:lnTo>
                          <a:lnTo>
                            <a:pt x="426" y="69"/>
                          </a:lnTo>
                          <a:lnTo>
                            <a:pt x="419" y="64"/>
                          </a:lnTo>
                          <a:lnTo>
                            <a:pt x="418" y="60"/>
                          </a:lnTo>
                          <a:lnTo>
                            <a:pt x="421" y="57"/>
                          </a:lnTo>
                          <a:lnTo>
                            <a:pt x="427" y="54"/>
                          </a:lnTo>
                          <a:lnTo>
                            <a:pt x="432" y="50"/>
                          </a:lnTo>
                          <a:lnTo>
                            <a:pt x="439" y="47"/>
                          </a:lnTo>
                          <a:lnTo>
                            <a:pt x="445" y="45"/>
                          </a:lnTo>
                          <a:lnTo>
                            <a:pt x="448" y="42"/>
                          </a:lnTo>
                          <a:lnTo>
                            <a:pt x="449" y="44"/>
                          </a:lnTo>
                          <a:lnTo>
                            <a:pt x="452" y="48"/>
                          </a:lnTo>
                          <a:lnTo>
                            <a:pt x="454" y="52"/>
                          </a:lnTo>
                          <a:lnTo>
                            <a:pt x="457" y="55"/>
                          </a:lnTo>
                          <a:lnTo>
                            <a:pt x="459" y="53"/>
                          </a:lnTo>
                          <a:lnTo>
                            <a:pt x="462" y="51"/>
                          </a:lnTo>
                          <a:lnTo>
                            <a:pt x="455" y="47"/>
                          </a:lnTo>
                          <a:lnTo>
                            <a:pt x="453" y="44"/>
                          </a:lnTo>
                          <a:lnTo>
                            <a:pt x="454" y="39"/>
                          </a:lnTo>
                          <a:lnTo>
                            <a:pt x="457" y="34"/>
                          </a:lnTo>
                          <a:lnTo>
                            <a:pt x="463" y="24"/>
                          </a:lnTo>
                          <a:lnTo>
                            <a:pt x="464" y="15"/>
                          </a:lnTo>
                          <a:lnTo>
                            <a:pt x="465" y="11"/>
                          </a:lnTo>
                          <a:lnTo>
                            <a:pt x="466" y="8"/>
                          </a:lnTo>
                          <a:lnTo>
                            <a:pt x="468" y="4"/>
                          </a:lnTo>
                          <a:lnTo>
                            <a:pt x="470" y="3"/>
                          </a:lnTo>
                          <a:lnTo>
                            <a:pt x="470" y="3"/>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2" name=""/>
                    <p:cNvSpPr/>
                    <p:nvPr/>
                  </p:nvSpPr>
                  <p:spPr>
                    <a:xfrm rot="4410000">
                      <a:off x="1834560" y="4214880"/>
                      <a:ext cx="21600" cy="18720"/>
                    </a:xfrm>
                    <a:custGeom>
                      <a:avLst/>
                      <a:gdLst/>
                      <a:ahLst/>
                      <a:rect l="l" t="t" r="r" b="b"/>
                      <a:pathLst>
                        <a:path w="27" h="21">
                          <a:moveTo>
                            <a:pt x="27" y="1"/>
                          </a:moveTo>
                          <a:lnTo>
                            <a:pt x="19" y="2"/>
                          </a:lnTo>
                          <a:lnTo>
                            <a:pt x="12" y="3"/>
                          </a:lnTo>
                          <a:lnTo>
                            <a:pt x="6" y="1"/>
                          </a:lnTo>
                          <a:lnTo>
                            <a:pt x="0" y="0"/>
                          </a:lnTo>
                          <a:lnTo>
                            <a:pt x="2" y="3"/>
                          </a:lnTo>
                          <a:lnTo>
                            <a:pt x="5" y="10"/>
                          </a:lnTo>
                          <a:lnTo>
                            <a:pt x="6" y="16"/>
                          </a:lnTo>
                          <a:lnTo>
                            <a:pt x="8" y="21"/>
                          </a:lnTo>
                          <a:lnTo>
                            <a:pt x="15" y="20"/>
                          </a:lnTo>
                          <a:lnTo>
                            <a:pt x="20" y="16"/>
                          </a:lnTo>
                          <a:lnTo>
                            <a:pt x="23" y="8"/>
                          </a:lnTo>
                          <a:lnTo>
                            <a:pt x="27" y="1"/>
                          </a:lnTo>
                          <a:lnTo>
                            <a:pt x="27" y="1"/>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613" name=""/>
                    <p:cNvSpPr/>
                    <p:nvPr/>
                  </p:nvSpPr>
                  <p:spPr>
                    <a:xfrm rot="4410000">
                      <a:off x="1978920" y="4313160"/>
                      <a:ext cx="9360" cy="10800"/>
                    </a:xfrm>
                    <a:custGeom>
                      <a:avLst/>
                      <a:gdLst/>
                      <a:ahLst/>
                      <a:rect l="l" t="t" r="r" b="b"/>
                      <a:pathLst>
                        <a:path w="12" h="12">
                          <a:moveTo>
                            <a:pt x="3" y="0"/>
                          </a:moveTo>
                          <a:lnTo>
                            <a:pt x="8" y="3"/>
                          </a:lnTo>
                          <a:lnTo>
                            <a:pt x="12" y="10"/>
                          </a:lnTo>
                          <a:lnTo>
                            <a:pt x="12" y="11"/>
                          </a:lnTo>
                          <a:lnTo>
                            <a:pt x="11" y="12"/>
                          </a:lnTo>
                          <a:lnTo>
                            <a:pt x="7" y="11"/>
                          </a:lnTo>
                          <a:lnTo>
                            <a:pt x="0" y="8"/>
                          </a:lnTo>
                          <a:lnTo>
                            <a:pt x="1" y="2"/>
                          </a:lnTo>
                          <a:lnTo>
                            <a:pt x="3" y="0"/>
                          </a:lnTo>
                          <a:lnTo>
                            <a:pt x="3"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14" name=""/>
                    <p:cNvSpPr/>
                    <p:nvPr/>
                  </p:nvSpPr>
                  <p:spPr>
                    <a:xfrm rot="4410000">
                      <a:off x="1949400" y="4336200"/>
                      <a:ext cx="20160" cy="47520"/>
                    </a:xfrm>
                    <a:custGeom>
                      <a:avLst/>
                      <a:gdLst/>
                      <a:ahLst/>
                      <a:rect l="l" t="t" r="r" b="b"/>
                      <a:pathLst>
                        <a:path w="25" h="53">
                          <a:moveTo>
                            <a:pt x="13" y="0"/>
                          </a:moveTo>
                          <a:lnTo>
                            <a:pt x="18" y="3"/>
                          </a:lnTo>
                          <a:lnTo>
                            <a:pt x="23" y="10"/>
                          </a:lnTo>
                          <a:lnTo>
                            <a:pt x="24" y="16"/>
                          </a:lnTo>
                          <a:lnTo>
                            <a:pt x="25" y="25"/>
                          </a:lnTo>
                          <a:lnTo>
                            <a:pt x="22" y="33"/>
                          </a:lnTo>
                          <a:lnTo>
                            <a:pt x="20" y="40"/>
                          </a:lnTo>
                          <a:lnTo>
                            <a:pt x="15" y="47"/>
                          </a:lnTo>
                          <a:lnTo>
                            <a:pt x="12" y="53"/>
                          </a:lnTo>
                          <a:lnTo>
                            <a:pt x="9" y="50"/>
                          </a:lnTo>
                          <a:lnTo>
                            <a:pt x="5" y="48"/>
                          </a:lnTo>
                          <a:lnTo>
                            <a:pt x="1" y="45"/>
                          </a:lnTo>
                          <a:lnTo>
                            <a:pt x="0" y="44"/>
                          </a:lnTo>
                          <a:lnTo>
                            <a:pt x="6" y="41"/>
                          </a:lnTo>
                          <a:lnTo>
                            <a:pt x="9" y="37"/>
                          </a:lnTo>
                          <a:lnTo>
                            <a:pt x="9" y="31"/>
                          </a:lnTo>
                          <a:lnTo>
                            <a:pt x="9" y="25"/>
                          </a:lnTo>
                          <a:lnTo>
                            <a:pt x="7" y="17"/>
                          </a:lnTo>
                          <a:lnTo>
                            <a:pt x="8" y="11"/>
                          </a:lnTo>
                          <a:lnTo>
                            <a:pt x="9" y="4"/>
                          </a:lnTo>
                          <a:lnTo>
                            <a:pt x="13" y="0"/>
                          </a:lnTo>
                          <a:lnTo>
                            <a:pt x="13"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15" name=""/>
                    <p:cNvSpPr/>
                    <p:nvPr/>
                  </p:nvSpPr>
                  <p:spPr>
                    <a:xfrm rot="4410000">
                      <a:off x="1927080" y="4291560"/>
                      <a:ext cx="29520" cy="27720"/>
                    </a:xfrm>
                    <a:custGeom>
                      <a:avLst/>
                      <a:gdLst/>
                      <a:ahLst/>
                      <a:rect l="l" t="t" r="r" b="b"/>
                      <a:pathLst>
                        <a:path w="37" h="31">
                          <a:moveTo>
                            <a:pt x="18" y="0"/>
                          </a:moveTo>
                          <a:lnTo>
                            <a:pt x="18" y="1"/>
                          </a:lnTo>
                          <a:lnTo>
                            <a:pt x="19" y="5"/>
                          </a:lnTo>
                          <a:lnTo>
                            <a:pt x="19" y="10"/>
                          </a:lnTo>
                          <a:lnTo>
                            <a:pt x="21" y="15"/>
                          </a:lnTo>
                          <a:lnTo>
                            <a:pt x="23" y="12"/>
                          </a:lnTo>
                          <a:lnTo>
                            <a:pt x="28" y="8"/>
                          </a:lnTo>
                          <a:lnTo>
                            <a:pt x="32" y="4"/>
                          </a:lnTo>
                          <a:lnTo>
                            <a:pt x="34" y="3"/>
                          </a:lnTo>
                          <a:lnTo>
                            <a:pt x="35" y="9"/>
                          </a:lnTo>
                          <a:lnTo>
                            <a:pt x="37" y="16"/>
                          </a:lnTo>
                          <a:lnTo>
                            <a:pt x="35" y="22"/>
                          </a:lnTo>
                          <a:lnTo>
                            <a:pt x="33" y="26"/>
                          </a:lnTo>
                          <a:lnTo>
                            <a:pt x="27" y="29"/>
                          </a:lnTo>
                          <a:lnTo>
                            <a:pt x="22" y="31"/>
                          </a:lnTo>
                          <a:lnTo>
                            <a:pt x="15" y="30"/>
                          </a:lnTo>
                          <a:lnTo>
                            <a:pt x="9" y="29"/>
                          </a:lnTo>
                          <a:lnTo>
                            <a:pt x="3" y="25"/>
                          </a:lnTo>
                          <a:lnTo>
                            <a:pt x="0" y="22"/>
                          </a:lnTo>
                          <a:lnTo>
                            <a:pt x="4" y="22"/>
                          </a:lnTo>
                          <a:lnTo>
                            <a:pt x="8" y="21"/>
                          </a:lnTo>
                          <a:lnTo>
                            <a:pt x="9" y="17"/>
                          </a:lnTo>
                          <a:lnTo>
                            <a:pt x="10" y="13"/>
                          </a:lnTo>
                          <a:lnTo>
                            <a:pt x="10" y="8"/>
                          </a:lnTo>
                          <a:lnTo>
                            <a:pt x="11" y="3"/>
                          </a:lnTo>
                          <a:lnTo>
                            <a:pt x="13" y="1"/>
                          </a:lnTo>
                          <a:lnTo>
                            <a:pt x="18" y="0"/>
                          </a:lnTo>
                          <a:lnTo>
                            <a:pt x="18"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616" name=""/>
                    <p:cNvSpPr/>
                    <p:nvPr/>
                  </p:nvSpPr>
                  <p:spPr>
                    <a:xfrm rot="4410000">
                      <a:off x="1924200" y="4263480"/>
                      <a:ext cx="6840" cy="15840"/>
                    </a:xfrm>
                    <a:custGeom>
                      <a:avLst/>
                      <a:gdLst/>
                      <a:ahLst/>
                      <a:rect l="l" t="t" r="r" b="b"/>
                      <a:pathLst>
                        <a:path w="9" h="18">
                          <a:moveTo>
                            <a:pt x="5" y="0"/>
                          </a:moveTo>
                          <a:lnTo>
                            <a:pt x="8" y="6"/>
                          </a:lnTo>
                          <a:lnTo>
                            <a:pt x="9" y="11"/>
                          </a:lnTo>
                          <a:lnTo>
                            <a:pt x="7" y="15"/>
                          </a:lnTo>
                          <a:lnTo>
                            <a:pt x="5" y="18"/>
                          </a:lnTo>
                          <a:lnTo>
                            <a:pt x="2" y="18"/>
                          </a:lnTo>
                          <a:lnTo>
                            <a:pt x="0" y="16"/>
                          </a:lnTo>
                          <a:lnTo>
                            <a:pt x="0" y="12"/>
                          </a:lnTo>
                          <a:lnTo>
                            <a:pt x="4" y="7"/>
                          </a:lnTo>
                          <a:lnTo>
                            <a:pt x="4" y="3"/>
                          </a:lnTo>
                          <a:lnTo>
                            <a:pt x="5" y="0"/>
                          </a:lnTo>
                          <a:lnTo>
                            <a:pt x="5"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617" name=""/>
                    <p:cNvSpPr/>
                    <p:nvPr/>
                  </p:nvSpPr>
                  <p:spPr>
                    <a:xfrm rot="4410000">
                      <a:off x="1913760" y="4231800"/>
                      <a:ext cx="6480" cy="13320"/>
                    </a:xfrm>
                    <a:custGeom>
                      <a:avLst/>
                      <a:gdLst/>
                      <a:ahLst/>
                      <a:rect l="l" t="t" r="r" b="b"/>
                      <a:pathLst>
                        <a:path w="8" h="15">
                          <a:moveTo>
                            <a:pt x="3" y="0"/>
                          </a:moveTo>
                          <a:lnTo>
                            <a:pt x="6" y="0"/>
                          </a:lnTo>
                          <a:lnTo>
                            <a:pt x="8" y="3"/>
                          </a:lnTo>
                          <a:lnTo>
                            <a:pt x="7" y="8"/>
                          </a:lnTo>
                          <a:lnTo>
                            <a:pt x="7" y="12"/>
                          </a:lnTo>
                          <a:lnTo>
                            <a:pt x="5" y="14"/>
                          </a:lnTo>
                          <a:lnTo>
                            <a:pt x="3" y="15"/>
                          </a:lnTo>
                          <a:lnTo>
                            <a:pt x="0" y="12"/>
                          </a:lnTo>
                          <a:lnTo>
                            <a:pt x="0" y="6"/>
                          </a:lnTo>
                          <a:lnTo>
                            <a:pt x="1" y="2"/>
                          </a:lnTo>
                          <a:lnTo>
                            <a:pt x="3" y="0"/>
                          </a:lnTo>
                          <a:lnTo>
                            <a:pt x="3" y="0"/>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618" name=""/>
                    <p:cNvSpPr/>
                    <p:nvPr/>
                  </p:nvSpPr>
                  <p:spPr>
                    <a:xfrm rot="4410000">
                      <a:off x="1897920" y="4214160"/>
                      <a:ext cx="4680" cy="14040"/>
                    </a:xfrm>
                    <a:custGeom>
                      <a:avLst/>
                      <a:gdLst/>
                      <a:ahLst/>
                      <a:rect l="l" t="t" r="r" b="b"/>
                      <a:pathLst>
                        <a:path w="6" h="16">
                          <a:moveTo>
                            <a:pt x="1" y="0"/>
                          </a:moveTo>
                          <a:lnTo>
                            <a:pt x="4" y="0"/>
                          </a:lnTo>
                          <a:lnTo>
                            <a:pt x="6" y="3"/>
                          </a:lnTo>
                          <a:lnTo>
                            <a:pt x="5" y="7"/>
                          </a:lnTo>
                          <a:lnTo>
                            <a:pt x="5" y="12"/>
                          </a:lnTo>
                          <a:lnTo>
                            <a:pt x="3" y="15"/>
                          </a:lnTo>
                          <a:lnTo>
                            <a:pt x="1" y="16"/>
                          </a:lnTo>
                          <a:lnTo>
                            <a:pt x="0" y="13"/>
                          </a:lnTo>
                          <a:lnTo>
                            <a:pt x="0" y="6"/>
                          </a:lnTo>
                          <a:lnTo>
                            <a:pt x="0" y="2"/>
                          </a:lnTo>
                          <a:lnTo>
                            <a:pt x="1" y="0"/>
                          </a:lnTo>
                          <a:lnTo>
                            <a:pt x="1" y="0"/>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619" name=""/>
                    <p:cNvSpPr/>
                    <p:nvPr/>
                  </p:nvSpPr>
                  <p:spPr>
                    <a:xfrm rot="4410000">
                      <a:off x="1893960" y="4363200"/>
                      <a:ext cx="28800" cy="34920"/>
                    </a:xfrm>
                    <a:custGeom>
                      <a:avLst/>
                      <a:gdLst/>
                      <a:ahLst/>
                      <a:rect l="l" t="t" r="r" b="b"/>
                      <a:pathLst>
                        <a:path w="36" h="39">
                          <a:moveTo>
                            <a:pt x="0" y="0"/>
                          </a:moveTo>
                          <a:lnTo>
                            <a:pt x="4" y="5"/>
                          </a:lnTo>
                          <a:lnTo>
                            <a:pt x="9" y="9"/>
                          </a:lnTo>
                          <a:lnTo>
                            <a:pt x="14" y="13"/>
                          </a:lnTo>
                          <a:lnTo>
                            <a:pt x="21" y="18"/>
                          </a:lnTo>
                          <a:lnTo>
                            <a:pt x="25" y="22"/>
                          </a:lnTo>
                          <a:lnTo>
                            <a:pt x="30" y="26"/>
                          </a:lnTo>
                          <a:lnTo>
                            <a:pt x="33" y="32"/>
                          </a:lnTo>
                          <a:lnTo>
                            <a:pt x="36" y="39"/>
                          </a:lnTo>
                          <a:lnTo>
                            <a:pt x="31" y="33"/>
                          </a:lnTo>
                          <a:lnTo>
                            <a:pt x="25" y="29"/>
                          </a:lnTo>
                          <a:lnTo>
                            <a:pt x="18" y="25"/>
                          </a:lnTo>
                          <a:lnTo>
                            <a:pt x="13" y="22"/>
                          </a:lnTo>
                          <a:lnTo>
                            <a:pt x="7" y="17"/>
                          </a:lnTo>
                          <a:lnTo>
                            <a:pt x="3" y="13"/>
                          </a:lnTo>
                          <a:lnTo>
                            <a:pt x="0" y="6"/>
                          </a:lnTo>
                          <a:lnTo>
                            <a:pt x="0" y="0"/>
                          </a:lnTo>
                          <a:lnTo>
                            <a:pt x="0"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620" name=""/>
                    <p:cNvSpPr/>
                    <p:nvPr/>
                  </p:nvSpPr>
                  <p:spPr>
                    <a:xfrm rot="4410000">
                      <a:off x="1966320" y="4529880"/>
                      <a:ext cx="3240" cy="2520"/>
                    </a:xfrm>
                    <a:custGeom>
                      <a:avLst/>
                      <a:gdLst/>
                      <a:ahLst/>
                      <a:rect l="l" t="t" r="r" b="b"/>
                      <a:pathLst>
                        <a:path w="4" h="3">
                          <a:moveTo>
                            <a:pt x="2" y="0"/>
                          </a:moveTo>
                          <a:lnTo>
                            <a:pt x="4" y="3"/>
                          </a:lnTo>
                          <a:lnTo>
                            <a:pt x="2" y="3"/>
                          </a:lnTo>
                          <a:lnTo>
                            <a:pt x="0" y="1"/>
                          </a:lnTo>
                          <a:lnTo>
                            <a:pt x="2" y="0"/>
                          </a:lnTo>
                          <a:lnTo>
                            <a:pt x="2"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621" name=""/>
                    <p:cNvSpPr/>
                    <p:nvPr/>
                  </p:nvSpPr>
                  <p:spPr>
                    <a:xfrm rot="4410000">
                      <a:off x="1877760" y="4249800"/>
                      <a:ext cx="5400" cy="13320"/>
                    </a:xfrm>
                    <a:custGeom>
                      <a:avLst/>
                      <a:gdLst/>
                      <a:ahLst/>
                      <a:rect l="l" t="t" r="r" b="b"/>
                      <a:pathLst>
                        <a:path w="7" h="15">
                          <a:moveTo>
                            <a:pt x="3" y="0"/>
                          </a:moveTo>
                          <a:lnTo>
                            <a:pt x="5" y="0"/>
                          </a:lnTo>
                          <a:lnTo>
                            <a:pt x="7" y="3"/>
                          </a:lnTo>
                          <a:lnTo>
                            <a:pt x="6" y="7"/>
                          </a:lnTo>
                          <a:lnTo>
                            <a:pt x="6" y="12"/>
                          </a:lnTo>
                          <a:lnTo>
                            <a:pt x="4" y="14"/>
                          </a:lnTo>
                          <a:lnTo>
                            <a:pt x="3" y="15"/>
                          </a:lnTo>
                          <a:lnTo>
                            <a:pt x="0" y="12"/>
                          </a:lnTo>
                          <a:lnTo>
                            <a:pt x="0" y="5"/>
                          </a:lnTo>
                          <a:lnTo>
                            <a:pt x="0" y="2"/>
                          </a:lnTo>
                          <a:lnTo>
                            <a:pt x="3" y="0"/>
                          </a:lnTo>
                          <a:lnTo>
                            <a:pt x="3" y="0"/>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622" name=""/>
                    <p:cNvSpPr/>
                    <p:nvPr/>
                  </p:nvSpPr>
                  <p:spPr>
                    <a:xfrm rot="4410000">
                      <a:off x="1952280" y="4507560"/>
                      <a:ext cx="4680" cy="14400"/>
                    </a:xfrm>
                    <a:custGeom>
                      <a:avLst/>
                      <a:gdLst/>
                      <a:ahLst/>
                      <a:rect l="l" t="t" r="r" b="b"/>
                      <a:pathLst>
                        <a:path w="6" h="16">
                          <a:moveTo>
                            <a:pt x="4" y="0"/>
                          </a:moveTo>
                          <a:lnTo>
                            <a:pt x="5" y="6"/>
                          </a:lnTo>
                          <a:lnTo>
                            <a:pt x="6" y="11"/>
                          </a:lnTo>
                          <a:lnTo>
                            <a:pt x="5" y="14"/>
                          </a:lnTo>
                          <a:lnTo>
                            <a:pt x="4" y="16"/>
                          </a:lnTo>
                          <a:lnTo>
                            <a:pt x="2" y="15"/>
                          </a:lnTo>
                          <a:lnTo>
                            <a:pt x="1" y="13"/>
                          </a:lnTo>
                          <a:lnTo>
                            <a:pt x="0" y="9"/>
                          </a:lnTo>
                          <a:lnTo>
                            <a:pt x="1" y="5"/>
                          </a:lnTo>
                          <a:lnTo>
                            <a:pt x="2" y="2"/>
                          </a:lnTo>
                          <a:lnTo>
                            <a:pt x="4" y="0"/>
                          </a:lnTo>
                          <a:lnTo>
                            <a:pt x="4"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623" name=""/>
                    <p:cNvSpPr/>
                    <p:nvPr/>
                  </p:nvSpPr>
                  <p:spPr>
                    <a:xfrm rot="4410000">
                      <a:off x="1849680" y="4186080"/>
                      <a:ext cx="6480" cy="12600"/>
                    </a:xfrm>
                    <a:custGeom>
                      <a:avLst/>
                      <a:gdLst/>
                      <a:ahLst/>
                      <a:rect l="l" t="t" r="r" b="b"/>
                      <a:pathLst>
                        <a:path w="8" h="14">
                          <a:moveTo>
                            <a:pt x="3" y="0"/>
                          </a:moveTo>
                          <a:lnTo>
                            <a:pt x="6" y="0"/>
                          </a:lnTo>
                          <a:lnTo>
                            <a:pt x="8" y="3"/>
                          </a:lnTo>
                          <a:lnTo>
                            <a:pt x="7" y="7"/>
                          </a:lnTo>
                          <a:lnTo>
                            <a:pt x="7" y="12"/>
                          </a:lnTo>
                          <a:lnTo>
                            <a:pt x="5" y="13"/>
                          </a:lnTo>
                          <a:lnTo>
                            <a:pt x="3" y="14"/>
                          </a:lnTo>
                          <a:lnTo>
                            <a:pt x="0" y="12"/>
                          </a:lnTo>
                          <a:lnTo>
                            <a:pt x="0" y="6"/>
                          </a:lnTo>
                          <a:lnTo>
                            <a:pt x="0" y="2"/>
                          </a:lnTo>
                          <a:lnTo>
                            <a:pt x="3" y="0"/>
                          </a:lnTo>
                          <a:lnTo>
                            <a:pt x="3" y="0"/>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24" name=""/>
                    <p:cNvSpPr/>
                    <p:nvPr/>
                  </p:nvSpPr>
                  <p:spPr>
                    <a:xfrm rot="4410000">
                      <a:off x="1919520" y="4501080"/>
                      <a:ext cx="21600" cy="24120"/>
                    </a:xfrm>
                    <a:custGeom>
                      <a:avLst/>
                      <a:gdLst/>
                      <a:ahLst/>
                      <a:rect l="l" t="t" r="r" b="b"/>
                      <a:pathLst>
                        <a:path w="27" h="27">
                          <a:moveTo>
                            <a:pt x="10" y="0"/>
                          </a:moveTo>
                          <a:lnTo>
                            <a:pt x="15" y="4"/>
                          </a:lnTo>
                          <a:lnTo>
                            <a:pt x="22" y="6"/>
                          </a:lnTo>
                          <a:lnTo>
                            <a:pt x="24" y="6"/>
                          </a:lnTo>
                          <a:lnTo>
                            <a:pt x="27" y="9"/>
                          </a:lnTo>
                          <a:lnTo>
                            <a:pt x="27" y="13"/>
                          </a:lnTo>
                          <a:lnTo>
                            <a:pt x="27" y="21"/>
                          </a:lnTo>
                          <a:lnTo>
                            <a:pt x="21" y="25"/>
                          </a:lnTo>
                          <a:lnTo>
                            <a:pt x="15" y="27"/>
                          </a:lnTo>
                          <a:lnTo>
                            <a:pt x="7" y="27"/>
                          </a:lnTo>
                          <a:lnTo>
                            <a:pt x="0" y="26"/>
                          </a:lnTo>
                          <a:lnTo>
                            <a:pt x="2" y="18"/>
                          </a:lnTo>
                          <a:lnTo>
                            <a:pt x="4" y="12"/>
                          </a:lnTo>
                          <a:lnTo>
                            <a:pt x="5" y="4"/>
                          </a:lnTo>
                          <a:lnTo>
                            <a:pt x="10" y="0"/>
                          </a:lnTo>
                          <a:lnTo>
                            <a:pt x="10"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625" name=""/>
                    <p:cNvSpPr/>
                    <p:nvPr/>
                  </p:nvSpPr>
                  <p:spPr>
                    <a:xfrm rot="4410000">
                      <a:off x="1804680" y="4155120"/>
                      <a:ext cx="26640" cy="29520"/>
                    </a:xfrm>
                    <a:custGeom>
                      <a:avLst/>
                      <a:gdLst/>
                      <a:ahLst/>
                      <a:rect l="l" t="t" r="r" b="b"/>
                      <a:pathLst>
                        <a:path w="33" h="33">
                          <a:moveTo>
                            <a:pt x="15" y="0"/>
                          </a:moveTo>
                          <a:lnTo>
                            <a:pt x="17" y="0"/>
                          </a:lnTo>
                          <a:lnTo>
                            <a:pt x="22" y="1"/>
                          </a:lnTo>
                          <a:lnTo>
                            <a:pt x="27" y="1"/>
                          </a:lnTo>
                          <a:lnTo>
                            <a:pt x="31" y="2"/>
                          </a:lnTo>
                          <a:lnTo>
                            <a:pt x="33" y="8"/>
                          </a:lnTo>
                          <a:lnTo>
                            <a:pt x="33" y="10"/>
                          </a:lnTo>
                          <a:lnTo>
                            <a:pt x="31" y="12"/>
                          </a:lnTo>
                          <a:lnTo>
                            <a:pt x="29" y="13"/>
                          </a:lnTo>
                          <a:lnTo>
                            <a:pt x="22" y="14"/>
                          </a:lnTo>
                          <a:lnTo>
                            <a:pt x="17" y="18"/>
                          </a:lnTo>
                          <a:lnTo>
                            <a:pt x="22" y="25"/>
                          </a:lnTo>
                          <a:lnTo>
                            <a:pt x="18" y="30"/>
                          </a:lnTo>
                          <a:lnTo>
                            <a:pt x="14" y="31"/>
                          </a:lnTo>
                          <a:lnTo>
                            <a:pt x="10" y="32"/>
                          </a:lnTo>
                          <a:lnTo>
                            <a:pt x="6" y="32"/>
                          </a:lnTo>
                          <a:lnTo>
                            <a:pt x="3" y="33"/>
                          </a:lnTo>
                          <a:lnTo>
                            <a:pt x="0" y="23"/>
                          </a:lnTo>
                          <a:lnTo>
                            <a:pt x="3" y="15"/>
                          </a:lnTo>
                          <a:lnTo>
                            <a:pt x="8" y="7"/>
                          </a:lnTo>
                          <a:lnTo>
                            <a:pt x="15" y="0"/>
                          </a:lnTo>
                          <a:lnTo>
                            <a:pt x="15" y="0"/>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626" name=""/>
                    <p:cNvSpPr/>
                    <p:nvPr/>
                  </p:nvSpPr>
                  <p:spPr>
                    <a:xfrm rot="4410000">
                      <a:off x="1920960" y="4488480"/>
                      <a:ext cx="2160" cy="7920"/>
                    </a:xfrm>
                    <a:custGeom>
                      <a:avLst/>
                      <a:gdLst/>
                      <a:ahLst/>
                      <a:rect l="l" t="t" r="r" b="b"/>
                      <a:pathLst>
                        <a:path w="3" h="9">
                          <a:moveTo>
                            <a:pt x="3" y="0"/>
                          </a:moveTo>
                          <a:lnTo>
                            <a:pt x="2" y="7"/>
                          </a:lnTo>
                          <a:lnTo>
                            <a:pt x="1" y="9"/>
                          </a:lnTo>
                          <a:lnTo>
                            <a:pt x="0" y="7"/>
                          </a:lnTo>
                          <a:lnTo>
                            <a:pt x="3" y="0"/>
                          </a:lnTo>
                          <a:lnTo>
                            <a:pt x="3"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27" name=""/>
                    <p:cNvSpPr/>
                    <p:nvPr/>
                  </p:nvSpPr>
                  <p:spPr>
                    <a:xfrm rot="4410000">
                      <a:off x="1890000" y="4480920"/>
                      <a:ext cx="11160" cy="12240"/>
                    </a:xfrm>
                    <a:custGeom>
                      <a:avLst/>
                      <a:gdLst/>
                      <a:ahLst/>
                      <a:rect l="l" t="t" r="r" b="b"/>
                      <a:pathLst>
                        <a:path w="14" h="14">
                          <a:moveTo>
                            <a:pt x="0" y="0"/>
                          </a:moveTo>
                          <a:lnTo>
                            <a:pt x="7" y="1"/>
                          </a:lnTo>
                          <a:lnTo>
                            <a:pt x="14" y="6"/>
                          </a:lnTo>
                          <a:lnTo>
                            <a:pt x="14" y="8"/>
                          </a:lnTo>
                          <a:lnTo>
                            <a:pt x="14" y="11"/>
                          </a:lnTo>
                          <a:lnTo>
                            <a:pt x="10" y="13"/>
                          </a:lnTo>
                          <a:lnTo>
                            <a:pt x="3" y="14"/>
                          </a:lnTo>
                          <a:lnTo>
                            <a:pt x="1" y="9"/>
                          </a:lnTo>
                          <a:lnTo>
                            <a:pt x="1" y="5"/>
                          </a:lnTo>
                          <a:lnTo>
                            <a:pt x="0" y="2"/>
                          </a:lnTo>
                          <a:lnTo>
                            <a:pt x="0" y="0"/>
                          </a:lnTo>
                          <a:lnTo>
                            <a:pt x="0"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628" name=""/>
                    <p:cNvSpPr/>
                    <p:nvPr/>
                  </p:nvSpPr>
                  <p:spPr>
                    <a:xfrm rot="4410000">
                      <a:off x="1739880" y="4146480"/>
                      <a:ext cx="4680" cy="9720"/>
                    </a:xfrm>
                    <a:custGeom>
                      <a:avLst/>
                      <a:gdLst/>
                      <a:ahLst/>
                      <a:rect l="l" t="t" r="r" b="b"/>
                      <a:pathLst>
                        <a:path w="6" h="11">
                          <a:moveTo>
                            <a:pt x="4" y="0"/>
                          </a:moveTo>
                          <a:lnTo>
                            <a:pt x="5" y="4"/>
                          </a:lnTo>
                          <a:lnTo>
                            <a:pt x="6" y="8"/>
                          </a:lnTo>
                          <a:lnTo>
                            <a:pt x="4" y="10"/>
                          </a:lnTo>
                          <a:lnTo>
                            <a:pt x="3" y="11"/>
                          </a:lnTo>
                          <a:lnTo>
                            <a:pt x="0" y="8"/>
                          </a:lnTo>
                          <a:lnTo>
                            <a:pt x="4" y="0"/>
                          </a:lnTo>
                          <a:lnTo>
                            <a:pt x="4"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29" name=""/>
                    <p:cNvSpPr/>
                    <p:nvPr/>
                  </p:nvSpPr>
                  <p:spPr>
                    <a:xfrm rot="4410000">
                      <a:off x="1702080" y="4033080"/>
                      <a:ext cx="3960" cy="3240"/>
                    </a:xfrm>
                    <a:custGeom>
                      <a:avLst/>
                      <a:gdLst/>
                      <a:ahLst/>
                      <a:rect l="l" t="t" r="r" b="b"/>
                      <a:pathLst>
                        <a:path w="5" h="4">
                          <a:moveTo>
                            <a:pt x="2" y="0"/>
                          </a:moveTo>
                          <a:lnTo>
                            <a:pt x="5" y="2"/>
                          </a:lnTo>
                          <a:lnTo>
                            <a:pt x="2" y="4"/>
                          </a:lnTo>
                          <a:lnTo>
                            <a:pt x="0" y="3"/>
                          </a:lnTo>
                          <a:lnTo>
                            <a:pt x="2" y="0"/>
                          </a:lnTo>
                          <a:lnTo>
                            <a:pt x="2"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30" name=""/>
                    <p:cNvSpPr/>
                    <p:nvPr/>
                  </p:nvSpPr>
                  <p:spPr>
                    <a:xfrm rot="4410000">
                      <a:off x="1704600" y="4066920"/>
                      <a:ext cx="6480" cy="12600"/>
                    </a:xfrm>
                    <a:custGeom>
                      <a:avLst/>
                      <a:gdLst/>
                      <a:ahLst/>
                      <a:rect l="l" t="t" r="r" b="b"/>
                      <a:pathLst>
                        <a:path w="8" h="14">
                          <a:moveTo>
                            <a:pt x="3" y="0"/>
                          </a:moveTo>
                          <a:lnTo>
                            <a:pt x="6" y="0"/>
                          </a:lnTo>
                          <a:lnTo>
                            <a:pt x="8" y="3"/>
                          </a:lnTo>
                          <a:lnTo>
                            <a:pt x="7" y="7"/>
                          </a:lnTo>
                          <a:lnTo>
                            <a:pt x="7" y="11"/>
                          </a:lnTo>
                          <a:lnTo>
                            <a:pt x="5" y="13"/>
                          </a:lnTo>
                          <a:lnTo>
                            <a:pt x="3" y="14"/>
                          </a:lnTo>
                          <a:lnTo>
                            <a:pt x="0" y="11"/>
                          </a:lnTo>
                          <a:lnTo>
                            <a:pt x="0" y="6"/>
                          </a:lnTo>
                          <a:lnTo>
                            <a:pt x="0" y="2"/>
                          </a:lnTo>
                          <a:lnTo>
                            <a:pt x="3" y="0"/>
                          </a:lnTo>
                          <a:lnTo>
                            <a:pt x="3" y="0"/>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31" name=""/>
                    <p:cNvSpPr/>
                    <p:nvPr/>
                  </p:nvSpPr>
                  <p:spPr>
                    <a:xfrm rot="4410000">
                      <a:off x="1689120" y="4081320"/>
                      <a:ext cx="6840" cy="23400"/>
                    </a:xfrm>
                    <a:custGeom>
                      <a:avLst/>
                      <a:gdLst/>
                      <a:ahLst/>
                      <a:rect l="l" t="t" r="r" b="b"/>
                      <a:pathLst>
                        <a:path w="9" h="26">
                          <a:moveTo>
                            <a:pt x="2" y="0"/>
                          </a:moveTo>
                          <a:lnTo>
                            <a:pt x="5" y="0"/>
                          </a:lnTo>
                          <a:lnTo>
                            <a:pt x="8" y="5"/>
                          </a:lnTo>
                          <a:lnTo>
                            <a:pt x="9" y="11"/>
                          </a:lnTo>
                          <a:lnTo>
                            <a:pt x="9" y="18"/>
                          </a:lnTo>
                          <a:lnTo>
                            <a:pt x="7" y="23"/>
                          </a:lnTo>
                          <a:lnTo>
                            <a:pt x="5" y="26"/>
                          </a:lnTo>
                          <a:lnTo>
                            <a:pt x="2" y="25"/>
                          </a:lnTo>
                          <a:lnTo>
                            <a:pt x="0" y="19"/>
                          </a:lnTo>
                          <a:lnTo>
                            <a:pt x="0" y="13"/>
                          </a:lnTo>
                          <a:lnTo>
                            <a:pt x="0" y="8"/>
                          </a:lnTo>
                          <a:lnTo>
                            <a:pt x="0" y="2"/>
                          </a:lnTo>
                          <a:lnTo>
                            <a:pt x="2" y="0"/>
                          </a:lnTo>
                          <a:lnTo>
                            <a:pt x="2" y="0"/>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632" name=""/>
                    <p:cNvSpPr/>
                    <p:nvPr/>
                  </p:nvSpPr>
                  <p:spPr>
                    <a:xfrm rot="4410000">
                      <a:off x="1656360" y="4048200"/>
                      <a:ext cx="10080" cy="17640"/>
                    </a:xfrm>
                    <a:custGeom>
                      <a:avLst/>
                      <a:gdLst/>
                      <a:ahLst/>
                      <a:rect l="l" t="t" r="r" b="b"/>
                      <a:pathLst>
                        <a:path w="13" h="20">
                          <a:moveTo>
                            <a:pt x="8" y="0"/>
                          </a:moveTo>
                          <a:lnTo>
                            <a:pt x="11" y="1"/>
                          </a:lnTo>
                          <a:lnTo>
                            <a:pt x="13" y="4"/>
                          </a:lnTo>
                          <a:lnTo>
                            <a:pt x="13" y="8"/>
                          </a:lnTo>
                          <a:lnTo>
                            <a:pt x="12" y="14"/>
                          </a:lnTo>
                          <a:lnTo>
                            <a:pt x="10" y="17"/>
                          </a:lnTo>
                          <a:lnTo>
                            <a:pt x="6" y="20"/>
                          </a:lnTo>
                          <a:lnTo>
                            <a:pt x="2" y="18"/>
                          </a:lnTo>
                          <a:lnTo>
                            <a:pt x="0" y="14"/>
                          </a:lnTo>
                          <a:lnTo>
                            <a:pt x="0" y="9"/>
                          </a:lnTo>
                          <a:lnTo>
                            <a:pt x="2" y="6"/>
                          </a:lnTo>
                          <a:lnTo>
                            <a:pt x="5" y="2"/>
                          </a:lnTo>
                          <a:lnTo>
                            <a:pt x="8" y="0"/>
                          </a:lnTo>
                          <a:lnTo>
                            <a:pt x="8" y="0"/>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33" name=""/>
                    <p:cNvSpPr/>
                    <p:nvPr/>
                  </p:nvSpPr>
                  <p:spPr>
                    <a:xfrm rot="4410000">
                      <a:off x="1600920" y="4028760"/>
                      <a:ext cx="48960" cy="34200"/>
                    </a:xfrm>
                    <a:custGeom>
                      <a:avLst/>
                      <a:gdLst/>
                      <a:ahLst/>
                      <a:rect l="l" t="t" r="r" b="b"/>
                      <a:pathLst>
                        <a:path w="61" h="38">
                          <a:moveTo>
                            <a:pt x="49" y="0"/>
                          </a:moveTo>
                          <a:lnTo>
                            <a:pt x="53" y="0"/>
                          </a:lnTo>
                          <a:lnTo>
                            <a:pt x="57" y="2"/>
                          </a:lnTo>
                          <a:lnTo>
                            <a:pt x="60" y="4"/>
                          </a:lnTo>
                          <a:lnTo>
                            <a:pt x="61" y="8"/>
                          </a:lnTo>
                          <a:lnTo>
                            <a:pt x="61" y="16"/>
                          </a:lnTo>
                          <a:lnTo>
                            <a:pt x="58" y="24"/>
                          </a:lnTo>
                          <a:lnTo>
                            <a:pt x="51" y="31"/>
                          </a:lnTo>
                          <a:lnTo>
                            <a:pt x="46" y="37"/>
                          </a:lnTo>
                          <a:lnTo>
                            <a:pt x="37" y="38"/>
                          </a:lnTo>
                          <a:lnTo>
                            <a:pt x="29" y="37"/>
                          </a:lnTo>
                          <a:lnTo>
                            <a:pt x="20" y="37"/>
                          </a:lnTo>
                          <a:lnTo>
                            <a:pt x="13" y="34"/>
                          </a:lnTo>
                          <a:lnTo>
                            <a:pt x="7" y="29"/>
                          </a:lnTo>
                          <a:lnTo>
                            <a:pt x="0" y="27"/>
                          </a:lnTo>
                          <a:lnTo>
                            <a:pt x="0" y="23"/>
                          </a:lnTo>
                          <a:lnTo>
                            <a:pt x="2" y="19"/>
                          </a:lnTo>
                          <a:lnTo>
                            <a:pt x="5" y="16"/>
                          </a:lnTo>
                          <a:lnTo>
                            <a:pt x="7" y="14"/>
                          </a:lnTo>
                          <a:lnTo>
                            <a:pt x="11" y="19"/>
                          </a:lnTo>
                          <a:lnTo>
                            <a:pt x="16" y="22"/>
                          </a:lnTo>
                          <a:lnTo>
                            <a:pt x="24" y="24"/>
                          </a:lnTo>
                          <a:lnTo>
                            <a:pt x="31" y="25"/>
                          </a:lnTo>
                          <a:lnTo>
                            <a:pt x="37" y="23"/>
                          </a:lnTo>
                          <a:lnTo>
                            <a:pt x="42" y="19"/>
                          </a:lnTo>
                          <a:lnTo>
                            <a:pt x="46" y="14"/>
                          </a:lnTo>
                          <a:lnTo>
                            <a:pt x="47" y="6"/>
                          </a:lnTo>
                          <a:lnTo>
                            <a:pt x="47" y="2"/>
                          </a:lnTo>
                          <a:lnTo>
                            <a:pt x="49" y="0"/>
                          </a:lnTo>
                          <a:lnTo>
                            <a:pt x="49" y="0"/>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634" name=""/>
                    <p:cNvSpPr/>
                    <p:nvPr/>
                  </p:nvSpPr>
                  <p:spPr>
                    <a:xfrm rot="4410000">
                      <a:off x="1627560" y="4097160"/>
                      <a:ext cx="6120" cy="14400"/>
                    </a:xfrm>
                    <a:custGeom>
                      <a:avLst/>
                      <a:gdLst/>
                      <a:ahLst/>
                      <a:rect l="l" t="t" r="r" b="b"/>
                      <a:pathLst>
                        <a:path w="8" h="16">
                          <a:moveTo>
                            <a:pt x="3" y="0"/>
                          </a:moveTo>
                          <a:lnTo>
                            <a:pt x="6" y="0"/>
                          </a:lnTo>
                          <a:lnTo>
                            <a:pt x="8" y="4"/>
                          </a:lnTo>
                          <a:lnTo>
                            <a:pt x="7" y="8"/>
                          </a:lnTo>
                          <a:lnTo>
                            <a:pt x="7" y="13"/>
                          </a:lnTo>
                          <a:lnTo>
                            <a:pt x="5" y="15"/>
                          </a:lnTo>
                          <a:lnTo>
                            <a:pt x="3" y="16"/>
                          </a:lnTo>
                          <a:lnTo>
                            <a:pt x="0" y="14"/>
                          </a:lnTo>
                          <a:lnTo>
                            <a:pt x="0" y="7"/>
                          </a:lnTo>
                          <a:lnTo>
                            <a:pt x="0" y="2"/>
                          </a:lnTo>
                          <a:lnTo>
                            <a:pt x="3" y="0"/>
                          </a:lnTo>
                          <a:lnTo>
                            <a:pt x="3" y="0"/>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635" name=""/>
                    <p:cNvSpPr/>
                    <p:nvPr/>
                  </p:nvSpPr>
                  <p:spPr>
                    <a:xfrm rot="4410000">
                      <a:off x="1780200" y="4197600"/>
                      <a:ext cx="10440" cy="16920"/>
                    </a:xfrm>
                    <a:custGeom>
                      <a:avLst/>
                      <a:gdLst/>
                      <a:ahLst/>
                      <a:rect l="l" t="t" r="r" b="b"/>
                      <a:pathLst>
                        <a:path w="13" h="19">
                          <a:moveTo>
                            <a:pt x="3" y="0"/>
                          </a:moveTo>
                          <a:lnTo>
                            <a:pt x="7" y="1"/>
                          </a:lnTo>
                          <a:lnTo>
                            <a:pt x="11" y="5"/>
                          </a:lnTo>
                          <a:lnTo>
                            <a:pt x="12" y="10"/>
                          </a:lnTo>
                          <a:lnTo>
                            <a:pt x="13" y="14"/>
                          </a:lnTo>
                          <a:lnTo>
                            <a:pt x="11" y="17"/>
                          </a:lnTo>
                          <a:lnTo>
                            <a:pt x="8" y="19"/>
                          </a:lnTo>
                          <a:lnTo>
                            <a:pt x="5" y="17"/>
                          </a:lnTo>
                          <a:lnTo>
                            <a:pt x="0" y="12"/>
                          </a:lnTo>
                          <a:lnTo>
                            <a:pt x="0" y="8"/>
                          </a:lnTo>
                          <a:lnTo>
                            <a:pt x="1" y="4"/>
                          </a:lnTo>
                          <a:lnTo>
                            <a:pt x="2" y="1"/>
                          </a:lnTo>
                          <a:lnTo>
                            <a:pt x="3" y="0"/>
                          </a:lnTo>
                          <a:lnTo>
                            <a:pt x="3" y="0"/>
                          </a:lnTo>
                          <a:close/>
                        </a:path>
                      </a:pathLst>
                    </a:custGeom>
                    <a:solidFill>
                      <a:srgbClr val="fac7c7"/>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636" name=""/>
                    <p:cNvSpPr/>
                    <p:nvPr/>
                  </p:nvSpPr>
                  <p:spPr>
                    <a:xfrm rot="4410000">
                      <a:off x="1861560" y="4268160"/>
                      <a:ext cx="12600" cy="15840"/>
                    </a:xfrm>
                    <a:custGeom>
                      <a:avLst/>
                      <a:gdLst/>
                      <a:ahLst/>
                      <a:rect l="l" t="t" r="r" b="b"/>
                      <a:pathLst>
                        <a:path w="16" h="18">
                          <a:moveTo>
                            <a:pt x="5" y="0"/>
                          </a:moveTo>
                          <a:lnTo>
                            <a:pt x="9" y="2"/>
                          </a:lnTo>
                          <a:lnTo>
                            <a:pt x="15" y="7"/>
                          </a:lnTo>
                          <a:lnTo>
                            <a:pt x="16" y="12"/>
                          </a:lnTo>
                          <a:lnTo>
                            <a:pt x="11" y="18"/>
                          </a:lnTo>
                          <a:lnTo>
                            <a:pt x="5" y="15"/>
                          </a:lnTo>
                          <a:lnTo>
                            <a:pt x="1" y="10"/>
                          </a:lnTo>
                          <a:lnTo>
                            <a:pt x="0" y="4"/>
                          </a:lnTo>
                          <a:lnTo>
                            <a:pt x="5" y="0"/>
                          </a:lnTo>
                          <a:lnTo>
                            <a:pt x="5" y="0"/>
                          </a:lnTo>
                          <a:close/>
                        </a:path>
                      </a:pathLst>
                    </a:custGeom>
                    <a:solidFill>
                      <a:srgbClr val="fac7c7"/>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637" name=""/>
                    <p:cNvSpPr/>
                    <p:nvPr/>
                  </p:nvSpPr>
                  <p:spPr>
                    <a:xfrm rot="4410000">
                      <a:off x="1895760" y="4501800"/>
                      <a:ext cx="8640" cy="15120"/>
                    </a:xfrm>
                    <a:custGeom>
                      <a:avLst/>
                      <a:gdLst/>
                      <a:ahLst/>
                      <a:rect l="l" t="t" r="r" b="b"/>
                      <a:pathLst>
                        <a:path w="11" h="17">
                          <a:moveTo>
                            <a:pt x="1" y="0"/>
                          </a:moveTo>
                          <a:lnTo>
                            <a:pt x="5" y="2"/>
                          </a:lnTo>
                          <a:lnTo>
                            <a:pt x="11" y="9"/>
                          </a:lnTo>
                          <a:lnTo>
                            <a:pt x="11" y="12"/>
                          </a:lnTo>
                          <a:lnTo>
                            <a:pt x="11" y="15"/>
                          </a:lnTo>
                          <a:lnTo>
                            <a:pt x="8" y="16"/>
                          </a:lnTo>
                          <a:lnTo>
                            <a:pt x="4" y="17"/>
                          </a:lnTo>
                          <a:lnTo>
                            <a:pt x="2" y="12"/>
                          </a:lnTo>
                          <a:lnTo>
                            <a:pt x="1" y="7"/>
                          </a:lnTo>
                          <a:lnTo>
                            <a:pt x="0" y="2"/>
                          </a:lnTo>
                          <a:lnTo>
                            <a:pt x="1" y="0"/>
                          </a:lnTo>
                          <a:lnTo>
                            <a:pt x="1" y="0"/>
                          </a:lnTo>
                          <a:close/>
                        </a:path>
                      </a:pathLst>
                    </a:custGeom>
                    <a:solidFill>
                      <a:srgbClr val="fac7c7"/>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638" name=""/>
                    <p:cNvSpPr/>
                    <p:nvPr/>
                  </p:nvSpPr>
                  <p:spPr>
                    <a:xfrm rot="4410000">
                      <a:off x="1973160" y="4577040"/>
                      <a:ext cx="8640" cy="16920"/>
                    </a:xfrm>
                    <a:custGeom>
                      <a:avLst/>
                      <a:gdLst/>
                      <a:ahLst/>
                      <a:rect l="l" t="t" r="r" b="b"/>
                      <a:pathLst>
                        <a:path w="11" h="19">
                          <a:moveTo>
                            <a:pt x="1" y="0"/>
                          </a:moveTo>
                          <a:lnTo>
                            <a:pt x="6" y="3"/>
                          </a:lnTo>
                          <a:lnTo>
                            <a:pt x="11" y="9"/>
                          </a:lnTo>
                          <a:lnTo>
                            <a:pt x="11" y="12"/>
                          </a:lnTo>
                          <a:lnTo>
                            <a:pt x="10" y="15"/>
                          </a:lnTo>
                          <a:lnTo>
                            <a:pt x="7" y="17"/>
                          </a:lnTo>
                          <a:lnTo>
                            <a:pt x="3" y="19"/>
                          </a:lnTo>
                          <a:lnTo>
                            <a:pt x="1" y="14"/>
                          </a:lnTo>
                          <a:lnTo>
                            <a:pt x="0" y="8"/>
                          </a:lnTo>
                          <a:lnTo>
                            <a:pt x="0" y="3"/>
                          </a:lnTo>
                          <a:lnTo>
                            <a:pt x="1" y="0"/>
                          </a:lnTo>
                          <a:lnTo>
                            <a:pt x="1" y="0"/>
                          </a:lnTo>
                          <a:close/>
                        </a:path>
                      </a:pathLst>
                    </a:custGeom>
                    <a:solidFill>
                      <a:srgbClr val="fac7c7"/>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639" name=""/>
                    <p:cNvSpPr/>
                    <p:nvPr/>
                  </p:nvSpPr>
                  <p:spPr>
                    <a:xfrm rot="4410000">
                      <a:off x="1459080" y="4174920"/>
                      <a:ext cx="878400" cy="308520"/>
                    </a:xfrm>
                    <a:custGeom>
                      <a:avLst/>
                      <a:gdLst/>
                      <a:ahLst/>
                      <a:rect l="l" t="t" r="r" b="b"/>
                      <a:pathLst>
                        <a:path w="1091" h="343">
                          <a:moveTo>
                            <a:pt x="0" y="335"/>
                          </a:moveTo>
                          <a:lnTo>
                            <a:pt x="71" y="211"/>
                          </a:lnTo>
                          <a:lnTo>
                            <a:pt x="160" y="275"/>
                          </a:lnTo>
                          <a:lnTo>
                            <a:pt x="412" y="109"/>
                          </a:lnTo>
                          <a:lnTo>
                            <a:pt x="592" y="15"/>
                          </a:lnTo>
                          <a:lnTo>
                            <a:pt x="701" y="179"/>
                          </a:lnTo>
                          <a:lnTo>
                            <a:pt x="948" y="48"/>
                          </a:lnTo>
                          <a:lnTo>
                            <a:pt x="940" y="0"/>
                          </a:lnTo>
                          <a:lnTo>
                            <a:pt x="1091" y="10"/>
                          </a:lnTo>
                          <a:lnTo>
                            <a:pt x="1084" y="23"/>
                          </a:lnTo>
                          <a:lnTo>
                            <a:pt x="957" y="15"/>
                          </a:lnTo>
                          <a:lnTo>
                            <a:pt x="964" y="53"/>
                          </a:lnTo>
                          <a:lnTo>
                            <a:pt x="698" y="196"/>
                          </a:lnTo>
                          <a:lnTo>
                            <a:pt x="585" y="36"/>
                          </a:lnTo>
                          <a:lnTo>
                            <a:pt x="406" y="131"/>
                          </a:lnTo>
                          <a:lnTo>
                            <a:pt x="158" y="294"/>
                          </a:lnTo>
                          <a:lnTo>
                            <a:pt x="74" y="235"/>
                          </a:lnTo>
                          <a:lnTo>
                            <a:pt x="16" y="343"/>
                          </a:lnTo>
                          <a:lnTo>
                            <a:pt x="0" y="335"/>
                          </a:lnTo>
                          <a:lnTo>
                            <a:pt x="0" y="335"/>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0" name=""/>
                    <p:cNvSpPr/>
                    <p:nvPr/>
                  </p:nvSpPr>
                  <p:spPr>
                    <a:xfrm rot="4410000">
                      <a:off x="1981440" y="4575240"/>
                      <a:ext cx="177840" cy="142200"/>
                    </a:xfrm>
                    <a:custGeom>
                      <a:avLst/>
                      <a:gdLst/>
                      <a:ahLst/>
                      <a:rect l="l" t="t" r="r" b="b"/>
                      <a:pathLst>
                        <a:path w="221" h="158">
                          <a:moveTo>
                            <a:pt x="0" y="151"/>
                          </a:moveTo>
                          <a:lnTo>
                            <a:pt x="113" y="73"/>
                          </a:lnTo>
                          <a:lnTo>
                            <a:pt x="142" y="112"/>
                          </a:lnTo>
                          <a:lnTo>
                            <a:pt x="208" y="3"/>
                          </a:lnTo>
                          <a:lnTo>
                            <a:pt x="221" y="0"/>
                          </a:lnTo>
                          <a:lnTo>
                            <a:pt x="150" y="134"/>
                          </a:lnTo>
                          <a:lnTo>
                            <a:pt x="113" y="94"/>
                          </a:lnTo>
                          <a:lnTo>
                            <a:pt x="14" y="158"/>
                          </a:lnTo>
                          <a:lnTo>
                            <a:pt x="0" y="151"/>
                          </a:lnTo>
                          <a:lnTo>
                            <a:pt x="0" y="151"/>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1" name=""/>
                    <p:cNvSpPr/>
                    <p:nvPr/>
                  </p:nvSpPr>
                  <p:spPr>
                    <a:xfrm rot="4410000">
                      <a:off x="1895760" y="4516200"/>
                      <a:ext cx="81720" cy="66240"/>
                    </a:xfrm>
                    <a:custGeom>
                      <a:avLst/>
                      <a:gdLst/>
                      <a:ahLst/>
                      <a:rect l="l" t="t" r="r" b="b"/>
                      <a:pathLst>
                        <a:path w="102" h="74">
                          <a:moveTo>
                            <a:pt x="98" y="0"/>
                          </a:moveTo>
                          <a:lnTo>
                            <a:pt x="0" y="63"/>
                          </a:lnTo>
                          <a:lnTo>
                            <a:pt x="7" y="74"/>
                          </a:lnTo>
                          <a:lnTo>
                            <a:pt x="102" y="16"/>
                          </a:lnTo>
                          <a:lnTo>
                            <a:pt x="98" y="0"/>
                          </a:lnTo>
                          <a:lnTo>
                            <a:pt x="98" y="0"/>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642" name=""/>
                    <p:cNvSpPr/>
                    <p:nvPr/>
                  </p:nvSpPr>
                  <p:spPr>
                    <a:xfrm rot="4410000">
                      <a:off x="1763280" y="4335120"/>
                      <a:ext cx="235800" cy="124200"/>
                    </a:xfrm>
                    <a:custGeom>
                      <a:avLst/>
                      <a:gdLst/>
                      <a:ahLst/>
                      <a:rect l="l" t="t" r="r" b="b"/>
                      <a:pathLst>
                        <a:path w="293" h="138">
                          <a:moveTo>
                            <a:pt x="283" y="93"/>
                          </a:moveTo>
                          <a:lnTo>
                            <a:pt x="239" y="123"/>
                          </a:lnTo>
                          <a:lnTo>
                            <a:pt x="71" y="0"/>
                          </a:lnTo>
                          <a:lnTo>
                            <a:pt x="0" y="40"/>
                          </a:lnTo>
                          <a:lnTo>
                            <a:pt x="10" y="51"/>
                          </a:lnTo>
                          <a:lnTo>
                            <a:pt x="72" y="16"/>
                          </a:lnTo>
                          <a:lnTo>
                            <a:pt x="237" y="138"/>
                          </a:lnTo>
                          <a:lnTo>
                            <a:pt x="293" y="101"/>
                          </a:lnTo>
                          <a:lnTo>
                            <a:pt x="283" y="93"/>
                          </a:lnTo>
                          <a:lnTo>
                            <a:pt x="283" y="93"/>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3" name=""/>
                    <p:cNvSpPr/>
                    <p:nvPr/>
                  </p:nvSpPr>
                  <p:spPr>
                    <a:xfrm rot="4410000">
                      <a:off x="1528920" y="4020480"/>
                      <a:ext cx="288000" cy="140400"/>
                    </a:xfrm>
                    <a:custGeom>
                      <a:avLst/>
                      <a:gdLst/>
                      <a:ahLst/>
                      <a:rect l="l" t="t" r="r" b="b"/>
                      <a:pathLst>
                        <a:path w="358" h="156">
                          <a:moveTo>
                            <a:pt x="353" y="0"/>
                          </a:moveTo>
                          <a:lnTo>
                            <a:pt x="158" y="138"/>
                          </a:lnTo>
                          <a:lnTo>
                            <a:pt x="13" y="63"/>
                          </a:lnTo>
                          <a:lnTo>
                            <a:pt x="0" y="79"/>
                          </a:lnTo>
                          <a:lnTo>
                            <a:pt x="162" y="156"/>
                          </a:lnTo>
                          <a:lnTo>
                            <a:pt x="358" y="14"/>
                          </a:lnTo>
                          <a:lnTo>
                            <a:pt x="353" y="0"/>
                          </a:lnTo>
                          <a:lnTo>
                            <a:pt x="353" y="0"/>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4" name=""/>
                    <p:cNvSpPr/>
                    <p:nvPr/>
                  </p:nvSpPr>
                  <p:spPr>
                    <a:xfrm rot="4410000">
                      <a:off x="1784160" y="4213440"/>
                      <a:ext cx="79560" cy="61920"/>
                    </a:xfrm>
                    <a:custGeom>
                      <a:avLst/>
                      <a:gdLst/>
                      <a:ahLst/>
                      <a:rect l="l" t="t" r="r" b="b"/>
                      <a:pathLst>
                        <a:path w="99" h="69">
                          <a:moveTo>
                            <a:pt x="92" y="0"/>
                          </a:moveTo>
                          <a:lnTo>
                            <a:pt x="0" y="59"/>
                          </a:lnTo>
                          <a:lnTo>
                            <a:pt x="8" y="69"/>
                          </a:lnTo>
                          <a:lnTo>
                            <a:pt x="99" y="10"/>
                          </a:lnTo>
                          <a:lnTo>
                            <a:pt x="92" y="0"/>
                          </a:lnTo>
                          <a:lnTo>
                            <a:pt x="92" y="0"/>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645" name=""/>
                    <p:cNvSpPr/>
                    <p:nvPr/>
                  </p:nvSpPr>
                  <p:spPr>
                    <a:xfrm rot="4410000">
                      <a:off x="1668600" y="4094640"/>
                      <a:ext cx="23040" cy="41400"/>
                    </a:xfrm>
                    <a:custGeom>
                      <a:avLst/>
                      <a:gdLst/>
                      <a:ahLst/>
                      <a:rect l="l" t="t" r="r" b="b"/>
                      <a:pathLst>
                        <a:path w="29" h="46">
                          <a:moveTo>
                            <a:pt x="23" y="46"/>
                          </a:moveTo>
                          <a:lnTo>
                            <a:pt x="0" y="8"/>
                          </a:lnTo>
                          <a:lnTo>
                            <a:pt x="8" y="0"/>
                          </a:lnTo>
                          <a:lnTo>
                            <a:pt x="29" y="36"/>
                          </a:lnTo>
                          <a:lnTo>
                            <a:pt x="23" y="46"/>
                          </a:lnTo>
                          <a:lnTo>
                            <a:pt x="23" y="46"/>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646" name=""/>
                    <p:cNvSpPr/>
                    <p:nvPr/>
                  </p:nvSpPr>
                  <p:spPr>
                    <a:xfrm rot="4410000">
                      <a:off x="1684440" y="4107600"/>
                      <a:ext cx="22320" cy="42840"/>
                    </a:xfrm>
                    <a:custGeom>
                      <a:avLst/>
                      <a:gdLst/>
                      <a:ahLst/>
                      <a:rect l="l" t="t" r="r" b="b"/>
                      <a:pathLst>
                        <a:path w="28" h="48">
                          <a:moveTo>
                            <a:pt x="23" y="48"/>
                          </a:moveTo>
                          <a:lnTo>
                            <a:pt x="0" y="10"/>
                          </a:lnTo>
                          <a:lnTo>
                            <a:pt x="7" y="0"/>
                          </a:lnTo>
                          <a:lnTo>
                            <a:pt x="28" y="37"/>
                          </a:lnTo>
                          <a:lnTo>
                            <a:pt x="23" y="48"/>
                          </a:lnTo>
                          <a:lnTo>
                            <a:pt x="23" y="48"/>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47" name=""/>
                    <p:cNvSpPr/>
                    <p:nvPr/>
                  </p:nvSpPr>
                  <p:spPr>
                    <a:xfrm rot="4410000">
                      <a:off x="1700640" y="4117320"/>
                      <a:ext cx="21600" cy="41400"/>
                    </a:xfrm>
                    <a:custGeom>
                      <a:avLst/>
                      <a:gdLst/>
                      <a:ahLst/>
                      <a:rect l="l" t="t" r="r" b="b"/>
                      <a:pathLst>
                        <a:path w="27" h="46">
                          <a:moveTo>
                            <a:pt x="23" y="46"/>
                          </a:moveTo>
                          <a:lnTo>
                            <a:pt x="0" y="8"/>
                          </a:lnTo>
                          <a:lnTo>
                            <a:pt x="7" y="0"/>
                          </a:lnTo>
                          <a:lnTo>
                            <a:pt x="27" y="35"/>
                          </a:lnTo>
                          <a:lnTo>
                            <a:pt x="23" y="46"/>
                          </a:lnTo>
                          <a:lnTo>
                            <a:pt x="23" y="46"/>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648" name=""/>
                    <p:cNvSpPr/>
                    <p:nvPr/>
                  </p:nvSpPr>
                  <p:spPr>
                    <a:xfrm rot="4410000">
                      <a:off x="1717920" y="4128120"/>
                      <a:ext cx="21600" cy="41400"/>
                    </a:xfrm>
                    <a:custGeom>
                      <a:avLst/>
                      <a:gdLst/>
                      <a:ahLst/>
                      <a:rect l="l" t="t" r="r" b="b"/>
                      <a:pathLst>
                        <a:path w="27" h="46">
                          <a:moveTo>
                            <a:pt x="22" y="46"/>
                          </a:moveTo>
                          <a:lnTo>
                            <a:pt x="0" y="8"/>
                          </a:lnTo>
                          <a:lnTo>
                            <a:pt x="6" y="0"/>
                          </a:lnTo>
                          <a:lnTo>
                            <a:pt x="27" y="35"/>
                          </a:lnTo>
                          <a:lnTo>
                            <a:pt x="22" y="46"/>
                          </a:lnTo>
                          <a:lnTo>
                            <a:pt x="22" y="46"/>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649" name=""/>
                    <p:cNvSpPr/>
                    <p:nvPr/>
                  </p:nvSpPr>
                  <p:spPr>
                    <a:xfrm rot="4410000">
                      <a:off x="1984680" y="4323600"/>
                      <a:ext cx="28800" cy="26640"/>
                    </a:xfrm>
                    <a:custGeom>
                      <a:avLst/>
                      <a:gdLst/>
                      <a:ahLst/>
                      <a:rect l="l" t="t" r="r" b="b"/>
                      <a:pathLst>
                        <a:path w="36" h="30">
                          <a:moveTo>
                            <a:pt x="29" y="0"/>
                          </a:moveTo>
                          <a:lnTo>
                            <a:pt x="0" y="21"/>
                          </a:lnTo>
                          <a:lnTo>
                            <a:pt x="8" y="30"/>
                          </a:lnTo>
                          <a:lnTo>
                            <a:pt x="36" y="11"/>
                          </a:lnTo>
                          <a:lnTo>
                            <a:pt x="29" y="0"/>
                          </a:lnTo>
                          <a:lnTo>
                            <a:pt x="29" y="0"/>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50" name=""/>
                    <p:cNvSpPr/>
                    <p:nvPr/>
                  </p:nvSpPr>
                  <p:spPr>
                    <a:xfrm rot="4410000">
                      <a:off x="1971360" y="4338720"/>
                      <a:ext cx="29520" cy="28440"/>
                    </a:xfrm>
                    <a:custGeom>
                      <a:avLst/>
                      <a:gdLst/>
                      <a:ahLst/>
                      <a:rect l="l" t="t" r="r" b="b"/>
                      <a:pathLst>
                        <a:path w="37" h="32">
                          <a:moveTo>
                            <a:pt x="29" y="0"/>
                          </a:moveTo>
                          <a:lnTo>
                            <a:pt x="0" y="22"/>
                          </a:lnTo>
                          <a:lnTo>
                            <a:pt x="8" y="32"/>
                          </a:lnTo>
                          <a:lnTo>
                            <a:pt x="37" y="12"/>
                          </a:lnTo>
                          <a:lnTo>
                            <a:pt x="29" y="0"/>
                          </a:lnTo>
                          <a:lnTo>
                            <a:pt x="29" y="0"/>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651" name=""/>
                    <p:cNvSpPr/>
                    <p:nvPr/>
                  </p:nvSpPr>
                  <p:spPr>
                    <a:xfrm rot="4410000">
                      <a:off x="1959840" y="4356360"/>
                      <a:ext cx="28800" cy="27720"/>
                    </a:xfrm>
                    <a:custGeom>
                      <a:avLst/>
                      <a:gdLst/>
                      <a:ahLst/>
                      <a:rect l="l" t="t" r="r" b="b"/>
                      <a:pathLst>
                        <a:path w="36" h="31">
                          <a:moveTo>
                            <a:pt x="28" y="0"/>
                          </a:moveTo>
                          <a:lnTo>
                            <a:pt x="0" y="22"/>
                          </a:lnTo>
                          <a:lnTo>
                            <a:pt x="8" y="31"/>
                          </a:lnTo>
                          <a:lnTo>
                            <a:pt x="36" y="12"/>
                          </a:lnTo>
                          <a:lnTo>
                            <a:pt x="28" y="0"/>
                          </a:lnTo>
                          <a:lnTo>
                            <a:pt x="28" y="0"/>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652" name=""/>
                    <p:cNvSpPr/>
                    <p:nvPr/>
                  </p:nvSpPr>
                  <p:spPr>
                    <a:xfrm rot="4410000">
                      <a:off x="1946160" y="4374000"/>
                      <a:ext cx="28800" cy="27720"/>
                    </a:xfrm>
                    <a:custGeom>
                      <a:avLst/>
                      <a:gdLst/>
                      <a:ahLst/>
                      <a:rect l="l" t="t" r="r" b="b"/>
                      <a:pathLst>
                        <a:path w="36" h="31">
                          <a:moveTo>
                            <a:pt x="28" y="0"/>
                          </a:moveTo>
                          <a:lnTo>
                            <a:pt x="0" y="22"/>
                          </a:lnTo>
                          <a:lnTo>
                            <a:pt x="8" y="31"/>
                          </a:lnTo>
                          <a:lnTo>
                            <a:pt x="36" y="11"/>
                          </a:lnTo>
                          <a:lnTo>
                            <a:pt x="28" y="0"/>
                          </a:lnTo>
                          <a:lnTo>
                            <a:pt x="28" y="0"/>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653" name=""/>
                    <p:cNvSpPr/>
                    <p:nvPr/>
                  </p:nvSpPr>
                  <p:spPr>
                    <a:xfrm rot="4410000">
                      <a:off x="2073240" y="4663080"/>
                      <a:ext cx="27360" cy="28440"/>
                    </a:xfrm>
                    <a:custGeom>
                      <a:avLst/>
                      <a:gdLst/>
                      <a:ahLst/>
                      <a:rect l="l" t="t" r="r" b="b"/>
                      <a:pathLst>
                        <a:path w="34" h="32">
                          <a:moveTo>
                            <a:pt x="26" y="32"/>
                          </a:moveTo>
                          <a:lnTo>
                            <a:pt x="0" y="9"/>
                          </a:lnTo>
                          <a:lnTo>
                            <a:pt x="5" y="0"/>
                          </a:lnTo>
                          <a:lnTo>
                            <a:pt x="34" y="22"/>
                          </a:lnTo>
                          <a:lnTo>
                            <a:pt x="26" y="32"/>
                          </a:lnTo>
                          <a:lnTo>
                            <a:pt x="26" y="32"/>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654" name=""/>
                    <p:cNvSpPr/>
                    <p:nvPr/>
                  </p:nvSpPr>
                  <p:spPr>
                    <a:xfrm rot="4410000">
                      <a:off x="2091240" y="4668840"/>
                      <a:ext cx="25560" cy="27720"/>
                    </a:xfrm>
                    <a:custGeom>
                      <a:avLst/>
                      <a:gdLst/>
                      <a:ahLst/>
                      <a:rect l="l" t="t" r="r" b="b"/>
                      <a:pathLst>
                        <a:path w="32" h="31">
                          <a:moveTo>
                            <a:pt x="25" y="31"/>
                          </a:moveTo>
                          <a:lnTo>
                            <a:pt x="0" y="8"/>
                          </a:lnTo>
                          <a:lnTo>
                            <a:pt x="5" y="0"/>
                          </a:lnTo>
                          <a:lnTo>
                            <a:pt x="32" y="20"/>
                          </a:lnTo>
                          <a:lnTo>
                            <a:pt x="25" y="31"/>
                          </a:lnTo>
                          <a:lnTo>
                            <a:pt x="25" y="31"/>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655" name=""/>
                    <p:cNvSpPr/>
                    <p:nvPr/>
                  </p:nvSpPr>
                  <p:spPr>
                    <a:xfrm rot="4410000">
                      <a:off x="2109240" y="4673520"/>
                      <a:ext cx="26640" cy="29520"/>
                    </a:xfrm>
                    <a:custGeom>
                      <a:avLst/>
                      <a:gdLst/>
                      <a:ahLst/>
                      <a:rect l="l" t="t" r="r" b="b"/>
                      <a:pathLst>
                        <a:path w="33" h="33">
                          <a:moveTo>
                            <a:pt x="27" y="33"/>
                          </a:moveTo>
                          <a:lnTo>
                            <a:pt x="0" y="9"/>
                          </a:lnTo>
                          <a:lnTo>
                            <a:pt x="7" y="0"/>
                          </a:lnTo>
                          <a:lnTo>
                            <a:pt x="33" y="23"/>
                          </a:lnTo>
                          <a:lnTo>
                            <a:pt x="27" y="33"/>
                          </a:lnTo>
                          <a:lnTo>
                            <a:pt x="27" y="33"/>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656" name=""/>
                    <p:cNvSpPr/>
                    <p:nvPr/>
                  </p:nvSpPr>
                  <p:spPr>
                    <a:xfrm rot="4410000">
                      <a:off x="2073240" y="4663080"/>
                      <a:ext cx="27360" cy="28440"/>
                    </a:xfrm>
                    <a:custGeom>
                      <a:avLst/>
                      <a:gdLst/>
                      <a:ahLst/>
                      <a:rect l="l" t="t" r="r" b="b"/>
                      <a:pathLst>
                        <a:path w="34" h="32">
                          <a:moveTo>
                            <a:pt x="26" y="32"/>
                          </a:moveTo>
                          <a:lnTo>
                            <a:pt x="0" y="9"/>
                          </a:lnTo>
                          <a:lnTo>
                            <a:pt x="5" y="0"/>
                          </a:lnTo>
                          <a:lnTo>
                            <a:pt x="34" y="22"/>
                          </a:lnTo>
                          <a:lnTo>
                            <a:pt x="26" y="32"/>
                          </a:lnTo>
                          <a:lnTo>
                            <a:pt x="26" y="32"/>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657" name=""/>
                    <p:cNvSpPr/>
                    <p:nvPr/>
                  </p:nvSpPr>
                  <p:spPr>
                    <a:xfrm rot="4410000">
                      <a:off x="2073240" y="4663080"/>
                      <a:ext cx="27360" cy="28440"/>
                    </a:xfrm>
                    <a:custGeom>
                      <a:avLst/>
                      <a:gdLst/>
                      <a:ahLst/>
                      <a:rect l="l" t="t" r="r" b="b"/>
                      <a:pathLst>
                        <a:path w="34" h="32">
                          <a:moveTo>
                            <a:pt x="26" y="32"/>
                          </a:moveTo>
                          <a:lnTo>
                            <a:pt x="0" y="9"/>
                          </a:lnTo>
                          <a:lnTo>
                            <a:pt x="5" y="0"/>
                          </a:lnTo>
                          <a:lnTo>
                            <a:pt x="34" y="22"/>
                          </a:lnTo>
                          <a:lnTo>
                            <a:pt x="26" y="32"/>
                          </a:lnTo>
                          <a:lnTo>
                            <a:pt x="26" y="32"/>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grpSp>
              <p:sp>
                <p:nvSpPr>
                  <p:cNvPr id="658" name=""/>
                  <p:cNvSpPr/>
                  <p:nvPr/>
                </p:nvSpPr>
                <p:spPr>
                  <a:xfrm>
                    <a:off x="1882800" y="4502880"/>
                    <a:ext cx="31320" cy="24120"/>
                  </a:xfrm>
                  <a:prstGeom prst="line">
                    <a:avLst/>
                  </a:prstGeom>
                  <a:ln w="9360">
                    <a:solidFill>
                      <a:srgbClr val="000000"/>
                    </a:solidFill>
                    <a:miter/>
                  </a:ln>
                </p:spPr>
                <p:style>
                  <a:lnRef idx="0"/>
                  <a:fillRef idx="0"/>
                  <a:effectRef idx="0"/>
                  <a:fontRef idx="minor"/>
                </p:style>
                <p:txBody>
                  <a:bodyPr lIns="90000" rIns="90000" tIns="-22680" bIns="-22680" anchor="ctr">
                    <a:noAutofit/>
                  </a:bodyPr>
                  <a:p>
                    <a:endParaRPr b="0" lang="en-US" sz="2400" spc="-1" strike="noStrike">
                      <a:solidFill>
                        <a:srgbClr val="000000"/>
                      </a:solidFill>
                      <a:latin typeface="Times New Roman"/>
                    </a:endParaRPr>
                  </a:p>
                </p:txBody>
              </p:sp>
              <p:sp>
                <p:nvSpPr>
                  <p:cNvPr id="659" name=""/>
                  <p:cNvSpPr/>
                  <p:nvPr/>
                </p:nvSpPr>
                <p:spPr>
                  <a:xfrm>
                    <a:off x="1880640" y="4508280"/>
                    <a:ext cx="30960" cy="24120"/>
                  </a:xfrm>
                  <a:prstGeom prst="line">
                    <a:avLst/>
                  </a:prstGeom>
                  <a:ln w="9360">
                    <a:solidFill>
                      <a:srgbClr val="000000"/>
                    </a:solidFill>
                    <a:miter/>
                  </a:ln>
                </p:spPr>
                <p:style>
                  <a:lnRef idx="0"/>
                  <a:fillRef idx="0"/>
                  <a:effectRef idx="0"/>
                  <a:fontRef idx="minor"/>
                </p:style>
                <p:txBody>
                  <a:bodyPr lIns="90000" rIns="90000" tIns="-22680" bIns="-22680" anchor="ctr">
                    <a:noAutofit/>
                  </a:bodyPr>
                  <a:p>
                    <a:endParaRPr b="0" lang="en-US" sz="2400" spc="-1" strike="noStrike">
                      <a:solidFill>
                        <a:srgbClr val="000000"/>
                      </a:solidFill>
                      <a:latin typeface="Times New Roman"/>
                    </a:endParaRPr>
                  </a:p>
                </p:txBody>
              </p:sp>
              <p:sp>
                <p:nvSpPr>
                  <p:cNvPr id="660" name=""/>
                  <p:cNvSpPr/>
                  <p:nvPr/>
                </p:nvSpPr>
                <p:spPr>
                  <a:xfrm>
                    <a:off x="1883160" y="4504680"/>
                    <a:ext cx="31680" cy="24120"/>
                  </a:xfrm>
                  <a:prstGeom prst="line">
                    <a:avLst/>
                  </a:prstGeom>
                  <a:ln w="9360">
                    <a:solidFill>
                      <a:srgbClr val="000000"/>
                    </a:solidFill>
                    <a:miter/>
                  </a:ln>
                </p:spPr>
                <p:style>
                  <a:lnRef idx="0"/>
                  <a:fillRef idx="0"/>
                  <a:effectRef idx="0"/>
                  <a:fontRef idx="minor"/>
                </p:style>
                <p:txBody>
                  <a:bodyPr lIns="90000" rIns="90000" tIns="-22680" bIns="-22680" anchor="ctr">
                    <a:noAutofit/>
                  </a:bodyPr>
                  <a:p>
                    <a:endParaRPr b="0" lang="en-US" sz="2400" spc="-1" strike="noStrike">
                      <a:solidFill>
                        <a:srgbClr val="000000"/>
                      </a:solidFill>
                      <a:latin typeface="Times New Roman"/>
                    </a:endParaRPr>
                  </a:p>
                </p:txBody>
              </p:sp>
              <p:sp>
                <p:nvSpPr>
                  <p:cNvPr id="661" name=""/>
                  <p:cNvSpPr/>
                  <p:nvPr/>
                </p:nvSpPr>
                <p:spPr>
                  <a:xfrm>
                    <a:off x="1969560" y="4574520"/>
                    <a:ext cx="31320" cy="24120"/>
                  </a:xfrm>
                  <a:prstGeom prst="line">
                    <a:avLst/>
                  </a:prstGeom>
                  <a:ln w="9360">
                    <a:solidFill>
                      <a:srgbClr val="000000"/>
                    </a:solidFill>
                    <a:miter/>
                  </a:ln>
                </p:spPr>
                <p:style>
                  <a:lnRef idx="0"/>
                  <a:fillRef idx="0"/>
                  <a:effectRef idx="0"/>
                  <a:fontRef idx="minor"/>
                </p:style>
                <p:txBody>
                  <a:bodyPr lIns="90000" rIns="90000" tIns="-22680" bIns="-22680" anchor="ctr">
                    <a:noAutofit/>
                  </a:bodyPr>
                  <a:p>
                    <a:endParaRPr b="0" lang="en-US" sz="2400" spc="-1" strike="noStrike">
                      <a:solidFill>
                        <a:srgbClr val="000000"/>
                      </a:solidFill>
                      <a:latin typeface="Times New Roman"/>
                    </a:endParaRPr>
                  </a:p>
                </p:txBody>
              </p:sp>
              <p:sp>
                <p:nvSpPr>
                  <p:cNvPr id="662" name=""/>
                  <p:cNvSpPr/>
                  <p:nvPr/>
                </p:nvSpPr>
                <p:spPr>
                  <a:xfrm>
                    <a:off x="1957680" y="4571280"/>
                    <a:ext cx="31680" cy="24120"/>
                  </a:xfrm>
                  <a:prstGeom prst="line">
                    <a:avLst/>
                  </a:prstGeom>
                  <a:ln w="9360">
                    <a:solidFill>
                      <a:srgbClr val="000000"/>
                    </a:solidFill>
                    <a:miter/>
                  </a:ln>
                </p:spPr>
                <p:style>
                  <a:lnRef idx="0"/>
                  <a:fillRef idx="0"/>
                  <a:effectRef idx="0"/>
                  <a:fontRef idx="minor"/>
                </p:style>
                <p:txBody>
                  <a:bodyPr lIns="90000" rIns="90000" tIns="-22680" bIns="-22680" anchor="ctr">
                    <a:noAutofit/>
                  </a:bodyPr>
                  <a:p>
                    <a:endParaRPr b="0" lang="en-US" sz="2400" spc="-1" strike="noStrike">
                      <a:solidFill>
                        <a:srgbClr val="000000"/>
                      </a:solidFill>
                      <a:latin typeface="Times New Roman"/>
                    </a:endParaRPr>
                  </a:p>
                </p:txBody>
              </p:sp>
              <p:sp>
                <p:nvSpPr>
                  <p:cNvPr id="663" name=""/>
                  <p:cNvSpPr/>
                  <p:nvPr/>
                </p:nvSpPr>
                <p:spPr>
                  <a:xfrm>
                    <a:off x="1967760" y="4568400"/>
                    <a:ext cx="31320" cy="24120"/>
                  </a:xfrm>
                  <a:prstGeom prst="line">
                    <a:avLst/>
                  </a:prstGeom>
                  <a:ln w="9360">
                    <a:solidFill>
                      <a:srgbClr val="000000"/>
                    </a:solidFill>
                    <a:miter/>
                  </a:ln>
                </p:spPr>
                <p:style>
                  <a:lnRef idx="0"/>
                  <a:fillRef idx="0"/>
                  <a:effectRef idx="0"/>
                  <a:fontRef idx="minor"/>
                </p:style>
                <p:txBody>
                  <a:bodyPr lIns="90000" rIns="90000" tIns="-22680" bIns="-22680" anchor="ctr">
                    <a:noAutofit/>
                  </a:bodyPr>
                  <a:p>
                    <a:endParaRPr b="0" lang="en-US" sz="2400" spc="-1" strike="noStrike">
                      <a:solidFill>
                        <a:srgbClr val="000000"/>
                      </a:solidFill>
                      <a:latin typeface="Times New Roman"/>
                    </a:endParaRPr>
                  </a:p>
                </p:txBody>
              </p:sp>
              <p:sp>
                <p:nvSpPr>
                  <p:cNvPr id="664" name=""/>
                  <p:cNvSpPr/>
                  <p:nvPr/>
                </p:nvSpPr>
                <p:spPr>
                  <a:xfrm>
                    <a:off x="1782000" y="4206960"/>
                    <a:ext cx="31320" cy="23760"/>
                  </a:xfrm>
                  <a:prstGeom prst="line">
                    <a:avLst/>
                  </a:prstGeom>
                  <a:ln w="9360">
                    <a:solidFill>
                      <a:srgbClr val="0000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665" name=""/>
                  <p:cNvSpPr/>
                  <p:nvPr/>
                </p:nvSpPr>
                <p:spPr>
                  <a:xfrm>
                    <a:off x="1767960" y="4204440"/>
                    <a:ext cx="31320" cy="24120"/>
                  </a:xfrm>
                  <a:prstGeom prst="line">
                    <a:avLst/>
                  </a:prstGeom>
                  <a:ln w="9360">
                    <a:solidFill>
                      <a:srgbClr val="000000"/>
                    </a:solidFill>
                    <a:miter/>
                  </a:ln>
                </p:spPr>
                <p:style>
                  <a:lnRef idx="0"/>
                  <a:fillRef idx="0"/>
                  <a:effectRef idx="0"/>
                  <a:fontRef idx="minor"/>
                </p:style>
                <p:txBody>
                  <a:bodyPr lIns="90000" rIns="90000" tIns="-22680" bIns="-22680" anchor="ctr">
                    <a:noAutofit/>
                  </a:bodyPr>
                  <a:p>
                    <a:endParaRPr b="0" lang="en-US" sz="2400" spc="-1" strike="noStrike">
                      <a:solidFill>
                        <a:srgbClr val="000000"/>
                      </a:solidFill>
                      <a:latin typeface="Times New Roman"/>
                    </a:endParaRPr>
                  </a:p>
                </p:txBody>
              </p:sp>
              <p:sp>
                <p:nvSpPr>
                  <p:cNvPr id="666" name=""/>
                  <p:cNvSpPr/>
                  <p:nvPr/>
                </p:nvSpPr>
                <p:spPr>
                  <a:xfrm>
                    <a:off x="1766160" y="4197960"/>
                    <a:ext cx="30960" cy="24120"/>
                  </a:xfrm>
                  <a:prstGeom prst="line">
                    <a:avLst/>
                  </a:prstGeom>
                  <a:ln w="9360">
                    <a:solidFill>
                      <a:srgbClr val="000000"/>
                    </a:solidFill>
                    <a:miter/>
                  </a:ln>
                </p:spPr>
                <p:style>
                  <a:lnRef idx="0"/>
                  <a:fillRef idx="0"/>
                  <a:effectRef idx="0"/>
                  <a:fontRef idx="minor"/>
                </p:style>
                <p:txBody>
                  <a:bodyPr lIns="90000" rIns="90000" tIns="-22680" bIns="-22680" anchor="ctr">
                    <a:noAutofit/>
                  </a:bodyPr>
                  <a:p>
                    <a:endParaRPr b="0" lang="en-US" sz="2400" spc="-1" strike="noStrike">
                      <a:solidFill>
                        <a:srgbClr val="000000"/>
                      </a:solidFill>
                      <a:latin typeface="Times New Roman"/>
                    </a:endParaRPr>
                  </a:p>
                </p:txBody>
              </p:sp>
              <p:sp>
                <p:nvSpPr>
                  <p:cNvPr id="667" name=""/>
                  <p:cNvSpPr/>
                  <p:nvPr/>
                </p:nvSpPr>
                <p:spPr>
                  <a:xfrm>
                    <a:off x="1772280" y="4199400"/>
                    <a:ext cx="30960" cy="22320"/>
                  </a:xfrm>
                  <a:prstGeom prst="line">
                    <a:avLst/>
                  </a:prstGeom>
                  <a:ln w="9360">
                    <a:solidFill>
                      <a:srgbClr val="0000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668" name=""/>
                  <p:cNvSpPr/>
                  <p:nvPr/>
                </p:nvSpPr>
                <p:spPr>
                  <a:xfrm>
                    <a:off x="1855080" y="4263840"/>
                    <a:ext cx="22320" cy="20160"/>
                  </a:xfrm>
                  <a:prstGeom prst="line">
                    <a:avLst/>
                  </a:prstGeom>
                  <a:ln w="9360">
                    <a:solidFill>
                      <a:srgbClr val="000000"/>
                    </a:solidFill>
                    <a:miter/>
                  </a:ln>
                </p:spPr>
                <p:style>
                  <a:lnRef idx="0"/>
                  <a:fillRef idx="0"/>
                  <a:effectRef idx="0"/>
                  <a:fontRef idx="minor"/>
                </p:style>
                <p:txBody>
                  <a:bodyPr lIns="90000" rIns="90000" tIns="-26640" bIns="-26640" anchor="ctr">
                    <a:noAutofit/>
                  </a:bodyPr>
                  <a:p>
                    <a:endParaRPr b="0" lang="en-US" sz="2400" spc="-1" strike="noStrike">
                      <a:solidFill>
                        <a:srgbClr val="000000"/>
                      </a:solidFill>
                      <a:latin typeface="Times New Roman"/>
                    </a:endParaRPr>
                  </a:p>
                </p:txBody>
              </p:sp>
              <p:sp>
                <p:nvSpPr>
                  <p:cNvPr id="669" name=""/>
                  <p:cNvSpPr/>
                  <p:nvPr/>
                </p:nvSpPr>
                <p:spPr>
                  <a:xfrm>
                    <a:off x="1779480" y="4210920"/>
                    <a:ext cx="96480" cy="78840"/>
                  </a:xfrm>
                  <a:prstGeom prst="line">
                    <a:avLst/>
                  </a:prstGeom>
                  <a:ln w="9360">
                    <a:solidFill>
                      <a:srgbClr val="000000"/>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Times New Roman"/>
                    </a:endParaRPr>
                  </a:p>
                </p:txBody>
              </p:sp>
              <p:sp>
                <p:nvSpPr>
                  <p:cNvPr id="670" name=""/>
                  <p:cNvSpPr/>
                  <p:nvPr/>
                </p:nvSpPr>
                <p:spPr>
                  <a:xfrm>
                    <a:off x="1856160" y="4267080"/>
                    <a:ext cx="22320" cy="20160"/>
                  </a:xfrm>
                  <a:prstGeom prst="line">
                    <a:avLst/>
                  </a:prstGeom>
                  <a:ln w="9360">
                    <a:solidFill>
                      <a:srgbClr val="000000"/>
                    </a:solidFill>
                    <a:miter/>
                  </a:ln>
                </p:spPr>
                <p:style>
                  <a:lnRef idx="0"/>
                  <a:fillRef idx="0"/>
                  <a:effectRef idx="0"/>
                  <a:fontRef idx="minor"/>
                </p:style>
                <p:txBody>
                  <a:bodyPr lIns="90000" rIns="90000" tIns="-26640" bIns="-26640" anchor="ctr">
                    <a:noAutofit/>
                  </a:bodyPr>
                  <a:p>
                    <a:endParaRPr b="0" lang="en-US" sz="2400" spc="-1" strike="noStrike">
                      <a:solidFill>
                        <a:srgbClr val="000000"/>
                      </a:solidFill>
                      <a:latin typeface="Times New Roman"/>
                    </a:endParaRPr>
                  </a:p>
                </p:txBody>
              </p:sp>
            </p:grpSp>
            <p:grpSp>
              <p:nvGrpSpPr>
                <p:cNvPr id="671" name=""/>
                <p:cNvGrpSpPr/>
                <p:nvPr/>
              </p:nvGrpSpPr>
              <p:grpSpPr>
                <a:xfrm>
                  <a:off x="930960" y="2238480"/>
                  <a:ext cx="513720" cy="1044360"/>
                  <a:chOff x="930960" y="2238480"/>
                  <a:chExt cx="513720" cy="1044360"/>
                </a:xfrm>
              </p:grpSpPr>
              <p:grpSp>
                <p:nvGrpSpPr>
                  <p:cNvPr id="672" name=""/>
                  <p:cNvGrpSpPr/>
                  <p:nvPr/>
                </p:nvGrpSpPr>
                <p:grpSpPr>
                  <a:xfrm>
                    <a:off x="930960" y="2238480"/>
                    <a:ext cx="513720" cy="1044360"/>
                    <a:chOff x="930960" y="2238480"/>
                    <a:chExt cx="513720" cy="1044360"/>
                  </a:xfrm>
                </p:grpSpPr>
                <p:sp>
                  <p:nvSpPr>
                    <p:cNvPr id="673" name=""/>
                    <p:cNvSpPr/>
                    <p:nvPr/>
                  </p:nvSpPr>
                  <p:spPr>
                    <a:xfrm rot="4972200">
                      <a:off x="686160" y="2564280"/>
                      <a:ext cx="1003320" cy="392040"/>
                    </a:xfrm>
                    <a:custGeom>
                      <a:avLst/>
                      <a:gdLst/>
                      <a:ahLst/>
                      <a:rect l="l" t="t" r="r" b="b"/>
                      <a:pathLst>
                        <a:path w="1118" h="436">
                          <a:moveTo>
                            <a:pt x="74" y="210"/>
                          </a:moveTo>
                          <a:lnTo>
                            <a:pt x="0" y="349"/>
                          </a:lnTo>
                          <a:lnTo>
                            <a:pt x="183" y="436"/>
                          </a:lnTo>
                          <a:lnTo>
                            <a:pt x="422" y="256"/>
                          </a:lnTo>
                          <a:lnTo>
                            <a:pt x="560" y="179"/>
                          </a:lnTo>
                          <a:lnTo>
                            <a:pt x="718" y="301"/>
                          </a:lnTo>
                          <a:lnTo>
                            <a:pt x="994" y="125"/>
                          </a:lnTo>
                          <a:lnTo>
                            <a:pt x="1036" y="168"/>
                          </a:lnTo>
                          <a:lnTo>
                            <a:pt x="1118" y="16"/>
                          </a:lnTo>
                          <a:lnTo>
                            <a:pt x="944" y="0"/>
                          </a:lnTo>
                          <a:lnTo>
                            <a:pt x="950" y="51"/>
                          </a:lnTo>
                          <a:lnTo>
                            <a:pt x="718" y="176"/>
                          </a:lnTo>
                          <a:lnTo>
                            <a:pt x="608" y="14"/>
                          </a:lnTo>
                          <a:lnTo>
                            <a:pt x="410" y="117"/>
                          </a:lnTo>
                          <a:lnTo>
                            <a:pt x="175" y="272"/>
                          </a:lnTo>
                          <a:lnTo>
                            <a:pt x="79" y="202"/>
                          </a:lnTo>
                          <a:lnTo>
                            <a:pt x="74" y="210"/>
                          </a:lnTo>
                          <a:lnTo>
                            <a:pt x="74" y="210"/>
                          </a:lnTo>
                          <a:close/>
                        </a:path>
                      </a:pathLst>
                    </a:custGeom>
                    <a:solidFill>
                      <a:srgbClr val="d9e0e6"/>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4" name=""/>
                    <p:cNvSpPr/>
                    <p:nvPr/>
                  </p:nvSpPr>
                  <p:spPr>
                    <a:xfrm rot="4972200">
                      <a:off x="710280" y="2581200"/>
                      <a:ext cx="963720" cy="360360"/>
                    </a:xfrm>
                    <a:custGeom>
                      <a:avLst/>
                      <a:gdLst/>
                      <a:ahLst/>
                      <a:rect l="l" t="t" r="r" b="b"/>
                      <a:pathLst>
                        <a:path w="1074" h="401">
                          <a:moveTo>
                            <a:pt x="67" y="217"/>
                          </a:moveTo>
                          <a:lnTo>
                            <a:pt x="146" y="279"/>
                          </a:lnTo>
                          <a:lnTo>
                            <a:pt x="442" y="92"/>
                          </a:lnTo>
                          <a:lnTo>
                            <a:pt x="577" y="23"/>
                          </a:lnTo>
                          <a:lnTo>
                            <a:pt x="686" y="185"/>
                          </a:lnTo>
                          <a:lnTo>
                            <a:pt x="948" y="46"/>
                          </a:lnTo>
                          <a:lnTo>
                            <a:pt x="936" y="0"/>
                          </a:lnTo>
                          <a:lnTo>
                            <a:pt x="1074" y="15"/>
                          </a:lnTo>
                          <a:lnTo>
                            <a:pt x="1012" y="128"/>
                          </a:lnTo>
                          <a:lnTo>
                            <a:pt x="970" y="92"/>
                          </a:lnTo>
                          <a:lnTo>
                            <a:pt x="703" y="272"/>
                          </a:lnTo>
                          <a:lnTo>
                            <a:pt x="537" y="150"/>
                          </a:lnTo>
                          <a:lnTo>
                            <a:pt x="388" y="235"/>
                          </a:lnTo>
                          <a:lnTo>
                            <a:pt x="149" y="401"/>
                          </a:lnTo>
                          <a:lnTo>
                            <a:pt x="0" y="331"/>
                          </a:lnTo>
                          <a:lnTo>
                            <a:pt x="67" y="217"/>
                          </a:lnTo>
                          <a:lnTo>
                            <a:pt x="67" y="217"/>
                          </a:lnTo>
                          <a:close/>
                        </a:path>
                      </a:pathLst>
                    </a:custGeom>
                    <a:solidFill>
                      <a:srgbClr val="ffcc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5" name=""/>
                    <p:cNvSpPr/>
                    <p:nvPr/>
                  </p:nvSpPr>
                  <p:spPr>
                    <a:xfrm rot="4972200">
                      <a:off x="1095840" y="2905200"/>
                      <a:ext cx="366120" cy="226440"/>
                    </a:xfrm>
                    <a:custGeom>
                      <a:avLst/>
                      <a:gdLst/>
                      <a:ahLst/>
                      <a:rect l="l" t="t" r="r" b="b"/>
                      <a:pathLst>
                        <a:path w="408" h="252">
                          <a:moveTo>
                            <a:pt x="345" y="0"/>
                          </a:moveTo>
                          <a:lnTo>
                            <a:pt x="351" y="1"/>
                          </a:lnTo>
                          <a:lnTo>
                            <a:pt x="360" y="2"/>
                          </a:lnTo>
                          <a:lnTo>
                            <a:pt x="366" y="2"/>
                          </a:lnTo>
                          <a:lnTo>
                            <a:pt x="375" y="3"/>
                          </a:lnTo>
                          <a:lnTo>
                            <a:pt x="383" y="3"/>
                          </a:lnTo>
                          <a:lnTo>
                            <a:pt x="390" y="3"/>
                          </a:lnTo>
                          <a:lnTo>
                            <a:pt x="399" y="3"/>
                          </a:lnTo>
                          <a:lnTo>
                            <a:pt x="408" y="4"/>
                          </a:lnTo>
                          <a:lnTo>
                            <a:pt x="407" y="11"/>
                          </a:lnTo>
                          <a:lnTo>
                            <a:pt x="407" y="19"/>
                          </a:lnTo>
                          <a:lnTo>
                            <a:pt x="406" y="26"/>
                          </a:lnTo>
                          <a:lnTo>
                            <a:pt x="403" y="34"/>
                          </a:lnTo>
                          <a:lnTo>
                            <a:pt x="402" y="42"/>
                          </a:lnTo>
                          <a:lnTo>
                            <a:pt x="402" y="51"/>
                          </a:lnTo>
                          <a:lnTo>
                            <a:pt x="402" y="59"/>
                          </a:lnTo>
                          <a:lnTo>
                            <a:pt x="403" y="68"/>
                          </a:lnTo>
                          <a:lnTo>
                            <a:pt x="403" y="72"/>
                          </a:lnTo>
                          <a:lnTo>
                            <a:pt x="402" y="76"/>
                          </a:lnTo>
                          <a:lnTo>
                            <a:pt x="399" y="79"/>
                          </a:lnTo>
                          <a:lnTo>
                            <a:pt x="397" y="82"/>
                          </a:lnTo>
                          <a:lnTo>
                            <a:pt x="390" y="83"/>
                          </a:lnTo>
                          <a:lnTo>
                            <a:pt x="384" y="84"/>
                          </a:lnTo>
                          <a:lnTo>
                            <a:pt x="375" y="82"/>
                          </a:lnTo>
                          <a:lnTo>
                            <a:pt x="366" y="80"/>
                          </a:lnTo>
                          <a:lnTo>
                            <a:pt x="360" y="80"/>
                          </a:lnTo>
                          <a:lnTo>
                            <a:pt x="353" y="83"/>
                          </a:lnTo>
                          <a:lnTo>
                            <a:pt x="346" y="74"/>
                          </a:lnTo>
                          <a:lnTo>
                            <a:pt x="337" y="70"/>
                          </a:lnTo>
                          <a:lnTo>
                            <a:pt x="331" y="69"/>
                          </a:lnTo>
                          <a:lnTo>
                            <a:pt x="327" y="71"/>
                          </a:lnTo>
                          <a:lnTo>
                            <a:pt x="325" y="75"/>
                          </a:lnTo>
                          <a:lnTo>
                            <a:pt x="323" y="83"/>
                          </a:lnTo>
                          <a:lnTo>
                            <a:pt x="316" y="83"/>
                          </a:lnTo>
                          <a:lnTo>
                            <a:pt x="311" y="87"/>
                          </a:lnTo>
                          <a:lnTo>
                            <a:pt x="307" y="90"/>
                          </a:lnTo>
                          <a:lnTo>
                            <a:pt x="304" y="96"/>
                          </a:lnTo>
                          <a:lnTo>
                            <a:pt x="299" y="100"/>
                          </a:lnTo>
                          <a:lnTo>
                            <a:pt x="294" y="104"/>
                          </a:lnTo>
                          <a:lnTo>
                            <a:pt x="289" y="107"/>
                          </a:lnTo>
                          <a:lnTo>
                            <a:pt x="285" y="107"/>
                          </a:lnTo>
                          <a:lnTo>
                            <a:pt x="279" y="108"/>
                          </a:lnTo>
                          <a:lnTo>
                            <a:pt x="274" y="109"/>
                          </a:lnTo>
                          <a:lnTo>
                            <a:pt x="269" y="112"/>
                          </a:lnTo>
                          <a:lnTo>
                            <a:pt x="264" y="115"/>
                          </a:lnTo>
                          <a:lnTo>
                            <a:pt x="253" y="120"/>
                          </a:lnTo>
                          <a:lnTo>
                            <a:pt x="245" y="127"/>
                          </a:lnTo>
                          <a:lnTo>
                            <a:pt x="236" y="134"/>
                          </a:lnTo>
                          <a:lnTo>
                            <a:pt x="230" y="144"/>
                          </a:lnTo>
                          <a:lnTo>
                            <a:pt x="227" y="148"/>
                          </a:lnTo>
                          <a:lnTo>
                            <a:pt x="225" y="154"/>
                          </a:lnTo>
                          <a:lnTo>
                            <a:pt x="223" y="160"/>
                          </a:lnTo>
                          <a:lnTo>
                            <a:pt x="223" y="166"/>
                          </a:lnTo>
                          <a:lnTo>
                            <a:pt x="218" y="171"/>
                          </a:lnTo>
                          <a:lnTo>
                            <a:pt x="213" y="176"/>
                          </a:lnTo>
                          <a:lnTo>
                            <a:pt x="207" y="178"/>
                          </a:lnTo>
                          <a:lnTo>
                            <a:pt x="202" y="180"/>
                          </a:lnTo>
                          <a:lnTo>
                            <a:pt x="205" y="170"/>
                          </a:lnTo>
                          <a:lnTo>
                            <a:pt x="209" y="162"/>
                          </a:lnTo>
                          <a:lnTo>
                            <a:pt x="212" y="153"/>
                          </a:lnTo>
                          <a:lnTo>
                            <a:pt x="216" y="146"/>
                          </a:lnTo>
                          <a:lnTo>
                            <a:pt x="219" y="137"/>
                          </a:lnTo>
                          <a:lnTo>
                            <a:pt x="225" y="128"/>
                          </a:lnTo>
                          <a:lnTo>
                            <a:pt x="231" y="121"/>
                          </a:lnTo>
                          <a:lnTo>
                            <a:pt x="239" y="114"/>
                          </a:lnTo>
                          <a:lnTo>
                            <a:pt x="233" y="113"/>
                          </a:lnTo>
                          <a:lnTo>
                            <a:pt x="227" y="113"/>
                          </a:lnTo>
                          <a:lnTo>
                            <a:pt x="219" y="112"/>
                          </a:lnTo>
                          <a:lnTo>
                            <a:pt x="214" y="112"/>
                          </a:lnTo>
                          <a:lnTo>
                            <a:pt x="214" y="117"/>
                          </a:lnTo>
                          <a:lnTo>
                            <a:pt x="214" y="123"/>
                          </a:lnTo>
                          <a:lnTo>
                            <a:pt x="213" y="129"/>
                          </a:lnTo>
                          <a:lnTo>
                            <a:pt x="213" y="136"/>
                          </a:lnTo>
                          <a:lnTo>
                            <a:pt x="209" y="141"/>
                          </a:lnTo>
                          <a:lnTo>
                            <a:pt x="206" y="146"/>
                          </a:lnTo>
                          <a:lnTo>
                            <a:pt x="201" y="148"/>
                          </a:lnTo>
                          <a:lnTo>
                            <a:pt x="196" y="149"/>
                          </a:lnTo>
                          <a:lnTo>
                            <a:pt x="193" y="142"/>
                          </a:lnTo>
                          <a:lnTo>
                            <a:pt x="196" y="137"/>
                          </a:lnTo>
                          <a:lnTo>
                            <a:pt x="200" y="131"/>
                          </a:lnTo>
                          <a:lnTo>
                            <a:pt x="202" y="125"/>
                          </a:lnTo>
                          <a:lnTo>
                            <a:pt x="197" y="126"/>
                          </a:lnTo>
                          <a:lnTo>
                            <a:pt x="193" y="128"/>
                          </a:lnTo>
                          <a:lnTo>
                            <a:pt x="186" y="130"/>
                          </a:lnTo>
                          <a:lnTo>
                            <a:pt x="183" y="133"/>
                          </a:lnTo>
                          <a:lnTo>
                            <a:pt x="183" y="128"/>
                          </a:lnTo>
                          <a:lnTo>
                            <a:pt x="184" y="124"/>
                          </a:lnTo>
                          <a:lnTo>
                            <a:pt x="186" y="118"/>
                          </a:lnTo>
                          <a:lnTo>
                            <a:pt x="189" y="115"/>
                          </a:lnTo>
                          <a:lnTo>
                            <a:pt x="183" y="114"/>
                          </a:lnTo>
                          <a:lnTo>
                            <a:pt x="177" y="116"/>
                          </a:lnTo>
                          <a:lnTo>
                            <a:pt x="173" y="119"/>
                          </a:lnTo>
                          <a:lnTo>
                            <a:pt x="169" y="123"/>
                          </a:lnTo>
                          <a:lnTo>
                            <a:pt x="160" y="129"/>
                          </a:lnTo>
                          <a:lnTo>
                            <a:pt x="153" y="136"/>
                          </a:lnTo>
                          <a:lnTo>
                            <a:pt x="156" y="135"/>
                          </a:lnTo>
                          <a:lnTo>
                            <a:pt x="161" y="135"/>
                          </a:lnTo>
                          <a:lnTo>
                            <a:pt x="167" y="134"/>
                          </a:lnTo>
                          <a:lnTo>
                            <a:pt x="173" y="135"/>
                          </a:lnTo>
                          <a:lnTo>
                            <a:pt x="176" y="135"/>
                          </a:lnTo>
                          <a:lnTo>
                            <a:pt x="179" y="137"/>
                          </a:lnTo>
                          <a:lnTo>
                            <a:pt x="179" y="141"/>
                          </a:lnTo>
                          <a:lnTo>
                            <a:pt x="177" y="148"/>
                          </a:lnTo>
                          <a:lnTo>
                            <a:pt x="179" y="146"/>
                          </a:lnTo>
                          <a:lnTo>
                            <a:pt x="184" y="146"/>
                          </a:lnTo>
                          <a:lnTo>
                            <a:pt x="188" y="146"/>
                          </a:lnTo>
                          <a:lnTo>
                            <a:pt x="192" y="146"/>
                          </a:lnTo>
                          <a:lnTo>
                            <a:pt x="191" y="151"/>
                          </a:lnTo>
                          <a:lnTo>
                            <a:pt x="189" y="155"/>
                          </a:lnTo>
                          <a:lnTo>
                            <a:pt x="185" y="157"/>
                          </a:lnTo>
                          <a:lnTo>
                            <a:pt x="182" y="160"/>
                          </a:lnTo>
                          <a:lnTo>
                            <a:pt x="176" y="161"/>
                          </a:lnTo>
                          <a:lnTo>
                            <a:pt x="172" y="162"/>
                          </a:lnTo>
                          <a:lnTo>
                            <a:pt x="167" y="163"/>
                          </a:lnTo>
                          <a:lnTo>
                            <a:pt x="164" y="165"/>
                          </a:lnTo>
                          <a:lnTo>
                            <a:pt x="166" y="167"/>
                          </a:lnTo>
                          <a:lnTo>
                            <a:pt x="170" y="173"/>
                          </a:lnTo>
                          <a:lnTo>
                            <a:pt x="174" y="173"/>
                          </a:lnTo>
                          <a:lnTo>
                            <a:pt x="181" y="174"/>
                          </a:lnTo>
                          <a:lnTo>
                            <a:pt x="189" y="175"/>
                          </a:lnTo>
                          <a:lnTo>
                            <a:pt x="194" y="177"/>
                          </a:lnTo>
                          <a:lnTo>
                            <a:pt x="190" y="180"/>
                          </a:lnTo>
                          <a:lnTo>
                            <a:pt x="187" y="184"/>
                          </a:lnTo>
                          <a:lnTo>
                            <a:pt x="182" y="185"/>
                          </a:lnTo>
                          <a:lnTo>
                            <a:pt x="177" y="187"/>
                          </a:lnTo>
                          <a:lnTo>
                            <a:pt x="172" y="187"/>
                          </a:lnTo>
                          <a:lnTo>
                            <a:pt x="168" y="188"/>
                          </a:lnTo>
                          <a:lnTo>
                            <a:pt x="162" y="188"/>
                          </a:lnTo>
                          <a:lnTo>
                            <a:pt x="159" y="192"/>
                          </a:lnTo>
                          <a:lnTo>
                            <a:pt x="156" y="196"/>
                          </a:lnTo>
                          <a:lnTo>
                            <a:pt x="157" y="204"/>
                          </a:lnTo>
                          <a:lnTo>
                            <a:pt x="151" y="203"/>
                          </a:lnTo>
                          <a:lnTo>
                            <a:pt x="145" y="203"/>
                          </a:lnTo>
                          <a:lnTo>
                            <a:pt x="140" y="203"/>
                          </a:lnTo>
                          <a:lnTo>
                            <a:pt x="137" y="204"/>
                          </a:lnTo>
                          <a:lnTo>
                            <a:pt x="127" y="209"/>
                          </a:lnTo>
                          <a:lnTo>
                            <a:pt x="119" y="217"/>
                          </a:lnTo>
                          <a:lnTo>
                            <a:pt x="111" y="222"/>
                          </a:lnTo>
                          <a:lnTo>
                            <a:pt x="102" y="228"/>
                          </a:lnTo>
                          <a:lnTo>
                            <a:pt x="98" y="229"/>
                          </a:lnTo>
                          <a:lnTo>
                            <a:pt x="93" y="230"/>
                          </a:lnTo>
                          <a:lnTo>
                            <a:pt x="87" y="230"/>
                          </a:lnTo>
                          <a:lnTo>
                            <a:pt x="81" y="229"/>
                          </a:lnTo>
                          <a:lnTo>
                            <a:pt x="79" y="233"/>
                          </a:lnTo>
                          <a:lnTo>
                            <a:pt x="75" y="241"/>
                          </a:lnTo>
                          <a:lnTo>
                            <a:pt x="70" y="247"/>
                          </a:lnTo>
                          <a:lnTo>
                            <a:pt x="68" y="252"/>
                          </a:lnTo>
                          <a:lnTo>
                            <a:pt x="62" y="248"/>
                          </a:lnTo>
                          <a:lnTo>
                            <a:pt x="59" y="243"/>
                          </a:lnTo>
                          <a:lnTo>
                            <a:pt x="55" y="239"/>
                          </a:lnTo>
                          <a:lnTo>
                            <a:pt x="51" y="235"/>
                          </a:lnTo>
                          <a:lnTo>
                            <a:pt x="46" y="231"/>
                          </a:lnTo>
                          <a:lnTo>
                            <a:pt x="42" y="229"/>
                          </a:lnTo>
                          <a:lnTo>
                            <a:pt x="37" y="227"/>
                          </a:lnTo>
                          <a:lnTo>
                            <a:pt x="32" y="229"/>
                          </a:lnTo>
                          <a:lnTo>
                            <a:pt x="31" y="226"/>
                          </a:lnTo>
                          <a:lnTo>
                            <a:pt x="31" y="222"/>
                          </a:lnTo>
                          <a:lnTo>
                            <a:pt x="32" y="218"/>
                          </a:lnTo>
                          <a:lnTo>
                            <a:pt x="34" y="216"/>
                          </a:lnTo>
                          <a:lnTo>
                            <a:pt x="38" y="217"/>
                          </a:lnTo>
                          <a:lnTo>
                            <a:pt x="42" y="219"/>
                          </a:lnTo>
                          <a:lnTo>
                            <a:pt x="48" y="219"/>
                          </a:lnTo>
                          <a:lnTo>
                            <a:pt x="54" y="220"/>
                          </a:lnTo>
                          <a:lnTo>
                            <a:pt x="58" y="220"/>
                          </a:lnTo>
                          <a:lnTo>
                            <a:pt x="62" y="223"/>
                          </a:lnTo>
                          <a:lnTo>
                            <a:pt x="64" y="228"/>
                          </a:lnTo>
                          <a:lnTo>
                            <a:pt x="66" y="236"/>
                          </a:lnTo>
                          <a:lnTo>
                            <a:pt x="68" y="227"/>
                          </a:lnTo>
                          <a:lnTo>
                            <a:pt x="67" y="219"/>
                          </a:lnTo>
                          <a:lnTo>
                            <a:pt x="65" y="214"/>
                          </a:lnTo>
                          <a:lnTo>
                            <a:pt x="66" y="211"/>
                          </a:lnTo>
                          <a:lnTo>
                            <a:pt x="68" y="208"/>
                          </a:lnTo>
                          <a:lnTo>
                            <a:pt x="74" y="208"/>
                          </a:lnTo>
                          <a:lnTo>
                            <a:pt x="71" y="208"/>
                          </a:lnTo>
                          <a:lnTo>
                            <a:pt x="67" y="208"/>
                          </a:lnTo>
                          <a:lnTo>
                            <a:pt x="63" y="208"/>
                          </a:lnTo>
                          <a:lnTo>
                            <a:pt x="61" y="208"/>
                          </a:lnTo>
                          <a:lnTo>
                            <a:pt x="60" y="205"/>
                          </a:lnTo>
                          <a:lnTo>
                            <a:pt x="58" y="203"/>
                          </a:lnTo>
                          <a:lnTo>
                            <a:pt x="55" y="198"/>
                          </a:lnTo>
                          <a:lnTo>
                            <a:pt x="54" y="197"/>
                          </a:lnTo>
                          <a:lnTo>
                            <a:pt x="46" y="203"/>
                          </a:lnTo>
                          <a:lnTo>
                            <a:pt x="39" y="206"/>
                          </a:lnTo>
                          <a:lnTo>
                            <a:pt x="34" y="206"/>
                          </a:lnTo>
                          <a:lnTo>
                            <a:pt x="31" y="209"/>
                          </a:lnTo>
                          <a:lnTo>
                            <a:pt x="28" y="212"/>
                          </a:lnTo>
                          <a:lnTo>
                            <a:pt x="27" y="219"/>
                          </a:lnTo>
                          <a:lnTo>
                            <a:pt x="23" y="219"/>
                          </a:lnTo>
                          <a:lnTo>
                            <a:pt x="19" y="219"/>
                          </a:lnTo>
                          <a:lnTo>
                            <a:pt x="18" y="212"/>
                          </a:lnTo>
                          <a:lnTo>
                            <a:pt x="16" y="207"/>
                          </a:lnTo>
                          <a:lnTo>
                            <a:pt x="11" y="203"/>
                          </a:lnTo>
                          <a:lnTo>
                            <a:pt x="7" y="201"/>
                          </a:lnTo>
                          <a:lnTo>
                            <a:pt x="3" y="196"/>
                          </a:lnTo>
                          <a:lnTo>
                            <a:pt x="1" y="192"/>
                          </a:lnTo>
                          <a:lnTo>
                            <a:pt x="0" y="186"/>
                          </a:lnTo>
                          <a:lnTo>
                            <a:pt x="4" y="180"/>
                          </a:lnTo>
                          <a:lnTo>
                            <a:pt x="7" y="177"/>
                          </a:lnTo>
                          <a:lnTo>
                            <a:pt x="12" y="179"/>
                          </a:lnTo>
                          <a:lnTo>
                            <a:pt x="15" y="182"/>
                          </a:lnTo>
                          <a:lnTo>
                            <a:pt x="18" y="187"/>
                          </a:lnTo>
                          <a:lnTo>
                            <a:pt x="21" y="191"/>
                          </a:lnTo>
                          <a:lnTo>
                            <a:pt x="23" y="195"/>
                          </a:lnTo>
                          <a:lnTo>
                            <a:pt x="27" y="196"/>
                          </a:lnTo>
                          <a:lnTo>
                            <a:pt x="34" y="195"/>
                          </a:lnTo>
                          <a:lnTo>
                            <a:pt x="32" y="185"/>
                          </a:lnTo>
                          <a:lnTo>
                            <a:pt x="37" y="180"/>
                          </a:lnTo>
                          <a:lnTo>
                            <a:pt x="43" y="176"/>
                          </a:lnTo>
                          <a:lnTo>
                            <a:pt x="52" y="175"/>
                          </a:lnTo>
                          <a:lnTo>
                            <a:pt x="61" y="176"/>
                          </a:lnTo>
                          <a:lnTo>
                            <a:pt x="68" y="180"/>
                          </a:lnTo>
                          <a:lnTo>
                            <a:pt x="73" y="185"/>
                          </a:lnTo>
                          <a:lnTo>
                            <a:pt x="76" y="195"/>
                          </a:lnTo>
                          <a:lnTo>
                            <a:pt x="79" y="195"/>
                          </a:lnTo>
                          <a:lnTo>
                            <a:pt x="81" y="195"/>
                          </a:lnTo>
                          <a:lnTo>
                            <a:pt x="82" y="186"/>
                          </a:lnTo>
                          <a:lnTo>
                            <a:pt x="86" y="181"/>
                          </a:lnTo>
                          <a:lnTo>
                            <a:pt x="91" y="176"/>
                          </a:lnTo>
                          <a:lnTo>
                            <a:pt x="97" y="172"/>
                          </a:lnTo>
                          <a:lnTo>
                            <a:pt x="102" y="168"/>
                          </a:lnTo>
                          <a:lnTo>
                            <a:pt x="109" y="165"/>
                          </a:lnTo>
                          <a:lnTo>
                            <a:pt x="114" y="159"/>
                          </a:lnTo>
                          <a:lnTo>
                            <a:pt x="119" y="154"/>
                          </a:lnTo>
                          <a:lnTo>
                            <a:pt x="124" y="147"/>
                          </a:lnTo>
                          <a:lnTo>
                            <a:pt x="129" y="142"/>
                          </a:lnTo>
                          <a:lnTo>
                            <a:pt x="135" y="136"/>
                          </a:lnTo>
                          <a:lnTo>
                            <a:pt x="140" y="131"/>
                          </a:lnTo>
                          <a:lnTo>
                            <a:pt x="145" y="126"/>
                          </a:lnTo>
                          <a:lnTo>
                            <a:pt x="151" y="120"/>
                          </a:lnTo>
                          <a:lnTo>
                            <a:pt x="156" y="115"/>
                          </a:lnTo>
                          <a:lnTo>
                            <a:pt x="162" y="111"/>
                          </a:lnTo>
                          <a:lnTo>
                            <a:pt x="168" y="107"/>
                          </a:lnTo>
                          <a:lnTo>
                            <a:pt x="174" y="103"/>
                          </a:lnTo>
                          <a:lnTo>
                            <a:pt x="179" y="100"/>
                          </a:lnTo>
                          <a:lnTo>
                            <a:pt x="186" y="98"/>
                          </a:lnTo>
                          <a:lnTo>
                            <a:pt x="193" y="95"/>
                          </a:lnTo>
                          <a:lnTo>
                            <a:pt x="200" y="95"/>
                          </a:lnTo>
                          <a:lnTo>
                            <a:pt x="208" y="94"/>
                          </a:lnTo>
                          <a:lnTo>
                            <a:pt x="216" y="96"/>
                          </a:lnTo>
                          <a:lnTo>
                            <a:pt x="223" y="92"/>
                          </a:lnTo>
                          <a:lnTo>
                            <a:pt x="233" y="89"/>
                          </a:lnTo>
                          <a:lnTo>
                            <a:pt x="238" y="88"/>
                          </a:lnTo>
                          <a:lnTo>
                            <a:pt x="243" y="89"/>
                          </a:lnTo>
                          <a:lnTo>
                            <a:pt x="246" y="91"/>
                          </a:lnTo>
                          <a:lnTo>
                            <a:pt x="250" y="97"/>
                          </a:lnTo>
                          <a:lnTo>
                            <a:pt x="251" y="91"/>
                          </a:lnTo>
                          <a:lnTo>
                            <a:pt x="254" y="89"/>
                          </a:lnTo>
                          <a:lnTo>
                            <a:pt x="257" y="89"/>
                          </a:lnTo>
                          <a:lnTo>
                            <a:pt x="262" y="89"/>
                          </a:lnTo>
                          <a:lnTo>
                            <a:pt x="269" y="88"/>
                          </a:lnTo>
                          <a:lnTo>
                            <a:pt x="276" y="83"/>
                          </a:lnTo>
                          <a:lnTo>
                            <a:pt x="272" y="81"/>
                          </a:lnTo>
                          <a:lnTo>
                            <a:pt x="270" y="77"/>
                          </a:lnTo>
                          <a:lnTo>
                            <a:pt x="269" y="72"/>
                          </a:lnTo>
                          <a:lnTo>
                            <a:pt x="270" y="70"/>
                          </a:lnTo>
                          <a:lnTo>
                            <a:pt x="275" y="68"/>
                          </a:lnTo>
                          <a:lnTo>
                            <a:pt x="280" y="65"/>
                          </a:lnTo>
                          <a:lnTo>
                            <a:pt x="286" y="62"/>
                          </a:lnTo>
                          <a:lnTo>
                            <a:pt x="291" y="60"/>
                          </a:lnTo>
                          <a:lnTo>
                            <a:pt x="297" y="57"/>
                          </a:lnTo>
                          <a:lnTo>
                            <a:pt x="303" y="57"/>
                          </a:lnTo>
                          <a:lnTo>
                            <a:pt x="308" y="56"/>
                          </a:lnTo>
                          <a:lnTo>
                            <a:pt x="316" y="58"/>
                          </a:lnTo>
                          <a:lnTo>
                            <a:pt x="316" y="50"/>
                          </a:lnTo>
                          <a:lnTo>
                            <a:pt x="318" y="42"/>
                          </a:lnTo>
                          <a:lnTo>
                            <a:pt x="320" y="33"/>
                          </a:lnTo>
                          <a:lnTo>
                            <a:pt x="324" y="26"/>
                          </a:lnTo>
                          <a:lnTo>
                            <a:pt x="327" y="18"/>
                          </a:lnTo>
                          <a:lnTo>
                            <a:pt x="331" y="12"/>
                          </a:lnTo>
                          <a:lnTo>
                            <a:pt x="337" y="5"/>
                          </a:lnTo>
                          <a:lnTo>
                            <a:pt x="345" y="0"/>
                          </a:lnTo>
                          <a:lnTo>
                            <a:pt x="345" y="0"/>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6" name=""/>
                    <p:cNvSpPr/>
                    <p:nvPr/>
                  </p:nvSpPr>
                  <p:spPr>
                    <a:xfrm rot="4972200">
                      <a:off x="1287000" y="3016080"/>
                      <a:ext cx="12240" cy="2520"/>
                    </a:xfrm>
                    <a:custGeom>
                      <a:avLst/>
                      <a:gdLst/>
                      <a:ahLst/>
                      <a:rect l="l" t="t" r="r" b="b"/>
                      <a:pathLst>
                        <a:path w="14" h="3">
                          <a:moveTo>
                            <a:pt x="14" y="3"/>
                          </a:moveTo>
                          <a:lnTo>
                            <a:pt x="7" y="0"/>
                          </a:lnTo>
                          <a:lnTo>
                            <a:pt x="2" y="1"/>
                          </a:lnTo>
                          <a:lnTo>
                            <a:pt x="0" y="2"/>
                          </a:lnTo>
                          <a:lnTo>
                            <a:pt x="2" y="3"/>
                          </a:lnTo>
                          <a:lnTo>
                            <a:pt x="5" y="3"/>
                          </a:lnTo>
                          <a:lnTo>
                            <a:pt x="14" y="3"/>
                          </a:lnTo>
                          <a:lnTo>
                            <a:pt x="14" y="3"/>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677" name=""/>
                    <p:cNvSpPr/>
                    <p:nvPr/>
                  </p:nvSpPr>
                  <p:spPr>
                    <a:xfrm rot="4972200">
                      <a:off x="1364040" y="3141360"/>
                      <a:ext cx="33840" cy="19440"/>
                    </a:xfrm>
                    <a:custGeom>
                      <a:avLst/>
                      <a:gdLst/>
                      <a:ahLst/>
                      <a:rect l="l" t="t" r="r" b="b"/>
                      <a:pathLst>
                        <a:path w="38" h="22">
                          <a:moveTo>
                            <a:pt x="10" y="0"/>
                          </a:moveTo>
                          <a:lnTo>
                            <a:pt x="16" y="2"/>
                          </a:lnTo>
                          <a:lnTo>
                            <a:pt x="23" y="2"/>
                          </a:lnTo>
                          <a:lnTo>
                            <a:pt x="30" y="1"/>
                          </a:lnTo>
                          <a:lnTo>
                            <a:pt x="38" y="3"/>
                          </a:lnTo>
                          <a:lnTo>
                            <a:pt x="30" y="7"/>
                          </a:lnTo>
                          <a:lnTo>
                            <a:pt x="23" y="11"/>
                          </a:lnTo>
                          <a:lnTo>
                            <a:pt x="15" y="15"/>
                          </a:lnTo>
                          <a:lnTo>
                            <a:pt x="7" y="22"/>
                          </a:lnTo>
                          <a:lnTo>
                            <a:pt x="5" y="18"/>
                          </a:lnTo>
                          <a:lnTo>
                            <a:pt x="2" y="13"/>
                          </a:lnTo>
                          <a:lnTo>
                            <a:pt x="0" y="9"/>
                          </a:lnTo>
                          <a:lnTo>
                            <a:pt x="0" y="6"/>
                          </a:lnTo>
                          <a:lnTo>
                            <a:pt x="2" y="4"/>
                          </a:lnTo>
                          <a:lnTo>
                            <a:pt x="5" y="2"/>
                          </a:lnTo>
                          <a:lnTo>
                            <a:pt x="7" y="0"/>
                          </a:lnTo>
                          <a:lnTo>
                            <a:pt x="10" y="0"/>
                          </a:lnTo>
                          <a:lnTo>
                            <a:pt x="10"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678" name=""/>
                    <p:cNvSpPr/>
                    <p:nvPr/>
                  </p:nvSpPr>
                  <p:spPr>
                    <a:xfrm rot="4972200">
                      <a:off x="1363680" y="3115800"/>
                      <a:ext cx="5400" cy="15840"/>
                    </a:xfrm>
                    <a:custGeom>
                      <a:avLst/>
                      <a:gdLst/>
                      <a:ahLst/>
                      <a:rect l="l" t="t" r="r" b="b"/>
                      <a:pathLst>
                        <a:path w="6" h="18">
                          <a:moveTo>
                            <a:pt x="6" y="0"/>
                          </a:moveTo>
                          <a:lnTo>
                            <a:pt x="6" y="3"/>
                          </a:lnTo>
                          <a:lnTo>
                            <a:pt x="6" y="8"/>
                          </a:lnTo>
                          <a:lnTo>
                            <a:pt x="5" y="12"/>
                          </a:lnTo>
                          <a:lnTo>
                            <a:pt x="4" y="16"/>
                          </a:lnTo>
                          <a:lnTo>
                            <a:pt x="1" y="18"/>
                          </a:lnTo>
                          <a:lnTo>
                            <a:pt x="0" y="18"/>
                          </a:lnTo>
                          <a:lnTo>
                            <a:pt x="0" y="15"/>
                          </a:lnTo>
                          <a:lnTo>
                            <a:pt x="3" y="8"/>
                          </a:lnTo>
                          <a:lnTo>
                            <a:pt x="4" y="2"/>
                          </a:lnTo>
                          <a:lnTo>
                            <a:pt x="6" y="0"/>
                          </a:lnTo>
                          <a:lnTo>
                            <a:pt x="6"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679" name=""/>
                    <p:cNvSpPr/>
                    <p:nvPr/>
                  </p:nvSpPr>
                  <p:spPr>
                    <a:xfrm rot="4972200">
                      <a:off x="1346760" y="3148920"/>
                      <a:ext cx="31320" cy="28440"/>
                    </a:xfrm>
                    <a:custGeom>
                      <a:avLst/>
                      <a:gdLst/>
                      <a:ahLst/>
                      <a:rect l="l" t="t" r="r" b="b"/>
                      <a:pathLst>
                        <a:path w="35" h="32">
                          <a:moveTo>
                            <a:pt x="31" y="0"/>
                          </a:moveTo>
                          <a:lnTo>
                            <a:pt x="35" y="8"/>
                          </a:lnTo>
                          <a:lnTo>
                            <a:pt x="35" y="16"/>
                          </a:lnTo>
                          <a:lnTo>
                            <a:pt x="32" y="22"/>
                          </a:lnTo>
                          <a:lnTo>
                            <a:pt x="29" y="28"/>
                          </a:lnTo>
                          <a:lnTo>
                            <a:pt x="22" y="31"/>
                          </a:lnTo>
                          <a:lnTo>
                            <a:pt x="16" y="32"/>
                          </a:lnTo>
                          <a:lnTo>
                            <a:pt x="8" y="32"/>
                          </a:lnTo>
                          <a:lnTo>
                            <a:pt x="2" y="31"/>
                          </a:lnTo>
                          <a:lnTo>
                            <a:pt x="0" y="24"/>
                          </a:lnTo>
                          <a:lnTo>
                            <a:pt x="0" y="19"/>
                          </a:lnTo>
                          <a:lnTo>
                            <a:pt x="7" y="13"/>
                          </a:lnTo>
                          <a:lnTo>
                            <a:pt x="16" y="9"/>
                          </a:lnTo>
                          <a:lnTo>
                            <a:pt x="23" y="5"/>
                          </a:lnTo>
                          <a:lnTo>
                            <a:pt x="31" y="0"/>
                          </a:lnTo>
                          <a:lnTo>
                            <a:pt x="31"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680" name=""/>
                    <p:cNvSpPr/>
                    <p:nvPr/>
                  </p:nvSpPr>
                  <p:spPr>
                    <a:xfrm rot="4972200">
                      <a:off x="867240" y="2444400"/>
                      <a:ext cx="565200" cy="302760"/>
                    </a:xfrm>
                    <a:custGeom>
                      <a:avLst/>
                      <a:gdLst/>
                      <a:ahLst/>
                      <a:rect l="l" t="t" r="r" b="b"/>
                      <a:pathLst>
                        <a:path w="630" h="337">
                          <a:moveTo>
                            <a:pt x="470" y="3"/>
                          </a:moveTo>
                          <a:lnTo>
                            <a:pt x="474" y="0"/>
                          </a:lnTo>
                          <a:lnTo>
                            <a:pt x="481" y="1"/>
                          </a:lnTo>
                          <a:lnTo>
                            <a:pt x="486" y="3"/>
                          </a:lnTo>
                          <a:lnTo>
                            <a:pt x="493" y="7"/>
                          </a:lnTo>
                          <a:lnTo>
                            <a:pt x="496" y="9"/>
                          </a:lnTo>
                          <a:lnTo>
                            <a:pt x="497" y="12"/>
                          </a:lnTo>
                          <a:lnTo>
                            <a:pt x="496" y="13"/>
                          </a:lnTo>
                          <a:lnTo>
                            <a:pt x="493" y="14"/>
                          </a:lnTo>
                          <a:lnTo>
                            <a:pt x="489" y="15"/>
                          </a:lnTo>
                          <a:lnTo>
                            <a:pt x="485" y="16"/>
                          </a:lnTo>
                          <a:lnTo>
                            <a:pt x="478" y="18"/>
                          </a:lnTo>
                          <a:lnTo>
                            <a:pt x="472" y="26"/>
                          </a:lnTo>
                          <a:lnTo>
                            <a:pt x="470" y="33"/>
                          </a:lnTo>
                          <a:lnTo>
                            <a:pt x="474" y="41"/>
                          </a:lnTo>
                          <a:lnTo>
                            <a:pt x="473" y="32"/>
                          </a:lnTo>
                          <a:lnTo>
                            <a:pt x="478" y="28"/>
                          </a:lnTo>
                          <a:lnTo>
                            <a:pt x="484" y="27"/>
                          </a:lnTo>
                          <a:lnTo>
                            <a:pt x="488" y="33"/>
                          </a:lnTo>
                          <a:lnTo>
                            <a:pt x="492" y="28"/>
                          </a:lnTo>
                          <a:lnTo>
                            <a:pt x="496" y="24"/>
                          </a:lnTo>
                          <a:lnTo>
                            <a:pt x="500" y="18"/>
                          </a:lnTo>
                          <a:lnTo>
                            <a:pt x="504" y="13"/>
                          </a:lnTo>
                          <a:lnTo>
                            <a:pt x="506" y="8"/>
                          </a:lnTo>
                          <a:lnTo>
                            <a:pt x="510" y="6"/>
                          </a:lnTo>
                          <a:lnTo>
                            <a:pt x="516" y="4"/>
                          </a:lnTo>
                          <a:lnTo>
                            <a:pt x="523" y="6"/>
                          </a:lnTo>
                          <a:lnTo>
                            <a:pt x="530" y="4"/>
                          </a:lnTo>
                          <a:lnTo>
                            <a:pt x="538" y="6"/>
                          </a:lnTo>
                          <a:lnTo>
                            <a:pt x="544" y="8"/>
                          </a:lnTo>
                          <a:lnTo>
                            <a:pt x="551" y="12"/>
                          </a:lnTo>
                          <a:lnTo>
                            <a:pt x="557" y="15"/>
                          </a:lnTo>
                          <a:lnTo>
                            <a:pt x="563" y="19"/>
                          </a:lnTo>
                          <a:lnTo>
                            <a:pt x="570" y="21"/>
                          </a:lnTo>
                          <a:lnTo>
                            <a:pt x="579" y="23"/>
                          </a:lnTo>
                          <a:lnTo>
                            <a:pt x="581" y="31"/>
                          </a:lnTo>
                          <a:lnTo>
                            <a:pt x="583" y="42"/>
                          </a:lnTo>
                          <a:lnTo>
                            <a:pt x="583" y="51"/>
                          </a:lnTo>
                          <a:lnTo>
                            <a:pt x="584" y="62"/>
                          </a:lnTo>
                          <a:lnTo>
                            <a:pt x="583" y="66"/>
                          </a:lnTo>
                          <a:lnTo>
                            <a:pt x="583" y="71"/>
                          </a:lnTo>
                          <a:lnTo>
                            <a:pt x="582" y="77"/>
                          </a:lnTo>
                          <a:lnTo>
                            <a:pt x="582" y="83"/>
                          </a:lnTo>
                          <a:lnTo>
                            <a:pt x="581" y="87"/>
                          </a:lnTo>
                          <a:lnTo>
                            <a:pt x="581" y="92"/>
                          </a:lnTo>
                          <a:lnTo>
                            <a:pt x="581" y="98"/>
                          </a:lnTo>
                          <a:lnTo>
                            <a:pt x="581" y="104"/>
                          </a:lnTo>
                          <a:lnTo>
                            <a:pt x="578" y="105"/>
                          </a:lnTo>
                          <a:lnTo>
                            <a:pt x="575" y="107"/>
                          </a:lnTo>
                          <a:lnTo>
                            <a:pt x="584" y="104"/>
                          </a:lnTo>
                          <a:lnTo>
                            <a:pt x="595" y="107"/>
                          </a:lnTo>
                          <a:lnTo>
                            <a:pt x="600" y="108"/>
                          </a:lnTo>
                          <a:lnTo>
                            <a:pt x="605" y="110"/>
                          </a:lnTo>
                          <a:lnTo>
                            <a:pt x="610" y="108"/>
                          </a:lnTo>
                          <a:lnTo>
                            <a:pt x="615" y="104"/>
                          </a:lnTo>
                          <a:lnTo>
                            <a:pt x="608" y="103"/>
                          </a:lnTo>
                          <a:lnTo>
                            <a:pt x="605" y="98"/>
                          </a:lnTo>
                          <a:lnTo>
                            <a:pt x="605" y="92"/>
                          </a:lnTo>
                          <a:lnTo>
                            <a:pt x="608" y="87"/>
                          </a:lnTo>
                          <a:lnTo>
                            <a:pt x="610" y="84"/>
                          </a:lnTo>
                          <a:lnTo>
                            <a:pt x="615" y="83"/>
                          </a:lnTo>
                          <a:lnTo>
                            <a:pt x="617" y="83"/>
                          </a:lnTo>
                          <a:lnTo>
                            <a:pt x="619" y="85"/>
                          </a:lnTo>
                          <a:lnTo>
                            <a:pt x="621" y="87"/>
                          </a:lnTo>
                          <a:lnTo>
                            <a:pt x="624" y="93"/>
                          </a:lnTo>
                          <a:lnTo>
                            <a:pt x="628" y="97"/>
                          </a:lnTo>
                          <a:lnTo>
                            <a:pt x="630" y="102"/>
                          </a:lnTo>
                          <a:lnTo>
                            <a:pt x="630" y="107"/>
                          </a:lnTo>
                          <a:lnTo>
                            <a:pt x="630" y="113"/>
                          </a:lnTo>
                          <a:lnTo>
                            <a:pt x="628" y="119"/>
                          </a:lnTo>
                          <a:lnTo>
                            <a:pt x="627" y="124"/>
                          </a:lnTo>
                          <a:lnTo>
                            <a:pt x="627" y="130"/>
                          </a:lnTo>
                          <a:lnTo>
                            <a:pt x="628" y="137"/>
                          </a:lnTo>
                          <a:lnTo>
                            <a:pt x="622" y="137"/>
                          </a:lnTo>
                          <a:lnTo>
                            <a:pt x="618" y="137"/>
                          </a:lnTo>
                          <a:lnTo>
                            <a:pt x="616" y="133"/>
                          </a:lnTo>
                          <a:lnTo>
                            <a:pt x="612" y="128"/>
                          </a:lnTo>
                          <a:lnTo>
                            <a:pt x="606" y="124"/>
                          </a:lnTo>
                          <a:lnTo>
                            <a:pt x="603" y="123"/>
                          </a:lnTo>
                          <a:lnTo>
                            <a:pt x="598" y="124"/>
                          </a:lnTo>
                          <a:lnTo>
                            <a:pt x="595" y="127"/>
                          </a:lnTo>
                          <a:lnTo>
                            <a:pt x="592" y="131"/>
                          </a:lnTo>
                          <a:lnTo>
                            <a:pt x="592" y="136"/>
                          </a:lnTo>
                          <a:lnTo>
                            <a:pt x="591" y="141"/>
                          </a:lnTo>
                          <a:lnTo>
                            <a:pt x="591" y="145"/>
                          </a:lnTo>
                          <a:lnTo>
                            <a:pt x="591" y="150"/>
                          </a:lnTo>
                          <a:lnTo>
                            <a:pt x="591" y="156"/>
                          </a:lnTo>
                          <a:lnTo>
                            <a:pt x="583" y="157"/>
                          </a:lnTo>
                          <a:lnTo>
                            <a:pt x="578" y="159"/>
                          </a:lnTo>
                          <a:lnTo>
                            <a:pt x="575" y="153"/>
                          </a:lnTo>
                          <a:lnTo>
                            <a:pt x="572" y="148"/>
                          </a:lnTo>
                          <a:lnTo>
                            <a:pt x="568" y="143"/>
                          </a:lnTo>
                          <a:lnTo>
                            <a:pt x="565" y="140"/>
                          </a:lnTo>
                          <a:lnTo>
                            <a:pt x="557" y="132"/>
                          </a:lnTo>
                          <a:lnTo>
                            <a:pt x="549" y="125"/>
                          </a:lnTo>
                          <a:lnTo>
                            <a:pt x="541" y="117"/>
                          </a:lnTo>
                          <a:lnTo>
                            <a:pt x="535" y="109"/>
                          </a:lnTo>
                          <a:lnTo>
                            <a:pt x="532" y="104"/>
                          </a:lnTo>
                          <a:lnTo>
                            <a:pt x="531" y="100"/>
                          </a:lnTo>
                          <a:lnTo>
                            <a:pt x="531" y="95"/>
                          </a:lnTo>
                          <a:lnTo>
                            <a:pt x="532" y="90"/>
                          </a:lnTo>
                          <a:lnTo>
                            <a:pt x="527" y="87"/>
                          </a:lnTo>
                          <a:lnTo>
                            <a:pt x="523" y="85"/>
                          </a:lnTo>
                          <a:lnTo>
                            <a:pt x="524" y="80"/>
                          </a:lnTo>
                          <a:lnTo>
                            <a:pt x="526" y="74"/>
                          </a:lnTo>
                          <a:lnTo>
                            <a:pt x="529" y="68"/>
                          </a:lnTo>
                          <a:lnTo>
                            <a:pt x="532" y="63"/>
                          </a:lnTo>
                          <a:lnTo>
                            <a:pt x="535" y="57"/>
                          </a:lnTo>
                          <a:lnTo>
                            <a:pt x="538" y="51"/>
                          </a:lnTo>
                          <a:lnTo>
                            <a:pt x="541" y="47"/>
                          </a:lnTo>
                          <a:lnTo>
                            <a:pt x="546" y="42"/>
                          </a:lnTo>
                          <a:lnTo>
                            <a:pt x="541" y="35"/>
                          </a:lnTo>
                          <a:lnTo>
                            <a:pt x="534" y="32"/>
                          </a:lnTo>
                          <a:lnTo>
                            <a:pt x="526" y="33"/>
                          </a:lnTo>
                          <a:lnTo>
                            <a:pt x="522" y="39"/>
                          </a:lnTo>
                          <a:lnTo>
                            <a:pt x="523" y="40"/>
                          </a:lnTo>
                          <a:lnTo>
                            <a:pt x="527" y="43"/>
                          </a:lnTo>
                          <a:lnTo>
                            <a:pt x="529" y="47"/>
                          </a:lnTo>
                          <a:lnTo>
                            <a:pt x="532" y="51"/>
                          </a:lnTo>
                          <a:lnTo>
                            <a:pt x="523" y="49"/>
                          </a:lnTo>
                          <a:lnTo>
                            <a:pt x="520" y="53"/>
                          </a:lnTo>
                          <a:lnTo>
                            <a:pt x="518" y="61"/>
                          </a:lnTo>
                          <a:lnTo>
                            <a:pt x="518" y="70"/>
                          </a:lnTo>
                          <a:lnTo>
                            <a:pt x="516" y="79"/>
                          </a:lnTo>
                          <a:lnTo>
                            <a:pt x="513" y="86"/>
                          </a:lnTo>
                          <a:lnTo>
                            <a:pt x="510" y="88"/>
                          </a:lnTo>
                          <a:lnTo>
                            <a:pt x="507" y="91"/>
                          </a:lnTo>
                          <a:lnTo>
                            <a:pt x="503" y="91"/>
                          </a:lnTo>
                          <a:lnTo>
                            <a:pt x="498" y="91"/>
                          </a:lnTo>
                          <a:lnTo>
                            <a:pt x="488" y="90"/>
                          </a:lnTo>
                          <a:lnTo>
                            <a:pt x="479" y="90"/>
                          </a:lnTo>
                          <a:lnTo>
                            <a:pt x="469" y="90"/>
                          </a:lnTo>
                          <a:lnTo>
                            <a:pt x="461" y="90"/>
                          </a:lnTo>
                          <a:lnTo>
                            <a:pt x="460" y="85"/>
                          </a:lnTo>
                          <a:lnTo>
                            <a:pt x="460" y="82"/>
                          </a:lnTo>
                          <a:lnTo>
                            <a:pt x="460" y="77"/>
                          </a:lnTo>
                          <a:lnTo>
                            <a:pt x="460" y="75"/>
                          </a:lnTo>
                          <a:lnTo>
                            <a:pt x="453" y="76"/>
                          </a:lnTo>
                          <a:lnTo>
                            <a:pt x="452" y="80"/>
                          </a:lnTo>
                          <a:lnTo>
                            <a:pt x="454" y="85"/>
                          </a:lnTo>
                          <a:lnTo>
                            <a:pt x="457" y="91"/>
                          </a:lnTo>
                          <a:lnTo>
                            <a:pt x="458" y="95"/>
                          </a:lnTo>
                          <a:lnTo>
                            <a:pt x="459" y="99"/>
                          </a:lnTo>
                          <a:lnTo>
                            <a:pt x="456" y="102"/>
                          </a:lnTo>
                          <a:lnTo>
                            <a:pt x="449" y="102"/>
                          </a:lnTo>
                          <a:lnTo>
                            <a:pt x="447" y="93"/>
                          </a:lnTo>
                          <a:lnTo>
                            <a:pt x="444" y="90"/>
                          </a:lnTo>
                          <a:lnTo>
                            <a:pt x="440" y="90"/>
                          </a:lnTo>
                          <a:lnTo>
                            <a:pt x="437" y="94"/>
                          </a:lnTo>
                          <a:lnTo>
                            <a:pt x="432" y="97"/>
                          </a:lnTo>
                          <a:lnTo>
                            <a:pt x="428" y="101"/>
                          </a:lnTo>
                          <a:lnTo>
                            <a:pt x="425" y="103"/>
                          </a:lnTo>
                          <a:lnTo>
                            <a:pt x="421" y="104"/>
                          </a:lnTo>
                          <a:lnTo>
                            <a:pt x="420" y="100"/>
                          </a:lnTo>
                          <a:lnTo>
                            <a:pt x="420" y="96"/>
                          </a:lnTo>
                          <a:lnTo>
                            <a:pt x="420" y="91"/>
                          </a:lnTo>
                          <a:lnTo>
                            <a:pt x="421" y="90"/>
                          </a:lnTo>
                          <a:lnTo>
                            <a:pt x="412" y="90"/>
                          </a:lnTo>
                          <a:lnTo>
                            <a:pt x="407" y="92"/>
                          </a:lnTo>
                          <a:lnTo>
                            <a:pt x="402" y="95"/>
                          </a:lnTo>
                          <a:lnTo>
                            <a:pt x="399" y="101"/>
                          </a:lnTo>
                          <a:lnTo>
                            <a:pt x="396" y="105"/>
                          </a:lnTo>
                          <a:lnTo>
                            <a:pt x="395" y="112"/>
                          </a:lnTo>
                          <a:lnTo>
                            <a:pt x="394" y="119"/>
                          </a:lnTo>
                          <a:lnTo>
                            <a:pt x="395" y="127"/>
                          </a:lnTo>
                          <a:lnTo>
                            <a:pt x="386" y="130"/>
                          </a:lnTo>
                          <a:lnTo>
                            <a:pt x="379" y="126"/>
                          </a:lnTo>
                          <a:lnTo>
                            <a:pt x="377" y="118"/>
                          </a:lnTo>
                          <a:lnTo>
                            <a:pt x="382" y="112"/>
                          </a:lnTo>
                          <a:lnTo>
                            <a:pt x="379" y="109"/>
                          </a:lnTo>
                          <a:lnTo>
                            <a:pt x="377" y="106"/>
                          </a:lnTo>
                          <a:lnTo>
                            <a:pt x="371" y="109"/>
                          </a:lnTo>
                          <a:lnTo>
                            <a:pt x="369" y="113"/>
                          </a:lnTo>
                          <a:lnTo>
                            <a:pt x="369" y="117"/>
                          </a:lnTo>
                          <a:lnTo>
                            <a:pt x="371" y="123"/>
                          </a:lnTo>
                          <a:lnTo>
                            <a:pt x="377" y="131"/>
                          </a:lnTo>
                          <a:lnTo>
                            <a:pt x="379" y="142"/>
                          </a:lnTo>
                          <a:lnTo>
                            <a:pt x="385" y="139"/>
                          </a:lnTo>
                          <a:lnTo>
                            <a:pt x="391" y="136"/>
                          </a:lnTo>
                          <a:lnTo>
                            <a:pt x="397" y="130"/>
                          </a:lnTo>
                          <a:lnTo>
                            <a:pt x="403" y="125"/>
                          </a:lnTo>
                          <a:lnTo>
                            <a:pt x="408" y="120"/>
                          </a:lnTo>
                          <a:lnTo>
                            <a:pt x="413" y="116"/>
                          </a:lnTo>
                          <a:lnTo>
                            <a:pt x="419" y="112"/>
                          </a:lnTo>
                          <a:lnTo>
                            <a:pt x="428" y="112"/>
                          </a:lnTo>
                          <a:lnTo>
                            <a:pt x="433" y="107"/>
                          </a:lnTo>
                          <a:lnTo>
                            <a:pt x="440" y="104"/>
                          </a:lnTo>
                          <a:lnTo>
                            <a:pt x="444" y="106"/>
                          </a:lnTo>
                          <a:lnTo>
                            <a:pt x="449" y="111"/>
                          </a:lnTo>
                          <a:lnTo>
                            <a:pt x="442" y="117"/>
                          </a:lnTo>
                          <a:lnTo>
                            <a:pt x="435" y="122"/>
                          </a:lnTo>
                          <a:lnTo>
                            <a:pt x="428" y="125"/>
                          </a:lnTo>
                          <a:lnTo>
                            <a:pt x="420" y="129"/>
                          </a:lnTo>
                          <a:lnTo>
                            <a:pt x="412" y="132"/>
                          </a:lnTo>
                          <a:lnTo>
                            <a:pt x="406" y="138"/>
                          </a:lnTo>
                          <a:lnTo>
                            <a:pt x="399" y="143"/>
                          </a:lnTo>
                          <a:lnTo>
                            <a:pt x="394" y="153"/>
                          </a:lnTo>
                          <a:lnTo>
                            <a:pt x="386" y="156"/>
                          </a:lnTo>
                          <a:lnTo>
                            <a:pt x="378" y="157"/>
                          </a:lnTo>
                          <a:lnTo>
                            <a:pt x="370" y="157"/>
                          </a:lnTo>
                          <a:lnTo>
                            <a:pt x="362" y="158"/>
                          </a:lnTo>
                          <a:lnTo>
                            <a:pt x="353" y="158"/>
                          </a:lnTo>
                          <a:lnTo>
                            <a:pt x="347" y="160"/>
                          </a:lnTo>
                          <a:lnTo>
                            <a:pt x="339" y="164"/>
                          </a:lnTo>
                          <a:lnTo>
                            <a:pt x="334" y="173"/>
                          </a:lnTo>
                          <a:lnTo>
                            <a:pt x="329" y="178"/>
                          </a:lnTo>
                          <a:lnTo>
                            <a:pt x="323" y="183"/>
                          </a:lnTo>
                          <a:lnTo>
                            <a:pt x="316" y="188"/>
                          </a:lnTo>
                          <a:lnTo>
                            <a:pt x="311" y="193"/>
                          </a:lnTo>
                          <a:lnTo>
                            <a:pt x="304" y="195"/>
                          </a:lnTo>
                          <a:lnTo>
                            <a:pt x="297" y="195"/>
                          </a:lnTo>
                          <a:lnTo>
                            <a:pt x="291" y="193"/>
                          </a:lnTo>
                          <a:lnTo>
                            <a:pt x="284" y="190"/>
                          </a:lnTo>
                          <a:lnTo>
                            <a:pt x="279" y="192"/>
                          </a:lnTo>
                          <a:lnTo>
                            <a:pt x="276" y="194"/>
                          </a:lnTo>
                          <a:lnTo>
                            <a:pt x="277" y="196"/>
                          </a:lnTo>
                          <a:lnTo>
                            <a:pt x="282" y="200"/>
                          </a:lnTo>
                          <a:lnTo>
                            <a:pt x="285" y="205"/>
                          </a:lnTo>
                          <a:lnTo>
                            <a:pt x="288" y="210"/>
                          </a:lnTo>
                          <a:lnTo>
                            <a:pt x="279" y="210"/>
                          </a:lnTo>
                          <a:lnTo>
                            <a:pt x="272" y="215"/>
                          </a:lnTo>
                          <a:lnTo>
                            <a:pt x="265" y="220"/>
                          </a:lnTo>
                          <a:lnTo>
                            <a:pt x="259" y="228"/>
                          </a:lnTo>
                          <a:lnTo>
                            <a:pt x="253" y="235"/>
                          </a:lnTo>
                          <a:lnTo>
                            <a:pt x="247" y="240"/>
                          </a:lnTo>
                          <a:lnTo>
                            <a:pt x="239" y="244"/>
                          </a:lnTo>
                          <a:lnTo>
                            <a:pt x="232" y="246"/>
                          </a:lnTo>
                          <a:lnTo>
                            <a:pt x="223" y="247"/>
                          </a:lnTo>
                          <a:lnTo>
                            <a:pt x="219" y="254"/>
                          </a:lnTo>
                          <a:lnTo>
                            <a:pt x="216" y="257"/>
                          </a:lnTo>
                          <a:lnTo>
                            <a:pt x="213" y="260"/>
                          </a:lnTo>
                          <a:lnTo>
                            <a:pt x="208" y="262"/>
                          </a:lnTo>
                          <a:lnTo>
                            <a:pt x="204" y="261"/>
                          </a:lnTo>
                          <a:lnTo>
                            <a:pt x="203" y="267"/>
                          </a:lnTo>
                          <a:lnTo>
                            <a:pt x="200" y="271"/>
                          </a:lnTo>
                          <a:lnTo>
                            <a:pt x="196" y="273"/>
                          </a:lnTo>
                          <a:lnTo>
                            <a:pt x="192" y="275"/>
                          </a:lnTo>
                          <a:lnTo>
                            <a:pt x="187" y="276"/>
                          </a:lnTo>
                          <a:lnTo>
                            <a:pt x="184" y="278"/>
                          </a:lnTo>
                          <a:lnTo>
                            <a:pt x="182" y="282"/>
                          </a:lnTo>
                          <a:lnTo>
                            <a:pt x="185" y="290"/>
                          </a:lnTo>
                          <a:lnTo>
                            <a:pt x="181" y="298"/>
                          </a:lnTo>
                          <a:lnTo>
                            <a:pt x="176" y="306"/>
                          </a:lnTo>
                          <a:lnTo>
                            <a:pt x="167" y="311"/>
                          </a:lnTo>
                          <a:lnTo>
                            <a:pt x="160" y="314"/>
                          </a:lnTo>
                          <a:lnTo>
                            <a:pt x="149" y="315"/>
                          </a:lnTo>
                          <a:lnTo>
                            <a:pt x="140" y="316"/>
                          </a:lnTo>
                          <a:lnTo>
                            <a:pt x="131" y="315"/>
                          </a:lnTo>
                          <a:lnTo>
                            <a:pt x="124" y="315"/>
                          </a:lnTo>
                          <a:lnTo>
                            <a:pt x="122" y="316"/>
                          </a:lnTo>
                          <a:lnTo>
                            <a:pt x="120" y="318"/>
                          </a:lnTo>
                          <a:lnTo>
                            <a:pt x="124" y="320"/>
                          </a:lnTo>
                          <a:lnTo>
                            <a:pt x="125" y="324"/>
                          </a:lnTo>
                          <a:lnTo>
                            <a:pt x="125" y="328"/>
                          </a:lnTo>
                          <a:lnTo>
                            <a:pt x="124" y="333"/>
                          </a:lnTo>
                          <a:lnTo>
                            <a:pt x="118" y="337"/>
                          </a:lnTo>
                          <a:lnTo>
                            <a:pt x="110" y="336"/>
                          </a:lnTo>
                          <a:lnTo>
                            <a:pt x="106" y="329"/>
                          </a:lnTo>
                          <a:lnTo>
                            <a:pt x="105" y="322"/>
                          </a:lnTo>
                          <a:lnTo>
                            <a:pt x="105" y="314"/>
                          </a:lnTo>
                          <a:lnTo>
                            <a:pt x="105" y="307"/>
                          </a:lnTo>
                          <a:lnTo>
                            <a:pt x="105" y="298"/>
                          </a:lnTo>
                          <a:lnTo>
                            <a:pt x="107" y="291"/>
                          </a:lnTo>
                          <a:lnTo>
                            <a:pt x="109" y="283"/>
                          </a:lnTo>
                          <a:lnTo>
                            <a:pt x="111" y="277"/>
                          </a:lnTo>
                          <a:lnTo>
                            <a:pt x="114" y="276"/>
                          </a:lnTo>
                          <a:lnTo>
                            <a:pt x="117" y="274"/>
                          </a:lnTo>
                          <a:lnTo>
                            <a:pt x="108" y="269"/>
                          </a:lnTo>
                          <a:lnTo>
                            <a:pt x="100" y="267"/>
                          </a:lnTo>
                          <a:lnTo>
                            <a:pt x="92" y="265"/>
                          </a:lnTo>
                          <a:lnTo>
                            <a:pt x="84" y="263"/>
                          </a:lnTo>
                          <a:lnTo>
                            <a:pt x="86" y="259"/>
                          </a:lnTo>
                          <a:lnTo>
                            <a:pt x="89" y="257"/>
                          </a:lnTo>
                          <a:lnTo>
                            <a:pt x="93" y="254"/>
                          </a:lnTo>
                          <a:lnTo>
                            <a:pt x="98" y="254"/>
                          </a:lnTo>
                          <a:lnTo>
                            <a:pt x="98" y="247"/>
                          </a:lnTo>
                          <a:lnTo>
                            <a:pt x="98" y="240"/>
                          </a:lnTo>
                          <a:lnTo>
                            <a:pt x="95" y="235"/>
                          </a:lnTo>
                          <a:lnTo>
                            <a:pt x="89" y="236"/>
                          </a:lnTo>
                          <a:lnTo>
                            <a:pt x="89" y="242"/>
                          </a:lnTo>
                          <a:lnTo>
                            <a:pt x="87" y="248"/>
                          </a:lnTo>
                          <a:lnTo>
                            <a:pt x="79" y="251"/>
                          </a:lnTo>
                          <a:lnTo>
                            <a:pt x="73" y="254"/>
                          </a:lnTo>
                          <a:lnTo>
                            <a:pt x="65" y="256"/>
                          </a:lnTo>
                          <a:lnTo>
                            <a:pt x="60" y="260"/>
                          </a:lnTo>
                          <a:lnTo>
                            <a:pt x="57" y="263"/>
                          </a:lnTo>
                          <a:lnTo>
                            <a:pt x="57" y="267"/>
                          </a:lnTo>
                          <a:lnTo>
                            <a:pt x="57" y="271"/>
                          </a:lnTo>
                          <a:lnTo>
                            <a:pt x="61" y="277"/>
                          </a:lnTo>
                          <a:lnTo>
                            <a:pt x="66" y="276"/>
                          </a:lnTo>
                          <a:lnTo>
                            <a:pt x="68" y="273"/>
                          </a:lnTo>
                          <a:lnTo>
                            <a:pt x="69" y="269"/>
                          </a:lnTo>
                          <a:lnTo>
                            <a:pt x="70" y="265"/>
                          </a:lnTo>
                          <a:lnTo>
                            <a:pt x="70" y="261"/>
                          </a:lnTo>
                          <a:lnTo>
                            <a:pt x="71" y="258"/>
                          </a:lnTo>
                          <a:lnTo>
                            <a:pt x="74" y="257"/>
                          </a:lnTo>
                          <a:lnTo>
                            <a:pt x="80" y="258"/>
                          </a:lnTo>
                          <a:lnTo>
                            <a:pt x="83" y="267"/>
                          </a:lnTo>
                          <a:lnTo>
                            <a:pt x="83" y="274"/>
                          </a:lnTo>
                          <a:lnTo>
                            <a:pt x="79" y="278"/>
                          </a:lnTo>
                          <a:lnTo>
                            <a:pt x="75" y="284"/>
                          </a:lnTo>
                          <a:lnTo>
                            <a:pt x="69" y="287"/>
                          </a:lnTo>
                          <a:lnTo>
                            <a:pt x="62" y="290"/>
                          </a:lnTo>
                          <a:lnTo>
                            <a:pt x="56" y="293"/>
                          </a:lnTo>
                          <a:lnTo>
                            <a:pt x="50" y="295"/>
                          </a:lnTo>
                          <a:lnTo>
                            <a:pt x="48" y="297"/>
                          </a:lnTo>
                          <a:lnTo>
                            <a:pt x="44" y="301"/>
                          </a:lnTo>
                          <a:lnTo>
                            <a:pt x="39" y="303"/>
                          </a:lnTo>
                          <a:lnTo>
                            <a:pt x="38" y="305"/>
                          </a:lnTo>
                          <a:lnTo>
                            <a:pt x="31" y="298"/>
                          </a:lnTo>
                          <a:lnTo>
                            <a:pt x="29" y="293"/>
                          </a:lnTo>
                          <a:lnTo>
                            <a:pt x="30" y="287"/>
                          </a:lnTo>
                          <a:lnTo>
                            <a:pt x="33" y="281"/>
                          </a:lnTo>
                          <a:lnTo>
                            <a:pt x="34" y="275"/>
                          </a:lnTo>
                          <a:lnTo>
                            <a:pt x="38" y="269"/>
                          </a:lnTo>
                          <a:lnTo>
                            <a:pt x="37" y="263"/>
                          </a:lnTo>
                          <a:lnTo>
                            <a:pt x="34" y="259"/>
                          </a:lnTo>
                          <a:lnTo>
                            <a:pt x="39" y="258"/>
                          </a:lnTo>
                          <a:lnTo>
                            <a:pt x="44" y="263"/>
                          </a:lnTo>
                          <a:lnTo>
                            <a:pt x="46" y="257"/>
                          </a:lnTo>
                          <a:lnTo>
                            <a:pt x="48" y="253"/>
                          </a:lnTo>
                          <a:lnTo>
                            <a:pt x="53" y="248"/>
                          </a:lnTo>
                          <a:lnTo>
                            <a:pt x="58" y="245"/>
                          </a:lnTo>
                          <a:lnTo>
                            <a:pt x="62" y="240"/>
                          </a:lnTo>
                          <a:lnTo>
                            <a:pt x="66" y="237"/>
                          </a:lnTo>
                          <a:lnTo>
                            <a:pt x="66" y="232"/>
                          </a:lnTo>
                          <a:lnTo>
                            <a:pt x="66" y="226"/>
                          </a:lnTo>
                          <a:lnTo>
                            <a:pt x="66" y="220"/>
                          </a:lnTo>
                          <a:lnTo>
                            <a:pt x="68" y="216"/>
                          </a:lnTo>
                          <a:lnTo>
                            <a:pt x="61" y="212"/>
                          </a:lnTo>
                          <a:lnTo>
                            <a:pt x="56" y="211"/>
                          </a:lnTo>
                          <a:lnTo>
                            <a:pt x="48" y="212"/>
                          </a:lnTo>
                          <a:lnTo>
                            <a:pt x="44" y="215"/>
                          </a:lnTo>
                          <a:lnTo>
                            <a:pt x="38" y="218"/>
                          </a:lnTo>
                          <a:lnTo>
                            <a:pt x="34" y="223"/>
                          </a:lnTo>
                          <a:lnTo>
                            <a:pt x="32" y="229"/>
                          </a:lnTo>
                          <a:lnTo>
                            <a:pt x="34" y="237"/>
                          </a:lnTo>
                          <a:lnTo>
                            <a:pt x="36" y="231"/>
                          </a:lnTo>
                          <a:lnTo>
                            <a:pt x="39" y="230"/>
                          </a:lnTo>
                          <a:lnTo>
                            <a:pt x="44" y="231"/>
                          </a:lnTo>
                          <a:lnTo>
                            <a:pt x="48" y="235"/>
                          </a:lnTo>
                          <a:lnTo>
                            <a:pt x="48" y="237"/>
                          </a:lnTo>
                          <a:lnTo>
                            <a:pt x="48" y="241"/>
                          </a:lnTo>
                          <a:lnTo>
                            <a:pt x="46" y="242"/>
                          </a:lnTo>
                          <a:lnTo>
                            <a:pt x="39" y="242"/>
                          </a:lnTo>
                          <a:lnTo>
                            <a:pt x="34" y="242"/>
                          </a:lnTo>
                          <a:lnTo>
                            <a:pt x="30" y="242"/>
                          </a:lnTo>
                          <a:lnTo>
                            <a:pt x="25" y="241"/>
                          </a:lnTo>
                          <a:lnTo>
                            <a:pt x="23" y="240"/>
                          </a:lnTo>
                          <a:lnTo>
                            <a:pt x="16" y="245"/>
                          </a:lnTo>
                          <a:lnTo>
                            <a:pt x="12" y="251"/>
                          </a:lnTo>
                          <a:lnTo>
                            <a:pt x="10" y="257"/>
                          </a:lnTo>
                          <a:lnTo>
                            <a:pt x="10" y="265"/>
                          </a:lnTo>
                          <a:lnTo>
                            <a:pt x="11" y="272"/>
                          </a:lnTo>
                          <a:lnTo>
                            <a:pt x="14" y="278"/>
                          </a:lnTo>
                          <a:lnTo>
                            <a:pt x="19" y="284"/>
                          </a:lnTo>
                          <a:lnTo>
                            <a:pt x="25" y="291"/>
                          </a:lnTo>
                          <a:lnTo>
                            <a:pt x="18" y="291"/>
                          </a:lnTo>
                          <a:lnTo>
                            <a:pt x="13" y="291"/>
                          </a:lnTo>
                          <a:lnTo>
                            <a:pt x="6" y="286"/>
                          </a:lnTo>
                          <a:lnTo>
                            <a:pt x="2" y="281"/>
                          </a:lnTo>
                          <a:lnTo>
                            <a:pt x="0" y="274"/>
                          </a:lnTo>
                          <a:lnTo>
                            <a:pt x="0" y="267"/>
                          </a:lnTo>
                          <a:lnTo>
                            <a:pt x="0" y="258"/>
                          </a:lnTo>
                          <a:lnTo>
                            <a:pt x="0" y="251"/>
                          </a:lnTo>
                          <a:lnTo>
                            <a:pt x="0" y="243"/>
                          </a:lnTo>
                          <a:lnTo>
                            <a:pt x="1" y="237"/>
                          </a:lnTo>
                          <a:lnTo>
                            <a:pt x="4" y="228"/>
                          </a:lnTo>
                          <a:lnTo>
                            <a:pt x="10" y="220"/>
                          </a:lnTo>
                          <a:lnTo>
                            <a:pt x="15" y="214"/>
                          </a:lnTo>
                          <a:lnTo>
                            <a:pt x="24" y="209"/>
                          </a:lnTo>
                          <a:lnTo>
                            <a:pt x="30" y="204"/>
                          </a:lnTo>
                          <a:lnTo>
                            <a:pt x="39" y="201"/>
                          </a:lnTo>
                          <a:lnTo>
                            <a:pt x="48" y="199"/>
                          </a:lnTo>
                          <a:lnTo>
                            <a:pt x="57" y="197"/>
                          </a:lnTo>
                          <a:lnTo>
                            <a:pt x="62" y="198"/>
                          </a:lnTo>
                          <a:lnTo>
                            <a:pt x="69" y="201"/>
                          </a:lnTo>
                          <a:lnTo>
                            <a:pt x="75" y="205"/>
                          </a:lnTo>
                          <a:lnTo>
                            <a:pt x="83" y="211"/>
                          </a:lnTo>
                          <a:lnTo>
                            <a:pt x="87" y="215"/>
                          </a:lnTo>
                          <a:lnTo>
                            <a:pt x="93" y="219"/>
                          </a:lnTo>
                          <a:lnTo>
                            <a:pt x="100" y="223"/>
                          </a:lnTo>
                          <a:lnTo>
                            <a:pt x="108" y="226"/>
                          </a:lnTo>
                          <a:lnTo>
                            <a:pt x="105" y="231"/>
                          </a:lnTo>
                          <a:lnTo>
                            <a:pt x="106" y="236"/>
                          </a:lnTo>
                          <a:lnTo>
                            <a:pt x="108" y="240"/>
                          </a:lnTo>
                          <a:lnTo>
                            <a:pt x="113" y="245"/>
                          </a:lnTo>
                          <a:lnTo>
                            <a:pt x="117" y="247"/>
                          </a:lnTo>
                          <a:lnTo>
                            <a:pt x="123" y="249"/>
                          </a:lnTo>
                          <a:lnTo>
                            <a:pt x="127" y="249"/>
                          </a:lnTo>
                          <a:lnTo>
                            <a:pt x="133" y="248"/>
                          </a:lnTo>
                          <a:lnTo>
                            <a:pt x="132" y="252"/>
                          </a:lnTo>
                          <a:lnTo>
                            <a:pt x="133" y="257"/>
                          </a:lnTo>
                          <a:lnTo>
                            <a:pt x="135" y="262"/>
                          </a:lnTo>
                          <a:lnTo>
                            <a:pt x="138" y="268"/>
                          </a:lnTo>
                          <a:lnTo>
                            <a:pt x="138" y="273"/>
                          </a:lnTo>
                          <a:lnTo>
                            <a:pt x="138" y="277"/>
                          </a:lnTo>
                          <a:lnTo>
                            <a:pt x="134" y="281"/>
                          </a:lnTo>
                          <a:lnTo>
                            <a:pt x="128" y="285"/>
                          </a:lnTo>
                          <a:lnTo>
                            <a:pt x="125" y="289"/>
                          </a:lnTo>
                          <a:lnTo>
                            <a:pt x="124" y="296"/>
                          </a:lnTo>
                          <a:lnTo>
                            <a:pt x="124" y="303"/>
                          </a:lnTo>
                          <a:lnTo>
                            <a:pt x="124" y="308"/>
                          </a:lnTo>
                          <a:lnTo>
                            <a:pt x="128" y="303"/>
                          </a:lnTo>
                          <a:lnTo>
                            <a:pt x="137" y="304"/>
                          </a:lnTo>
                          <a:lnTo>
                            <a:pt x="140" y="304"/>
                          </a:lnTo>
                          <a:lnTo>
                            <a:pt x="143" y="304"/>
                          </a:lnTo>
                          <a:lnTo>
                            <a:pt x="145" y="302"/>
                          </a:lnTo>
                          <a:lnTo>
                            <a:pt x="147" y="298"/>
                          </a:lnTo>
                          <a:lnTo>
                            <a:pt x="143" y="297"/>
                          </a:lnTo>
                          <a:lnTo>
                            <a:pt x="138" y="297"/>
                          </a:lnTo>
                          <a:lnTo>
                            <a:pt x="132" y="297"/>
                          </a:lnTo>
                          <a:lnTo>
                            <a:pt x="129" y="297"/>
                          </a:lnTo>
                          <a:lnTo>
                            <a:pt x="129" y="290"/>
                          </a:lnTo>
                          <a:lnTo>
                            <a:pt x="133" y="285"/>
                          </a:lnTo>
                          <a:lnTo>
                            <a:pt x="138" y="281"/>
                          </a:lnTo>
                          <a:lnTo>
                            <a:pt x="143" y="281"/>
                          </a:lnTo>
                          <a:lnTo>
                            <a:pt x="149" y="282"/>
                          </a:lnTo>
                          <a:lnTo>
                            <a:pt x="155" y="285"/>
                          </a:lnTo>
                          <a:lnTo>
                            <a:pt x="160" y="289"/>
                          </a:lnTo>
                          <a:lnTo>
                            <a:pt x="164" y="295"/>
                          </a:lnTo>
                          <a:lnTo>
                            <a:pt x="168" y="293"/>
                          </a:lnTo>
                          <a:lnTo>
                            <a:pt x="171" y="291"/>
                          </a:lnTo>
                          <a:lnTo>
                            <a:pt x="171" y="288"/>
                          </a:lnTo>
                          <a:lnTo>
                            <a:pt x="170" y="286"/>
                          </a:lnTo>
                          <a:lnTo>
                            <a:pt x="164" y="281"/>
                          </a:lnTo>
                          <a:lnTo>
                            <a:pt x="160" y="282"/>
                          </a:lnTo>
                          <a:lnTo>
                            <a:pt x="157" y="276"/>
                          </a:lnTo>
                          <a:lnTo>
                            <a:pt x="158" y="273"/>
                          </a:lnTo>
                          <a:lnTo>
                            <a:pt x="161" y="270"/>
                          </a:lnTo>
                          <a:lnTo>
                            <a:pt x="164" y="269"/>
                          </a:lnTo>
                          <a:lnTo>
                            <a:pt x="168" y="267"/>
                          </a:lnTo>
                          <a:lnTo>
                            <a:pt x="171" y="265"/>
                          </a:lnTo>
                          <a:lnTo>
                            <a:pt x="173" y="262"/>
                          </a:lnTo>
                          <a:lnTo>
                            <a:pt x="173" y="258"/>
                          </a:lnTo>
                          <a:lnTo>
                            <a:pt x="170" y="258"/>
                          </a:lnTo>
                          <a:lnTo>
                            <a:pt x="166" y="260"/>
                          </a:lnTo>
                          <a:lnTo>
                            <a:pt x="162" y="262"/>
                          </a:lnTo>
                          <a:lnTo>
                            <a:pt x="158" y="263"/>
                          </a:lnTo>
                          <a:lnTo>
                            <a:pt x="158" y="258"/>
                          </a:lnTo>
                          <a:lnTo>
                            <a:pt x="161" y="255"/>
                          </a:lnTo>
                          <a:lnTo>
                            <a:pt x="163" y="251"/>
                          </a:lnTo>
                          <a:lnTo>
                            <a:pt x="166" y="249"/>
                          </a:lnTo>
                          <a:lnTo>
                            <a:pt x="158" y="244"/>
                          </a:lnTo>
                          <a:lnTo>
                            <a:pt x="152" y="237"/>
                          </a:lnTo>
                          <a:lnTo>
                            <a:pt x="145" y="229"/>
                          </a:lnTo>
                          <a:lnTo>
                            <a:pt x="139" y="223"/>
                          </a:lnTo>
                          <a:lnTo>
                            <a:pt x="141" y="218"/>
                          </a:lnTo>
                          <a:lnTo>
                            <a:pt x="145" y="216"/>
                          </a:lnTo>
                          <a:lnTo>
                            <a:pt x="150" y="215"/>
                          </a:lnTo>
                          <a:lnTo>
                            <a:pt x="155" y="216"/>
                          </a:lnTo>
                          <a:lnTo>
                            <a:pt x="159" y="217"/>
                          </a:lnTo>
                          <a:lnTo>
                            <a:pt x="162" y="220"/>
                          </a:lnTo>
                          <a:lnTo>
                            <a:pt x="163" y="224"/>
                          </a:lnTo>
                          <a:lnTo>
                            <a:pt x="163" y="231"/>
                          </a:lnTo>
                          <a:lnTo>
                            <a:pt x="166" y="230"/>
                          </a:lnTo>
                          <a:lnTo>
                            <a:pt x="171" y="229"/>
                          </a:lnTo>
                          <a:lnTo>
                            <a:pt x="176" y="228"/>
                          </a:lnTo>
                          <a:lnTo>
                            <a:pt x="180" y="228"/>
                          </a:lnTo>
                          <a:lnTo>
                            <a:pt x="173" y="219"/>
                          </a:lnTo>
                          <a:lnTo>
                            <a:pt x="174" y="210"/>
                          </a:lnTo>
                          <a:lnTo>
                            <a:pt x="178" y="200"/>
                          </a:lnTo>
                          <a:lnTo>
                            <a:pt x="185" y="194"/>
                          </a:lnTo>
                          <a:lnTo>
                            <a:pt x="189" y="190"/>
                          </a:lnTo>
                          <a:lnTo>
                            <a:pt x="194" y="187"/>
                          </a:lnTo>
                          <a:lnTo>
                            <a:pt x="191" y="193"/>
                          </a:lnTo>
                          <a:lnTo>
                            <a:pt x="191" y="200"/>
                          </a:lnTo>
                          <a:lnTo>
                            <a:pt x="191" y="208"/>
                          </a:lnTo>
                          <a:lnTo>
                            <a:pt x="192" y="216"/>
                          </a:lnTo>
                          <a:lnTo>
                            <a:pt x="192" y="222"/>
                          </a:lnTo>
                          <a:lnTo>
                            <a:pt x="192" y="229"/>
                          </a:lnTo>
                          <a:lnTo>
                            <a:pt x="189" y="236"/>
                          </a:lnTo>
                          <a:lnTo>
                            <a:pt x="186" y="242"/>
                          </a:lnTo>
                          <a:lnTo>
                            <a:pt x="185" y="245"/>
                          </a:lnTo>
                          <a:lnTo>
                            <a:pt x="187" y="250"/>
                          </a:lnTo>
                          <a:lnTo>
                            <a:pt x="189" y="255"/>
                          </a:lnTo>
                          <a:lnTo>
                            <a:pt x="192" y="258"/>
                          </a:lnTo>
                          <a:lnTo>
                            <a:pt x="189" y="249"/>
                          </a:lnTo>
                          <a:lnTo>
                            <a:pt x="195" y="244"/>
                          </a:lnTo>
                          <a:lnTo>
                            <a:pt x="198" y="243"/>
                          </a:lnTo>
                          <a:lnTo>
                            <a:pt x="201" y="245"/>
                          </a:lnTo>
                          <a:lnTo>
                            <a:pt x="204" y="247"/>
                          </a:lnTo>
                          <a:lnTo>
                            <a:pt x="203" y="244"/>
                          </a:lnTo>
                          <a:lnTo>
                            <a:pt x="202" y="239"/>
                          </a:lnTo>
                          <a:lnTo>
                            <a:pt x="204" y="235"/>
                          </a:lnTo>
                          <a:lnTo>
                            <a:pt x="204" y="230"/>
                          </a:lnTo>
                          <a:lnTo>
                            <a:pt x="207" y="229"/>
                          </a:lnTo>
                          <a:lnTo>
                            <a:pt x="209" y="230"/>
                          </a:lnTo>
                          <a:lnTo>
                            <a:pt x="214" y="237"/>
                          </a:lnTo>
                          <a:lnTo>
                            <a:pt x="215" y="231"/>
                          </a:lnTo>
                          <a:lnTo>
                            <a:pt x="216" y="225"/>
                          </a:lnTo>
                          <a:lnTo>
                            <a:pt x="215" y="219"/>
                          </a:lnTo>
                          <a:lnTo>
                            <a:pt x="214" y="215"/>
                          </a:lnTo>
                          <a:lnTo>
                            <a:pt x="211" y="209"/>
                          </a:lnTo>
                          <a:lnTo>
                            <a:pt x="210" y="204"/>
                          </a:lnTo>
                          <a:lnTo>
                            <a:pt x="209" y="199"/>
                          </a:lnTo>
                          <a:lnTo>
                            <a:pt x="211" y="194"/>
                          </a:lnTo>
                          <a:lnTo>
                            <a:pt x="206" y="189"/>
                          </a:lnTo>
                          <a:lnTo>
                            <a:pt x="201" y="184"/>
                          </a:lnTo>
                          <a:lnTo>
                            <a:pt x="196" y="180"/>
                          </a:lnTo>
                          <a:lnTo>
                            <a:pt x="194" y="177"/>
                          </a:lnTo>
                          <a:lnTo>
                            <a:pt x="198" y="173"/>
                          </a:lnTo>
                          <a:lnTo>
                            <a:pt x="204" y="169"/>
                          </a:lnTo>
                          <a:lnTo>
                            <a:pt x="209" y="171"/>
                          </a:lnTo>
                          <a:lnTo>
                            <a:pt x="214" y="176"/>
                          </a:lnTo>
                          <a:lnTo>
                            <a:pt x="217" y="181"/>
                          </a:lnTo>
                          <a:lnTo>
                            <a:pt x="220" y="187"/>
                          </a:lnTo>
                          <a:lnTo>
                            <a:pt x="222" y="193"/>
                          </a:lnTo>
                          <a:lnTo>
                            <a:pt x="225" y="199"/>
                          </a:lnTo>
                          <a:lnTo>
                            <a:pt x="227" y="206"/>
                          </a:lnTo>
                          <a:lnTo>
                            <a:pt x="231" y="213"/>
                          </a:lnTo>
                          <a:lnTo>
                            <a:pt x="233" y="208"/>
                          </a:lnTo>
                          <a:lnTo>
                            <a:pt x="238" y="203"/>
                          </a:lnTo>
                          <a:lnTo>
                            <a:pt x="242" y="198"/>
                          </a:lnTo>
                          <a:lnTo>
                            <a:pt x="246" y="195"/>
                          </a:lnTo>
                          <a:lnTo>
                            <a:pt x="247" y="197"/>
                          </a:lnTo>
                          <a:lnTo>
                            <a:pt x="250" y="201"/>
                          </a:lnTo>
                          <a:lnTo>
                            <a:pt x="253" y="205"/>
                          </a:lnTo>
                          <a:lnTo>
                            <a:pt x="256" y="208"/>
                          </a:lnTo>
                          <a:lnTo>
                            <a:pt x="256" y="203"/>
                          </a:lnTo>
                          <a:lnTo>
                            <a:pt x="257" y="197"/>
                          </a:lnTo>
                          <a:lnTo>
                            <a:pt x="257" y="189"/>
                          </a:lnTo>
                          <a:lnTo>
                            <a:pt x="258" y="184"/>
                          </a:lnTo>
                          <a:lnTo>
                            <a:pt x="254" y="183"/>
                          </a:lnTo>
                          <a:lnTo>
                            <a:pt x="249" y="183"/>
                          </a:lnTo>
                          <a:lnTo>
                            <a:pt x="243" y="183"/>
                          </a:lnTo>
                          <a:lnTo>
                            <a:pt x="239" y="184"/>
                          </a:lnTo>
                          <a:lnTo>
                            <a:pt x="235" y="180"/>
                          </a:lnTo>
                          <a:lnTo>
                            <a:pt x="231" y="176"/>
                          </a:lnTo>
                          <a:lnTo>
                            <a:pt x="238" y="171"/>
                          </a:lnTo>
                          <a:lnTo>
                            <a:pt x="245" y="166"/>
                          </a:lnTo>
                          <a:lnTo>
                            <a:pt x="252" y="160"/>
                          </a:lnTo>
                          <a:lnTo>
                            <a:pt x="259" y="156"/>
                          </a:lnTo>
                          <a:lnTo>
                            <a:pt x="258" y="158"/>
                          </a:lnTo>
                          <a:lnTo>
                            <a:pt x="257" y="162"/>
                          </a:lnTo>
                          <a:lnTo>
                            <a:pt x="255" y="166"/>
                          </a:lnTo>
                          <a:lnTo>
                            <a:pt x="253" y="169"/>
                          </a:lnTo>
                          <a:lnTo>
                            <a:pt x="257" y="167"/>
                          </a:lnTo>
                          <a:lnTo>
                            <a:pt x="261" y="168"/>
                          </a:lnTo>
                          <a:lnTo>
                            <a:pt x="264" y="171"/>
                          </a:lnTo>
                          <a:lnTo>
                            <a:pt x="267" y="176"/>
                          </a:lnTo>
                          <a:lnTo>
                            <a:pt x="270" y="179"/>
                          </a:lnTo>
                          <a:lnTo>
                            <a:pt x="273" y="181"/>
                          </a:lnTo>
                          <a:lnTo>
                            <a:pt x="276" y="181"/>
                          </a:lnTo>
                          <a:lnTo>
                            <a:pt x="283" y="180"/>
                          </a:lnTo>
                          <a:lnTo>
                            <a:pt x="286" y="179"/>
                          </a:lnTo>
                          <a:lnTo>
                            <a:pt x="292" y="179"/>
                          </a:lnTo>
                          <a:lnTo>
                            <a:pt x="297" y="179"/>
                          </a:lnTo>
                          <a:lnTo>
                            <a:pt x="302" y="180"/>
                          </a:lnTo>
                          <a:lnTo>
                            <a:pt x="299" y="172"/>
                          </a:lnTo>
                          <a:lnTo>
                            <a:pt x="300" y="166"/>
                          </a:lnTo>
                          <a:lnTo>
                            <a:pt x="302" y="161"/>
                          </a:lnTo>
                          <a:lnTo>
                            <a:pt x="305" y="158"/>
                          </a:lnTo>
                          <a:lnTo>
                            <a:pt x="312" y="150"/>
                          </a:lnTo>
                          <a:lnTo>
                            <a:pt x="310" y="145"/>
                          </a:lnTo>
                          <a:lnTo>
                            <a:pt x="306" y="145"/>
                          </a:lnTo>
                          <a:lnTo>
                            <a:pt x="303" y="142"/>
                          </a:lnTo>
                          <a:lnTo>
                            <a:pt x="302" y="137"/>
                          </a:lnTo>
                          <a:lnTo>
                            <a:pt x="301" y="131"/>
                          </a:lnTo>
                          <a:lnTo>
                            <a:pt x="303" y="128"/>
                          </a:lnTo>
                          <a:lnTo>
                            <a:pt x="307" y="126"/>
                          </a:lnTo>
                          <a:lnTo>
                            <a:pt x="314" y="129"/>
                          </a:lnTo>
                          <a:lnTo>
                            <a:pt x="314" y="137"/>
                          </a:lnTo>
                          <a:lnTo>
                            <a:pt x="321" y="139"/>
                          </a:lnTo>
                          <a:lnTo>
                            <a:pt x="327" y="134"/>
                          </a:lnTo>
                          <a:lnTo>
                            <a:pt x="330" y="127"/>
                          </a:lnTo>
                          <a:lnTo>
                            <a:pt x="333" y="122"/>
                          </a:lnTo>
                          <a:lnTo>
                            <a:pt x="333" y="114"/>
                          </a:lnTo>
                          <a:lnTo>
                            <a:pt x="334" y="107"/>
                          </a:lnTo>
                          <a:lnTo>
                            <a:pt x="336" y="100"/>
                          </a:lnTo>
                          <a:lnTo>
                            <a:pt x="339" y="94"/>
                          </a:lnTo>
                          <a:lnTo>
                            <a:pt x="344" y="88"/>
                          </a:lnTo>
                          <a:lnTo>
                            <a:pt x="348" y="87"/>
                          </a:lnTo>
                          <a:lnTo>
                            <a:pt x="350" y="88"/>
                          </a:lnTo>
                          <a:lnTo>
                            <a:pt x="352" y="93"/>
                          </a:lnTo>
                          <a:lnTo>
                            <a:pt x="352" y="98"/>
                          </a:lnTo>
                          <a:lnTo>
                            <a:pt x="352" y="104"/>
                          </a:lnTo>
                          <a:lnTo>
                            <a:pt x="352" y="108"/>
                          </a:lnTo>
                          <a:lnTo>
                            <a:pt x="352" y="114"/>
                          </a:lnTo>
                          <a:lnTo>
                            <a:pt x="357" y="114"/>
                          </a:lnTo>
                          <a:lnTo>
                            <a:pt x="362" y="114"/>
                          </a:lnTo>
                          <a:lnTo>
                            <a:pt x="360" y="107"/>
                          </a:lnTo>
                          <a:lnTo>
                            <a:pt x="362" y="103"/>
                          </a:lnTo>
                          <a:lnTo>
                            <a:pt x="366" y="99"/>
                          </a:lnTo>
                          <a:lnTo>
                            <a:pt x="372" y="96"/>
                          </a:lnTo>
                          <a:lnTo>
                            <a:pt x="378" y="93"/>
                          </a:lnTo>
                          <a:lnTo>
                            <a:pt x="384" y="90"/>
                          </a:lnTo>
                          <a:lnTo>
                            <a:pt x="389" y="87"/>
                          </a:lnTo>
                          <a:lnTo>
                            <a:pt x="394" y="85"/>
                          </a:lnTo>
                          <a:lnTo>
                            <a:pt x="402" y="83"/>
                          </a:lnTo>
                          <a:lnTo>
                            <a:pt x="410" y="80"/>
                          </a:lnTo>
                          <a:lnTo>
                            <a:pt x="418" y="74"/>
                          </a:lnTo>
                          <a:lnTo>
                            <a:pt x="426" y="69"/>
                          </a:lnTo>
                          <a:lnTo>
                            <a:pt x="419" y="64"/>
                          </a:lnTo>
                          <a:lnTo>
                            <a:pt x="418" y="60"/>
                          </a:lnTo>
                          <a:lnTo>
                            <a:pt x="421" y="57"/>
                          </a:lnTo>
                          <a:lnTo>
                            <a:pt x="427" y="54"/>
                          </a:lnTo>
                          <a:lnTo>
                            <a:pt x="432" y="50"/>
                          </a:lnTo>
                          <a:lnTo>
                            <a:pt x="439" y="47"/>
                          </a:lnTo>
                          <a:lnTo>
                            <a:pt x="445" y="45"/>
                          </a:lnTo>
                          <a:lnTo>
                            <a:pt x="448" y="42"/>
                          </a:lnTo>
                          <a:lnTo>
                            <a:pt x="449" y="44"/>
                          </a:lnTo>
                          <a:lnTo>
                            <a:pt x="452" y="48"/>
                          </a:lnTo>
                          <a:lnTo>
                            <a:pt x="454" y="52"/>
                          </a:lnTo>
                          <a:lnTo>
                            <a:pt x="457" y="55"/>
                          </a:lnTo>
                          <a:lnTo>
                            <a:pt x="459" y="53"/>
                          </a:lnTo>
                          <a:lnTo>
                            <a:pt x="462" y="51"/>
                          </a:lnTo>
                          <a:lnTo>
                            <a:pt x="455" y="47"/>
                          </a:lnTo>
                          <a:lnTo>
                            <a:pt x="453" y="44"/>
                          </a:lnTo>
                          <a:lnTo>
                            <a:pt x="454" y="39"/>
                          </a:lnTo>
                          <a:lnTo>
                            <a:pt x="457" y="34"/>
                          </a:lnTo>
                          <a:lnTo>
                            <a:pt x="463" y="24"/>
                          </a:lnTo>
                          <a:lnTo>
                            <a:pt x="464" y="15"/>
                          </a:lnTo>
                          <a:lnTo>
                            <a:pt x="465" y="11"/>
                          </a:lnTo>
                          <a:lnTo>
                            <a:pt x="466" y="8"/>
                          </a:lnTo>
                          <a:lnTo>
                            <a:pt x="468" y="4"/>
                          </a:lnTo>
                          <a:lnTo>
                            <a:pt x="470" y="3"/>
                          </a:lnTo>
                          <a:lnTo>
                            <a:pt x="470" y="3"/>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1" name=""/>
                    <p:cNvSpPr/>
                    <p:nvPr/>
                  </p:nvSpPr>
                  <p:spPr>
                    <a:xfrm rot="4972200">
                      <a:off x="1170720" y="2620800"/>
                      <a:ext cx="24120" cy="18720"/>
                    </a:xfrm>
                    <a:custGeom>
                      <a:avLst/>
                      <a:gdLst/>
                      <a:ahLst/>
                      <a:rect l="l" t="t" r="r" b="b"/>
                      <a:pathLst>
                        <a:path w="27" h="21">
                          <a:moveTo>
                            <a:pt x="27" y="1"/>
                          </a:moveTo>
                          <a:lnTo>
                            <a:pt x="19" y="2"/>
                          </a:lnTo>
                          <a:lnTo>
                            <a:pt x="12" y="3"/>
                          </a:lnTo>
                          <a:lnTo>
                            <a:pt x="6" y="1"/>
                          </a:lnTo>
                          <a:lnTo>
                            <a:pt x="0" y="0"/>
                          </a:lnTo>
                          <a:lnTo>
                            <a:pt x="2" y="3"/>
                          </a:lnTo>
                          <a:lnTo>
                            <a:pt x="5" y="10"/>
                          </a:lnTo>
                          <a:lnTo>
                            <a:pt x="6" y="16"/>
                          </a:lnTo>
                          <a:lnTo>
                            <a:pt x="8" y="21"/>
                          </a:lnTo>
                          <a:lnTo>
                            <a:pt x="15" y="20"/>
                          </a:lnTo>
                          <a:lnTo>
                            <a:pt x="20" y="16"/>
                          </a:lnTo>
                          <a:lnTo>
                            <a:pt x="23" y="8"/>
                          </a:lnTo>
                          <a:lnTo>
                            <a:pt x="27" y="1"/>
                          </a:lnTo>
                          <a:lnTo>
                            <a:pt x="27" y="1"/>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682" name=""/>
                    <p:cNvSpPr/>
                    <p:nvPr/>
                  </p:nvSpPr>
                  <p:spPr>
                    <a:xfrm rot="4972200">
                      <a:off x="1300320" y="2755440"/>
                      <a:ext cx="10440" cy="10800"/>
                    </a:xfrm>
                    <a:custGeom>
                      <a:avLst/>
                      <a:gdLst/>
                      <a:ahLst/>
                      <a:rect l="l" t="t" r="r" b="b"/>
                      <a:pathLst>
                        <a:path w="12" h="12">
                          <a:moveTo>
                            <a:pt x="3" y="0"/>
                          </a:moveTo>
                          <a:lnTo>
                            <a:pt x="8" y="3"/>
                          </a:lnTo>
                          <a:lnTo>
                            <a:pt x="12" y="10"/>
                          </a:lnTo>
                          <a:lnTo>
                            <a:pt x="12" y="11"/>
                          </a:lnTo>
                          <a:lnTo>
                            <a:pt x="11" y="12"/>
                          </a:lnTo>
                          <a:lnTo>
                            <a:pt x="7" y="11"/>
                          </a:lnTo>
                          <a:lnTo>
                            <a:pt x="0" y="8"/>
                          </a:lnTo>
                          <a:lnTo>
                            <a:pt x="1" y="2"/>
                          </a:lnTo>
                          <a:lnTo>
                            <a:pt x="3" y="0"/>
                          </a:lnTo>
                          <a:lnTo>
                            <a:pt x="3"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83" name=""/>
                    <p:cNvSpPr/>
                    <p:nvPr/>
                  </p:nvSpPr>
                  <p:spPr>
                    <a:xfrm rot="4972200">
                      <a:off x="1265040" y="2777400"/>
                      <a:ext cx="22320" cy="47520"/>
                    </a:xfrm>
                    <a:custGeom>
                      <a:avLst/>
                      <a:gdLst/>
                      <a:ahLst/>
                      <a:rect l="l" t="t" r="r" b="b"/>
                      <a:pathLst>
                        <a:path w="25" h="53">
                          <a:moveTo>
                            <a:pt x="13" y="0"/>
                          </a:moveTo>
                          <a:lnTo>
                            <a:pt x="18" y="3"/>
                          </a:lnTo>
                          <a:lnTo>
                            <a:pt x="23" y="10"/>
                          </a:lnTo>
                          <a:lnTo>
                            <a:pt x="24" y="16"/>
                          </a:lnTo>
                          <a:lnTo>
                            <a:pt x="25" y="25"/>
                          </a:lnTo>
                          <a:lnTo>
                            <a:pt x="22" y="33"/>
                          </a:lnTo>
                          <a:lnTo>
                            <a:pt x="20" y="40"/>
                          </a:lnTo>
                          <a:lnTo>
                            <a:pt x="15" y="47"/>
                          </a:lnTo>
                          <a:lnTo>
                            <a:pt x="12" y="53"/>
                          </a:lnTo>
                          <a:lnTo>
                            <a:pt x="9" y="50"/>
                          </a:lnTo>
                          <a:lnTo>
                            <a:pt x="5" y="48"/>
                          </a:lnTo>
                          <a:lnTo>
                            <a:pt x="1" y="45"/>
                          </a:lnTo>
                          <a:lnTo>
                            <a:pt x="0" y="44"/>
                          </a:lnTo>
                          <a:lnTo>
                            <a:pt x="6" y="41"/>
                          </a:lnTo>
                          <a:lnTo>
                            <a:pt x="9" y="37"/>
                          </a:lnTo>
                          <a:lnTo>
                            <a:pt x="9" y="31"/>
                          </a:lnTo>
                          <a:lnTo>
                            <a:pt x="9" y="25"/>
                          </a:lnTo>
                          <a:lnTo>
                            <a:pt x="7" y="17"/>
                          </a:lnTo>
                          <a:lnTo>
                            <a:pt x="8" y="11"/>
                          </a:lnTo>
                          <a:lnTo>
                            <a:pt x="9" y="4"/>
                          </a:lnTo>
                          <a:lnTo>
                            <a:pt x="13" y="0"/>
                          </a:lnTo>
                          <a:lnTo>
                            <a:pt x="13"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84" name=""/>
                    <p:cNvSpPr/>
                    <p:nvPr/>
                  </p:nvSpPr>
                  <p:spPr>
                    <a:xfrm rot="4972200">
                      <a:off x="1249560" y="2724120"/>
                      <a:ext cx="33120" cy="27720"/>
                    </a:xfrm>
                    <a:custGeom>
                      <a:avLst/>
                      <a:gdLst/>
                      <a:ahLst/>
                      <a:rect l="l" t="t" r="r" b="b"/>
                      <a:pathLst>
                        <a:path w="37" h="31">
                          <a:moveTo>
                            <a:pt x="18" y="0"/>
                          </a:moveTo>
                          <a:lnTo>
                            <a:pt x="18" y="1"/>
                          </a:lnTo>
                          <a:lnTo>
                            <a:pt x="19" y="5"/>
                          </a:lnTo>
                          <a:lnTo>
                            <a:pt x="19" y="10"/>
                          </a:lnTo>
                          <a:lnTo>
                            <a:pt x="21" y="15"/>
                          </a:lnTo>
                          <a:lnTo>
                            <a:pt x="23" y="12"/>
                          </a:lnTo>
                          <a:lnTo>
                            <a:pt x="28" y="8"/>
                          </a:lnTo>
                          <a:lnTo>
                            <a:pt x="32" y="4"/>
                          </a:lnTo>
                          <a:lnTo>
                            <a:pt x="34" y="3"/>
                          </a:lnTo>
                          <a:lnTo>
                            <a:pt x="35" y="9"/>
                          </a:lnTo>
                          <a:lnTo>
                            <a:pt x="37" y="16"/>
                          </a:lnTo>
                          <a:lnTo>
                            <a:pt x="35" y="22"/>
                          </a:lnTo>
                          <a:lnTo>
                            <a:pt x="33" y="26"/>
                          </a:lnTo>
                          <a:lnTo>
                            <a:pt x="27" y="29"/>
                          </a:lnTo>
                          <a:lnTo>
                            <a:pt x="22" y="31"/>
                          </a:lnTo>
                          <a:lnTo>
                            <a:pt x="15" y="30"/>
                          </a:lnTo>
                          <a:lnTo>
                            <a:pt x="9" y="29"/>
                          </a:lnTo>
                          <a:lnTo>
                            <a:pt x="3" y="25"/>
                          </a:lnTo>
                          <a:lnTo>
                            <a:pt x="0" y="22"/>
                          </a:lnTo>
                          <a:lnTo>
                            <a:pt x="4" y="22"/>
                          </a:lnTo>
                          <a:lnTo>
                            <a:pt x="8" y="21"/>
                          </a:lnTo>
                          <a:lnTo>
                            <a:pt x="9" y="17"/>
                          </a:lnTo>
                          <a:lnTo>
                            <a:pt x="10" y="13"/>
                          </a:lnTo>
                          <a:lnTo>
                            <a:pt x="10" y="8"/>
                          </a:lnTo>
                          <a:lnTo>
                            <a:pt x="11" y="3"/>
                          </a:lnTo>
                          <a:lnTo>
                            <a:pt x="13" y="1"/>
                          </a:lnTo>
                          <a:lnTo>
                            <a:pt x="18" y="0"/>
                          </a:lnTo>
                          <a:lnTo>
                            <a:pt x="18"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685" name=""/>
                    <p:cNvSpPr/>
                    <p:nvPr/>
                  </p:nvSpPr>
                  <p:spPr>
                    <a:xfrm rot="4972200">
                      <a:off x="1253160" y="2689920"/>
                      <a:ext cx="7920" cy="15840"/>
                    </a:xfrm>
                    <a:custGeom>
                      <a:avLst/>
                      <a:gdLst/>
                      <a:ahLst/>
                      <a:rect l="l" t="t" r="r" b="b"/>
                      <a:pathLst>
                        <a:path w="9" h="18">
                          <a:moveTo>
                            <a:pt x="5" y="0"/>
                          </a:moveTo>
                          <a:lnTo>
                            <a:pt x="8" y="6"/>
                          </a:lnTo>
                          <a:lnTo>
                            <a:pt x="9" y="11"/>
                          </a:lnTo>
                          <a:lnTo>
                            <a:pt x="7" y="15"/>
                          </a:lnTo>
                          <a:lnTo>
                            <a:pt x="5" y="18"/>
                          </a:lnTo>
                          <a:lnTo>
                            <a:pt x="2" y="18"/>
                          </a:lnTo>
                          <a:lnTo>
                            <a:pt x="0" y="16"/>
                          </a:lnTo>
                          <a:lnTo>
                            <a:pt x="0" y="12"/>
                          </a:lnTo>
                          <a:lnTo>
                            <a:pt x="4" y="7"/>
                          </a:lnTo>
                          <a:lnTo>
                            <a:pt x="4" y="3"/>
                          </a:lnTo>
                          <a:lnTo>
                            <a:pt x="5" y="0"/>
                          </a:lnTo>
                          <a:lnTo>
                            <a:pt x="5"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686" name=""/>
                    <p:cNvSpPr/>
                    <p:nvPr/>
                  </p:nvSpPr>
                  <p:spPr>
                    <a:xfrm rot="4972200">
                      <a:off x="1248120" y="2653200"/>
                      <a:ext cx="7200" cy="13320"/>
                    </a:xfrm>
                    <a:custGeom>
                      <a:avLst/>
                      <a:gdLst/>
                      <a:ahLst/>
                      <a:rect l="l" t="t" r="r" b="b"/>
                      <a:pathLst>
                        <a:path w="8" h="15">
                          <a:moveTo>
                            <a:pt x="3" y="0"/>
                          </a:moveTo>
                          <a:lnTo>
                            <a:pt x="6" y="0"/>
                          </a:lnTo>
                          <a:lnTo>
                            <a:pt x="8" y="3"/>
                          </a:lnTo>
                          <a:lnTo>
                            <a:pt x="7" y="8"/>
                          </a:lnTo>
                          <a:lnTo>
                            <a:pt x="7" y="12"/>
                          </a:lnTo>
                          <a:lnTo>
                            <a:pt x="5" y="14"/>
                          </a:lnTo>
                          <a:lnTo>
                            <a:pt x="3" y="15"/>
                          </a:lnTo>
                          <a:lnTo>
                            <a:pt x="0" y="12"/>
                          </a:lnTo>
                          <a:lnTo>
                            <a:pt x="0" y="6"/>
                          </a:lnTo>
                          <a:lnTo>
                            <a:pt x="1" y="2"/>
                          </a:lnTo>
                          <a:lnTo>
                            <a:pt x="3" y="0"/>
                          </a:lnTo>
                          <a:lnTo>
                            <a:pt x="3" y="0"/>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687" name=""/>
                    <p:cNvSpPr/>
                    <p:nvPr/>
                  </p:nvSpPr>
                  <p:spPr>
                    <a:xfrm rot="4972200">
                      <a:off x="1235160" y="2630160"/>
                      <a:ext cx="5040" cy="14040"/>
                    </a:xfrm>
                    <a:custGeom>
                      <a:avLst/>
                      <a:gdLst/>
                      <a:ahLst/>
                      <a:rect l="l" t="t" r="r" b="b"/>
                      <a:pathLst>
                        <a:path w="6" h="16">
                          <a:moveTo>
                            <a:pt x="1" y="0"/>
                          </a:moveTo>
                          <a:lnTo>
                            <a:pt x="4" y="0"/>
                          </a:lnTo>
                          <a:lnTo>
                            <a:pt x="6" y="3"/>
                          </a:lnTo>
                          <a:lnTo>
                            <a:pt x="5" y="7"/>
                          </a:lnTo>
                          <a:lnTo>
                            <a:pt x="5" y="12"/>
                          </a:lnTo>
                          <a:lnTo>
                            <a:pt x="3" y="15"/>
                          </a:lnTo>
                          <a:lnTo>
                            <a:pt x="1" y="16"/>
                          </a:lnTo>
                          <a:lnTo>
                            <a:pt x="0" y="13"/>
                          </a:lnTo>
                          <a:lnTo>
                            <a:pt x="0" y="6"/>
                          </a:lnTo>
                          <a:lnTo>
                            <a:pt x="0" y="2"/>
                          </a:lnTo>
                          <a:lnTo>
                            <a:pt x="1" y="0"/>
                          </a:lnTo>
                          <a:lnTo>
                            <a:pt x="1" y="0"/>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688" name=""/>
                    <p:cNvSpPr/>
                    <p:nvPr/>
                  </p:nvSpPr>
                  <p:spPr>
                    <a:xfrm rot="4972200">
                      <a:off x="1206000" y="2796480"/>
                      <a:ext cx="32040" cy="34920"/>
                    </a:xfrm>
                    <a:custGeom>
                      <a:avLst/>
                      <a:gdLst/>
                      <a:ahLst/>
                      <a:rect l="l" t="t" r="r" b="b"/>
                      <a:pathLst>
                        <a:path w="36" h="39">
                          <a:moveTo>
                            <a:pt x="0" y="0"/>
                          </a:moveTo>
                          <a:lnTo>
                            <a:pt x="4" y="5"/>
                          </a:lnTo>
                          <a:lnTo>
                            <a:pt x="9" y="9"/>
                          </a:lnTo>
                          <a:lnTo>
                            <a:pt x="14" y="13"/>
                          </a:lnTo>
                          <a:lnTo>
                            <a:pt x="21" y="18"/>
                          </a:lnTo>
                          <a:lnTo>
                            <a:pt x="25" y="22"/>
                          </a:lnTo>
                          <a:lnTo>
                            <a:pt x="30" y="26"/>
                          </a:lnTo>
                          <a:lnTo>
                            <a:pt x="33" y="32"/>
                          </a:lnTo>
                          <a:lnTo>
                            <a:pt x="36" y="39"/>
                          </a:lnTo>
                          <a:lnTo>
                            <a:pt x="31" y="33"/>
                          </a:lnTo>
                          <a:lnTo>
                            <a:pt x="25" y="29"/>
                          </a:lnTo>
                          <a:lnTo>
                            <a:pt x="18" y="25"/>
                          </a:lnTo>
                          <a:lnTo>
                            <a:pt x="13" y="22"/>
                          </a:lnTo>
                          <a:lnTo>
                            <a:pt x="7" y="17"/>
                          </a:lnTo>
                          <a:lnTo>
                            <a:pt x="3" y="13"/>
                          </a:lnTo>
                          <a:lnTo>
                            <a:pt x="0" y="6"/>
                          </a:lnTo>
                          <a:lnTo>
                            <a:pt x="0" y="0"/>
                          </a:lnTo>
                          <a:lnTo>
                            <a:pt x="0"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689" name=""/>
                    <p:cNvSpPr/>
                    <p:nvPr/>
                  </p:nvSpPr>
                  <p:spPr>
                    <a:xfrm rot="4972200">
                      <a:off x="1257120" y="2988720"/>
                      <a:ext cx="3600" cy="2520"/>
                    </a:xfrm>
                    <a:custGeom>
                      <a:avLst/>
                      <a:gdLst/>
                      <a:ahLst/>
                      <a:rect l="l" t="t" r="r" b="b"/>
                      <a:pathLst>
                        <a:path w="4" h="3">
                          <a:moveTo>
                            <a:pt x="2" y="0"/>
                          </a:moveTo>
                          <a:lnTo>
                            <a:pt x="4" y="3"/>
                          </a:lnTo>
                          <a:lnTo>
                            <a:pt x="2" y="3"/>
                          </a:lnTo>
                          <a:lnTo>
                            <a:pt x="0" y="1"/>
                          </a:lnTo>
                          <a:lnTo>
                            <a:pt x="2" y="0"/>
                          </a:lnTo>
                          <a:lnTo>
                            <a:pt x="2"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690" name=""/>
                    <p:cNvSpPr/>
                    <p:nvPr/>
                  </p:nvSpPr>
                  <p:spPr>
                    <a:xfrm rot="4972200">
                      <a:off x="1209600" y="2665800"/>
                      <a:ext cx="6120" cy="13320"/>
                    </a:xfrm>
                    <a:custGeom>
                      <a:avLst/>
                      <a:gdLst/>
                      <a:ahLst/>
                      <a:rect l="l" t="t" r="r" b="b"/>
                      <a:pathLst>
                        <a:path w="7" h="15">
                          <a:moveTo>
                            <a:pt x="3" y="0"/>
                          </a:moveTo>
                          <a:lnTo>
                            <a:pt x="5" y="0"/>
                          </a:lnTo>
                          <a:lnTo>
                            <a:pt x="7" y="3"/>
                          </a:lnTo>
                          <a:lnTo>
                            <a:pt x="6" y="7"/>
                          </a:lnTo>
                          <a:lnTo>
                            <a:pt x="6" y="12"/>
                          </a:lnTo>
                          <a:lnTo>
                            <a:pt x="4" y="14"/>
                          </a:lnTo>
                          <a:lnTo>
                            <a:pt x="3" y="15"/>
                          </a:lnTo>
                          <a:lnTo>
                            <a:pt x="0" y="12"/>
                          </a:lnTo>
                          <a:lnTo>
                            <a:pt x="0" y="5"/>
                          </a:lnTo>
                          <a:lnTo>
                            <a:pt x="0" y="2"/>
                          </a:lnTo>
                          <a:lnTo>
                            <a:pt x="3" y="0"/>
                          </a:lnTo>
                          <a:lnTo>
                            <a:pt x="3" y="0"/>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691" name=""/>
                    <p:cNvSpPr/>
                    <p:nvPr/>
                  </p:nvSpPr>
                  <p:spPr>
                    <a:xfrm rot="4972200">
                      <a:off x="1244880" y="2962800"/>
                      <a:ext cx="5040" cy="14400"/>
                    </a:xfrm>
                    <a:custGeom>
                      <a:avLst/>
                      <a:gdLst/>
                      <a:ahLst/>
                      <a:rect l="l" t="t" r="r" b="b"/>
                      <a:pathLst>
                        <a:path w="6" h="16">
                          <a:moveTo>
                            <a:pt x="4" y="0"/>
                          </a:moveTo>
                          <a:lnTo>
                            <a:pt x="5" y="6"/>
                          </a:lnTo>
                          <a:lnTo>
                            <a:pt x="6" y="11"/>
                          </a:lnTo>
                          <a:lnTo>
                            <a:pt x="5" y="14"/>
                          </a:lnTo>
                          <a:lnTo>
                            <a:pt x="4" y="16"/>
                          </a:lnTo>
                          <a:lnTo>
                            <a:pt x="2" y="15"/>
                          </a:lnTo>
                          <a:lnTo>
                            <a:pt x="1" y="13"/>
                          </a:lnTo>
                          <a:lnTo>
                            <a:pt x="0" y="9"/>
                          </a:lnTo>
                          <a:lnTo>
                            <a:pt x="1" y="5"/>
                          </a:lnTo>
                          <a:lnTo>
                            <a:pt x="2" y="2"/>
                          </a:lnTo>
                          <a:lnTo>
                            <a:pt x="4" y="0"/>
                          </a:lnTo>
                          <a:lnTo>
                            <a:pt x="4"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692" name=""/>
                    <p:cNvSpPr/>
                    <p:nvPr/>
                  </p:nvSpPr>
                  <p:spPr>
                    <a:xfrm rot="4972200">
                      <a:off x="1191600" y="2590200"/>
                      <a:ext cx="7200" cy="12600"/>
                    </a:xfrm>
                    <a:custGeom>
                      <a:avLst/>
                      <a:gdLst/>
                      <a:ahLst/>
                      <a:rect l="l" t="t" r="r" b="b"/>
                      <a:pathLst>
                        <a:path w="8" h="14">
                          <a:moveTo>
                            <a:pt x="3" y="0"/>
                          </a:moveTo>
                          <a:lnTo>
                            <a:pt x="6" y="0"/>
                          </a:lnTo>
                          <a:lnTo>
                            <a:pt x="8" y="3"/>
                          </a:lnTo>
                          <a:lnTo>
                            <a:pt x="7" y="7"/>
                          </a:lnTo>
                          <a:lnTo>
                            <a:pt x="7" y="12"/>
                          </a:lnTo>
                          <a:lnTo>
                            <a:pt x="5" y="13"/>
                          </a:lnTo>
                          <a:lnTo>
                            <a:pt x="3" y="14"/>
                          </a:lnTo>
                          <a:lnTo>
                            <a:pt x="0" y="12"/>
                          </a:lnTo>
                          <a:lnTo>
                            <a:pt x="0" y="6"/>
                          </a:lnTo>
                          <a:lnTo>
                            <a:pt x="0" y="2"/>
                          </a:lnTo>
                          <a:lnTo>
                            <a:pt x="3" y="0"/>
                          </a:lnTo>
                          <a:lnTo>
                            <a:pt x="3" y="0"/>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93" name=""/>
                    <p:cNvSpPr/>
                    <p:nvPr/>
                  </p:nvSpPr>
                  <p:spPr>
                    <a:xfrm rot="4972200">
                      <a:off x="1211400" y="2950920"/>
                      <a:ext cx="24120" cy="24120"/>
                    </a:xfrm>
                    <a:custGeom>
                      <a:avLst/>
                      <a:gdLst/>
                      <a:ahLst/>
                      <a:rect l="l" t="t" r="r" b="b"/>
                      <a:pathLst>
                        <a:path w="27" h="27">
                          <a:moveTo>
                            <a:pt x="10" y="0"/>
                          </a:moveTo>
                          <a:lnTo>
                            <a:pt x="15" y="4"/>
                          </a:lnTo>
                          <a:lnTo>
                            <a:pt x="22" y="6"/>
                          </a:lnTo>
                          <a:lnTo>
                            <a:pt x="24" y="6"/>
                          </a:lnTo>
                          <a:lnTo>
                            <a:pt x="27" y="9"/>
                          </a:lnTo>
                          <a:lnTo>
                            <a:pt x="27" y="13"/>
                          </a:lnTo>
                          <a:lnTo>
                            <a:pt x="27" y="21"/>
                          </a:lnTo>
                          <a:lnTo>
                            <a:pt x="21" y="25"/>
                          </a:lnTo>
                          <a:lnTo>
                            <a:pt x="15" y="27"/>
                          </a:lnTo>
                          <a:lnTo>
                            <a:pt x="7" y="27"/>
                          </a:lnTo>
                          <a:lnTo>
                            <a:pt x="0" y="26"/>
                          </a:lnTo>
                          <a:lnTo>
                            <a:pt x="2" y="18"/>
                          </a:lnTo>
                          <a:lnTo>
                            <a:pt x="4" y="12"/>
                          </a:lnTo>
                          <a:lnTo>
                            <a:pt x="5" y="4"/>
                          </a:lnTo>
                          <a:lnTo>
                            <a:pt x="10" y="0"/>
                          </a:lnTo>
                          <a:lnTo>
                            <a:pt x="10"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694" name=""/>
                    <p:cNvSpPr/>
                    <p:nvPr/>
                  </p:nvSpPr>
                  <p:spPr>
                    <a:xfrm rot="4972200">
                      <a:off x="1149120" y="2549880"/>
                      <a:ext cx="29520" cy="29520"/>
                    </a:xfrm>
                    <a:custGeom>
                      <a:avLst/>
                      <a:gdLst/>
                      <a:ahLst/>
                      <a:rect l="l" t="t" r="r" b="b"/>
                      <a:pathLst>
                        <a:path w="33" h="33">
                          <a:moveTo>
                            <a:pt x="15" y="0"/>
                          </a:moveTo>
                          <a:lnTo>
                            <a:pt x="17" y="0"/>
                          </a:lnTo>
                          <a:lnTo>
                            <a:pt x="22" y="1"/>
                          </a:lnTo>
                          <a:lnTo>
                            <a:pt x="27" y="1"/>
                          </a:lnTo>
                          <a:lnTo>
                            <a:pt x="31" y="2"/>
                          </a:lnTo>
                          <a:lnTo>
                            <a:pt x="33" y="8"/>
                          </a:lnTo>
                          <a:lnTo>
                            <a:pt x="33" y="10"/>
                          </a:lnTo>
                          <a:lnTo>
                            <a:pt x="31" y="12"/>
                          </a:lnTo>
                          <a:lnTo>
                            <a:pt x="29" y="13"/>
                          </a:lnTo>
                          <a:lnTo>
                            <a:pt x="22" y="14"/>
                          </a:lnTo>
                          <a:lnTo>
                            <a:pt x="17" y="18"/>
                          </a:lnTo>
                          <a:lnTo>
                            <a:pt x="22" y="25"/>
                          </a:lnTo>
                          <a:lnTo>
                            <a:pt x="18" y="30"/>
                          </a:lnTo>
                          <a:lnTo>
                            <a:pt x="14" y="31"/>
                          </a:lnTo>
                          <a:lnTo>
                            <a:pt x="10" y="32"/>
                          </a:lnTo>
                          <a:lnTo>
                            <a:pt x="6" y="32"/>
                          </a:lnTo>
                          <a:lnTo>
                            <a:pt x="3" y="33"/>
                          </a:lnTo>
                          <a:lnTo>
                            <a:pt x="0" y="23"/>
                          </a:lnTo>
                          <a:lnTo>
                            <a:pt x="3" y="15"/>
                          </a:lnTo>
                          <a:lnTo>
                            <a:pt x="8" y="7"/>
                          </a:lnTo>
                          <a:lnTo>
                            <a:pt x="15" y="0"/>
                          </a:lnTo>
                          <a:lnTo>
                            <a:pt x="15" y="0"/>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695" name=""/>
                    <p:cNvSpPr/>
                    <p:nvPr/>
                  </p:nvSpPr>
                  <p:spPr>
                    <a:xfrm rot="4972200">
                      <a:off x="1217880" y="2934720"/>
                      <a:ext cx="2520" cy="7920"/>
                    </a:xfrm>
                    <a:custGeom>
                      <a:avLst/>
                      <a:gdLst/>
                      <a:ahLst/>
                      <a:rect l="l" t="t" r="r" b="b"/>
                      <a:pathLst>
                        <a:path w="3" h="9">
                          <a:moveTo>
                            <a:pt x="3" y="0"/>
                          </a:moveTo>
                          <a:lnTo>
                            <a:pt x="2" y="7"/>
                          </a:lnTo>
                          <a:lnTo>
                            <a:pt x="1" y="9"/>
                          </a:lnTo>
                          <a:lnTo>
                            <a:pt x="0" y="7"/>
                          </a:lnTo>
                          <a:lnTo>
                            <a:pt x="3" y="0"/>
                          </a:lnTo>
                          <a:lnTo>
                            <a:pt x="3"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96" name=""/>
                    <p:cNvSpPr/>
                    <p:nvPr/>
                  </p:nvSpPr>
                  <p:spPr>
                    <a:xfrm rot="4972200">
                      <a:off x="1187280" y="2921760"/>
                      <a:ext cx="12600" cy="12240"/>
                    </a:xfrm>
                    <a:custGeom>
                      <a:avLst/>
                      <a:gdLst/>
                      <a:ahLst/>
                      <a:rect l="l" t="t" r="r" b="b"/>
                      <a:pathLst>
                        <a:path w="14" h="14">
                          <a:moveTo>
                            <a:pt x="0" y="0"/>
                          </a:moveTo>
                          <a:lnTo>
                            <a:pt x="7" y="1"/>
                          </a:lnTo>
                          <a:lnTo>
                            <a:pt x="14" y="6"/>
                          </a:lnTo>
                          <a:lnTo>
                            <a:pt x="14" y="8"/>
                          </a:lnTo>
                          <a:lnTo>
                            <a:pt x="14" y="11"/>
                          </a:lnTo>
                          <a:lnTo>
                            <a:pt x="10" y="13"/>
                          </a:lnTo>
                          <a:lnTo>
                            <a:pt x="3" y="14"/>
                          </a:lnTo>
                          <a:lnTo>
                            <a:pt x="1" y="9"/>
                          </a:lnTo>
                          <a:lnTo>
                            <a:pt x="1" y="5"/>
                          </a:lnTo>
                          <a:lnTo>
                            <a:pt x="0" y="2"/>
                          </a:lnTo>
                          <a:lnTo>
                            <a:pt x="0" y="0"/>
                          </a:lnTo>
                          <a:lnTo>
                            <a:pt x="0"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697" name=""/>
                    <p:cNvSpPr/>
                    <p:nvPr/>
                  </p:nvSpPr>
                  <p:spPr>
                    <a:xfrm rot="4972200">
                      <a:off x="1089000" y="2525400"/>
                      <a:ext cx="5040" cy="9720"/>
                    </a:xfrm>
                    <a:custGeom>
                      <a:avLst/>
                      <a:gdLst/>
                      <a:ahLst/>
                      <a:rect l="l" t="t" r="r" b="b"/>
                      <a:pathLst>
                        <a:path w="6" h="11">
                          <a:moveTo>
                            <a:pt x="4" y="0"/>
                          </a:moveTo>
                          <a:lnTo>
                            <a:pt x="5" y="4"/>
                          </a:lnTo>
                          <a:lnTo>
                            <a:pt x="6" y="8"/>
                          </a:lnTo>
                          <a:lnTo>
                            <a:pt x="4" y="10"/>
                          </a:lnTo>
                          <a:lnTo>
                            <a:pt x="3" y="11"/>
                          </a:lnTo>
                          <a:lnTo>
                            <a:pt x="0" y="8"/>
                          </a:lnTo>
                          <a:lnTo>
                            <a:pt x="4" y="0"/>
                          </a:lnTo>
                          <a:lnTo>
                            <a:pt x="4"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98" name=""/>
                    <p:cNvSpPr/>
                    <p:nvPr/>
                  </p:nvSpPr>
                  <p:spPr>
                    <a:xfrm rot="4972200">
                      <a:off x="1069560" y="2393280"/>
                      <a:ext cx="4320" cy="3240"/>
                    </a:xfrm>
                    <a:custGeom>
                      <a:avLst/>
                      <a:gdLst/>
                      <a:ahLst/>
                      <a:rect l="l" t="t" r="r" b="b"/>
                      <a:pathLst>
                        <a:path w="5" h="4">
                          <a:moveTo>
                            <a:pt x="2" y="0"/>
                          </a:moveTo>
                          <a:lnTo>
                            <a:pt x="5" y="2"/>
                          </a:lnTo>
                          <a:lnTo>
                            <a:pt x="2" y="4"/>
                          </a:lnTo>
                          <a:lnTo>
                            <a:pt x="0" y="3"/>
                          </a:lnTo>
                          <a:lnTo>
                            <a:pt x="2" y="0"/>
                          </a:lnTo>
                          <a:lnTo>
                            <a:pt x="2"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99" name=""/>
                    <p:cNvSpPr/>
                    <p:nvPr/>
                  </p:nvSpPr>
                  <p:spPr>
                    <a:xfrm rot="4972200">
                      <a:off x="1065600" y="2431440"/>
                      <a:ext cx="7200" cy="12600"/>
                    </a:xfrm>
                    <a:custGeom>
                      <a:avLst/>
                      <a:gdLst/>
                      <a:ahLst/>
                      <a:rect l="l" t="t" r="r" b="b"/>
                      <a:pathLst>
                        <a:path w="8" h="14">
                          <a:moveTo>
                            <a:pt x="3" y="0"/>
                          </a:moveTo>
                          <a:lnTo>
                            <a:pt x="6" y="0"/>
                          </a:lnTo>
                          <a:lnTo>
                            <a:pt x="8" y="3"/>
                          </a:lnTo>
                          <a:lnTo>
                            <a:pt x="7" y="7"/>
                          </a:lnTo>
                          <a:lnTo>
                            <a:pt x="7" y="11"/>
                          </a:lnTo>
                          <a:lnTo>
                            <a:pt x="5" y="13"/>
                          </a:lnTo>
                          <a:lnTo>
                            <a:pt x="3" y="14"/>
                          </a:lnTo>
                          <a:lnTo>
                            <a:pt x="0" y="11"/>
                          </a:lnTo>
                          <a:lnTo>
                            <a:pt x="0" y="6"/>
                          </a:lnTo>
                          <a:lnTo>
                            <a:pt x="0" y="2"/>
                          </a:lnTo>
                          <a:lnTo>
                            <a:pt x="3" y="0"/>
                          </a:lnTo>
                          <a:lnTo>
                            <a:pt x="3" y="0"/>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00" name=""/>
                    <p:cNvSpPr/>
                    <p:nvPr/>
                  </p:nvSpPr>
                  <p:spPr>
                    <a:xfrm rot="4972200">
                      <a:off x="1047240" y="2445120"/>
                      <a:ext cx="7920" cy="23400"/>
                    </a:xfrm>
                    <a:custGeom>
                      <a:avLst/>
                      <a:gdLst/>
                      <a:ahLst/>
                      <a:rect l="l" t="t" r="r" b="b"/>
                      <a:pathLst>
                        <a:path w="9" h="26">
                          <a:moveTo>
                            <a:pt x="2" y="0"/>
                          </a:moveTo>
                          <a:lnTo>
                            <a:pt x="5" y="0"/>
                          </a:lnTo>
                          <a:lnTo>
                            <a:pt x="8" y="5"/>
                          </a:lnTo>
                          <a:lnTo>
                            <a:pt x="9" y="11"/>
                          </a:lnTo>
                          <a:lnTo>
                            <a:pt x="9" y="18"/>
                          </a:lnTo>
                          <a:lnTo>
                            <a:pt x="7" y="23"/>
                          </a:lnTo>
                          <a:lnTo>
                            <a:pt x="5" y="26"/>
                          </a:lnTo>
                          <a:lnTo>
                            <a:pt x="2" y="25"/>
                          </a:lnTo>
                          <a:lnTo>
                            <a:pt x="0" y="19"/>
                          </a:lnTo>
                          <a:lnTo>
                            <a:pt x="0" y="13"/>
                          </a:lnTo>
                          <a:lnTo>
                            <a:pt x="0" y="8"/>
                          </a:lnTo>
                          <a:lnTo>
                            <a:pt x="0" y="2"/>
                          </a:lnTo>
                          <a:lnTo>
                            <a:pt x="2" y="0"/>
                          </a:lnTo>
                          <a:lnTo>
                            <a:pt x="2" y="0"/>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701" name=""/>
                    <p:cNvSpPr/>
                    <p:nvPr/>
                  </p:nvSpPr>
                  <p:spPr>
                    <a:xfrm rot="4972200">
                      <a:off x="1019880" y="2402280"/>
                      <a:ext cx="11520" cy="17640"/>
                    </a:xfrm>
                    <a:custGeom>
                      <a:avLst/>
                      <a:gdLst/>
                      <a:ahLst/>
                      <a:rect l="l" t="t" r="r" b="b"/>
                      <a:pathLst>
                        <a:path w="13" h="20">
                          <a:moveTo>
                            <a:pt x="8" y="0"/>
                          </a:moveTo>
                          <a:lnTo>
                            <a:pt x="11" y="1"/>
                          </a:lnTo>
                          <a:lnTo>
                            <a:pt x="13" y="4"/>
                          </a:lnTo>
                          <a:lnTo>
                            <a:pt x="13" y="8"/>
                          </a:lnTo>
                          <a:lnTo>
                            <a:pt x="12" y="14"/>
                          </a:lnTo>
                          <a:lnTo>
                            <a:pt x="10" y="17"/>
                          </a:lnTo>
                          <a:lnTo>
                            <a:pt x="6" y="20"/>
                          </a:lnTo>
                          <a:lnTo>
                            <a:pt x="2" y="18"/>
                          </a:lnTo>
                          <a:lnTo>
                            <a:pt x="0" y="14"/>
                          </a:lnTo>
                          <a:lnTo>
                            <a:pt x="0" y="9"/>
                          </a:lnTo>
                          <a:lnTo>
                            <a:pt x="2" y="6"/>
                          </a:lnTo>
                          <a:lnTo>
                            <a:pt x="5" y="2"/>
                          </a:lnTo>
                          <a:lnTo>
                            <a:pt x="8" y="0"/>
                          </a:lnTo>
                          <a:lnTo>
                            <a:pt x="8" y="0"/>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02" name=""/>
                    <p:cNvSpPr/>
                    <p:nvPr/>
                  </p:nvSpPr>
                  <p:spPr>
                    <a:xfrm rot="4972200">
                      <a:off x="964800" y="2374560"/>
                      <a:ext cx="54720" cy="34200"/>
                    </a:xfrm>
                    <a:custGeom>
                      <a:avLst/>
                      <a:gdLst/>
                      <a:ahLst/>
                      <a:rect l="l" t="t" r="r" b="b"/>
                      <a:pathLst>
                        <a:path w="61" h="38">
                          <a:moveTo>
                            <a:pt x="49" y="0"/>
                          </a:moveTo>
                          <a:lnTo>
                            <a:pt x="53" y="0"/>
                          </a:lnTo>
                          <a:lnTo>
                            <a:pt x="57" y="2"/>
                          </a:lnTo>
                          <a:lnTo>
                            <a:pt x="60" y="4"/>
                          </a:lnTo>
                          <a:lnTo>
                            <a:pt x="61" y="8"/>
                          </a:lnTo>
                          <a:lnTo>
                            <a:pt x="61" y="16"/>
                          </a:lnTo>
                          <a:lnTo>
                            <a:pt x="58" y="24"/>
                          </a:lnTo>
                          <a:lnTo>
                            <a:pt x="51" y="31"/>
                          </a:lnTo>
                          <a:lnTo>
                            <a:pt x="46" y="37"/>
                          </a:lnTo>
                          <a:lnTo>
                            <a:pt x="37" y="38"/>
                          </a:lnTo>
                          <a:lnTo>
                            <a:pt x="29" y="37"/>
                          </a:lnTo>
                          <a:lnTo>
                            <a:pt x="20" y="37"/>
                          </a:lnTo>
                          <a:lnTo>
                            <a:pt x="13" y="34"/>
                          </a:lnTo>
                          <a:lnTo>
                            <a:pt x="7" y="29"/>
                          </a:lnTo>
                          <a:lnTo>
                            <a:pt x="0" y="27"/>
                          </a:lnTo>
                          <a:lnTo>
                            <a:pt x="0" y="23"/>
                          </a:lnTo>
                          <a:lnTo>
                            <a:pt x="2" y="19"/>
                          </a:lnTo>
                          <a:lnTo>
                            <a:pt x="5" y="16"/>
                          </a:lnTo>
                          <a:lnTo>
                            <a:pt x="7" y="14"/>
                          </a:lnTo>
                          <a:lnTo>
                            <a:pt x="11" y="19"/>
                          </a:lnTo>
                          <a:lnTo>
                            <a:pt x="16" y="22"/>
                          </a:lnTo>
                          <a:lnTo>
                            <a:pt x="24" y="24"/>
                          </a:lnTo>
                          <a:lnTo>
                            <a:pt x="31" y="25"/>
                          </a:lnTo>
                          <a:lnTo>
                            <a:pt x="37" y="23"/>
                          </a:lnTo>
                          <a:lnTo>
                            <a:pt x="42" y="19"/>
                          </a:lnTo>
                          <a:lnTo>
                            <a:pt x="46" y="14"/>
                          </a:lnTo>
                          <a:lnTo>
                            <a:pt x="47" y="6"/>
                          </a:lnTo>
                          <a:lnTo>
                            <a:pt x="47" y="2"/>
                          </a:lnTo>
                          <a:lnTo>
                            <a:pt x="49" y="0"/>
                          </a:lnTo>
                          <a:lnTo>
                            <a:pt x="49" y="0"/>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703" name=""/>
                    <p:cNvSpPr/>
                    <p:nvPr/>
                  </p:nvSpPr>
                  <p:spPr>
                    <a:xfrm rot="4972200">
                      <a:off x="984960" y="2449440"/>
                      <a:ext cx="6840" cy="14400"/>
                    </a:xfrm>
                    <a:custGeom>
                      <a:avLst/>
                      <a:gdLst/>
                      <a:ahLst/>
                      <a:rect l="l" t="t" r="r" b="b"/>
                      <a:pathLst>
                        <a:path w="8" h="16">
                          <a:moveTo>
                            <a:pt x="3" y="0"/>
                          </a:moveTo>
                          <a:lnTo>
                            <a:pt x="6" y="0"/>
                          </a:lnTo>
                          <a:lnTo>
                            <a:pt x="8" y="4"/>
                          </a:lnTo>
                          <a:lnTo>
                            <a:pt x="7" y="8"/>
                          </a:lnTo>
                          <a:lnTo>
                            <a:pt x="7" y="13"/>
                          </a:lnTo>
                          <a:lnTo>
                            <a:pt x="5" y="15"/>
                          </a:lnTo>
                          <a:lnTo>
                            <a:pt x="3" y="16"/>
                          </a:lnTo>
                          <a:lnTo>
                            <a:pt x="0" y="14"/>
                          </a:lnTo>
                          <a:lnTo>
                            <a:pt x="0" y="7"/>
                          </a:lnTo>
                          <a:lnTo>
                            <a:pt x="0" y="2"/>
                          </a:lnTo>
                          <a:lnTo>
                            <a:pt x="3" y="0"/>
                          </a:lnTo>
                          <a:lnTo>
                            <a:pt x="3" y="0"/>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704" name=""/>
                    <p:cNvSpPr/>
                    <p:nvPr/>
                  </p:nvSpPr>
                  <p:spPr>
                    <a:xfrm rot="4972200">
                      <a:off x="1120680" y="2589840"/>
                      <a:ext cx="11520" cy="16920"/>
                    </a:xfrm>
                    <a:custGeom>
                      <a:avLst/>
                      <a:gdLst/>
                      <a:ahLst/>
                      <a:rect l="l" t="t" r="r" b="b"/>
                      <a:pathLst>
                        <a:path w="13" h="19">
                          <a:moveTo>
                            <a:pt x="3" y="0"/>
                          </a:moveTo>
                          <a:lnTo>
                            <a:pt x="7" y="1"/>
                          </a:lnTo>
                          <a:lnTo>
                            <a:pt x="11" y="5"/>
                          </a:lnTo>
                          <a:lnTo>
                            <a:pt x="12" y="10"/>
                          </a:lnTo>
                          <a:lnTo>
                            <a:pt x="13" y="14"/>
                          </a:lnTo>
                          <a:lnTo>
                            <a:pt x="11" y="17"/>
                          </a:lnTo>
                          <a:lnTo>
                            <a:pt x="8" y="19"/>
                          </a:lnTo>
                          <a:lnTo>
                            <a:pt x="5" y="17"/>
                          </a:lnTo>
                          <a:lnTo>
                            <a:pt x="0" y="12"/>
                          </a:lnTo>
                          <a:lnTo>
                            <a:pt x="0" y="8"/>
                          </a:lnTo>
                          <a:lnTo>
                            <a:pt x="1" y="4"/>
                          </a:lnTo>
                          <a:lnTo>
                            <a:pt x="2" y="1"/>
                          </a:lnTo>
                          <a:lnTo>
                            <a:pt x="3" y="0"/>
                          </a:lnTo>
                          <a:lnTo>
                            <a:pt x="3" y="0"/>
                          </a:lnTo>
                          <a:close/>
                        </a:path>
                      </a:pathLst>
                    </a:custGeom>
                    <a:solidFill>
                      <a:srgbClr val="fac7c7"/>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705" name=""/>
                    <p:cNvSpPr/>
                    <p:nvPr/>
                  </p:nvSpPr>
                  <p:spPr>
                    <a:xfrm rot="4972200">
                      <a:off x="1190520" y="2683440"/>
                      <a:ext cx="14040" cy="15840"/>
                    </a:xfrm>
                    <a:custGeom>
                      <a:avLst/>
                      <a:gdLst/>
                      <a:ahLst/>
                      <a:rect l="l" t="t" r="r" b="b"/>
                      <a:pathLst>
                        <a:path w="16" h="18">
                          <a:moveTo>
                            <a:pt x="5" y="0"/>
                          </a:moveTo>
                          <a:lnTo>
                            <a:pt x="9" y="2"/>
                          </a:lnTo>
                          <a:lnTo>
                            <a:pt x="15" y="7"/>
                          </a:lnTo>
                          <a:lnTo>
                            <a:pt x="16" y="12"/>
                          </a:lnTo>
                          <a:lnTo>
                            <a:pt x="11" y="18"/>
                          </a:lnTo>
                          <a:lnTo>
                            <a:pt x="5" y="15"/>
                          </a:lnTo>
                          <a:lnTo>
                            <a:pt x="1" y="10"/>
                          </a:lnTo>
                          <a:lnTo>
                            <a:pt x="0" y="4"/>
                          </a:lnTo>
                          <a:lnTo>
                            <a:pt x="5" y="0"/>
                          </a:lnTo>
                          <a:lnTo>
                            <a:pt x="5" y="0"/>
                          </a:lnTo>
                          <a:close/>
                        </a:path>
                      </a:pathLst>
                    </a:custGeom>
                    <a:solidFill>
                      <a:srgbClr val="fac7c7"/>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706" name=""/>
                    <p:cNvSpPr/>
                    <p:nvPr/>
                  </p:nvSpPr>
                  <p:spPr>
                    <a:xfrm rot="4972200">
                      <a:off x="1189440" y="2946240"/>
                      <a:ext cx="9720" cy="15120"/>
                    </a:xfrm>
                    <a:custGeom>
                      <a:avLst/>
                      <a:gdLst/>
                      <a:ahLst/>
                      <a:rect l="l" t="t" r="r" b="b"/>
                      <a:pathLst>
                        <a:path w="11" h="17">
                          <a:moveTo>
                            <a:pt x="1" y="0"/>
                          </a:moveTo>
                          <a:lnTo>
                            <a:pt x="5" y="2"/>
                          </a:lnTo>
                          <a:lnTo>
                            <a:pt x="11" y="9"/>
                          </a:lnTo>
                          <a:lnTo>
                            <a:pt x="11" y="12"/>
                          </a:lnTo>
                          <a:lnTo>
                            <a:pt x="11" y="15"/>
                          </a:lnTo>
                          <a:lnTo>
                            <a:pt x="8" y="16"/>
                          </a:lnTo>
                          <a:lnTo>
                            <a:pt x="4" y="17"/>
                          </a:lnTo>
                          <a:lnTo>
                            <a:pt x="2" y="12"/>
                          </a:lnTo>
                          <a:lnTo>
                            <a:pt x="1" y="7"/>
                          </a:lnTo>
                          <a:lnTo>
                            <a:pt x="0" y="2"/>
                          </a:lnTo>
                          <a:lnTo>
                            <a:pt x="1" y="0"/>
                          </a:lnTo>
                          <a:lnTo>
                            <a:pt x="1" y="0"/>
                          </a:lnTo>
                          <a:close/>
                        </a:path>
                      </a:pathLst>
                    </a:custGeom>
                    <a:solidFill>
                      <a:srgbClr val="fac7c7"/>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707" name=""/>
                    <p:cNvSpPr/>
                    <p:nvPr/>
                  </p:nvSpPr>
                  <p:spPr>
                    <a:xfrm rot="4972200">
                      <a:off x="1254960" y="3043800"/>
                      <a:ext cx="9720" cy="16920"/>
                    </a:xfrm>
                    <a:custGeom>
                      <a:avLst/>
                      <a:gdLst/>
                      <a:ahLst/>
                      <a:rect l="l" t="t" r="r" b="b"/>
                      <a:pathLst>
                        <a:path w="11" h="19">
                          <a:moveTo>
                            <a:pt x="1" y="0"/>
                          </a:moveTo>
                          <a:lnTo>
                            <a:pt x="6" y="3"/>
                          </a:lnTo>
                          <a:lnTo>
                            <a:pt x="11" y="9"/>
                          </a:lnTo>
                          <a:lnTo>
                            <a:pt x="11" y="12"/>
                          </a:lnTo>
                          <a:lnTo>
                            <a:pt x="10" y="15"/>
                          </a:lnTo>
                          <a:lnTo>
                            <a:pt x="7" y="17"/>
                          </a:lnTo>
                          <a:lnTo>
                            <a:pt x="3" y="19"/>
                          </a:lnTo>
                          <a:lnTo>
                            <a:pt x="1" y="14"/>
                          </a:lnTo>
                          <a:lnTo>
                            <a:pt x="0" y="8"/>
                          </a:lnTo>
                          <a:lnTo>
                            <a:pt x="0" y="3"/>
                          </a:lnTo>
                          <a:lnTo>
                            <a:pt x="1" y="0"/>
                          </a:lnTo>
                          <a:lnTo>
                            <a:pt x="1" y="0"/>
                          </a:lnTo>
                          <a:close/>
                        </a:path>
                      </a:pathLst>
                    </a:custGeom>
                    <a:solidFill>
                      <a:srgbClr val="fac7c7"/>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708" name=""/>
                    <p:cNvSpPr/>
                    <p:nvPr/>
                  </p:nvSpPr>
                  <p:spPr>
                    <a:xfrm rot="4972200">
                      <a:off x="730080" y="2601720"/>
                      <a:ext cx="979200" cy="308160"/>
                    </a:xfrm>
                    <a:custGeom>
                      <a:avLst/>
                      <a:gdLst/>
                      <a:ahLst/>
                      <a:rect l="l" t="t" r="r" b="b"/>
                      <a:pathLst>
                        <a:path w="1091" h="343">
                          <a:moveTo>
                            <a:pt x="0" y="335"/>
                          </a:moveTo>
                          <a:lnTo>
                            <a:pt x="71" y="211"/>
                          </a:lnTo>
                          <a:lnTo>
                            <a:pt x="160" y="275"/>
                          </a:lnTo>
                          <a:lnTo>
                            <a:pt x="412" y="109"/>
                          </a:lnTo>
                          <a:lnTo>
                            <a:pt x="592" y="15"/>
                          </a:lnTo>
                          <a:lnTo>
                            <a:pt x="701" y="179"/>
                          </a:lnTo>
                          <a:lnTo>
                            <a:pt x="948" y="48"/>
                          </a:lnTo>
                          <a:lnTo>
                            <a:pt x="940" y="0"/>
                          </a:lnTo>
                          <a:lnTo>
                            <a:pt x="1091" y="10"/>
                          </a:lnTo>
                          <a:lnTo>
                            <a:pt x="1084" y="23"/>
                          </a:lnTo>
                          <a:lnTo>
                            <a:pt x="957" y="15"/>
                          </a:lnTo>
                          <a:lnTo>
                            <a:pt x="964" y="53"/>
                          </a:lnTo>
                          <a:lnTo>
                            <a:pt x="698" y="196"/>
                          </a:lnTo>
                          <a:lnTo>
                            <a:pt x="585" y="36"/>
                          </a:lnTo>
                          <a:lnTo>
                            <a:pt x="406" y="131"/>
                          </a:lnTo>
                          <a:lnTo>
                            <a:pt x="158" y="294"/>
                          </a:lnTo>
                          <a:lnTo>
                            <a:pt x="74" y="235"/>
                          </a:lnTo>
                          <a:lnTo>
                            <a:pt x="16" y="343"/>
                          </a:lnTo>
                          <a:lnTo>
                            <a:pt x="0" y="335"/>
                          </a:lnTo>
                          <a:lnTo>
                            <a:pt x="0" y="335"/>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9" name=""/>
                    <p:cNvSpPr/>
                    <p:nvPr/>
                  </p:nvSpPr>
                  <p:spPr>
                    <a:xfrm rot="4972200">
                      <a:off x="1243800" y="3065760"/>
                      <a:ext cx="198000" cy="141840"/>
                    </a:xfrm>
                    <a:custGeom>
                      <a:avLst/>
                      <a:gdLst/>
                      <a:ahLst/>
                      <a:rect l="l" t="t" r="r" b="b"/>
                      <a:pathLst>
                        <a:path w="221" h="158">
                          <a:moveTo>
                            <a:pt x="0" y="151"/>
                          </a:moveTo>
                          <a:lnTo>
                            <a:pt x="113" y="73"/>
                          </a:lnTo>
                          <a:lnTo>
                            <a:pt x="142" y="112"/>
                          </a:lnTo>
                          <a:lnTo>
                            <a:pt x="208" y="3"/>
                          </a:lnTo>
                          <a:lnTo>
                            <a:pt x="221" y="0"/>
                          </a:lnTo>
                          <a:lnTo>
                            <a:pt x="150" y="134"/>
                          </a:lnTo>
                          <a:lnTo>
                            <a:pt x="113" y="94"/>
                          </a:lnTo>
                          <a:lnTo>
                            <a:pt x="14" y="158"/>
                          </a:lnTo>
                          <a:lnTo>
                            <a:pt x="0" y="151"/>
                          </a:lnTo>
                          <a:lnTo>
                            <a:pt x="0" y="151"/>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0" name=""/>
                    <p:cNvSpPr/>
                    <p:nvPr/>
                  </p:nvSpPr>
                  <p:spPr>
                    <a:xfrm rot="4972200">
                      <a:off x="1179000" y="2971080"/>
                      <a:ext cx="91080" cy="66240"/>
                    </a:xfrm>
                    <a:custGeom>
                      <a:avLst/>
                      <a:gdLst/>
                      <a:ahLst/>
                      <a:rect l="l" t="t" r="r" b="b"/>
                      <a:pathLst>
                        <a:path w="102" h="74">
                          <a:moveTo>
                            <a:pt x="98" y="0"/>
                          </a:moveTo>
                          <a:lnTo>
                            <a:pt x="0" y="63"/>
                          </a:lnTo>
                          <a:lnTo>
                            <a:pt x="7" y="74"/>
                          </a:lnTo>
                          <a:lnTo>
                            <a:pt x="102" y="16"/>
                          </a:lnTo>
                          <a:lnTo>
                            <a:pt x="98" y="0"/>
                          </a:lnTo>
                          <a:lnTo>
                            <a:pt x="98" y="0"/>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711" name=""/>
                    <p:cNvSpPr/>
                    <p:nvPr/>
                  </p:nvSpPr>
                  <p:spPr>
                    <a:xfrm rot="4972200">
                      <a:off x="1060920" y="2764800"/>
                      <a:ext cx="262800" cy="124200"/>
                    </a:xfrm>
                    <a:custGeom>
                      <a:avLst/>
                      <a:gdLst/>
                      <a:ahLst/>
                      <a:rect l="l" t="t" r="r" b="b"/>
                      <a:pathLst>
                        <a:path w="293" h="138">
                          <a:moveTo>
                            <a:pt x="283" y="93"/>
                          </a:moveTo>
                          <a:lnTo>
                            <a:pt x="239" y="123"/>
                          </a:lnTo>
                          <a:lnTo>
                            <a:pt x="71" y="0"/>
                          </a:lnTo>
                          <a:lnTo>
                            <a:pt x="0" y="40"/>
                          </a:lnTo>
                          <a:lnTo>
                            <a:pt x="10" y="51"/>
                          </a:lnTo>
                          <a:lnTo>
                            <a:pt x="72" y="16"/>
                          </a:lnTo>
                          <a:lnTo>
                            <a:pt x="237" y="138"/>
                          </a:lnTo>
                          <a:lnTo>
                            <a:pt x="293" y="101"/>
                          </a:lnTo>
                          <a:lnTo>
                            <a:pt x="283" y="93"/>
                          </a:lnTo>
                          <a:lnTo>
                            <a:pt x="283" y="93"/>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2" name=""/>
                    <p:cNvSpPr/>
                    <p:nvPr/>
                  </p:nvSpPr>
                  <p:spPr>
                    <a:xfrm rot="4972200">
                      <a:off x="871920" y="2380320"/>
                      <a:ext cx="321120" cy="140040"/>
                    </a:xfrm>
                    <a:custGeom>
                      <a:avLst/>
                      <a:gdLst/>
                      <a:ahLst/>
                      <a:rect l="l" t="t" r="r" b="b"/>
                      <a:pathLst>
                        <a:path w="358" h="156">
                          <a:moveTo>
                            <a:pt x="353" y="0"/>
                          </a:moveTo>
                          <a:lnTo>
                            <a:pt x="158" y="138"/>
                          </a:lnTo>
                          <a:lnTo>
                            <a:pt x="13" y="63"/>
                          </a:lnTo>
                          <a:lnTo>
                            <a:pt x="0" y="79"/>
                          </a:lnTo>
                          <a:lnTo>
                            <a:pt x="162" y="156"/>
                          </a:lnTo>
                          <a:lnTo>
                            <a:pt x="358" y="14"/>
                          </a:lnTo>
                          <a:lnTo>
                            <a:pt x="353" y="0"/>
                          </a:lnTo>
                          <a:lnTo>
                            <a:pt x="353" y="0"/>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3" name=""/>
                    <p:cNvSpPr/>
                    <p:nvPr/>
                  </p:nvSpPr>
                  <p:spPr>
                    <a:xfrm rot="4972200">
                      <a:off x="1114560" y="2616840"/>
                      <a:ext cx="88920" cy="61920"/>
                    </a:xfrm>
                    <a:custGeom>
                      <a:avLst/>
                      <a:gdLst/>
                      <a:ahLst/>
                      <a:rect l="l" t="t" r="r" b="b"/>
                      <a:pathLst>
                        <a:path w="99" h="69">
                          <a:moveTo>
                            <a:pt x="92" y="0"/>
                          </a:moveTo>
                          <a:lnTo>
                            <a:pt x="0" y="59"/>
                          </a:lnTo>
                          <a:lnTo>
                            <a:pt x="8" y="69"/>
                          </a:lnTo>
                          <a:lnTo>
                            <a:pt x="99" y="10"/>
                          </a:lnTo>
                          <a:lnTo>
                            <a:pt x="92" y="0"/>
                          </a:lnTo>
                          <a:lnTo>
                            <a:pt x="92" y="0"/>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714" name=""/>
                    <p:cNvSpPr/>
                    <p:nvPr/>
                  </p:nvSpPr>
                  <p:spPr>
                    <a:xfrm rot="4972200">
                      <a:off x="1022760" y="2458080"/>
                      <a:ext cx="25920" cy="41400"/>
                    </a:xfrm>
                    <a:custGeom>
                      <a:avLst/>
                      <a:gdLst/>
                      <a:ahLst/>
                      <a:rect l="l" t="t" r="r" b="b"/>
                      <a:pathLst>
                        <a:path w="29" h="46">
                          <a:moveTo>
                            <a:pt x="23" y="46"/>
                          </a:moveTo>
                          <a:lnTo>
                            <a:pt x="0" y="8"/>
                          </a:lnTo>
                          <a:lnTo>
                            <a:pt x="8" y="0"/>
                          </a:lnTo>
                          <a:lnTo>
                            <a:pt x="29" y="36"/>
                          </a:lnTo>
                          <a:lnTo>
                            <a:pt x="23" y="46"/>
                          </a:lnTo>
                          <a:lnTo>
                            <a:pt x="23" y="46"/>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715" name=""/>
                    <p:cNvSpPr/>
                    <p:nvPr/>
                  </p:nvSpPr>
                  <p:spPr>
                    <a:xfrm rot="4972200">
                      <a:off x="1036080" y="2475000"/>
                      <a:ext cx="24840" cy="42840"/>
                    </a:xfrm>
                    <a:custGeom>
                      <a:avLst/>
                      <a:gdLst/>
                      <a:ahLst/>
                      <a:rect l="l" t="t" r="r" b="b"/>
                      <a:pathLst>
                        <a:path w="28" h="48">
                          <a:moveTo>
                            <a:pt x="23" y="48"/>
                          </a:moveTo>
                          <a:lnTo>
                            <a:pt x="0" y="10"/>
                          </a:lnTo>
                          <a:lnTo>
                            <a:pt x="7" y="0"/>
                          </a:lnTo>
                          <a:lnTo>
                            <a:pt x="28" y="37"/>
                          </a:lnTo>
                          <a:lnTo>
                            <a:pt x="23" y="48"/>
                          </a:lnTo>
                          <a:lnTo>
                            <a:pt x="23" y="48"/>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16" name=""/>
                    <p:cNvSpPr/>
                    <p:nvPr/>
                  </p:nvSpPr>
                  <p:spPr>
                    <a:xfrm rot="4972200">
                      <a:off x="1050840" y="2488680"/>
                      <a:ext cx="24120" cy="41400"/>
                    </a:xfrm>
                    <a:custGeom>
                      <a:avLst/>
                      <a:gdLst/>
                      <a:ahLst/>
                      <a:rect l="l" t="t" r="r" b="b"/>
                      <a:pathLst>
                        <a:path w="27" h="46">
                          <a:moveTo>
                            <a:pt x="23" y="46"/>
                          </a:moveTo>
                          <a:lnTo>
                            <a:pt x="0" y="8"/>
                          </a:lnTo>
                          <a:lnTo>
                            <a:pt x="7" y="0"/>
                          </a:lnTo>
                          <a:lnTo>
                            <a:pt x="27" y="35"/>
                          </a:lnTo>
                          <a:lnTo>
                            <a:pt x="23" y="46"/>
                          </a:lnTo>
                          <a:lnTo>
                            <a:pt x="23" y="46"/>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717" name=""/>
                    <p:cNvSpPr/>
                    <p:nvPr/>
                  </p:nvSpPr>
                  <p:spPr>
                    <a:xfrm rot="4972200">
                      <a:off x="1066320" y="2503800"/>
                      <a:ext cx="24120" cy="41400"/>
                    </a:xfrm>
                    <a:custGeom>
                      <a:avLst/>
                      <a:gdLst/>
                      <a:ahLst/>
                      <a:rect l="l" t="t" r="r" b="b"/>
                      <a:pathLst>
                        <a:path w="27" h="46">
                          <a:moveTo>
                            <a:pt x="22" y="46"/>
                          </a:moveTo>
                          <a:lnTo>
                            <a:pt x="0" y="8"/>
                          </a:lnTo>
                          <a:lnTo>
                            <a:pt x="6" y="0"/>
                          </a:lnTo>
                          <a:lnTo>
                            <a:pt x="27" y="35"/>
                          </a:lnTo>
                          <a:lnTo>
                            <a:pt x="22" y="46"/>
                          </a:lnTo>
                          <a:lnTo>
                            <a:pt x="22" y="46"/>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718" name=""/>
                    <p:cNvSpPr/>
                    <p:nvPr/>
                  </p:nvSpPr>
                  <p:spPr>
                    <a:xfrm rot="4972200">
                      <a:off x="1302480" y="2770200"/>
                      <a:ext cx="32040" cy="26640"/>
                    </a:xfrm>
                    <a:custGeom>
                      <a:avLst/>
                      <a:gdLst/>
                      <a:ahLst/>
                      <a:rect l="l" t="t" r="r" b="b"/>
                      <a:pathLst>
                        <a:path w="36" h="30">
                          <a:moveTo>
                            <a:pt x="29" y="0"/>
                          </a:moveTo>
                          <a:lnTo>
                            <a:pt x="0" y="21"/>
                          </a:lnTo>
                          <a:lnTo>
                            <a:pt x="8" y="30"/>
                          </a:lnTo>
                          <a:lnTo>
                            <a:pt x="36" y="11"/>
                          </a:lnTo>
                          <a:lnTo>
                            <a:pt x="29" y="0"/>
                          </a:lnTo>
                          <a:lnTo>
                            <a:pt x="29" y="0"/>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719" name=""/>
                    <p:cNvSpPr/>
                    <p:nvPr/>
                  </p:nvSpPr>
                  <p:spPr>
                    <a:xfrm rot="4972200">
                      <a:off x="1287000" y="2784600"/>
                      <a:ext cx="33120" cy="28440"/>
                    </a:xfrm>
                    <a:custGeom>
                      <a:avLst/>
                      <a:gdLst/>
                      <a:ahLst/>
                      <a:rect l="l" t="t" r="r" b="b"/>
                      <a:pathLst>
                        <a:path w="37" h="32">
                          <a:moveTo>
                            <a:pt x="29" y="0"/>
                          </a:moveTo>
                          <a:lnTo>
                            <a:pt x="0" y="22"/>
                          </a:lnTo>
                          <a:lnTo>
                            <a:pt x="8" y="32"/>
                          </a:lnTo>
                          <a:lnTo>
                            <a:pt x="37" y="12"/>
                          </a:lnTo>
                          <a:lnTo>
                            <a:pt x="29" y="0"/>
                          </a:lnTo>
                          <a:lnTo>
                            <a:pt x="29" y="0"/>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720" name=""/>
                    <p:cNvSpPr/>
                    <p:nvPr/>
                  </p:nvSpPr>
                  <p:spPr>
                    <a:xfrm rot="4972200">
                      <a:off x="1272240" y="2801520"/>
                      <a:ext cx="32040" cy="27720"/>
                    </a:xfrm>
                    <a:custGeom>
                      <a:avLst/>
                      <a:gdLst/>
                      <a:ahLst/>
                      <a:rect l="l" t="t" r="r" b="b"/>
                      <a:pathLst>
                        <a:path w="36" h="31">
                          <a:moveTo>
                            <a:pt x="28" y="0"/>
                          </a:moveTo>
                          <a:lnTo>
                            <a:pt x="0" y="22"/>
                          </a:lnTo>
                          <a:lnTo>
                            <a:pt x="8" y="31"/>
                          </a:lnTo>
                          <a:lnTo>
                            <a:pt x="36" y="12"/>
                          </a:lnTo>
                          <a:lnTo>
                            <a:pt x="28" y="0"/>
                          </a:lnTo>
                          <a:lnTo>
                            <a:pt x="28" y="0"/>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721" name=""/>
                    <p:cNvSpPr/>
                    <p:nvPr/>
                  </p:nvSpPr>
                  <p:spPr>
                    <a:xfrm rot="4972200">
                      <a:off x="1256400" y="2818080"/>
                      <a:ext cx="32040" cy="27720"/>
                    </a:xfrm>
                    <a:custGeom>
                      <a:avLst/>
                      <a:gdLst/>
                      <a:ahLst/>
                      <a:rect l="l" t="t" r="r" b="b"/>
                      <a:pathLst>
                        <a:path w="36" h="31">
                          <a:moveTo>
                            <a:pt x="28" y="0"/>
                          </a:moveTo>
                          <a:lnTo>
                            <a:pt x="0" y="22"/>
                          </a:lnTo>
                          <a:lnTo>
                            <a:pt x="8" y="31"/>
                          </a:lnTo>
                          <a:lnTo>
                            <a:pt x="36" y="11"/>
                          </a:lnTo>
                          <a:lnTo>
                            <a:pt x="28" y="0"/>
                          </a:lnTo>
                          <a:lnTo>
                            <a:pt x="28" y="0"/>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722" name=""/>
                    <p:cNvSpPr/>
                    <p:nvPr/>
                  </p:nvSpPr>
                  <p:spPr>
                    <a:xfrm rot="4972200">
                      <a:off x="1339920" y="3159720"/>
                      <a:ext cx="30240" cy="28440"/>
                    </a:xfrm>
                    <a:custGeom>
                      <a:avLst/>
                      <a:gdLst/>
                      <a:ahLst/>
                      <a:rect l="l" t="t" r="r" b="b"/>
                      <a:pathLst>
                        <a:path w="34" h="32">
                          <a:moveTo>
                            <a:pt x="26" y="32"/>
                          </a:moveTo>
                          <a:lnTo>
                            <a:pt x="0" y="9"/>
                          </a:lnTo>
                          <a:lnTo>
                            <a:pt x="5" y="0"/>
                          </a:lnTo>
                          <a:lnTo>
                            <a:pt x="34" y="22"/>
                          </a:lnTo>
                          <a:lnTo>
                            <a:pt x="26" y="32"/>
                          </a:lnTo>
                          <a:lnTo>
                            <a:pt x="26" y="32"/>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723" name=""/>
                    <p:cNvSpPr/>
                    <p:nvPr/>
                  </p:nvSpPr>
                  <p:spPr>
                    <a:xfrm rot="4972200">
                      <a:off x="1356840" y="3169440"/>
                      <a:ext cx="28440" cy="27720"/>
                    </a:xfrm>
                    <a:custGeom>
                      <a:avLst/>
                      <a:gdLst/>
                      <a:ahLst/>
                      <a:rect l="l" t="t" r="r" b="b"/>
                      <a:pathLst>
                        <a:path w="32" h="31">
                          <a:moveTo>
                            <a:pt x="25" y="31"/>
                          </a:moveTo>
                          <a:lnTo>
                            <a:pt x="0" y="8"/>
                          </a:lnTo>
                          <a:lnTo>
                            <a:pt x="5" y="0"/>
                          </a:lnTo>
                          <a:lnTo>
                            <a:pt x="32" y="20"/>
                          </a:lnTo>
                          <a:lnTo>
                            <a:pt x="25" y="31"/>
                          </a:lnTo>
                          <a:lnTo>
                            <a:pt x="25" y="31"/>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724" name=""/>
                    <p:cNvSpPr/>
                    <p:nvPr/>
                  </p:nvSpPr>
                  <p:spPr>
                    <a:xfrm rot="4972200">
                      <a:off x="1373400" y="3177360"/>
                      <a:ext cx="29520" cy="29520"/>
                    </a:xfrm>
                    <a:custGeom>
                      <a:avLst/>
                      <a:gdLst/>
                      <a:ahLst/>
                      <a:rect l="l" t="t" r="r" b="b"/>
                      <a:pathLst>
                        <a:path w="33" h="33">
                          <a:moveTo>
                            <a:pt x="27" y="33"/>
                          </a:moveTo>
                          <a:lnTo>
                            <a:pt x="0" y="9"/>
                          </a:lnTo>
                          <a:lnTo>
                            <a:pt x="7" y="0"/>
                          </a:lnTo>
                          <a:lnTo>
                            <a:pt x="33" y="23"/>
                          </a:lnTo>
                          <a:lnTo>
                            <a:pt x="27" y="33"/>
                          </a:lnTo>
                          <a:lnTo>
                            <a:pt x="27" y="33"/>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725" name=""/>
                    <p:cNvSpPr/>
                    <p:nvPr/>
                  </p:nvSpPr>
                  <p:spPr>
                    <a:xfrm rot="4972200">
                      <a:off x="1339920" y="3159720"/>
                      <a:ext cx="30240" cy="28440"/>
                    </a:xfrm>
                    <a:custGeom>
                      <a:avLst/>
                      <a:gdLst/>
                      <a:ahLst/>
                      <a:rect l="l" t="t" r="r" b="b"/>
                      <a:pathLst>
                        <a:path w="34" h="32">
                          <a:moveTo>
                            <a:pt x="26" y="32"/>
                          </a:moveTo>
                          <a:lnTo>
                            <a:pt x="0" y="9"/>
                          </a:lnTo>
                          <a:lnTo>
                            <a:pt x="5" y="0"/>
                          </a:lnTo>
                          <a:lnTo>
                            <a:pt x="34" y="22"/>
                          </a:lnTo>
                          <a:lnTo>
                            <a:pt x="26" y="32"/>
                          </a:lnTo>
                          <a:lnTo>
                            <a:pt x="26" y="32"/>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726" name=""/>
                    <p:cNvSpPr/>
                    <p:nvPr/>
                  </p:nvSpPr>
                  <p:spPr>
                    <a:xfrm rot="4972200">
                      <a:off x="1339920" y="3159720"/>
                      <a:ext cx="30240" cy="28440"/>
                    </a:xfrm>
                    <a:custGeom>
                      <a:avLst/>
                      <a:gdLst/>
                      <a:ahLst/>
                      <a:rect l="l" t="t" r="r" b="b"/>
                      <a:pathLst>
                        <a:path w="34" h="32">
                          <a:moveTo>
                            <a:pt x="26" y="32"/>
                          </a:moveTo>
                          <a:lnTo>
                            <a:pt x="0" y="9"/>
                          </a:lnTo>
                          <a:lnTo>
                            <a:pt x="5" y="0"/>
                          </a:lnTo>
                          <a:lnTo>
                            <a:pt x="34" y="22"/>
                          </a:lnTo>
                          <a:lnTo>
                            <a:pt x="26" y="32"/>
                          </a:lnTo>
                          <a:lnTo>
                            <a:pt x="26" y="32"/>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grpSp>
              <p:sp>
                <p:nvSpPr>
                  <p:cNvPr id="727" name=""/>
                  <p:cNvSpPr/>
                  <p:nvPr/>
                </p:nvSpPr>
                <p:spPr>
                  <a:xfrm>
                    <a:off x="1178640" y="2942640"/>
                    <a:ext cx="27360" cy="32400"/>
                  </a:xfrm>
                  <a:prstGeom prst="line">
                    <a:avLst/>
                  </a:prstGeom>
                  <a:ln w="9360">
                    <a:solidFill>
                      <a:srgbClr val="000000"/>
                    </a:solidFill>
                    <a:miter/>
                  </a:ln>
                </p:spPr>
                <p:style>
                  <a:lnRef idx="0"/>
                  <a:fillRef idx="0"/>
                  <a:effectRef idx="0"/>
                  <a:fontRef idx="minor"/>
                </p:style>
                <p:txBody>
                  <a:bodyPr lIns="90000" rIns="90000" tIns="-14400" bIns="-14400" anchor="ctr">
                    <a:noAutofit/>
                  </a:bodyPr>
                  <a:p>
                    <a:endParaRPr b="0" lang="en-US" sz="2400" spc="-1" strike="noStrike">
                      <a:solidFill>
                        <a:srgbClr val="000000"/>
                      </a:solidFill>
                      <a:latin typeface="Times New Roman"/>
                    </a:endParaRPr>
                  </a:p>
                </p:txBody>
              </p:sp>
              <p:sp>
                <p:nvSpPr>
                  <p:cNvPr id="728" name=""/>
                  <p:cNvSpPr/>
                  <p:nvPr/>
                </p:nvSpPr>
                <p:spPr>
                  <a:xfrm>
                    <a:off x="1175760" y="2948400"/>
                    <a:ext cx="27000" cy="33120"/>
                  </a:xfrm>
                  <a:prstGeom prst="line">
                    <a:avLst/>
                  </a:prstGeom>
                  <a:ln w="9360">
                    <a:solidFill>
                      <a:srgbClr val="000000"/>
                    </a:solidFill>
                    <a:miter/>
                  </a:ln>
                </p:spPr>
                <p:style>
                  <a:lnRef idx="0"/>
                  <a:fillRef idx="0"/>
                  <a:effectRef idx="0"/>
                  <a:fontRef idx="minor"/>
                </p:style>
                <p:txBody>
                  <a:bodyPr lIns="90000" rIns="90000" tIns="-13680" bIns="-13680" anchor="ctr">
                    <a:noAutofit/>
                  </a:bodyPr>
                  <a:p>
                    <a:endParaRPr b="0" lang="en-US" sz="2400" spc="-1" strike="noStrike">
                      <a:solidFill>
                        <a:srgbClr val="000000"/>
                      </a:solidFill>
                      <a:latin typeface="Times New Roman"/>
                    </a:endParaRPr>
                  </a:p>
                </p:txBody>
              </p:sp>
              <p:sp>
                <p:nvSpPr>
                  <p:cNvPr id="729" name=""/>
                  <p:cNvSpPr/>
                  <p:nvPr/>
                </p:nvSpPr>
                <p:spPr>
                  <a:xfrm>
                    <a:off x="1178640" y="2944440"/>
                    <a:ext cx="27720" cy="32400"/>
                  </a:xfrm>
                  <a:prstGeom prst="line">
                    <a:avLst/>
                  </a:prstGeom>
                  <a:ln w="9360">
                    <a:solidFill>
                      <a:srgbClr val="000000"/>
                    </a:solidFill>
                    <a:miter/>
                  </a:ln>
                </p:spPr>
                <p:style>
                  <a:lnRef idx="0"/>
                  <a:fillRef idx="0"/>
                  <a:effectRef idx="0"/>
                  <a:fontRef idx="minor"/>
                </p:style>
                <p:txBody>
                  <a:bodyPr lIns="90000" rIns="90000" tIns="-14400" bIns="-14400" anchor="ctr">
                    <a:noAutofit/>
                  </a:bodyPr>
                  <a:p>
                    <a:endParaRPr b="0" lang="en-US" sz="2400" spc="-1" strike="noStrike">
                      <a:solidFill>
                        <a:srgbClr val="000000"/>
                      </a:solidFill>
                      <a:latin typeface="Times New Roman"/>
                    </a:endParaRPr>
                  </a:p>
                </p:txBody>
              </p:sp>
              <p:sp>
                <p:nvSpPr>
                  <p:cNvPr id="730" name=""/>
                  <p:cNvSpPr/>
                  <p:nvPr/>
                </p:nvSpPr>
                <p:spPr>
                  <a:xfrm>
                    <a:off x="1253520" y="3038040"/>
                    <a:ext cx="27360" cy="33120"/>
                  </a:xfrm>
                  <a:prstGeom prst="line">
                    <a:avLst/>
                  </a:prstGeom>
                  <a:ln w="9360">
                    <a:solidFill>
                      <a:srgbClr val="000000"/>
                    </a:solidFill>
                    <a:miter/>
                  </a:ln>
                </p:spPr>
                <p:style>
                  <a:lnRef idx="0"/>
                  <a:fillRef idx="0"/>
                  <a:effectRef idx="0"/>
                  <a:fontRef idx="minor"/>
                </p:style>
                <p:txBody>
                  <a:bodyPr lIns="90000" rIns="90000" tIns="-13680" bIns="-13680" anchor="ctr">
                    <a:noAutofit/>
                  </a:bodyPr>
                  <a:p>
                    <a:endParaRPr b="0" lang="en-US" sz="2400" spc="-1" strike="noStrike">
                      <a:solidFill>
                        <a:srgbClr val="000000"/>
                      </a:solidFill>
                      <a:latin typeface="Times New Roman"/>
                    </a:endParaRPr>
                  </a:p>
                </p:txBody>
              </p:sp>
              <p:sp>
                <p:nvSpPr>
                  <p:cNvPr id="731" name=""/>
                  <p:cNvSpPr/>
                  <p:nvPr/>
                </p:nvSpPr>
                <p:spPr>
                  <a:xfrm>
                    <a:off x="1242360" y="3032280"/>
                    <a:ext cx="27720" cy="32400"/>
                  </a:xfrm>
                  <a:prstGeom prst="line">
                    <a:avLst/>
                  </a:prstGeom>
                  <a:ln w="9360">
                    <a:solidFill>
                      <a:srgbClr val="000000"/>
                    </a:solidFill>
                    <a:miter/>
                  </a:ln>
                </p:spPr>
                <p:style>
                  <a:lnRef idx="0"/>
                  <a:fillRef idx="0"/>
                  <a:effectRef idx="0"/>
                  <a:fontRef idx="minor"/>
                </p:style>
                <p:txBody>
                  <a:bodyPr lIns="90000" rIns="90000" tIns="-14400" bIns="-14400" anchor="ctr">
                    <a:noAutofit/>
                  </a:bodyPr>
                  <a:p>
                    <a:endParaRPr b="0" lang="en-US" sz="2400" spc="-1" strike="noStrike">
                      <a:solidFill>
                        <a:srgbClr val="000000"/>
                      </a:solidFill>
                      <a:latin typeface="Times New Roman"/>
                    </a:endParaRPr>
                  </a:p>
                </p:txBody>
              </p:sp>
              <p:sp>
                <p:nvSpPr>
                  <p:cNvPr id="732" name=""/>
                  <p:cNvSpPr/>
                  <p:nvPr/>
                </p:nvSpPr>
                <p:spPr>
                  <a:xfrm>
                    <a:off x="1252800" y="3031200"/>
                    <a:ext cx="27000" cy="32400"/>
                  </a:xfrm>
                  <a:prstGeom prst="line">
                    <a:avLst/>
                  </a:prstGeom>
                  <a:ln w="9360">
                    <a:solidFill>
                      <a:srgbClr val="000000"/>
                    </a:solidFill>
                    <a:miter/>
                  </a:ln>
                </p:spPr>
                <p:style>
                  <a:lnRef idx="0"/>
                  <a:fillRef idx="0"/>
                  <a:effectRef idx="0"/>
                  <a:fontRef idx="minor"/>
                </p:style>
                <p:txBody>
                  <a:bodyPr lIns="90000" rIns="90000" tIns="-14400" bIns="-14400" anchor="ctr">
                    <a:noAutofit/>
                  </a:bodyPr>
                  <a:p>
                    <a:endParaRPr b="0" lang="en-US" sz="2400" spc="-1" strike="noStrike">
                      <a:solidFill>
                        <a:srgbClr val="000000"/>
                      </a:solidFill>
                      <a:latin typeface="Times New Roman"/>
                    </a:endParaRPr>
                  </a:p>
                </p:txBody>
              </p:sp>
              <p:sp>
                <p:nvSpPr>
                  <p:cNvPr id="733" name=""/>
                  <p:cNvSpPr/>
                  <p:nvPr/>
                </p:nvSpPr>
                <p:spPr>
                  <a:xfrm>
                    <a:off x="1122840" y="2598480"/>
                    <a:ext cx="27720" cy="32400"/>
                  </a:xfrm>
                  <a:prstGeom prst="line">
                    <a:avLst/>
                  </a:prstGeom>
                  <a:ln w="9360">
                    <a:solidFill>
                      <a:srgbClr val="000000"/>
                    </a:solidFill>
                    <a:miter/>
                  </a:ln>
                </p:spPr>
                <p:style>
                  <a:lnRef idx="0"/>
                  <a:fillRef idx="0"/>
                  <a:effectRef idx="0"/>
                  <a:fontRef idx="minor"/>
                </p:style>
                <p:txBody>
                  <a:bodyPr lIns="90000" rIns="90000" tIns="-14400" bIns="-14400" anchor="ctr">
                    <a:noAutofit/>
                  </a:bodyPr>
                  <a:p>
                    <a:endParaRPr b="0" lang="en-US" sz="2400" spc="-1" strike="noStrike">
                      <a:solidFill>
                        <a:srgbClr val="000000"/>
                      </a:solidFill>
                      <a:latin typeface="Times New Roman"/>
                    </a:endParaRPr>
                  </a:p>
                </p:txBody>
              </p:sp>
              <p:sp>
                <p:nvSpPr>
                  <p:cNvPr id="734" name=""/>
                  <p:cNvSpPr/>
                  <p:nvPr/>
                </p:nvSpPr>
                <p:spPr>
                  <a:xfrm>
                    <a:off x="1109520" y="2593440"/>
                    <a:ext cx="27000" cy="32400"/>
                  </a:xfrm>
                  <a:prstGeom prst="line">
                    <a:avLst/>
                  </a:prstGeom>
                  <a:ln w="9360">
                    <a:solidFill>
                      <a:srgbClr val="000000"/>
                    </a:solidFill>
                    <a:miter/>
                  </a:ln>
                </p:spPr>
                <p:style>
                  <a:lnRef idx="0"/>
                  <a:fillRef idx="0"/>
                  <a:effectRef idx="0"/>
                  <a:fontRef idx="minor"/>
                </p:style>
                <p:txBody>
                  <a:bodyPr lIns="90000" rIns="90000" tIns="-14400" bIns="-14400" anchor="ctr">
                    <a:noAutofit/>
                  </a:bodyPr>
                  <a:p>
                    <a:endParaRPr b="0" lang="en-US" sz="2400" spc="-1" strike="noStrike">
                      <a:solidFill>
                        <a:srgbClr val="000000"/>
                      </a:solidFill>
                      <a:latin typeface="Times New Roman"/>
                    </a:endParaRPr>
                  </a:p>
                </p:txBody>
              </p:sp>
              <p:sp>
                <p:nvSpPr>
                  <p:cNvPr id="735" name=""/>
                  <p:cNvSpPr/>
                  <p:nvPr/>
                </p:nvSpPr>
                <p:spPr>
                  <a:xfrm>
                    <a:off x="1108440" y="2585880"/>
                    <a:ext cx="27360" cy="32760"/>
                  </a:xfrm>
                  <a:prstGeom prst="line">
                    <a:avLst/>
                  </a:prstGeom>
                  <a:ln w="9360">
                    <a:solidFill>
                      <a:srgbClr val="000000"/>
                    </a:solidFill>
                    <a:miter/>
                  </a:ln>
                </p:spPr>
                <p:style>
                  <a:lnRef idx="0"/>
                  <a:fillRef idx="0"/>
                  <a:effectRef idx="0"/>
                  <a:fontRef idx="minor"/>
                </p:style>
                <p:txBody>
                  <a:bodyPr lIns="90000" rIns="90000" tIns="-14040" bIns="-14040" anchor="ctr">
                    <a:noAutofit/>
                  </a:bodyPr>
                  <a:p>
                    <a:endParaRPr b="0" lang="en-US" sz="2400" spc="-1" strike="noStrike">
                      <a:solidFill>
                        <a:srgbClr val="000000"/>
                      </a:solidFill>
                      <a:latin typeface="Times New Roman"/>
                    </a:endParaRPr>
                  </a:p>
                </p:txBody>
              </p:sp>
              <p:sp>
                <p:nvSpPr>
                  <p:cNvPr id="736" name=""/>
                  <p:cNvSpPr/>
                  <p:nvPr/>
                </p:nvSpPr>
                <p:spPr>
                  <a:xfrm>
                    <a:off x="1114200" y="2589120"/>
                    <a:ext cx="27360" cy="30600"/>
                  </a:xfrm>
                  <a:prstGeom prst="line">
                    <a:avLst/>
                  </a:prstGeom>
                  <a:ln w="9360">
                    <a:solidFill>
                      <a:srgbClr val="000000"/>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737" name=""/>
                  <p:cNvSpPr/>
                  <p:nvPr/>
                </p:nvSpPr>
                <p:spPr>
                  <a:xfrm>
                    <a:off x="1186920" y="2675880"/>
                    <a:ext cx="19080" cy="26280"/>
                  </a:xfrm>
                  <a:prstGeom prst="line">
                    <a:avLst/>
                  </a:prstGeom>
                  <a:ln w="9360">
                    <a:solidFill>
                      <a:srgbClr val="0000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Times New Roman"/>
                    </a:endParaRPr>
                  </a:p>
                </p:txBody>
              </p:sp>
              <p:sp>
                <p:nvSpPr>
                  <p:cNvPr id="738" name=""/>
                  <p:cNvSpPr/>
                  <p:nvPr/>
                </p:nvSpPr>
                <p:spPr>
                  <a:xfrm>
                    <a:off x="1119600" y="2602440"/>
                    <a:ext cx="83520" cy="105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1187280" y="2679480"/>
                    <a:ext cx="19080" cy="25920"/>
                  </a:xfrm>
                  <a:prstGeom prst="line">
                    <a:avLst/>
                  </a:prstGeom>
                  <a:ln w="9360">
                    <a:solidFill>
                      <a:srgbClr val="000000"/>
                    </a:solidFill>
                    <a:miter/>
                  </a:ln>
                </p:spPr>
                <p:style>
                  <a:lnRef idx="0"/>
                  <a:fillRef idx="0"/>
                  <a:effectRef idx="0"/>
                  <a:fontRef idx="minor"/>
                </p:style>
                <p:txBody>
                  <a:bodyPr lIns="90000" rIns="90000" tIns="-20880" bIns="-20880" anchor="ctr">
                    <a:noAutofit/>
                  </a:bodyPr>
                  <a:p>
                    <a:endParaRPr b="0" lang="en-US" sz="2400" spc="-1" strike="noStrike">
                      <a:solidFill>
                        <a:srgbClr val="000000"/>
                      </a:solidFill>
                      <a:latin typeface="Times New Roman"/>
                    </a:endParaRPr>
                  </a:p>
                </p:txBody>
              </p:sp>
            </p:grpSp>
            <p:pic>
              <p:nvPicPr>
                <p:cNvPr id="740" name="" descr=""/>
                <p:cNvPicPr/>
                <p:nvPr/>
              </p:nvPicPr>
              <p:blipFill>
                <a:blip r:embed="rId22"/>
                <a:stretch/>
              </p:blipFill>
              <p:spPr>
                <a:xfrm>
                  <a:off x="1576440" y="2930400"/>
                  <a:ext cx="501480" cy="569880"/>
                </a:xfrm>
                <a:prstGeom prst="rect">
                  <a:avLst/>
                </a:prstGeom>
                <a:ln w="9360">
                  <a:solidFill>
                    <a:srgbClr val="000000"/>
                  </a:solidFill>
                  <a:miter/>
                </a:ln>
                <a:effectLst>
                  <a:outerShdw dist="17819" dir="2700000" blurRad="0" rotWithShape="0">
                    <a:srgbClr val="808080"/>
                  </a:outerShdw>
                </a:effectLst>
              </p:spPr>
            </p:pic>
          </p:grpSp>
        </p:grpSp>
        <p:sp>
          <p:nvSpPr>
            <p:cNvPr id="741" name=""/>
            <p:cNvSpPr/>
            <p:nvPr/>
          </p:nvSpPr>
          <p:spPr>
            <a:xfrm>
              <a:off x="1433520" y="4294080"/>
              <a:ext cx="673200" cy="528840"/>
            </a:xfrm>
            <a:custGeom>
              <a:avLst/>
              <a:gdLst/>
              <a:ahLst/>
              <a:rect l="l" t="t" r="r" b="b"/>
              <a:pathLst>
                <a:path w="424" h="333">
                  <a:moveTo>
                    <a:pt x="0" y="48"/>
                  </a:moveTo>
                  <a:lnTo>
                    <a:pt x="162" y="119"/>
                  </a:lnTo>
                  <a:lnTo>
                    <a:pt x="150" y="238"/>
                  </a:lnTo>
                  <a:lnTo>
                    <a:pt x="218" y="333"/>
                  </a:lnTo>
                  <a:lnTo>
                    <a:pt x="424" y="329"/>
                  </a:lnTo>
                  <a:lnTo>
                    <a:pt x="341" y="238"/>
                  </a:lnTo>
                  <a:lnTo>
                    <a:pt x="222" y="131"/>
                  </a:lnTo>
                  <a:lnTo>
                    <a:pt x="198" y="44"/>
                  </a:lnTo>
                  <a:lnTo>
                    <a:pt x="103" y="0"/>
                  </a:lnTo>
                  <a:lnTo>
                    <a:pt x="28" y="48"/>
                  </a:lnTo>
                </a:path>
              </a:pathLst>
            </a:custGeom>
            <a:solidFill>
              <a:srgbClr val="ffffff"/>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742" name=""/>
          <p:cNvSpPr/>
          <p:nvPr/>
        </p:nvSpPr>
        <p:spPr>
          <a:xfrm>
            <a:off x="246240" y="4389480"/>
            <a:ext cx="1404720" cy="1054080"/>
          </a:xfrm>
          <a:prstGeom prst="rect">
            <a:avLst/>
          </a:prstGeom>
          <a:solidFill>
            <a:srgbClr val="ffffcc"/>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Compliant Syste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43" name=""/>
          <p:cNvSpPr/>
          <p:nvPr/>
        </p:nvSpPr>
        <p:spPr>
          <a:xfrm>
            <a:off x="1703520" y="4865760"/>
            <a:ext cx="490320" cy="0"/>
          </a:xfrm>
          <a:prstGeom prst="line">
            <a:avLst/>
          </a:prstGeom>
          <a:ln w="63360">
            <a:solidFill>
              <a:srgbClr val="000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93"/>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596"/>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577"/>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205"/>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5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PlaceHolder 1"/>
          <p:cNvSpPr>
            <a:spLocks noGrp="1"/>
          </p:cNvSpPr>
          <p:nvPr>
            <p:ph type="title"/>
          </p:nvPr>
        </p:nvSpPr>
        <p:spPr>
          <a:xfrm>
            <a:off x="0" y="256680"/>
            <a:ext cx="9144000" cy="406440"/>
          </a:xfrm>
          <a:prstGeom prst="rect">
            <a:avLst/>
          </a:prstGeom>
          <a:noFill/>
          <a:ln w="0">
            <a:noFill/>
          </a:ln>
        </p:spPr>
        <p:txBody>
          <a:bodyPr lIns="90360" rIns="90360" tIns="44280" bIns="442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law Management Using Standards: </a:t>
            </a:r>
            <a:r>
              <a:rPr b="0" lang="en-US" sz="2400" spc="-1" strike="noStrike">
                <a:solidFill>
                  <a:srgbClr val="000000"/>
                </a:solidFill>
                <a:latin typeface="Arial"/>
              </a:rPr>
              <a:t>x</a:t>
            </a:r>
            <a:r>
              <a:rPr b="1" lang="en-US" sz="1800" spc="-1" strike="noStrike">
                <a:solidFill>
                  <a:srgbClr val="000000"/>
                </a:solidFill>
                <a:latin typeface="Arial"/>
              </a:rPr>
              <a:t>ML, CVE, OVAL</a:t>
            </a:r>
            <a:r>
              <a:rPr b="1" lang="en-US" sz="2400" spc="-1" strike="noStrike">
                <a:solidFill>
                  <a:srgbClr val="000000"/>
                </a:solidFill>
                <a:latin typeface="Arial"/>
              </a:rPr>
              <a:t> </a:t>
            </a:r>
            <a:endParaRPr b="1" lang="en-US" sz="2400" spc="-1" strike="noStrike">
              <a:solidFill>
                <a:srgbClr val="000000"/>
              </a:solidFill>
              <a:latin typeface="Arial"/>
            </a:endParaRPr>
          </a:p>
        </p:txBody>
      </p:sp>
      <p:sp>
        <p:nvSpPr>
          <p:cNvPr id="745" name=""/>
          <p:cNvSpPr/>
          <p:nvPr/>
        </p:nvSpPr>
        <p:spPr>
          <a:xfrm>
            <a:off x="946080" y="3627360"/>
            <a:ext cx="444600" cy="0"/>
          </a:xfrm>
          <a:prstGeom prst="line">
            <a:avLst/>
          </a:prstGeom>
          <a:ln w="63360">
            <a:solidFill>
              <a:srgbClr val="000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6" name=""/>
          <p:cNvSpPr/>
          <p:nvPr/>
        </p:nvSpPr>
        <p:spPr>
          <a:xfrm>
            <a:off x="88920" y="1720800"/>
            <a:ext cx="2509920" cy="220032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a:off x="-14400" y="1276200"/>
            <a:ext cx="28893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lert/Bulletin/</a:t>
            </a:r>
            <a:br>
              <a:rPr sz="1400"/>
            </a:br>
            <a:r>
              <a:rPr b="1" lang="en-US" sz="1400" spc="-1" strike="noStrike">
                <a:solidFill>
                  <a:srgbClr val="000000"/>
                </a:solidFill>
                <a:latin typeface="Arial"/>
              </a:rPr>
              <a:t>Advisory</a:t>
            </a:r>
            <a:endParaRPr b="0" lang="en-US" sz="1400" spc="-1" strike="noStrike">
              <a:solidFill>
                <a:srgbClr val="000000"/>
              </a:solidFill>
              <a:latin typeface="Times New Roman"/>
            </a:endParaRPr>
          </a:p>
        </p:txBody>
      </p:sp>
      <p:sp>
        <p:nvSpPr>
          <p:cNvPr id="748" name=""/>
          <p:cNvSpPr/>
          <p:nvPr/>
        </p:nvSpPr>
        <p:spPr>
          <a:xfrm>
            <a:off x="109080" y="1814400"/>
            <a:ext cx="2474280" cy="2162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t;?xml version=“1.0”&g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t;xsd: schema xmlns:xsd=http://www.std.coml/…”&g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t;VA-num&gt;34&lt;/VA-num&g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t;vuln-id&gt;CAN-2004-0010</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vuln-definition&gt;OVAL-1234&lt;/vuln-definition&g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vuln-definition&gt;OVAL-1235&lt;/vuln-definition&g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t;/vuln-id&g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t;vuln-id&gt;CAN-2004-0011</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vuln-definition&gt;OVAL-1240&lt;/vuln-definition&g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t;/vuln-id&g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t;dates&g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V-date&gt;1 April 2004&lt;/V-date&g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ack-date&gt;6 April 2004&lt;/ack-date&g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reporting-date&gt;30 April 2004&lt;/reporting-date&g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00"/>
              </a:solidFill>
              <a:latin typeface="Times New Roman"/>
            </a:endParaRPr>
          </a:p>
        </p:txBody>
      </p:sp>
      <p:sp>
        <p:nvSpPr>
          <p:cNvPr id="749" name=""/>
          <p:cNvSpPr/>
          <p:nvPr/>
        </p:nvSpPr>
        <p:spPr>
          <a:xfrm>
            <a:off x="2814480" y="1441440"/>
            <a:ext cx="1893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canner w/Host Info</a:t>
            </a:r>
            <a:endParaRPr b="0" lang="en-US" sz="1400" spc="-1" strike="noStrike">
              <a:solidFill>
                <a:srgbClr val="000000"/>
              </a:solidFill>
              <a:latin typeface="Times New Roman"/>
            </a:endParaRPr>
          </a:p>
        </p:txBody>
      </p:sp>
      <p:sp>
        <p:nvSpPr>
          <p:cNvPr id="750" name=""/>
          <p:cNvSpPr/>
          <p:nvPr/>
        </p:nvSpPr>
        <p:spPr>
          <a:xfrm>
            <a:off x="2763720" y="1743120"/>
            <a:ext cx="2379960" cy="240336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2949480" y="2368440"/>
            <a:ext cx="1758960" cy="1371600"/>
          </a:xfrm>
          <a:prstGeom prst="rect">
            <a:avLst/>
          </a:prstGeom>
          <a:solidFill>
            <a:srgbClr val="ffffcc"/>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br>
              <a:rPr sz="1200"/>
            </a:br>
            <a:br>
              <a:rPr sz="1200"/>
            </a:br>
            <a:br>
              <a:rPr sz="1200"/>
            </a:br>
            <a:br>
              <a:rPr sz="1200"/>
            </a:br>
            <a:endParaRPr b="0" lang="en-US" sz="1200" spc="-1" strike="noStrike">
              <a:solidFill>
                <a:srgbClr val="000000"/>
              </a:solidFill>
              <a:latin typeface="Times New Roman"/>
            </a:endParaRPr>
          </a:p>
        </p:txBody>
      </p:sp>
      <p:sp>
        <p:nvSpPr>
          <p:cNvPr id="752" name=""/>
          <p:cNvSpPr/>
          <p:nvPr/>
        </p:nvSpPr>
        <p:spPr>
          <a:xfrm>
            <a:off x="0" y="1996920"/>
            <a:ext cx="2630520" cy="1238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3" name=""/>
          <p:cNvSpPr/>
          <p:nvPr/>
        </p:nvSpPr>
        <p:spPr>
          <a:xfrm>
            <a:off x="2733840" y="1760400"/>
            <a:ext cx="24159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re system configuration to vulnerability definitions. </a:t>
            </a:r>
            <a:endParaRPr b="0" lang="en-US" sz="1200" spc="-1" strike="noStrike">
              <a:solidFill>
                <a:srgbClr val="000000"/>
              </a:solidFill>
              <a:latin typeface="Times New Roman"/>
            </a:endParaRPr>
          </a:p>
        </p:txBody>
      </p:sp>
      <p:sp>
        <p:nvSpPr>
          <p:cNvPr id="754" name=""/>
          <p:cNvSpPr/>
          <p:nvPr/>
        </p:nvSpPr>
        <p:spPr>
          <a:xfrm>
            <a:off x="5535720" y="4051440"/>
            <a:ext cx="2562120" cy="1584720"/>
          </a:xfrm>
          <a:prstGeom prst="rect">
            <a:avLst/>
          </a:prstGeom>
          <a:solidFill>
            <a:srgbClr val="ffff99"/>
          </a:solidFill>
          <a:ln w="12600">
            <a:solidFill>
              <a:srgbClr val="000000"/>
            </a:solidFill>
            <a:miter/>
          </a:ln>
        </p:spPr>
        <p:style>
          <a:lnRef idx="0"/>
          <a:fillRef idx="0"/>
          <a:effectRef idx="0"/>
          <a:fontRef idx="minor"/>
        </p:style>
        <p:txBody>
          <a:bodyPr lIns="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u="sng">
                <a:solidFill>
                  <a:srgbClr val="000000"/>
                </a:solidFill>
                <a:uFillTx/>
                <a:latin typeface="Arial"/>
              </a:rPr>
              <a:t>Enterprise Scan Outpu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system&gt;A&lt;/system&g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vuln-id&gt;CAN-2004-0010&lt;/vuln-id&g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vuln-id&gt;CAN-2004-0011&lt;/vuln-id&g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system&gt;B&lt;/system&g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vuln-id&gt;CVE-2001-0815&lt;/vuln-id&g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Times New Roman"/>
            </a:endParaRPr>
          </a:p>
        </p:txBody>
      </p:sp>
      <p:sp>
        <p:nvSpPr>
          <p:cNvPr id="755" name=""/>
          <p:cNvSpPr/>
          <p:nvPr/>
        </p:nvSpPr>
        <p:spPr>
          <a:xfrm>
            <a:off x="5499000" y="2384280"/>
            <a:ext cx="2603520" cy="140220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VA Compliance XML Outpu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org&gt;Org.Name&lt;/org&g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gt;30 April 2004&lt;/date&g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network&gt;subnet&lt;/network&g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num-sys&gt;87&lt;/num-sys&g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VA-comp&gt;66&lt;/VA-comp&g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Times New Roman"/>
            </a:endParaRPr>
          </a:p>
        </p:txBody>
      </p:sp>
      <p:cxnSp>
        <p:nvCxnSpPr>
          <p:cNvPr id="756" name=""/>
          <p:cNvCxnSpPr/>
          <p:nvPr/>
        </p:nvCxnSpPr>
        <p:spPr>
          <a:xfrm>
            <a:off x="4738320" y="4640400"/>
            <a:ext cx="795960" cy="280080"/>
          </a:xfrm>
          <a:prstGeom prst="bentConnector3">
            <a:avLst>
              <a:gd name="adj1" fmla="val 67420"/>
            </a:avLst>
          </a:prstGeom>
          <a:ln w="12600">
            <a:solidFill>
              <a:srgbClr val="000000"/>
            </a:solidFill>
            <a:miter/>
            <a:tailEnd len="med" type="triangle" w="med"/>
          </a:ln>
        </p:spPr>
      </p:cxnSp>
      <p:cxnSp>
        <p:nvCxnSpPr>
          <p:cNvPr id="757" name=""/>
          <p:cNvCxnSpPr>
            <a:stCxn id="758" idx="3"/>
            <a:endCxn id="755" idx="1"/>
          </p:cNvCxnSpPr>
          <p:nvPr/>
        </p:nvCxnSpPr>
        <p:spPr>
          <a:xfrm flipV="1">
            <a:off x="4753080" y="3090600"/>
            <a:ext cx="746640" cy="1443600"/>
          </a:xfrm>
          <a:prstGeom prst="bentConnector3">
            <a:avLst>
              <a:gd name="adj1" fmla="val 49975"/>
            </a:avLst>
          </a:prstGeom>
          <a:ln w="12600">
            <a:solidFill>
              <a:srgbClr val="000000"/>
            </a:solidFill>
            <a:miter/>
            <a:tailEnd len="med" type="triangle" w="med"/>
          </a:ln>
        </p:spPr>
      </p:cxnSp>
      <p:grpSp>
        <p:nvGrpSpPr>
          <p:cNvPr id="759" name=""/>
          <p:cNvGrpSpPr/>
          <p:nvPr/>
        </p:nvGrpSpPr>
        <p:grpSpPr>
          <a:xfrm>
            <a:off x="8105760" y="2489040"/>
            <a:ext cx="1038240" cy="932760"/>
            <a:chOff x="8105760" y="2489040"/>
            <a:chExt cx="1038240" cy="932760"/>
          </a:xfrm>
        </p:grpSpPr>
        <p:sp>
          <p:nvSpPr>
            <p:cNvPr id="760" name="computr3"/>
            <p:cNvSpPr/>
            <p:nvPr/>
          </p:nvSpPr>
          <p:spPr>
            <a:xfrm>
              <a:off x="8400960" y="2489040"/>
              <a:ext cx="743040" cy="65268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1" name=""/>
            <p:cNvSpPr/>
            <p:nvPr/>
          </p:nvSpPr>
          <p:spPr>
            <a:xfrm>
              <a:off x="8105760" y="3063960"/>
              <a:ext cx="2383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2" name=""/>
            <p:cNvSpPr/>
            <p:nvPr/>
          </p:nvSpPr>
          <p:spPr>
            <a:xfrm>
              <a:off x="8487000" y="3114720"/>
              <a:ext cx="566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MS</a:t>
              </a:r>
              <a:endParaRPr b="0" lang="en-US" sz="1400" spc="-1" strike="noStrike">
                <a:solidFill>
                  <a:srgbClr val="000000"/>
                </a:solidFill>
                <a:latin typeface="Times New Roman"/>
              </a:endParaRPr>
            </a:p>
          </p:txBody>
        </p:sp>
      </p:grpSp>
      <p:cxnSp>
        <p:nvCxnSpPr>
          <p:cNvPr id="763" name=""/>
          <p:cNvCxnSpPr/>
          <p:nvPr/>
        </p:nvCxnSpPr>
        <p:spPr>
          <a:xfrm>
            <a:off x="4836960" y="4640400"/>
            <a:ext cx="766080" cy="1613520"/>
          </a:xfrm>
          <a:prstGeom prst="bentConnector3">
            <a:avLst>
              <a:gd name="adj1" fmla="val 57216"/>
            </a:avLst>
          </a:prstGeom>
          <a:ln w="12600">
            <a:solidFill>
              <a:srgbClr val="000000"/>
            </a:solidFill>
            <a:miter/>
            <a:tailEnd len="med" type="triangle" w="med"/>
          </a:ln>
        </p:spPr>
      </p:cxnSp>
      <p:sp>
        <p:nvSpPr>
          <p:cNvPr id="764" name=""/>
          <p:cNvSpPr/>
          <p:nvPr/>
        </p:nvSpPr>
        <p:spPr>
          <a:xfrm>
            <a:off x="5509440" y="5888160"/>
            <a:ext cx="322560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Other output content/formats, such as:</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er readable compliance reports</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st results as input to Security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ssessment</a:t>
            </a:r>
            <a:endParaRPr b="0" lang="en-US" sz="1400" spc="-1" strike="noStrike">
              <a:solidFill>
                <a:srgbClr val="000000"/>
              </a:solidFill>
              <a:latin typeface="Times New Roman"/>
            </a:endParaRPr>
          </a:p>
        </p:txBody>
      </p:sp>
      <p:sp>
        <p:nvSpPr>
          <p:cNvPr id="765" name="computr3"/>
          <p:cNvSpPr/>
          <p:nvPr/>
        </p:nvSpPr>
        <p:spPr>
          <a:xfrm>
            <a:off x="174600" y="3913200"/>
            <a:ext cx="2266920" cy="169560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6" name="computr3"/>
          <p:cNvSpPr/>
          <p:nvPr/>
        </p:nvSpPr>
        <p:spPr>
          <a:xfrm>
            <a:off x="2865600" y="4046400"/>
            <a:ext cx="2266920" cy="1695600"/>
          </a:xfrm>
          <a:prstGeom prst="pie">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67" name=""/>
          <p:cNvGrpSpPr/>
          <p:nvPr/>
        </p:nvGrpSpPr>
        <p:grpSpPr>
          <a:xfrm>
            <a:off x="8044920" y="4383000"/>
            <a:ext cx="1180440" cy="1334880"/>
            <a:chOff x="8044920" y="4383000"/>
            <a:chExt cx="1180440" cy="1334880"/>
          </a:xfrm>
        </p:grpSpPr>
        <p:sp>
          <p:nvSpPr>
            <p:cNvPr id="768" name=""/>
            <p:cNvSpPr/>
            <p:nvPr/>
          </p:nvSpPr>
          <p:spPr>
            <a:xfrm>
              <a:off x="8099280" y="5051160"/>
              <a:ext cx="2264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9" name=""/>
            <p:cNvSpPr/>
            <p:nvPr/>
          </p:nvSpPr>
          <p:spPr>
            <a:xfrm>
              <a:off x="8044920" y="4984560"/>
              <a:ext cx="1180440" cy="733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mediation</a:t>
              </a:r>
              <a:br>
                <a:rPr sz="1400"/>
              </a:br>
              <a:r>
                <a:rPr b="0" lang="en-US" sz="1400" spc="-1" strike="noStrike">
                  <a:solidFill>
                    <a:srgbClr val="000000"/>
                  </a:solidFill>
                  <a:latin typeface="Arial"/>
                </a:rPr>
                <a:t>Tool</a:t>
              </a:r>
              <a:endParaRPr b="0" lang="en-US" sz="1400" spc="-1" strike="noStrike">
                <a:solidFill>
                  <a:srgbClr val="000000"/>
                </a:solidFill>
                <a:latin typeface="Times New Roman"/>
              </a:endParaRPr>
            </a:p>
          </p:txBody>
        </p:sp>
        <p:sp>
          <p:nvSpPr>
            <p:cNvPr id="770" name="computr3"/>
            <p:cNvSpPr/>
            <p:nvPr/>
          </p:nvSpPr>
          <p:spPr>
            <a:xfrm>
              <a:off x="8213400" y="4383000"/>
              <a:ext cx="812520" cy="574560"/>
            </a:xfrm>
            <a:prstGeom prst="pie">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71" name=""/>
          <p:cNvSpPr/>
          <p:nvPr/>
        </p:nvSpPr>
        <p:spPr>
          <a:xfrm>
            <a:off x="1035000" y="4106880"/>
            <a:ext cx="80316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XML content Server</a:t>
            </a:r>
            <a:endParaRPr b="0" lang="en-US" sz="1400" spc="-1" strike="noStrike">
              <a:solidFill>
                <a:srgbClr val="000000"/>
              </a:solidFill>
              <a:latin typeface="Times New Roman"/>
            </a:endParaRPr>
          </a:p>
        </p:txBody>
      </p:sp>
      <p:sp>
        <p:nvSpPr>
          <p:cNvPr id="758" name=""/>
          <p:cNvSpPr/>
          <p:nvPr/>
        </p:nvSpPr>
        <p:spPr>
          <a:xfrm>
            <a:off x="3519360" y="4381560"/>
            <a:ext cx="1233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canner</a:t>
            </a:r>
            <a:endParaRPr b="0" lang="en-US" sz="1400" spc="-1" strike="noStrike">
              <a:solidFill>
                <a:srgbClr val="000000"/>
              </a:solidFill>
              <a:latin typeface="Times New Roman"/>
            </a:endParaRPr>
          </a:p>
        </p:txBody>
      </p:sp>
      <p:sp>
        <p:nvSpPr>
          <p:cNvPr id="772" name=""/>
          <p:cNvSpPr/>
          <p:nvPr/>
        </p:nvSpPr>
        <p:spPr>
          <a:xfrm>
            <a:off x="2868120" y="2147760"/>
            <a:ext cx="6836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 #32</a:t>
            </a:r>
            <a:endParaRPr b="0" lang="en-US" sz="1200" spc="-1" strike="noStrike">
              <a:solidFill>
                <a:srgbClr val="000000"/>
              </a:solidFill>
              <a:latin typeface="Times New Roman"/>
            </a:endParaRPr>
          </a:p>
        </p:txBody>
      </p:sp>
      <p:sp>
        <p:nvSpPr>
          <p:cNvPr id="773" name=""/>
          <p:cNvSpPr/>
          <p:nvPr/>
        </p:nvSpPr>
        <p:spPr>
          <a:xfrm>
            <a:off x="3102120" y="2521080"/>
            <a:ext cx="1758960" cy="1292760"/>
          </a:xfrm>
          <a:prstGeom prst="rect">
            <a:avLst/>
          </a:prstGeom>
          <a:solidFill>
            <a:srgbClr val="ffffcc"/>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a:t>
            </a:r>
            <a:endParaRPr b="0" lang="en-US" sz="1200" spc="-1" strike="noStrike">
              <a:solidFill>
                <a:srgbClr val="000000"/>
              </a:solidFill>
              <a:latin typeface="Times New Roman"/>
            </a:endParaRPr>
          </a:p>
        </p:txBody>
      </p:sp>
      <p:sp>
        <p:nvSpPr>
          <p:cNvPr id="774" name=""/>
          <p:cNvSpPr/>
          <p:nvPr/>
        </p:nvSpPr>
        <p:spPr>
          <a:xfrm>
            <a:off x="3020760" y="2300400"/>
            <a:ext cx="6836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 #33</a:t>
            </a:r>
            <a:endParaRPr b="0" lang="en-US" sz="1200" spc="-1" strike="noStrike">
              <a:solidFill>
                <a:srgbClr val="000000"/>
              </a:solidFill>
              <a:latin typeface="Times New Roman"/>
            </a:endParaRPr>
          </a:p>
        </p:txBody>
      </p:sp>
      <p:sp>
        <p:nvSpPr>
          <p:cNvPr id="775" name=""/>
          <p:cNvSpPr/>
          <p:nvPr/>
        </p:nvSpPr>
        <p:spPr>
          <a:xfrm>
            <a:off x="3254400" y="2673360"/>
            <a:ext cx="1758960" cy="1284480"/>
          </a:xfrm>
          <a:prstGeom prst="rect">
            <a:avLst/>
          </a:prstGeom>
          <a:solidFill>
            <a:srgbClr val="ffffcc"/>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2004-0010</a:t>
            </a:r>
            <a:br>
              <a:rPr sz="1200"/>
            </a:br>
            <a:r>
              <a:rPr b="0" lang="en-US" sz="1200" spc="-1" strike="noStrike">
                <a:solidFill>
                  <a:srgbClr val="000000"/>
                </a:solidFill>
                <a:latin typeface="Arial"/>
              </a:rPr>
              <a:t>- OVAL-1234</a:t>
            </a:r>
            <a:br>
              <a:rPr sz="1200"/>
            </a:br>
            <a:r>
              <a:rPr b="0" lang="en-US" sz="1200" spc="-1" strike="noStrike">
                <a:solidFill>
                  <a:srgbClr val="000000"/>
                </a:solidFill>
                <a:latin typeface="Arial"/>
              </a:rPr>
              <a:t>- OVAL-1235</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2004-0011</a:t>
            </a:r>
            <a:br>
              <a:rPr sz="1200"/>
            </a:br>
            <a:r>
              <a:rPr b="0" lang="en-US" sz="1200" spc="-1" strike="noStrike">
                <a:solidFill>
                  <a:srgbClr val="000000"/>
                </a:solidFill>
                <a:latin typeface="Arial"/>
              </a:rPr>
              <a:t>- OVAL-1240</a:t>
            </a:r>
            <a:br>
              <a:rPr sz="1200"/>
            </a:br>
            <a:r>
              <a:rPr b="0" lang="en-US" sz="1200" spc="-1" strike="noStrike">
                <a:solidFill>
                  <a:srgbClr val="000000"/>
                </a:solidFill>
                <a:latin typeface="Arial"/>
              </a:rPr>
              <a:t>…</a:t>
            </a:r>
            <a:endParaRPr b="0" lang="en-US" sz="1200" spc="-1" strike="noStrike">
              <a:solidFill>
                <a:srgbClr val="000000"/>
              </a:solidFill>
              <a:latin typeface="Times New Roman"/>
            </a:endParaRPr>
          </a:p>
        </p:txBody>
      </p:sp>
      <p:sp>
        <p:nvSpPr>
          <p:cNvPr id="776" name=""/>
          <p:cNvSpPr/>
          <p:nvPr/>
        </p:nvSpPr>
        <p:spPr>
          <a:xfrm>
            <a:off x="3173040" y="2452680"/>
            <a:ext cx="6836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 #34</a:t>
            </a:r>
            <a:endParaRPr b="0" lang="en-US" sz="1200" spc="-1" strike="noStrike">
              <a:solidFill>
                <a:srgbClr val="000000"/>
              </a:solidFill>
              <a:latin typeface="Times New Roman"/>
            </a:endParaRPr>
          </a:p>
        </p:txBody>
      </p:sp>
      <p:sp>
        <p:nvSpPr>
          <p:cNvPr id="777" name=""/>
          <p:cNvSpPr/>
          <p:nvPr/>
        </p:nvSpPr>
        <p:spPr>
          <a:xfrm>
            <a:off x="2306520" y="3009960"/>
            <a:ext cx="941400" cy="4651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8" name=""/>
          <p:cNvSpPr/>
          <p:nvPr/>
        </p:nvSpPr>
        <p:spPr>
          <a:xfrm>
            <a:off x="3146400" y="5769000"/>
            <a:ext cx="1393920" cy="1012680"/>
          </a:xfrm>
          <a:prstGeom prst="can">
            <a:avLst>
              <a:gd name="adj" fmla="val 25000"/>
            </a:avLst>
          </a:prstGeom>
          <a:solidFill>
            <a:srgbClr val="cc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a:off x="3067200" y="6000840"/>
            <a:ext cx="151128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VE number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VAL definition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VA definitions</a:t>
            </a:r>
            <a:endParaRPr b="0" lang="en-US" sz="1400" spc="-1" strike="noStrike">
              <a:solidFill>
                <a:srgbClr val="000000"/>
              </a:solidFill>
              <a:latin typeface="Times New Roman"/>
            </a:endParaRPr>
          </a:p>
        </p:txBody>
      </p:sp>
      <p:sp>
        <p:nvSpPr>
          <p:cNvPr id="780" name=""/>
          <p:cNvSpPr/>
          <p:nvPr/>
        </p:nvSpPr>
        <p:spPr>
          <a:xfrm>
            <a:off x="2054160" y="4672080"/>
            <a:ext cx="758880" cy="82440"/>
          </a:xfrm>
          <a:prstGeom prst="line">
            <a:avLst/>
          </a:prstGeom>
          <a:ln w="12600">
            <a:solidFill>
              <a:srgbClr val="000000"/>
            </a:solidFill>
            <a:miter/>
            <a:tailEnd len="med" type="triangle" w="me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Tree>
  </p:cSld>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9">
                                  <p:stCondLst>
                                    <p:cond delay="0"/>
                                  </p:stCondLst>
                                  <p:childTnLst>
                                    <p:set>
                                      <p:cBhvr>
                                        <p:cTn id="28" dur="1" fill="hold">
                                          <p:stCondLst>
                                            <p:cond delay="0"/>
                                          </p:stCondLst>
                                        </p:cTn>
                                        <p:tgtEl>
                                          <p:spTgt spid="756"/>
                                        </p:tgtEl>
                                        <p:attrNameLst>
                                          <p:attrName>style.visibility</p:attrName>
                                        </p:attrNameLst>
                                      </p:cBhvr>
                                      <p:to>
                                        <p:strVal val="visible"/>
                                      </p:to>
                                    </p:set>
                                    <p:animEffect filter="dissolve" transition="in">
                                      <p:cBhvr additive="repl">
                                        <p:cTn id="29" dur="500"/>
                                        <p:tgtEl>
                                          <p:spTgt spid="756"/>
                                        </p:tgtEl>
                                      </p:cBhvr>
                                    </p:animEffect>
                                  </p:childTnLst>
                                </p:cTn>
                              </p:par>
                            </p:childTnLst>
                          </p:cTn>
                        </p:par>
                        <p:par>
                          <p:cTn id="30" fill="hold">
                            <p:stCondLst>
                              <p:cond delay="500"/>
                            </p:stCondLst>
                            <p:childTnLst>
                              <p:par>
                                <p:cTn id="31" nodeType="afterEffect" fill="hold" presetClass="entr" presetID="9">
                                  <p:stCondLst>
                                    <p:cond delay="0"/>
                                  </p:stCondLst>
                                  <p:childTnLst>
                                    <p:set>
                                      <p:cBhvr>
                                        <p:cTn id="32" dur="1" fill="hold">
                                          <p:stCondLst>
                                            <p:cond delay="0"/>
                                          </p:stCondLst>
                                        </p:cTn>
                                        <p:tgtEl>
                                          <p:spTgt spid="754"/>
                                        </p:tgtEl>
                                        <p:attrNameLst>
                                          <p:attrName>style.visibility</p:attrName>
                                        </p:attrNameLst>
                                      </p:cBhvr>
                                      <p:to>
                                        <p:strVal val="visible"/>
                                      </p:to>
                                    </p:set>
                                    <p:animEffect filter="dissolve" transition="in">
                                      <p:cBhvr additive="repl">
                                        <p:cTn id="33" dur="500"/>
                                        <p:tgtEl>
                                          <p:spTgt spid="754"/>
                                        </p:tgtEl>
                                      </p:cBhvr>
                                    </p:animEffect>
                                  </p:childTnLst>
                                </p:cTn>
                              </p:par>
                            </p:childTnLst>
                          </p:cTn>
                        </p:par>
                        <p:par>
                          <p:cTn id="34" fill="hold">
                            <p:stCondLst>
                              <p:cond delay="1000"/>
                            </p:stCondLst>
                            <p:childTnLst>
                              <p:par>
                                <p:cTn id="35" nodeType="afterEffect" fill="hold" presetClass="entr" presetID="9">
                                  <p:stCondLst>
                                    <p:cond delay="0"/>
                                  </p:stCondLst>
                                  <p:childTnLst>
                                    <p:set>
                                      <p:cBhvr>
                                        <p:cTn id="36" dur="1" fill="hold">
                                          <p:stCondLst>
                                            <p:cond delay="0"/>
                                          </p:stCondLst>
                                        </p:cTn>
                                        <p:tgtEl>
                                          <p:spTgt spid="767"/>
                                        </p:tgtEl>
                                        <p:attrNameLst>
                                          <p:attrName>style.visibility</p:attrName>
                                        </p:attrNameLst>
                                      </p:cBhvr>
                                      <p:to>
                                        <p:strVal val="visible"/>
                                      </p:to>
                                    </p:set>
                                    <p:animEffect filter="dissolve" transition="in">
                                      <p:cBhvr additive="repl">
                                        <p:cTn id="37" dur="500"/>
                                        <p:tgtEl>
                                          <p:spTgt spid="767"/>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1">
                                  <p:stCondLst>
                                    <p:cond delay="0"/>
                                  </p:stCondLst>
                                  <p:childTnLst>
                                    <p:set>
                                      <p:cBhvr>
                                        <p:cTn id="41" dur="1" fill="hold">
                                          <p:stCondLst>
                                            <p:cond delay="499"/>
                                          </p:stCondLst>
                                        </p:cTn>
                                        <p:tgtEl>
                                          <p:spTgt spid="757"/>
                                        </p:tgtEl>
                                        <p:attrNameLst>
                                          <p:attrName>style.visibility</p:attrName>
                                        </p:attrNameLst>
                                      </p:cBhvr>
                                      <p:to>
                                        <p:strVal val="visible"/>
                                      </p:to>
                                    </p:set>
                                  </p:childTnLst>
                                </p:cTn>
                              </p:par>
                            </p:childTnLst>
                          </p:cTn>
                        </p:par>
                        <p:par>
                          <p:cTn id="42" fill="hold">
                            <p:stCondLst>
                              <p:cond delay="500"/>
                            </p:stCondLst>
                            <p:childTnLst>
                              <p:par>
                                <p:cTn id="43" nodeType="afterEffect" fill="hold" presetClass="entr" presetID="9">
                                  <p:stCondLst>
                                    <p:cond delay="0"/>
                                  </p:stCondLst>
                                  <p:childTnLst>
                                    <p:set>
                                      <p:cBhvr>
                                        <p:cTn id="44" dur="1" fill="hold">
                                          <p:stCondLst>
                                            <p:cond delay="0"/>
                                          </p:stCondLst>
                                        </p:cTn>
                                        <p:tgtEl>
                                          <p:spTgt spid="755"/>
                                        </p:tgtEl>
                                        <p:attrNameLst>
                                          <p:attrName>style.visibility</p:attrName>
                                        </p:attrNameLst>
                                      </p:cBhvr>
                                      <p:to>
                                        <p:strVal val="visible"/>
                                      </p:to>
                                    </p:set>
                                    <p:animEffect filter="dissolve" transition="in">
                                      <p:cBhvr additive="repl">
                                        <p:cTn id="45" dur="500"/>
                                        <p:tgtEl>
                                          <p:spTgt spid="755"/>
                                        </p:tgtEl>
                                      </p:cBhvr>
                                    </p:animEffect>
                                  </p:childTnLst>
                                </p:cTn>
                              </p:par>
                            </p:childTnLst>
                          </p:cTn>
                        </p:par>
                        <p:par>
                          <p:cTn id="46" fill="hold">
                            <p:stCondLst>
                              <p:cond delay="1000"/>
                            </p:stCondLst>
                            <p:childTnLst>
                              <p:par>
                                <p:cTn id="47" nodeType="afterEffect" fill="hold" presetClass="entr" presetID="9">
                                  <p:stCondLst>
                                    <p:cond delay="0"/>
                                  </p:stCondLst>
                                  <p:childTnLst>
                                    <p:set>
                                      <p:cBhvr>
                                        <p:cTn id="48" dur="1" fill="hold">
                                          <p:stCondLst>
                                            <p:cond delay="0"/>
                                          </p:stCondLst>
                                        </p:cTn>
                                        <p:tgtEl>
                                          <p:spTgt spid="759"/>
                                        </p:tgtEl>
                                        <p:attrNameLst>
                                          <p:attrName>style.visibility</p:attrName>
                                        </p:attrNameLst>
                                      </p:cBhvr>
                                      <p:to>
                                        <p:strVal val="visible"/>
                                      </p:to>
                                    </p:set>
                                    <p:animEffect filter="dissolve" transition="in">
                                      <p:cBhvr additive="repl">
                                        <p:cTn id="49" dur="500"/>
                                        <p:tgtEl>
                                          <p:spTgt spid="759"/>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
                                  <p:stCondLst>
                                    <p:cond delay="0"/>
                                  </p:stCondLst>
                                  <p:childTnLst>
                                    <p:set>
                                      <p:cBhvr>
                                        <p:cTn id="53" dur="1" fill="hold">
                                          <p:stCondLst>
                                            <p:cond delay="499"/>
                                          </p:stCondLst>
                                        </p:cTn>
                                        <p:tgtEl>
                                          <p:spTgt spid="763"/>
                                        </p:tgtEl>
                                        <p:attrNameLst>
                                          <p:attrName>style.visibility</p:attrName>
                                        </p:attrNameLst>
                                      </p:cBhvr>
                                      <p:to>
                                        <p:strVal val="visible"/>
                                      </p:to>
                                    </p:set>
                                  </p:childTnLst>
                                </p:cTn>
                              </p:par>
                            </p:childTnLst>
                          </p:cTn>
                        </p:par>
                        <p:par>
                          <p:cTn id="54" fill="hold">
                            <p:stCondLst>
                              <p:cond delay="500"/>
                            </p:stCondLst>
                            <p:childTnLst>
                              <p:par>
                                <p:cTn id="55" nodeType="afterEffect" fill="hold" presetClass="entr" presetID="9">
                                  <p:stCondLst>
                                    <p:cond delay="0"/>
                                  </p:stCondLst>
                                  <p:childTnLst>
                                    <p:set>
                                      <p:cBhvr>
                                        <p:cTn id="56" dur="1" fill="hold">
                                          <p:stCondLst>
                                            <p:cond delay="0"/>
                                          </p:stCondLst>
                                        </p:cTn>
                                        <p:tgtEl>
                                          <p:spTgt spid="764"/>
                                        </p:tgtEl>
                                        <p:attrNameLst>
                                          <p:attrName>style.visibility</p:attrName>
                                        </p:attrNameLst>
                                      </p:cBhvr>
                                      <p:to>
                                        <p:strVal val="visible"/>
                                      </p:to>
                                    </p:set>
                                    <p:animEffect filter="dissolve" transition="in">
                                      <p:cBhvr additive="repl">
                                        <p:cTn id="57" dur="500"/>
                                        <p:tgtEl>
                                          <p:spTgt spid="7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1" name=""/>
          <p:cNvSpPr/>
          <p:nvPr/>
        </p:nvSpPr>
        <p:spPr>
          <a:xfrm>
            <a:off x="0" y="5791320"/>
            <a:ext cx="9144000" cy="1066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2" name="PlaceHolder 1"/>
          <p:cNvSpPr>
            <a:spLocks noGrp="1"/>
          </p:cNvSpPr>
          <p:nvPr>
            <p:ph type="title"/>
          </p:nvPr>
        </p:nvSpPr>
        <p:spPr>
          <a:xfrm>
            <a:off x="55440" y="293400"/>
            <a:ext cx="9144000" cy="533160"/>
          </a:xfrm>
          <a:prstGeom prst="rect">
            <a:avLst/>
          </a:prstGeom>
          <a:noFill/>
          <a:ln w="0">
            <a:noFill/>
          </a:ln>
        </p:spPr>
        <p:txBody>
          <a:bodyPr lIns="90360" rIns="90360" tIns="44280" bIns="442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Background: OVAL-compatible meaning</a:t>
            </a:r>
            <a:br>
              <a:rPr sz="3000"/>
            </a:br>
            <a:endParaRPr b="1" lang="en-US" sz="3000" spc="-1" strike="noStrike">
              <a:solidFill>
                <a:srgbClr val="000000"/>
              </a:solidFill>
              <a:latin typeface="Arial"/>
            </a:endParaRPr>
          </a:p>
        </p:txBody>
      </p:sp>
      <p:sp>
        <p:nvSpPr>
          <p:cNvPr id="783" name="PlaceHolder 2"/>
          <p:cNvSpPr>
            <a:spLocks noGrp="1"/>
          </p:cNvSpPr>
          <p:nvPr>
            <p:ph/>
          </p:nvPr>
        </p:nvSpPr>
        <p:spPr>
          <a:xfrm>
            <a:off x="42840" y="1905120"/>
            <a:ext cx="8948880" cy="4952880"/>
          </a:xfrm>
          <a:prstGeom prst="rect">
            <a:avLst/>
          </a:prstGeom>
          <a:noFill/>
          <a:ln w="0">
            <a:noFill/>
          </a:ln>
        </p:spPr>
        <p:txBody>
          <a:bodyPr lIns="90360" rIns="90360" tIns="44280" bIns="44280" anchor="t">
            <a:normAutofit/>
          </a:bodyPr>
          <a:p>
            <a:pPr lvl="1" marL="452520" indent="-108000">
              <a:lnSpc>
                <a:spcPct val="85000"/>
              </a:lnSpc>
              <a:spcBef>
                <a:spcPts val="113"/>
              </a:spcBef>
              <a:buClr>
                <a:srgbClr val="000099"/>
              </a:buClr>
              <a:buFont typeface="Monaco CE"/>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99"/>
                </a:solidFill>
                <a:latin typeface="Arial"/>
              </a:rPr>
              <a:t>OVAL Definition Schema</a:t>
            </a:r>
            <a:endParaRPr b="1" lang="en-US" sz="1800" spc="-1" strike="noStrike">
              <a:solidFill>
                <a:srgbClr val="000000"/>
              </a:solidFill>
              <a:latin typeface="Arial"/>
            </a:endParaRPr>
          </a:p>
          <a:p>
            <a:pPr lvl="2" marL="743040" indent="-176400">
              <a:lnSpc>
                <a:spcPct val="85000"/>
              </a:lnSpc>
              <a:spcBef>
                <a:spcPts val="113"/>
              </a:spcBef>
              <a:buClr>
                <a:srgbClr val="000000"/>
              </a:buClr>
              <a:buSzPct val="68000"/>
              <a:buFont typeface="Wingdings" charset="2"/>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tests that determine:</a:t>
            </a:r>
            <a:endParaRPr b="1" lang="en-US" sz="1800" spc="-1" strike="noStrike">
              <a:solidFill>
                <a:srgbClr val="000000"/>
              </a:solidFill>
              <a:latin typeface="Arial"/>
            </a:endParaRPr>
          </a:p>
          <a:p>
            <a:pPr lvl="3" marL="1033560" indent="-171720">
              <a:lnSpc>
                <a:spcPct val="85000"/>
              </a:lnSpc>
              <a:spcBef>
                <a:spcPts val="113"/>
              </a:spcBef>
              <a:buClr>
                <a:srgbClr val="000000"/>
              </a:buClr>
              <a:buFont typeface="Monaco CE"/>
              <a:buChar char="-"/>
              <a:tabLst>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the presence of vulnerabilities on systems</a:t>
            </a:r>
            <a:endParaRPr b="1" lang="en-US" sz="1800" spc="-1" strike="noStrike">
              <a:solidFill>
                <a:srgbClr val="000000"/>
              </a:solidFill>
              <a:latin typeface="Arial"/>
            </a:endParaRPr>
          </a:p>
          <a:p>
            <a:pPr lvl="3" marL="1033560" indent="-171720">
              <a:lnSpc>
                <a:spcPct val="85000"/>
              </a:lnSpc>
              <a:spcBef>
                <a:spcPts val="113"/>
              </a:spcBef>
              <a:buClr>
                <a:srgbClr val="000000"/>
              </a:buClr>
              <a:buFont typeface="Monaco CE"/>
              <a:buChar char="-"/>
              <a:tabLst>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whether the configuration settings of a system meets a security policy</a:t>
            </a:r>
            <a:endParaRPr b="1" lang="en-US" sz="1800" spc="-1" strike="noStrike">
              <a:solidFill>
                <a:srgbClr val="000000"/>
              </a:solidFill>
              <a:latin typeface="Arial"/>
            </a:endParaRPr>
          </a:p>
          <a:p>
            <a:pPr lvl="3" marL="1033560" indent="-171720">
              <a:lnSpc>
                <a:spcPct val="85000"/>
              </a:lnSpc>
              <a:spcBef>
                <a:spcPts val="113"/>
              </a:spcBef>
              <a:buClr>
                <a:srgbClr val="000000"/>
              </a:buClr>
              <a:buFont typeface="Monaco CE"/>
              <a:buChar char="-"/>
              <a:tabLst>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whether a particular patch is appropriate for a system</a:t>
            </a:r>
            <a:endParaRPr b="1" lang="en-US" sz="1800" spc="-1" strike="noStrike">
              <a:solidFill>
                <a:srgbClr val="000000"/>
              </a:solidFill>
              <a:latin typeface="Arial"/>
            </a:endParaRPr>
          </a:p>
          <a:p>
            <a:pPr lvl="1" marL="452520" indent="-108000">
              <a:lnSpc>
                <a:spcPct val="85000"/>
              </a:lnSpc>
              <a:spcBef>
                <a:spcPts val="113"/>
              </a:spcBef>
              <a:buClr>
                <a:srgbClr val="000099"/>
              </a:buClr>
              <a:buFont typeface="Monaco CE"/>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99"/>
                </a:solidFill>
                <a:latin typeface="Arial"/>
              </a:rPr>
              <a:t>OVAL System Characteristics Schema</a:t>
            </a:r>
            <a:r>
              <a:rPr b="1" lang="en-US" sz="1800" spc="-1" strike="noStrike">
                <a:solidFill>
                  <a:srgbClr val="000000"/>
                </a:solidFill>
                <a:latin typeface="Arial"/>
              </a:rPr>
              <a:t> </a:t>
            </a:r>
            <a:endParaRPr b="1" lang="en-US" sz="1800" spc="-1" strike="noStrike">
              <a:solidFill>
                <a:srgbClr val="000000"/>
              </a:solidFill>
              <a:latin typeface="Arial"/>
            </a:endParaRPr>
          </a:p>
          <a:p>
            <a:pPr lvl="2" marL="743040" indent="-176400">
              <a:lnSpc>
                <a:spcPct val="85000"/>
              </a:lnSpc>
              <a:spcBef>
                <a:spcPts val="113"/>
              </a:spcBef>
              <a:buClr>
                <a:srgbClr val="000000"/>
              </a:buClr>
              <a:buSzPct val="68000"/>
              <a:buFont typeface="Wingdings" charset="2"/>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standardized format for collecting data about a system</a:t>
            </a:r>
            <a:endParaRPr b="1" lang="en-US" sz="1800" spc="-1" strike="noStrike">
              <a:solidFill>
                <a:srgbClr val="000000"/>
              </a:solidFill>
              <a:latin typeface="Arial"/>
            </a:endParaRPr>
          </a:p>
          <a:p>
            <a:pPr lvl="1" marL="452520" indent="-108000">
              <a:lnSpc>
                <a:spcPct val="85000"/>
              </a:lnSpc>
              <a:spcBef>
                <a:spcPts val="113"/>
              </a:spcBef>
              <a:buClr>
                <a:srgbClr val="000099"/>
              </a:buClr>
              <a:buFont typeface="Monaco CE"/>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99"/>
                </a:solidFill>
                <a:latin typeface="Arial"/>
              </a:rPr>
              <a:t>OVAL Results Schema</a:t>
            </a:r>
            <a:r>
              <a:rPr b="1" lang="en-US" sz="1800" spc="-1" strike="noStrike">
                <a:solidFill>
                  <a:srgbClr val="000000"/>
                </a:solidFill>
                <a:latin typeface="Arial"/>
              </a:rPr>
              <a:t> </a:t>
            </a:r>
            <a:endParaRPr b="1" lang="en-US" sz="1800" spc="-1" strike="noStrike">
              <a:solidFill>
                <a:srgbClr val="000000"/>
              </a:solidFill>
              <a:latin typeface="Arial"/>
            </a:endParaRPr>
          </a:p>
          <a:p>
            <a:pPr lvl="2" marL="743040" indent="-176400">
              <a:lnSpc>
                <a:spcPct val="85000"/>
              </a:lnSpc>
              <a:spcBef>
                <a:spcPts val="113"/>
              </a:spcBef>
              <a:buClr>
                <a:srgbClr val="000000"/>
              </a:buClr>
              <a:buSzPct val="68000"/>
              <a:buFont typeface="Wingdings" charset="2"/>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standardized format for presenting data from a system evaluated by OVAL</a:t>
            </a:r>
            <a:endParaRPr b="1" lang="en-US" sz="1800" spc="-1" strike="noStrike">
              <a:solidFill>
                <a:srgbClr val="000000"/>
              </a:solidFill>
              <a:latin typeface="Arial"/>
            </a:endParaRPr>
          </a:p>
        </p:txBody>
      </p:sp>
      <p:sp>
        <p:nvSpPr>
          <p:cNvPr id="784" name=""/>
          <p:cNvSpPr/>
          <p:nvPr/>
        </p:nvSpPr>
        <p:spPr>
          <a:xfrm>
            <a:off x="0" y="1260360"/>
            <a:ext cx="9144000" cy="720720"/>
          </a:xfrm>
          <a:prstGeom prst="rect">
            <a:avLst/>
          </a:prstGeom>
          <a:noFill/>
          <a:ln w="0">
            <a:noFill/>
          </a:ln>
        </p:spPr>
        <p:style>
          <a:lnRef idx="0"/>
          <a:fillRef idx="0"/>
          <a:effectRef idx="0"/>
          <a:fontRef idx="minor"/>
        </p:style>
        <p:txBody>
          <a:bodyPr lIns="90360" rIns="90360" tIns="44280" bIns="44280" anchor="t">
            <a:normAutofit/>
          </a:bodyPr>
          <a:p>
            <a:pPr marL="230040" indent="-230040">
              <a:lnSpc>
                <a:spcPct val="100000"/>
              </a:lnSpc>
              <a:buClr>
                <a:srgbClr val="000000"/>
              </a:buClr>
              <a:buSzPct val="88000"/>
              <a:buFont typeface="Monaco CE"/>
              <a:buChar char="•"/>
              <a:tabLst>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1" lang="en-US" sz="1800" spc="-1" strike="noStrike">
                <a:solidFill>
                  <a:srgbClr val="000000"/>
                </a:solidFill>
                <a:latin typeface="Arial"/>
              </a:rPr>
              <a:t>OVAL-compatible” means that a tool, service, Web site, database, or advisory/alert uses or includes at least one of the following forms of OVAL data:</a:t>
            </a:r>
            <a:endParaRPr b="0" lang="en-US" sz="1800" spc="-1" strike="noStrike">
              <a:solidFill>
                <a:srgbClr val="000000"/>
              </a:solidFill>
              <a:latin typeface="Times New Roman"/>
            </a:endParaRPr>
          </a:p>
        </p:txBody>
      </p:sp>
      <p:pic>
        <p:nvPicPr>
          <p:cNvPr id="785" name="" descr=""/>
          <p:cNvPicPr/>
          <p:nvPr/>
        </p:nvPicPr>
        <p:blipFill>
          <a:blip r:embed="rId1"/>
          <a:stretch/>
        </p:blipFill>
        <p:spPr>
          <a:xfrm>
            <a:off x="284040" y="4557600"/>
            <a:ext cx="8610840" cy="1071720"/>
          </a:xfrm>
          <a:prstGeom prst="rect">
            <a:avLst/>
          </a:prstGeom>
          <a:ln w="9360">
            <a:solidFill>
              <a:srgbClr val="000000"/>
            </a:solidFill>
            <a:miter/>
          </a:ln>
          <a:effectLst>
            <a:outerShdw dist="17819" dir="2700000" blurRad="0" rotWithShape="0">
              <a:srgbClr val="808080"/>
            </a:outerShdw>
          </a:effectLst>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786" name=""/>
          <p:cNvSpPr/>
          <p:nvPr/>
        </p:nvSpPr>
        <p:spPr>
          <a:xfrm>
            <a:off x="2181240" y="3159000"/>
            <a:ext cx="3559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The OVAL Process</a:t>
            </a:r>
            <a:endParaRPr b="0" lang="en-US" sz="2800" spc="-1" strike="noStrike">
              <a:solidFill>
                <a:srgbClr val="000000"/>
              </a:solidFill>
              <a:latin typeface="Times New Roman"/>
            </a:endParaRPr>
          </a:p>
        </p:txBody>
      </p:sp>
      <p:pic>
        <p:nvPicPr>
          <p:cNvPr id="787" name="" descr=""/>
          <p:cNvPicPr/>
          <p:nvPr/>
        </p:nvPicPr>
        <p:blipFill>
          <a:blip r:embed="rId1"/>
          <a:stretch/>
        </p:blipFill>
        <p:spPr>
          <a:xfrm>
            <a:off x="2932200" y="1273320"/>
            <a:ext cx="2057400" cy="1447560"/>
          </a:xfrm>
          <a:prstGeom prst="rect">
            <a:avLst/>
          </a:prstGeom>
          <a:ln w="0">
            <a:noFill/>
          </a:ln>
        </p:spPr>
      </p:pic>
      <p:pic>
        <p:nvPicPr>
          <p:cNvPr id="788" name="" descr=""/>
          <p:cNvPicPr/>
          <p:nvPr/>
        </p:nvPicPr>
        <p:blipFill>
          <a:blip r:embed="rId2"/>
          <a:stretch/>
        </p:blipFill>
        <p:spPr>
          <a:xfrm>
            <a:off x="1727280" y="4305240"/>
            <a:ext cx="3114720" cy="1882800"/>
          </a:xfrm>
          <a:prstGeom prst="rect">
            <a:avLst/>
          </a:prstGeom>
          <a:ln w="0">
            <a:noFill/>
          </a:ln>
        </p:spPr>
      </p:pic>
      <p:pic>
        <p:nvPicPr>
          <p:cNvPr id="789" name="" descr=""/>
          <p:cNvPicPr/>
          <p:nvPr/>
        </p:nvPicPr>
        <p:blipFill>
          <a:blip r:embed="rId3"/>
          <a:stretch/>
        </p:blipFill>
        <p:spPr>
          <a:xfrm>
            <a:off x="5877000" y="2955960"/>
            <a:ext cx="2906640" cy="3651120"/>
          </a:xfrm>
          <a:prstGeom prst="rect">
            <a:avLst/>
          </a:prstGeom>
          <a:ln w="0">
            <a:noFill/>
          </a:ln>
        </p:spPr>
      </p:pic>
      <p:pic>
        <p:nvPicPr>
          <p:cNvPr id="790" name="" descr=""/>
          <p:cNvPicPr/>
          <p:nvPr/>
        </p:nvPicPr>
        <p:blipFill>
          <a:blip r:embed="rId4"/>
          <a:stretch/>
        </p:blipFill>
        <p:spPr>
          <a:xfrm>
            <a:off x="5656320" y="539640"/>
            <a:ext cx="1581120" cy="1460520"/>
          </a:xfrm>
          <a:prstGeom prst="rect">
            <a:avLst/>
          </a:prstGeom>
          <a:ln w="0">
            <a:noFill/>
          </a:ln>
        </p:spPr>
      </p:pic>
      <p:pic>
        <p:nvPicPr>
          <p:cNvPr id="791" name="" descr=""/>
          <p:cNvPicPr/>
          <p:nvPr/>
        </p:nvPicPr>
        <p:blipFill>
          <a:blip r:embed="rId5"/>
          <a:stretch/>
        </p:blipFill>
        <p:spPr>
          <a:xfrm>
            <a:off x="534960" y="4076640"/>
            <a:ext cx="1197000" cy="917640"/>
          </a:xfrm>
          <a:prstGeom prst="rect">
            <a:avLst/>
          </a:prstGeom>
          <a:ln w="0">
            <a:noFill/>
          </a:ln>
        </p:spPr>
      </p:pic>
      <p:pic>
        <p:nvPicPr>
          <p:cNvPr id="792" name="" descr=""/>
          <p:cNvPicPr/>
          <p:nvPr/>
        </p:nvPicPr>
        <p:blipFill>
          <a:blip r:embed="rId6"/>
          <a:stretch/>
        </p:blipFill>
        <p:spPr>
          <a:xfrm>
            <a:off x="7629480" y="549360"/>
            <a:ext cx="1316160" cy="1130040"/>
          </a:xfrm>
          <a:prstGeom prst="rect">
            <a:avLst/>
          </a:prstGeom>
          <a:ln w="0">
            <a:noFill/>
          </a:ln>
        </p:spPr>
      </p:pic>
      <p:pic>
        <p:nvPicPr>
          <p:cNvPr id="793" name="" descr=""/>
          <p:cNvPicPr/>
          <p:nvPr/>
        </p:nvPicPr>
        <p:blipFill>
          <a:blip r:embed="rId7"/>
          <a:stretch/>
        </p:blipFill>
        <p:spPr>
          <a:xfrm>
            <a:off x="3067200" y="509760"/>
            <a:ext cx="1454040" cy="774360"/>
          </a:xfrm>
          <a:prstGeom prst="rect">
            <a:avLst/>
          </a:prstGeom>
          <a:ln w="0">
            <a:noFill/>
          </a:ln>
        </p:spPr>
      </p:pic>
      <p:grpSp>
        <p:nvGrpSpPr>
          <p:cNvPr id="794" name=""/>
          <p:cNvGrpSpPr/>
          <p:nvPr/>
        </p:nvGrpSpPr>
        <p:grpSpPr>
          <a:xfrm>
            <a:off x="92160" y="219240"/>
            <a:ext cx="2082240" cy="2330280"/>
            <a:chOff x="92160" y="219240"/>
            <a:chExt cx="2082240" cy="2330280"/>
          </a:xfrm>
        </p:grpSpPr>
        <p:pic>
          <p:nvPicPr>
            <p:cNvPr id="795" name="" descr=""/>
            <p:cNvPicPr/>
            <p:nvPr/>
          </p:nvPicPr>
          <p:blipFill>
            <a:blip r:embed="rId8"/>
            <a:stretch/>
          </p:blipFill>
          <p:spPr>
            <a:xfrm>
              <a:off x="190080" y="673200"/>
              <a:ext cx="1984320" cy="916200"/>
            </a:xfrm>
            <a:prstGeom prst="rect">
              <a:avLst/>
            </a:prstGeom>
            <a:ln w="0">
              <a:noFill/>
            </a:ln>
          </p:spPr>
        </p:pic>
        <p:pic>
          <p:nvPicPr>
            <p:cNvPr id="796" name="" descr=""/>
            <p:cNvPicPr/>
            <p:nvPr/>
          </p:nvPicPr>
          <p:blipFill>
            <a:blip r:embed="rId9"/>
            <a:stretch/>
          </p:blipFill>
          <p:spPr>
            <a:xfrm>
              <a:off x="198000" y="1633680"/>
              <a:ext cx="1809720" cy="915840"/>
            </a:xfrm>
            <a:prstGeom prst="rect">
              <a:avLst/>
            </a:prstGeom>
            <a:ln w="0">
              <a:noFill/>
            </a:ln>
          </p:spPr>
        </p:pic>
        <p:pic>
          <p:nvPicPr>
            <p:cNvPr id="797" name="" descr=""/>
            <p:cNvPicPr/>
            <p:nvPr/>
          </p:nvPicPr>
          <p:blipFill>
            <a:blip r:embed="rId10"/>
            <a:stretch/>
          </p:blipFill>
          <p:spPr>
            <a:xfrm>
              <a:off x="92160" y="219240"/>
              <a:ext cx="374400" cy="361800"/>
            </a:xfrm>
            <a:prstGeom prst="rect">
              <a:avLst/>
            </a:prstGeom>
            <a:ln w="0">
              <a:noFill/>
            </a:ln>
          </p:spPr>
        </p:pic>
      </p:grpSp>
      <p:pic>
        <p:nvPicPr>
          <p:cNvPr id="798" name="" descr=""/>
          <p:cNvPicPr/>
          <p:nvPr/>
        </p:nvPicPr>
        <p:blipFill>
          <a:blip r:embed="rId11"/>
          <a:stretch/>
        </p:blipFill>
        <p:spPr>
          <a:xfrm>
            <a:off x="2637000" y="219240"/>
            <a:ext cx="374400" cy="361800"/>
          </a:xfrm>
          <a:prstGeom prst="rect">
            <a:avLst/>
          </a:prstGeom>
          <a:ln w="0">
            <a:noFill/>
          </a:ln>
        </p:spPr>
      </p:pic>
      <p:pic>
        <p:nvPicPr>
          <p:cNvPr id="799" name="" descr=""/>
          <p:cNvPicPr/>
          <p:nvPr/>
        </p:nvPicPr>
        <p:blipFill>
          <a:blip r:embed="rId12"/>
          <a:stretch/>
        </p:blipFill>
        <p:spPr>
          <a:xfrm>
            <a:off x="7236000" y="201600"/>
            <a:ext cx="365040" cy="365040"/>
          </a:xfrm>
          <a:prstGeom prst="rect">
            <a:avLst/>
          </a:prstGeom>
          <a:ln w="0">
            <a:noFill/>
          </a:ln>
        </p:spPr>
      </p:pic>
      <p:pic>
        <p:nvPicPr>
          <p:cNvPr id="800" name="" descr=""/>
          <p:cNvPicPr/>
          <p:nvPr/>
        </p:nvPicPr>
        <p:blipFill>
          <a:blip r:embed="rId13"/>
          <a:stretch/>
        </p:blipFill>
        <p:spPr>
          <a:xfrm>
            <a:off x="120600" y="3821040"/>
            <a:ext cx="365040" cy="365040"/>
          </a:xfrm>
          <a:prstGeom prst="rect">
            <a:avLst/>
          </a:prstGeom>
          <a:ln w="0">
            <a:noFill/>
          </a:ln>
        </p:spPr>
      </p:pic>
      <p:pic>
        <p:nvPicPr>
          <p:cNvPr id="801" name="" descr=""/>
          <p:cNvPicPr/>
          <p:nvPr/>
        </p:nvPicPr>
        <p:blipFill>
          <a:blip r:embed="rId14"/>
          <a:stretch/>
        </p:blipFill>
        <p:spPr>
          <a:xfrm>
            <a:off x="7378560" y="1697040"/>
            <a:ext cx="1435320" cy="777960"/>
          </a:xfrm>
          <a:prstGeom prst="rect">
            <a:avLst/>
          </a:prstGeom>
          <a:ln w="0">
            <a:noFill/>
          </a:ln>
        </p:spPr>
      </p:pic>
      <p:sp>
        <p:nvSpPr>
          <p:cNvPr id="802" name=""/>
          <p:cNvSpPr/>
          <p:nvPr/>
        </p:nvSpPr>
        <p:spPr>
          <a:xfrm flipV="1">
            <a:off x="2257560" y="1190160"/>
            <a:ext cx="647640" cy="281160"/>
          </a:xfrm>
          <a:prstGeom prst="line">
            <a:avLst/>
          </a:prstGeom>
          <a:ln w="28440">
            <a:solidFill>
              <a:srgbClr val="0000ff"/>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3" name=""/>
          <p:cNvSpPr/>
          <p:nvPr/>
        </p:nvSpPr>
        <p:spPr>
          <a:xfrm>
            <a:off x="4659480" y="1050840"/>
            <a:ext cx="723600" cy="127080"/>
          </a:xfrm>
          <a:prstGeom prst="line">
            <a:avLst/>
          </a:prstGeom>
          <a:ln w="28440">
            <a:solidFill>
              <a:srgbClr val="0000ff"/>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4" name=""/>
          <p:cNvSpPr/>
          <p:nvPr/>
        </p:nvSpPr>
        <p:spPr>
          <a:xfrm flipH="1">
            <a:off x="7654680" y="2595600"/>
            <a:ext cx="592200" cy="596880"/>
          </a:xfrm>
          <a:prstGeom prst="line">
            <a:avLst/>
          </a:prstGeom>
          <a:ln w="28440">
            <a:solidFill>
              <a:srgbClr val="008000"/>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flipH="1" flipV="1">
            <a:off x="4835520" y="5125680"/>
            <a:ext cx="1098720" cy="119160"/>
          </a:xfrm>
          <a:prstGeom prst="line">
            <a:avLst/>
          </a:prstGeom>
          <a:ln w="28440">
            <a:solidFill>
              <a:srgbClr val="008000"/>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0" y="193680"/>
            <a:ext cx="9144000" cy="822240"/>
          </a:xfrm>
          <a:prstGeom prst="rect">
            <a:avLst/>
          </a:prstGeom>
          <a:noFill/>
          <a:ln w="0">
            <a:noFill/>
          </a:ln>
        </p:spPr>
        <p:txBody>
          <a:bodyPr lIns="90360" rIns="90360" tIns="44280" bIns="442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AL Compatibility Procedure </a:t>
            </a:r>
            <a:endParaRPr b="1" lang="en-US" sz="3000" spc="-1" strike="noStrike">
              <a:solidFill>
                <a:srgbClr val="000000"/>
              </a:solidFill>
              <a:latin typeface="Arial"/>
            </a:endParaRPr>
          </a:p>
        </p:txBody>
      </p:sp>
      <p:sp>
        <p:nvSpPr>
          <p:cNvPr id="807" name="PlaceHolder 2"/>
          <p:cNvSpPr>
            <a:spLocks noGrp="1"/>
          </p:cNvSpPr>
          <p:nvPr>
            <p:ph/>
          </p:nvPr>
        </p:nvSpPr>
        <p:spPr>
          <a:xfrm>
            <a:off x="151920" y="1290240"/>
            <a:ext cx="8991720" cy="5567400"/>
          </a:xfrm>
          <a:prstGeom prst="rect">
            <a:avLst/>
          </a:prstGeom>
          <a:noFill/>
          <a:ln w="0">
            <a:noFill/>
          </a:ln>
        </p:spPr>
        <p:txBody>
          <a:bodyPr lIns="82440" rIns="82440" tIns="41400" bIns="41400" anchor="t">
            <a:normAutofit/>
          </a:bodyPr>
          <a:p>
            <a:pPr marL="230040" indent="-230040">
              <a:lnSpc>
                <a:spcPct val="95000"/>
              </a:lnSpc>
              <a:buClr>
                <a:srgbClr val="000000"/>
              </a:buClr>
              <a:buSzPct val="88000"/>
              <a:buFont typeface="Monaco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entered on initial compliance declaration </a:t>
            </a:r>
            <a:r>
              <a:rPr b="1" lang="en-US" sz="1600" spc="-1" strike="noStrike">
                <a:solidFill>
                  <a:srgbClr val="000000"/>
                </a:solidFill>
                <a:latin typeface="Arial"/>
              </a:rPr>
              <a:t>(phase 1)</a:t>
            </a:r>
            <a:r>
              <a:rPr b="1" lang="en-US" sz="2000" spc="-1" strike="noStrike">
                <a:solidFill>
                  <a:srgbClr val="000000"/>
                </a:solidFill>
                <a:latin typeface="Arial"/>
              </a:rPr>
              <a:t> followed by questionnaire/evaluation </a:t>
            </a:r>
            <a:r>
              <a:rPr b="1" lang="en-US" sz="1600" spc="-1" strike="noStrike">
                <a:solidFill>
                  <a:srgbClr val="000000"/>
                </a:solidFill>
                <a:latin typeface="Arial"/>
              </a:rPr>
              <a:t>(phase 2)</a:t>
            </a:r>
            <a:endParaRPr b="1" lang="en-US" sz="1600" spc="-1" strike="noStrike">
              <a:solidFill>
                <a:srgbClr val="000000"/>
              </a:solidFill>
              <a:latin typeface="Arial"/>
            </a:endParaRPr>
          </a:p>
          <a:p>
            <a:pPr lvl="1" marL="630360" indent="-285840">
              <a:lnSpc>
                <a:spcPct val="95000"/>
              </a:lnSpc>
              <a:buClr>
                <a:srgbClr val="000000"/>
              </a:buClr>
              <a:buFont typeface="Monaco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hase 1 - Item listed on Compatibility page as declared capability</a:t>
            </a:r>
            <a:endParaRPr b="1" lang="en-US" sz="2000" spc="-1" strike="noStrike">
              <a:solidFill>
                <a:srgbClr val="000000"/>
              </a:solidFill>
              <a:latin typeface="Arial"/>
            </a:endParaRPr>
          </a:p>
          <a:p>
            <a:pPr lvl="2" marL="973080" indent="-228600">
              <a:lnSpc>
                <a:spcPct val="95000"/>
              </a:lnSpc>
              <a:buClr>
                <a:srgbClr val="000000"/>
              </a:buClr>
              <a:buSzPct val="68000"/>
              <a:buFont typeface="Monaco CE"/>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ce detailed requirements are documented, declarations will be more specific</a:t>
            </a:r>
            <a:endParaRPr b="1" lang="en-US" sz="1800" spc="-1" strike="noStrike">
              <a:solidFill>
                <a:srgbClr val="000000"/>
              </a:solidFill>
              <a:latin typeface="Arial"/>
            </a:endParaRPr>
          </a:p>
          <a:p>
            <a:pPr lvl="1" marL="630360" indent="-285840">
              <a:lnSpc>
                <a:spcPct val="95000"/>
              </a:lnSpc>
              <a:buClr>
                <a:srgbClr val="000000"/>
              </a:buClr>
              <a:buFont typeface="Monaco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hase 2 - Compliance Questionnaire evaluated by MITRE  </a:t>
            </a:r>
            <a:endParaRPr b="1" lang="en-US" sz="2000" spc="-1" strike="noStrike">
              <a:solidFill>
                <a:srgbClr val="000000"/>
              </a:solidFill>
              <a:latin typeface="Arial"/>
            </a:endParaRPr>
          </a:p>
          <a:p>
            <a:pPr lvl="2" marL="973080" indent="-228600">
              <a:lnSpc>
                <a:spcPct val="95000"/>
              </a:lnSpc>
              <a:buClr>
                <a:srgbClr val="000000"/>
              </a:buClr>
              <a:buSzPct val="68000"/>
              <a:buFont typeface="Monaco CE"/>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me basic process used in CVE Initiative</a:t>
            </a:r>
            <a:endParaRPr b="1" lang="en-US" sz="1800" spc="-1" strike="noStrike">
              <a:solidFill>
                <a:srgbClr val="000000"/>
              </a:solidFill>
              <a:latin typeface="Arial"/>
            </a:endParaRPr>
          </a:p>
          <a:p>
            <a:pPr lvl="1" marL="630360" indent="-285840">
              <a:lnSpc>
                <a:spcPct val="95000"/>
              </a:lnSpc>
              <a:buClr>
                <a:srgbClr val="000000"/>
              </a:buClr>
              <a:buFont typeface="Monaco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pon concurrence with Questionnaire: </a:t>
            </a:r>
            <a:endParaRPr b="1" lang="en-US" sz="2000" spc="-1" strike="noStrike">
              <a:solidFill>
                <a:srgbClr val="000000"/>
              </a:solidFill>
              <a:latin typeface="Arial"/>
            </a:endParaRPr>
          </a:p>
          <a:p>
            <a:pPr lvl="2" marL="973080" indent="-228600">
              <a:lnSpc>
                <a:spcPct val="95000"/>
              </a:lnSpc>
              <a:buClr>
                <a:srgbClr val="000000"/>
              </a:buClr>
              <a:buSzPct val="68000"/>
              <a:buFont typeface="Monaco CE"/>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uestionnaire response put on OVAL site </a:t>
            </a:r>
            <a:endParaRPr b="1" lang="en-US" sz="1800" spc="-1" strike="noStrike">
              <a:solidFill>
                <a:srgbClr val="000000"/>
              </a:solidFill>
              <a:latin typeface="Arial"/>
            </a:endParaRPr>
          </a:p>
          <a:p>
            <a:pPr lvl="2" marL="973080" indent="-228600">
              <a:lnSpc>
                <a:spcPct val="95000"/>
              </a:lnSpc>
              <a:buClr>
                <a:srgbClr val="000000"/>
              </a:buClr>
              <a:buSzPct val="68000"/>
              <a:buFont typeface="Monaco CE"/>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xt step will be a “compliance” evaluation </a:t>
            </a:r>
            <a:endParaRPr b="1" lang="en-US" sz="1800" spc="-1" strike="noStrike">
              <a:solidFill>
                <a:srgbClr val="000000"/>
              </a:solidFill>
              <a:latin typeface="Arial"/>
            </a:endParaRPr>
          </a:p>
          <a:p>
            <a:pPr lvl="1" marL="630360" indent="-285840">
              <a:lnSpc>
                <a:spcPct val="95000"/>
              </a:lnSpc>
              <a:buClr>
                <a:srgbClr val="000000"/>
              </a:buClr>
              <a:buFont typeface="Monaco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pon completion of evaluation</a:t>
            </a:r>
            <a:endParaRPr b="1" lang="en-US" sz="2000" spc="-1" strike="noStrike">
              <a:solidFill>
                <a:srgbClr val="000000"/>
              </a:solidFill>
              <a:latin typeface="Arial"/>
            </a:endParaRPr>
          </a:p>
          <a:p>
            <a:pPr lvl="2" marL="973080" indent="-228600">
              <a:lnSpc>
                <a:spcPct val="95000"/>
              </a:lnSpc>
              <a:buClr>
                <a:srgbClr val="000000"/>
              </a:buClr>
              <a:buSzPct val="68000"/>
              <a:buFont typeface="Monaco CE"/>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 of the OVAL-Compatible logo granted</a:t>
            </a:r>
            <a:endParaRPr b="1" lang="en-US" sz="1800" spc="-1" strike="noStrike">
              <a:solidFill>
                <a:srgbClr val="000000"/>
              </a:solidFill>
              <a:latin typeface="Arial"/>
            </a:endParaRPr>
          </a:p>
          <a:p>
            <a:pPr lvl="2" marL="973080" indent="-228600">
              <a:lnSpc>
                <a:spcPct val="95000"/>
              </a:lnSpc>
              <a:buClr>
                <a:srgbClr val="000000"/>
              </a:buClr>
              <a:buSzPct val="68000"/>
              <a:buFont typeface="Monaco CE"/>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ndor free to refer to product or service as OVAL-Compatible</a:t>
            </a:r>
            <a:endParaRPr b="1" lang="en-US" sz="1800" spc="-1" strike="noStrike">
              <a:solidFill>
                <a:srgbClr val="000000"/>
              </a:solidFill>
              <a:latin typeface="Arial"/>
            </a:endParaRPr>
          </a:p>
          <a:p>
            <a:pPr marL="230040" indent="-230040">
              <a:lnSpc>
                <a:spcPct val="95000"/>
              </a:lnSpc>
              <a:buClr>
                <a:srgbClr val="000000"/>
              </a:buClr>
              <a:buSzPct val="88000"/>
              <a:buFont typeface="Monaco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atus:</a:t>
            </a:r>
            <a:endParaRPr b="1" lang="en-US" sz="2000" spc="-1" strike="noStrike">
              <a:solidFill>
                <a:srgbClr val="000000"/>
              </a:solidFill>
              <a:latin typeface="Arial"/>
            </a:endParaRPr>
          </a:p>
          <a:p>
            <a:pPr lvl="1" marL="630360" indent="-285840">
              <a:lnSpc>
                <a:spcPct val="95000"/>
              </a:lnSpc>
              <a:buClr>
                <a:srgbClr val="000000"/>
              </a:buClr>
              <a:buFont typeface="Monaco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cussed at length with board and interested organizations w/positive responses</a:t>
            </a:r>
            <a:endParaRPr b="1" lang="en-US" sz="2000" spc="-1" strike="noStrike">
              <a:solidFill>
                <a:srgbClr val="000000"/>
              </a:solidFill>
              <a:latin typeface="Arial"/>
            </a:endParaRPr>
          </a:p>
          <a:p>
            <a:pPr lvl="1" marL="630360" indent="-285840">
              <a:lnSpc>
                <a:spcPct val="95000"/>
              </a:lnSpc>
              <a:buClr>
                <a:srgbClr val="000000"/>
              </a:buClr>
              <a:buFont typeface="Monaco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VAL Board minutes have general discussion of intended process </a:t>
            </a:r>
            <a:endParaRPr b="1" lang="en-US" sz="2000" spc="-1" strike="noStrike">
              <a:solidFill>
                <a:srgbClr val="000000"/>
              </a:solidFill>
              <a:latin typeface="Arial"/>
            </a:endParaRPr>
          </a:p>
          <a:p>
            <a:pPr lvl="1" marL="630360" indent="-285840">
              <a:lnSpc>
                <a:spcPct val="95000"/>
              </a:lnSpc>
              <a:buClr>
                <a:srgbClr val="000000"/>
              </a:buClr>
              <a:buFont typeface="Monaco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itial requirements draft developed </a:t>
            </a:r>
            <a:endParaRPr b="1" lang="en-US" sz="2000" spc="-1" strike="noStrike">
              <a:solidFill>
                <a:srgbClr val="000000"/>
              </a:solidFill>
              <a:latin typeface="Arial"/>
            </a:endParaRPr>
          </a:p>
          <a:p>
            <a:pPr lvl="1" marL="630360" indent="0">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8" name=""/>
          <p:cNvSpPr/>
          <p:nvPr/>
        </p:nvSpPr>
        <p:spPr>
          <a:xfrm>
            <a:off x="3809880" y="1143000"/>
            <a:ext cx="4954680" cy="2894040"/>
          </a:xfrm>
          <a:prstGeom prst="rect">
            <a:avLst/>
          </a:prstGeom>
          <a:noFill/>
          <a:ln w="0">
            <a:noFill/>
          </a:ln>
        </p:spPr>
        <p:style>
          <a:lnRef idx="0"/>
          <a:fillRef idx="0"/>
          <a:effectRef idx="0"/>
          <a:fontRef idx="minor"/>
        </p:style>
        <p:txBody>
          <a:bodyPr lIns="82440" rIns="82440" tIns="41400" bIns="41400" anchor="t">
            <a:noAutofit/>
          </a:bodyPr>
          <a:p>
            <a:pPr algn="ct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9" name=""/>
          <p:cNvSpPr/>
          <p:nvPr/>
        </p:nvSpPr>
        <p:spPr>
          <a:xfrm>
            <a:off x="152280" y="1744560"/>
            <a:ext cx="8772480" cy="1717920"/>
          </a:xfrm>
          <a:prstGeom prst="rect">
            <a:avLst/>
          </a:prstGeom>
          <a:noFill/>
          <a:ln w="0">
            <a:noFill/>
          </a:ln>
        </p:spPr>
        <p:style>
          <a:lnRef idx="0"/>
          <a:fillRef idx="0"/>
          <a:effectRef idx="0"/>
          <a:fontRef idx="minor"/>
        </p:style>
        <p:txBody>
          <a:bodyPr lIns="82440" rIns="82440" tIns="41400" bIns="41400" anchor="t">
            <a:normAutofit/>
          </a:bodyPr>
          <a:p>
            <a:pPr marL="230040" indent="-230040">
              <a:lnSpc>
                <a:spcPct val="95000"/>
              </a:lnSpc>
              <a:buClr>
                <a:srgbClr val="000000"/>
              </a:buClr>
              <a:buSzPct val="88000"/>
              <a:buFont typeface="Monaco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0" name=""/>
          <p:cNvSpPr/>
          <p:nvPr/>
        </p:nvSpPr>
        <p:spPr>
          <a:xfrm>
            <a:off x="152280" y="3309840"/>
            <a:ext cx="8772480" cy="2352600"/>
          </a:xfrm>
          <a:prstGeom prst="rect">
            <a:avLst/>
          </a:prstGeom>
          <a:noFill/>
          <a:ln w="0">
            <a:noFill/>
          </a:ln>
        </p:spPr>
        <p:style>
          <a:lnRef idx="0"/>
          <a:fillRef idx="0"/>
          <a:effectRef idx="0"/>
          <a:fontRef idx="minor"/>
        </p:style>
        <p:txBody>
          <a:bodyPr lIns="82440" rIns="82440" tIns="41400" bIns="41400" anchor="t">
            <a:normAutofit/>
          </a:bodyPr>
          <a:p>
            <a:pPr marL="230040" indent="-230040">
              <a:lnSpc>
                <a:spcPct val="95000"/>
              </a:lnSpc>
              <a:buClr>
                <a:srgbClr val="000000"/>
              </a:buClr>
              <a:buSzPct val="88000"/>
              <a:buFont typeface="Monaco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slow">
    <p:zoom dir="in"/>
  </p:transition>
  <p:timing>
    <p:tnLst>
      <p:par>
        <p:cTn id="58" dur="indefinite" restart="never" nodeType="tmRoot">
          <p:childTnLst>
            <p:seq>
              <p:cTn id="59" dur="indefinite" nodeType="mainSeq">
                <p:childTnLst>
                  <p:par>
                    <p:cTn id="60" fill="hold">
                      <p:stCondLst>
                        <p:cond delay="indefinite"/>
                      </p:stCondLst>
                      <p:childTnLst>
                        <p:par>
                          <p:cTn id="61" fill="hold">
                            <p:stCondLst>
                              <p:cond delay="0"/>
                            </p:stCondLst>
                            <p:childTnLst>
                              <p:par>
                                <p:cTn id="62" nodeType="clickEffect" fill="hold" presetClass="entr" presetID="1">
                                  <p:stCondLst>
                                    <p:cond delay="0"/>
                                  </p:stCondLst>
                                  <p:childTnLst>
                                    <p:set>
                                      <p:cBhvr>
                                        <p:cTn id="63" dur="1" fill="hold">
                                          <p:stCondLst>
                                            <p:cond delay="499"/>
                                          </p:stCondLst>
                                        </p:cTn>
                                        <p:tgtEl>
                                          <p:spTgt spid="807">
                                            <p:txEl>
                                              <p:pRg st="0" end="0"/>
                                            </p:txEl>
                                          </p:spTgt>
                                        </p:tgtEl>
                                        <p:attrNameLst>
                                          <p:attrName>style.visibility</p:attrName>
                                        </p:attrNameLst>
                                      </p:cBhvr>
                                      <p:to>
                                        <p:strVal val="visible"/>
                                      </p:to>
                                    </p:se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1">
                                  <p:stCondLst>
                                    <p:cond delay="0"/>
                                  </p:stCondLst>
                                  <p:childTnLst>
                                    <p:set>
                                      <p:cBhvr>
                                        <p:cTn id="67" dur="1" fill="hold">
                                          <p:stCondLst>
                                            <p:cond delay="499"/>
                                          </p:stCondLst>
                                        </p:cTn>
                                        <p:tgtEl>
                                          <p:spTgt spid="807">
                                            <p:txEl>
                                              <p:pRg st="1" end="1"/>
                                            </p:txEl>
                                          </p:spTgt>
                                        </p:tgtEl>
                                        <p:attrNameLst>
                                          <p:attrName>style.visibility</p:attrName>
                                        </p:attrNameLst>
                                      </p:cBhvr>
                                      <p:to>
                                        <p:strVal val="visible"/>
                                      </p:to>
                                    </p:set>
                                  </p:childTnLst>
                                </p:cTn>
                              </p:par>
                              <p:par>
                                <p:cTn id="68" nodeType="withEffect" fill="hold" presetClass="entr" presetID="1">
                                  <p:stCondLst>
                                    <p:cond delay="0"/>
                                  </p:stCondLst>
                                  <p:childTnLst>
                                    <p:set>
                                      <p:cBhvr>
                                        <p:cTn id="69" dur="1" fill="hold">
                                          <p:stCondLst>
                                            <p:cond delay="499"/>
                                          </p:stCondLst>
                                        </p:cTn>
                                        <p:tgtEl>
                                          <p:spTgt spid="807">
                                            <p:txEl>
                                              <p:pRg st="2" end="2"/>
                                            </p:txEl>
                                          </p:spTgt>
                                        </p:tgtEl>
                                        <p:attrNameLst>
                                          <p:attrName>style.visibility</p:attrName>
                                        </p:attrNameLst>
                                      </p:cBhvr>
                                      <p:to>
                                        <p:strVal val="visible"/>
                                      </p:to>
                                    </p:se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1">
                                  <p:stCondLst>
                                    <p:cond delay="0"/>
                                  </p:stCondLst>
                                  <p:childTnLst>
                                    <p:set>
                                      <p:cBhvr>
                                        <p:cTn id="73" dur="1" fill="hold">
                                          <p:stCondLst>
                                            <p:cond delay="499"/>
                                          </p:stCondLst>
                                        </p:cTn>
                                        <p:tgtEl>
                                          <p:spTgt spid="807">
                                            <p:txEl>
                                              <p:pRg st="3" end="3"/>
                                            </p:txEl>
                                          </p:spTgt>
                                        </p:tgtEl>
                                        <p:attrNameLst>
                                          <p:attrName>style.visibility</p:attrName>
                                        </p:attrNameLst>
                                      </p:cBhvr>
                                      <p:to>
                                        <p:strVal val="visible"/>
                                      </p:to>
                                    </p:set>
                                  </p:childTnLst>
                                </p:cTn>
                              </p:par>
                              <p:par>
                                <p:cTn id="74" nodeType="withEffect" fill="hold" presetClass="entr" presetID="1">
                                  <p:stCondLst>
                                    <p:cond delay="0"/>
                                  </p:stCondLst>
                                  <p:childTnLst>
                                    <p:set>
                                      <p:cBhvr>
                                        <p:cTn id="75" dur="1" fill="hold">
                                          <p:stCondLst>
                                            <p:cond delay="499"/>
                                          </p:stCondLst>
                                        </p:cTn>
                                        <p:tgtEl>
                                          <p:spTgt spid="807">
                                            <p:txEl>
                                              <p:pRg st="4" end="4"/>
                                            </p:txEl>
                                          </p:spTgt>
                                        </p:tgtEl>
                                        <p:attrNameLst>
                                          <p:attrName>style.visibility</p:attrName>
                                        </p:attrNameLst>
                                      </p:cBhvr>
                                      <p:to>
                                        <p:strVal val="visible"/>
                                      </p:to>
                                    </p:se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
                                  <p:stCondLst>
                                    <p:cond delay="0"/>
                                  </p:stCondLst>
                                  <p:childTnLst>
                                    <p:set>
                                      <p:cBhvr>
                                        <p:cTn id="79" dur="1" fill="hold">
                                          <p:stCondLst>
                                            <p:cond delay="499"/>
                                          </p:stCondLst>
                                        </p:cTn>
                                        <p:tgtEl>
                                          <p:spTgt spid="807">
                                            <p:txEl>
                                              <p:pRg st="5" end="5"/>
                                            </p:txEl>
                                          </p:spTgt>
                                        </p:tgtEl>
                                        <p:attrNameLst>
                                          <p:attrName>style.visibility</p:attrName>
                                        </p:attrNameLst>
                                      </p:cBhvr>
                                      <p:to>
                                        <p:strVal val="visible"/>
                                      </p:to>
                                    </p:set>
                                  </p:childTnLst>
                                </p:cTn>
                              </p:par>
                              <p:par>
                                <p:cTn id="80" nodeType="withEffect" fill="hold" presetClass="entr" presetID="1">
                                  <p:stCondLst>
                                    <p:cond delay="0"/>
                                  </p:stCondLst>
                                  <p:childTnLst>
                                    <p:set>
                                      <p:cBhvr>
                                        <p:cTn id="81" dur="1" fill="hold">
                                          <p:stCondLst>
                                            <p:cond delay="499"/>
                                          </p:stCondLst>
                                        </p:cTn>
                                        <p:tgtEl>
                                          <p:spTgt spid="807">
                                            <p:txEl>
                                              <p:pRg st="6" end="6"/>
                                            </p:txEl>
                                          </p:spTgt>
                                        </p:tgtEl>
                                        <p:attrNameLst>
                                          <p:attrName>style.visibility</p:attrName>
                                        </p:attrNameLst>
                                      </p:cBhvr>
                                      <p:to>
                                        <p:strVal val="visible"/>
                                      </p:to>
                                    </p:set>
                                  </p:childTnLst>
                                </p:cTn>
                              </p:par>
                              <p:par>
                                <p:cTn id="82" nodeType="withEffect" fill="hold" presetClass="entr" presetID="1">
                                  <p:stCondLst>
                                    <p:cond delay="0"/>
                                  </p:stCondLst>
                                  <p:childTnLst>
                                    <p:set>
                                      <p:cBhvr>
                                        <p:cTn id="83" dur="1" fill="hold">
                                          <p:stCondLst>
                                            <p:cond delay="499"/>
                                          </p:stCondLst>
                                        </p:cTn>
                                        <p:tgtEl>
                                          <p:spTgt spid="807">
                                            <p:txEl>
                                              <p:pRg st="7" end="7"/>
                                            </p:txEl>
                                          </p:spTgt>
                                        </p:tgtEl>
                                        <p:attrNameLst>
                                          <p:attrName>style.visibility</p:attrName>
                                        </p:attrNameLst>
                                      </p:cBhvr>
                                      <p:to>
                                        <p:strVal val="visible"/>
                                      </p:to>
                                    </p:se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1">
                                  <p:stCondLst>
                                    <p:cond delay="0"/>
                                  </p:stCondLst>
                                  <p:childTnLst>
                                    <p:set>
                                      <p:cBhvr>
                                        <p:cTn id="87" dur="1" fill="hold">
                                          <p:stCondLst>
                                            <p:cond delay="499"/>
                                          </p:stCondLst>
                                        </p:cTn>
                                        <p:tgtEl>
                                          <p:spTgt spid="807">
                                            <p:txEl>
                                              <p:pRg st="8" end="8"/>
                                            </p:txEl>
                                          </p:spTgt>
                                        </p:tgtEl>
                                        <p:attrNameLst>
                                          <p:attrName>style.visibility</p:attrName>
                                        </p:attrNameLst>
                                      </p:cBhvr>
                                      <p:to>
                                        <p:strVal val="visible"/>
                                      </p:to>
                                    </p:set>
                                  </p:childTnLst>
                                </p:cTn>
                              </p:par>
                              <p:par>
                                <p:cTn id="88" nodeType="withEffect" fill="hold" presetClass="entr" presetID="1">
                                  <p:stCondLst>
                                    <p:cond delay="0"/>
                                  </p:stCondLst>
                                  <p:childTnLst>
                                    <p:set>
                                      <p:cBhvr>
                                        <p:cTn id="89" dur="1" fill="hold">
                                          <p:stCondLst>
                                            <p:cond delay="499"/>
                                          </p:stCondLst>
                                        </p:cTn>
                                        <p:tgtEl>
                                          <p:spTgt spid="807">
                                            <p:txEl>
                                              <p:pRg st="9" end="9"/>
                                            </p:txEl>
                                          </p:spTgt>
                                        </p:tgtEl>
                                        <p:attrNameLst>
                                          <p:attrName>style.visibility</p:attrName>
                                        </p:attrNameLst>
                                      </p:cBhvr>
                                      <p:to>
                                        <p:strVal val="visible"/>
                                      </p:to>
                                    </p:set>
                                  </p:childTnLst>
                                </p:cTn>
                              </p:par>
                              <p:par>
                                <p:cTn id="90" nodeType="withEffect" fill="hold" presetClass="entr" presetID="1">
                                  <p:stCondLst>
                                    <p:cond delay="0"/>
                                  </p:stCondLst>
                                  <p:childTnLst>
                                    <p:set>
                                      <p:cBhvr>
                                        <p:cTn id="91" dur="1" fill="hold">
                                          <p:stCondLst>
                                            <p:cond delay="499"/>
                                          </p:stCondLst>
                                        </p:cTn>
                                        <p:tgtEl>
                                          <p:spTgt spid="807">
                                            <p:txEl>
                                              <p:pRg st="10" end="10"/>
                                            </p:txEl>
                                          </p:spTgt>
                                        </p:tgtEl>
                                        <p:attrNameLst>
                                          <p:attrName>style.visibility</p:attrName>
                                        </p:attrNameLst>
                                      </p:cBhvr>
                                      <p:to>
                                        <p:strVal val="visible"/>
                                      </p:to>
                                    </p:se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807">
                                            <p:txEl>
                                              <p:pRg st="11" end="11"/>
                                            </p:txEl>
                                          </p:spTgt>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807">
                                            <p:txEl>
                                              <p:pRg st="12" end="12"/>
                                            </p:txEl>
                                          </p:spTgt>
                                        </p:tgtEl>
                                        <p:attrNameLst>
                                          <p:attrName>style.visibility</p:attrName>
                                        </p:attrNameLst>
                                      </p:cBhvr>
                                      <p:to>
                                        <p:strVal val="visible"/>
                                      </p:to>
                                    </p:se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1">
                                  <p:stCondLst>
                                    <p:cond delay="0"/>
                                  </p:stCondLst>
                                  <p:childTnLst>
                                    <p:set>
                                      <p:cBhvr>
                                        <p:cTn id="103" dur="1" fill="hold">
                                          <p:stCondLst>
                                            <p:cond delay="499"/>
                                          </p:stCondLst>
                                        </p:cTn>
                                        <p:tgtEl>
                                          <p:spTgt spid="807">
                                            <p:txEl>
                                              <p:pRg st="13" end="13"/>
                                            </p:txEl>
                                          </p:spTgt>
                                        </p:tgtEl>
                                        <p:attrNameLst>
                                          <p:attrName>style.visibility</p:attrName>
                                        </p:attrNameLst>
                                      </p:cBhvr>
                                      <p:to>
                                        <p:strVal val="visible"/>
                                      </p:to>
                                    </p:se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1">
                                  <p:stCondLst>
                                    <p:cond delay="0"/>
                                  </p:stCondLst>
                                  <p:childTnLst>
                                    <p:set>
                                      <p:cBhvr>
                                        <p:cTn id="107" dur="1" fill="hold">
                                          <p:stCondLst>
                                            <p:cond delay="499"/>
                                          </p:stCondLst>
                                        </p:cTn>
                                        <p:tgtEl>
                                          <p:spTgt spid="807">
                                            <p:txEl>
                                              <p:pRg st="14" end="14"/>
                                            </p:txEl>
                                          </p:spTgt>
                                        </p:tgtEl>
                                        <p:attrNameLst>
                                          <p:attrName>style.visibility</p:attrName>
                                        </p:attrNameLst>
                                      </p:cBhvr>
                                      <p:to>
                                        <p:strVal val="visible"/>
                                      </p:to>
                                    </p:se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1">
                                  <p:stCondLst>
                                    <p:cond delay="0"/>
                                  </p:stCondLst>
                                  <p:endCondLst>
                                    <p:cond evt="begin"/>
                                  </p:endCondLst>
                                  <p:childTnLst>
                                    <p:set>
                                      <p:cBhvr>
                                        <p:cTn id="111" dur="1" fill="hold">
                                          <p:stCondLst>
                                            <p:cond delay="499"/>
                                          </p:stCondLst>
                                        </p:cTn>
                                        <p:tgtEl>
                                          <p:spTgt spid="809">
                                            <p:txEl>
                                              <p:pRg st="0" end="0"/>
                                            </p:txEl>
                                          </p:spTgt>
                                        </p:tgtEl>
                                        <p:attrNameLst>
                                          <p:attrName>style.visibility</p:attrName>
                                        </p:attrNameLst>
                                      </p:cBhvr>
                                      <p:to>
                                        <p:strVal val="visible"/>
                                      </p:to>
                                    </p:se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1">
                                  <p:stCondLst>
                                    <p:cond delay="0"/>
                                  </p:stCondLst>
                                  <p:endCondLst>
                                    <p:cond evt="begin"/>
                                  </p:endCondLst>
                                  <p:childTnLst>
                                    <p:set>
                                      <p:cBhvr>
                                        <p:cTn id="115" dur="1" fill="hold">
                                          <p:stCondLst>
                                            <p:cond delay="499"/>
                                          </p:stCondLst>
                                        </p:cTn>
                                        <p:tgtEl>
                                          <p:spTgt spid="810">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1" name="PlaceHolder 1"/>
          <p:cNvSpPr>
            <a:spLocks noGrp="1"/>
          </p:cNvSpPr>
          <p:nvPr>
            <p:ph type="title"/>
          </p:nvPr>
        </p:nvSpPr>
        <p:spPr>
          <a:xfrm>
            <a:off x="0" y="193680"/>
            <a:ext cx="9144000" cy="822240"/>
          </a:xfrm>
          <a:prstGeom prst="rect">
            <a:avLst/>
          </a:prstGeom>
          <a:noFill/>
          <a:ln w="0">
            <a:noFill/>
          </a:ln>
        </p:spPr>
        <p:txBody>
          <a:bodyPr lIns="90360" rIns="90360" tIns="44280" bIns="442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AL Compatibility </a:t>
            </a:r>
            <a:br>
              <a:rPr sz="3000"/>
            </a:br>
            <a:r>
              <a:rPr b="1" lang="en-US" sz="3000" spc="-1" strike="noStrike">
                <a:solidFill>
                  <a:srgbClr val="000000"/>
                </a:solidFill>
                <a:latin typeface="Arial"/>
              </a:rPr>
              <a:t>Requirements Document Table of Contents</a:t>
            </a:r>
            <a:endParaRPr b="1" lang="en-US" sz="3000" spc="-1" strike="noStrike">
              <a:solidFill>
                <a:srgbClr val="000000"/>
              </a:solidFill>
              <a:latin typeface="Arial"/>
            </a:endParaRPr>
          </a:p>
        </p:txBody>
      </p:sp>
      <p:sp>
        <p:nvSpPr>
          <p:cNvPr id="812" name=""/>
          <p:cNvSpPr/>
          <p:nvPr/>
        </p:nvSpPr>
        <p:spPr>
          <a:xfrm>
            <a:off x="237960" y="1390680"/>
            <a:ext cx="8651880" cy="4052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000"/>
                </a:solidFill>
                <a:latin typeface="Arial"/>
              </a:rPr>
              <a:t>Requirements and Recommendations for OVAL Compatibility</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ocument version: </a:t>
            </a:r>
            <a:r>
              <a:rPr b="0" lang="en-US" sz="1200" spc="-1" strike="noStrike">
                <a:solidFill>
                  <a:srgbClr val="000000"/>
                </a:solidFill>
                <a:latin typeface="Arial"/>
              </a:rPr>
              <a:t>0.0.2 </a:t>
            </a:r>
            <a:r>
              <a:rPr b="1" lang="en-US" sz="1200" spc="-1" strike="noStrike">
                <a:solidFill>
                  <a:srgbClr val="000000"/>
                </a:solidFill>
                <a:latin typeface="Arial"/>
              </a:rPr>
              <a:t>Date: </a:t>
            </a:r>
            <a:r>
              <a:rPr b="0" lang="en-US" sz="1200" spc="-1" strike="noStrike">
                <a:solidFill>
                  <a:srgbClr val="000000"/>
                </a:solidFill>
                <a:latin typeface="Arial"/>
              </a:rPr>
              <a:t>July 13, 2005</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Copyright © 2005, The MITRE Corporation. All rights reserved. This is a draft report and does not represent an official position of </a:t>
            </a:r>
            <a:r>
              <a:rPr b="0" lang="en-US" sz="1200" spc="-1" strike="noStrike" u="sng">
                <a:solidFill>
                  <a:srgbClr val="fc0128"/>
                </a:solidFill>
                <a:uFillTx/>
                <a:latin typeface="Arial"/>
                <a:hlinkClick r:id="rId1"/>
              </a:rPr>
              <a:t>The MITRE Corporation</a:t>
            </a:r>
            <a:r>
              <a:rPr b="0" lang="en-US" sz="1200" spc="-1" strike="noStrike">
                <a:solidFill>
                  <a:srgbClr val="000000"/>
                </a:solidFill>
                <a:latin typeface="Arial"/>
              </a:rPr>
              <a:t>. Permission is granted to redistribute this document if this paragraph is not removed. This document is subject to change without notice. </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200" spc="-1" strike="noStrike">
                <a:solidFill>
                  <a:srgbClr val="008000"/>
                </a:solidFill>
                <a:latin typeface="Arial"/>
              </a:rPr>
              <a:t>Table of Contents</a:t>
            </a:r>
            <a:endParaRPr b="0" lang="en-US" sz="12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8000"/>
                </a:solidFill>
                <a:latin typeface="Arial"/>
              </a:rPr>
              <a:t>	</a:t>
            </a:r>
            <a:r>
              <a:rPr b="0" lang="en-US" sz="1200" spc="-1" strike="noStrike">
                <a:solidFill>
                  <a:srgbClr val="660033"/>
                </a:solidFill>
                <a:latin typeface="Arial"/>
              </a:rPr>
              <a:t>1. </a:t>
            </a:r>
            <a:r>
              <a:rPr b="0" lang="en-US" sz="1200" spc="-1" strike="noStrike" u="sng">
                <a:solidFill>
                  <a:srgbClr val="0000ff"/>
                </a:solidFill>
                <a:uFillTx/>
                <a:latin typeface="Arial"/>
              </a:rPr>
              <a:t>Definitions</a:t>
            </a:r>
            <a:endParaRPr b="0" lang="en-US" sz="12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ff"/>
                </a:solidFill>
                <a:uFillTx/>
                <a:latin typeface="Arial"/>
              </a:rPr>
              <a:t>	</a:t>
            </a:r>
            <a:r>
              <a:rPr b="0" lang="en-US" sz="1200" spc="-1" strike="noStrike">
                <a:solidFill>
                  <a:srgbClr val="660033"/>
                </a:solidFill>
                <a:latin typeface="Arial"/>
              </a:rPr>
              <a:t>2. </a:t>
            </a:r>
            <a:r>
              <a:rPr b="0" lang="en-US" sz="1200" spc="-1" strike="noStrike" u="sng">
                <a:solidFill>
                  <a:srgbClr val="0000ff"/>
                </a:solidFill>
                <a:uFillTx/>
                <a:latin typeface="Arial"/>
              </a:rPr>
              <a:t>Introduction</a:t>
            </a:r>
            <a:endParaRPr b="0" lang="en-US" sz="12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ff"/>
                </a:solidFill>
                <a:uFillTx/>
                <a:latin typeface="Arial"/>
              </a:rPr>
              <a:t>	</a:t>
            </a:r>
            <a:r>
              <a:rPr b="0" lang="en-US" sz="1200" spc="-1" strike="noStrike">
                <a:solidFill>
                  <a:srgbClr val="660033"/>
                </a:solidFill>
                <a:latin typeface="Arial"/>
              </a:rPr>
              <a:t>3. </a:t>
            </a:r>
            <a:r>
              <a:rPr b="0" lang="en-US" sz="1200" spc="-1" strike="noStrike" u="sng">
                <a:solidFill>
                  <a:srgbClr val="0000ff"/>
                </a:solidFill>
                <a:uFillTx/>
                <a:latin typeface="Arial"/>
              </a:rPr>
              <a:t>Examples of OVAL Compatibility</a:t>
            </a:r>
            <a:endParaRPr b="0" lang="en-US" sz="12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ff"/>
                </a:solidFill>
                <a:uFillTx/>
                <a:latin typeface="Arial"/>
              </a:rPr>
              <a:t>	</a:t>
            </a:r>
            <a:r>
              <a:rPr b="0" lang="en-US" sz="1200" spc="-1" strike="noStrike">
                <a:solidFill>
                  <a:srgbClr val="660033"/>
                </a:solidFill>
                <a:latin typeface="Arial"/>
              </a:rPr>
              <a:t>4. </a:t>
            </a:r>
            <a:r>
              <a:rPr b="0" lang="en-US" sz="1200" spc="-1" strike="noStrike" u="sng">
                <a:solidFill>
                  <a:srgbClr val="0000ff"/>
                </a:solidFill>
                <a:uFillTx/>
                <a:latin typeface="Arial"/>
              </a:rPr>
              <a:t>OVAL Compatibility Requirements</a:t>
            </a:r>
            <a:endParaRPr b="0" lang="en-US" sz="12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	</a:t>
            </a:r>
            <a:r>
              <a:rPr b="0" lang="en-US" sz="1200" spc="-1" strike="noStrike">
                <a:solidFill>
                  <a:srgbClr val="0000ff"/>
                </a:solidFill>
                <a:latin typeface="Arial"/>
              </a:rPr>
              <a:t>        </a:t>
            </a:r>
            <a:r>
              <a:rPr b="0" lang="en-US" sz="1200" spc="-1" strike="noStrike">
                <a:solidFill>
                  <a:srgbClr val="000000"/>
                </a:solidFill>
                <a:latin typeface="Arial"/>
              </a:rPr>
              <a:t>4.1 </a:t>
            </a:r>
            <a:r>
              <a:rPr b="0" lang="en-US" sz="1200" spc="-1" strike="noStrike">
                <a:solidFill>
                  <a:srgbClr val="000000"/>
                </a:solidFill>
                <a:latin typeface="Arial"/>
              </a:rPr>
              <a:t>	</a:t>
            </a:r>
            <a:r>
              <a:rPr b="0" lang="en-US" sz="1200" spc="-1" strike="noStrike" u="sng">
                <a:solidFill>
                  <a:srgbClr val="0000ff"/>
                </a:solidFill>
                <a:uFillTx/>
                <a:latin typeface="Arial"/>
              </a:rPr>
              <a:t>General</a:t>
            </a:r>
            <a:endParaRPr b="0" lang="en-US" sz="12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4.2</a:t>
            </a:r>
            <a:r>
              <a:rPr b="0" lang="en-US" sz="1200" spc="-1" strike="noStrike">
                <a:solidFill>
                  <a:srgbClr val="0000ff"/>
                </a:solidFill>
                <a:latin typeface="Arial"/>
              </a:rPr>
              <a:t> </a:t>
            </a:r>
            <a:r>
              <a:rPr b="0" lang="en-US" sz="1200" spc="-1" strike="noStrike">
                <a:solidFill>
                  <a:srgbClr val="0000ff"/>
                </a:solidFill>
                <a:latin typeface="Arial"/>
              </a:rPr>
              <a:t>	</a:t>
            </a:r>
            <a:r>
              <a:rPr b="0" lang="en-US" sz="1200" spc="-1" strike="noStrike" u="sng">
                <a:solidFill>
                  <a:srgbClr val="0000ff"/>
                </a:solidFill>
                <a:uFillTx/>
                <a:latin typeface="Arial"/>
              </a:rPr>
              <a:t>Documentation</a:t>
            </a:r>
            <a:endParaRPr b="0" lang="en-US" sz="12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ff"/>
                </a:solidFill>
                <a:uFillTx/>
                <a:latin typeface="Arial"/>
              </a:rPr>
              <a:t>	</a:t>
            </a:r>
            <a:r>
              <a:rPr b="0" lang="en-US" sz="1200" spc="-1" strike="noStrike">
                <a:solidFill>
                  <a:srgbClr val="660033"/>
                </a:solidFill>
                <a:latin typeface="Arial"/>
              </a:rPr>
              <a:t>5. </a:t>
            </a:r>
            <a:r>
              <a:rPr b="0" lang="en-US" sz="1200" spc="-1" strike="noStrike" u="sng">
                <a:solidFill>
                  <a:srgbClr val="0000ff"/>
                </a:solidFill>
                <a:uFillTx/>
                <a:latin typeface="Arial"/>
              </a:rPr>
              <a:t>Specific OVAL Compatibility Requirements</a:t>
            </a:r>
            <a:endParaRPr b="0" lang="en-US" sz="12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5.1</a:t>
            </a:r>
            <a:r>
              <a:rPr b="0" lang="en-US" sz="1200" spc="-1" strike="noStrike">
                <a:solidFill>
                  <a:srgbClr val="0000ff"/>
                </a:solidFill>
                <a:latin typeface="Arial"/>
              </a:rPr>
              <a:t> </a:t>
            </a:r>
            <a:r>
              <a:rPr b="0" lang="en-US" sz="1200" spc="-1" strike="noStrike" u="sng">
                <a:solidFill>
                  <a:srgbClr val="0000ff"/>
                </a:solidFill>
                <a:uFillTx/>
                <a:latin typeface="Arial"/>
              </a:rPr>
              <a:t>	</a:t>
            </a:r>
            <a:r>
              <a:rPr b="0" lang="en-US" sz="1200" spc="-1" strike="noStrike" u="sng">
                <a:solidFill>
                  <a:srgbClr val="0000ff"/>
                </a:solidFill>
                <a:uFillTx/>
                <a:latin typeface="Arial"/>
              </a:rPr>
              <a:t>OVAL Definition Schema</a:t>
            </a:r>
            <a:endParaRPr b="0" lang="en-US" sz="12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5.2</a:t>
            </a:r>
            <a:r>
              <a:rPr b="0" lang="en-US" sz="1200" spc="-1" strike="noStrike">
                <a:solidFill>
                  <a:srgbClr val="0000ff"/>
                </a:solidFill>
                <a:latin typeface="Arial"/>
              </a:rPr>
              <a:t> </a:t>
            </a:r>
            <a:r>
              <a:rPr b="0" lang="en-US" sz="1200" spc="-1" strike="noStrike" u="sng">
                <a:solidFill>
                  <a:srgbClr val="0000ff"/>
                </a:solidFill>
                <a:uFillTx/>
                <a:latin typeface="Arial"/>
              </a:rPr>
              <a:t>	</a:t>
            </a:r>
            <a:r>
              <a:rPr b="0" lang="en-US" sz="1200" spc="-1" strike="noStrike" u="sng">
                <a:solidFill>
                  <a:srgbClr val="0000ff"/>
                </a:solidFill>
                <a:uFillTx/>
                <a:latin typeface="Arial"/>
              </a:rPr>
              <a:t>OVAL System Characteristics Schema</a:t>
            </a:r>
            <a:endParaRPr b="0" lang="en-US" sz="12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5.3</a:t>
            </a:r>
            <a:r>
              <a:rPr b="0" lang="en-US" sz="1200" spc="-1" strike="noStrike">
                <a:solidFill>
                  <a:srgbClr val="0000ff"/>
                </a:solidFill>
                <a:latin typeface="Arial"/>
              </a:rPr>
              <a:t> </a:t>
            </a:r>
            <a:r>
              <a:rPr b="0" lang="en-US" sz="1200" spc="-1" strike="noStrike" u="sng">
                <a:solidFill>
                  <a:srgbClr val="0000ff"/>
                </a:solidFill>
                <a:uFillTx/>
                <a:latin typeface="Arial"/>
              </a:rPr>
              <a:t>	</a:t>
            </a:r>
            <a:r>
              <a:rPr b="0" lang="en-US" sz="1200" spc="-1" strike="noStrike" u="sng">
                <a:solidFill>
                  <a:srgbClr val="0000ff"/>
                </a:solidFill>
                <a:uFillTx/>
                <a:latin typeface="Arial"/>
              </a:rPr>
              <a:t>OVAL Results Schema</a:t>
            </a:r>
            <a:endParaRPr b="0" lang="en-US" sz="12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ff"/>
                </a:solidFill>
                <a:uFillTx/>
                <a:latin typeface="Arial"/>
              </a:rPr>
              <a:t>	</a:t>
            </a:r>
            <a:r>
              <a:rPr b="0" lang="en-US" sz="1200" spc="-1" strike="noStrike">
                <a:solidFill>
                  <a:srgbClr val="660033"/>
                </a:solidFill>
                <a:latin typeface="Arial"/>
              </a:rPr>
              <a:t>6. </a:t>
            </a:r>
            <a:r>
              <a:rPr b="0" lang="en-US" sz="1200" spc="-1" strike="noStrike" u="sng">
                <a:solidFill>
                  <a:srgbClr val="0000ff"/>
                </a:solidFill>
                <a:uFillTx/>
                <a:latin typeface="Arial"/>
              </a:rPr>
              <a:t>How to Declare Your Product or Service OVAL-Compatible</a:t>
            </a:r>
            <a:endParaRPr b="0" lang="en-US" sz="12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ff"/>
                </a:solidFill>
                <a:uFillTx/>
                <a:latin typeface="Arial"/>
              </a:rPr>
              <a:t>	</a:t>
            </a:r>
            <a:r>
              <a:rPr b="0" lang="en-US" sz="1200" spc="-1" strike="noStrike">
                <a:solidFill>
                  <a:srgbClr val="660033"/>
                </a:solidFill>
                <a:latin typeface="Arial"/>
              </a:rPr>
              <a:t>7. </a:t>
            </a:r>
            <a:r>
              <a:rPr b="0" lang="en-US" sz="1200" spc="-1" strike="noStrike" u="sng">
                <a:solidFill>
                  <a:srgbClr val="0000ff"/>
                </a:solidFill>
                <a:uFillTx/>
                <a:latin typeface="Arial"/>
              </a:rPr>
              <a:t>Additional Information</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PlaceHolder 1"/>
          <p:cNvSpPr>
            <a:spLocks noGrp="1"/>
          </p:cNvSpPr>
          <p:nvPr>
            <p:ph type="title"/>
          </p:nvPr>
        </p:nvSpPr>
        <p:spPr>
          <a:xfrm>
            <a:off x="0" y="193680"/>
            <a:ext cx="9144000" cy="822240"/>
          </a:xfrm>
          <a:prstGeom prst="rect">
            <a:avLst/>
          </a:prstGeom>
          <a:noFill/>
          <a:ln w="0">
            <a:noFill/>
          </a:ln>
        </p:spPr>
        <p:txBody>
          <a:bodyPr lIns="90360" rIns="90360" tIns="44280" bIns="442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AL Compatibility </a:t>
            </a:r>
            <a:br>
              <a:rPr sz="3000"/>
            </a:br>
            <a:r>
              <a:rPr b="1" lang="en-US" sz="3000" spc="-1" strike="noStrike">
                <a:solidFill>
                  <a:srgbClr val="000000"/>
                </a:solidFill>
                <a:latin typeface="Arial"/>
              </a:rPr>
              <a:t>Definition of Terms</a:t>
            </a:r>
            <a:endParaRPr b="1" lang="en-US" sz="3000" spc="-1" strike="noStrike">
              <a:solidFill>
                <a:srgbClr val="000000"/>
              </a:solidFill>
              <a:latin typeface="Arial"/>
            </a:endParaRPr>
          </a:p>
        </p:txBody>
      </p:sp>
      <p:sp>
        <p:nvSpPr>
          <p:cNvPr id="814" name=""/>
          <p:cNvSpPr/>
          <p:nvPr/>
        </p:nvSpPr>
        <p:spPr>
          <a:xfrm>
            <a:off x="200160" y="1305000"/>
            <a:ext cx="8901000" cy="5118120"/>
          </a:xfrm>
          <a:prstGeom prst="rect">
            <a:avLst/>
          </a:prstGeom>
          <a:noFill/>
          <a:ln w="0">
            <a:noFill/>
          </a:ln>
        </p:spPr>
        <p:style>
          <a:lnRef idx="0"/>
          <a:fillRef idx="0"/>
          <a:effectRef idx="0"/>
          <a:fontRef idx="minor"/>
        </p:style>
        <p:txBody>
          <a:bodyPr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 Definitions</a:t>
            </a:r>
            <a:endParaRPr b="0" lang="en-US" sz="14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5000"/>
              </a:lnSpc>
              <a:spcAft>
                <a:spcPts val="15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pability </a:t>
            </a:r>
            <a:r>
              <a:rPr b="0" lang="en-US" sz="1200" spc="-1" strike="noStrike">
                <a:solidFill>
                  <a:srgbClr val="000000"/>
                </a:solidFill>
                <a:latin typeface="Arial"/>
              </a:rPr>
              <a:t>- security tool, database, Web site, advisory, or service that provides a security vulnerability, patch, or configuration function.</a:t>
            </a:r>
            <a:endParaRPr b="0" lang="en-US" sz="1200" spc="-1" strike="noStrike">
              <a:solidFill>
                <a:srgbClr val="000000"/>
              </a:solidFill>
              <a:latin typeface="Times New Roman"/>
            </a:endParaRPr>
          </a:p>
          <a:p>
            <a:pPr>
              <a:lnSpc>
                <a:spcPct val="85000"/>
              </a:lnSpc>
              <a:spcAft>
                <a:spcPts val="15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er </a:t>
            </a:r>
            <a:r>
              <a:rPr b="0" lang="en-US" sz="1200" spc="-1" strike="noStrike">
                <a:solidFill>
                  <a:srgbClr val="000000"/>
                </a:solidFill>
                <a:latin typeface="Arial"/>
              </a:rPr>
              <a:t>- a consumer or potential consumer of the Capability.</a:t>
            </a:r>
            <a:endParaRPr b="0" lang="en-US" sz="1200" spc="-1" strike="noStrike">
              <a:solidFill>
                <a:srgbClr val="000000"/>
              </a:solidFill>
              <a:latin typeface="Times New Roman"/>
            </a:endParaRPr>
          </a:p>
          <a:p>
            <a:pPr>
              <a:lnSpc>
                <a:spcPct val="85000"/>
              </a:lnSpc>
              <a:spcAft>
                <a:spcPts val="15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wner</a:t>
            </a:r>
            <a:r>
              <a:rPr b="0" lang="en-US" sz="1200" spc="-1" strike="noStrike">
                <a:solidFill>
                  <a:srgbClr val="000000"/>
                </a:solidFill>
                <a:latin typeface="Arial"/>
              </a:rPr>
              <a:t> - the creator, seller, or maintainer of the Capability.</a:t>
            </a:r>
            <a:endParaRPr b="0" lang="en-US" sz="1200" spc="-1" strike="noStrike">
              <a:solidFill>
                <a:srgbClr val="000000"/>
              </a:solidFill>
              <a:latin typeface="Times New Roman"/>
            </a:endParaRPr>
          </a:p>
          <a:p>
            <a:pPr>
              <a:lnSpc>
                <a:spcPct val="85000"/>
              </a:lnSpc>
              <a:spcAft>
                <a:spcPts val="15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VAL Producers</a:t>
            </a:r>
            <a:r>
              <a:rPr b="0" lang="en-US" sz="1200" spc="-1" strike="noStrike">
                <a:solidFill>
                  <a:srgbClr val="000000"/>
                </a:solidFill>
                <a:latin typeface="Arial"/>
              </a:rPr>
              <a:t> – a capability that generates data that conforms to the OVAL schema. </a:t>
            </a:r>
            <a:endParaRPr b="0" lang="en-US" sz="1200" spc="-1" strike="noStrike">
              <a:solidFill>
                <a:srgbClr val="000000"/>
              </a:solidFill>
              <a:latin typeface="Times New Roman"/>
            </a:endParaRPr>
          </a:p>
          <a:p>
            <a:pPr>
              <a:lnSpc>
                <a:spcPct val="85000"/>
              </a:lnSpc>
              <a:spcAft>
                <a:spcPts val="15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VAL Consumers</a:t>
            </a:r>
            <a:r>
              <a:rPr b="0" lang="en-US" sz="1200" spc="-1" strike="noStrike">
                <a:solidFill>
                  <a:srgbClr val="000000"/>
                </a:solidFill>
                <a:latin typeface="Arial"/>
              </a:rPr>
              <a:t> – a capability that utilizes an existing OVAL conformant data set for some purpose. </a:t>
            </a:r>
            <a:endParaRPr b="0" lang="en-US" sz="1200" spc="-1" strike="noStrike">
              <a:solidFill>
                <a:srgbClr val="000000"/>
              </a:solidFill>
              <a:latin typeface="Times New Roman"/>
            </a:endParaRPr>
          </a:p>
          <a:p>
            <a:pPr>
              <a:lnSpc>
                <a:spcPct val="85000"/>
              </a:lnSpc>
              <a:spcAft>
                <a:spcPts val="15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curity Element </a:t>
            </a:r>
            <a:r>
              <a:rPr b="0" lang="en-US" sz="1200" spc="-1" strike="noStrike">
                <a:solidFill>
                  <a:srgbClr val="000000"/>
                </a:solidFill>
                <a:latin typeface="Arial"/>
              </a:rPr>
              <a:t>- a specific capability information item, record, etc., which is related to an OVAL vulnerability, patch, or configuration definition.</a:t>
            </a:r>
            <a:endParaRPr b="0" lang="en-US" sz="1200" spc="-1" strike="noStrike">
              <a:solidFill>
                <a:srgbClr val="000000"/>
              </a:solidFill>
              <a:latin typeface="Times New Roman"/>
            </a:endParaRPr>
          </a:p>
          <a:p>
            <a:pPr>
              <a:lnSpc>
                <a:spcPct val="85000"/>
              </a:lnSpc>
              <a:spcAft>
                <a:spcPts val="15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pository </a:t>
            </a:r>
            <a:r>
              <a:rPr b="0" lang="en-US" sz="1200" spc="-1" strike="noStrike">
                <a:solidFill>
                  <a:srgbClr val="000000"/>
                </a:solidFill>
                <a:latin typeface="Arial"/>
              </a:rPr>
              <a:t>- an implicit or explicit collection of security elements that supports a capability, e.g., a vulnerability database, the set of signatures in an assessment tool, or Web site.</a:t>
            </a:r>
            <a:endParaRPr b="0" lang="en-US" sz="1200" spc="-1" strike="noStrike">
              <a:solidFill>
                <a:srgbClr val="000000"/>
              </a:solidFill>
              <a:latin typeface="Times New Roman"/>
            </a:endParaRPr>
          </a:p>
          <a:p>
            <a:pPr>
              <a:lnSpc>
                <a:spcPct val="85000"/>
              </a:lnSpc>
              <a:spcAft>
                <a:spcPts val="15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ol </a:t>
            </a:r>
            <a:r>
              <a:rPr b="0" lang="en-US" sz="1200" spc="-1" strike="noStrike">
                <a:solidFill>
                  <a:srgbClr val="000000"/>
                </a:solidFill>
                <a:latin typeface="Arial"/>
              </a:rPr>
              <a:t>- a software application or device that examines a host or network and produces information that is related to vulnerabilities, configuration issues,  patches, etc.. For example, a vulnerability scanner, patch checker, or a configuration compliance assessment product.</a:t>
            </a:r>
            <a:endParaRPr b="0" lang="en-US" sz="1200" spc="-1" strike="noStrike">
              <a:solidFill>
                <a:srgbClr val="000000"/>
              </a:solidFill>
              <a:latin typeface="Times New Roman"/>
            </a:endParaRPr>
          </a:p>
          <a:p>
            <a:pPr>
              <a:lnSpc>
                <a:spcPct val="85000"/>
              </a:lnSpc>
              <a:spcAft>
                <a:spcPts val="15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sk </a:t>
            </a:r>
            <a:r>
              <a:rPr b="0" lang="en-US" sz="1200" spc="-1" strike="noStrike">
                <a:solidFill>
                  <a:srgbClr val="000000"/>
                </a:solidFill>
                <a:latin typeface="Arial"/>
              </a:rPr>
              <a:t>- a Tool's probe, check, signature, etc., which performs some action that produces security information (i.e., the security element).</a:t>
            </a:r>
            <a:endParaRPr b="0" lang="en-US" sz="1200" spc="-1" strike="noStrike">
              <a:solidFill>
                <a:srgbClr val="000000"/>
              </a:solidFill>
              <a:latin typeface="Times New Roman"/>
            </a:endParaRPr>
          </a:p>
          <a:p>
            <a:pPr>
              <a:lnSpc>
                <a:spcPct val="85000"/>
              </a:lnSpc>
              <a:spcAft>
                <a:spcPts val="15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view </a:t>
            </a:r>
            <a:r>
              <a:rPr b="0" lang="en-US" sz="1200" spc="-1" strike="noStrike">
                <a:solidFill>
                  <a:srgbClr val="000000"/>
                </a:solidFill>
                <a:latin typeface="Arial"/>
              </a:rPr>
              <a:t>- the process of determining whether a capability is OVAL-compatible.</a:t>
            </a:r>
            <a:endParaRPr b="0" lang="en-US" sz="1200" spc="-1" strike="noStrike">
              <a:solidFill>
                <a:srgbClr val="000000"/>
              </a:solidFill>
              <a:latin typeface="Times New Roman"/>
            </a:endParaRPr>
          </a:p>
          <a:p>
            <a:pPr>
              <a:lnSpc>
                <a:spcPct val="85000"/>
              </a:lnSpc>
              <a:spcAft>
                <a:spcPts val="15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view Authority </a:t>
            </a:r>
            <a:r>
              <a:rPr b="0" lang="en-US" sz="1200" spc="-1" strike="noStrike">
                <a:solidFill>
                  <a:srgbClr val="000000"/>
                </a:solidFill>
                <a:latin typeface="Arial"/>
              </a:rPr>
              <a:t>- an entity that performs a Review. MITRE is the only Review Authority at this time.</a:t>
            </a:r>
            <a:endParaRPr b="0" lang="en-US" sz="12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5" name="PlaceHolder 1"/>
          <p:cNvSpPr>
            <a:spLocks noGrp="1"/>
          </p:cNvSpPr>
          <p:nvPr>
            <p:ph type="title"/>
          </p:nvPr>
        </p:nvSpPr>
        <p:spPr>
          <a:xfrm>
            <a:off x="0" y="193680"/>
            <a:ext cx="9144000" cy="822240"/>
          </a:xfrm>
          <a:prstGeom prst="rect">
            <a:avLst/>
          </a:prstGeom>
          <a:noFill/>
          <a:ln w="0">
            <a:noFill/>
          </a:ln>
        </p:spPr>
        <p:txBody>
          <a:bodyPr lIns="90360" rIns="90360" tIns="44280" bIns="442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AL Compatibility </a:t>
            </a:r>
            <a:br>
              <a:rPr sz="3000"/>
            </a:br>
            <a:r>
              <a:rPr b="1" lang="en-US" sz="3000" spc="-1" strike="noStrike">
                <a:solidFill>
                  <a:srgbClr val="000000"/>
                </a:solidFill>
                <a:latin typeface="Arial"/>
              </a:rPr>
              <a:t>Introductory Materials</a:t>
            </a:r>
            <a:endParaRPr b="1" lang="en-US" sz="3000" spc="-1" strike="noStrike">
              <a:solidFill>
                <a:srgbClr val="000000"/>
              </a:solidFill>
              <a:latin typeface="Arial"/>
            </a:endParaRPr>
          </a:p>
        </p:txBody>
      </p:sp>
      <p:sp>
        <p:nvSpPr>
          <p:cNvPr id="816" name=""/>
          <p:cNvSpPr/>
          <p:nvPr/>
        </p:nvSpPr>
        <p:spPr>
          <a:xfrm>
            <a:off x="155520" y="1236600"/>
            <a:ext cx="8793360" cy="475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 Introduc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 "OVAL-Compatible" tool, service, Web site, database, or advisory/alert uses the Open Vulnerability and Assessment Language (OVAL), as appropriate, for communicating details of vulnerabilities, patches, or security configuration setting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VAL itself is an international cyber security community effort to standardize the identification of vulnerability, configuration, or patch issues on computers by developing standardized, machine-readable vulnerability, patch, and configuration definitions. Each of the different kinds of definitions is referred to as a “class” of definitions. The structure and vocabulary of an OVAL definition is controlled by the </a:t>
            </a:r>
            <a:r>
              <a:rPr b="0" lang="en-US" sz="1000" spc="-1" strike="noStrike" u="sng">
                <a:solidFill>
                  <a:srgbClr val="fc0128"/>
                </a:solidFill>
                <a:uFillTx/>
                <a:latin typeface="Arial"/>
                <a:hlinkClick r:id="rId1"/>
              </a:rPr>
              <a:t>Official OVAL Definition Schema</a:t>
            </a:r>
            <a:r>
              <a:rPr b="0" lang="en-US" sz="1000" spc="-1" strike="noStrike">
                <a:solidFill>
                  <a:srgbClr val="000000"/>
                </a:solidFill>
                <a:latin typeface="Arial"/>
              </a:rPr>
              <a:t>, which was developed by the OVAL Community and approved by the </a:t>
            </a:r>
            <a:r>
              <a:rPr b="0" lang="en-US" sz="1000" spc="-1" strike="noStrike" u="sng">
                <a:solidFill>
                  <a:srgbClr val="fc0128"/>
                </a:solidFill>
                <a:uFillTx/>
                <a:latin typeface="Arial"/>
                <a:hlinkClick r:id="rId2"/>
              </a:rPr>
              <a:t>OVAL Board</a:t>
            </a:r>
            <a:r>
              <a:rPr b="0" lang="en-US" sz="1000" spc="-1" strike="noStrike">
                <a:solidFill>
                  <a:srgbClr val="000000"/>
                </a:solidFill>
                <a:latin typeface="Arial"/>
              </a:rPr>
              <a:t>. The OVAL Definition Schema is composed of a Core Schema that defines the general structure of an OVAL definition, and Component Schemas that extend the OVAL Definition Schema to particular operating systems or major applicatio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addition to OVAL definitions, the OVAL community has also developed two additional schemas to assist in the process of analyzing OVAL definitions. The </a:t>
            </a:r>
            <a:r>
              <a:rPr b="0" lang="en-US" sz="1000" spc="-1" strike="noStrike" u="sng">
                <a:solidFill>
                  <a:srgbClr val="fc0128"/>
                </a:solidFill>
                <a:uFillTx/>
                <a:latin typeface="Arial"/>
                <a:hlinkClick r:id="rId3"/>
              </a:rPr>
              <a:t>OVAL System Characteristics Schema</a:t>
            </a:r>
            <a:r>
              <a:rPr b="0" lang="en-US" sz="1000" spc="-1" strike="noStrike">
                <a:solidFill>
                  <a:srgbClr val="000000"/>
                </a:solidFill>
                <a:latin typeface="Arial"/>
              </a:rPr>
              <a:t> defines a standard format for expressing the file system information and configuration parameters gathered from a specific computer. The purpose of this schema is to provide a tool with a snapshot of a system's configuration at a particular point in time. The </a:t>
            </a:r>
            <a:r>
              <a:rPr b="0" lang="en-US" sz="1000" spc="-1" strike="noStrike" u="sng">
                <a:solidFill>
                  <a:srgbClr val="fc0128"/>
                </a:solidFill>
                <a:uFillTx/>
                <a:latin typeface="Arial"/>
                <a:hlinkClick r:id="rId4"/>
              </a:rPr>
              <a:t>OVAL Results Schema</a:t>
            </a:r>
            <a:r>
              <a:rPr b="0" lang="en-US" sz="1000" spc="-1" strike="noStrike">
                <a:solidFill>
                  <a:srgbClr val="000000"/>
                </a:solidFill>
                <a:latin typeface="Arial"/>
              </a:rPr>
              <a:t> defines a standard format for expressing the outcome of performing an analysis using OVAL definitions. The purpose of this schema is to allow tools to exchange the OVAL analysis results in a standardized form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60033"/>
                </a:solidFill>
                <a:latin typeface="Arial"/>
              </a:rPr>
              <a:t>When talking about OVAL compatibility it is necessary to consider each of these schemas and how they will be used.  For each schema there is a notion of "producers" and "consumers."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amples of OVAL producers would be, a software inventory tool that gathers OVAL Systems Characteristics information, a software vendor who creates draft definitions in their security bulletins, and an assessment tool that outputs its test findings in accordance to the OVAL Results Schema)</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me examples of OVAL consumers would be an assessment tool that draws in the test information from the OVAL Definitions against the information directly gathered at run-time, an assessment tool that draws in the system information from the OVAL System Characteristics schema format and then runs the OVAL tests from the OVAL Definitions against the system information, a remediation tool that imports the OVAL Results, and an organizational status reporting tool that uses the OVAL Results to provide information on conformance with an enterprise’s configuration standard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product or service may be compatible as an OVAL producer and/or consumer with respect to one schema, multiple schemas, one class of definitions, or multiple classes of definitions.</a:t>
            </a:r>
            <a:endParaRPr b="0" lang="en-US" sz="10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2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Margie Zuk, Bob Martin, Matt Wojcik, Dave Proulx, Julie Connolly</dc:creator>
  <dc:description/>
  <dc:language>en-US</dc:language>
  <cp:lastModifiedBy>Robert Martin</cp:lastModifiedBy>
  <cp:lastPrinted>2004-03-17T13:01:24Z</cp:lastPrinted>
  <dcterms:modified xsi:type="dcterms:W3CDTF">2005-07-21T18:22:47Z</dcterms:modified>
  <cp:revision>818</cp:revision>
  <dc:subject/>
  <dc:title>CVE + OVAL for Advisory Council</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NewReviewCycle">
    <vt:lpwstr/>
  </property>
</Properties>
</file>