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39E35B-5312-4D05-94C4-CE99EAC2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nc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s official OVAL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ns on Windows and Red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intended to be commercial grad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 not suppor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Wri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p/MySql 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nded for a limited set of content cre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ires Server installation/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ynchronization to get current set of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mit new content by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internally at M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Web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ages all Official OVAL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by Definition 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y be used by other content gener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Reposi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ySql database stores OVAL definitions in a relational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ite of scripts manages the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ripts insert and select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tenanc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date to support OVAL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&amp; Metadata Web Serv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vailable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for single definitions or sets of definitions to be retr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support dynamic content on the OVAL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sort of documentation should be provi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ample ap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OVAL Definition Interpreter utilize the content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tinue to provide a Definition Interpreter for OVAL as the language evo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scope of the OVAL Definition Interpreter be reconsid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e people willing to contribute data collectors for various platf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can we encourage code submi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no automated means to submit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e analysis web service be usefu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it replace the OVAL Definition Interpre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0E1E-BF6C-48B3-AB69-10EC0F5BD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C564-DD51-4847-BE8E-89F5A456F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187B-E4E7-4550-8163-BC32095E2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BE84-AC1C-4717-92D4-D53084CEB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480A-71E6-4BF4-8828-BFE7B944D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3929-B50D-47A6-9B09-31009A687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C790-EB5E-48A0-917F-3FC7BEDDB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BC47-6B28-4BB9-9635-634D84925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1B73-B007-409F-B8C7-9E67C7F5D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B66D-D455-4400-AD2A-711E2BEF0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3005-7396-4CA3-9CCD-E9B076A38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7DC4-334A-4A3D-A703-35D30758C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28AD-69CE-4317-B9D0-71F4FE51D74B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Tools &amp; Application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o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under co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in the fu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Tool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nter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demonstrate OVAL analysis, reference for content consumers, test 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major content gener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facilitate content reuse, simplify definitio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Id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, content cre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manage the pool of official OVAL i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OVAL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store official OVAL content, manage content lifecy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75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under construc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371240"/>
            <a:ext cx="76964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Definition Interpreter – July/Augus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OVAL 4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and metadata web services – August 2005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the OVAL Reposi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custom sets of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metadata about the OVAL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nd an ehanced OVAL website – Fal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Interpre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definition interpreter for OVAL version 5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++ the best langu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-alone analysis engine and/or data coll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new users to quickly &amp; easily do an OVAL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fo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enough intere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it be maintained well at a low c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feature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Web servic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submission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new/modified content to be submitted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analysis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he OVAL Result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de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8255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Wri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ideal content creation to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ing/Reusing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a content creator know XML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ing content to OVAL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ava gui applic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app hosted on oval.mitre.or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sers to easily writ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ome guidance in the creating/edit new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 up: Modifying the schema to support tools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tools to support schema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info in the nam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VAL web services to be useful should we use some sort of compres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Jon Baker</dc:creator>
  <dc:description/>
  <dc:language>en-US</dc:language>
  <cp:lastModifiedBy>Jonathan Baker</cp:lastModifiedBy>
  <dcterms:modified xsi:type="dcterms:W3CDTF">2005-07-14T19:09:31Z</dcterms:modified>
  <cp:revision>44</cp:revision>
  <dc:subject>OVAL Developer Days</dc:subject>
  <dc:title>Session 6 - Oval Tools</dc:title>
</cp:coreProperties>
</file>