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E345-9219-4A85-ACD0-F8C085074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9B86-B991-40C4-A0EB-7CE0BEE79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A41A-D002-450D-8892-F35F4454A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A47E-B247-4D76-8D90-5F16A0C69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3BF6-0A1C-4334-86EF-9C7D6C3D9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225A-B8CE-4DD4-94F4-1A2A2D494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86B0-3A19-43F6-9DA1-226241FE0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CF0D-DE4B-4E6C-A824-DC52F13B0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12F6-C118-4EF7-A01A-A7FFB5E30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37D4-188F-455B-9C97-CAD618DD2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DDAF-5644-4E33-A639-5D8B180C5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E1DB-02E5-4780-97C2-35532401E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5366-6240-41E4-8BD3-9E4B45C9D78C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:45 – 5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ch Defin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is the overall meaning of a patch defini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egories of tests in a patch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erceding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cessary new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atch Definition Semantic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patch definition returns true, the patch is appropriate for th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priate” technically, not necessarily according to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ve, not prescrip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es pre-install t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a place for post-install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local modifica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tegories of Tes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vance - Is the patch intended for software which exists on the syste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requisites - Are all pre-conditions me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ursor pa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upgr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 set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pac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re-requisites not met, the patch may still be a good ide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licts – Are there any counter-indic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n application confli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categories of conflic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erceding Inform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 “supercedes” or “superceded by” informa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ceded by” might be dealt with in relevance section or by reverse map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enance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d h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 / patch identifi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t possible to test whether a specific patch has been appli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w Test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l to identify any necessary new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Windows: MSI, .NE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platfor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ther Issu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identif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for target platform,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descriptions / issues add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semantics cross-platfor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Matthew Wojcik</dc:creator>
  <dc:description/>
  <cp:keywords>oval developer days session 3</cp:keywords>
  <dc:language>en-US</dc:language>
  <cp:lastModifiedBy>Matthew N. Wojcik</cp:lastModifiedBy>
  <dcterms:modified xsi:type="dcterms:W3CDTF">2005-07-15T15:57:49Z</dcterms:modified>
  <cp:revision>25</cp:revision>
  <dc:subject>OVAL Developer Days 2005</dc:subject>
  <dc:title>Session 3 Presentation</dc:title>
</cp:coreProperties>
</file>