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8D1B-6A26-4214-8280-1CCA43B0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tart by looking at a high level overview of the current design of an OVAL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8E94-D559-485A-9CF7-7F5035AE8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442E-1FCC-4E12-9BE8-8990CC1C2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70E6-5267-4439-908A-3126858B9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E193-9905-4636-AEAF-DF50D3D8C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BE41-82ED-4195-9A26-010848B21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F2A5-356B-4F9B-BC23-9CF1F40B6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A969-4D46-4071-890B-FAD4EAAA9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852F-6D17-4A93-9D06-F184A876F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FF4D-921D-4327-A29E-FFD02B6AB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8182-25A3-4998-B078-C60246E02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1869-19F5-476A-97AC-E8F0B74C4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18D8-5F43-4B53-A916-14FD236D6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271A-B4EE-4F80-B512-3EC49FD2946F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Breaking out th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parate the object section from the t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multiple tests to reuse same ob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ility to create complex object descri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ition of behavioral identifiers to guide the coll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Desig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7467840" cy="45720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600200"/>
            <a:ext cx="662940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657600"/>
            <a:ext cx="6629400" cy="1905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886200"/>
            <a:ext cx="61722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724280"/>
            <a:ext cx="6172200" cy="6098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352680"/>
            <a:ext cx="746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41972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96252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80060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dec1"/>
                                      </p:to>
                                    </p:animClr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06667 E">
                                      <p:cBhvr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3.33333E-006 -0.06667 E">
                                      <p:cBhvr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7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7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3.33333E-006 0.03333 E">
                                      <p:cBhvr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4760"/>
            <a:ext cx="7010640" cy="6248520"/>
          </a:xfrm>
          <a:prstGeom prst="rect">
            <a:avLst/>
          </a:prstGeom>
          <a:solidFill>
            <a:srgbClr val="008000">
              <a:alpha val="1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04720"/>
            <a:ext cx="6553440" cy="36576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524480"/>
            <a:ext cx="6553440" cy="14475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1492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27688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57200"/>
            <a:ext cx="76197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81160"/>
            <a:ext cx="7619760" cy="25527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114800"/>
            <a:ext cx="7619760" cy="9144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2080" y="227160"/>
            <a:ext cx="7678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r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se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d="obj_2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dministrato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2 track 1</cp:keywords>
  <dc:language>en-US</dc:language>
  <cp:lastModifiedBy>Andrew Buttner</cp:lastModifiedBy>
  <dcterms:modified xsi:type="dcterms:W3CDTF">2005-07-25T18:16:22Z</dcterms:modified>
  <cp:revision>17</cp:revision>
  <dc:subject>OVAL Developer Days 2005</dc:subject>
  <dc:title>Session 2 - Track 1 Presentation</dc:title>
</cp:coreProperties>
</file>