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96EE-5D84-4EE7-A1C5-F5827851F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B5F9-D7CB-4441-BFA1-9DE14A468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08EE-F99C-4DAA-9D95-81F25D77C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124F-625D-4933-9D8F-BE4C616CE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2959-E134-4D96-826C-FB1215DD2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6237-216E-47AB-9E2C-2B9983A40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428E-2C76-4800-8DDE-ED0946B3D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6748-C597-40CE-9C6F-C68DF502B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8113-52B0-4CB8-8F22-DCE212E76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E75A-43AD-4ED2-944B-64054B082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363C-0641-4A94-A236-7EDEF04AF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84A1-7822-4AE1-BAA1-BEC3CCE47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562B-4DCB-4AB2-852C-EF6322460F96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:30 - 12:0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CK 1  -  OVAL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place existing component typ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ow the output of one test to be used by an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eraction with other langu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10640" y="1219320"/>
            <a:ext cx="685584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78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ly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2438280"/>
            <a:ext cx="1600200" cy="381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276720" y="2819520"/>
            <a:ext cx="1676160" cy="7617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11720" y="609480"/>
            <a:ext cx="7130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nca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mpone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_fiel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13360" y="4251240"/>
            <a:ext cx="1752480" cy="304920"/>
          </a:xfrm>
          <a:prstGeom prst="rect">
            <a:avLst/>
          </a:prstGeom>
          <a:solidFill>
            <a:srgbClr val="0066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572000"/>
            <a:ext cx="160020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428640" y="2819520"/>
            <a:ext cx="228600" cy="17524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0000" y="4595760"/>
            <a:ext cx="1752480" cy="304920"/>
          </a:xfrm>
          <a:prstGeom prst="rect">
            <a:avLst/>
          </a:prstGeom>
          <a:solidFill>
            <a:srgbClr val="0066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different op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696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78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nca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mpone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_fiel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eraction with other language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re anything XCCDF would like to see in a new version of OVA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item that could be useful when interacting with existing proprietary information sto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676520"/>
            <a:ext cx="82296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Courier New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rganization_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aj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5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aj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in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in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bui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60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bui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34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rganization_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kup - variable file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Andrew Buttner</dc:creator>
  <dc:description/>
  <cp:keywords>oval developer days session 5 track 1</cp:keywords>
  <dc:language>en-US</dc:language>
  <cp:lastModifiedBy>Andrew Buttner</cp:lastModifiedBy>
  <dcterms:modified xsi:type="dcterms:W3CDTF">2005-07-16T17:07:37Z</dcterms:modified>
  <cp:revision>10</cp:revision>
  <dc:subject>OVAL Developer Days 2005</dc:subject>
  <dc:title>Session 5 - Track 1 Presentation</dc:title>
</cp:coreProperties>
</file>