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790D-BE09-44DD-BC93-E2A0F6BB3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C18C-2752-4C08-B33F-E6CE1FE80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6882-CB3F-4286-8DE6-D5F47A691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D5FA-5ED9-4D83-8321-DCAA79609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2031-A612-4E91-AA9A-D92A4C069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94DE-E1C7-4E04-B6F4-59C354A48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1E78-4056-4C78-8B45-83077D4F9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538D-2953-4D4A-8490-FE259EB0D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983E-62EF-4A4B-88EF-8695CF9C3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3DA6-3E04-4464-BBE5-DC96A59E7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F56E-D229-43E3-B7ED-24A6F9A0D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D2C5-3060-47BE-B72F-0A5D1B9B4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5FC5-854D-47A2-A7BB-8BB749C0E542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8:00 - 9:3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4640" indent="-22464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ults Sche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2464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 is the results file being us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s the current format too verb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ggregated results 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upporting multi-host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0">
              <a:lnSpc>
                <a:spcPts val="1599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ss/fail logic for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2464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ddition of ONPASS and ONFAIL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lation to existing software and configuration 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roving the results by reporting "NOT TESTED" instead of "FAIL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roduction of new operators (e.g. COUNT, IN, RAN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Results Fi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066680"/>
            <a:ext cx="8001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HKEY_LOCAL_MACHIN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SYSTEM\...\Security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Retention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="AND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000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HKEY_LOCAL_MACHIN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SYSTEM\...\Security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Retention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657600"/>
            <a:ext cx="685800" cy="15228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290840"/>
            <a:ext cx="228600" cy="381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4832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398840"/>
            <a:ext cx="685800" cy="15264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137200"/>
            <a:ext cx="685800" cy="15228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lim Results Fi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238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ggregated Results Fla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447920"/>
            <a:ext cx="7238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9228000">
            <a:off x="4647960" y="2590560"/>
            <a:ext cx="1199880" cy="228600"/>
          </a:xfrm>
          <a:custGeom>
            <a:avLst/>
            <a:gdLst>
              <a:gd name="textAreaLeft" fmla="*/ 149760 w 1199880"/>
              <a:gd name="textAreaRight" fmla="*/ 1050120 w 1199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0920" y="1981080"/>
            <a:ext cx="419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we want to add a top level resul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ulti-Host Resul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066680"/>
            <a:ext cx="80010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5:56:24Z</dcterms:created>
  <dc:creator>Andrew Buttner</dc:creator>
  <dc:description/>
  <cp:keywords>oval developer days session 1</cp:keywords>
  <dc:language>en-US</dc:language>
  <cp:lastModifiedBy>Andrew Buttner</cp:lastModifiedBy>
  <dcterms:modified xsi:type="dcterms:W3CDTF">2005-07-16T16:37:56Z</dcterms:modified>
  <cp:revision>23</cp:revision>
  <dc:subject>OVAL Developer Days 2005</dc:subject>
  <dc:title>Session 1 Presentation</dc:title>
</cp:coreProperties>
</file>