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0E75-BFA3-4AFC-BD5B-4D7076430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A33A-85C3-4EB8-8132-90CC451DF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E655-02B1-4C78-BB0E-D32E21D96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BB1E-1CA4-4E9F-92BE-EABC80206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0462-D3E1-43BD-A812-4C81791CA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65DB-F34A-4657-9433-6F322230B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B865-9875-430F-B8AA-B04069397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7628-BA92-49B9-84F0-3A5BB95CB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459C-9225-4292-A599-445534A82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8BF9-A6E9-4BB7-846E-6902FACB4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663E-66B7-48C7-B016-F4D011827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3EE4-DB5A-4629-AEA8-9014DB7B9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09DA-C196-4A4F-96FC-057D77CB743C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:45 – 5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ch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is the overall meaning of a patch defini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egories of tests in a patch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erceding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cessary new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atch Definition Semant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atch definition returns true, the patch is appropriate for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priate” technically, not necessarily according to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ve, not prescrip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es pre-install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a place for post-install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local modifica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tegories of Tes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ce - Is the patch intended for software which exists on the syste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requisites - Are all pre-conditions m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pa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upgr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 set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pa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re-requisites not met, the patch may still be a good ide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licts – Are there any counter-indic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pplication confli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categories of conflic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erceding Inform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 “supercedes” or “superceded by” informa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ceded by” might be dealt with in relevance section or by reverse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d h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 / patch identifi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t possible to test whether a specific patch has been appli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Test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to identify any necessary new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Windows: MSI, .NE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platfor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ident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for target platform,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descriptions / issues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semantics cross-platfor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Matthew Wojcik</dc:creator>
  <dc:description/>
  <cp:keywords>oval developer days session 3</cp:keywords>
  <dc:language>en-US</dc:language>
  <cp:lastModifiedBy>Matthew N. Wojcik</cp:lastModifiedBy>
  <dcterms:modified xsi:type="dcterms:W3CDTF">2005-07-15T15:57:49Z</dcterms:modified>
  <cp:revision>25</cp:revision>
  <dc:subject>OVAL Developer Days 2005</dc:subject>
  <dc:title>Session 3 Presentation</dc:title>
</cp:coreProperties>
</file>