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EFE7-FCED-4EE9-80CA-83AE1ECB5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start by looking at a high level overview of the current design of an OVAL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 in OVAL Version 4.  There is a criteria section that references individual tests from the test section.  Only the tests can be reused, the criteria can not.  If someon wants to extend a definition then they have to create a new one and copy all the references from this one to the new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 in OVAL Version 4.  There is a criteria section that references individual tests from the test section.  Only the tests can be reused, the criteria can not.  If someon wants to extend a definition then they have to create a new one and copy all the references from this one to the new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A5A6-AF21-45A6-94AB-918B00011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A534-F4B3-4D29-89F4-32100D25E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F8B0-F1D4-4EC8-80A7-C930EFFF5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4533-7280-40AE-BA8E-9DCFB0037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B6D8-2A6E-4C2B-A66C-3A9F8A43A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7EFF-F200-4293-83D4-6667E3940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A390-73ED-4287-B296-B60910C7A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3CCEC-EFF1-4D36-BE02-34E2461B5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9BBD-284B-4EA4-A65A-8F70EEE02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194B-6789-4E27-90A4-AE9AF02D6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59B4-9801-44AB-9F7C-387BEE23D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74BD-991B-42A0-929C-B473D0F0E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76C5-3A95-4E67-95CF-E154399CA3C5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:00 - 2:45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CK 1  -  Breaking out the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parate the object section from the te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low multiple tests to reuse same obje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bility to create complex object descrip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ition of behavioral identifiers to guide the colle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Desig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295280"/>
            <a:ext cx="7467840" cy="457200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600200"/>
            <a:ext cx="662940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657600"/>
            <a:ext cx="6629400" cy="190512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886200"/>
            <a:ext cx="6172200" cy="6094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4724280"/>
            <a:ext cx="6172200" cy="6098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209680"/>
            <a:ext cx="6629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AL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352680"/>
            <a:ext cx="7467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AL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419720"/>
            <a:ext cx="6629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AL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3962520"/>
            <a:ext cx="61722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ct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4800600"/>
            <a:ext cx="61722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dec1"/>
                                      </p:to>
                                    </p:animClr>
                                    <p:set>
                                      <p:cBhvr>
                                        <p:cTn id="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cac5c"/>
                                      </p:to>
                                    </p:animClr>
                                    <p:set>
                                      <p:cBhvr>
                                        <p:cTn id="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cac5c"/>
                                      </p:to>
                                    </p:animClr>
                                    <p:set>
                                      <p:cBhvr>
                                        <p:cTn id="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3.33333E-006 -0.06667 E">
                                      <p:cBhvr>
                                        <p:cTn id="49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022E-016 L -3.33333E-006 -0.06667 E">
                                      <p:cBhvr>
                                        <p:cTn id="51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00000" y="75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07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3.33333E-006 0.03333 E">
                                      <p:cBhvr>
                                        <p:cTn id="57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55760" y="1677960"/>
            <a:ext cx="69501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6680" y="95400"/>
            <a:ext cx="575856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VAL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famil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ACCEPTED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version 4 exampl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m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55760" y="1677960"/>
            <a:ext cx="69501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6680" y="95400"/>
            <a:ext cx="575856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VAL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famil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ACCEPTED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version 4 exampl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m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04760"/>
            <a:ext cx="7010640" cy="6248520"/>
          </a:xfrm>
          <a:prstGeom prst="rect">
            <a:avLst/>
          </a:prstGeom>
          <a:solidFill>
            <a:srgbClr val="008000">
              <a:alpha val="1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04720"/>
            <a:ext cx="6553440" cy="365760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4524480"/>
            <a:ext cx="6553440" cy="144756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714920"/>
            <a:ext cx="6248160" cy="53352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5276880"/>
            <a:ext cx="6248160" cy="53352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07760" y="227160"/>
            <a:ext cx="649008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4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up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both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_obj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07760" y="227160"/>
            <a:ext cx="649008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4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up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both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_obj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57200"/>
            <a:ext cx="7619760" cy="53352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81160"/>
            <a:ext cx="7619760" cy="255276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114800"/>
            <a:ext cx="7619760" cy="91440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12080" y="227160"/>
            <a:ext cx="76788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red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Users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_obj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id="obj_2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olve_group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olve_group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administrators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ccountprivileges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n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ccountprivileges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8:04:05Z</dcterms:created>
  <dc:creator>Andrew Buttner</dc:creator>
  <dc:description/>
  <cp:keywords>oval developer days session 2 track 1</cp:keywords>
  <dc:language>en-US</dc:language>
  <cp:lastModifiedBy>Andrew Buttner</cp:lastModifiedBy>
  <dcterms:modified xsi:type="dcterms:W3CDTF">2005-07-25T18:16:22Z</dcterms:modified>
  <cp:revision>17</cp:revision>
  <dc:subject>OVAL Developer Days 2005</dc:subject>
  <dc:title>Session 2 - Track 1 Presentation</dc:title>
</cp:coreProperties>
</file>